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1.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jpeg" ContentType="image/jpeg"/>
  <Override PartName="/ppt/media/image3.jpeg" ContentType="image/jpeg"/>
  <Override PartName="/ppt/media/image15.png" ContentType="image/png"/>
  <Override PartName="/ppt/media/image5.jpeg" ContentType="image/jpeg"/>
  <Override PartName="/ppt/media/image2.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7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8"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7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21"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2"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207A3-AC1F-40EB-BE4D-9EDE9FC3D058}"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ирамиды и Сфинкс, который впрочем также входит в состав погребального комплекса пирамиды Хефрена, принадлежат к наиболее характерным монументальным памятникам древнего Египта. Пирамиды были классическим типом царской усыпальницы в эпоху Древнего царства, а в менее монументальном виде, сохраняя свою внешнюю форму, возводились также для фараонов Среднего царства. Древнейшим видом гробниц царей Египта, возникшим до пирамид, были мастабы. Слово “мастаба” относится уже к арабскому времени и связано с тем, что форма этих трапециевидных в разрезе гробниц напоминала арабам большие скамьи, называвшиеся “мастаба”. Общего названия пирамид в нынешнем значении этого слова у египтян не был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12260-9F85-4176-BD45-C8D3FB7EAA05}"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гиптяне были искусными рисовальщиками. Необычайно точно они рисовали предметы и животных. Можно думать, что первоначально жители долины Нила записывали свои мысли, изображая на рисунке предметы, о которых шла речь.</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 к периоду Раннего царства сложилась египетская система письма. Она на первый взгляд очень трудна. Сотни различных знаков от изображений человека и животных до предметов домашней утвари! Кажется, нет возможности разобраться в этом скоплении знаков. Но почти двухты-сячелетние искания привели к тому, что тайны египетского письма раскрыты.</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E9B29-B485-4EB4-826B-370B4ECE3778}"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VIII веке до нашей эры, появился еще один вид египетского письма — демотика, развившийся из иератики. Система этого письма та же: те же звуковые знаки, определител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6C605-513F-4601-9D3F-8FD53A198391}"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33ccff"/>
                </a:solidFill>
                <a:latin typeface="Impact"/>
              </a:rPr>
              <a:t>Содержание</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Почему Египет так называют?</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Культура Древнего Египта</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Религия</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Искусство</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Боги</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Мифы</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Пирамиды</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Карта древнего Египта</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Письменность</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Иероглифы</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E4E59-7BA0-4C58-8878-7E3A3DA0E6E7}"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Calibri"/>
              </a:rPr>
              <a:t>Итак - древний Египет. Но удивительным является то, что ни древние, ни современные жители Египта не называли и не называют так свою родину. В древнем Египте жители именовали свою страну «Черной», а себя — «людьми Черной (земли)», по цвету плодородной почвы низменной долины Нила. Еще в глубокой древности соприкасавшиеся с египтянами народы Аравийского полуострова, Передней Азии и Двуречья дали Египту свое название: Миср — «Населенное место, город», так как их, видимо, поразила населенность Египта и большое количество городов, расположенных близко друг от друга. Современные египтяне свою страну тоже называют: Миср.</a:t>
            </a:r>
            <a:br>
              <a:rPr sz="1200"/>
            </a:br>
            <a:r>
              <a:rPr b="1" lang="ru-RU" sz="1200" spc="-1" strike="noStrike">
                <a:solidFill>
                  <a:srgbClr val="1f497d"/>
                </a:solidFill>
                <a:latin typeface="Calibri"/>
              </a:rPr>
              <a:t>  Почему же мы, как и многие другие европейские народы, употребляем слово «Египет»? Это название пошло от древних греков. Оно происходит от названия древнеегипетского города Мемфиса — Хикупта. В начале 1 тысячелетия до нашей эры, когда древние греки стали проникать в Египет, первым из самых больших городов, который им встретился, был Мемфис на рубеже Дельты и долины Нила. Его название (вернее — одно из названий, так как «Мемфис» тоже египетское слово) «Хикупта» или «Айгюптос» греки взяли за обозначение всей страны.</a:t>
            </a:r>
            <a:br>
              <a:rPr sz="1200"/>
            </a:br>
            <a:r>
              <a:rPr b="1" lang="ru-RU" sz="1200" spc="-1" strike="noStrike">
                <a:solidFill>
                  <a:srgbClr val="1f497d"/>
                </a:solidFill>
                <a:latin typeface="Calibri"/>
              </a:rPr>
              <a:t>Так что наше слово «Египет» тоже очень древнее, но оно пришло из древнегреческог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966AD-D7F8-4F9E-BE67-8C4578684982}"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Цивилизация Древнего Египта насчитывает более 3000 лет. В конце </a:t>
            </a:r>
            <a:r>
              <a:rPr b="0" lang="en-US" sz="1200" spc="-1" strike="noStrike">
                <a:solidFill>
                  <a:srgbClr val="000000"/>
                </a:solidFill>
                <a:latin typeface="Calibri"/>
              </a:rPr>
              <a:t>IV</a:t>
            </a:r>
            <a:r>
              <a:rPr b="0" lang="ru-RU" sz="1200" spc="-1" strike="noStrike">
                <a:solidFill>
                  <a:srgbClr val="000000"/>
                </a:solidFill>
                <a:latin typeface="Calibri"/>
              </a:rPr>
              <a:t> тысячелетия до н.э. в Юго-Восточной Африке, в низовьях реки Нил, сформировалось раннерабовладельческое государство Египет, которое стало одним с самых великих центров мировой культуры. Почти 2000-летнюю историю Древнего Египта принято делить на три периода: первый - Древний (2800 - 2250 лет до н. э.), второй - Среднее Царство (2050 - 1700 лет до н. э.), третий - Новое Царство (1580 - 1070 лет до н. э.).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азвание «Египет» происходит от древнегреческого наименования «Айгуптос». В свою очередь это слово, скорее всего, восходит к одному из имен значительнейшего из древнеегипетских городов - Мемфис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6EC21-899E-482B-8631-D31FAC62C9C5}"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рно с 3000 г. до н. э.  официальная религия Египта признавала фараона сыном солнечного бога Ра и таким образом самим богом. В египетском пантеоне существовало множество других богов и богинь, под властью которых находилось все: от явлений природы, подобно воздуху (бог Шу), до явлений культуры, подобных письменности (богиня Саф).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ие боги были представлены в виде животных или полулюдей-полуживотных. Хорошо организованная и могущественная жреческая каста создавала семейные группы различных божеств, многие из которых, вероятно, были первоначально местными богам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творец Птах (согласно мемфисской теологии) был, например, объединен в богиней войны Сехмет, а бог-целитель Имхотеп вошел в триаду отец-мать-сын.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61443-AF3C-42D8-9CA5-D4C080129608}"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VIII тысячелетии до н.э. в северо-восточной Африке, в нижнем течении реки Нил, возникли первые египетские города: Мемфис, Иераконполь и д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шло несколько десятков веков, и к III тысячелетию до н.э., в результате объединения царств Верхнего и Нижнего Египта, сложилось одно из древнейших государств на Земле, породившее замечательную и великую культуру Древнего Восто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искусстве существует прямая традиция, передаваемая от мастера к ученику, от ученика к ценителю или копиисту, связывающая загадочные ранние формы художественного творчества с культурой нашего времени. “Она соединяет нынешнее искусство – любое современное здание, любой плакат – с искусством, возникшим пять тысячелетий назад в долине Нил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колу египтян прошли греческие мастера, а все мы – выученики греков. Поэтому искусство Древнего Египта для нас чрезвычайно важн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DF0B3-BE60-4A4D-8119-60B1738B8833}"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доначальником всего живого и божественного в египетской религии считается бог Атум. Согласно легенде он появился из хаоса. Затем он создал первую божественную пару бога Шу и богиню Тефнут.  Шу - бог, олицетворяющий пространство между небом и землей, разделяющий небо и землю. Тефнут - женское дополнение Шу. Эта пара родила бога Геба и богиню Нут. Геб - это бог Земли, или по сути сама Земля. Нут - богиня Неба, или также само Небо. По представлению древних египтян вверху находится Нут, внизу Геб, а между ними Шу и Тефнут. От Геба и Нут произошли две пары - Осирис. и Исида, Сетх и Нефтида. Осирис и его жена Исида являются самыми важными фигурами египетского пантеона (все многообразие богов и божеств кой - либо религии). Осирис являлся богом растительности. По легенде он родился первым из пяти божеств, за ним родились Хор Старший, Сетх, Исида и Нефтид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58924-2CE6-4B65-B5D9-526520C5D81D}"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ое место в египетском пантеоне занимал бог Ра. Он являлся богом солнца, богом свет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х - это крест, у которого вместо верхней палочки находиться круг. В средневековой алхимии анх являлся символом бессмерт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деалом высшей мудрости и правды, олицетворением лучших сторон человеческой природы, воплощением ума у египтян являлся бог То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 Пта Был один из главных богов- это солнце и луна одновременно. Он считался покровителем ремесел. Иногда он считался верховным богом, творцом всех богов и мир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 Амон считался всесущим божеством воздуха и ветра, которое наполняет весь видимый мир, дает жизнь всему живущем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67897-AD4B-4E82-AE15-36BB547D139A}"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фология древнего Египта считается одной из самых развитых и богатых, известных за всю историю существования древних цивилизаций. Начало формирования её относят к 6-4 тысячелетию до нашей эры. С тех пор, за долго до существования классового общества она претерпела существенные изменения.  Поклонение божествам прошло свой путь эволюции от скромного культа местного божка до помпезного почитания их во всём Египте. Это имело отношение к возвеличиванию той или иной династии, которая в свою очередь покланялась некоему мифологическому персонажу. Ярким примером этого может служить распространение культа богини города Саис Нейт в 7 -6 веках до нашей эры одновременно с воцарением 26 Саисской династии. На заре формирования египетской мифологии местное божество было у каждой области. Местные боги имели различное воплощение- это могло быть животное, птица, дерево, камень или даже природное явле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891FE-ACC1-4D79-BFD3-607AF288C00E}"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FA1BA-508F-4045-BA48-D58040C46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6BF7E-85E0-4178-B070-0FD78DA96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FE5A26-2E4A-4B37-92C9-571DC7060F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47FE8D-86F9-4035-99D6-0956C6380A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60261A-9F2E-458B-8DE7-091F07408C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19AFEC-07BC-46BD-9D8F-5535726536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DFF2B4-2DE6-4873-88E4-4D184FEF4D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2E3ADD-BE06-4448-807F-465D243B2E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1D7349-E7DB-4FC4-B7DC-4FC35E97D0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29F2533-D232-4295-BF18-19DBF2AAD1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F9D4F4-442F-458A-A513-D16971090D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382B822-BAE8-42E4-BE77-0CFED91859A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9F96D0-07AF-411D-9E79-164BA3C16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C6677F-405C-4A03-A549-88B4A8DEE37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F6AA103-F824-412D-AFDF-E0A3A89CDBF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0EC5358-F5AC-4E5B-9F75-C68E621A0D8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1EB9D9-906B-4993-A526-FB63324418F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06AD493-CBBB-45CE-BBF8-F451E28930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BDEDCB-0D2D-4D96-B088-EFD79ECE59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4A6E28-D9B7-4950-9841-B40BF59863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5A5DC0-FD17-4FD6-9A16-8B04C45AB1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64EA63E-5215-4940-BBB1-1572665A4AF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A1BA54A-0C17-4A80-9433-DC0917CDCD2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E48BD-2F81-4F23-BEFA-3A1F60069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A4479B0-7A77-4782-816B-733FB976749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58D7790-C57E-472A-80CC-711E6680735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894F9C-98BF-477F-B8ED-E95B47E705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DA6CD3-4164-4744-A760-5CA6798CB4C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E67B2C6-8A4F-4041-9148-F40D3CF6CCD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982F3E-7868-41E4-84EA-1327638EA2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C9F6703-0932-46E1-B1C6-C04C097DBF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CBAF96-3A9D-423B-A565-1CD8B809A3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3223E5-2395-4E65-A1BF-E1C97E9291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FB1442-0367-42E7-99F4-51ACB38EA12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521161-60F2-4552-BD72-B931008777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F8BDDF-12E8-4A05-9994-EA88477D01D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A212C7A-72DE-4896-809F-CAE9C164E6B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ECF53E0-B8F8-4086-815F-BF2C4BBDD03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DB98225-B0F0-483E-8E39-B4BBCD48850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31BFF8C-23B7-42AE-A0E5-3DC891BC223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FFA6BE1-692F-445C-9505-F5DCF1393DA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5DDF58F-D9F4-4708-82CA-939AD2FF265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107FFB1-B585-4D40-A2BB-A21B705A7DE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30514F3-1C75-4C46-98C5-5022FFD5573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63FD272-F0C8-4862-9FB7-26BC260ADB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9952B-7897-44D8-BBEF-04ADB5C090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02413F6-9CE5-4888-8AE6-D05353636C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360EEC-3BE7-43CA-BBB7-C74E5727BF8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DCA4015-E28E-4763-A708-3B55159C17C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470225B-C721-4690-BB93-22234F6047A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B9A7210-755D-4AE9-A6B2-80AEC78C3D2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EE1F1C1-F15B-447B-A7AC-03663A0C0DB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0C50FA8-2205-4541-BFC0-4D50753F9B6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61E54BD-4904-4A58-97B7-C4CF7ADC29F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B3F0EA5-7D12-4FAC-8507-E01F8093B84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AEDA85F-EAF9-424E-85BD-2521A9E92C9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E4B96-DC7F-48C8-A64E-904B23DCFB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34AA3D1-ED46-4AA6-A1BA-C5D4C506EDE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77DE845-3EFB-4B80-8E3E-4DAF5794C89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3D0DF9-D5C8-4774-88F6-B8369D6D526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E353E62-C05C-4522-B610-9DF0EB25919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D58B217-0D3F-40BE-8F33-6CD477951F7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F828F9C-9771-4146-8E6B-57956EB0140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D09471E-D414-4E3C-8333-591F233537F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4625A73-5AE4-4992-BD2A-11E52B321BE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67D29CD-12F5-41D2-84F8-028FF537DF0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BBC14C0-0462-4712-A424-2445112BEFA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FC93D-CB39-42E1-9DC7-4008169C5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66970BE-345A-42FA-853D-A3BB53DE95C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C1AACEE-247A-4240-98A3-A58F1430241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24D8BDB-31A1-4EEC-906E-47393CB62AC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0FB24E8-E5F1-4404-9C57-31487F5ADE4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C435249-F9BF-4258-B947-B03A7CE1417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6448E39-8B43-41D4-A8C8-AA5A0F3403C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1AA1CCB-FCFA-4B08-BE13-9C019970134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EA970AC-AC73-41FE-B89F-2A1B5AB9978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4AB448B-87DB-4AE6-826A-3B079076365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506F9E2-B9BF-40E0-A8E4-1709E3C88A0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75587-2FCB-46E0-873A-DCABAA0DD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8BB0666-4736-4DB4-9D20-39728D0EFC2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FB2D5F7-C0F3-4491-AF1B-29A555B4E3C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0F82817-86B4-4DAA-86A2-EDC762EC468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9C2360A-D120-4C5D-ACE9-9B308854A60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179060C-4315-4D69-A68B-15344B4B7A4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DBB354C-2FD7-4C45-9EC5-4438F5EB42E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FEEE405-0BB0-437A-813C-BFF9C933895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C93C50F-1459-469A-8633-AB2A2F58E1D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1CDA061-E444-4B91-ADF0-5E0773B817C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54EDC6C-74D4-4B4D-A3FB-436DCD080E1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7F96F-B7D7-4E60-AD3A-CC1195DB9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0B749FA-3C91-41B9-B2FC-B25FE0242EF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8D82EF4-2281-4E40-A795-1D55A4C79EB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22350A4-F559-4FCA-ACF3-04E475581D2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D9BEA5E-FF58-4D2B-BE1E-D5492977E15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2EE83C7-52DB-45B1-A91C-6AADAB7FF54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78144C9-7253-476F-9D52-258825AB5CD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B00F52B-5D86-4903-B0DF-ECAA4F52C6F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1E802EB-96AF-4CA1-B9D3-085A25F369A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F17D2A5-07C8-4111-888B-5B79C4EE7FB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2B9EC32-BCED-4E08-91A1-349411008FC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89FDB-9D5D-4BBF-9AB5-FB609427C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A41D625-68AE-47D1-8E31-BB78765AA31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FDD56FD-732F-4020-A7C2-BF81739E73D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1527140-3761-4E03-904B-631F7224E89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0DC72C3-8929-44CA-92AE-1488DD8A365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8A49804-EA57-4ABF-8113-19A199A55E4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53C7881-0755-4455-9B07-5CE63C1F769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925CD8E-803A-4150-98E3-A1E08FC30BB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CF17137-27D2-4357-8857-4B968DA1E8A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6549BF6-EF5E-4A7D-A98E-F8BCEB80A70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BE0CA93-BA55-4904-9118-5DE86975B1A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FC37E-39CB-43C4-AEDD-65FA23721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D6A7D-EE0C-48D0-BBAC-1A757EA22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C5C0DE6-7F79-4FA5-887A-257FEFF0787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1C2A52F-D19C-4765-AD9D-7503A4C6A94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BA3F755-2624-4E35-91CB-86C322285A3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48F9FBF-6640-4421-AD49-AD86BB0E8A6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9A96710-07E8-4617-A743-DA03EE182E3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E6A59-1EFD-4CAD-885A-5B69A80FD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9D2D6-F206-44FB-9B19-A243DE1CF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A20779-370E-420C-B64D-079B428A9B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004D12-016A-42C6-830E-154D244EB7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3DA10C-6F5D-4483-9349-8FD62798CC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D7D931-DE88-4CAD-8DC0-5253189C31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756EEE-5C71-41E4-8069-F554244BC6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676E49-68B5-418A-BEC1-C0034AFCF8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D5A2C1-1E60-42FA-8325-5D54EF31B8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06957-F671-4C84-9064-074FEA1EB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CEB4B8-3FBF-491E-AF5F-AE63A0E053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E780E6-61D5-42C2-8BE9-7195AD36AD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359014-6B50-4E21-93B4-3A03E8EEE2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4B7887-E51D-486A-9C24-798D757BC2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B25766-0076-4DB0-BBED-43D0970E88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DF4ACA-14C2-4B04-AF71-7F311030F2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494FF2-D468-4738-858B-B8E4209012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54EE07-2743-4E76-A163-8DE66E919F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EF9289-32CA-4095-ACF1-AD84402FD6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C60D15-4143-49CB-AA1C-FD4F7E8EEC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E3C1D-734E-4401-A4EE-A254FED6D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6017B1-533E-42F5-AC88-BAF776DA78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F3E127-FADD-4DCB-AE9D-EF5BBC3586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453D93-82CB-4B11-A2BF-85FDCDC20A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FF5C4E-CCAE-4CE9-8413-A1771584C8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AFA156-8DAE-4384-8C94-0B0D90BFC6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AD4223-8318-4737-AE04-BDEFAF9295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A468A7-2966-4A48-8195-DD8AC7E491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FA2D4D-5AA4-4DD8-A049-BDA7A9174A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7E86BA-7B89-44DE-A147-5FD489AF5F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7C64A1-680C-4512-A073-04C89D3AF5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FD681-8E38-4B6D-A9EC-FBAC4518C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2141F9-8173-42B3-B6A8-1F1EBEFD47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F4D642-93D4-4388-8798-34F6420318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F183DB-5CD9-4C25-9164-32F6BA7524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E14106-9AAE-47C7-A24D-D59E79E0A1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AC4B2D-5052-46D3-BB60-E45F8074BE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D12888-7947-4504-8C37-6A1F2B528C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B3969B-8AE7-42F6-8E9A-FA4D72C55B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8CD5A6-59D7-469F-B7DA-4256124FDB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2570F1-7797-46A7-9638-EE76220F4A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8E5FE2-7D70-4D51-A0CD-0F2A328D3C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9FE3C-F672-402C-9F75-730302334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4D57A2-47F0-4B64-8E40-B6F7789174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43FCB7-611D-4EAF-A1BB-B4C537E391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E47FFB-39D5-40F1-A052-D7C91FF1D8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7A7DCF-D6C4-4B72-8BCC-F06092DFCD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3FB2D5-9171-42EB-A39B-09B4631CFE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917FE4-EFE4-423A-9506-947074CBF0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D3D4F3-0847-4F11-957B-3C75A3195F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1A054F-09F7-4CBA-98C6-F0C5449D56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863E70-FE13-4B47-8695-59B1022CFB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E1A0E9-20EA-48B8-8C34-49688529BB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81A91-F9CD-4493-93F1-AD8F4EF73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AAC63E-D351-4B51-9D2B-695609141D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4374BF-B669-4F83-99FA-7F5AB5AF6A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4DCC2B-F680-4E5D-9EDB-995B7F562C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920561-9892-439A-AC6B-593FD61F58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18E944-B4D5-4292-B0FE-F073A36A51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10533D-FFFF-41C0-871D-EA2DE89A59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CF5F82-4E7E-4783-BDFB-2D53A93BFA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9B9A00-47C3-48E6-AF42-E07C0B10E0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841AA6-BEC1-4EA4-8C2F-F77B7352BF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7A8E4A-6FA3-49B7-BB63-4A0785D465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885E0-338E-43A0-870F-508986E8A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8A87BD-CB5D-4F52-8AB3-667C3D2E54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0A66C9-6892-48D7-BC82-2C47874947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9FDBA0-CE49-4B4C-9AE6-01945DECE0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314E0D-9C1A-47C7-8119-22AB94BDCF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3D37ED-9556-48E5-BE60-6085AE59AF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A7CA80-92B7-4FA8-9188-383CF99A96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07A798-0FF7-44FF-A765-70383B0B60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0E4F99-3144-4623-A05B-5C683FF138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A2E0D0-E15D-44A1-ACBA-B3D4104D69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BC9E4E-1909-437E-ADD7-76422B928D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DE8BE-01B5-476D-9D68-D1AEFC273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D3506D-B9E6-4FBD-839E-2EC0320AAD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D1355C-28AC-4531-9027-10F7380434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120786-49AE-4AEF-B2B6-E282DAFEE6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36EBA2-AFED-4780-9B7A-BB1DE37358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02EFB4-3778-4888-A349-0798ED46E7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93C876-8F8B-4B0F-B625-EF9D429480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A4D2CE-B131-475C-B601-8BFF204AF5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3FA95F-8F65-4E0D-86DC-632CC851CA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329AC8-9A0E-43AC-AB15-969A69C10E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5042EC-F431-4889-B502-FA9504716B6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0FABD-89E0-4F9F-9146-99CE82A76203}" type="slidenum">
              <a:rPr b="0" lang="ru-RU"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8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385" name="PlaceHolder 3"/>
          <p:cNvSpPr>
            <a:spLocks noGrp="1"/>
          </p:cNvSpPr>
          <p:nvPr>
            <p:ph type="dt" idx="28"/>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6" name="PlaceHolder 4"/>
          <p:cNvSpPr>
            <a:spLocks noGrp="1"/>
          </p:cNvSpPr>
          <p:nvPr>
            <p:ph type="ftr" idx="29"/>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387" name="PlaceHolder 5"/>
          <p:cNvSpPr>
            <a:spLocks noGrp="1"/>
          </p:cNvSpPr>
          <p:nvPr>
            <p:ph type="sldNum" idx="30"/>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7D25A-10AB-4FDD-BE75-93A2A4A75FF4}"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42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26" name="PlaceHolder 3"/>
          <p:cNvSpPr>
            <a:spLocks noGrp="1"/>
          </p:cNvSpPr>
          <p:nvPr>
            <p:ph type="dt" idx="3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 name="PlaceHolder 4"/>
          <p:cNvSpPr>
            <a:spLocks noGrp="1"/>
          </p:cNvSpPr>
          <p:nvPr>
            <p:ph type="ftr" idx="3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428" name="PlaceHolder 5"/>
          <p:cNvSpPr>
            <a:spLocks noGrp="1"/>
          </p:cNvSpPr>
          <p:nvPr>
            <p:ph type="sldNum" idx="3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B07B6-5073-46D7-BF08-1BFFE9430BAA}"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465"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6" name="Скругленный прямоугольник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46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69" name="PlaceHolder 3"/>
          <p:cNvSpPr>
            <a:spLocks noGrp="1"/>
          </p:cNvSpPr>
          <p:nvPr>
            <p:ph type="dt" idx="3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0" name="PlaceHolder 4"/>
          <p:cNvSpPr>
            <a:spLocks noGrp="1"/>
          </p:cNvSpPr>
          <p:nvPr>
            <p:ph type="ftr" idx="35"/>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471" name="PlaceHolder 5"/>
          <p:cNvSpPr>
            <a:spLocks noGrp="1"/>
          </p:cNvSpPr>
          <p:nvPr>
            <p:ph type="sldNum" idx="3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8185E-CEE2-437D-A347-7A474AD52F7D}"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508" name="Прямоугольник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9" name="Прямоугольник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0" name="Прямоугольник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51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13" name="PlaceHolder 3"/>
          <p:cNvSpPr>
            <a:spLocks noGrp="1"/>
          </p:cNvSpPr>
          <p:nvPr>
            <p:ph type="dt" idx="3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4" name="PlaceHolder 4"/>
          <p:cNvSpPr>
            <a:spLocks noGrp="1"/>
          </p:cNvSpPr>
          <p:nvPr>
            <p:ph type="ftr" idx="38"/>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515" name="PlaceHolder 5"/>
          <p:cNvSpPr>
            <a:spLocks noGrp="1"/>
          </p:cNvSpPr>
          <p:nvPr>
            <p:ph type="sldNum" idx="3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139AB-EE93-4678-B09A-BEE8BA90B289}"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55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54" name="PlaceHolder 3"/>
          <p:cNvSpPr>
            <a:spLocks noGrp="1"/>
          </p:cNvSpPr>
          <p:nvPr>
            <p:ph type="dt" idx="4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5" name="PlaceHolder 4"/>
          <p:cNvSpPr>
            <a:spLocks noGrp="1"/>
          </p:cNvSpPr>
          <p:nvPr>
            <p:ph type="ftr" idx="4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556" name="PlaceHolder 5"/>
          <p:cNvSpPr>
            <a:spLocks noGrp="1"/>
          </p:cNvSpPr>
          <p:nvPr>
            <p:ph type="sldNum" idx="4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5ECB2-2378-499E-A179-8D9E266301A8}"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59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95" name="PlaceHolder 3"/>
          <p:cNvSpPr>
            <a:spLocks noGrp="1"/>
          </p:cNvSpPr>
          <p:nvPr>
            <p:ph type="dt" idx="4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6" name="PlaceHolder 4"/>
          <p:cNvSpPr>
            <a:spLocks noGrp="1"/>
          </p:cNvSpPr>
          <p:nvPr>
            <p:ph type="ftr" idx="44"/>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597" name="PlaceHolder 5"/>
          <p:cNvSpPr>
            <a:spLocks noGrp="1"/>
          </p:cNvSpPr>
          <p:nvPr>
            <p:ph type="sldNum" idx="45"/>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F5E6-5619-4783-84BE-5C1D08D80855}"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63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636" name="PlaceHolder 3"/>
          <p:cNvSpPr>
            <a:spLocks noGrp="1"/>
          </p:cNvSpPr>
          <p:nvPr>
            <p:ph type="dt" idx="46"/>
          </p:nvPr>
        </p:nvSpPr>
        <p:spPr>
          <a:xfrm>
            <a:off x="609480" y="6244920"/>
            <a:ext cx="1981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7" name="PlaceHolder 4"/>
          <p:cNvSpPr>
            <a:spLocks noGrp="1"/>
          </p:cNvSpPr>
          <p:nvPr>
            <p:ph type="ftr" idx="47"/>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638" name="PlaceHolder 5"/>
          <p:cNvSpPr>
            <a:spLocks noGrp="1"/>
          </p:cNvSpPr>
          <p:nvPr>
            <p:ph type="sldNum" idx="48"/>
          </p:nvPr>
        </p:nvSpPr>
        <p:spPr>
          <a:xfrm>
            <a:off x="6843240" y="6314400"/>
            <a:ext cx="1401120" cy="33732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5E17F-9D9B-4FF4-A335-D32284A323AD}"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67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677" name="PlaceHolder 3"/>
          <p:cNvSpPr>
            <a:spLocks noGrp="1"/>
          </p:cNvSpPr>
          <p:nvPr>
            <p:ph type="dt" idx="49"/>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8" name="PlaceHolder 4"/>
          <p:cNvSpPr>
            <a:spLocks noGrp="1"/>
          </p:cNvSpPr>
          <p:nvPr>
            <p:ph type="ftr" idx="50"/>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679" name="PlaceHolder 5"/>
          <p:cNvSpPr>
            <a:spLocks noGrp="1"/>
          </p:cNvSpPr>
          <p:nvPr>
            <p:ph type="sldNum" idx="51"/>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35BEA-F3AE-499D-B2FB-DE0D8B033ABF}"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C30C6-89EF-4AA0-BC4D-0E5A5AE46555}" type="slidenum">
              <a:rPr b="0" lang="ru-RU"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ahom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90960-D042-4F2C-A81D-9859D835E1FB}"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123"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2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27"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129"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11225-99CE-4E11-B214-45CA62AA1B37}"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166"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Скругленный прямоугольник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Прямоугольник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 name="Прямоугольник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 name="Прямоугольник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7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73"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 name="PlaceHolder 4"/>
          <p:cNvSpPr>
            <a:spLocks noGrp="1"/>
          </p:cNvSpPr>
          <p:nvPr>
            <p:ph type="ftr" idx="14"/>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175" name="PlaceHolder 5"/>
          <p:cNvSpPr>
            <a:spLocks noGrp="1"/>
          </p:cNvSpPr>
          <p:nvPr>
            <p:ph type="sldNum" idx="15"/>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99B83-B278-4341-A52C-A6E49A3A41D0}"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21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214"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 name="PlaceHolder 4"/>
          <p:cNvSpPr>
            <a:spLocks noGrp="1"/>
          </p:cNvSpPr>
          <p:nvPr>
            <p:ph type="ftr" idx="17"/>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216" name="PlaceHolder 5"/>
          <p:cNvSpPr>
            <a:spLocks noGrp="1"/>
          </p:cNvSpPr>
          <p:nvPr>
            <p:ph type="sldNum" idx="18"/>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7B203-D580-4062-9552-BFA96B386551}"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253"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54" name="Скругленный прямоугольник 10"/>
          <p:cNvGrpSpPr/>
          <p:nvPr/>
        </p:nvGrpSpPr>
        <p:grpSpPr>
          <a:xfrm>
            <a:off x="60480" y="60480"/>
            <a:ext cx="9028080" cy="6711840"/>
            <a:chOff x="60480" y="60480"/>
            <a:chExt cx="9028080" cy="6711840"/>
          </a:xfrm>
        </p:grpSpPr>
        <p:pic>
          <p:nvPicPr>
            <p:cNvPr id="255" name="Скругленный прямоугольник 10" descr=""/>
            <p:cNvPicPr/>
            <p:nvPr/>
          </p:nvPicPr>
          <p:blipFill>
            <a:blip r:embed="rId2"/>
            <a:stretch/>
          </p:blipFill>
          <p:spPr>
            <a:xfrm>
              <a:off x="60480" y="60480"/>
              <a:ext cx="9028080" cy="6711840"/>
            </a:xfrm>
            <a:prstGeom prst="rect">
              <a:avLst/>
            </a:prstGeom>
            <a:ln w="0">
              <a:noFill/>
            </a:ln>
          </p:spPr>
        </p:pic>
        <p:sp>
          <p:nvSpPr>
            <p:cNvPr id="256" name="Text Box 4"/>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57" name="Прямоугольник 14"/>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 name="Прямоугольник 15"/>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 name="Прямоугольник 16"/>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26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262" name="PlaceHolder 3"/>
          <p:cNvSpPr>
            <a:spLocks noGrp="1"/>
          </p:cNvSpPr>
          <p:nvPr>
            <p:ph type="dt" idx="19"/>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 name="PlaceHolder 4"/>
          <p:cNvSpPr>
            <a:spLocks noGrp="1"/>
          </p:cNvSpPr>
          <p:nvPr>
            <p:ph type="ftr" idx="20"/>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264" name="PlaceHolder 5"/>
          <p:cNvSpPr>
            <a:spLocks noGrp="1"/>
          </p:cNvSpPr>
          <p:nvPr>
            <p:ph type="sldNum" idx="21"/>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07894-927B-46DA-84E7-37CB68FCBE56}"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0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303" name="PlaceHolder 3"/>
          <p:cNvSpPr>
            <a:spLocks noGrp="1"/>
          </p:cNvSpPr>
          <p:nvPr>
            <p:ph type="dt" idx="22"/>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 name="PlaceHolder 4"/>
          <p:cNvSpPr>
            <a:spLocks noGrp="1"/>
          </p:cNvSpPr>
          <p:nvPr>
            <p:ph type="ftr" idx="23"/>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305" name="PlaceHolder 5"/>
          <p:cNvSpPr>
            <a:spLocks noGrp="1"/>
          </p:cNvSpPr>
          <p:nvPr>
            <p:ph type="sldNum" idx="24"/>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8D19B-2D90-4C8D-BAD4-4B537C46D70C}"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4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344" name="PlaceHolder 3"/>
          <p:cNvSpPr>
            <a:spLocks noGrp="1"/>
          </p:cNvSpPr>
          <p:nvPr>
            <p:ph type="dt" idx="25"/>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PlaceHolder 4"/>
          <p:cNvSpPr>
            <a:spLocks noGrp="1"/>
          </p:cNvSpPr>
          <p:nvPr>
            <p:ph type="ftr" idx="26"/>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346" name="PlaceHolder 5"/>
          <p:cNvSpPr>
            <a:spLocks noGrp="1"/>
          </p:cNvSpPr>
          <p:nvPr>
            <p:ph type="sldNum" idx="27"/>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D4939-CEBD-4673-BA5F-C55663D2515C}"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art-trv.ru/gallery/files/1/egypt_pyramid.jpg" TargetMode="External"/><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fotoart.org.ua/albums/userpics/foto_egypt_1.jpg" TargetMode="External"/><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pixdaus.com/pics/1210112365TlewSTf.jpg" TargetMode="External"/><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3" name="Picture 10" descr="top2"/>
          <p:cNvPicPr/>
          <p:nvPr/>
        </p:nvPicPr>
        <p:blipFill>
          <a:blip r:embed="rId1"/>
          <a:stretch/>
        </p:blipFill>
        <p:spPr>
          <a:xfrm>
            <a:off x="179280" y="1413000"/>
            <a:ext cx="5219640" cy="1969920"/>
          </a:xfrm>
          <a:prstGeom prst="rect">
            <a:avLst/>
          </a:prstGeom>
          <a:ln w="0">
            <a:noFill/>
          </a:ln>
        </p:spPr>
      </p:pic>
      <p:pic>
        <p:nvPicPr>
          <p:cNvPr id="724" name="Picture 11" descr="top1"/>
          <p:cNvPicPr/>
          <p:nvPr/>
        </p:nvPicPr>
        <p:blipFill>
          <a:blip r:embed="rId2"/>
          <a:stretch/>
        </p:blipFill>
        <p:spPr>
          <a:xfrm>
            <a:off x="5327640" y="189000"/>
            <a:ext cx="3816360" cy="2663640"/>
          </a:xfrm>
          <a:prstGeom prst="rect">
            <a:avLst/>
          </a:prstGeom>
          <a:ln w="0">
            <a:noFill/>
          </a:ln>
        </p:spPr>
      </p:pic>
      <p:pic>
        <p:nvPicPr>
          <p:cNvPr id="725" name="Picture 12" descr="МХК"/>
          <p:cNvPicPr/>
          <p:nvPr/>
        </p:nvPicPr>
        <p:blipFill>
          <a:blip r:embed="rId3"/>
          <a:stretch/>
        </p:blipFill>
        <p:spPr>
          <a:xfrm rot="20821200">
            <a:off x="324000" y="3716280"/>
            <a:ext cx="3089160" cy="2317680"/>
          </a:xfrm>
          <a:prstGeom prst="rect">
            <a:avLst/>
          </a:prstGeom>
          <a:ln w="9360">
            <a:solidFill>
              <a:srgbClr val="000000"/>
            </a:solidFill>
            <a:miter/>
          </a:ln>
        </p:spPr>
      </p:pic>
      <p:pic>
        <p:nvPicPr>
          <p:cNvPr id="726" name="Picture 13" descr="мхк_2"/>
          <p:cNvPicPr/>
          <p:nvPr/>
        </p:nvPicPr>
        <p:blipFill>
          <a:blip r:embed="rId4"/>
          <a:stretch/>
        </p:blipFill>
        <p:spPr>
          <a:xfrm rot="681600">
            <a:off x="5867280" y="3500280"/>
            <a:ext cx="2592360" cy="1944720"/>
          </a:xfrm>
          <a:prstGeom prst="rect">
            <a:avLst/>
          </a:prstGeom>
          <a:ln w="9360">
            <a:solidFill>
              <a:srgbClr val="000000"/>
            </a:solidFill>
            <a:miter/>
          </a:ln>
        </p:spPr>
      </p:pic>
      <p:sp>
        <p:nvSpPr>
          <p:cNvPr id="7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5">
                                  <p:stCondLst>
                                    <p:cond delay="0"/>
                                  </p:stCondLst>
                                  <p:childTnLst>
                                    <p:set>
                                      <p:cBhvr>
                                        <p:cTn id="6" dur="1" fill="hold">
                                          <p:stCondLst>
                                            <p:cond delay="0"/>
                                          </p:stCondLst>
                                        </p:cTn>
                                        <p:tgtEl>
                                          <p:spTgt spid="723"/>
                                        </p:tgtEl>
                                        <p:attrNameLst>
                                          <p:attrName>style.visibility</p:attrName>
                                        </p:attrNameLst>
                                      </p:cBhvr>
                                      <p:to>
                                        <p:strVal val="visible"/>
                                      </p:to>
                                    </p:set>
                                    <p:anim calcmode="lin" valueType="num">
                                      <p:cBhvr additive="repl">
                                        <p:cTn id="7" dur="500" fill="hold">
                                          <p:stCondLst>
                                            <p:cond delay="0"/>
                                          </p:stCondLst>
                                        </p:cTn>
                                        <p:tgtEl>
                                          <p:spTgt spid="723"/>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723"/>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723"/>
                                        </p:tgtEl>
                                        <p:attrNameLst>
                                          <p:attrName>ppt_w</p:attrName>
                                        </p:attrNameLst>
                                      </p:cBhvr>
                                      <p:tavLst>
                                        <p:tav tm="0">
                                          <p:val>
                                            <p:strVal val="#ppt_w*.05"/>
                                          </p:val>
                                        </p:tav>
                                        <p:tav tm="100000">
                                          <p:val>
                                            <p:strVal val="#ppt_w"/>
                                          </p:val>
                                        </p:tav>
                                      </p:tavLst>
                                    </p:anim>
                                    <p:anim calcmode="lin" valueType="num">
                                      <p:cBhvr additive="repl">
                                        <p:cTn id="10" dur="1000" fill="hold"/>
                                        <p:tgtEl>
                                          <p:spTgt spid="723"/>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723"/>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723"/>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723"/>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723"/>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4">
                                  <p:stCondLst>
                                    <p:cond delay="0"/>
                                  </p:stCondLst>
                                  <p:childTnLst>
                                    <p:set>
                                      <p:cBhvr>
                                        <p:cTn id="18" dur="1" fill="hold">
                                          <p:stCondLst>
                                            <p:cond delay="0"/>
                                          </p:stCondLst>
                                        </p:cTn>
                                        <p:tgtEl>
                                          <p:spTgt spid="724"/>
                                        </p:tgtEl>
                                        <p:attrNameLst>
                                          <p:attrName>style.visibility</p:attrName>
                                        </p:attrNameLst>
                                      </p:cBhvr>
                                      <p:to>
                                        <p:strVal val="visible"/>
                                      </p:to>
                                    </p:set>
                                    <p:anim calcmode="lin" valueType="num">
                                      <p:cBhvr additive="repl">
                                        <p:cTn id="19" dur="500" fill="hold"/>
                                        <p:tgtEl>
                                          <p:spTgt spid="724"/>
                                        </p:tgtEl>
                                        <p:attrNameLst>
                                          <p:attrName>ppt_w</p:attrName>
                                        </p:attrNameLst>
                                      </p:cBhvr>
                                      <p:tavLst>
                                        <p:tav tm="0">
                                          <p:val>
                                            <p:strVal val="#ppt_w*0.05"/>
                                          </p:val>
                                        </p:tav>
                                        <p:tav tm="100000">
                                          <p:val>
                                            <p:strVal val="#ppt_w"/>
                                          </p:val>
                                        </p:tav>
                                      </p:tavLst>
                                    </p:anim>
                                    <p:anim calcmode="lin" valueType="num">
                                      <p:cBhvr additive="repl">
                                        <p:cTn id="20" dur="500" fill="hold"/>
                                        <p:tgtEl>
                                          <p:spTgt spid="724"/>
                                        </p:tgtEl>
                                        <p:attrNameLst>
                                          <p:attrName>ppt_h</p:attrName>
                                        </p:attrNameLst>
                                      </p:cBhvr>
                                      <p:tavLst>
                                        <p:tav tm="0">
                                          <p:val>
                                            <p:strVal val="#ppt_h"/>
                                          </p:val>
                                        </p:tav>
                                        <p:tav tm="100000">
                                          <p:val>
                                            <p:strVal val="#ppt_h"/>
                                          </p:val>
                                        </p:tav>
                                      </p:tavLst>
                                    </p:anim>
                                    <p:anim calcmode="lin" valueType="num">
                                      <p:cBhvr additive="repl">
                                        <p:cTn id="21" dur="500" fill="hold"/>
                                        <p:tgtEl>
                                          <p:spTgt spid="724"/>
                                        </p:tgtEl>
                                        <p:attrNameLst>
                                          <p:attrName>ppt_x</p:attrName>
                                        </p:attrNameLst>
                                      </p:cBhvr>
                                      <p:tavLst>
                                        <p:tav tm="0">
                                          <p:val>
                                            <p:strVal val="#ppt_x-.2"/>
                                          </p:val>
                                        </p:tav>
                                        <p:tav tm="100000">
                                          <p:val>
                                            <p:strVal val="#ppt_x"/>
                                          </p:val>
                                        </p:tav>
                                      </p:tavLst>
                                    </p:anim>
                                    <p:anim calcmode="lin" valueType="num">
                                      <p:cBhvr additive="repl">
                                        <p:cTn id="22" dur="500" fill="hold"/>
                                        <p:tgtEl>
                                          <p:spTgt spid="724"/>
                                        </p:tgtEl>
                                        <p:attrNameLst>
                                          <p:attrName>ppt_y</p:attrName>
                                        </p:attrNameLst>
                                      </p:cBhvr>
                                      <p:tavLst>
                                        <p:tav tm="0">
                                          <p:val>
                                            <p:strVal val="#ppt_y"/>
                                          </p:val>
                                        </p:tav>
                                        <p:tav tm="100000">
                                          <p:val>
                                            <p:strVal val="#ppt_y"/>
                                          </p:val>
                                        </p:tav>
                                      </p:tavLst>
                                    </p:anim>
                                    <p:animEffect filter="fade" transition="in">
                                      <p:cBhvr additive="repl">
                                        <p:cTn id="23" dur="500"/>
                                        <p:tgtEl>
                                          <p:spTgt spid="724"/>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4">
                                  <p:stCondLst>
                                    <p:cond delay="0"/>
                                  </p:stCondLst>
                                  <p:childTnLst>
                                    <p:set>
                                      <p:cBhvr>
                                        <p:cTn id="27" dur="1" fill="hold">
                                          <p:stCondLst>
                                            <p:cond delay="0"/>
                                          </p:stCondLst>
                                        </p:cTn>
                                        <p:tgtEl>
                                          <p:spTgt spid="725"/>
                                        </p:tgtEl>
                                        <p:attrNameLst>
                                          <p:attrName>style.visibility</p:attrName>
                                        </p:attrNameLst>
                                      </p:cBhvr>
                                      <p:to>
                                        <p:strVal val="visible"/>
                                      </p:to>
                                    </p:set>
                                    <p:anim calcmode="lin" valueType="num">
                                      <p:cBhvr additive="repl">
                                        <p:cTn id="28" dur="500" fill="hold"/>
                                        <p:tgtEl>
                                          <p:spTgt spid="725"/>
                                        </p:tgtEl>
                                        <p:attrNameLst>
                                          <p:attrName>ppt_w</p:attrName>
                                        </p:attrNameLst>
                                      </p:cBhvr>
                                      <p:tavLst>
                                        <p:tav tm="0">
                                          <p:val>
                                            <p:strVal val="#ppt_w*0.05"/>
                                          </p:val>
                                        </p:tav>
                                        <p:tav tm="100000">
                                          <p:val>
                                            <p:strVal val="#ppt_w"/>
                                          </p:val>
                                        </p:tav>
                                      </p:tavLst>
                                    </p:anim>
                                    <p:anim calcmode="lin" valueType="num">
                                      <p:cBhvr additive="repl">
                                        <p:cTn id="29" dur="500" fill="hold"/>
                                        <p:tgtEl>
                                          <p:spTgt spid="725"/>
                                        </p:tgtEl>
                                        <p:attrNameLst>
                                          <p:attrName>ppt_h</p:attrName>
                                        </p:attrNameLst>
                                      </p:cBhvr>
                                      <p:tavLst>
                                        <p:tav tm="0">
                                          <p:val>
                                            <p:strVal val="#ppt_h"/>
                                          </p:val>
                                        </p:tav>
                                        <p:tav tm="100000">
                                          <p:val>
                                            <p:strVal val="#ppt_h"/>
                                          </p:val>
                                        </p:tav>
                                      </p:tavLst>
                                    </p:anim>
                                    <p:anim calcmode="lin" valueType="num">
                                      <p:cBhvr additive="repl">
                                        <p:cTn id="30" dur="500" fill="hold"/>
                                        <p:tgtEl>
                                          <p:spTgt spid="725"/>
                                        </p:tgtEl>
                                        <p:attrNameLst>
                                          <p:attrName>ppt_x</p:attrName>
                                        </p:attrNameLst>
                                      </p:cBhvr>
                                      <p:tavLst>
                                        <p:tav tm="0">
                                          <p:val>
                                            <p:strVal val="#ppt_x-.2"/>
                                          </p:val>
                                        </p:tav>
                                        <p:tav tm="100000">
                                          <p:val>
                                            <p:strVal val="#ppt_x"/>
                                          </p:val>
                                        </p:tav>
                                      </p:tavLst>
                                    </p:anim>
                                    <p:anim calcmode="lin" valueType="num">
                                      <p:cBhvr additive="repl">
                                        <p:cTn id="31" dur="500" fill="hold"/>
                                        <p:tgtEl>
                                          <p:spTgt spid="725"/>
                                        </p:tgtEl>
                                        <p:attrNameLst>
                                          <p:attrName>ppt_y</p:attrName>
                                        </p:attrNameLst>
                                      </p:cBhvr>
                                      <p:tavLst>
                                        <p:tav tm="0">
                                          <p:val>
                                            <p:strVal val="#ppt_y"/>
                                          </p:val>
                                        </p:tav>
                                        <p:tav tm="100000">
                                          <p:val>
                                            <p:strVal val="#ppt_y"/>
                                          </p:val>
                                        </p:tav>
                                      </p:tavLst>
                                    </p:anim>
                                    <p:animEffect filter="fade" transition="in">
                                      <p:cBhvr additive="repl">
                                        <p:cTn id="32" dur="500"/>
                                        <p:tgtEl>
                                          <p:spTgt spid="725"/>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726"/>
                                        </p:tgtEl>
                                        <p:attrNameLst>
                                          <p:attrName>style.visibility</p:attrName>
                                        </p:attrNameLst>
                                      </p:cBhvr>
                                      <p:to>
                                        <p:strVal val="visible"/>
                                      </p:to>
                                    </p:set>
                                    <p:animEffect filter="checkerboard(across)" transition="in">
                                      <p:cBhvr additive="repl">
                                        <p:cTn id="37"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63" name="Picture 5" descr="stock"/>
          <p:cNvPicPr/>
          <p:nvPr/>
        </p:nvPicPr>
        <p:blipFill>
          <a:blip r:embed="rId1"/>
          <a:stretch/>
        </p:blipFill>
        <p:spPr>
          <a:xfrm rot="21342600">
            <a:off x="250920" y="0"/>
            <a:ext cx="2450880" cy="2249640"/>
          </a:xfrm>
          <a:prstGeom prst="rect">
            <a:avLst/>
          </a:prstGeom>
          <a:ln w="9360">
            <a:solidFill>
              <a:srgbClr val="000000"/>
            </a:solidFill>
            <a:miter/>
          </a:ln>
        </p:spPr>
      </p:pic>
      <p:pic>
        <p:nvPicPr>
          <p:cNvPr id="764" name="Picture 7" descr="Картинка 2 из 7687">
            <a:hlinkClick r:id="rId2"/>
          </p:cNvPr>
          <p:cNvPicPr/>
          <p:nvPr/>
        </p:nvPicPr>
        <p:blipFill>
          <a:blip r:embed="rId3"/>
          <a:stretch/>
        </p:blipFill>
        <p:spPr>
          <a:xfrm rot="329400">
            <a:off x="2484000" y="189000"/>
            <a:ext cx="2233800" cy="1785960"/>
          </a:xfrm>
          <a:prstGeom prst="rect">
            <a:avLst/>
          </a:prstGeom>
          <a:ln w="9360">
            <a:solidFill>
              <a:srgbClr val="000000"/>
            </a:solidFill>
            <a:miter/>
          </a:ln>
        </p:spPr>
      </p:pic>
      <p:sp>
        <p:nvSpPr>
          <p:cNvPr id="765" name="Rectangle 8"/>
          <p:cNvSpPr/>
          <p:nvPr/>
        </p:nvSpPr>
        <p:spPr>
          <a:xfrm>
            <a:off x="2755800" y="1691280"/>
            <a:ext cx="6388200" cy="518400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ирамиды и Сфинкс, который впрочем также входит в состав погребального комплекса пирамиды Хефрена, принадлежат к наиболее характерным монументальным памятникам древнего Египта. Пирамиды были классическим типом царской усыпальницы в эпоху Древнего царства, а в менее монументальном виде, сохраняя свою внешнюю форму, возводились также для фараонов Среднего царства. Древнейшим видом гробниц царей Египта, возникшим до пирамид, были мастабы. Слово “мастаба” относится уже к арабскому времени и связано с тем, что форма этих трапециевидных в разрезе гробниц напоминала арабам большие скамьи, называвшиеся “мастаба”. Общего названия пирамид в нынешнем значении этого слова у египтян не было.</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67" name="Picture 5" descr="main"/>
          <p:cNvPicPr/>
          <p:nvPr/>
        </p:nvPicPr>
        <p:blipFill>
          <a:blip r:embed="rId1"/>
          <a:stretch/>
        </p:blipFill>
        <p:spPr>
          <a:xfrm>
            <a:off x="250920" y="549360"/>
            <a:ext cx="3497040" cy="5761080"/>
          </a:xfrm>
          <a:prstGeom prst="rect">
            <a:avLst/>
          </a:prstGeom>
          <a:ln w="0">
            <a:noFill/>
          </a:ln>
        </p:spPr>
      </p:pic>
      <p:pic>
        <p:nvPicPr>
          <p:cNvPr id="768" name="Picture 7" descr="2"/>
          <p:cNvPicPr/>
          <p:nvPr/>
        </p:nvPicPr>
        <p:blipFill>
          <a:blip r:embed="rId2"/>
          <a:stretch/>
        </p:blipFill>
        <p:spPr>
          <a:xfrm>
            <a:off x="4284720" y="620640"/>
            <a:ext cx="3744720" cy="2490840"/>
          </a:xfrm>
          <a:prstGeom prst="rect">
            <a:avLst/>
          </a:prstGeom>
          <a:ln w="0">
            <a:noFill/>
          </a:ln>
        </p:spPr>
      </p:pic>
      <p:sp>
        <p:nvSpPr>
          <p:cNvPr id="769" name="Text Box 8"/>
          <p:cNvSpPr/>
          <p:nvPr/>
        </p:nvSpPr>
        <p:spPr>
          <a:xfrm>
            <a:off x="5991120" y="57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1</a:t>
            </a:r>
            <a:endParaRPr b="0" lang="en-US" sz="2400" spc="-1" strike="noStrike">
              <a:solidFill>
                <a:srgbClr val="000000"/>
              </a:solidFill>
              <a:latin typeface="Tahoma"/>
            </a:endParaRPr>
          </a:p>
        </p:txBody>
      </p:sp>
      <p:sp>
        <p:nvSpPr>
          <p:cNvPr id="770" name="Text Box 9"/>
          <p:cNvSpPr/>
          <p:nvPr/>
        </p:nvSpPr>
        <p:spPr>
          <a:xfrm>
            <a:off x="6062040" y="341784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2</a:t>
            </a:r>
            <a:endParaRPr b="0" lang="en-US" sz="2000" spc="-1" strike="noStrike">
              <a:solidFill>
                <a:srgbClr val="000000"/>
              </a:solidFill>
              <a:latin typeface="Tahoma"/>
            </a:endParaRPr>
          </a:p>
        </p:txBody>
      </p:sp>
      <p:pic>
        <p:nvPicPr>
          <p:cNvPr id="771" name="Picture 11" descr="2"/>
          <p:cNvPicPr/>
          <p:nvPr/>
        </p:nvPicPr>
        <p:blipFill>
          <a:blip r:embed="rId3"/>
          <a:stretch/>
        </p:blipFill>
        <p:spPr>
          <a:xfrm>
            <a:off x="4356000" y="3933720"/>
            <a:ext cx="3527640" cy="2346480"/>
          </a:xfrm>
          <a:prstGeom prst="rect">
            <a:avLst/>
          </a:prstGeom>
          <a:ln w="0">
            <a:noFill/>
          </a:ln>
        </p:spPr>
      </p:pic>
      <p:sp>
        <p:nvSpPr>
          <p:cNvPr id="7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73" name="Picture 5" descr="3"/>
          <p:cNvPicPr/>
          <p:nvPr/>
        </p:nvPicPr>
        <p:blipFill>
          <a:blip r:embed="rId1"/>
          <a:stretch/>
        </p:blipFill>
        <p:spPr>
          <a:xfrm>
            <a:off x="2771640" y="5445000"/>
            <a:ext cx="6120000" cy="1181160"/>
          </a:xfrm>
          <a:prstGeom prst="rect">
            <a:avLst/>
          </a:prstGeom>
          <a:ln w="0">
            <a:noFill/>
          </a:ln>
        </p:spPr>
      </p:pic>
      <p:pic>
        <p:nvPicPr>
          <p:cNvPr id="774" name="Picture 7" descr="stock"/>
          <p:cNvPicPr/>
          <p:nvPr/>
        </p:nvPicPr>
        <p:blipFill>
          <a:blip r:embed="rId2"/>
          <a:stretch/>
        </p:blipFill>
        <p:spPr>
          <a:xfrm>
            <a:off x="324000" y="260280"/>
            <a:ext cx="2162160" cy="1984320"/>
          </a:xfrm>
          <a:prstGeom prst="rect">
            <a:avLst/>
          </a:prstGeom>
          <a:ln w="0">
            <a:noFill/>
          </a:ln>
        </p:spPr>
      </p:pic>
      <p:sp>
        <p:nvSpPr>
          <p:cNvPr id="775" name="Rectangle 8"/>
          <p:cNvSpPr/>
          <p:nvPr/>
        </p:nvSpPr>
        <p:spPr>
          <a:xfrm>
            <a:off x="3059280" y="251640"/>
            <a:ext cx="5403600" cy="24397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Египтяне были искусными рисовальщиками. Необычайно точно они рисовали предметы и животных. Можно думать, что первоначально жители долины Нила записывали свои мысли, изображая на рисунке предметы, о которых шла речь.</a:t>
            </a:r>
            <a:br>
              <a:rPr sz="2000"/>
            </a:br>
            <a:endParaRPr b="0" lang="en-US" sz="2000" spc="-1" strike="noStrike">
              <a:solidFill>
                <a:srgbClr val="000000"/>
              </a:solidFill>
              <a:latin typeface="Tahoma"/>
            </a:endParaRPr>
          </a:p>
        </p:txBody>
      </p:sp>
      <p:sp>
        <p:nvSpPr>
          <p:cNvPr id="776" name="Rectangle 9"/>
          <p:cNvSpPr/>
          <p:nvPr/>
        </p:nvSpPr>
        <p:spPr>
          <a:xfrm>
            <a:off x="395280" y="2275920"/>
            <a:ext cx="5616720" cy="30495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Но к периоду Раннего царства сложилась египетская система письма. Она на первый взгляд очень трудна. Сотни различных знаков от изображений человека и животных до предметов домашней утвари! Кажется, нет возможности разобраться в этом скоплении знаков. Но почти двухты-сячелетние искания привели к тому, что тайны египетского письма раскрыты.</a:t>
            </a:r>
            <a:br>
              <a:rPr sz="2000"/>
            </a:br>
            <a:endParaRPr b="0" lang="en-US" sz="2000" spc="-1" strike="noStrike">
              <a:solidFill>
                <a:srgbClr val="000000"/>
              </a:solidFill>
              <a:latin typeface="Tahoma"/>
            </a:endParaRPr>
          </a:p>
        </p:txBody>
      </p:sp>
      <p:sp>
        <p:nvSpPr>
          <p:cNvPr id="7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78" name="Picture 5" descr="1"/>
          <p:cNvPicPr/>
          <p:nvPr/>
        </p:nvPicPr>
        <p:blipFill>
          <a:blip r:embed="rId1"/>
          <a:stretch/>
        </p:blipFill>
        <p:spPr>
          <a:xfrm>
            <a:off x="1692360" y="189000"/>
            <a:ext cx="5375160" cy="2906640"/>
          </a:xfrm>
          <a:prstGeom prst="rect">
            <a:avLst/>
          </a:prstGeom>
          <a:ln w="0">
            <a:noFill/>
          </a:ln>
        </p:spPr>
      </p:pic>
      <p:sp>
        <p:nvSpPr>
          <p:cNvPr id="779" name="Rectangle 6"/>
          <p:cNvSpPr/>
          <p:nvPr/>
        </p:nvSpPr>
        <p:spPr>
          <a:xfrm>
            <a:off x="3564000" y="3428640"/>
            <a:ext cx="4854600" cy="15249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VIII веке до нашей эры, появился еще один вид египетского письма — демотика, развившийся из иератики. Система этого письма та же: те же звуковые знаки, определители. </a:t>
            </a:r>
            <a:endParaRPr b="0" lang="en-US" sz="2000" spc="-1" strike="noStrike">
              <a:solidFill>
                <a:srgbClr val="000000"/>
              </a:solidFill>
              <a:latin typeface="Tahoma"/>
            </a:endParaRPr>
          </a:p>
        </p:txBody>
      </p:sp>
      <p:sp>
        <p:nvSpPr>
          <p:cNvPr id="7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8" name="Text Box 4"/>
          <p:cNvSpPr/>
          <p:nvPr/>
        </p:nvSpPr>
        <p:spPr>
          <a:xfrm>
            <a:off x="1239840" y="1284120"/>
            <a:ext cx="5708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9" name="Text Box 5"/>
          <p:cNvSpPr/>
          <p:nvPr/>
        </p:nvSpPr>
        <p:spPr>
          <a:xfrm>
            <a:off x="826920" y="1628640"/>
            <a:ext cx="4896000" cy="3490560"/>
          </a:xfrm>
          <a:prstGeom prst="rect">
            <a:avLst/>
          </a:prstGeom>
          <a:noFill/>
          <a:ln w="0">
            <a:noFill/>
          </a:ln>
        </p:spPr>
        <p:style>
          <a:lnRef idx="0"/>
          <a:fillRef idx="0"/>
          <a:effectRef idx="0"/>
          <a:fontRef idx="minor"/>
        </p:style>
        <p:txBody>
          <a:bodyPr lIns="90000" rIns="90000" tIns="46800" bIns="46800" anchor="t">
            <a:spAutoFit/>
          </a:bodyPr>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Почему Египет так называют?</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Культура Древнего Египта</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Религия</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Искусство</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Боги</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Мифы</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Пирамиды</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Карта древнего Египта</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Письменность</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Иероглифы</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0" name="WordArt 6"/>
          <p:cNvSpPr txBox="1"/>
          <p:nvPr/>
        </p:nvSpPr>
        <p:spPr>
          <a:xfrm>
            <a:off x="1979640" y="189000"/>
            <a:ext cx="4608360" cy="1191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Содержание</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2" name="Rectangle 4"/>
          <p:cNvSpPr/>
          <p:nvPr/>
        </p:nvSpPr>
        <p:spPr>
          <a:xfrm>
            <a:off x="250920" y="283320"/>
            <a:ext cx="8675640" cy="576108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Итак - древний Египет. Но удивительным является то, что ни древние, ни современные жители Египта не называли и не называют так свою родину. В древнем Египте жители именовали свою страну «Черной», а себя — «людьми Черной (земли)», по цвету плодородной почвы низменной долины Нила. Еще в глубокой древности соприкасавшиеся с египтянами народы Аравийского полуострова, Передней Азии и Двуречья дали Египту свое название: Миср — «Населенное место, город», так как их, видимо, поразила населенность Египта и большое количество городов, расположенных близко друг от друга. Современные египтяне свою страну тоже называют: Миср.</a:t>
            </a:r>
            <a:br>
              <a:rPr sz="1800"/>
            </a:br>
            <a:r>
              <a:rPr b="1" lang="ru-RU" sz="1800" spc="-1" strike="noStrike">
                <a:solidFill>
                  <a:srgbClr val="000000"/>
                </a:solidFill>
                <a:latin typeface="Tahoma"/>
              </a:rPr>
              <a:t>  Почему же мы, как и многие другие европейские народы, употребляем слово «Египет»? Это название пошло от древних греков. Оно происходит от названия древнеегипетского города Мемфиса — Хикупта. В начале 1 тысячелетия до нашей эры, когда древние греки стали проникать в Египет, первым из самых больших городов, который им встретился, был Мемфис на рубеже Дельты и долины Нила. Его название (вернее — одно из названий, так как «Мемфис» тоже египетское слово) «Хикупта» или «Айгюптос» греки взяли за обозначение всей страны.</a:t>
            </a:r>
            <a:br>
              <a:rPr sz="1800"/>
            </a:br>
            <a:r>
              <a:rPr b="1" lang="ru-RU" sz="1800" spc="-1" strike="noStrike">
                <a:solidFill>
                  <a:srgbClr val="000000"/>
                </a:solidFill>
                <a:latin typeface="Tahoma"/>
              </a:rPr>
              <a:t>Так что наше слово «Египет» тоже очень древнее, но оно пришло из древнегреческого. </a:t>
            </a:r>
            <a:endParaRPr b="0" lang="en-US" sz="1800" spc="-1" strike="noStrike">
              <a:solidFill>
                <a:srgbClr val="000000"/>
              </a:solidFill>
              <a:latin typeface="Tahoma"/>
            </a:endParaRPr>
          </a:p>
        </p:txBody>
      </p:sp>
      <p:sp>
        <p:nvSpPr>
          <p:cNvPr id="7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4" name="Picture 5" descr="stock"/>
          <p:cNvPicPr/>
          <p:nvPr/>
        </p:nvPicPr>
        <p:blipFill>
          <a:blip r:embed="rId1"/>
          <a:stretch/>
        </p:blipFill>
        <p:spPr>
          <a:xfrm rot="334800">
            <a:off x="395280" y="1125000"/>
            <a:ext cx="2735280" cy="2509920"/>
          </a:xfrm>
          <a:prstGeom prst="rect">
            <a:avLst/>
          </a:prstGeom>
          <a:ln w="9360">
            <a:solidFill>
              <a:srgbClr val="000000"/>
            </a:solidFill>
            <a:miter/>
          </a:ln>
        </p:spPr>
      </p:pic>
      <p:sp>
        <p:nvSpPr>
          <p:cNvPr id="735" name="Rectangle 6"/>
          <p:cNvSpPr/>
          <p:nvPr/>
        </p:nvSpPr>
        <p:spPr>
          <a:xfrm>
            <a:off x="3564000" y="322920"/>
            <a:ext cx="5108400" cy="42692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Цивилизация Древнего Египта насчитывает более 3000 лет. В конце </a:t>
            </a:r>
            <a:r>
              <a:rPr b="0" lang="en-US" sz="2000" spc="-1" strike="noStrike">
                <a:solidFill>
                  <a:srgbClr val="000000"/>
                </a:solidFill>
                <a:latin typeface="Tahoma"/>
              </a:rPr>
              <a:t>IV</a:t>
            </a:r>
            <a:r>
              <a:rPr b="0" lang="ru-RU" sz="2000" spc="-1" strike="noStrike">
                <a:solidFill>
                  <a:srgbClr val="000000"/>
                </a:solidFill>
                <a:latin typeface="Tahoma"/>
              </a:rPr>
              <a:t> тысячелетия до н.э. в Юго-Восточной Африке, в низовьях реки Нил, сформировалось раннерабовладельческое государство Египет, которое стало одним с самых великих центров мировой культуры. Почти 2000-летнюю историю Древнего Египта принято делить на три периода: первый - Древний (2800 - 2250 лет до н. э.), второй - Среднее Царство (2050 - 1700 лет до н. э.), третий - Новое Царство (1580 - 1070 лет до н. э.). </a:t>
            </a:r>
            <a:endParaRPr b="0" lang="en-US" sz="2000" spc="-1" strike="noStrike">
              <a:solidFill>
                <a:srgbClr val="000000"/>
              </a:solidFill>
              <a:latin typeface="Tahoma"/>
            </a:endParaRPr>
          </a:p>
        </p:txBody>
      </p:sp>
      <p:sp>
        <p:nvSpPr>
          <p:cNvPr id="736" name="Rectangle 7"/>
          <p:cNvSpPr/>
          <p:nvPr/>
        </p:nvSpPr>
        <p:spPr>
          <a:xfrm>
            <a:off x="250920" y="4500000"/>
            <a:ext cx="4557600" cy="21348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Название «Египет» происходит от древнегреческого наименования «Айгуптос». В свою очередь это слово, скорее всего, восходит к одному из имен значительнейшего из древнеегипетских городов - Мемфиса. </a:t>
            </a:r>
            <a:endParaRPr b="0" lang="en-US" sz="2000" spc="-1" strike="noStrike">
              <a:solidFill>
                <a:srgbClr val="000000"/>
              </a:solidFill>
              <a:latin typeface="Tahoma"/>
            </a:endParaRPr>
          </a:p>
        </p:txBody>
      </p:sp>
      <p:sp>
        <p:nvSpPr>
          <p:cNvPr id="7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8" name="Picture 5" descr="stock"/>
          <p:cNvPicPr/>
          <p:nvPr/>
        </p:nvPicPr>
        <p:blipFill>
          <a:blip r:embed="rId1"/>
          <a:stretch/>
        </p:blipFill>
        <p:spPr>
          <a:xfrm rot="21150600">
            <a:off x="324000" y="836640"/>
            <a:ext cx="3027240" cy="2778120"/>
          </a:xfrm>
          <a:prstGeom prst="rect">
            <a:avLst/>
          </a:prstGeom>
          <a:ln w="9360">
            <a:solidFill>
              <a:srgbClr val="000000"/>
            </a:solidFill>
            <a:miter/>
          </a:ln>
        </p:spPr>
      </p:pic>
      <p:sp>
        <p:nvSpPr>
          <p:cNvPr id="739" name="Rectangle 6"/>
          <p:cNvSpPr/>
          <p:nvPr/>
        </p:nvSpPr>
        <p:spPr>
          <a:xfrm>
            <a:off x="3708360" y="48600"/>
            <a:ext cx="5111640" cy="30495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римерно с 3000 г. до н. э.  официальная религия Египта признавала фараона сыном солнечного бога Ра и таким образом самим богом. В египетском пантеоне существовало множество других богов и богинь, под властью которых находилось все: от явлений природы, подобно воздуху (бог Шу), до явлений культуры, подобных письменности (богиня Саф). </a:t>
            </a:r>
            <a:endParaRPr b="0" lang="en-US" sz="2000" spc="-1" strike="noStrike">
              <a:solidFill>
                <a:srgbClr val="000000"/>
              </a:solidFill>
              <a:latin typeface="Tahoma"/>
            </a:endParaRPr>
          </a:p>
        </p:txBody>
      </p:sp>
      <p:sp>
        <p:nvSpPr>
          <p:cNvPr id="740" name="Rectangle 7"/>
          <p:cNvSpPr/>
          <p:nvPr/>
        </p:nvSpPr>
        <p:spPr>
          <a:xfrm>
            <a:off x="4427640" y="3060000"/>
            <a:ext cx="4538520" cy="27446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Многие боги были представлены в виде животных или полулюдей-полуживотных. Хорошо организованная и могущественная жреческая каста создавала семейные группы различных божеств, многие из которых, вероятно, были первоначально местными богами. </a:t>
            </a:r>
            <a:endParaRPr b="0" lang="en-US" sz="2000" spc="-1" strike="noStrike">
              <a:solidFill>
                <a:srgbClr val="000000"/>
              </a:solidFill>
              <a:latin typeface="Tahoma"/>
            </a:endParaRPr>
          </a:p>
        </p:txBody>
      </p:sp>
      <p:sp>
        <p:nvSpPr>
          <p:cNvPr id="741" name="Rectangle 8"/>
          <p:cNvSpPr/>
          <p:nvPr/>
        </p:nvSpPr>
        <p:spPr>
          <a:xfrm>
            <a:off x="324000" y="4507920"/>
            <a:ext cx="3744720" cy="21348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ог-творец Птах (согласно мемфисской теологии) был, например, объединен в богиней войны Сехмет, а бог-целитель Имхотеп вошел в триаду отец-мать-сын. </a:t>
            </a:r>
            <a:br>
              <a:rPr sz="2000"/>
            </a:br>
            <a:endParaRPr b="0" lang="en-US" sz="2000" spc="-1" strike="noStrike">
              <a:solidFill>
                <a:srgbClr val="000000"/>
              </a:solidFill>
              <a:latin typeface="Tahoma"/>
            </a:endParaRPr>
          </a:p>
        </p:txBody>
      </p:sp>
      <p:sp>
        <p:nvSpPr>
          <p:cNvPr id="7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3" name="Picture 5" descr="stock"/>
          <p:cNvPicPr/>
          <p:nvPr/>
        </p:nvPicPr>
        <p:blipFill>
          <a:blip r:embed="rId1"/>
          <a:stretch/>
        </p:blipFill>
        <p:spPr>
          <a:xfrm rot="196800">
            <a:off x="5866920" y="259920"/>
            <a:ext cx="2954520" cy="2711520"/>
          </a:xfrm>
          <a:prstGeom prst="rect">
            <a:avLst/>
          </a:prstGeom>
          <a:ln w="9360">
            <a:solidFill>
              <a:srgbClr val="000000"/>
            </a:solidFill>
            <a:miter/>
          </a:ln>
        </p:spPr>
      </p:pic>
      <p:sp>
        <p:nvSpPr>
          <p:cNvPr id="744" name="Rectangle 6"/>
          <p:cNvSpPr/>
          <p:nvPr/>
        </p:nvSpPr>
        <p:spPr>
          <a:xfrm>
            <a:off x="395280" y="333000"/>
            <a:ext cx="5216400" cy="12200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VIII тысячелетии до н.э. в северо-восточной Африке, в нижнем течении реки Нил, возникли первые египетские города: Мемфис, Иераконполь и др. </a:t>
            </a:r>
            <a:endParaRPr b="0" lang="en-US" sz="2000" spc="-1" strike="noStrike">
              <a:solidFill>
                <a:srgbClr val="000000"/>
              </a:solidFill>
              <a:latin typeface="Tahoma"/>
            </a:endParaRPr>
          </a:p>
        </p:txBody>
      </p:sp>
      <p:sp>
        <p:nvSpPr>
          <p:cNvPr id="745" name="Rectangle 7"/>
          <p:cNvSpPr/>
          <p:nvPr/>
        </p:nvSpPr>
        <p:spPr>
          <a:xfrm>
            <a:off x="395280" y="1772640"/>
            <a:ext cx="5025960" cy="21348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рошло несколько десятков веков, и к III тысячелетию до н.э., в результате объединения царств Верхнего и Нижнего Египта, сложилось одно из древнейших государств на Земле, породившее замечательную и великую культуру Древнего Востока, </a:t>
            </a:r>
            <a:endParaRPr b="0" lang="en-US" sz="2000" spc="-1" strike="noStrike">
              <a:solidFill>
                <a:srgbClr val="000000"/>
              </a:solidFill>
              <a:latin typeface="Tahoma"/>
            </a:endParaRPr>
          </a:p>
        </p:txBody>
      </p:sp>
      <p:sp>
        <p:nvSpPr>
          <p:cNvPr id="746" name="Rectangle 8"/>
          <p:cNvSpPr/>
          <p:nvPr/>
        </p:nvSpPr>
        <p:spPr>
          <a:xfrm>
            <a:off x="324000" y="3995280"/>
            <a:ext cx="8820000" cy="1829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искусстве существует прямая традиция, передаваемая от мастера к ученику, от ученика к ценителю или копиисту, связывающая загадочные ранние формы художественного творчества с культурой нашего времени. “Она соединяет нынешнее искусство – любое современное здание, любой плакат – с искусством, возникшим пять тысячелетий назад в долине Нила”.  </a:t>
            </a:r>
            <a:endParaRPr b="0" lang="en-US" sz="2000" spc="-1" strike="noStrike">
              <a:solidFill>
                <a:srgbClr val="000000"/>
              </a:solidFill>
              <a:latin typeface="Tahoma"/>
            </a:endParaRPr>
          </a:p>
        </p:txBody>
      </p:sp>
      <p:sp>
        <p:nvSpPr>
          <p:cNvPr id="747" name="Rectangle 9"/>
          <p:cNvSpPr/>
          <p:nvPr/>
        </p:nvSpPr>
        <p:spPr>
          <a:xfrm>
            <a:off x="324000" y="5943240"/>
            <a:ext cx="7583400" cy="9151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Школу египтян прошли греческие мастера, а все мы – выученики греков. Поэтому искусство Древнего Египта для нас чрезвычайно важно. </a:t>
            </a:r>
            <a:endParaRPr b="0" lang="en-US" sz="2000" spc="-1" strike="noStrike">
              <a:solidFill>
                <a:srgbClr val="000000"/>
              </a:solidFill>
              <a:latin typeface="Tahoma"/>
            </a:endParaRPr>
          </a:p>
        </p:txBody>
      </p:sp>
      <p:sp>
        <p:nvSpPr>
          <p:cNvPr id="7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9" name="Picture 5" descr="stock"/>
          <p:cNvPicPr/>
          <p:nvPr/>
        </p:nvPicPr>
        <p:blipFill>
          <a:blip r:embed="rId1"/>
          <a:stretch/>
        </p:blipFill>
        <p:spPr>
          <a:xfrm rot="21081000">
            <a:off x="250920" y="260280"/>
            <a:ext cx="2666880" cy="2448000"/>
          </a:xfrm>
          <a:prstGeom prst="rect">
            <a:avLst/>
          </a:prstGeom>
          <a:ln w="0">
            <a:noFill/>
          </a:ln>
        </p:spPr>
      </p:pic>
      <p:pic>
        <p:nvPicPr>
          <p:cNvPr id="750" name="Picture 9" descr="Картинка 2 из 7687">
            <a:hlinkClick r:id="rId2"/>
          </p:cNvPr>
          <p:cNvPicPr/>
          <p:nvPr/>
        </p:nvPicPr>
        <p:blipFill>
          <a:blip r:embed="rId3"/>
          <a:stretch/>
        </p:blipFill>
        <p:spPr>
          <a:xfrm rot="614400">
            <a:off x="324000" y="2781360"/>
            <a:ext cx="2519280" cy="1890720"/>
          </a:xfrm>
          <a:prstGeom prst="rect">
            <a:avLst/>
          </a:prstGeom>
          <a:ln w="0">
            <a:noFill/>
          </a:ln>
        </p:spPr>
      </p:pic>
      <p:sp>
        <p:nvSpPr>
          <p:cNvPr id="751" name="Rectangle 10"/>
          <p:cNvSpPr/>
          <p:nvPr/>
        </p:nvSpPr>
        <p:spPr>
          <a:xfrm>
            <a:off x="3059280" y="-307080"/>
            <a:ext cx="5889600" cy="7107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Родоначальником всего живого и божественного в египетской религии считается бог Атум. Согласно легенде он появился из хаоса. Затем он создал первую божественную пару бога Шу и богиню Тефнут.  Шу - бог, олицетворяющий пространство между небом и землей, разделяющий небо и землю. Тефнут - женское дополнение Шу. Эта пара родила бога Геба и богиню Нут. Геб - это бог Земли, или по сути сама Земля. Нут - богиня Неба, или также само Небо. По представлению древних египтян вверху находится Нут, внизу Геб, а между ними Шу и Тефнут. От Геба и Нут произошли две пары - Осирис. и Исида, Сетх и Нефтида. Осирис и его жена Исида являются самыми важными фигурами египетского пантеона (все многообразие богов и божеств кой - либо религии). Осирис являлся богом растительности. По легенде он родился первым из пяти божеств, за ним родились Хор Старший, Сетх, Исида и Нефтида. </a:t>
            </a:r>
            <a:endParaRPr b="0" lang="en-US" sz="2000" spc="-1" strike="noStrike">
              <a:solidFill>
                <a:srgbClr val="000000"/>
              </a:solidFill>
              <a:latin typeface="Tahoma"/>
            </a:endParaRPr>
          </a:p>
        </p:txBody>
      </p:sp>
      <p:sp>
        <p:nvSpPr>
          <p:cNvPr id="7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3" name="Rectangle 4"/>
          <p:cNvSpPr/>
          <p:nvPr/>
        </p:nvSpPr>
        <p:spPr>
          <a:xfrm>
            <a:off x="324000" y="259200"/>
            <a:ext cx="6684840" cy="703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ажное место в египетском пантеоне занимал бог Ра. Он являлся богом солнца, богом света. </a:t>
            </a:r>
            <a:endParaRPr b="0" lang="en-US" sz="2000" spc="-1" strike="noStrike">
              <a:solidFill>
                <a:srgbClr val="000000"/>
              </a:solidFill>
              <a:latin typeface="Tahoma"/>
            </a:endParaRPr>
          </a:p>
        </p:txBody>
      </p:sp>
      <p:sp>
        <p:nvSpPr>
          <p:cNvPr id="754" name="Rectangle 5"/>
          <p:cNvSpPr/>
          <p:nvPr/>
        </p:nvSpPr>
        <p:spPr>
          <a:xfrm>
            <a:off x="115920" y="1128960"/>
            <a:ext cx="9028080" cy="703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анх - это крест, у которого вместо верхней палочки находиться круг. В средневековой алхимии анх являлся символом бессмертия.</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5" name="Rectangle 6"/>
          <p:cNvSpPr/>
          <p:nvPr/>
        </p:nvSpPr>
        <p:spPr>
          <a:xfrm>
            <a:off x="1187280" y="1992600"/>
            <a:ext cx="775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Идеалом высшей мудрости и правды, олицетворением лучших сторон человеческой природы, воплощением ума у египтян являлся бог Тот.</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6" name="Rectangle 8"/>
          <p:cNvSpPr/>
          <p:nvPr/>
        </p:nvSpPr>
        <p:spPr>
          <a:xfrm>
            <a:off x="395280" y="3283200"/>
            <a:ext cx="845820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ог Пта Был один из главных богов- это солнце и луна одновременно. Он считался покровителем ремесел. Иногда он считался верховным богом, творцом всех богов и мира</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7" name="Rectangle 9"/>
          <p:cNvSpPr/>
          <p:nvPr/>
        </p:nvSpPr>
        <p:spPr>
          <a:xfrm>
            <a:off x="539640" y="4325040"/>
            <a:ext cx="83757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ог Амон считался всесущим божеством воздуха и ветра, которое наполняет весь видимый мир, дает жизнь всему живущему</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9" name="Picture 5" descr="stock"/>
          <p:cNvPicPr/>
          <p:nvPr/>
        </p:nvPicPr>
        <p:blipFill>
          <a:blip r:embed="rId1"/>
          <a:stretch/>
        </p:blipFill>
        <p:spPr>
          <a:xfrm rot="21285000">
            <a:off x="250920" y="620640"/>
            <a:ext cx="2232000" cy="2048040"/>
          </a:xfrm>
          <a:prstGeom prst="rect">
            <a:avLst/>
          </a:prstGeom>
          <a:ln w="9360">
            <a:solidFill>
              <a:srgbClr val="000000"/>
            </a:solidFill>
            <a:miter/>
          </a:ln>
        </p:spPr>
      </p:pic>
      <p:sp>
        <p:nvSpPr>
          <p:cNvPr id="760" name="Rectangle 6"/>
          <p:cNvSpPr/>
          <p:nvPr/>
        </p:nvSpPr>
        <p:spPr>
          <a:xfrm>
            <a:off x="2700360" y="35280"/>
            <a:ext cx="6248520" cy="670860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Мифология древнего Египта считается одной из самых развитых и богатых, известных за всю историю существования древних цивилизаций. Начало формирования её относят к 6-4 тысячелетию до нашей эры. С тех пор, за долго до существования классового общества она претерпела существенные изменения.  Поклонение божествам прошло свой путь эволюции от скромного культа местного божка до помпезного почитания их во всём Египте. Это имело отношение к возвеличиванию той или иной династии, которая в свою очередь покланялась некоему мифологическому персонажу. Ярким примером этого может служить распространение культа богини города Саис Нейт в 7 -6 веках до нашей эры одновременно с воцарением 26 Саисской династии. На заре формирования египетской мифологии местное божество было у каждой области. Местные боги имели различное воплощение- это могло быть животное, птица, дерево, камень или даже природное явление. </a:t>
            </a:r>
            <a:endParaRPr b="0" lang="en-US" sz="2000" spc="-1" strike="noStrike">
              <a:solidFill>
                <a:srgbClr val="000000"/>
              </a:solidFill>
              <a:latin typeface="Tahoma"/>
            </a:endParaRPr>
          </a:p>
        </p:txBody>
      </p:sp>
      <p:pic>
        <p:nvPicPr>
          <p:cNvPr id="761" name="Picture 8" descr="Картинка 2 из 7687">
            <a:hlinkClick r:id="rId2"/>
          </p:cNvPr>
          <p:cNvPicPr/>
          <p:nvPr/>
        </p:nvPicPr>
        <p:blipFill>
          <a:blip r:embed="rId3"/>
          <a:stretch/>
        </p:blipFill>
        <p:spPr>
          <a:xfrm rot="568800">
            <a:off x="250560" y="2636640"/>
            <a:ext cx="2268360" cy="1701720"/>
          </a:xfrm>
          <a:prstGeom prst="rect">
            <a:avLst/>
          </a:prstGeom>
          <a:ln w="0">
            <a:noFill/>
          </a:ln>
        </p:spPr>
      </p:pic>
      <p:sp>
        <p:nvSpPr>
          <p:cNvPr id="7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2T12:00:46Z</dcterms:created>
  <dc:creator>www.PHILka.RU</dc:creator>
  <dc:description/>
  <dc:language>en-US</dc:language>
  <cp:lastModifiedBy>LEGION</cp:lastModifiedBy>
  <dcterms:modified xsi:type="dcterms:W3CDTF">2014-12-30T11:54:27Z</dcterms:modified>
  <cp:revision>8</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40a000000000001023620</vt:lpwstr>
  </property>
</Properties>
</file>