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7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4363-A93B-47C4-9FC9-93259DB9AAF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E6F6-84F2-4307-A14F-1037CD43F962}"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84E7-8073-4D89-AA0A-AE62A3D9B59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E20C-B9D0-4DC2-B26A-6752BF9CCD70}"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ccff"/>
                </a:solidFill>
                <a:latin typeface="Impact"/>
              </a:rPr>
              <a:t>Содержание</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очему Египет так называют?</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ультур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Религия</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скусство</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Боги</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Миф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рамид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арт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сьменность</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ероглиф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0E65-56C1-4F96-9563-935D75482F1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Calibri"/>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200"/>
            </a:br>
            <a:r>
              <a:rPr b="1" lang="ru-RU" sz="1200" spc="-1" strike="noStrike">
                <a:solidFill>
                  <a:srgbClr val="1f497d"/>
                </a:solidFill>
                <a:latin typeface="Calibri"/>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200"/>
            </a:br>
            <a:r>
              <a:rPr b="1" lang="ru-RU" sz="1200" spc="-1" strike="noStrike">
                <a:solidFill>
                  <a:srgbClr val="1f497d"/>
                </a:solidFill>
                <a:latin typeface="Calibri"/>
              </a:rPr>
              <a:t>Так что наше слово «Египет» тоже очень древнее, но оно пришло из древнегреческо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E308-9CDE-43F2-B532-F10AEFCC27C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ивилизация Древнего Египта насчитывает более 3000 лет. В конце </a:t>
            </a:r>
            <a:r>
              <a:rPr b="0" lang="en-US" sz="1200" spc="-1" strike="noStrike">
                <a:solidFill>
                  <a:srgbClr val="000000"/>
                </a:solidFill>
                <a:latin typeface="Calibri"/>
              </a:rPr>
              <a:t>IV</a:t>
            </a:r>
            <a:r>
              <a:rPr b="0" lang="ru-RU" sz="1200" spc="-1" strike="noStrike">
                <a:solidFill>
                  <a:srgbClr val="000000"/>
                </a:solidFill>
                <a:latin typeface="Calibri"/>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D624-71B6-40F6-954C-F142B67B259C}"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3CC7-CA63-4EC9-8941-837489DBA0BE}"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у египтян прошли греческие мастера, а все мы – выученики греков. Поэтому искусство Древнего Египта для нас чрезвычайно ва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67FC-AA24-4B99-B03F-30E1A70BCDC0}"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48CD-CE89-45CE-A0D3-C4687CD83F99}"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е место в египетском пантеоне занимал бог Ра. Он являлся богом солнца, богом све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х - это крест, у которого вместо верхней палочки находиться круг. В средневековой алхимии анх являлся символом бессмер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ом высшей мудрости и правды, олицетворением лучших сторон человеческой природы, воплощением ума у египтян являлся бог То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Амон считался всесущим божеством воздуха и ветра, которое наполняет весь видимый мир, дает жизнь всему живущем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25C5-8446-4849-A443-97B99EB72ED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B9F5-2725-4EA2-97F6-53BC9BE769A2}"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E2192-9767-4CB8-A62D-46EAB34AB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72BE6-A8E8-4835-9B39-6DE791BA9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642EDF-79E1-45BF-B9E5-9BE93F3161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1C387C-5A05-4CCA-80DB-34ADDCF7A0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2D9FC7-900B-4C15-BB21-656EC5FCEF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552EAC-A67A-4116-83F5-D9F845E0A1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41737-88F4-42EC-9486-38A195AA7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D37FC-8021-469D-9139-B7DCD2A572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C52768-CB80-45DB-8F19-BA91C5DC41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E9125A-FFC2-4124-A11F-8B3CEC2036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CF6418-C59C-40C0-819A-5298EF1965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B69706-B0E0-431D-AC38-C79FAB84CF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50AB2-0236-41EC-AF80-5AFAFA52B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E007A8-EE5A-4EF3-BA03-3E83C990A0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D9281E-72AB-44C0-95DD-C5328C0230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DBFA3B-291B-4B16-9A08-13F6356377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ED5D5A-938D-42E8-89C0-9C1952C4F5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A53BBB-1468-46BF-B29B-BF4D289F47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5A4CFF-68C0-453D-B724-40C4E5B7F4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35B34A-3F30-453D-89B4-E47FB9F433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7107CA-84E6-4AD6-BE25-AEEA421383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5030C2-DCC1-4D8B-B181-9893D50A03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2BBD3A-A77E-4659-A4ED-4D0E67DD7F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AF41A-9B1A-4BEB-B0F6-F906E30F0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2C3C62-4870-4520-9C4E-587F662F91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40326E-B8FC-4A1B-ACA2-49FA09064C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F164D4-BD29-4F05-B7CD-C5A814C3D4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375A8D-56AB-4609-BC45-C4C71CB433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ABF807-039A-4099-9A2E-31CB7F9764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EFEA38-760B-4331-88AC-203D8B6AEC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1E2178-5D35-4A92-9B62-AE87379C4B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B7901B-DA79-4845-ADCE-73D5D1229B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189784-739B-4D3D-B413-FA4EE32646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F662E4-F925-44DD-9FC0-9980B974DF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52090-7A86-411D-A841-BB49C6D7D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285534-277F-4065-BFC3-85A963FD9A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45BAE1-566C-4BD0-8694-16750DB1C2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394664E-101C-44C5-96C5-06098EA0E7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B21690-136C-4D07-9C51-2C2EB19626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C7943F-3E2D-4962-A84C-851B18FE22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AEF9EB-5FFB-4A17-9F40-BCAB5C19FD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0D6A34-121A-429F-BCEB-01A9DDE82E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7BD8C9-3142-4A4C-AD96-1D56227302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DE67E6-015B-4222-AF5C-474C46549C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3544B0-4264-416F-84B5-0F5778B8AF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9ED42-8B68-4FBA-BE1C-D9E822A69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C8A046-D600-4FE6-A37F-D1E45B7E99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53A739-2FD0-44C4-9BF1-3EFBCC8302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5BB7F0-FBF3-4C55-BCE1-CD64D83B98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C4FA4E2-57CC-4D8F-A8D7-FB78B9D2230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0475C0-023C-4244-877C-C66CA895BC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B228A00-3592-483C-B65E-EADB525EF3A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204194-EC45-4AFC-9E1C-08A15CDAAE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587C0E-4117-4832-88AA-8AF8C00822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069D29-614A-4AFA-99BB-1E03966800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9152D2-638F-4BDE-8C99-50DC0DA544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2AF1F-B20C-401B-998E-0642A1826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42BFFB-3531-4AD7-B36B-86F4E39DDD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CD16E0-D2BA-4510-89EA-C7370D78F5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69D2E8-9716-44FC-95AD-918BD783B3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2013B9-A656-4AB7-A247-CA8B03A0AA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FEABE8-D26C-4903-9D95-88A4AF17B4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3F9A33-FCEE-4691-9E0D-7901A1E1EC2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E2444F-73CC-4417-AE31-64C6EBE364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C62B90C-AC4E-4462-BA8D-7EF7EEC2FB4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C10438-D3B9-4342-AE1F-C6275608FAB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186DA9-08F2-4CDD-82AF-5333766169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8B19D-ADDC-4A43-8CC9-8A8567325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DC7A02-DCF4-4ABC-9FDA-6AA61F1E85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7D19DD-C6A2-420E-973F-E459C5D126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E0479A-9355-43F6-9A81-6B77FA2EDB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9A6C19-951C-42FD-B38A-D3458CB4DC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E335AE-0B65-4FBD-BE00-CEB0E268A1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F278B5-BECB-4884-8444-12B93E987A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1D3147-035D-43F8-B5ED-80AC6757B3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5408F2-A8BA-4BCA-9C7D-623F18ACF90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DE9C92-ECF7-4E43-A872-E4CB672C17B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09D06A5-DCE1-47D0-B319-1143728469A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9D0C3-3292-4A1F-94B8-A58C20AE8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C4B4D11-17D4-4144-89A9-E9BB82FC71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43DCB76-ABE5-4815-BF83-92013110B8F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8051666-8266-4BB2-89C6-A16A9C2183D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43A3A1-F938-4679-94A4-AD41A2A0AE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5283D0-0F65-4338-813D-FA6226BC10C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754C16-B03C-4321-AC96-8887FE3B1A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F0AC23-03B4-4017-B669-BE6ADAA824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183711-A736-44E5-928D-2D42BCEAD8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1B4053-1CA0-4B8C-B445-8CA123F1C6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1A66C42-EF89-4B6C-9817-F5DD8D4CB82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5A33B-5A9E-4BFA-AD63-6439C24C2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22E2B35-B2DB-4835-9345-F6CB7387132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6E15A63-6BBD-4325-8814-05AEDBF0E3E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B6097C8-4270-4751-ACFF-128029090E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1ADD98-6257-40B5-A668-40853B974C5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837B1D-7B1E-45F6-A59B-7608A8DC617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766EA7-8BE5-42E5-BEE1-963206B1CC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9958262-239F-4387-B593-74D3C70AC3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E9B723-FB7F-43F2-A4DE-09FC57F353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DE2DCE-A709-43F8-B719-84CAE5D165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1E1B10-B047-44E9-9A35-D52C7C7FD6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6DFD2-E662-4D93-B989-3406CD4C3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7A50807-1819-4439-877D-A68CFF96E15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64FEE33-45F8-4D1E-B4E2-100D7C331A8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24FAB64-3EA4-4773-9A31-D83EC08AEF3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5D68F6C-FA9D-4188-9C29-0529E6F0B3B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CCF9EB1-DAC0-4C51-85E2-BA734BB6AC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09815C-D426-4603-A81D-DAD570E444A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9F00D13-9C4E-4A92-ADD8-6A33E770F2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8B2BC78-DC25-4657-8E96-3B0D597D12D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B504C1-16A3-4AED-9BE4-FCD9BC8AE1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A334811-A84F-45C6-8862-1137F058E9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C2CAA-A2EE-4541-83CF-80547A2B8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D8C61-7BBB-4AE9-BA02-65292D0D3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3D761A-3CC5-4BEF-BFCE-BCC5CB9C30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8B0E973-69B9-445D-8BF0-7304E3C57A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A8B628A-B56F-4D78-A832-D73C85F5693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6DFED1C-0A79-4551-BA56-6E06C8E7A65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4E115EC-870F-413F-AE16-1787176EB34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F0CFC-6267-454F-B9E0-ED2FCAC6D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9E59B-9715-4199-A912-8AA14ADFC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F5EFB-7BF0-471E-8FD9-45D086AF9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49649-6B0C-4C0C-9E3B-7286B061C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49ED20-43F0-47E3-8507-7BB7345A3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2DF17-A72D-458D-BC93-F14B38DF4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E03791-DF09-4109-A0E9-E48AD28A4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541EE7-1742-4F1B-97FE-503E27939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EF69B8-4FF3-4EA3-A450-763E895A7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0F09-24D5-4AE1-A008-D4C4205AA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742F4-BFF6-468D-B874-53910A003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C5707-D228-4A2D-96C4-F285918C5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DB29F-11E3-416C-B01A-FDA47CDED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28F8D-6BDE-4357-AE93-6EDCD1B6E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E2D7F-FA9A-462A-93C7-D3FB477DA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27C9BF-60A5-4007-A6E5-31FC0298F5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DE9669-06C8-4910-8B8F-AB26254F2A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F5AEB6-0024-4F56-93C9-A91BBC59BC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D21ABC-3363-4056-B386-7AA1432C6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AB0F08-F77B-4263-8820-2CFC2BDC8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FAD50-9575-4E3A-9B9C-E81FF2CD5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A1F7CD-E512-4A55-AAC8-8C82D13B0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43735-DCDA-48A8-86D2-E45499D87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DC6C37-6840-475B-8175-2467AC1C9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73196-8BDA-4E22-B0A6-A5BFF8669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49C8E-4A24-44EF-BDE4-65D7ACAF2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508EA-E88D-4C0C-BD49-568747D9A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9AE1C5-FAF4-4E89-8644-8D556501F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C760DB-F03F-46CD-83CD-28705C6760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E05B62-8CB9-4620-BFF4-730429A539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5F9FEC-871C-4EBB-8588-4A1D8AD376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A6F58-40D0-4215-822D-B28C962CA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229D6D-9711-4EB6-B604-0FA60E9F8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2B7E32-9AF6-4696-BA24-0B06E7C171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17739D-1421-453E-B368-71DFB8F30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E4410C-636C-4795-B116-556DF7A53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B2A37-E058-4342-90EA-65D8AAE358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14140-2B05-4BED-99D6-6C4C968BD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9629C3-279F-499E-842F-79D9A1C44C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9F80F-26CA-4F12-873A-A31607E58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56BBB-2664-4D6F-B266-474C01C8E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3EACA3-6E35-4260-8F01-CCBFEBF052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92C09-7F69-4A9F-A34C-FDAB037A7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FCB34A-23D3-483B-B054-8170A30052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A1E38B-C56B-44D6-A09E-E528F7737C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032CC2-E55F-4864-8ECE-2E55CD117C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D8BAA-23F9-4DB1-ADE1-63BE3A59CA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5EEF8-4F83-4951-AC0E-3E79957F66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D34E6-4199-415E-B634-230F5A43F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B57232-4383-4173-A4B4-988431090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41BE8-839C-49FF-B87F-3C06EBB44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59DB3-985C-43D1-B3E5-B59686BDF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5A3D6-2B54-4D54-B7E4-2D33BE494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D142C-BA45-428D-8847-1B1688D5B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CAC94C-92B6-451F-B567-C4C6E1EC83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937082-067C-4A19-A631-4F9CE1074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A2E519-8D5A-4B1D-A53C-C383C3449E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7AC0E9-898F-4B87-92D4-E5EAF7F473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1E1D93-6447-497A-AA7B-1518719B1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288E43-2EFE-41C8-A6FD-6C642C62B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3D8944-0F69-49AD-9E63-212A826CF1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7A7471-5EF5-422E-B8EB-B5FD24479D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2AAF9-675D-4014-BAFA-34825353B7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7A68A-FC62-47D0-9364-4FC5FF91C4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17326-CB8B-43D9-9FB0-DA310B3F9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2D9868-4670-47F5-8C1B-FC257EEBD9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BEC48-B46F-4866-9D63-D209D0718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1C11D-EADF-4A7A-B4D1-C695B961A5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AF4661-90F8-4F88-B901-53A0180F07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958DC6-B836-404C-A2B6-C2E7D46267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5C0AB2-9E58-4426-BBF9-182ED61E23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FC8C7A-889E-46FC-A8AD-6CBEF42EFF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387B42-AC14-43D0-BB1C-A764BA1D0D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613350-1DA2-4C81-A475-DF0BAB5F04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E57C0-7E35-4CD9-95DF-F445683A9C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12B68-71DE-44F5-ACAD-88F3A6ABB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8782BD-05F5-4BCB-9AA2-3A777C732A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D64694-23D0-4903-83F2-13AF4206F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BD0B4-017E-48CA-8AF4-B74AEF99D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891203-FAF5-4997-B611-10E22B9F5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26B18-3A34-4D0C-B133-0D750F25A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00AA40-C52E-4E68-BA22-9C93EB5EFA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275BC7-E7C0-4EC7-9ABB-6C5FB73B40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6DF622-E4B5-4740-BF5C-F243026DB6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3E71D4-613D-4AF9-871F-FE678D7FE5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57CE3B-FF62-4FD3-B495-1E453D2858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0BD5-35F9-4289-A773-136D37977B85}"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8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85"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PlaceHolder 4"/>
          <p:cNvSpPr>
            <a:spLocks noGrp="1"/>
          </p:cNvSpPr>
          <p:nvPr>
            <p:ph type="ftr" idx="29"/>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87" name="PlaceHolder 5"/>
          <p:cNvSpPr>
            <a:spLocks noGrp="1"/>
          </p:cNvSpPr>
          <p:nvPr>
            <p:ph type="sldNum" idx="3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D3F5-90CA-4698-81D3-D8970CDCC686}"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26"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28"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FD06-7BF4-4203-8AB4-7E90FDE4DAD5}"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65"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6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69"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71"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B145-15A0-4F39-83A9-BE1FAF2F71DE}"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08"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13" name="PlaceHolder 3"/>
          <p:cNvSpPr>
            <a:spLocks noGrp="1"/>
          </p:cNvSpPr>
          <p:nvPr>
            <p:ph type="dt" idx="3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PlaceHolder 4"/>
          <p:cNvSpPr>
            <a:spLocks noGrp="1"/>
          </p:cNvSpPr>
          <p:nvPr>
            <p:ph type="ftr" idx="38"/>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15" name="PlaceHolder 5"/>
          <p:cNvSpPr>
            <a:spLocks noGrp="1"/>
          </p:cNvSpPr>
          <p:nvPr>
            <p:ph type="sldNum" idx="3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D80E-E1D3-4FE0-890B-F1524E5F147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54" name="PlaceHolder 3"/>
          <p:cNvSpPr>
            <a:spLocks noGrp="1"/>
          </p:cNvSpPr>
          <p:nvPr>
            <p:ph type="dt" idx="4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PlaceHolder 4"/>
          <p:cNvSpPr>
            <a:spLocks noGrp="1"/>
          </p:cNvSpPr>
          <p:nvPr>
            <p:ph type="ftr" idx="4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56" name="PlaceHolder 5"/>
          <p:cNvSpPr>
            <a:spLocks noGrp="1"/>
          </p:cNvSpPr>
          <p:nvPr>
            <p:ph type="sldNum" idx="4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529D-A614-4CF8-8220-5C4F83267344}"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95" name="PlaceHolder 3"/>
          <p:cNvSpPr>
            <a:spLocks noGrp="1"/>
          </p:cNvSpPr>
          <p:nvPr>
            <p:ph type="dt" idx="4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PlaceHolder 4"/>
          <p:cNvSpPr>
            <a:spLocks noGrp="1"/>
          </p:cNvSpPr>
          <p:nvPr>
            <p:ph type="ftr" idx="4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97" name="PlaceHolder 5"/>
          <p:cNvSpPr>
            <a:spLocks noGrp="1"/>
          </p:cNvSpPr>
          <p:nvPr>
            <p:ph type="sldNum" idx="4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FC9E-FB5B-4A3D-98FC-5A6FB8F83C52}"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3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36"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38" name="PlaceHolder 5"/>
          <p:cNvSpPr>
            <a:spLocks noGrp="1"/>
          </p:cNvSpPr>
          <p:nvPr>
            <p:ph type="sldNum" idx="48"/>
          </p:nvPr>
        </p:nvSpPr>
        <p:spPr>
          <a:xfrm>
            <a:off x="6843240" y="6314400"/>
            <a:ext cx="140112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C435-1CC1-4268-9A56-C1DE126CEAAB}"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77"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PlaceHolder 4"/>
          <p:cNvSpPr>
            <a:spLocks noGrp="1"/>
          </p:cNvSpPr>
          <p:nvPr>
            <p:ph type="ftr" idx="5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79" name="PlaceHolder 5"/>
          <p:cNvSpPr>
            <a:spLocks noGrp="1"/>
          </p:cNvSpPr>
          <p:nvPr>
            <p:ph type="sldNum" idx="5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D046-D159-4824-9D57-037DC532C1E7}"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4CA8-0582-4BBC-A476-7396679DE58E}"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04B7-0D3A-43CB-8659-B23E47611821}"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2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29"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4EEE-36CC-44DE-BE75-76C2EB8BAF1D}"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66"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7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75"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BAB4-685F-4339-B3E5-DBC310485FBA}"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1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1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1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C3EA-ED2F-4D39-800B-49E9AB8C81D7}"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5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4" name="Скругленный прямоугольник 10"/>
          <p:cNvGrpSpPr/>
          <p:nvPr/>
        </p:nvGrpSpPr>
        <p:grpSpPr>
          <a:xfrm>
            <a:off x="60480" y="60480"/>
            <a:ext cx="9028080" cy="6711840"/>
            <a:chOff x="60480" y="60480"/>
            <a:chExt cx="9028080" cy="6711840"/>
          </a:xfrm>
        </p:grpSpPr>
        <p:pic>
          <p:nvPicPr>
            <p:cNvPr id="255" name="Скругленный прямоугольник 10" descr=""/>
            <p:cNvPicPr/>
            <p:nvPr/>
          </p:nvPicPr>
          <p:blipFill>
            <a:blip r:embed="rId2"/>
            <a:stretch/>
          </p:blipFill>
          <p:spPr>
            <a:xfrm>
              <a:off x="60480" y="60480"/>
              <a:ext cx="9028080" cy="6711840"/>
            </a:xfrm>
            <a:prstGeom prst="rect">
              <a:avLst/>
            </a:prstGeom>
            <a:ln w="0">
              <a:noFill/>
            </a:ln>
          </p:spPr>
        </p:pic>
        <p:sp>
          <p:nvSpPr>
            <p:cNvPr id="256" name="Text Box 4"/>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7" name="Прямоугольник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Прямоугольник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Прямоугольник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64"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5268-9670-41A8-8720-408437754B5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30B2-2E28-4766-B485-7EAE229A1DA4}"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4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44"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46"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1283-CF78-4BE7-B2C7-E9576B861743}"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rt-trv.ru/gallery/files/1/egypt_pyramid.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otoart.org.ua/albums/userpics/foto_egypt_1.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pixdaus.com/pics/1210112365TlewSTf.jp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0" descr="top2"/>
          <p:cNvPicPr/>
          <p:nvPr/>
        </p:nvPicPr>
        <p:blipFill>
          <a:blip r:embed="rId1"/>
          <a:stretch/>
        </p:blipFill>
        <p:spPr>
          <a:xfrm>
            <a:off x="179280" y="1413000"/>
            <a:ext cx="5219640" cy="1969920"/>
          </a:xfrm>
          <a:prstGeom prst="rect">
            <a:avLst/>
          </a:prstGeom>
          <a:ln w="0">
            <a:noFill/>
          </a:ln>
        </p:spPr>
      </p:pic>
      <p:pic>
        <p:nvPicPr>
          <p:cNvPr id="724" name="Picture 11" descr="top1"/>
          <p:cNvPicPr/>
          <p:nvPr/>
        </p:nvPicPr>
        <p:blipFill>
          <a:blip r:embed="rId2"/>
          <a:stretch/>
        </p:blipFill>
        <p:spPr>
          <a:xfrm>
            <a:off x="5327640" y="189000"/>
            <a:ext cx="3816360" cy="2663640"/>
          </a:xfrm>
          <a:prstGeom prst="rect">
            <a:avLst/>
          </a:prstGeom>
          <a:ln w="0">
            <a:noFill/>
          </a:ln>
        </p:spPr>
      </p:pic>
      <p:pic>
        <p:nvPicPr>
          <p:cNvPr id="725" name="Picture 12" descr="МХК"/>
          <p:cNvPicPr/>
          <p:nvPr/>
        </p:nvPicPr>
        <p:blipFill>
          <a:blip r:embed="rId3"/>
          <a:stretch/>
        </p:blipFill>
        <p:spPr>
          <a:xfrm rot="20821200">
            <a:off x="324000" y="3716280"/>
            <a:ext cx="3089160" cy="2317680"/>
          </a:xfrm>
          <a:prstGeom prst="rect">
            <a:avLst/>
          </a:prstGeom>
          <a:ln w="9360">
            <a:solidFill>
              <a:srgbClr val="000000"/>
            </a:solidFill>
            <a:miter/>
          </a:ln>
        </p:spPr>
      </p:pic>
      <p:pic>
        <p:nvPicPr>
          <p:cNvPr id="726" name="Picture 13" descr="мхк_2"/>
          <p:cNvPicPr/>
          <p:nvPr/>
        </p:nvPicPr>
        <p:blipFill>
          <a:blip r:embed="rId4"/>
          <a:stretch/>
        </p:blipFill>
        <p:spPr>
          <a:xfrm rot="681600">
            <a:off x="5867280" y="3500280"/>
            <a:ext cx="2592360" cy="1944720"/>
          </a:xfrm>
          <a:prstGeom prst="rect">
            <a:avLst/>
          </a:prstGeom>
          <a:ln w="9360">
            <a:solidFill>
              <a:srgbClr val="000000"/>
            </a:solidFill>
            <a:miter/>
          </a:ln>
        </p:spPr>
      </p:pic>
      <p:sp>
        <p:nvSpPr>
          <p:cNvPr id="7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723"/>
                                        </p:tgtEl>
                                        <p:attrNameLst>
                                          <p:attrName>style.visibility</p:attrName>
                                        </p:attrNameLst>
                                      </p:cBhvr>
                                      <p:to>
                                        <p:strVal val="visible"/>
                                      </p:to>
                                    </p:set>
                                    <p:anim calcmode="lin" valueType="num">
                                      <p:cBhvr additive="repl">
                                        <p:cTn id="7"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10" dur="1000" fill="hold"/>
                                        <p:tgtEl>
                                          <p:spTgt spid="7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72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724"/>
                                        </p:tgtEl>
                                        <p:attrNameLst>
                                          <p:attrName>style.visibility</p:attrName>
                                        </p:attrNameLst>
                                      </p:cBhvr>
                                      <p:to>
                                        <p:strVal val="visible"/>
                                      </p:to>
                                    </p:set>
                                    <p:anim calcmode="lin" valueType="num">
                                      <p:cBhvr additive="repl">
                                        <p:cTn id="19" dur="500" fill="hold"/>
                                        <p:tgtEl>
                                          <p:spTgt spid="724"/>
                                        </p:tgtEl>
                                        <p:attrNameLst>
                                          <p:attrName>ppt_w</p:attrName>
                                        </p:attrNameLst>
                                      </p:cBhvr>
                                      <p:tavLst>
                                        <p:tav tm="0">
                                          <p:val>
                                            <p:strVal val="#ppt_w*0.05"/>
                                          </p:val>
                                        </p:tav>
                                        <p:tav tm="100000">
                                          <p:val>
                                            <p:strVal val="#ppt_w"/>
                                          </p:val>
                                        </p:tav>
                                      </p:tavLst>
                                    </p:anim>
                                    <p:anim calcmode="lin" valueType="num">
                                      <p:cBhvr additive="repl">
                                        <p:cTn id="20" dur="500" fill="hold"/>
                                        <p:tgtEl>
                                          <p:spTgt spid="724"/>
                                        </p:tgtEl>
                                        <p:attrNameLst>
                                          <p:attrName>ppt_h</p:attrName>
                                        </p:attrNameLst>
                                      </p:cBhvr>
                                      <p:tavLst>
                                        <p:tav tm="0">
                                          <p:val>
                                            <p:strVal val="#ppt_h"/>
                                          </p:val>
                                        </p:tav>
                                        <p:tav tm="100000">
                                          <p:val>
                                            <p:strVal val="#ppt_h"/>
                                          </p:val>
                                        </p:tav>
                                      </p:tavLst>
                                    </p:anim>
                                    <p:anim calcmode="lin" valueType="num">
                                      <p:cBhvr additive="repl">
                                        <p:cTn id="21" dur="500" fill="hold"/>
                                        <p:tgtEl>
                                          <p:spTgt spid="724"/>
                                        </p:tgtEl>
                                        <p:attrNameLst>
                                          <p:attrName>ppt_x</p:attrName>
                                        </p:attrNameLst>
                                      </p:cBhvr>
                                      <p:tavLst>
                                        <p:tav tm="0">
                                          <p:val>
                                            <p:strVal val="#ppt_x-.2"/>
                                          </p:val>
                                        </p:tav>
                                        <p:tav tm="100000">
                                          <p:val>
                                            <p:strVal val="#ppt_x"/>
                                          </p:val>
                                        </p:tav>
                                      </p:tavLst>
                                    </p:anim>
                                    <p:anim calcmode="lin" valueType="num">
                                      <p:cBhvr additive="repl">
                                        <p:cTn id="22" dur="500" fill="hold"/>
                                        <p:tgtEl>
                                          <p:spTgt spid="724"/>
                                        </p:tgtEl>
                                        <p:attrNameLst>
                                          <p:attrName>ppt_y</p:attrName>
                                        </p:attrNameLst>
                                      </p:cBhvr>
                                      <p:tavLst>
                                        <p:tav tm="0">
                                          <p:val>
                                            <p:strVal val="#ppt_y"/>
                                          </p:val>
                                        </p:tav>
                                        <p:tav tm="100000">
                                          <p:val>
                                            <p:strVal val="#ppt_y"/>
                                          </p:val>
                                        </p:tav>
                                      </p:tavLst>
                                    </p:anim>
                                    <p:animEffect filter="fade" transition="in">
                                      <p:cBhvr additive="repl">
                                        <p:cTn id="23" dur="500"/>
                                        <p:tgtEl>
                                          <p:spTgt spid="72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4">
                                  <p:stCondLst>
                                    <p:cond delay="0"/>
                                  </p:stCondLst>
                                  <p:childTnLst>
                                    <p:set>
                                      <p:cBhvr>
                                        <p:cTn id="27" dur="1" fill="hold">
                                          <p:stCondLst>
                                            <p:cond delay="0"/>
                                          </p:stCondLst>
                                        </p:cTn>
                                        <p:tgtEl>
                                          <p:spTgt spid="725"/>
                                        </p:tgtEl>
                                        <p:attrNameLst>
                                          <p:attrName>style.visibility</p:attrName>
                                        </p:attrNameLst>
                                      </p:cBhvr>
                                      <p:to>
                                        <p:strVal val="visible"/>
                                      </p:to>
                                    </p:set>
                                    <p:anim calcmode="lin" valueType="num">
                                      <p:cBhvr additive="repl">
                                        <p:cTn id="28" dur="500" fill="hold"/>
                                        <p:tgtEl>
                                          <p:spTgt spid="725"/>
                                        </p:tgtEl>
                                        <p:attrNameLst>
                                          <p:attrName>ppt_w</p:attrName>
                                        </p:attrNameLst>
                                      </p:cBhvr>
                                      <p:tavLst>
                                        <p:tav tm="0">
                                          <p:val>
                                            <p:strVal val="#ppt_w*0.05"/>
                                          </p:val>
                                        </p:tav>
                                        <p:tav tm="100000">
                                          <p:val>
                                            <p:strVal val="#ppt_w"/>
                                          </p:val>
                                        </p:tav>
                                      </p:tavLst>
                                    </p:anim>
                                    <p:anim calcmode="lin" valueType="num">
                                      <p:cBhvr additive="repl">
                                        <p:cTn id="29" dur="500" fill="hold"/>
                                        <p:tgtEl>
                                          <p:spTgt spid="725"/>
                                        </p:tgtEl>
                                        <p:attrNameLst>
                                          <p:attrName>ppt_h</p:attrName>
                                        </p:attrNameLst>
                                      </p:cBhvr>
                                      <p:tavLst>
                                        <p:tav tm="0">
                                          <p:val>
                                            <p:strVal val="#ppt_h"/>
                                          </p:val>
                                        </p:tav>
                                        <p:tav tm="100000">
                                          <p:val>
                                            <p:strVal val="#ppt_h"/>
                                          </p:val>
                                        </p:tav>
                                      </p:tavLst>
                                    </p:anim>
                                    <p:anim calcmode="lin" valueType="num">
                                      <p:cBhvr additive="repl">
                                        <p:cTn id="30" dur="500" fill="hold"/>
                                        <p:tgtEl>
                                          <p:spTgt spid="725"/>
                                        </p:tgtEl>
                                        <p:attrNameLst>
                                          <p:attrName>ppt_x</p:attrName>
                                        </p:attrNameLst>
                                      </p:cBhvr>
                                      <p:tavLst>
                                        <p:tav tm="0">
                                          <p:val>
                                            <p:strVal val="#ppt_x-.2"/>
                                          </p:val>
                                        </p:tav>
                                        <p:tav tm="100000">
                                          <p:val>
                                            <p:strVal val="#ppt_x"/>
                                          </p:val>
                                        </p:tav>
                                      </p:tavLst>
                                    </p:anim>
                                    <p:anim calcmode="lin" valueType="num">
                                      <p:cBhvr additive="repl">
                                        <p:cTn id="31" dur="500" fill="hold"/>
                                        <p:tgtEl>
                                          <p:spTgt spid="725"/>
                                        </p:tgtEl>
                                        <p:attrNameLst>
                                          <p:attrName>ppt_y</p:attrName>
                                        </p:attrNameLst>
                                      </p:cBhvr>
                                      <p:tavLst>
                                        <p:tav tm="0">
                                          <p:val>
                                            <p:strVal val="#ppt_y"/>
                                          </p:val>
                                        </p:tav>
                                        <p:tav tm="100000">
                                          <p:val>
                                            <p:strVal val="#ppt_y"/>
                                          </p:val>
                                        </p:tav>
                                      </p:tavLst>
                                    </p:anim>
                                    <p:animEffect filter="fade" transition="in">
                                      <p:cBhvr additive="repl">
                                        <p:cTn id="32" dur="500"/>
                                        <p:tgtEl>
                                          <p:spTgt spid="72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726"/>
                                        </p:tgtEl>
                                        <p:attrNameLst>
                                          <p:attrName>style.visibility</p:attrName>
                                        </p:attrNameLst>
                                      </p:cBhvr>
                                      <p:to>
                                        <p:strVal val="visible"/>
                                      </p:to>
                                    </p:set>
                                    <p:animEffect filter="checkerboard(across)" transition="in">
                                      <p:cBhvr additive="repl">
                                        <p:cTn id="37"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3" name="Picture 5" descr="stock"/>
          <p:cNvPicPr/>
          <p:nvPr/>
        </p:nvPicPr>
        <p:blipFill>
          <a:blip r:embed="rId1"/>
          <a:stretch/>
        </p:blipFill>
        <p:spPr>
          <a:xfrm rot="21342600">
            <a:off x="250920" y="0"/>
            <a:ext cx="2450880" cy="2249640"/>
          </a:xfrm>
          <a:prstGeom prst="rect">
            <a:avLst/>
          </a:prstGeom>
          <a:ln w="9360">
            <a:solidFill>
              <a:srgbClr val="000000"/>
            </a:solidFill>
            <a:miter/>
          </a:ln>
        </p:spPr>
      </p:pic>
      <p:pic>
        <p:nvPicPr>
          <p:cNvPr id="764" name="Picture 7" descr="Картинка 2 из 7687">
            <a:hlinkClick r:id="rId2"/>
          </p:cNvPr>
          <p:cNvPicPr/>
          <p:nvPr/>
        </p:nvPicPr>
        <p:blipFill>
          <a:blip r:embed="rId3"/>
          <a:stretch/>
        </p:blipFill>
        <p:spPr>
          <a:xfrm rot="329400">
            <a:off x="2484000" y="189000"/>
            <a:ext cx="2233800" cy="1785960"/>
          </a:xfrm>
          <a:prstGeom prst="rect">
            <a:avLst/>
          </a:prstGeom>
          <a:ln w="9360">
            <a:solidFill>
              <a:srgbClr val="000000"/>
            </a:solidFill>
            <a:miter/>
          </a:ln>
        </p:spPr>
      </p:pic>
      <p:sp>
        <p:nvSpPr>
          <p:cNvPr id="765" name="Rectangle 8"/>
          <p:cNvSpPr/>
          <p:nvPr/>
        </p:nvSpPr>
        <p:spPr>
          <a:xfrm>
            <a:off x="2755800" y="1691280"/>
            <a:ext cx="6388200" cy="51840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5" descr="main"/>
          <p:cNvPicPr/>
          <p:nvPr/>
        </p:nvPicPr>
        <p:blipFill>
          <a:blip r:embed="rId1"/>
          <a:stretch/>
        </p:blipFill>
        <p:spPr>
          <a:xfrm>
            <a:off x="250920" y="549360"/>
            <a:ext cx="3497040" cy="5761080"/>
          </a:xfrm>
          <a:prstGeom prst="rect">
            <a:avLst/>
          </a:prstGeom>
          <a:ln w="0">
            <a:noFill/>
          </a:ln>
        </p:spPr>
      </p:pic>
      <p:pic>
        <p:nvPicPr>
          <p:cNvPr id="768" name="Picture 7" descr="2"/>
          <p:cNvPicPr/>
          <p:nvPr/>
        </p:nvPicPr>
        <p:blipFill>
          <a:blip r:embed="rId2"/>
          <a:stretch/>
        </p:blipFill>
        <p:spPr>
          <a:xfrm>
            <a:off x="4284720" y="620640"/>
            <a:ext cx="3744720" cy="2490840"/>
          </a:xfrm>
          <a:prstGeom prst="rect">
            <a:avLst/>
          </a:prstGeom>
          <a:ln w="0">
            <a:noFill/>
          </a:ln>
        </p:spPr>
      </p:pic>
      <p:sp>
        <p:nvSpPr>
          <p:cNvPr id="769" name="Text Box 8"/>
          <p:cNvSpPr/>
          <p:nvPr/>
        </p:nvSpPr>
        <p:spPr>
          <a:xfrm>
            <a:off x="5991120" y="57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770" name="Text Box 9"/>
          <p:cNvSpPr/>
          <p:nvPr/>
        </p:nvSpPr>
        <p:spPr>
          <a:xfrm>
            <a:off x="6062040" y="3417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endParaRPr b="0" lang="en-US" sz="2000" spc="-1" strike="noStrike">
              <a:solidFill>
                <a:srgbClr val="000000"/>
              </a:solidFill>
              <a:latin typeface="Tahoma"/>
            </a:endParaRPr>
          </a:p>
        </p:txBody>
      </p:sp>
      <p:pic>
        <p:nvPicPr>
          <p:cNvPr id="771" name="Picture 11" descr="2"/>
          <p:cNvPicPr/>
          <p:nvPr/>
        </p:nvPicPr>
        <p:blipFill>
          <a:blip r:embed="rId3"/>
          <a:stretch/>
        </p:blipFill>
        <p:spPr>
          <a:xfrm>
            <a:off x="4356000" y="3933720"/>
            <a:ext cx="3527640" cy="2346480"/>
          </a:xfrm>
          <a:prstGeom prst="rect">
            <a:avLst/>
          </a:prstGeom>
          <a:ln w="0">
            <a:noFill/>
          </a:ln>
        </p:spPr>
      </p:pic>
      <p:sp>
        <p:nvSpPr>
          <p:cNvPr id="7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Picture 5" descr="3"/>
          <p:cNvPicPr/>
          <p:nvPr/>
        </p:nvPicPr>
        <p:blipFill>
          <a:blip r:embed="rId1"/>
          <a:stretch/>
        </p:blipFill>
        <p:spPr>
          <a:xfrm>
            <a:off x="2771640" y="5445000"/>
            <a:ext cx="6120000" cy="1181160"/>
          </a:xfrm>
          <a:prstGeom prst="rect">
            <a:avLst/>
          </a:prstGeom>
          <a:ln w="0">
            <a:noFill/>
          </a:ln>
        </p:spPr>
      </p:pic>
      <p:pic>
        <p:nvPicPr>
          <p:cNvPr id="774" name="Picture 7" descr="stock"/>
          <p:cNvPicPr/>
          <p:nvPr/>
        </p:nvPicPr>
        <p:blipFill>
          <a:blip r:embed="rId2"/>
          <a:stretch/>
        </p:blipFill>
        <p:spPr>
          <a:xfrm>
            <a:off x="324000" y="260280"/>
            <a:ext cx="2162160" cy="1984320"/>
          </a:xfrm>
          <a:prstGeom prst="rect">
            <a:avLst/>
          </a:prstGeom>
          <a:ln w="0">
            <a:noFill/>
          </a:ln>
        </p:spPr>
      </p:pic>
      <p:sp>
        <p:nvSpPr>
          <p:cNvPr id="775" name="Rectangle 8"/>
          <p:cNvSpPr/>
          <p:nvPr/>
        </p:nvSpPr>
        <p:spPr>
          <a:xfrm>
            <a:off x="3059280" y="251640"/>
            <a:ext cx="540360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2000"/>
            </a:br>
            <a:endParaRPr b="0" lang="en-US" sz="2000" spc="-1" strike="noStrike">
              <a:solidFill>
                <a:srgbClr val="000000"/>
              </a:solidFill>
              <a:latin typeface="Tahoma"/>
            </a:endParaRPr>
          </a:p>
        </p:txBody>
      </p:sp>
      <p:sp>
        <p:nvSpPr>
          <p:cNvPr id="776" name="Rectangle 9"/>
          <p:cNvSpPr/>
          <p:nvPr/>
        </p:nvSpPr>
        <p:spPr>
          <a:xfrm>
            <a:off x="395280" y="2275920"/>
            <a:ext cx="561672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2000"/>
            </a:br>
            <a:endParaRPr b="0" lang="en-US" sz="2000" spc="-1" strike="noStrike">
              <a:solidFill>
                <a:srgbClr val="000000"/>
              </a:solidFill>
              <a:latin typeface="Tahoma"/>
            </a:endParaRPr>
          </a:p>
        </p:txBody>
      </p:sp>
      <p:sp>
        <p:nvSpPr>
          <p:cNvPr id="7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5" descr="1"/>
          <p:cNvPicPr/>
          <p:nvPr/>
        </p:nvPicPr>
        <p:blipFill>
          <a:blip r:embed="rId1"/>
          <a:stretch/>
        </p:blipFill>
        <p:spPr>
          <a:xfrm>
            <a:off x="1692360" y="189000"/>
            <a:ext cx="5375160" cy="2906640"/>
          </a:xfrm>
          <a:prstGeom prst="rect">
            <a:avLst/>
          </a:prstGeom>
          <a:ln w="0">
            <a:noFill/>
          </a:ln>
        </p:spPr>
      </p:pic>
      <p:sp>
        <p:nvSpPr>
          <p:cNvPr id="779" name="Rectangle 6"/>
          <p:cNvSpPr/>
          <p:nvPr/>
        </p:nvSpPr>
        <p:spPr>
          <a:xfrm>
            <a:off x="3564000" y="3428640"/>
            <a:ext cx="4854600" cy="1524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2000" spc="-1" strike="noStrike">
              <a:solidFill>
                <a:srgbClr val="000000"/>
              </a:solidFill>
              <a:latin typeface="Tahoma"/>
            </a:endParaRPr>
          </a:p>
        </p:txBody>
      </p:sp>
      <p:sp>
        <p:nvSpPr>
          <p:cNvPr id="7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4"/>
          <p:cNvSpPr/>
          <p:nvPr/>
        </p:nvSpPr>
        <p:spPr>
          <a:xfrm>
            <a:off x="1239840" y="1284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5"/>
          <p:cNvSpPr/>
          <p:nvPr/>
        </p:nvSpPr>
        <p:spPr>
          <a:xfrm>
            <a:off x="826920" y="1628640"/>
            <a:ext cx="4896000" cy="34905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очему Египет так называют?</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ультур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Религия</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скусство</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Боги</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М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рамид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арт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сьменность</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ерогл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0" name="WordArt 6"/>
          <p:cNvSpPr txBox="1"/>
          <p:nvPr/>
        </p:nvSpPr>
        <p:spPr>
          <a:xfrm>
            <a:off x="1979640" y="189000"/>
            <a:ext cx="460836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держ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Rectangle 4"/>
          <p:cNvSpPr/>
          <p:nvPr/>
        </p:nvSpPr>
        <p:spPr>
          <a:xfrm>
            <a:off x="250920" y="283320"/>
            <a:ext cx="8675640" cy="5761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800"/>
            </a:br>
            <a:r>
              <a:rPr b="1" lang="ru-RU" sz="1800" spc="-1" strike="noStrike">
                <a:solidFill>
                  <a:srgbClr val="000000"/>
                </a:solidFill>
                <a:latin typeface="Tahoma"/>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800"/>
            </a:br>
            <a:r>
              <a:rPr b="1" lang="ru-RU" sz="1800" spc="-1" strike="noStrike">
                <a:solidFill>
                  <a:srgbClr val="000000"/>
                </a:solidFill>
                <a:latin typeface="Tahoma"/>
              </a:rPr>
              <a:t>Так что наше слово «Египет» тоже очень древнее, но оно пришло из древнегреческого. </a:t>
            </a:r>
            <a:endParaRPr b="0" lang="en-US" sz="1800" spc="-1" strike="noStrike">
              <a:solidFill>
                <a:srgbClr val="000000"/>
              </a:solidFill>
              <a:latin typeface="Tahoma"/>
            </a:endParaRPr>
          </a:p>
        </p:txBody>
      </p:sp>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5" descr="stock"/>
          <p:cNvPicPr/>
          <p:nvPr/>
        </p:nvPicPr>
        <p:blipFill>
          <a:blip r:embed="rId1"/>
          <a:stretch/>
        </p:blipFill>
        <p:spPr>
          <a:xfrm rot="334800">
            <a:off x="395280" y="1125000"/>
            <a:ext cx="2735280" cy="2509920"/>
          </a:xfrm>
          <a:prstGeom prst="rect">
            <a:avLst/>
          </a:prstGeom>
          <a:ln w="9360">
            <a:solidFill>
              <a:srgbClr val="000000"/>
            </a:solidFill>
            <a:miter/>
          </a:ln>
        </p:spPr>
      </p:pic>
      <p:sp>
        <p:nvSpPr>
          <p:cNvPr id="735" name="Rectangle 6"/>
          <p:cNvSpPr/>
          <p:nvPr/>
        </p:nvSpPr>
        <p:spPr>
          <a:xfrm>
            <a:off x="3564000" y="322920"/>
            <a:ext cx="5108400" cy="4269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Цивилизация Древнего Египта насчитывает более 3000 лет. В конце </a:t>
            </a:r>
            <a:r>
              <a:rPr b="0" lang="en-US" sz="2000" spc="-1" strike="noStrike">
                <a:solidFill>
                  <a:srgbClr val="000000"/>
                </a:solidFill>
                <a:latin typeface="Tahoma"/>
              </a:rPr>
              <a:t>IV</a:t>
            </a:r>
            <a:r>
              <a:rPr b="0" lang="ru-RU" sz="2000" spc="-1" strike="noStrike">
                <a:solidFill>
                  <a:srgbClr val="000000"/>
                </a:solidFill>
                <a:latin typeface="Tahoma"/>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2000" spc="-1" strike="noStrike">
              <a:solidFill>
                <a:srgbClr val="000000"/>
              </a:solidFill>
              <a:latin typeface="Tahoma"/>
            </a:endParaRPr>
          </a:p>
        </p:txBody>
      </p:sp>
      <p:sp>
        <p:nvSpPr>
          <p:cNvPr id="736" name="Rectangle 7"/>
          <p:cNvSpPr/>
          <p:nvPr/>
        </p:nvSpPr>
        <p:spPr>
          <a:xfrm>
            <a:off x="250920" y="4500000"/>
            <a:ext cx="455760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2000" spc="-1" strike="noStrike">
              <a:solidFill>
                <a:srgbClr val="000000"/>
              </a:solidFill>
              <a:latin typeface="Tahoma"/>
            </a:endParaRPr>
          </a:p>
        </p:txBody>
      </p:sp>
      <p:sp>
        <p:nvSpPr>
          <p:cNvPr id="7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5" descr="stock"/>
          <p:cNvPicPr/>
          <p:nvPr/>
        </p:nvPicPr>
        <p:blipFill>
          <a:blip r:embed="rId1"/>
          <a:stretch/>
        </p:blipFill>
        <p:spPr>
          <a:xfrm rot="21150600">
            <a:off x="324000" y="836640"/>
            <a:ext cx="3027240" cy="2778120"/>
          </a:xfrm>
          <a:prstGeom prst="rect">
            <a:avLst/>
          </a:prstGeom>
          <a:ln w="9360">
            <a:solidFill>
              <a:srgbClr val="000000"/>
            </a:solidFill>
            <a:miter/>
          </a:ln>
        </p:spPr>
      </p:pic>
      <p:sp>
        <p:nvSpPr>
          <p:cNvPr id="739" name="Rectangle 6"/>
          <p:cNvSpPr/>
          <p:nvPr/>
        </p:nvSpPr>
        <p:spPr>
          <a:xfrm>
            <a:off x="3708360" y="48600"/>
            <a:ext cx="511164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2000" spc="-1" strike="noStrike">
              <a:solidFill>
                <a:srgbClr val="000000"/>
              </a:solidFill>
              <a:latin typeface="Tahoma"/>
            </a:endParaRPr>
          </a:p>
        </p:txBody>
      </p:sp>
      <p:sp>
        <p:nvSpPr>
          <p:cNvPr id="740" name="Rectangle 7"/>
          <p:cNvSpPr/>
          <p:nvPr/>
        </p:nvSpPr>
        <p:spPr>
          <a:xfrm>
            <a:off x="4427640" y="3060000"/>
            <a:ext cx="4538520" cy="2744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2000" spc="-1" strike="noStrike">
              <a:solidFill>
                <a:srgbClr val="000000"/>
              </a:solidFill>
              <a:latin typeface="Tahoma"/>
            </a:endParaRPr>
          </a:p>
        </p:txBody>
      </p:sp>
      <p:sp>
        <p:nvSpPr>
          <p:cNvPr id="741" name="Rectangle 8"/>
          <p:cNvSpPr/>
          <p:nvPr/>
        </p:nvSpPr>
        <p:spPr>
          <a:xfrm>
            <a:off x="324000" y="4507920"/>
            <a:ext cx="374472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2000"/>
            </a:br>
            <a:endParaRPr b="0" lang="en-US" sz="2000" spc="-1" strike="noStrike">
              <a:solidFill>
                <a:srgbClr val="000000"/>
              </a:solidFill>
              <a:latin typeface="Tahoma"/>
            </a:endParaRPr>
          </a:p>
        </p:txBody>
      </p:sp>
      <p:sp>
        <p:nvSpPr>
          <p:cNvPr id="7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5" descr="stock"/>
          <p:cNvPicPr/>
          <p:nvPr/>
        </p:nvPicPr>
        <p:blipFill>
          <a:blip r:embed="rId1"/>
          <a:stretch/>
        </p:blipFill>
        <p:spPr>
          <a:xfrm rot="196800">
            <a:off x="5866920" y="259920"/>
            <a:ext cx="2954520" cy="2711520"/>
          </a:xfrm>
          <a:prstGeom prst="rect">
            <a:avLst/>
          </a:prstGeom>
          <a:ln w="9360">
            <a:solidFill>
              <a:srgbClr val="000000"/>
            </a:solidFill>
            <a:miter/>
          </a:ln>
        </p:spPr>
      </p:pic>
      <p:sp>
        <p:nvSpPr>
          <p:cNvPr id="744" name="Rectangle 6"/>
          <p:cNvSpPr/>
          <p:nvPr/>
        </p:nvSpPr>
        <p:spPr>
          <a:xfrm>
            <a:off x="395280" y="333000"/>
            <a:ext cx="5216400" cy="1220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2000" spc="-1" strike="noStrike">
              <a:solidFill>
                <a:srgbClr val="000000"/>
              </a:solidFill>
              <a:latin typeface="Tahoma"/>
            </a:endParaRPr>
          </a:p>
        </p:txBody>
      </p:sp>
      <p:sp>
        <p:nvSpPr>
          <p:cNvPr id="745" name="Rectangle 7"/>
          <p:cNvSpPr/>
          <p:nvPr/>
        </p:nvSpPr>
        <p:spPr>
          <a:xfrm>
            <a:off x="395280" y="1772640"/>
            <a:ext cx="502596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2000" spc="-1" strike="noStrike">
              <a:solidFill>
                <a:srgbClr val="000000"/>
              </a:solidFill>
              <a:latin typeface="Tahoma"/>
            </a:endParaRPr>
          </a:p>
        </p:txBody>
      </p:sp>
      <p:sp>
        <p:nvSpPr>
          <p:cNvPr id="746" name="Rectangle 8"/>
          <p:cNvSpPr/>
          <p:nvPr/>
        </p:nvSpPr>
        <p:spPr>
          <a:xfrm>
            <a:off x="324000" y="3995280"/>
            <a:ext cx="8820000" cy="182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2000" spc="-1" strike="noStrike">
              <a:solidFill>
                <a:srgbClr val="000000"/>
              </a:solidFill>
              <a:latin typeface="Tahoma"/>
            </a:endParaRPr>
          </a:p>
        </p:txBody>
      </p:sp>
      <p:sp>
        <p:nvSpPr>
          <p:cNvPr id="747" name="Rectangle 9"/>
          <p:cNvSpPr/>
          <p:nvPr/>
        </p:nvSpPr>
        <p:spPr>
          <a:xfrm>
            <a:off x="324000" y="5943240"/>
            <a:ext cx="7583400" cy="915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колу египтян прошли греческие мастера, а все мы – выученики греков. Поэтому искусство Древнего Египта для нас чрезвычайно важно. </a:t>
            </a:r>
            <a:endParaRPr b="0" lang="en-US" sz="2000" spc="-1" strike="noStrike">
              <a:solidFill>
                <a:srgbClr val="000000"/>
              </a:solidFill>
              <a:latin typeface="Tahoma"/>
            </a:endParaRPr>
          </a:p>
        </p:txBody>
      </p:sp>
      <p:sp>
        <p:nvSpPr>
          <p:cNvPr id="7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9" name="Picture 5" descr="stock"/>
          <p:cNvPicPr/>
          <p:nvPr/>
        </p:nvPicPr>
        <p:blipFill>
          <a:blip r:embed="rId1"/>
          <a:stretch/>
        </p:blipFill>
        <p:spPr>
          <a:xfrm rot="21081000">
            <a:off x="250920" y="260280"/>
            <a:ext cx="2666880" cy="2448000"/>
          </a:xfrm>
          <a:prstGeom prst="rect">
            <a:avLst/>
          </a:prstGeom>
          <a:ln w="0">
            <a:noFill/>
          </a:ln>
        </p:spPr>
      </p:pic>
      <p:pic>
        <p:nvPicPr>
          <p:cNvPr id="750" name="Picture 9" descr="Картинка 2 из 7687">
            <a:hlinkClick r:id="rId2"/>
          </p:cNvPr>
          <p:cNvPicPr/>
          <p:nvPr/>
        </p:nvPicPr>
        <p:blipFill>
          <a:blip r:embed="rId3"/>
          <a:stretch/>
        </p:blipFill>
        <p:spPr>
          <a:xfrm rot="614400">
            <a:off x="324000" y="2781360"/>
            <a:ext cx="2519280" cy="1890720"/>
          </a:xfrm>
          <a:prstGeom prst="rect">
            <a:avLst/>
          </a:prstGeom>
          <a:ln w="0">
            <a:noFill/>
          </a:ln>
        </p:spPr>
      </p:pic>
      <p:sp>
        <p:nvSpPr>
          <p:cNvPr id="751" name="Rectangle 10"/>
          <p:cNvSpPr/>
          <p:nvPr/>
        </p:nvSpPr>
        <p:spPr>
          <a:xfrm>
            <a:off x="3059280" y="-307080"/>
            <a:ext cx="5889600" cy="7107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2000" spc="-1" strike="noStrike">
              <a:solidFill>
                <a:srgbClr val="000000"/>
              </a:solidFill>
              <a:latin typeface="Tahoma"/>
            </a:endParaRPr>
          </a:p>
        </p:txBody>
      </p:sp>
      <p:sp>
        <p:nvSpPr>
          <p:cNvPr id="7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Rectangle 4"/>
          <p:cNvSpPr/>
          <p:nvPr/>
        </p:nvSpPr>
        <p:spPr>
          <a:xfrm>
            <a:off x="324000" y="259200"/>
            <a:ext cx="66848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ажное место в египетском пантеоне занимал бог Ра. Он являлся богом солнца, богом света. </a:t>
            </a:r>
            <a:endParaRPr b="0" lang="en-US" sz="2000" spc="-1" strike="noStrike">
              <a:solidFill>
                <a:srgbClr val="000000"/>
              </a:solidFill>
              <a:latin typeface="Tahoma"/>
            </a:endParaRPr>
          </a:p>
        </p:txBody>
      </p:sp>
      <p:sp>
        <p:nvSpPr>
          <p:cNvPr id="754" name="Rectangle 5"/>
          <p:cNvSpPr/>
          <p:nvPr/>
        </p:nvSpPr>
        <p:spPr>
          <a:xfrm>
            <a:off x="115920" y="1128960"/>
            <a:ext cx="902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х - это крест, у которого вместо верхней палочки находиться круг. В средневековой алхимии анх являлся символом бессмертия.</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5" name="Rectangle 6"/>
          <p:cNvSpPr/>
          <p:nvPr/>
        </p:nvSpPr>
        <p:spPr>
          <a:xfrm>
            <a:off x="1187280" y="1992600"/>
            <a:ext cx="775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деалом высшей мудрости и правды, олицетворением лучших сторон человеческой природы, воплощением ума у египтян являлся бог Тот.</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6" name="Rectangle 8"/>
          <p:cNvSpPr/>
          <p:nvPr/>
        </p:nvSpPr>
        <p:spPr>
          <a:xfrm>
            <a:off x="395280" y="3283200"/>
            <a:ext cx="845820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9"/>
          <p:cNvSpPr/>
          <p:nvPr/>
        </p:nvSpPr>
        <p:spPr>
          <a:xfrm>
            <a:off x="539640" y="4325040"/>
            <a:ext cx="83757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Амон считался всесущим божеством воздуха и ветра, которое наполняет весь видимый мир, дает жизнь всему живущему</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5" descr="stock"/>
          <p:cNvPicPr/>
          <p:nvPr/>
        </p:nvPicPr>
        <p:blipFill>
          <a:blip r:embed="rId1"/>
          <a:stretch/>
        </p:blipFill>
        <p:spPr>
          <a:xfrm rot="21285000">
            <a:off x="250920" y="620640"/>
            <a:ext cx="2232000" cy="2048040"/>
          </a:xfrm>
          <a:prstGeom prst="rect">
            <a:avLst/>
          </a:prstGeom>
          <a:ln w="9360">
            <a:solidFill>
              <a:srgbClr val="000000"/>
            </a:solidFill>
            <a:miter/>
          </a:ln>
        </p:spPr>
      </p:pic>
      <p:sp>
        <p:nvSpPr>
          <p:cNvPr id="760" name="Rectangle 6"/>
          <p:cNvSpPr/>
          <p:nvPr/>
        </p:nvSpPr>
        <p:spPr>
          <a:xfrm>
            <a:off x="2700360" y="35280"/>
            <a:ext cx="6248520" cy="67086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2000" spc="-1" strike="noStrike">
              <a:solidFill>
                <a:srgbClr val="000000"/>
              </a:solidFill>
              <a:latin typeface="Tahoma"/>
            </a:endParaRPr>
          </a:p>
        </p:txBody>
      </p:sp>
      <p:pic>
        <p:nvPicPr>
          <p:cNvPr id="761" name="Picture 8" descr="Картинка 2 из 7687">
            <a:hlinkClick r:id="rId2"/>
          </p:cNvPr>
          <p:cNvPicPr/>
          <p:nvPr/>
        </p:nvPicPr>
        <p:blipFill>
          <a:blip r:embed="rId3"/>
          <a:stretch/>
        </p:blipFill>
        <p:spPr>
          <a:xfrm rot="568800">
            <a:off x="250560" y="2636640"/>
            <a:ext cx="2268360" cy="1701720"/>
          </a:xfrm>
          <a:prstGeom prst="rect">
            <a:avLst/>
          </a:prstGeom>
          <a:ln w="0">
            <a:noFill/>
          </a:ln>
        </p:spPr>
      </p:pic>
      <p:sp>
        <p:nvSpPr>
          <p:cNvPr id="7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2:00:46Z</dcterms:created>
  <dc:creator>www.PHILka.RU</dc:creator>
  <dc:description/>
  <dc:language>en-US</dc:language>
  <cp:lastModifiedBy>LEGION</cp:lastModifiedBy>
  <dcterms:modified xsi:type="dcterms:W3CDTF">2014-12-30T11:54:2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a000000000001023620</vt:lpwstr>
  </property>
</Properties>
</file>