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988DB-951D-42A7-A194-ADE5CE49DCA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" Target="../slides/slide11.xml"/><Relationship Id="rId6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" Target="../slides/slide16.xml"/><Relationship Id="rId8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../slides/slide17.xml"/><Relationship Id="rId3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33ff"/>
                </a:solidFill>
                <a:latin typeface="Calibri"/>
              </a:rPr>
              <a:t>Антигомотоксическое сопровождение пациентов с хроническими заболеваниями в практике семейного врач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33ff"/>
                </a:solidFill>
                <a:latin typeface="Antiqua-Bold"/>
              </a:rPr>
              <a:t>Т.Е.Белоусова</a:t>
            </a:r>
            <a:br>
              <a:rPr sz="1200"/>
            </a:br>
            <a:r>
              <a:rPr b="0" lang="ru-RU" sz="1200" spc="-1" strike="noStrike">
                <a:solidFill>
                  <a:srgbClr val="9933ff"/>
                </a:solidFill>
                <a:latin typeface="Antiqua-Bold"/>
              </a:rPr>
              <a:t>Нижегородская государственная медицинская академ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35A0D-0552-4DC2-9BF3-4D165D197FA7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Calibri"/>
              </a:rPr>
              <a:t>Цели  реабилитационной терапи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Уменьшение числа обострений на единицу време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Уменьшение выраженности симптомов в период обостр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олное восстановление очага -излечение (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81E88-3429-4D8E-B1B7-033FC2173D78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9933ff"/>
                </a:solidFill>
                <a:latin typeface="Calibri"/>
              </a:rPr>
              <a:t>Антигомотоксическая медицин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Ограничение поступления гомотоксин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нутрь клет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Дренажная и дезинтоксикационная терап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Активаци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еточного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метаболиз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орган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ткан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Иммун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уляция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и иммуномодуля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64AEF-E674-4402-B036-3912D42CC435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тор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мед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цины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Ханс-Хайнрих Реккевег 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1905–198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7F07D-2316-4A94-A90D-DD05FD2C2140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ff"/>
                </a:solidFill>
                <a:latin typeface="Calibri"/>
              </a:rPr>
              <a:t>Большая система защиты</a:t>
            </a:r>
            <a:br>
              <a:rPr sz="1200"/>
            </a:br>
            <a:r>
              <a:rPr b="1" lang="ru-RU" sz="1200" spc="-1" strike="noStrike">
                <a:solidFill>
                  <a:srgbClr val="9933ff"/>
                </a:solidFill>
                <a:latin typeface="Calibri"/>
              </a:rPr>
              <a:t>организма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РЭС (моноциты,  макрофаги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Передняя доля гипофиза-надпочечн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Нервно-рефлекторная защи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Дезинтоксикационная функция пече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Дезинтоксикационная функция С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09F8A-21F7-4590-B9ED-DE35574D8BDF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9933ff"/>
                </a:solidFill>
                <a:latin typeface="Calibri"/>
              </a:rPr>
              <a:t>Комплексные антигомотоксические препарат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Рецептуры на основе многолетней реперториз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Сокращение времени на поиск монопрепаратов согласно принципу подоб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Могут назначаться по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иническим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показания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Действую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на патогенетические механиз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ствуют в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ы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дению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токси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Компенсируют вызванные токсинами поражения в организм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регенерационный механизм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C1006-8907-423E-A51A-C1635830E430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9933ff"/>
                </a:solidFill>
                <a:latin typeface="Arial"/>
              </a:rPr>
              <a:t>Комплексные </a:t>
            </a:r>
            <a:r>
              <a:rPr b="1" lang="ru-RU" sz="4000" spc="-1" strike="noStrike">
                <a:solidFill>
                  <a:srgbClr val="9933ff"/>
                </a:solidFill>
                <a:latin typeface="Arial"/>
              </a:rPr>
              <a:t>АГТ </a:t>
            </a:r>
            <a:r>
              <a:rPr b="1" lang="de-DE" sz="4000" spc="-1" strike="noStrike">
                <a:solidFill>
                  <a:srgbClr val="9933ff"/>
                </a:solidFill>
                <a:latin typeface="Arial"/>
              </a:rPr>
              <a:t>препарат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Принцип Бюрги: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есколько веществ, направленных на один симптом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) с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уммируются в своем действии, если направлены в одну точк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) п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отенцируются, если действуют на разные точки приложе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11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3C76F-93C3-4D93-93AF-2E7D11EA5853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ff"/>
                </a:solidFill>
                <a:latin typeface="Calibri"/>
              </a:rPr>
              <a:t>Композит -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комплексное лекарственное средство, в состав которого входят классические гомеопатические компоненты,   суисорганные препараты, нозоды, ферменты дыхательного цикла клетки,витамины, гомеопатизированные аллопатические средства (антибиотики,гормоны,цитостатики), токсины, необходимые для санации определенного органа или ткани организм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B9B1A-38DA-4FDF-9D15-5183E7FD824B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ff"/>
                </a:solidFill>
                <a:latin typeface="Pragmatica"/>
              </a:rPr>
              <a:t>ГОМАККОРД</a:t>
            </a:r>
            <a:r>
              <a:rPr b="1" lang="ru-RU" sz="1200" spc="-1" strike="noStrike">
                <a:solidFill>
                  <a:srgbClr val="9933ff"/>
                </a:solidFill>
                <a:latin typeface="Pragmatica"/>
              </a:rPr>
              <a:t> -</a:t>
            </a:r>
            <a:r>
              <a:rPr b="1" lang="ru-RU" sz="1200" spc="-1" strike="noStrike">
                <a:solidFill>
                  <a:srgbClr val="000000"/>
                </a:solidFill>
                <a:latin typeface="Pragmatica"/>
              </a:rPr>
              <a:t> это комплексное антигомотоксическое средство, каждый компонент которого представлен как в низких, так и в высоких разведениях (аккорд потенций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58574-2217-4F7A-A776-2BF0D5357ACD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ff"/>
                </a:solidFill>
                <a:latin typeface="Times New Roman"/>
              </a:rPr>
              <a:t>Деятельность семейного врач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33ff"/>
                </a:solidFill>
                <a:latin typeface="American-Uncial-Normal"/>
              </a:rPr>
              <a:t>Цель: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высокий уровень качества жизни наблюдаемых паци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9933ff"/>
                </a:solidFill>
                <a:latin typeface="American-Uncial-Normal"/>
              </a:rPr>
              <a:t>Технологии</a:t>
            </a:r>
            <a:r>
              <a:rPr b="0" lang="ru-RU" sz="1200" spc="-1" strike="noStrike">
                <a:solidFill>
                  <a:srgbClr val="800080"/>
                </a:solidFill>
                <a:latin typeface="American-Uncial-Normal"/>
              </a:rPr>
              <a:t>: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лечебный стандарт, физиотерапевтичекие и натуропатические техн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33ff"/>
                </a:solidFill>
                <a:latin typeface="American-Uncial-Normal"/>
              </a:rPr>
              <a:t>Клинические эффек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купирование симптомов заболева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восстановление нейро-эндокринной и иммунной защты организ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C30A3-58CD-4A5B-A1F0-0DFF6CD7D4C2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33ff"/>
                </a:solidFill>
                <a:latin typeface="Calibri"/>
              </a:rPr>
              <a:t>Биологическое значение АГ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озможность эффективной терапии в бессимптомные периоды заболеваний: доклинический и постклиниче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еализация принципа обратимости патоморфо-функциональных нарушений в органах и тканях после перенесенного заболевания (регенерационный и протекторный тканевые эффект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филактика развития заболев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50306-0A19-46B5-B2B1-40C4B9F49E35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33ff"/>
                </a:solidFill>
                <a:latin typeface="Calibri"/>
              </a:rPr>
              <a:t>Лечебная страте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иод обострений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ы ОМС на фоне антигомотоксической терапии в режиме инициирующей терап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нний и отсроченные восстановительные период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ГТ терапия в режиме долгосрочной терап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069E6-FCE1-4789-8718-98B932FC7E47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Pragmatica"/>
              </a:rPr>
              <a:t> </a:t>
            </a:r>
            <a:r>
              <a:rPr b="1" lang="ru-RU" sz="1200" spc="-1" strike="noStrike">
                <a:solidFill>
                  <a:srgbClr val="0000ff"/>
                </a:solidFill>
                <a:latin typeface="Pragmatica"/>
              </a:rPr>
              <a:t>РЕЖИМ ИНИЦИИРУЮЩИЙ ТЕРАП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Pragmatica"/>
              </a:rPr>
              <a:t>(острые заболевания, стадия обострения хронической патологии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Pragmatica"/>
              </a:rPr>
              <a:t>Разовая доза препарата через 15 минут кажд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Pragmatica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Pragmatica"/>
              </a:rPr>
              <a:t>2 час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Pragmatica"/>
              </a:rPr>
              <a:t>Растворы для инъекций – ежедневно в</a:t>
            </a:r>
            <a:r>
              <a:rPr b="1" lang="en-US" sz="1200" spc="-1" strike="noStrike">
                <a:solidFill>
                  <a:srgbClr val="000000"/>
                </a:solidFill>
                <a:latin typeface="Pragmatica"/>
              </a:rPr>
              <a:t>/</a:t>
            </a:r>
            <a:r>
              <a:rPr b="1" lang="ru-RU" sz="1200" spc="-1" strike="noStrike">
                <a:solidFill>
                  <a:srgbClr val="000000"/>
                </a:solidFill>
                <a:latin typeface="Pragmatica"/>
              </a:rPr>
              <a:t>м ил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Pragmatica"/>
              </a:rPr>
              <a:t>п</a:t>
            </a:r>
            <a:r>
              <a:rPr b="1" lang="en-US" sz="1200" spc="-1" strike="noStrike">
                <a:solidFill>
                  <a:srgbClr val="000000"/>
                </a:solidFill>
                <a:latin typeface="Pragmatica"/>
              </a:rPr>
              <a:t>/</a:t>
            </a:r>
            <a:r>
              <a:rPr b="1" lang="ru-RU" sz="1200" spc="-1" strike="noStrike">
                <a:solidFill>
                  <a:srgbClr val="000000"/>
                </a:solidFill>
                <a:latin typeface="Pragmatica"/>
              </a:rPr>
              <a:t>к( в тяжелых случаях -  до 2-3 раз в день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7CFD7-AF39-4234-9468-3C212E15052B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Pragmatica"/>
              </a:rPr>
              <a:t> </a:t>
            </a:r>
            <a:r>
              <a:rPr b="1" lang="ru-RU" sz="1200" spc="-1" strike="noStrike">
                <a:solidFill>
                  <a:srgbClr val="0000ff"/>
                </a:solidFill>
                <a:latin typeface="Pragmatica"/>
              </a:rPr>
              <a:t>РЕЖИМ ДОЛГОВРЕМЕННОЙ ТЕРАП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Pragmatica"/>
              </a:rPr>
              <a:t>(стихающее обострение, ранний и отсроченный восстановительный периоды, период ремиссии, противорецидивное лечение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Pragmatica"/>
              </a:rPr>
              <a:t>Разовая доза препарата - в 3-х разовом режим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Pragmatica"/>
              </a:rPr>
              <a:t>(10 кап. или 1 таб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Pragmatica"/>
              </a:rPr>
              <a:t>Растворы для инъекций – 1-2 раза в недел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FF5BF-8B97-4379-A2BD-27AC6A7B6C75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2603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33ff"/>
                </a:solidFill>
                <a:latin typeface="Antiqua-Bold"/>
              </a:rPr>
              <a:t>КРИТЕРИИ ЭФФЕКТИВНОСТИ</a:t>
            </a:r>
            <a:br>
              <a:rPr sz="1600"/>
            </a:br>
            <a:r>
              <a:rPr b="0" lang="ru-RU" sz="1600" spc="-1" strike="noStrike">
                <a:solidFill>
                  <a:srgbClr val="9933ff"/>
                </a:solidFill>
                <a:latin typeface="Antiqua-Bold"/>
              </a:rPr>
              <a:t>  антигомотоксической терапи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2603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пирование симптомов заболе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2603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кращение сроков леч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2603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утствие побочных реакций и осложн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2603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ышение качества жизни (самочувствие, активность, настроение, сон, аппетит, трудоспособность)на период от 6 до 18 месяце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2603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7F7E0-ADF9-4EA8-B0A3-8483C1D84A6A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33ff"/>
                </a:solidFill>
                <a:latin typeface="Calibri"/>
              </a:rPr>
              <a:t>Тканевые и клеточные эффекты антигомотоксической терапи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енерацион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канеопротектор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офикостимулирующ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орегулирующ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муно- и эндокрино-регуляцион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D614C-2447-4525-A024-57280FB48819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ff"/>
                </a:solidFill>
                <a:latin typeface="Calibri"/>
              </a:rPr>
              <a:t>Наши наблюд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35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пациентов из 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2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семей, наблюдаемых по поводу различных хронических заболеваний в течение 5-7 ле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мы в возрасте от 24 до 38 лет с детьми в возрасте до 14 лет с заболеваниями нервной системы и аллергическими заболеваниями  на фоне ССТк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D3366-9335-43D2-AC1B-306053D889E5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ff"/>
                </a:solidFill>
                <a:latin typeface="Calibri"/>
              </a:rPr>
              <a:t>Контрольные групп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14 пациентов с аналогичными заболеваниями для каждой основной группы наблюдений с использованием только стандартных терапевтических подхо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299B9-BB4F-4192-B9CD-0342ED6DD74C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ff"/>
                </a:solidFill>
                <a:latin typeface="Calibri"/>
              </a:rPr>
              <a:t>Методы контроля клинической  эффективност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ценка клинической картины заболевания, длительности периода обострения , выраженности симптомов, частоты обострений заболеваний в течение г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ндартные виды диагнос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тоды электропунктурной диагнос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ценка по шкале С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ценка качества жизни по шкалам и опросник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100C4-45E4-40CD-BB99-6D210CA2A3BE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ff"/>
                </a:solidFill>
                <a:latin typeface="Times New Roman"/>
              </a:rPr>
              <a:t>Критерии клинической эффектив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роки купирования симптомов заболе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рмализация клинических и параклинических параметр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рмализация  электропроводности в точках акупунктуры (Т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чество жиз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C2257-CE7E-42F3-AF0A-0B6312B3E9B7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33ff"/>
                </a:solidFill>
                <a:latin typeface="Calibri"/>
              </a:rPr>
              <a:t>Особенности заболеваний в семейной медицин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ялотекущий характер хронических процессов  с обострениями умеренной степе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раж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A6726-A776-4D2B-B4C4-FAE40107EC5D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9933ff"/>
                </a:solidFill>
                <a:latin typeface="Times New Roman"/>
              </a:rPr>
              <a:t>ОРЗ и хронические заболевания бронхолегочной системы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*Энгистол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Engystol)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Галиум-хеель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Galium-heel)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Бронхалис-хеель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ronchalis-heel)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Мукоза композитум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Mucosa compositum)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хинацея композитум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hinacea compositu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) Эуфорбиум композитум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uphorbium compositum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*НЧМСТ, аэроионоингаляционная терапия, пунктурная электротерап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*точечный массаж, дыхательная гимнас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линическая эффективность в случае проведения 2-3 курсов терапии в течение 1-1,5 лет составляет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9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7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в группе контроля - 4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%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20237-4056-4FE9-95B6-D97FF4411718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ff"/>
                </a:solidFill>
                <a:latin typeface="Times New Roman"/>
              </a:rPr>
              <a:t>Аллергоз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лиум-хеель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Galium-heel)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Лимфомиозот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ymphomiozot)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псоринохеель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Psorinoheel)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кутис композитум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Cutis cjmpositum)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мукоза композитум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Mucosa compositum)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юффель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uff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ЧМСТ, направленная аэроионотерапия, рефлексотерапия, точечный массаж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линическая эффективность в случае проведения 2-3 курсов терапии в течение 1-2 лет составляет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7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%(в группе контроля - 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%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D2C7D-5F33-4B50-9D2C-15D9A4F672C5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ff"/>
                </a:solidFill>
                <a:latin typeface="Times New Roman"/>
              </a:rPr>
              <a:t>Последствия перинатальных энцефалопатий, ДЦП, </a:t>
            </a:r>
            <a:br>
              <a:rPr sz="1600"/>
            </a:br>
            <a:r>
              <a:rPr b="1" lang="ru-RU" sz="1600" spc="-1" strike="noStrike">
                <a:solidFill>
                  <a:srgbClr val="9933ff"/>
                </a:solidFill>
                <a:latin typeface="Times New Roman"/>
              </a:rPr>
              <a:t>НФ НКГ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ребрум композитум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rebrum compositum)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Траумеель С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Traumeel S)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Коэнзим композитум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Coensym compositum)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бихинон композитум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bihinon compositum)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Вертигохееель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Vertigohe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Спигелон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gelon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аскупреель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scupre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), Нервохеель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rvoheel)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Валериана-хеель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Valeriana-hee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флексотерапия, гомеосиниатрия, полисенсорная релаксац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линическая эффективность в случае проведения 3-4 курсов терапии в течение 1,5-3 лет составляет 78,9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в группе контроля - 54,5%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86FF0-28FD-4042-8762-F922EA40CA7C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ff"/>
                </a:solidFill>
                <a:latin typeface="Times New Roman"/>
              </a:rPr>
              <a:t>Нарушения осанки  Заболевания суставов и позвоночни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Траумеель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 (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raumeel S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), Цель Т(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Zeel T )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, Дискус композитум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Discus compositum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*Рефлексотерапия, гомеосиниатр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*НЧЭТ, НЧМС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*сегментарный  и точечный массаж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*щадящее вытяж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линическая эффективность в случае проведения 2-3 курсов терапии в течение 1-1,5 лет составляет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79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,2%(в группе контроля - 5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,7%)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A842D-6BFA-4F97-AFF1-008DE3FF27EE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ff"/>
                </a:solidFill>
                <a:latin typeface="Calibri"/>
              </a:rPr>
              <a:t>Принципы терап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Индивидуально разработанные схемы лечения по результатам стандартной и биофизической диагнос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Ежемесячная коррекция схем лечения  на основе повторных стандартной и биофизической диагнос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овторные лечебные курс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831B6-1570-4846-AB19-55503456C96B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ff"/>
                </a:solidFill>
                <a:latin typeface="Calibri"/>
              </a:rPr>
              <a:t>Выв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менение системной  антигомотоксической терапии в комплекном лечении и реабилитации в семейной медицине привод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) к достоверному уменьшению количества обострений и их продолжительности в течение года, уменьшению выраженности симптомов заболевания   в среднем на 83,9%  (в контроле- в 45,8%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) повышению качества жизни на 25-3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69C12-9177-425F-9E3C-3C14D7840D5F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ff"/>
                </a:solidFill>
                <a:latin typeface="Terminator Cyr 4"/>
              </a:rPr>
              <a:t>Антигомотоксическая терап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33ff"/>
                </a:solidFill>
                <a:latin typeface="Tiff-Heavy"/>
              </a:rPr>
              <a:t>способствует нормализации структуры и функции основных жизнеобеспечивающих систем организма у часто болеющих пациентов и пациентов с хроническими заболевани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Tiff-Heavy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D7669-434E-4997-81D7-E203F8F32A0C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ff"/>
                </a:solidFill>
                <a:latin typeface="Calibri"/>
              </a:rPr>
              <a:t>Достоинства в педиатр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лноценное развитие нервной, эндокринной и иммунной систе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филактика развития заболеваний другой локал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сокое качество жизни и развития организма ребен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7D343-F0EB-46D5-B76F-7105D820EB7D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ff"/>
                </a:solidFill>
                <a:latin typeface="Calibri"/>
              </a:rPr>
              <a:t>Достоинства в терапии и гериатр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*замедление процессов преждевременного стар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*длительное сохранение трудоспособ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*профилактика нейрокардио-сосудистых и онкологических заболеван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ECBC9-02DD-46BF-AC5E-09A063A46EDF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ff"/>
                </a:solidFill>
                <a:latin typeface="FreeSetExtraCTT"/>
              </a:rPr>
              <a:t>БЛАГОДАРЮ ЗА ВНИМАНИЕ! </a:t>
            </a:r>
            <a:br>
              <a:rPr sz="1200"/>
            </a:br>
            <a:r>
              <a:rPr b="1" lang="en-US" sz="1200" spc="-1" strike="noStrike">
                <a:solidFill>
                  <a:srgbClr val="cc00ff"/>
                </a:solidFill>
                <a:latin typeface="FreeSetExtraCTT"/>
              </a:rPr>
              <a:t>VIELEN  DANK  FUER AUFMERKSAMKEIT</a:t>
            </a:r>
            <a:r>
              <a:rPr b="0" lang="en-US" sz="1200" spc="-1" strike="noStrike">
                <a:solidFill>
                  <a:srgbClr val="cc00ff"/>
                </a:solidFill>
                <a:latin typeface="FreeSetExtraCTT"/>
              </a:rPr>
              <a:t>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985A7-3A12-442B-B873-7EA143FAC868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ff"/>
                </a:solidFill>
                <a:latin typeface="Calibri"/>
              </a:rPr>
              <a:t>Хроническое  заболевани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оцесс постоянного чередования периодов обострения симптомов и их временного отсутствия (ремиссий) при постоянно существующих вялотекущих патологических тканевых реакция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D5929-AD18-4615-8488-0FBA4FFE14A2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ff"/>
                </a:solidFill>
                <a:latin typeface="Arial"/>
              </a:rPr>
              <a:t>Обострение  хронических заболев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обладание тканевых патологических реакций (воспаление, дегенерация, их сочетание) с соответствующей клинической симптоматикой над местной иммунной защит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8D84B-3B27-4136-9B3E-F41C2D3DD7DA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ff"/>
                </a:solidFill>
                <a:latin typeface="Arial"/>
              </a:rPr>
              <a:t>Ремисс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обладание общей и местной иммунной защиты над развитием патологических тканевых реак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92E0D-83EF-4BD0-ABE1-2A7E1DBC5099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33ff"/>
                </a:solidFill>
                <a:latin typeface="Calibri"/>
              </a:rPr>
              <a:t>Наиболее распространенные группы нозологи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merican-Uncial-Normal"/>
              </a:rPr>
              <a:t>- заболевания дыхательной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merican-Uncial-Normal"/>
              </a:rPr>
              <a:t>- заболевания цереброваскулярной и сердечно-сосудистой сист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merican-Uncial-Normal"/>
              </a:rPr>
              <a:t>- заболевания суставов и позвоночн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merican-Uncial-Normal"/>
              </a:rPr>
              <a:t>- клинические проявления метаболического синдро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merican-Uncial-Normal"/>
              </a:rPr>
              <a:t>- онкологические процесс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EFB06-4050-4C4B-B0A9-B35015DBF507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ff"/>
                </a:solidFill>
                <a:latin typeface="Calibri"/>
              </a:rPr>
              <a:t>Современный фон для развития хронических заболеваний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ff"/>
                </a:solidFill>
                <a:latin typeface="Arial"/>
              </a:rPr>
              <a:t>Клиническая манифестация синдрома соединительнотканной недостаточност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блема нарастания клеточной патологии периферической иммунной системы (СТ) у пациентов молодого</a:t>
            </a:r>
            <a:r>
              <a:rPr b="0" lang="ru-RU" sz="1200" spc="-1" strike="noStrike">
                <a:solidFill>
                  <a:srgbClr val="000000"/>
                </a:solidFill>
                <a:latin typeface="Antiqua-Bold"/>
              </a:rPr>
              <a:t> возраста и детей</a:t>
            </a:r>
            <a:r>
              <a:rPr b="0" lang="ru-RU" sz="1800" spc="-1" strike="noStrike">
                <a:solidFill>
                  <a:srgbClr val="000000"/>
                </a:solidFill>
                <a:latin typeface="Antiqua-Bol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4AAF0-4A9A-46EA-A6B9-C2834A06F5CE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33ff"/>
                </a:solidFill>
                <a:latin typeface="Times New Roman"/>
              </a:rPr>
              <a:t>Синдром соединительнотканной недостаточности (ССТкН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линическая манифестация ССТкН: астенический тип телосложения,  синдром Эйлорса-Данлоса, плоскостопие, сколиотические изменения позвоночника,  заболевания крупных суставов в молодом возрасте, венозная недостаточность, большое количество половых инфекций, бесплодие, быстрая хронизация заболеваний на фоне соединительнотканного дефицита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2E181-3FE1-433C-B88C-04C858746BE4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9A8F-DD69-4324-BCA9-61B920E0A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FA1E-6940-4E9F-B8C8-BCB626003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D2CC-E79D-4BAB-8DCA-108E5CDCC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DE91-1FBD-436D-893E-B6D4EF17D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5FD0C-3458-4490-8C92-373306491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59A30-5BED-42D4-94C7-D2623CF2F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7D636-D514-4EB6-A0C7-1D2C913D6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48513-452F-418F-9019-E0FEBEC03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8BFD2-0223-47B5-8876-64AA4FA6B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58D60-6E38-4EBB-A140-C1B604AF9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A774E-67CD-4C9B-994F-7C52A629B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6651-8265-40E8-8DD6-8C67A5BC7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B302E-8FEC-441D-8268-A35BF410E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1D9DB-AD8A-48AC-BADC-1D28697C4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1D7F9-CE5A-4250-8E1E-5DB43BBBB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6EC7C-360E-467F-8F9C-168768973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4DF32-9E6B-4DC4-8EB9-FE07A02CA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055F-82FD-4F8C-83B4-1DB9853B1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0230-9CCC-46E9-B132-8E9244FE6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D549-FCCA-4BC4-8695-CC22B7D47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EA9E-B578-41B0-975E-CB6C7AEC3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F0BD-4EB2-43DF-9C8C-8DFBE2D4C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A952-5A4F-4CA5-B12F-0AF3E14B1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3FD4-166A-4215-BA53-E1C10C2A7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400" cy="3117960"/>
              <a:chOff x="-1080" y="2601000"/>
              <a:chExt cx="268740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840" y="385056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4200" cy="1663920"/>
                <a:chOff x="852120" y="4055040"/>
                <a:chExt cx="183420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3600" y="3943800"/>
                  <a:ext cx="475560" cy="121932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33880" y="4975200"/>
                  <a:ext cx="109800" cy="50040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424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3640"/>
              <a:ext cx="790920" cy="634680"/>
              <a:chOff x="467280" y="6173640"/>
              <a:chExt cx="79092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2680" y="6172560"/>
                <a:ext cx="196560" cy="2541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9600" y="6513480"/>
                <a:ext cx="336600" cy="2109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0880"/>
                <a:ext cx="352080" cy="1072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15B3C-0FAC-48AC-BD53-8CB0F55F539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1120" cy="6858000"/>
            <a:chOff x="-20160" y="0"/>
            <a:chExt cx="905112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200" y="63000"/>
              <a:ext cx="3623760" cy="6129000"/>
              <a:chOff x="5407200" y="63000"/>
              <a:chExt cx="3623760" cy="612900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1520" y="348120"/>
                <a:ext cx="2116800" cy="235656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1040" y="1960560"/>
                <a:ext cx="906840" cy="84276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5600" y="2592360"/>
                <a:ext cx="439560" cy="39492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1480" y="674280"/>
                <a:ext cx="38880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4280" y="2645280"/>
                <a:ext cx="163440" cy="33156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0240" y="1243080"/>
                <a:ext cx="190800" cy="14256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7480" y="2930400"/>
                <a:ext cx="523800" cy="326772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5880" y="302760"/>
              <a:ext cx="888480" cy="829080"/>
              <a:chOff x="5645880" y="302760"/>
              <a:chExt cx="888480" cy="82908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57840" y="802080"/>
                <a:ext cx="17712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06360" y="480240"/>
                <a:ext cx="3042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46720" y="401760"/>
                <a:ext cx="31716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54000" y="5283000"/>
              <a:ext cx="1062360" cy="836640"/>
              <a:chOff x="954000" y="5283000"/>
              <a:chExt cx="1062360" cy="83664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698840" y="5548320"/>
                <a:ext cx="251640" cy="3006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83320" y="5763600"/>
                <a:ext cx="430560" cy="2498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45360" y="5407560"/>
                <a:ext cx="450000" cy="1270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A9288-E2F8-4056-9FA0-62B6A0A9C7CE}" type="slidenum">
              <a:rPr b="0" lang="ru-RU" sz="1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316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ff"/>
                </a:solidFill>
                <a:latin typeface="Verdana"/>
              </a:rPr>
              <a:t>Антигомотоксическое сопровождение пациентов с хроническими заболеваниями в практике семейного врача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ff"/>
                </a:solidFill>
                <a:latin typeface="Antiqua-Bold"/>
              </a:rPr>
              <a:t>Т.Е.Белоусова</a:t>
            </a:r>
            <a:br>
              <a:rPr sz="3200"/>
            </a:br>
            <a:r>
              <a:rPr b="0" lang="ru-RU" sz="3200" spc="-1" strike="noStrike">
                <a:solidFill>
                  <a:srgbClr val="9933ff"/>
                </a:solidFill>
                <a:latin typeface="Antiqua-Bold"/>
              </a:rPr>
              <a:t>Нижегородская государственная медицинская академия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1760" y="356760"/>
            <a:ext cx="8285040" cy="1365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99ff"/>
                </a:solidFill>
                <a:latin typeface="Verdana"/>
              </a:rPr>
              <a:t>Цели  реабилитационной терапии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0120" y="2180880"/>
            <a:ext cx="778176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- Уменьшение числа обострений на единицу времени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- Уменьшение выраженности симптомов в период обострения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- Полное восстановление очага -излечение (?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08120" y="267840"/>
            <a:ext cx="7826400" cy="11034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9933ff"/>
                </a:solidFill>
                <a:latin typeface="Verdana"/>
              </a:rPr>
              <a:t>Антигомотоксическая медицина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82640"/>
            <a:ext cx="8166240" cy="42847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 fontScale="97000"/>
          </a:bodyPr>
          <a:p>
            <a:pPr marL="332640" indent="-33264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6699"/>
                </a:solidFill>
                <a:latin typeface="Verdana"/>
              </a:rPr>
              <a:t>Ограничение поступления гомотоксинов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внутрь клеток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6699"/>
                </a:solidFill>
                <a:latin typeface="Verdana"/>
              </a:rPr>
              <a:t>Дренажная и дезинтоксикационная терапия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6699"/>
                </a:solidFill>
                <a:latin typeface="Verdana"/>
              </a:rPr>
              <a:t>Активация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клеточного </a:t>
            </a:r>
            <a:r>
              <a:rPr b="0" lang="de-DE" sz="3200" spc="-1" strike="noStrike">
                <a:solidFill>
                  <a:srgbClr val="006699"/>
                </a:solidFill>
                <a:latin typeface="Verdana"/>
              </a:rPr>
              <a:t>метаболизма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de-DE" sz="3200" spc="-1" strike="noStrike">
                <a:solidFill>
                  <a:srgbClr val="006699"/>
                </a:solidFill>
                <a:latin typeface="Verdana"/>
              </a:rPr>
              <a:t>органов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и тканей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6699"/>
                </a:solidFill>
                <a:latin typeface="Verdana"/>
              </a:rPr>
              <a:t>Иммуно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регуляция</a:t>
            </a:r>
            <a:r>
              <a:rPr b="0" lang="de-DE" sz="3200" spc="-1" strike="noStrike">
                <a:solidFill>
                  <a:srgbClr val="006699"/>
                </a:solidFill>
                <a:latin typeface="Verdana"/>
              </a:rPr>
              <a:t> и иммуномодуляция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2"/>
          <p:cNvSpPr/>
          <p:nvPr/>
        </p:nvSpPr>
        <p:spPr>
          <a:xfrm>
            <a:off x="179280" y="0"/>
            <a:ext cx="863640" cy="6858000"/>
          </a:xfrm>
          <a:prstGeom prst="rect">
            <a:avLst/>
          </a:prstGeom>
          <a:gradFill rotWithShape="0">
            <a:gsLst>
              <a:gs pos="0">
                <a:srgbClr val="f4e9ff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9" name="Rectangle 3"/>
          <p:cNvSpPr/>
          <p:nvPr/>
        </p:nvSpPr>
        <p:spPr>
          <a:xfrm>
            <a:off x="0" y="63036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99ff"/>
                </a:solidFill>
                <a:latin typeface="Pragmatica"/>
              </a:rPr>
              <a:t>ОСНОВНЫЕ ПРИНЦИПЫ ТЕРАПИИ КОМПЛЕКСНЫМИ БИОЛОГИЧЕСКИМИ ПРЕПАРАТАМИ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0" name="Text Box 4"/>
          <p:cNvSpPr/>
          <p:nvPr/>
        </p:nvSpPr>
        <p:spPr>
          <a:xfrm>
            <a:off x="2195640" y="2421000"/>
            <a:ext cx="4608360" cy="36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99"/>
                </a:solidFill>
                <a:latin typeface="Pragmatica"/>
              </a:rPr>
              <a:t>РЕГУЛЯЦИОННЫЙ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99"/>
                </a:solidFill>
                <a:latin typeface="Pragmatica"/>
              </a:rPr>
              <a:t>ДЕЗИНТОКСИКАЦИОННЫЙ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99"/>
                </a:solidFill>
                <a:latin typeface="Pragmatica"/>
              </a:rPr>
              <a:t>ДРЕНАЖНЫЙ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99"/>
                </a:solidFill>
                <a:latin typeface="Pragmatica"/>
              </a:rPr>
              <a:t>АКТИВАЦИОННЫЙ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1" name="Text Box 5"/>
          <p:cNvSpPr/>
          <p:nvPr/>
        </p:nvSpPr>
        <p:spPr>
          <a:xfrm>
            <a:off x="539640" y="3357720"/>
            <a:ext cx="1871640" cy="1387080"/>
          </a:xfrm>
          <a:prstGeom prst="rect">
            <a:avLst/>
          </a:prstGeom>
          <a:solidFill>
            <a:srgbClr val="edfad2"/>
          </a:solidFill>
          <a:ln w="0">
            <a:noFill/>
          </a:ln>
          <a:effectLst>
            <a:outerShdw dist="17819" dir="2700000" blurRad="0" rotWithShape="0">
              <a:srgbClr val="ffff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Pragmatica"/>
              </a:rPr>
              <a:t>ОРГАННЫЙ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2" name="Text Box 6"/>
          <p:cNvSpPr/>
          <p:nvPr/>
        </p:nvSpPr>
        <p:spPr>
          <a:xfrm>
            <a:off x="6588000" y="3284640"/>
            <a:ext cx="2232000" cy="1387080"/>
          </a:xfrm>
          <a:prstGeom prst="rect">
            <a:avLst/>
          </a:prstGeom>
          <a:solidFill>
            <a:srgbClr val="edfad2"/>
          </a:solidFill>
          <a:ln w="0">
            <a:noFill/>
          </a:ln>
          <a:effectLst>
            <a:outerShdw dist="17819" dir="2700000" blurRad="0" rotWithShape="0">
              <a:srgbClr val="ffff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Pragmatica"/>
              </a:rPr>
              <a:t>СИСТЕМНЫЙ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3" name="Line 7"/>
          <p:cNvSpPr/>
          <p:nvPr/>
        </p:nvSpPr>
        <p:spPr>
          <a:xfrm flipH="1">
            <a:off x="1908000" y="2637000"/>
            <a:ext cx="1368720" cy="647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4" name="Line 8"/>
          <p:cNvSpPr/>
          <p:nvPr/>
        </p:nvSpPr>
        <p:spPr>
          <a:xfrm>
            <a:off x="5651640" y="2637000"/>
            <a:ext cx="1368360" cy="576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5" name="Line 9"/>
          <p:cNvSpPr/>
          <p:nvPr/>
        </p:nvSpPr>
        <p:spPr>
          <a:xfrm flipH="1" flipV="1">
            <a:off x="1835280" y="4869000"/>
            <a:ext cx="1512720" cy="1008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6" name="Line 10"/>
          <p:cNvSpPr/>
          <p:nvPr/>
        </p:nvSpPr>
        <p:spPr>
          <a:xfrm flipV="1">
            <a:off x="5651640" y="4797360"/>
            <a:ext cx="1584360" cy="1152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7" name="Line 11"/>
          <p:cNvSpPr/>
          <p:nvPr/>
        </p:nvSpPr>
        <p:spPr>
          <a:xfrm flipH="1">
            <a:off x="2410920" y="3645000"/>
            <a:ext cx="505080" cy="287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8" name="Line 12"/>
          <p:cNvSpPr/>
          <p:nvPr/>
        </p:nvSpPr>
        <p:spPr>
          <a:xfrm>
            <a:off x="6084720" y="3645000"/>
            <a:ext cx="505080" cy="287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9" name="Line 13"/>
          <p:cNvSpPr/>
          <p:nvPr/>
        </p:nvSpPr>
        <p:spPr>
          <a:xfrm flipH="1" flipV="1">
            <a:off x="2411280" y="4292640"/>
            <a:ext cx="1224000" cy="504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0" name="Line 14"/>
          <p:cNvSpPr/>
          <p:nvPr/>
        </p:nvSpPr>
        <p:spPr>
          <a:xfrm flipV="1">
            <a:off x="5292720" y="4292640"/>
            <a:ext cx="1224000" cy="504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47680" y="312840"/>
            <a:ext cx="8362800" cy="15336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6666"/>
                </a:solidFill>
                <a:latin typeface="Verdana"/>
              </a:rPr>
              <a:t>Д</a:t>
            </a:r>
            <a:r>
              <a:rPr b="0" lang="ru-RU" sz="3200" spc="-1" strike="noStrike">
                <a:solidFill>
                  <a:srgbClr val="006666"/>
                </a:solidFill>
                <a:latin typeface="Verdana"/>
              </a:rPr>
              <a:t>октор</a:t>
            </a:r>
            <a:r>
              <a:rPr b="0" lang="de-DE" sz="3200" spc="-1" strike="noStrike">
                <a:solidFill>
                  <a:srgbClr val="006666"/>
                </a:solidFill>
                <a:latin typeface="Verdana"/>
              </a:rPr>
              <a:t> мед</a:t>
            </a:r>
            <a:r>
              <a:rPr b="0" lang="ru-RU" sz="3200" spc="-1" strike="noStrike">
                <a:solidFill>
                  <a:srgbClr val="006666"/>
                </a:solidFill>
                <a:latin typeface="Verdana"/>
              </a:rPr>
              <a:t>ицины</a:t>
            </a:r>
            <a:r>
              <a:rPr b="0" lang="de-DE" sz="3200" spc="-1" strike="noStrike">
                <a:solidFill>
                  <a:srgbClr val="006666"/>
                </a:solidFill>
                <a:latin typeface="Verdana"/>
              </a:rPr>
              <a:t> Ханс-Хайнрих Реккевег </a:t>
            </a:r>
            <a:br>
              <a:rPr sz="3200"/>
            </a:br>
            <a:r>
              <a:rPr b="0" lang="de-DE" sz="3200" spc="-1" strike="noStrike">
                <a:solidFill>
                  <a:srgbClr val="006666"/>
                </a:solidFill>
                <a:latin typeface="Verdana"/>
              </a:rPr>
              <a:t>1905–1985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3" name="Picture 3" descr=""/>
          <p:cNvPicPr/>
          <p:nvPr/>
        </p:nvPicPr>
        <p:blipFill>
          <a:blip r:embed="rId1"/>
          <a:stretch/>
        </p:blipFill>
        <p:spPr>
          <a:xfrm>
            <a:off x="1981080" y="2514600"/>
            <a:ext cx="4800600" cy="3430440"/>
          </a:xfrm>
          <a:prstGeom prst="rect">
            <a:avLst/>
          </a:prstGeom>
          <a:ln w="9360">
            <a:solidFill>
              <a:srgbClr val="006699"/>
            </a:solidFill>
            <a:miter/>
          </a:ln>
        </p:spPr>
      </p:pic>
      <p:sp>
        <p:nvSpPr>
          <p:cNvPr id="2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2">
            <a:hlinkClick r:id="rId1" action="ppaction://hlinksldjump"/>
          </p:cNvPr>
          <p:cNvSpPr/>
          <p:nvPr/>
        </p:nvSpPr>
        <p:spPr>
          <a:xfrm flipV="1">
            <a:off x="179280" y="6858000"/>
            <a:ext cx="863640" cy="100080"/>
          </a:xfrm>
          <a:prstGeom prst="rect">
            <a:avLst/>
          </a:prstGeom>
          <a:gradFill rotWithShape="0">
            <a:gsLst>
              <a:gs pos="0">
                <a:srgbClr val="f4e9ff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6" name="Rectangle 3"/>
          <p:cNvSpPr/>
          <p:nvPr/>
        </p:nvSpPr>
        <p:spPr>
          <a:xfrm>
            <a:off x="0" y="115920"/>
            <a:ext cx="9144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Pragmatica"/>
              </a:rPr>
              <a:t>ТАБЛИЦА 6 ФАЗ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196920" y="1844640"/>
          <a:ext cx="8737560" cy="4719600"/>
        </p:xfrm>
        <a:graphic>
          <a:graphicData uri="http://schemas.openxmlformats.org/drawingml/2006/table">
            <a:tbl>
              <a:tblPr/>
              <a:tblGrid>
                <a:gridCol w="1307880"/>
                <a:gridCol w="887400"/>
                <a:gridCol w="617760"/>
                <a:gridCol w="307800"/>
                <a:gridCol w="1373400"/>
                <a:gridCol w="1319040"/>
                <a:gridCol w="1187640"/>
                <a:gridCol w="1736640"/>
              </a:tblGrid>
              <a:tr h="103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Фаза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экскреции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c99ff"/>
                        </a:gs>
                        <a:gs pos="50000">
                          <a:srgbClr val="edfad2"/>
                        </a:gs>
                        <a:gs pos="100000">
                          <a:srgbClr val="cc99ff"/>
                        </a:gs>
                      </a:gsLst>
                      <a:lin ang="5400000"/>
                    </a:gra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Фаза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реакции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c99ff"/>
                        </a:gs>
                        <a:gs pos="50000">
                          <a:srgbClr val="edfad2"/>
                        </a:gs>
                        <a:gs pos="100000">
                          <a:srgbClr val="cc99ff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Фаза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депонирования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c99ff"/>
                        </a:gs>
                        <a:gs pos="50000">
                          <a:srgbClr val="edfad2"/>
                        </a:gs>
                        <a:gs pos="100000">
                          <a:srgbClr val="cc99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Фаза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импрегнации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c99ff"/>
                        </a:gs>
                        <a:gs pos="50000">
                          <a:srgbClr val="edfad2"/>
                        </a:gs>
                        <a:gs pos="100000">
                          <a:srgbClr val="cc99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Фаза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дегенерации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c99ff"/>
                        </a:gs>
                        <a:gs pos="50000">
                          <a:srgbClr val="edfad2"/>
                        </a:gs>
                        <a:gs pos="100000">
                          <a:srgbClr val="cc99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Фаза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новообразования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c99ff"/>
                        </a:gs>
                        <a:gs pos="50000">
                          <a:srgbClr val="edfad2"/>
                        </a:gs>
                        <a:gs pos="100000">
                          <a:srgbClr val="cc99ff"/>
                        </a:gs>
                      </a:gsLst>
                      <a:lin ang="5400000"/>
                    </a:gradFill>
                  </a:tcPr>
                </a:tc>
              </a:tr>
              <a:tr h="90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Эктодерма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c99ff"/>
                        </a:gs>
                        <a:gs pos="100000">
                          <a:srgbClr val="edfad2"/>
                        </a:gs>
                      </a:gsLst>
                      <a:lin ang="5400000"/>
                    </a:gra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03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Энтодерма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c99ff"/>
                        </a:gs>
                        <a:gs pos="100000">
                          <a:srgbClr val="edfad2"/>
                        </a:gs>
                      </a:gsLst>
                      <a:lin ang="5400000"/>
                    </a:gra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9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Мезенхима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c99ff"/>
                        </a:gs>
                        <a:gs pos="100000">
                          <a:srgbClr val="edfad2"/>
                        </a:gs>
                      </a:gsLst>
                      <a:lin ang="5400000"/>
                    </a:gra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0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Мезодерма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c99ff"/>
                        </a:gs>
                        <a:gs pos="100000">
                          <a:srgbClr val="edfad2"/>
                        </a:gs>
                      </a:gsLst>
                      <a:lin ang="5400000"/>
                    </a:gra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28" name="Text Box 39"/>
          <p:cNvSpPr/>
          <p:nvPr/>
        </p:nvSpPr>
        <p:spPr>
          <a:xfrm>
            <a:off x="2342520" y="1125360"/>
            <a:ext cx="178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99ff"/>
                </a:solidFill>
                <a:latin typeface="Pragmatica"/>
              </a:rPr>
              <a:t>ГУМОРАЛЬНЫЕ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9" name="Text Box 40"/>
          <p:cNvSpPr/>
          <p:nvPr/>
        </p:nvSpPr>
        <p:spPr>
          <a:xfrm>
            <a:off x="4641120" y="1125360"/>
            <a:ext cx="152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99ff"/>
                </a:solidFill>
                <a:latin typeface="Pragmatica"/>
              </a:rPr>
              <a:t>МАТРИЧНЫЕ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0" name="Text Box 41"/>
          <p:cNvSpPr/>
          <p:nvPr/>
        </p:nvSpPr>
        <p:spPr>
          <a:xfrm>
            <a:off x="6596280" y="1125360"/>
            <a:ext cx="145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99ff"/>
                </a:solidFill>
                <a:latin typeface="Pragmatica"/>
              </a:rPr>
              <a:t>КЛЕТОЧНЫЕ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1" name="Line 42"/>
          <p:cNvSpPr/>
          <p:nvPr/>
        </p:nvSpPr>
        <p:spPr>
          <a:xfrm>
            <a:off x="2340000" y="1628640"/>
            <a:ext cx="1224000" cy="0"/>
          </a:xfrm>
          <a:prstGeom prst="line">
            <a:avLst/>
          </a:prstGeom>
          <a:ln w="19080">
            <a:solidFill>
              <a:srgbClr val="cc99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2" name="Line 43"/>
          <p:cNvSpPr/>
          <p:nvPr/>
        </p:nvSpPr>
        <p:spPr>
          <a:xfrm>
            <a:off x="7236000" y="1628640"/>
            <a:ext cx="1223640" cy="0"/>
          </a:xfrm>
          <a:prstGeom prst="line">
            <a:avLst/>
          </a:prstGeom>
          <a:ln w="19080">
            <a:solidFill>
              <a:srgbClr val="cc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3" name="Text Box 44"/>
          <p:cNvSpPr/>
          <p:nvPr/>
        </p:nvSpPr>
        <p:spPr>
          <a:xfrm>
            <a:off x="4846680" y="2936880"/>
            <a:ext cx="228600" cy="31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c3300"/>
                </a:solidFill>
                <a:latin typeface="Pragmatica"/>
              </a:rPr>
              <a:t>БИОЛОГИЧЕСКИЙ БАРЬЕР</a:t>
            </a:r>
            <a:endParaRPr b="0" lang="en-US" sz="1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ff"/>
                </a:solidFill>
                <a:latin typeface="Verdana"/>
              </a:rPr>
              <a:t>Большая система защиты</a:t>
            </a:r>
            <a:br>
              <a:rPr sz="3200"/>
            </a:br>
            <a:r>
              <a:rPr b="1" lang="ru-RU" sz="3200" spc="-1" strike="noStrike">
                <a:solidFill>
                  <a:srgbClr val="9933ff"/>
                </a:solidFill>
                <a:latin typeface="Verdana"/>
              </a:rPr>
              <a:t>организма</a:t>
            </a: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1. РЭС (моноциты,  макрофаги)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2. Передняя доля гипофиза-надпочечники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3. Нервно-рефлекторная защита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4. Дезинтоксикационная функция печени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5. Дезинтоксикационная функция СТ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73080"/>
            <a:ext cx="7772400" cy="1573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9933ff"/>
                </a:solidFill>
                <a:latin typeface="Verdana"/>
              </a:rPr>
              <a:t>Комплексные антигомотоксические препараты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8051760" cy="465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6699"/>
                </a:solidFill>
                <a:latin typeface="Verdana"/>
              </a:rPr>
              <a:t>Рецептуры на основе многолетней реперторизации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6699"/>
                </a:solidFill>
                <a:latin typeface="Verdana"/>
              </a:rPr>
              <a:t>Сокращение времени на поиск монопрепаратов согласно принципу подобия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6699"/>
                </a:solidFill>
                <a:latin typeface="Verdana"/>
              </a:rPr>
              <a:t>Могут назначаться по 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клиническим </a:t>
            </a:r>
            <a:r>
              <a:rPr b="0" lang="de-DE" sz="2400" spc="-1" strike="noStrike">
                <a:solidFill>
                  <a:srgbClr val="006699"/>
                </a:solidFill>
                <a:latin typeface="Verdana"/>
              </a:rPr>
              <a:t>показаниям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6699"/>
                </a:solidFill>
                <a:latin typeface="Verdana"/>
              </a:rPr>
              <a:t>Действуют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на патогенетические механизмы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Способствуют в</a:t>
            </a:r>
            <a:r>
              <a:rPr b="0" lang="de-DE" sz="2400" spc="-1" strike="noStrike">
                <a:solidFill>
                  <a:srgbClr val="006699"/>
                </a:solidFill>
                <a:latin typeface="Verdana"/>
              </a:rPr>
              <a:t>ыв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едению</a:t>
            </a:r>
            <a:r>
              <a:rPr b="0" lang="de-DE" sz="2400" spc="-1" strike="noStrike">
                <a:solidFill>
                  <a:srgbClr val="006699"/>
                </a:solidFill>
                <a:latin typeface="Verdana"/>
              </a:rPr>
              <a:t> токсин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ов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6699"/>
                </a:solidFill>
                <a:latin typeface="Verdana"/>
              </a:rPr>
              <a:t>Компенсируют вызванные токсинами поражения в организме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(регенерационный механизм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223480" cy="9572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9933ff"/>
                </a:solidFill>
                <a:latin typeface="Arial"/>
              </a:rPr>
              <a:t>Комплексные </a:t>
            </a:r>
            <a:r>
              <a:rPr b="1" lang="ru-RU" sz="4000" spc="-1" strike="noStrike">
                <a:solidFill>
                  <a:srgbClr val="9933ff"/>
                </a:solidFill>
                <a:latin typeface="Arial"/>
              </a:rPr>
              <a:t>АГТ </a:t>
            </a:r>
            <a:r>
              <a:rPr b="1" lang="de-DE" sz="4000" spc="-1" strike="noStrike">
                <a:solidFill>
                  <a:srgbClr val="9933ff"/>
                </a:solidFill>
                <a:latin typeface="Arial"/>
              </a:rPr>
              <a:t>препараты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480" y="1487520"/>
            <a:ext cx="8204400" cy="46022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marL="290520" indent="-29052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de-DE" sz="2800" spc="-1" strike="noStrike">
                <a:solidFill>
                  <a:srgbClr val="006699"/>
                </a:solidFill>
                <a:latin typeface="Verdana"/>
              </a:rPr>
              <a:t>Принцип Бюрги: </a:t>
            </a:r>
            <a:br>
              <a:rPr sz="2800"/>
            </a:b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Н</a:t>
            </a:r>
            <a:r>
              <a:rPr b="0" lang="de-DE" sz="2800" spc="-1" strike="noStrike">
                <a:solidFill>
                  <a:srgbClr val="006699"/>
                </a:solidFill>
                <a:latin typeface="Verdana"/>
              </a:rPr>
              <a:t>есколько веществ, направленных на один симптом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0520" indent="0">
              <a:spcBef>
                <a:spcPts val="700"/>
              </a:spcBef>
              <a:buNone/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1) с</a:t>
            </a:r>
            <a:r>
              <a:rPr b="0" lang="de-DE" sz="2800" spc="-1" strike="noStrike">
                <a:solidFill>
                  <a:srgbClr val="006699"/>
                </a:solidFill>
                <a:latin typeface="Verdana"/>
              </a:rPr>
              <a:t>уммируются в своем действии, если направлены в одну точку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0520" indent="0">
              <a:spcBef>
                <a:spcPts val="700"/>
              </a:spcBef>
              <a:buNone/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2) п</a:t>
            </a:r>
            <a:r>
              <a:rPr b="0" lang="de-DE" sz="2800" spc="-1" strike="noStrike">
                <a:solidFill>
                  <a:srgbClr val="006699"/>
                </a:solidFill>
                <a:latin typeface="Verdana"/>
              </a:rPr>
              <a:t>отенцируются, если действуют на разные точки приложения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1" marL="681120" indent="0">
              <a:spcBef>
                <a:spcPts val="700"/>
              </a:spcBef>
              <a:buNone/>
              <a:tabLst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39640" y="165240"/>
            <a:ext cx="8229600" cy="674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ff"/>
                </a:solidFill>
                <a:latin typeface="Verdana"/>
              </a:rPr>
              <a:t>Композит -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965160"/>
            <a:ext cx="822960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Это комплексное лекарственное средство, в состав которого входят классические гомеопатические компоненты,   суисорганные препараты, нозоды, ферменты дыхательного цикла клетки,витамины, гомеопатизированные аллопатические средства (антибиотики,гормоны,цитостатики), токсины, необходимые для санации определенного органа или ткани организма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2"/>
          <p:cNvSpPr/>
          <p:nvPr/>
        </p:nvSpPr>
        <p:spPr>
          <a:xfrm>
            <a:off x="179280" y="0"/>
            <a:ext cx="863640" cy="6858000"/>
          </a:xfrm>
          <a:prstGeom prst="rect">
            <a:avLst/>
          </a:prstGeom>
          <a:gradFill rotWithShape="0">
            <a:gsLst>
              <a:gs pos="0">
                <a:srgbClr val="f4e9ff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8" name="Rectangle 3"/>
          <p:cNvSpPr/>
          <p:nvPr/>
        </p:nvSpPr>
        <p:spPr>
          <a:xfrm>
            <a:off x="1476360" y="630360"/>
            <a:ext cx="5975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1403280" y="1851120"/>
            <a:ext cx="7056360" cy="21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ff"/>
                </a:solidFill>
                <a:latin typeface="Pragmatica"/>
              </a:rPr>
              <a:t>ГОМАККОРД</a:t>
            </a:r>
            <a:r>
              <a:rPr b="1" lang="ru-RU" sz="1800" spc="-1" strike="noStrike">
                <a:solidFill>
                  <a:srgbClr val="9933ff"/>
                </a:solidFill>
                <a:latin typeface="Pragmatica"/>
              </a:rPr>
              <a:t> -</a:t>
            </a:r>
            <a:r>
              <a:rPr b="1" lang="ru-RU" sz="1800" spc="-1" strike="noStrike">
                <a:solidFill>
                  <a:srgbClr val="006699"/>
                </a:solidFill>
                <a:latin typeface="Pragmatica"/>
              </a:rPr>
              <a:t> </a:t>
            </a:r>
            <a:r>
              <a:rPr b="1" lang="ru-RU" sz="2400" spc="-1" strike="noStrike">
                <a:solidFill>
                  <a:srgbClr val="006699"/>
                </a:solidFill>
                <a:latin typeface="Pragmatica"/>
              </a:rPr>
              <a:t>это комплексное антигомотоксическое средство, каждый компонент которого представлен как в низких, так и в высоких разведениях (аккорд потенций)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44600" y="304920"/>
            <a:ext cx="7937280" cy="109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33ff"/>
                </a:solidFill>
                <a:latin typeface="Times New Roman"/>
              </a:rPr>
              <a:t>Деятельность семейного врача</a:t>
            </a:r>
            <a:endParaRPr b="0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228240" y="153648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ff"/>
                </a:solidFill>
                <a:latin typeface="American-Uncial-Normal"/>
              </a:rPr>
              <a:t>Цель:</a:t>
            </a:r>
            <a:r>
              <a:rPr b="1" lang="ru-RU" sz="3200" spc="-1" strike="noStrike">
                <a:solidFill>
                  <a:srgbClr val="006699"/>
                </a:solidFill>
                <a:latin typeface="Times New Roman"/>
              </a:rPr>
              <a:t> высокий уровень качества жизни наблюдаемых пациентов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9933ff"/>
                </a:solidFill>
                <a:latin typeface="American-Uncial-Normal"/>
              </a:rPr>
              <a:t>Технологии</a:t>
            </a:r>
            <a:r>
              <a:rPr b="1" lang="ru-RU" sz="3200" spc="-1" strike="noStrike">
                <a:solidFill>
                  <a:srgbClr val="f2dffd"/>
                </a:solidFill>
                <a:latin typeface="American-Uncial-Normal"/>
              </a:rPr>
              <a:t>:</a:t>
            </a:r>
            <a:r>
              <a:rPr b="1" lang="ru-RU" sz="3200" spc="-1" strike="noStrike">
                <a:solidFill>
                  <a:srgbClr val="006699"/>
                </a:solidFill>
                <a:latin typeface="Times New Roman"/>
              </a:rPr>
              <a:t> лечебный стандарт, физиотерапевтичекие и натуропатические технологии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ff"/>
                </a:solidFill>
                <a:latin typeface="American-Uncial-Normal"/>
              </a:rPr>
              <a:t>Клинические эффекты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6699"/>
                </a:solidFill>
                <a:latin typeface="Times New Roman"/>
              </a:rPr>
              <a:t>-купирование симптомов заболевания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Times New Roman"/>
              </a:rPr>
              <a:t>-восстановление нейро-эндокринной и иммунной защты организма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96720" y="196560"/>
            <a:ext cx="8429760" cy="59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ff"/>
                </a:solidFill>
                <a:latin typeface="Verdana"/>
              </a:rPr>
              <a:t>Биологическое значение АГТ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295200" y="1116000"/>
            <a:ext cx="854568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Arial"/>
              </a:rPr>
              <a:t>Возможность эффективной терапии в бессимптомные периоды заболеваний: доклинический и постклинический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Arial"/>
              </a:rPr>
              <a:t>Реализация принципа обратимости патоморфо-функциональных нарушений в органах и тканях после перенесенного заболевания (регенерационный и протекторный тканевые эффекты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Arial"/>
              </a:rPr>
              <a:t>Профилактика развития заболеваний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33ff"/>
                </a:solidFill>
                <a:latin typeface="Verdana"/>
              </a:rPr>
              <a:t>Лечебная стратегия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Период обострений: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  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стандарты ОМС на фоне антигомотоксической терапии в режиме инициирующей терапии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Ранний и отсроченные восстановительные периоды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АГТ терапия в режиме долгосрочной терапии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2"/>
          <p:cNvSpPr/>
          <p:nvPr/>
        </p:nvSpPr>
        <p:spPr>
          <a:xfrm>
            <a:off x="0" y="-27000"/>
            <a:ext cx="863640" cy="6885000"/>
          </a:xfrm>
          <a:prstGeom prst="rect">
            <a:avLst/>
          </a:prstGeom>
          <a:gradFill rotWithShape="0">
            <a:gsLst>
              <a:gs pos="0">
                <a:srgbClr val="f4e9ff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8" name="Rectangle 3"/>
          <p:cNvSpPr/>
          <p:nvPr/>
        </p:nvSpPr>
        <p:spPr>
          <a:xfrm>
            <a:off x="0" y="1159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99ff"/>
                </a:solidFill>
                <a:latin typeface="Pragmatica"/>
              </a:rPr>
              <a:t>          </a:t>
            </a:r>
            <a:r>
              <a:rPr b="1" lang="ru-RU" sz="2800" spc="-1" strike="noStrike">
                <a:solidFill>
                  <a:srgbClr val="cc99ff"/>
                </a:solidFill>
                <a:latin typeface="Pragmatica"/>
              </a:rPr>
              <a:t>РЕЖИМ ИНИЦИИРУЮЩИЙ ТЕРАПИИ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grpSp>
        <p:nvGrpSpPr>
          <p:cNvPr id="259" name="Group 4"/>
          <p:cNvGrpSpPr/>
          <p:nvPr/>
        </p:nvGrpSpPr>
        <p:grpSpPr>
          <a:xfrm>
            <a:off x="1116000" y="2924280"/>
            <a:ext cx="504720" cy="358560"/>
            <a:chOff x="1116000" y="2924280"/>
            <a:chExt cx="504720" cy="358560"/>
          </a:xfrm>
        </p:grpSpPr>
        <p:sp>
          <p:nvSpPr>
            <p:cNvPr id="260" name="Oval 5"/>
            <p:cNvSpPr/>
            <p:nvPr/>
          </p:nvSpPr>
          <p:spPr>
            <a:xfrm>
              <a:off x="1116000" y="2924280"/>
              <a:ext cx="360360" cy="358560"/>
            </a:xfrm>
            <a:prstGeom prst="ellips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61" name="Oval 6"/>
            <p:cNvSpPr/>
            <p:nvPr/>
          </p:nvSpPr>
          <p:spPr>
            <a:xfrm>
              <a:off x="1260360" y="2924280"/>
              <a:ext cx="360360" cy="3585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262" name="Text Box 7"/>
          <p:cNvSpPr/>
          <p:nvPr/>
        </p:nvSpPr>
        <p:spPr>
          <a:xfrm>
            <a:off x="1476360" y="1341360"/>
            <a:ext cx="669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Pragmatica"/>
              </a:rPr>
              <a:t>(острые заболевания, стадия обострения хронической патологии):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3" name="Text Box 8"/>
          <p:cNvSpPr/>
          <p:nvPr/>
        </p:nvSpPr>
        <p:spPr>
          <a:xfrm>
            <a:off x="1835280" y="2852640"/>
            <a:ext cx="648180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Pragmatica"/>
              </a:rPr>
              <a:t>Разовая доза препарата через 15 минут каждые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Pragmatica"/>
              </a:rPr>
              <a:t> </a:t>
            </a:r>
            <a:r>
              <a:rPr b="1" lang="ru-RU" sz="2000" spc="-1" strike="noStrike">
                <a:solidFill>
                  <a:srgbClr val="006699"/>
                </a:solidFill>
                <a:latin typeface="Pragmatica"/>
              </a:rPr>
              <a:t>2 часа;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Pragmatica"/>
              </a:rPr>
              <a:t>Растворы для инъекций – ежедневно в</a:t>
            </a:r>
            <a:r>
              <a:rPr b="1" lang="en-US" sz="2000" spc="-1" strike="noStrike">
                <a:solidFill>
                  <a:srgbClr val="006699"/>
                </a:solidFill>
                <a:latin typeface="Pragmatica"/>
              </a:rPr>
              <a:t>/</a:t>
            </a:r>
            <a:r>
              <a:rPr b="1" lang="ru-RU" sz="2000" spc="-1" strike="noStrike">
                <a:solidFill>
                  <a:srgbClr val="006699"/>
                </a:solidFill>
                <a:latin typeface="Pragmatica"/>
              </a:rPr>
              <a:t>м или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Pragmatica"/>
              </a:rPr>
              <a:t>п</a:t>
            </a:r>
            <a:r>
              <a:rPr b="1" lang="en-US" sz="2000" spc="-1" strike="noStrike">
                <a:solidFill>
                  <a:srgbClr val="006699"/>
                </a:solidFill>
                <a:latin typeface="Pragmatica"/>
              </a:rPr>
              <a:t>/</a:t>
            </a:r>
            <a:r>
              <a:rPr b="1" lang="ru-RU" sz="2000" spc="-1" strike="noStrike">
                <a:solidFill>
                  <a:srgbClr val="006699"/>
                </a:solidFill>
                <a:latin typeface="Pragmatica"/>
              </a:rPr>
              <a:t>к( в тяжелых случаях -  до 2-3 раз в день)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grpSp>
        <p:nvGrpSpPr>
          <p:cNvPr id="264" name="Group 9"/>
          <p:cNvGrpSpPr/>
          <p:nvPr/>
        </p:nvGrpSpPr>
        <p:grpSpPr>
          <a:xfrm>
            <a:off x="1116000" y="4149720"/>
            <a:ext cx="504720" cy="358920"/>
            <a:chOff x="1116000" y="4149720"/>
            <a:chExt cx="504720" cy="358920"/>
          </a:xfrm>
        </p:grpSpPr>
        <p:sp>
          <p:nvSpPr>
            <p:cNvPr id="265" name="Oval 10"/>
            <p:cNvSpPr/>
            <p:nvPr/>
          </p:nvSpPr>
          <p:spPr>
            <a:xfrm>
              <a:off x="1116000" y="4149720"/>
              <a:ext cx="360360" cy="358920"/>
            </a:xfrm>
            <a:prstGeom prst="ellips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66" name="Oval 11"/>
            <p:cNvSpPr/>
            <p:nvPr/>
          </p:nvSpPr>
          <p:spPr>
            <a:xfrm>
              <a:off x="1260360" y="4149720"/>
              <a:ext cx="360360" cy="358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2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2"/>
          <p:cNvSpPr/>
          <p:nvPr/>
        </p:nvSpPr>
        <p:spPr>
          <a:xfrm>
            <a:off x="0" y="0"/>
            <a:ext cx="863640" cy="6858000"/>
          </a:xfrm>
          <a:prstGeom prst="rect">
            <a:avLst/>
          </a:prstGeom>
          <a:gradFill rotWithShape="0">
            <a:gsLst>
              <a:gs pos="0">
                <a:srgbClr val="f4e9ff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9" name="Rectangle 3"/>
          <p:cNvSpPr/>
          <p:nvPr/>
        </p:nvSpPr>
        <p:spPr>
          <a:xfrm>
            <a:off x="0" y="1159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ff"/>
                </a:solidFill>
                <a:latin typeface="Pragmatica"/>
              </a:rPr>
              <a:t>          </a:t>
            </a:r>
            <a:r>
              <a:rPr b="1" lang="ru-RU" sz="2800" spc="-1" strike="noStrike">
                <a:solidFill>
                  <a:srgbClr val="cc99ff"/>
                </a:solidFill>
                <a:latin typeface="Pragmatica"/>
              </a:rPr>
              <a:t>РЕЖИМ ДОЛГОВРЕМЕННОЙ ТЕРАПИИ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grpSp>
        <p:nvGrpSpPr>
          <p:cNvPr id="270" name="Group 4"/>
          <p:cNvGrpSpPr/>
          <p:nvPr/>
        </p:nvGrpSpPr>
        <p:grpSpPr>
          <a:xfrm>
            <a:off x="1204920" y="3241800"/>
            <a:ext cx="504720" cy="358560"/>
            <a:chOff x="1204920" y="3241800"/>
            <a:chExt cx="504720" cy="358560"/>
          </a:xfrm>
        </p:grpSpPr>
        <p:sp>
          <p:nvSpPr>
            <p:cNvPr id="271" name="Oval 5"/>
            <p:cNvSpPr/>
            <p:nvPr/>
          </p:nvSpPr>
          <p:spPr>
            <a:xfrm>
              <a:off x="1204920" y="3241800"/>
              <a:ext cx="360360" cy="358560"/>
            </a:xfrm>
            <a:prstGeom prst="ellips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72" name="Oval 6"/>
            <p:cNvSpPr/>
            <p:nvPr/>
          </p:nvSpPr>
          <p:spPr>
            <a:xfrm>
              <a:off x="1349280" y="3241800"/>
              <a:ext cx="360360" cy="3585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273" name="Text Box 7"/>
          <p:cNvSpPr/>
          <p:nvPr/>
        </p:nvSpPr>
        <p:spPr>
          <a:xfrm>
            <a:off x="1476360" y="1341360"/>
            <a:ext cx="669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Pragmatica"/>
              </a:rPr>
              <a:t>(стихающее обострение, ранний и отсроченный восстановительный периоды, период ремиссии, противорецидивное лечение):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4" name="Text Box 8"/>
          <p:cNvSpPr/>
          <p:nvPr/>
        </p:nvSpPr>
        <p:spPr>
          <a:xfrm>
            <a:off x="1835280" y="3246480"/>
            <a:ext cx="69847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Pragmatica"/>
              </a:rPr>
              <a:t>Разовая доза препарата - в 3-х разовом режиме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Pragmatica"/>
              </a:rPr>
              <a:t>(10 кап. или 1 табл.)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Pragmatica"/>
              </a:rPr>
              <a:t>Растворы для инъекций – 1-2 раза в неделю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grpSp>
        <p:nvGrpSpPr>
          <p:cNvPr id="275" name="Group 9"/>
          <p:cNvGrpSpPr/>
          <p:nvPr/>
        </p:nvGrpSpPr>
        <p:grpSpPr>
          <a:xfrm>
            <a:off x="1281240" y="4657680"/>
            <a:ext cx="504720" cy="358920"/>
            <a:chOff x="1281240" y="4657680"/>
            <a:chExt cx="504720" cy="358920"/>
          </a:xfrm>
        </p:grpSpPr>
        <p:sp>
          <p:nvSpPr>
            <p:cNvPr id="276" name="Oval 10"/>
            <p:cNvSpPr/>
            <p:nvPr/>
          </p:nvSpPr>
          <p:spPr>
            <a:xfrm>
              <a:off x="1281240" y="4657680"/>
              <a:ext cx="360360" cy="358920"/>
            </a:xfrm>
            <a:prstGeom prst="ellips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77" name="Oval 11"/>
            <p:cNvSpPr/>
            <p:nvPr/>
          </p:nvSpPr>
          <p:spPr>
            <a:xfrm>
              <a:off x="1425600" y="4657680"/>
              <a:ext cx="360360" cy="358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2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185560" y="448920"/>
            <a:ext cx="6435720" cy="222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2603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33ff"/>
                </a:solidFill>
                <a:latin typeface="Antiqua-Bold"/>
              </a:rPr>
              <a:t>КРИТЕРИИ ЭФФЕКТИВНОСТИ</a:t>
            </a:r>
            <a:br>
              <a:rPr sz="3600"/>
            </a:br>
            <a:r>
              <a:rPr b="0" lang="ru-RU" sz="3600" spc="-1" strike="noStrike">
                <a:solidFill>
                  <a:srgbClr val="9933ff"/>
                </a:solidFill>
                <a:latin typeface="Antiqua-Bold"/>
              </a:rPr>
              <a:t>  антигомотоксической терапии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2712600"/>
            <a:ext cx="8229600" cy="33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Купирование симптомов заболевания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Сокращение сроков лечения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Отсутствие побочных реакций и осложнений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Повышение качества жизни (самочувствие, активность, настроение, сон, аппетит, трудоспособность)на период от 6 до 18 месяцев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42800" y="314280"/>
            <a:ext cx="8244000" cy="204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33ff"/>
                </a:solidFill>
                <a:latin typeface="Verdana"/>
              </a:rPr>
              <a:t>Тканевые и клеточные эффекты антигомотоксической терапии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3190680"/>
            <a:ext cx="8229600" cy="33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Регенерационный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Тканеопротекторный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Трофикостимулирующий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Системорегулирующий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Иммуно- и эндокрино-регуляционный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33ff"/>
                </a:solidFill>
                <a:latin typeface="Verdana"/>
              </a:rPr>
              <a:t>Наши наблюдения</a:t>
            </a:r>
            <a:endParaRPr b="0" lang="en-US" sz="5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775880"/>
            <a:ext cx="8229600" cy="428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435</a:t>
            </a: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 пациентов из 1</a:t>
            </a: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42</a:t>
            </a: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 семей, наблюдаемых по поводу различных хронических заболеваний в течение 5-7 лет.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Мамы в возрасте от 24 до 38 лет с детьми в возрасте до 14 лет с заболеваниями нервной системы и аллергическими заболеваниями  на фоне ССТкН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1069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ff"/>
                </a:solidFill>
                <a:latin typeface="Verdana"/>
              </a:rPr>
              <a:t>Контрольные группы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11240"/>
            <a:ext cx="82296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99"/>
                </a:solidFill>
                <a:latin typeface="Times New Roman"/>
              </a:rPr>
              <a:t>314 пациентов с аналогичными заболеваниями для каждой основной группы наблюдений с использованием только стандартных терапевтических подходов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ff"/>
                </a:solidFill>
                <a:latin typeface="Verdana"/>
              </a:rPr>
              <a:t>Методы контроля клинической  эффективности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Оценка клинической картины заболевания, длительности периода обострения , выраженности симптомов, частоты обострений заболеваний в течение года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Стандартные виды диагностики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Методы электропунктурной диагностики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Оценка по шкале САН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Оценка качества жизни по шкалам и опросникам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33ff"/>
                </a:solidFill>
                <a:latin typeface="Times New Roman"/>
              </a:rPr>
              <a:t>Критерии клинической эффективности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сроки купирования симптомов заболевания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нормализация клинических и параклинических параметров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нормализация  электропроводности в точках акупунктуры (ТА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качество жизни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03040"/>
            <a:ext cx="6870600" cy="22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ff"/>
                </a:solidFill>
                <a:latin typeface="Verdana"/>
              </a:rPr>
              <a:t>Особенности заболеваний в семейной медицине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3112920"/>
            <a:ext cx="8229600" cy="293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99"/>
                </a:solidFill>
                <a:latin typeface="Verdana"/>
              </a:rPr>
              <a:t>Вялотекущий характер хронических процессов  с обострениями умеренной степени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3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99"/>
                </a:solidFill>
                <a:latin typeface="Verdana"/>
              </a:rPr>
              <a:t>выраженности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42800" y="363600"/>
            <a:ext cx="8244000" cy="1054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9933ff"/>
                </a:solidFill>
                <a:latin typeface="Times New Roman"/>
              </a:rPr>
              <a:t>ОРЗ и хронические заболевания бронхолегочной системы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*Энгистол</a:t>
            </a: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 (Engystol)</a:t>
            </a: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, Галиум-хеель</a:t>
            </a: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 (Galium-heel)</a:t>
            </a: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, Бронхалис-хеель</a:t>
            </a: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(Bronchalis-heel)</a:t>
            </a: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, Мукоза композитум</a:t>
            </a: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 (Mucosa compositum)</a:t>
            </a: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Эхинацея композитум (</a:t>
            </a: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Echinacea compositum</a:t>
            </a: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) Эуфорбиум композитум (</a:t>
            </a: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Euphorbium compositum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58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*НЧМСТ, аэроионоингаляционная терапия, пунктурная электротерапия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58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*точечный массаж, дыхательная гимнастика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58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Клиническая эффективность в случае проведения 2-3 курсов терапии в течение 1-1,5 лет составляет </a:t>
            </a: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79</a:t>
            </a: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,7%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58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(в группе контроля - 4</a:t>
            </a: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7</a:t>
            </a: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8</a:t>
            </a: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%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815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ff"/>
                </a:solidFill>
                <a:latin typeface="Times New Roman"/>
              </a:rPr>
              <a:t>Аллергозы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455480"/>
            <a:ext cx="8229600" cy="467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Г</a:t>
            </a: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алиум-хеель</a:t>
            </a: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 (Galium-heel)</a:t>
            </a: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, Лимфомиозот (</a:t>
            </a: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Lymphomiozot)</a:t>
            </a: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, псоринохеель</a:t>
            </a: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 (Psorinoheel)</a:t>
            </a: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, кутис композитум</a:t>
            </a: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 Cutis cjmpositum)</a:t>
            </a: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, мукоза композитум </a:t>
            </a: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(Mucosa compositum)</a:t>
            </a: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Люффель (</a:t>
            </a: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Luffel</a:t>
            </a: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052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НЧМСТ, направленная аэроионотерапия, рефлексотерапия, точечный массаж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052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Клиническая эффективность в случае проведения 2-3 курсов терапии в течение 1-2 лет составляет </a:t>
            </a: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77</a:t>
            </a: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3</a:t>
            </a: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%(в группе контроля - 3</a:t>
            </a: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9</a:t>
            </a: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6</a:t>
            </a: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%)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052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98240" y="-360"/>
            <a:ext cx="8086680" cy="166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ff"/>
                </a:solidFill>
                <a:latin typeface="Times New Roman"/>
              </a:rPr>
              <a:t>Последствия перинатальных энцефалопатий, ДЦП, </a:t>
            </a:r>
            <a:br>
              <a:rPr sz="3600"/>
            </a:br>
            <a:r>
              <a:rPr b="1" lang="ru-RU" sz="3600" spc="-1" strike="noStrike">
                <a:solidFill>
                  <a:srgbClr val="9933ff"/>
                </a:solidFill>
                <a:latin typeface="Times New Roman"/>
              </a:rPr>
              <a:t>НФ НКГМ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725480"/>
            <a:ext cx="8470800" cy="476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Церебрум композитум (</a:t>
            </a: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Cerebrum compositum)</a:t>
            </a: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, Траумеель С</a:t>
            </a: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 (Traumeel S)</a:t>
            </a: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, Коэнзим композитум</a:t>
            </a: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 (Coensym compositum)</a:t>
            </a: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Убихинон композитум (</a:t>
            </a: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Ubihinon compositum)</a:t>
            </a: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, Вертигохееель</a:t>
            </a: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 (Vertigoheel</a:t>
            </a: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)</a:t>
            </a: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 Спигелон (</a:t>
            </a: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Spigelon</a:t>
            </a: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Спаскупреель (</a:t>
            </a: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Spascupreel</a:t>
            </a: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), Нервохеель (</a:t>
            </a: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Nervoheel)</a:t>
            </a: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, Валериана-хеель</a:t>
            </a: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 (Valeriana-heel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рефлексотерапия, гомеосиниатрия, полисенсорная релаксация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Клиническая эффективность в случае проведения 3-4 курсов терапии в течение 1,5-3 лет составляет 78,9%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(в группе контроля - 54,5%)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963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ff"/>
                </a:solidFill>
                <a:latin typeface="Times New Roman"/>
              </a:rPr>
              <a:t>Нарушения осанки  Заболевания суставов и позвоночника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2480760"/>
            <a:ext cx="8229600" cy="35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Times New Roman"/>
              </a:rPr>
              <a:t>*</a:t>
            </a:r>
            <a:r>
              <a:rPr b="1" lang="ru-RU" sz="2400" spc="-1" strike="noStrike">
                <a:solidFill>
                  <a:srgbClr val="006699"/>
                </a:solidFill>
                <a:latin typeface="Times New Roman"/>
              </a:rPr>
              <a:t>Траумеель</a:t>
            </a: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6699"/>
                </a:solidFill>
                <a:latin typeface="Times New Roman"/>
              </a:rPr>
              <a:t>С (</a:t>
            </a: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Traumeel S</a:t>
            </a:r>
            <a:r>
              <a:rPr b="1" lang="ru-RU" sz="2400" spc="-1" strike="noStrike">
                <a:solidFill>
                  <a:srgbClr val="006699"/>
                </a:solidFill>
                <a:latin typeface="Times New Roman"/>
              </a:rPr>
              <a:t>), Цель Т(</a:t>
            </a: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Zeel T )</a:t>
            </a:r>
            <a:r>
              <a:rPr b="1" lang="ru-RU" sz="2400" spc="-1" strike="noStrike">
                <a:solidFill>
                  <a:srgbClr val="006699"/>
                </a:solidFill>
                <a:latin typeface="Times New Roman"/>
              </a:rPr>
              <a:t>, Дискус композитум </a:t>
            </a: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(Discus compositum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Times New Roman"/>
              </a:rPr>
              <a:t>*Рефлексотерапия, гомеосиниатрия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Times New Roman"/>
              </a:rPr>
              <a:t>*НЧЭТ, НЧМСТ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Times New Roman"/>
              </a:rPr>
              <a:t>*сегментарный  и точечный массаж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Times New Roman"/>
              </a:rPr>
              <a:t>*щадящее вытяжение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6699"/>
                </a:solidFill>
                <a:latin typeface="Times New Roman"/>
              </a:rPr>
              <a:t>Клиническая эффективность в случае проведения 2-3 курсов терапии в течение 1-1,5 лет составляет </a:t>
            </a: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79</a:t>
            </a:r>
            <a:r>
              <a:rPr b="1" lang="ru-RU" sz="2400" spc="-1" strike="noStrike">
                <a:solidFill>
                  <a:srgbClr val="006699"/>
                </a:solidFill>
                <a:latin typeface="Times New Roman"/>
              </a:rPr>
              <a:t>,2%(в группе контроля - 5</a:t>
            </a: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3</a:t>
            </a:r>
            <a:r>
              <a:rPr b="1" lang="ru-RU" sz="2400" spc="-1" strike="noStrike">
                <a:solidFill>
                  <a:srgbClr val="006699"/>
                </a:solidFill>
                <a:latin typeface="Times New Roman"/>
              </a:rPr>
              <a:t>,7%)    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645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33ff"/>
                </a:solidFill>
                <a:latin typeface="Verdana"/>
              </a:rPr>
              <a:t>Принципы терапии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885600"/>
            <a:ext cx="7696080" cy="46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99"/>
                </a:solidFill>
                <a:latin typeface="Times New Roman"/>
              </a:rPr>
              <a:t>- </a:t>
            </a:r>
            <a:r>
              <a:rPr b="1" lang="ru-RU" sz="3200" spc="-1" strike="noStrike">
                <a:solidFill>
                  <a:srgbClr val="006699"/>
                </a:solidFill>
                <a:latin typeface="Times New Roman"/>
              </a:rPr>
              <a:t>Индивидуально разработанные схемы лечения по результатам стандартной и биофизической диагностики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Times New Roman"/>
              </a:rPr>
              <a:t>- </a:t>
            </a:r>
            <a:r>
              <a:rPr b="1" lang="ru-RU" sz="3200" spc="-1" strike="noStrike">
                <a:solidFill>
                  <a:srgbClr val="006699"/>
                </a:solidFill>
                <a:latin typeface="Times New Roman"/>
              </a:rPr>
              <a:t>Ежемесячная коррекция схем лечения  на основе повторных стандартной и биофизической диагностики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Times New Roman"/>
              </a:rPr>
              <a:t>- </a:t>
            </a:r>
            <a:r>
              <a:rPr b="1" lang="ru-RU" sz="3200" spc="-1" strike="noStrike">
                <a:solidFill>
                  <a:srgbClr val="006699"/>
                </a:solidFill>
                <a:latin typeface="Times New Roman"/>
              </a:rPr>
              <a:t>Повторные лечебные курсы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33ff"/>
                </a:solidFill>
                <a:latin typeface="Verdana"/>
              </a:rPr>
              <a:t>Выводы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применение системной  антигомотоксической терапии в комплекном лечении и реабилитации в семейной медицине приводит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1) к достоверному уменьшению количества обострений и их продолжительности в течение года, уменьшению выраженности симптомов заболевания   в среднем на 83,9%  (в контроле- в 45,8%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2) повышению качества жизни на 25-30%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2036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33ff"/>
                </a:solidFill>
                <a:latin typeface="Terminator Cyr 4"/>
              </a:rPr>
              <a:t>Антигомотоксическая терапия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20840"/>
            <a:ext cx="8229600" cy="38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ff"/>
                </a:solidFill>
                <a:latin typeface="Tiff-Heavy"/>
              </a:rPr>
              <a:t>способствует нормализации структуры и функции основных жизнеобеспечивающих систем организма у часто болеющих пациентов и пациентов с хроническими заболеваниями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2dffd"/>
                </a:solidFill>
                <a:latin typeface="Tiff-Heavy"/>
              </a:rPr>
              <a:t>    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33ff"/>
                </a:solidFill>
                <a:latin typeface="Verdana"/>
              </a:rPr>
              <a:t>Достоинства в педиатрии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полноценное развитие нервной, эндокринной и иммунной систем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профилактика развития заболеваний другой локализации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высокое качество жизни и развития организма ребенка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33ff"/>
                </a:solidFill>
                <a:latin typeface="Verdana"/>
              </a:rPr>
              <a:t>Достоинства в терапии и гериатрии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*замедление процессов преждевременного старения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*длительное сохранение трудоспособности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*профилактика нейрокардио-сосудистых и онкологических заболеваний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6" descr="кремль"/>
          <p:cNvPicPr/>
          <p:nvPr/>
        </p:nvPicPr>
        <p:blipFill>
          <a:blip r:embed="rId1"/>
          <a:srcRect l="0" t="14860" r="0" b="31509"/>
          <a:stretch/>
        </p:blipFill>
        <p:spPr>
          <a:xfrm>
            <a:off x="0" y="1752480"/>
            <a:ext cx="9144000" cy="510552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9" descr="ярмарка"/>
          <p:cNvPicPr/>
          <p:nvPr/>
        </p:nvPicPr>
        <p:blipFill>
          <a:blip r:embed="rId2"/>
          <a:stretch/>
        </p:blipFill>
        <p:spPr>
          <a:xfrm>
            <a:off x="5386320" y="4248000"/>
            <a:ext cx="2970360" cy="177192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10" descr="9"/>
          <p:cNvPicPr/>
          <p:nvPr/>
        </p:nvPicPr>
        <p:blipFill>
          <a:blip r:embed="rId3"/>
          <a:stretch/>
        </p:blipFill>
        <p:spPr>
          <a:xfrm>
            <a:off x="5591160" y="1969920"/>
            <a:ext cx="2598840" cy="1764000"/>
          </a:xfrm>
          <a:prstGeom prst="rect">
            <a:avLst/>
          </a:prstGeom>
          <a:ln w="0">
            <a:noFill/>
          </a:ln>
        </p:spPr>
      </p:pic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cc00ff"/>
                </a:solidFill>
                <a:latin typeface="FreeSetExtraCTT"/>
              </a:rPr>
              <a:t>БЛАГОДАРЮ ЗА ВНИМАНИЕ! </a:t>
            </a:r>
            <a:br>
              <a:rPr sz="2900"/>
            </a:br>
            <a:r>
              <a:rPr b="1" lang="en-US" sz="2900" spc="-1" strike="noStrike">
                <a:solidFill>
                  <a:srgbClr val="cc00ff"/>
                </a:solidFill>
                <a:latin typeface="FreeSetExtraCTT"/>
              </a:rPr>
              <a:t>VIELEN  DANK  FUER AUFMERKSAMKEIT</a:t>
            </a:r>
            <a:r>
              <a:rPr b="0" lang="en-US" sz="2900" spc="-1" strike="noStrike">
                <a:solidFill>
                  <a:srgbClr val="cc00ff"/>
                </a:solidFill>
                <a:latin typeface="FreeSetExtraCTT"/>
              </a:rPr>
              <a:t>!</a:t>
            </a:r>
            <a:endParaRPr b="0" lang="en-US" sz="29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2000" fill="hold"/>
                                        <p:tgtEl>
                                          <p:spTgt spid="32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6" repeatCount="1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" dur="2000" fill="hold"/>
                                        <p:tgtEl>
                                          <p:spTgt spid="32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24000" y="218880"/>
            <a:ext cx="8229600" cy="83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ff"/>
                </a:solidFill>
                <a:latin typeface="Verdana"/>
              </a:rPr>
              <a:t>Хроническое  заболевание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94920" y="1431720"/>
            <a:ext cx="6808680" cy="47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процесс постоянного чередования периодов обострения симптомов и их временного отсутствия (ремиссий) при постоянно существующих вялотекущих патологических тканевых реакциях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5" name="Picture 4" descr="j0234131"/>
          <p:cNvPicPr/>
          <p:nvPr/>
        </p:nvPicPr>
        <p:blipFill>
          <a:blip r:embed="rId1"/>
          <a:stretch/>
        </p:blipFill>
        <p:spPr>
          <a:xfrm>
            <a:off x="7257960" y="4889520"/>
            <a:ext cx="1487520" cy="1566720"/>
          </a:xfrm>
          <a:prstGeom prst="rect">
            <a:avLst/>
          </a:prstGeom>
          <a:ln w="0">
            <a:noFill/>
          </a:ln>
        </p:spPr>
      </p:pic>
      <p:sp>
        <p:nvSpPr>
          <p:cNvPr id="1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33ff"/>
                </a:solidFill>
                <a:latin typeface="Arial"/>
              </a:rPr>
              <a:t>Обострение  хронических заболеваний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Преобладание тканевых патологических реакций (воспаление, дегенерация, их сочетание) с соответствующей клинической симптоматикой над местной иммунной защитой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33ff"/>
                </a:solidFill>
                <a:latin typeface="Arial"/>
              </a:rPr>
              <a:t>Ремиссия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Преобладание общей и местной иммунной защиты над развитием патологических тканевых реакций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ff"/>
                </a:solidFill>
                <a:latin typeface="Verdana"/>
              </a:rPr>
              <a:t>Наиболее распространенные группы нозологий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American-Uncial-Normal"/>
              </a:rPr>
              <a:t>- заболевания дыхательной системы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American-Uncial-Normal"/>
              </a:rPr>
              <a:t>- заболевания цереброваскулярной и сердечно-сосудистой систем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American-Uncial-Normal"/>
              </a:rPr>
              <a:t>- заболевания суставов и позвоночника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American-Uncial-Normal"/>
              </a:rPr>
              <a:t>- клинические проявления метаболического синдрома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American-Uncial-Normal"/>
              </a:rPr>
              <a:t>- онкологические процессы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93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ff"/>
                </a:solidFill>
                <a:latin typeface="Verdana"/>
              </a:rPr>
              <a:t>Современный фон для развития хронических заболеваний 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2708280"/>
            <a:ext cx="8229600" cy="33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5000"/>
              </a:lnSpc>
              <a:spcBef>
                <a:spcPts val="601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Клиническая манифестация синдрома соединительнотканной недостаточности</a:t>
            </a:r>
            <a:r>
              <a:rPr b="0" lang="ru-RU" sz="2400" spc="-1" strike="noStrike">
                <a:solidFill>
                  <a:srgbClr val="0066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lnSpc>
                <a:spcPct val="155000"/>
              </a:lnSpc>
              <a:spcBef>
                <a:spcPts val="9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6699"/>
                </a:solidFill>
                <a:latin typeface="Arial"/>
              </a:rPr>
              <a:t>Проблема нарастания клеточной патологии периферической иммунной системы (СТ) у пациентов молодого</a:t>
            </a:r>
            <a:r>
              <a:rPr b="0" lang="ru-RU" sz="2400" spc="-1" strike="noStrike">
                <a:solidFill>
                  <a:srgbClr val="006699"/>
                </a:solidFill>
                <a:latin typeface="Antiqua-Bold"/>
              </a:rPr>
              <a:t> возраста и детей</a:t>
            </a:r>
            <a:r>
              <a:rPr b="0" lang="ru-RU" sz="3600" spc="-1" strike="noStrike">
                <a:solidFill>
                  <a:srgbClr val="006699"/>
                </a:solidFill>
                <a:latin typeface="Antiqua-Bold"/>
              </a:rPr>
              <a:t>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ff"/>
                </a:solidFill>
                <a:latin typeface="Times New Roman"/>
              </a:rPr>
              <a:t>Синдром соединительнотканной недостаточности (ССТкН)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21560" cy="49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Клиническая манифестация ССТкН: астенический тип телосложения,  синдром Эйлорса-Данлоса, плоскостопие, сколиотические изменения позвоночника,  заболевания крупных суставов в молодом возрасте, венозная недостаточность, большое количество половых инфекций, бесплодие, быстрая хронизация заболеваний на фоне соединительнотканного дефицита 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2T12:42:29Z</dcterms:created>
  <dc:creator>shevnin</dc:creator>
  <dc:description/>
  <dc:language>en-US</dc:language>
  <cp:lastModifiedBy>LEGION</cp:lastModifiedBy>
  <dcterms:modified xsi:type="dcterms:W3CDTF">2014-11-07T11:07:48Z</dcterms:modified>
  <cp:revision>22</cp:revision>
  <dc:subject/>
  <dc:title>Системный подход и оздоровительные технологии в деятельности врачей общей практики</dc:title>
</cp:coreProperties>
</file>