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DEA6-6A45-4048-B489-2D5A122C3A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../slides/slide16.xml"/><Relationship Id="rId8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02EE-3181-4215-98CB-BCAD89F919D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Цели  реабилитационн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числа обострений н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выраженности симптомов в период обос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ное восстановление очага -излечение (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6239-E483-4F05-8B52-3282B924F1E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33ff"/>
                </a:solidFill>
                <a:latin typeface="Calibri"/>
              </a:rPr>
              <a:t>Антигомотоксическая медиц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граничение поступления гомотокси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ь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ренажная и дезинтоксикационн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Актив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очного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Имму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ция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и иммуномод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F8C7-3DC1-4F64-A7D4-1BAB91AB88B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о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м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цины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Ханс-Хайнрих Реккевег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905–19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0A54-F4D2-4CE3-BC8F-2124042E627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Большая система защиты</a:t>
            </a:r>
            <a:br>
              <a:rPr sz="1200"/>
            </a:b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организ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ЭС (моноциты,  макрофаг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едняя доля гипофиза-надпоче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рвно-рефлекторная защ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зинтоксикационная функция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зинтоксикационная функция 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FC35-EFD7-490B-9DA8-F8C969D06FC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33ff"/>
                </a:solidFill>
                <a:latin typeface="Calibri"/>
              </a:rPr>
              <a:t>Комплексные антигомотоксические препар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Рецептуры на основе многолетней реперто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Сокращение времени на поиск монопрепаратов согласно принципу подоб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огут назначаться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м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показ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ейству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патогенетические мех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ы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ению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токс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Компенсируют вызванные токсинами поражения в организ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генерационный механ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EE75-8EF6-4906-97CD-45323754BAF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C585-006E-4CBC-9D3F-428CB0C7790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Композит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A641-7BEE-47D3-8351-F100ECA2540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2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8816-98FA-4122-8986-35735677976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0" lang="ru-RU" sz="1200" spc="-1" strike="noStrike">
                <a:solidFill>
                  <a:srgbClr val="800080"/>
                </a:solidFill>
                <a:latin typeface="American-Uncial-Norm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упирование симптомов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EB4F-7DBE-4BEA-8159-1EAEAA7A2F9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Биологическое значение АГ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ка развития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1A29-6729-4893-905E-25F8BF3BC35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Лечеб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остр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ОМС на фоне антигомотоксической терапии в режиме инициирующей терап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й и отсроченные восстановительные пери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Т терапия в режиме долгосроч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CCD8-20C6-45C0-BAA9-EA5847D5DFF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ИНИЦИИРУЮЩИ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м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к( в тяжелых случаях -  до 2-3 раз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5409-40BA-4915-A15D-9C9164EF84F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ДОЛГОВРЕМЕН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10 кап. или 1 таб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1-2 раза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9794-4985-4ECF-B754-E5C1B48C5B6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ирование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бочных реакций и осло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E971-D10B-42D6-9020-4A201E1391A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Calibri"/>
              </a:rPr>
              <a:t>Тканевые и клеточные эффекты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енера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канеопротектор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фик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орег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- и эндокрино-регуля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3CE7-A712-4615-A059-B421AACFCC3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alibri"/>
              </a:rPr>
              <a:t>Наши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ациентов из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0F8C-77DE-4FED-ACB8-6D4F9D44402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Контрольн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EE4E-404B-4BBA-BD0A-11B02F0B89D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Методы контроля клинической  эффектив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ые виды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электропунктурн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по шкале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35DD-4548-4C2E-936E-2908AF3C4EB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5DEA-9012-4656-B9DA-5C0E38E47D3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Особенности заболеваний в семейной медици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лотекущий характер хронических процессов  с обострениями умерен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8987-CAAF-4966-B156-BDC941758D9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Энгисто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Engysto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Г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Бронхалис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nchalis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хинацея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acea composit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Эуфорби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phorbium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2874-FF6E-4D18-B2E2-608413E0D8B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Лимфомиоз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miozot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сорино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sorin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утис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utis cj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фф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ff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(в группе контроля -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C3DF-EAB0-4497-BE5D-73AE5D71108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1600"/>
            </a:b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ребр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ebru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Траумеель 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raumeel S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энзим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oensy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бихинон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bihinon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ертигохе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ertigoh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игело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gel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купр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scupr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Нервох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алериана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aleriana-he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54,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2C85-D3EC-46A9-8F66-E38B7739072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аумеел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umeel S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, Цель Т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el T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Дискус композиту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cus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Рефлексотерапия, гомеосиниа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НЧЭТ, НЧМ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сегментарный  и точечный масса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щадящее вы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2%(в группе контроля -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7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1229-E0B3-4999-AAD0-E7062258904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Принципы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торные лечебные к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982-426A-4709-BCB2-04F709E7E8A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повышению качества жизни на 25-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FBD-804D-4C5F-9C66-3160B6AACAF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Tiff-Heavy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5D4-4B9B-440E-A5DD-C8B63340EEE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пед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C077-D54F-4554-BD30-E064A805B52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терапии и гер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A2C7-7498-4BED-BBB9-94E1387B006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1200"/>
            </a:br>
            <a:r>
              <a:rPr b="1" lang="en-US" sz="12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12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970-5381-431F-B066-8B5E767ED6A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Хроническое  заболе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AE70-9F2F-4CE5-9B07-0EEAA33A1FF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9B03-9CF2-400B-8B74-04479279CCB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98D8-DED2-4DE9-8F61-EF9DFE10A35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Наиболее распространенные группы ноз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дыхатель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онкологические процес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FFE7-B3BE-4844-A8FE-FA7F302752B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Современный фон для развития хронических заболева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1200" spc="-1" strike="noStrike">
                <a:solidFill>
                  <a:srgbClr val="000000"/>
                </a:solidFill>
                <a:latin typeface="Antiqua-Bold"/>
              </a:rPr>
              <a:t> возраста и детей</a:t>
            </a:r>
            <a:r>
              <a:rPr b="0" lang="ru-RU" sz="1800" spc="-1" strike="noStrike">
                <a:solidFill>
                  <a:srgbClr val="000000"/>
                </a:solidFill>
                <a:latin typeface="Antiqua-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639E-0B97-42DB-9EDB-8CD1DF1023C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8E17-41EF-4ED3-9FC5-66C62443E30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062-8DB3-486A-BB5A-878D1DA0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998-567E-4BB6-A58F-5143A238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DE3-0BF9-480B-9245-FD5BE74C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611-24C9-41E7-B19E-11FB4D88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4B82-7113-4C24-926F-5B2FE031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678D-4E59-4A45-A714-486960DE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DB4A-28DA-4223-9FFE-4B23AA09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2B4D-3FF3-41CC-9BEF-3A53F035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8276-F853-4C0B-BA3E-035A5C0C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7420-E16B-43C1-A44D-709619B9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058E-D59D-48FE-9847-48A9F557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D9C-4091-4206-9F4F-B04B11B7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0E05-08EC-40B5-98E5-F26BA457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30CC-EA0C-4A0E-A3BF-BBA156B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985F-3321-464F-A3F9-4BEA068B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65BB-2743-4532-ADF0-6DBA229F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AE78-F5F8-458F-B0B9-8840C29F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4FA-FF99-4F9F-A830-DC75014B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031-AC61-43F0-A877-2EE77F78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A87-4646-41F0-A135-AA8E1D53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288-D04F-438E-93CF-F47CDC03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584-B17D-4A51-B33A-B61189CB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078-7CBF-43E7-BA7F-1FBD0B4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89D-54E0-4DDE-AEDC-9121C6BA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25B9-0090-4B1C-9ACD-F458FC0C8D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5855-6EF1-4D90-B020-F3472AB5EF1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3200"/>
            </a:b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356760"/>
            <a:ext cx="8285040" cy="13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Цели  реабилитационн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0120" y="2180880"/>
            <a:ext cx="778176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числа обострений на единицу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выраженности симптомов в период обост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олное восстановление очага -излечение (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120" y="267840"/>
            <a:ext cx="7826400" cy="110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Verdana"/>
              </a:rPr>
              <a:t>Антигомотоксическая медицин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82640"/>
            <a:ext cx="8166240" cy="4284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граничение поступления гомотокси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нутрь кл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Дренажная и дезинтоксикационная терап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Активац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еточного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метабол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рга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 ткан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Иммун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уляция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и иммуномодуля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3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ОСНОВНЫЕ ПРИНЦИПЫ ТЕРАПИИ КОМПЛЕКСНЫМИ БИОЛОГИЧЕСКИМИ ПРЕПАРАТА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195640" y="2421000"/>
            <a:ext cx="4608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РЕГУЛЯ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ЕЗИНТОКСИК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РЕНАЖ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АКТИВ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9640" y="3357720"/>
            <a:ext cx="187164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ОРГАН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588000" y="3284640"/>
            <a:ext cx="223200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СИСТЕМ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1908000" y="2637000"/>
            <a:ext cx="13687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651640" y="2637000"/>
            <a:ext cx="1368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 flipH="1" flipV="1">
            <a:off x="1835280" y="4869000"/>
            <a:ext cx="151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5651640" y="4797360"/>
            <a:ext cx="158436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24109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60847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241128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529272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7680" y="312840"/>
            <a:ext cx="8362800" cy="153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октор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ме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цины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Ханс-Хайнрих Реккевег 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1905–1985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4304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 flipV="1">
            <a:off x="179280" y="6858000"/>
            <a:ext cx="863640" cy="10008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Pragmatica"/>
              </a:rPr>
              <a:t>ТАБЛИЦА 6 ФАЗ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6920" y="1844640"/>
          <a:ext cx="8737560" cy="4719600"/>
        </p:xfrm>
        <a:graphic>
          <a:graphicData uri="http://schemas.openxmlformats.org/drawingml/2006/table">
            <a:tbl>
              <a:tblPr/>
              <a:tblGrid>
                <a:gridCol w="1307880"/>
                <a:gridCol w="887400"/>
                <a:gridCol w="617760"/>
                <a:gridCol w="307800"/>
                <a:gridCol w="1373400"/>
                <a:gridCol w="1319040"/>
                <a:gridCol w="1187640"/>
                <a:gridCol w="173664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кскре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ак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понир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мпрегн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генер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к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н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енхи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39"/>
          <p:cNvSpPr/>
          <p:nvPr/>
        </p:nvSpPr>
        <p:spPr>
          <a:xfrm>
            <a:off x="2342520" y="112536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ГУМОРАЛЬ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4641120" y="11253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МАТРИ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6596280" y="112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КЛЕТО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42"/>
          <p:cNvSpPr/>
          <p:nvPr/>
        </p:nvSpPr>
        <p:spPr>
          <a:xfrm>
            <a:off x="2340000" y="1628640"/>
            <a:ext cx="1224000" cy="0"/>
          </a:xfrm>
          <a:prstGeom prst="line">
            <a:avLst/>
          </a:prstGeom>
          <a:ln w="19080">
            <a:solidFill>
              <a:srgbClr val="c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43"/>
          <p:cNvSpPr/>
          <p:nvPr/>
        </p:nvSpPr>
        <p:spPr>
          <a:xfrm>
            <a:off x="7236000" y="1628640"/>
            <a:ext cx="1223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44"/>
          <p:cNvSpPr/>
          <p:nvPr/>
        </p:nvSpPr>
        <p:spPr>
          <a:xfrm>
            <a:off x="4846680" y="2936880"/>
            <a:ext cx="2286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Pragmatica"/>
              </a:rPr>
              <a:t>БИОЛОГИЧЕСКИЙ БАРЬЕР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Большая система защиты</a:t>
            </a:r>
            <a:br>
              <a:rPr sz="3200"/>
            </a:b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организм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РЭС (моноциты,  макрофаги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ередняя доля гипофиза-надпочечн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Нервно-рефлекторная защи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Дезинтоксикационная функция печ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Дезинтоксикационная функция 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3080"/>
            <a:ext cx="77724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33ff"/>
                </a:solidFill>
                <a:latin typeface="Verdana"/>
              </a:rPr>
              <a:t>Комплексные антигомотоксические препарат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05176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Рецептуры на основе многолетней реперториз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Сокращение времени на поиск монопрепаратов согласно принципу подоб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Могут назначаться по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линическим 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показания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Действую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на патогенетические механиз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пособствуют в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ыв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едению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 токсин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Компенсируют вызванные токсинами поражения в организ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регенерационный механизм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23480" cy="957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487520"/>
            <a:ext cx="8204400" cy="4602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90520" indent="-290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) с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) п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81120" indent="0">
              <a:spcBef>
                <a:spcPts val="7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6524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мпозит -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6516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476360" y="630360"/>
            <a:ext cx="59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403280" y="1851120"/>
            <a:ext cx="7056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8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8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304920"/>
            <a:ext cx="793728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240" y="153648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1" lang="ru-RU" sz="3200" spc="-1" strike="noStrike">
                <a:solidFill>
                  <a:srgbClr val="f2dffd"/>
                </a:solidFill>
                <a:latin typeface="American-Uncial-Normal"/>
              </a:rPr>
              <a:t>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купирование симптомов заболева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720" y="196560"/>
            <a:ext cx="842976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Биологическое значение АГ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5200" y="1116000"/>
            <a:ext cx="8545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рофилактика развития заболев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Verdana"/>
              </a:rPr>
              <a:t>Лечебная стратег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риод обострений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ндарты ОМС на фоне антигомотоксической терапии в режиме инициирующей терапи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нний и отсроченные восстановительные период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ГТ терапия в режиме долгосрочной терап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-27000"/>
            <a:ext cx="863640" cy="6885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ИНИЦИИРУЮЩИ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1116000" y="2924280"/>
            <a:ext cx="504720" cy="358560"/>
            <a:chOff x="1116000" y="2924280"/>
            <a:chExt cx="504720" cy="358560"/>
          </a:xfrm>
        </p:grpSpPr>
        <p:sp>
          <p:nvSpPr>
            <p:cNvPr id="260" name="Oval 5"/>
            <p:cNvSpPr/>
            <p:nvPr/>
          </p:nvSpPr>
          <p:spPr>
            <a:xfrm>
              <a:off x="1116000" y="292428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260360" y="292428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2" name="Text Box 7"/>
          <p:cNvSpPr/>
          <p:nvPr/>
        </p:nvSpPr>
        <p:spPr>
          <a:xfrm>
            <a:off x="1476360" y="1341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835280" y="2852640"/>
            <a:ext cx="6481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2 час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м ил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п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к( в тяжелых случаях -  до 2-3 раз в день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1116000" y="4149720"/>
            <a:ext cx="504720" cy="358920"/>
            <a:chOff x="1116000" y="4149720"/>
            <a:chExt cx="504720" cy="358920"/>
          </a:xfrm>
        </p:grpSpPr>
        <p:sp>
          <p:nvSpPr>
            <p:cNvPr id="265" name="Oval 10"/>
            <p:cNvSpPr/>
            <p:nvPr/>
          </p:nvSpPr>
          <p:spPr>
            <a:xfrm>
              <a:off x="1116000" y="414972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Oval 11"/>
            <p:cNvSpPr/>
            <p:nvPr/>
          </p:nvSpPr>
          <p:spPr>
            <a:xfrm>
              <a:off x="1260360" y="414972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ДОЛГОВРЕМЕННО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1204920" y="3241800"/>
            <a:ext cx="504720" cy="358560"/>
            <a:chOff x="1204920" y="3241800"/>
            <a:chExt cx="504720" cy="358560"/>
          </a:xfrm>
        </p:grpSpPr>
        <p:sp>
          <p:nvSpPr>
            <p:cNvPr id="271" name="Oval 5"/>
            <p:cNvSpPr/>
            <p:nvPr/>
          </p:nvSpPr>
          <p:spPr>
            <a:xfrm>
              <a:off x="1204920" y="324180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>
              <a:off x="1349280" y="324180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1476360" y="13413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835280" y="3246480"/>
            <a:ext cx="698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(10 кап. или 1 табл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1-2 раза в недел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1281240" y="4657680"/>
            <a:ext cx="504720" cy="358920"/>
            <a:chOff x="1281240" y="4657680"/>
            <a:chExt cx="504720" cy="358920"/>
          </a:xfrm>
        </p:grpSpPr>
        <p:sp>
          <p:nvSpPr>
            <p:cNvPr id="276" name="Oval 10"/>
            <p:cNvSpPr/>
            <p:nvPr/>
          </p:nvSpPr>
          <p:spPr>
            <a:xfrm>
              <a:off x="1281240" y="465768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1425600" y="465768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5560" y="448920"/>
            <a:ext cx="6435720" cy="22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пирование симптомов заболе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кращение сроков леч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побочных реакций и осложнен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44000" cy="20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Verdana"/>
              </a:rPr>
              <a:t>Тканевые и клеточные эффекты антигомотоксическ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190680"/>
            <a:ext cx="8229600" cy="33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енера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канеопротекто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рофикостим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стеморег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ммуно- и эндокрино-регуля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Verdana"/>
              </a:rPr>
              <a:t>Наши наблюдени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35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пациентов из 1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2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нтрольные групп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1124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Методы контроля клинической  эффектив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тандартные виды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етоды электропунктурной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по шкале СА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ачество жиз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3040"/>
            <a:ext cx="68706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Особенности заболеваний в семейной медицин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11292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ялотекущий характер хронических процессов  с обострениями умеренной степен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ыражен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363600"/>
            <a:ext cx="82440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Энгистол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Engysto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Галиум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Бронхалис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Bronchalis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Мукоза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Mucosa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хинацея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chinacea compositum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 Эуфорби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uphorbium compositu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7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4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лиум-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Лимфомиозот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ymphomiozot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псорино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Psorino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кутис композитум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Cutis cj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мукоза композитум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(Mucosa co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юффель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uffel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77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(в группе контроля - 3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8240" y="-360"/>
            <a:ext cx="808668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3600"/>
            </a:b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25480"/>
            <a:ext cx="84708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Церебр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erebru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Траумеель С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Traumeel S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Коэнзим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Coensy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бихинон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Ubihinon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ертигохе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ertigoh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Спигелон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igelon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паскупр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ascupr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, Нервох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Nervo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алериана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aleriana-hee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54,5%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48076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Траумеель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 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raumeel S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), Цель Т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Zeel T )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 Дискус композитум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(Discus compositum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Рефлексотерапия, гомеосиниатр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НЧЭТ, НЧМС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сегментарный  и точечный массаж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щадящее вытяж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2%(в группе контроля - 5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7%)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Принципы терап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88560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вторные лечебные кур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2) повышению качества жизни на 25-30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20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dffd"/>
                </a:solidFill>
                <a:latin typeface="Tiff-Heavy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пед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терапии и гер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кремль"/>
          <p:cNvPicPr/>
          <p:nvPr/>
        </p:nvPicPr>
        <p:blipFill>
          <a:blip r:embed="rId1"/>
          <a:srcRect l="0" t="14860" r="0" b="3150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ярмарка"/>
          <p:cNvPicPr/>
          <p:nvPr/>
        </p:nvPicPr>
        <p:blipFill>
          <a:blip r:embed="rId2"/>
          <a:stretch/>
        </p:blipFill>
        <p:spPr>
          <a:xfrm>
            <a:off x="5386320" y="4248000"/>
            <a:ext cx="29703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9"/>
          <p:cNvPicPr/>
          <p:nvPr/>
        </p:nvPicPr>
        <p:blipFill>
          <a:blip r:embed="rId3"/>
          <a:stretch/>
        </p:blipFill>
        <p:spPr>
          <a:xfrm>
            <a:off x="5591160" y="1969920"/>
            <a:ext cx="2598840" cy="1764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2900"/>
            </a:br>
            <a:r>
              <a:rPr b="1" lang="en-US" sz="29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29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1888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Хроническое  заболев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31720"/>
            <a:ext cx="680868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j0234131"/>
          <p:cNvPicPr/>
          <p:nvPr/>
        </p:nvPicPr>
        <p:blipFill>
          <a:blip r:embed="rId1"/>
          <a:stretch/>
        </p:blipFill>
        <p:spPr>
          <a:xfrm>
            <a:off x="7257960" y="4889520"/>
            <a:ext cx="1487520" cy="15667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Наиболее распространенные группы нозологи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дыхательной систе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онкологические процес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Современный фон для развития хронических заболеваний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5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55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2400" spc="-1" strike="noStrike">
                <a:solidFill>
                  <a:srgbClr val="006699"/>
                </a:solidFill>
                <a:latin typeface="Antiqua-Bold"/>
              </a:rPr>
              <a:t> возраста и детей</a:t>
            </a:r>
            <a:r>
              <a:rPr b="0" lang="ru-RU" sz="3600" spc="-1" strike="noStrike">
                <a:solidFill>
                  <a:srgbClr val="006699"/>
                </a:solidFill>
                <a:latin typeface="Antiqua-Bold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2156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2:42:29Z</dcterms:created>
  <dc:creator>shevnin</dc:creator>
  <dc:description/>
  <dc:language>en-US</dc:language>
  <cp:lastModifiedBy>LEGION</cp:lastModifiedBy>
  <dcterms:modified xsi:type="dcterms:W3CDTF">2014-11-07T11:07:48Z</dcterms:modified>
  <cp:revision>22</cp:revision>
  <dc:subject/>
  <dc:title>Системный подход и оздоровительные технологии в деятельности врачей общей практики</dc:title>
</cp:coreProperties>
</file>