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B9AB-E6AE-46EB-9CEF-D74403289D1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../slides/slide11.xml"/><Relationship Id="rId6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" Target="../slides/slide16.xml"/><Relationship Id="rId8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Антигомотоксическое сопровождение пациентов с хроническими заболеваниями в практике семейного вр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Antiqua-Bold"/>
              </a:rPr>
              <a:t>Т.Е.Белоусова</a:t>
            </a:r>
            <a:br>
              <a:rPr sz="1200"/>
            </a:br>
            <a:r>
              <a:rPr b="0" lang="ru-RU" sz="1200" spc="-1" strike="noStrike">
                <a:solidFill>
                  <a:srgbClr val="9933ff"/>
                </a:solidFill>
                <a:latin typeface="Antiqua-Bold"/>
              </a:rPr>
              <a:t>Нижегородская государственная медицинская акаде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E774-0E8E-4C02-A44D-6561458A8BA9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Цели  реабилитационной терап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меньшение числа обострений на единицу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меньшение выраженности симптомов в период обос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ное восстановление очага -излечение (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5660-2695-4A84-A248-674B1FC67EE1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33ff"/>
                </a:solidFill>
                <a:latin typeface="Calibri"/>
              </a:rPr>
              <a:t>Антигомотоксическая медиц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Ограничение поступления гомотокси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утрь кле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Дренажная и дезинтоксикационная 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Актива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еточного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метабол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орга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Имму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ция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и иммуномоду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1F00-2D3D-47D2-AFAF-3C2E64339075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то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ме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цины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Ханс-Хайнрих Реккевег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905–19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7190-CF15-4BDA-859E-2F5C31CD695D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Большая система защиты</a:t>
            </a:r>
            <a:br>
              <a:rPr sz="1200"/>
            </a:b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организм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ЭС (моноциты,  макрофаг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ередняя доля гипофиза-надпоче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ервно-рефлекторная защи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езинтоксикационная функция печ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Дезинтоксикационная функция 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3755-887C-4056-85DC-726E57CB98B6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933ff"/>
                </a:solidFill>
                <a:latin typeface="Calibri"/>
              </a:rPr>
              <a:t>Комплексные антигомотоксические препар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Рецептуры на основе многолетней репертор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Сокращение времени на поиск монопрепаратов согласно принципу подоб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Могут назначаться п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им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показа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Действу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патогенетические мех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ют 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ы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ению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токс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Компенсируют вызванные токсинами поражения в организм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егенерационный механ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4FC7-2F5C-4A8F-86A1-67CD91151E8E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933ff"/>
                </a:solidFill>
                <a:latin typeface="Arial"/>
              </a:rPr>
              <a:t>Комплексные </a:t>
            </a:r>
            <a:r>
              <a:rPr b="1" lang="ru-RU" sz="4000" spc="-1" strike="noStrike">
                <a:solidFill>
                  <a:srgbClr val="9933ff"/>
                </a:solidFill>
                <a:latin typeface="Arial"/>
              </a:rPr>
              <a:t>АГТ </a:t>
            </a:r>
            <a:r>
              <a:rPr b="1" lang="de-DE" sz="4000" spc="-1" strike="noStrike">
                <a:solidFill>
                  <a:srgbClr val="9933ff"/>
                </a:solidFill>
                <a:latin typeface="Arial"/>
              </a:rPr>
              <a:t>препара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Принцип Бюрги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есколько веществ, направленных на один симпто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с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уммируются в своем действии, если направлены в одну точ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п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отенцируются, если действуют на разные точки прилож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1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0AC4-980D-4B1E-BA69-01124BB69434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Calibri"/>
              </a:rPr>
              <a:t>Композит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мплексное лекарственное средство, в состав которого входят классические гомеопатические компоненты,   суисорганные препараты, нозоды, ферменты дыхательного цикла клетки,витамины, гомеопатизированные аллопатические средства (антибиотики,гормоны,цитостатики), токсины, необходимые для санации определенного органа или ткани органи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D3F7-DB76-48A7-96CD-05C69CB42812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Pragmatica"/>
              </a:rPr>
              <a:t>ГОМАККОРД</a:t>
            </a:r>
            <a:r>
              <a:rPr b="1" lang="ru-RU" sz="1200" spc="-1" strike="noStrike">
                <a:solidFill>
                  <a:srgbClr val="9933ff"/>
                </a:solidFill>
                <a:latin typeface="Pragmatica"/>
              </a:rPr>
              <a:t> -</a:t>
            </a: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 это комплексное антигомотоксическое средство, каждый компонент которого представлен как в низких, так и в высоких разведениях (аккорд потенц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3667-A663-4AD2-BA96-CE4C1F945643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Деятельность семейного вр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American-Uncial-Normal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сокий уровень качества жизни наблюдаемых пац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9933ff"/>
                </a:solidFill>
                <a:latin typeface="American-Uncial-Normal"/>
              </a:rPr>
              <a:t>Технологии</a:t>
            </a:r>
            <a:r>
              <a:rPr b="0" lang="ru-RU" sz="1200" spc="-1" strike="noStrike">
                <a:solidFill>
                  <a:srgbClr val="800080"/>
                </a:solidFill>
                <a:latin typeface="American-Uncial-Norm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лечебный стандарт, физиотерапевтичекие и натуропатически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American-Uncial-Normal"/>
              </a:rPr>
              <a:t>Клинические эффек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упирование симптомов заболе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восстановление нейро-эндокринной и иммунной защты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AB82-BCFC-4586-B089-69BB6E3D7804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Calibri"/>
              </a:rPr>
              <a:t>Биологическое значение АГ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можность эффективной терапии в бессимптомные периоды заболеваний: доклинический и постклин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лизация принципа обратимости патоморфо-функциональных нарушений в органах и тканях после перенесенного заболевания (регенерационный и протекторный тканевые эффек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илактика развития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094A-D08B-417F-BC48-345CE64958F4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Лечебная страте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обострени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ОМС на фоне антигомотоксической терапии в режиме инициирующей терап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ий и отсроченные восстановительные пери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Т терапия в режиме долгосрочной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DC35-785B-4F82-B2F8-89F68A178B1C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Pragmatic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Pragmatica"/>
              </a:rPr>
              <a:t>РЕЖИМ ИНИЦИИРУЮЩИЙ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(острые заболевания, стадия обострения хронической патологии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Разовая доза препарата через 15 минут кажд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2 ча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Растворы для инъекций – ежедневно в</a:t>
            </a:r>
            <a:r>
              <a:rPr b="1" lang="en-US" sz="1200" spc="-1" strike="noStrike">
                <a:solidFill>
                  <a:srgbClr val="000000"/>
                </a:solidFill>
                <a:latin typeface="Pragmatica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м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Pragmatica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к( в тяжелых случаях -  до 2-3 раз в ден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E432-9D9D-4CFD-8C24-B3FD69E5E336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Pragmatic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Pragmatica"/>
              </a:rPr>
              <a:t>РЕЖИМ ДОЛГОВРЕМЕННОЙ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(стихающее обострение, ранний и отсроченный восстановительный периоды, период ремиссии, противорецидивное лечение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Разовая доза препарата - в 3-х разовом режи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(10 кап. или 1 таб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Растворы для инъекций – 1-2 раза в нед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1F94-67F4-40DE-8D02-3CD8BC72177E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ff"/>
                </a:solidFill>
                <a:latin typeface="Antiqua-Bold"/>
              </a:rPr>
              <a:t>КРИТЕРИИ ЭФФЕКТИВНОСТИ</a:t>
            </a:r>
            <a:br>
              <a:rPr sz="1600"/>
            </a:br>
            <a:r>
              <a:rPr b="0" lang="ru-RU" sz="1600" spc="-1" strike="noStrike">
                <a:solidFill>
                  <a:srgbClr val="9933ff"/>
                </a:solidFill>
                <a:latin typeface="Antiqua-Bold"/>
              </a:rPr>
              <a:t>  антигомотоксической терап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ирование симптомов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обочных реакций и ослож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качества жизни (самочувствие, активность, настроение, сон, аппетит, трудоспособность)на период от 6 до 18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58ED-5172-4B94-8F20-AEEC6DF0AE41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ff"/>
                </a:solidFill>
                <a:latin typeface="Calibri"/>
              </a:rPr>
              <a:t>Тканевые и клеточные эффекты антигомотоксической терап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енерацио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канеопротектор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офикостимулиру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орегулиру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- и эндокрино-регуляцио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7A6A-1772-4C17-BB70-248A527A15DA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Calibri"/>
              </a:rPr>
              <a:t>Наши наблю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ациентов из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емей, наблюдаемых по поводу различных хронических заболеваний в течение 5-7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мы в возрасте от 24 до 38 лет с детьми в возрасте до 14 лет с заболеваниями нервной системы и аллергическими заболеваниями  на фоне ССТк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3859-95DD-4634-8023-B8281E0D4DF8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Контрольные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4 пациентов с аналогичными заболеваниями для каждой основной группы наблюдений с использованием только стандартных терапевтических под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162F-6681-47EB-B6F1-5223A0CFDF6A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Calibri"/>
              </a:rPr>
              <a:t>Методы контроля клинической  эффектив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линической картины заболевания, длительности периода обострения , выраженности симптомов, частоты обострений заболеваний в течение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ые виды 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ы электропунктурной 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по шкале С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жизни по шкалам и опросни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F566-B4CE-4626-8D38-2CC74F3EBB9C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Times New Roman"/>
              </a:rPr>
              <a:t>Критерии клинической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и купирования симптомов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лизация клинических и параклинических парамет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лизация  электропроводности в точках акупунктуры (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о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1520-C726-4357-9A38-992A5EDBEDB5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Calibri"/>
              </a:rPr>
              <a:t>Особенности заболеваний в семейной медицин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ялотекущий характер хронических процессов  с обострениями умеренной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ж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A925-D39F-4FFD-9973-3AA7E2C16A8D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9933ff"/>
                </a:solidFill>
                <a:latin typeface="Times New Roman"/>
              </a:rPr>
              <a:t>ОРЗ и хронические заболевания бронхолегочной систем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Энгисто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Engysto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Галиум-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Galium-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Бронхалис-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onchalis-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Мукоза композиту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Mucosa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хинацея композитум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acea compositu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 Эуфорбиум композитум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phorbium composit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НЧМСТ, аэроионоингаляционная терапия, пунктурная электро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точечный массаж, дыхательная гимна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ическая эффективность в случае проведения 2-3 курсов терапии в течение 1-1,5 лет с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9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 группе контроля - 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637C-93BF-4A7C-8FB9-2193072F3C85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Аллергоз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лиум-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Galium-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Лимфомиоз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mphomiozot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сорино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Psorino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утис композиту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utis cj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мукоза композиту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ucosa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юффель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ff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ЧМСТ, направленная аэроионотерапия, рефлексотерапия, точечный масса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ическая эффективность в случае проведения 2-3 курсов терапии в течение 1-2 лет с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%(в группе контроля - 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1472-08E7-4911-A16A-FF4573E1ADAD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Последствия перинатальных энцефалопатий, ДЦП, </a:t>
            </a:r>
            <a:br>
              <a:rPr sz="1600"/>
            </a:b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НФ НКГ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ребрум композитум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ebrum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Траумеель 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Traumeel S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энзим композиту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Coensym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бихинон композитум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bihinon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Вертигохе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Vertigohe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пигелон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gel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купреель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scupre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, Нервохеель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o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Валериана-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Valeriana-he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флексотерапия, гомеосиниатрия, полисенсорная релакс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ическая эффективность в случае проведения 3-4 курсов терапии в течение 1,5-3 лет составляет 78,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 группе контроля - 54,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2519-0388-4D8F-A875-D63F14E94685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Нарушения осанки  Заболевания суставов и позвоноч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аумеель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 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umeel S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), Цель Т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el T )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Дискус композитум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Discus composit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*Рефлексотерапия, гомеосиниатр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*НЧЭТ, НЧМС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*сегментарный  и точечный массаж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*щадящее выт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линическая эффективность в случае проведения 2-3 курсов терапии в течение 1-1,5 лет составляет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9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2%(в группе контроля - 5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7%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8341-C3F8-474F-9FD1-DD8A92736052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Принципы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дивидуально разработанные схемы лечения по результатам стандартной и биофизической 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жемесячная коррекция схем лечения  на основе повторных стандартной и биофизической 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торные лечебные кур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6566-F7BB-4908-BB42-DE09226B5431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ение системной  антигомотоксической терапии в комплекном лечении и реабилитации в семейной медицине прив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к достоверному уменьшению количества обострений и их продолжительности в течение года, уменьшению выраженности симптомов заболевания   в среднем на 83,9%  (в контроле- в 45,8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повышению качества жизни на 25-3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A33B-8B91-4A96-B6FF-1ECBC649F027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Terminator Cyr 4"/>
              </a:rPr>
              <a:t>Антигомотоксическая 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Tiff-Heavy"/>
              </a:rPr>
              <a:t>способствует нормализации структуры и функции основных жизнеобеспечивающих систем организма у часто болеющих пациентов и пациентов с хроническими заболев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Tiff-Heavy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2461-CCDA-43BF-8E52-B428B8BB0347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Достоинства в педиат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ноценное развитие нервной, эндокринной и иммунной сист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лактика развития заболеваний другой лок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окое качество жизни и развития организма ребе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60AE-2273-4F4F-A9B3-FC87AEF8AF67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Достоинства в терапии и гериат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замедление процессов преждевременного стар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длительное сохранение трудоспосо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профилактика нейрокардио-сосудистых и онкологических заболев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D523-6340-4BE9-BD04-E3F047C6D3E3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ff"/>
                </a:solidFill>
                <a:latin typeface="FreeSetExtraCTT"/>
              </a:rPr>
              <a:t>БЛАГОДАРЮ ЗА ВНИМАНИЕ! </a:t>
            </a:r>
            <a:br>
              <a:rPr sz="1200"/>
            </a:br>
            <a:r>
              <a:rPr b="1" lang="en-US" sz="1200" spc="-1" strike="noStrike">
                <a:solidFill>
                  <a:srgbClr val="cc00ff"/>
                </a:solidFill>
                <a:latin typeface="FreeSetExtraCTT"/>
              </a:rPr>
              <a:t>VIELEN  DANK  FUER AUFMERKSAMKEIT</a:t>
            </a:r>
            <a:r>
              <a:rPr b="0" lang="en-US" sz="1200" spc="-1" strike="noStrike">
                <a:solidFill>
                  <a:srgbClr val="cc00ff"/>
                </a:solidFill>
                <a:latin typeface="FreeSetExtraCTT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31B3-377B-4BDA-99F7-B32B0BB971EC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Calibri"/>
              </a:rPr>
              <a:t>Хроническое  заболе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цесс постоянного чередования периодов обострения симптомов и их временного отсутствия (ремиссий) при постоянно существующих вялотекущих патологических тканевых реакц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F7A4-1F7E-4272-9ECF-3F41ECC9F287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Обострение  хронически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ние тканевых патологических реакций (воспаление, дегенерация, их сочетание) с соответствующей клинической симптоматикой над местной иммунной защи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2872-1079-4244-A3C8-C2A729E3384E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Реми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ние общей и местной иммунной защиты над развитием патологических тканевых реак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CE1D-6F15-4AC6-A977-F474C5F5B344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Calibri"/>
              </a:rPr>
              <a:t>Наиболее распространенные группы нозолог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заболевания дыхатель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заболевания цереброваскулярной и сердечно-сосудистой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заболевания суставов и позвоноч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клинические проявления метаболического синдр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онкологические процес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377A-77A1-4CD8-9019-E17C98FCBDB9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Calibri"/>
              </a:rPr>
              <a:t>Современный фон для развития хронических заболева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Клиническая манифестация синдрома соединительнотканной недостато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 нарастания клеточной патологии периферической иммунной системы (СТ) у пациентов молодого</a:t>
            </a:r>
            <a:r>
              <a:rPr b="0" lang="ru-RU" sz="1200" spc="-1" strike="noStrike">
                <a:solidFill>
                  <a:srgbClr val="000000"/>
                </a:solidFill>
                <a:latin typeface="Antiqua-Bold"/>
              </a:rPr>
              <a:t> возраста и детей</a:t>
            </a:r>
            <a:r>
              <a:rPr b="0" lang="ru-RU" sz="1800" spc="-1" strike="noStrike">
                <a:solidFill>
                  <a:srgbClr val="000000"/>
                </a:solidFill>
                <a:latin typeface="Antiqua-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6BD0-CBC0-4B7C-B84C-CA527BB3189C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Times New Roman"/>
              </a:rPr>
              <a:t>Синдром соединительнотканной недостаточности (ССТкН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ическая манифестация ССТкН: астенический тип телосложения,  синдром Эйлорса-Данлоса, плоскостопие, сколиотические изменения позвоночника,  заболевания крупных суставов в молодом возрасте, венозная недостаточность, большое количество половых инфекций, бесплодие, быстрая хронизация заболеваний на фоне соединительнотканного дефицит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1616-43CE-46FC-978D-44A92A1D76DF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EEBB-2449-4759-A56B-217BB27C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5635-8F6E-420F-B264-72791270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6F12-21FA-46ED-939D-3782D247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5B4E-5D7C-42A1-8816-3CC908B2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3108-FD18-4680-A9F5-4E2215A7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3334-F72E-4927-BCE4-01F47DD4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11BC-3D02-46FC-9111-23D34E9F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ADA5-241E-4AF3-A3E4-98948CC1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1E96-34DE-48B1-86E3-EF8D7967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4872-CC8F-43F0-9572-B1F3D955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1C44-5F51-4BF4-81BB-BC6EDCE2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D4F6-54A7-4509-BDB3-154B6062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0E74-9B02-4DD3-B30A-39D7AF33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6EB5-23A7-42DC-BBB0-0C3A3E9A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59DB-008E-463C-86F7-ED332F5B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5D94-02D4-4889-B92E-9E747926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BB63-F502-4B9A-8CB4-20665E1F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2EEC-69AB-4775-B9E9-4CB9B930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6199-6CB0-42D5-9333-F653D4DA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4094-4166-4913-BF94-A48535B1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4A9C-DD9E-4986-A3F1-A8FFCF26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8190-B460-400F-BF89-6A356428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D76D-0F6D-400C-B1E8-4F1CC81D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10DA-7048-4060-AC72-E6A1BFD8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7E49-6C3F-4E46-AADB-29E2D2771C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70A2-1732-47A0-A228-49364938EEA8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16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Verdana"/>
              </a:rPr>
              <a:t>Антигомотоксическое сопровождение пациентов с хроническими заболеваниями в практике семейного врач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ntiqua-Bold"/>
              </a:rPr>
              <a:t>Т.Е.Белоусова</a:t>
            </a:r>
            <a:br>
              <a:rPr sz="3200"/>
            </a:br>
            <a:r>
              <a:rPr b="0" lang="ru-RU" sz="3200" spc="-1" strike="noStrike">
                <a:solidFill>
                  <a:srgbClr val="9933ff"/>
                </a:solidFill>
                <a:latin typeface="Antiqua-Bold"/>
              </a:rPr>
              <a:t>Нижегородская государственная медицинская академ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760" y="356760"/>
            <a:ext cx="8285040" cy="136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99ff"/>
                </a:solidFill>
                <a:latin typeface="Verdana"/>
              </a:rPr>
              <a:t>Цели  реабилитационной терапи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0120" y="2180880"/>
            <a:ext cx="778176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Уменьшение числа обострений на единицу времен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Уменьшение выраженности симптомов в период обостр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Полное восстановление очага -излечение (?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8120" y="267840"/>
            <a:ext cx="7826400" cy="11034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933ff"/>
                </a:solidFill>
                <a:latin typeface="Verdana"/>
              </a:rPr>
              <a:t>Антигомотоксическая медицин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82640"/>
            <a:ext cx="8166240" cy="4284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Ограничение поступления гомотоксинов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внутрь клето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Дренажная и дезинтоксикационная терап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Активация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леточного </a:t>
            </a: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метаболизм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органов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и ткане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Иммуно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егуляция</a:t>
            </a: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 и иммуномодуляц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179280" y="0"/>
            <a:ext cx="863640" cy="685800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0" y="630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Pragmatica"/>
              </a:rPr>
              <a:t>ОСНОВНЫЕ ПРИНЦИПЫ ТЕРАПИИ КОМПЛЕКСНЫМИ БИОЛОГИЧЕСКИМИ ПРЕПАРАТАМ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195640" y="2421000"/>
            <a:ext cx="460836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Pragmatica"/>
              </a:rPr>
              <a:t>РЕГУЛЯЦИОННЫ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Pragmatica"/>
              </a:rPr>
              <a:t>ДЕЗИНТОКСИКАЦИОННЫ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Pragmatica"/>
              </a:rPr>
              <a:t>ДРЕНАЖНЫ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Pragmatica"/>
              </a:rPr>
              <a:t>АКТИВАЦИОННЫ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39640" y="3357720"/>
            <a:ext cx="1871640" cy="1387080"/>
          </a:xfrm>
          <a:prstGeom prst="rect">
            <a:avLst/>
          </a:prstGeom>
          <a:solidFill>
            <a:srgbClr val="edfad2"/>
          </a:solidFill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Pragmatica"/>
              </a:rPr>
              <a:t>ОРГАННЫ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6588000" y="3284640"/>
            <a:ext cx="2232000" cy="1387080"/>
          </a:xfrm>
          <a:prstGeom prst="rect">
            <a:avLst/>
          </a:prstGeom>
          <a:solidFill>
            <a:srgbClr val="edfad2"/>
          </a:solidFill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Pragmatica"/>
              </a:rPr>
              <a:t>СИСТЕМНЫ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Line 7"/>
          <p:cNvSpPr/>
          <p:nvPr/>
        </p:nvSpPr>
        <p:spPr>
          <a:xfrm flipH="1">
            <a:off x="1908000" y="2637000"/>
            <a:ext cx="136872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5651640" y="2637000"/>
            <a:ext cx="136836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Line 9"/>
          <p:cNvSpPr/>
          <p:nvPr/>
        </p:nvSpPr>
        <p:spPr>
          <a:xfrm flipH="1" flipV="1">
            <a:off x="1835280" y="4869000"/>
            <a:ext cx="151272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Line 10"/>
          <p:cNvSpPr/>
          <p:nvPr/>
        </p:nvSpPr>
        <p:spPr>
          <a:xfrm flipV="1">
            <a:off x="5651640" y="4797360"/>
            <a:ext cx="158436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Line 11"/>
          <p:cNvSpPr/>
          <p:nvPr/>
        </p:nvSpPr>
        <p:spPr>
          <a:xfrm flipH="1">
            <a:off x="2410920" y="3645000"/>
            <a:ext cx="50508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6084720" y="3645000"/>
            <a:ext cx="50508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 flipH="1" flipV="1">
            <a:off x="2411280" y="4292640"/>
            <a:ext cx="122400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Line 14"/>
          <p:cNvSpPr/>
          <p:nvPr/>
        </p:nvSpPr>
        <p:spPr>
          <a:xfrm flipV="1">
            <a:off x="5292720" y="4292640"/>
            <a:ext cx="122400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7680" y="312840"/>
            <a:ext cx="8362800" cy="15336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66"/>
                </a:solidFill>
                <a:latin typeface="Verdana"/>
              </a:rPr>
              <a:t>Д</a:t>
            </a: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октор</a:t>
            </a:r>
            <a:r>
              <a:rPr b="0" lang="de-DE" sz="3200" spc="-1" strike="noStrike">
                <a:solidFill>
                  <a:srgbClr val="006666"/>
                </a:solidFill>
                <a:latin typeface="Verdana"/>
              </a:rPr>
              <a:t> мед</a:t>
            </a: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ицины</a:t>
            </a:r>
            <a:r>
              <a:rPr b="0" lang="de-DE" sz="3200" spc="-1" strike="noStrike">
                <a:solidFill>
                  <a:srgbClr val="006666"/>
                </a:solidFill>
                <a:latin typeface="Verdana"/>
              </a:rPr>
              <a:t> Ханс-Хайнрих Реккевег </a:t>
            </a:r>
            <a:br>
              <a:rPr sz="3200"/>
            </a:br>
            <a:r>
              <a:rPr b="0" lang="de-DE" sz="3200" spc="-1" strike="noStrike">
                <a:solidFill>
                  <a:srgbClr val="006666"/>
                </a:solidFill>
                <a:latin typeface="Verdana"/>
              </a:rPr>
              <a:t>1905–1985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4800600" cy="343044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>
            <a:hlinkClick r:id="rId1" action="ppaction://hlinksldjump"/>
          </p:cNvPr>
          <p:cNvSpPr/>
          <p:nvPr/>
        </p:nvSpPr>
        <p:spPr>
          <a:xfrm flipV="1">
            <a:off x="179280" y="6858000"/>
            <a:ext cx="863640" cy="10008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0" y="11592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Pragmatica"/>
              </a:rPr>
              <a:t>ТАБЛИЦА 6 ФАЗ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96920" y="1844640"/>
          <a:ext cx="8737560" cy="4719600"/>
        </p:xfrm>
        <a:graphic>
          <a:graphicData uri="http://schemas.openxmlformats.org/drawingml/2006/table">
            <a:tbl>
              <a:tblPr/>
              <a:tblGrid>
                <a:gridCol w="1307880"/>
                <a:gridCol w="887400"/>
                <a:gridCol w="617760"/>
                <a:gridCol w="307800"/>
                <a:gridCol w="1373400"/>
                <a:gridCol w="1319040"/>
                <a:gridCol w="1187640"/>
                <a:gridCol w="1736640"/>
              </a:tblGrid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экскреци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еакци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епонирова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мпрегнаци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егенераци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Эктодер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edfad2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Энтодер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edfad2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Мезенхи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edfad2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Мезодер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edfad2"/>
                        </a:gs>
                      </a:gsLst>
                      <a:lin ang="54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8" name="Text Box 39"/>
          <p:cNvSpPr/>
          <p:nvPr/>
        </p:nvSpPr>
        <p:spPr>
          <a:xfrm>
            <a:off x="2342520" y="1125360"/>
            <a:ext cx="17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ff"/>
                </a:solidFill>
                <a:latin typeface="Pragmatica"/>
              </a:rPr>
              <a:t>ГУМОРАЛЬНЫ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Text Box 40"/>
          <p:cNvSpPr/>
          <p:nvPr/>
        </p:nvSpPr>
        <p:spPr>
          <a:xfrm>
            <a:off x="4641120" y="112536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ff"/>
                </a:solidFill>
                <a:latin typeface="Pragmatica"/>
              </a:rPr>
              <a:t>МАТРИЧНЫ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Text Box 41"/>
          <p:cNvSpPr/>
          <p:nvPr/>
        </p:nvSpPr>
        <p:spPr>
          <a:xfrm>
            <a:off x="6596280" y="112536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ff"/>
                </a:solidFill>
                <a:latin typeface="Pragmatica"/>
              </a:rPr>
              <a:t>КЛЕТОЧНЫ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42"/>
          <p:cNvSpPr/>
          <p:nvPr/>
        </p:nvSpPr>
        <p:spPr>
          <a:xfrm>
            <a:off x="2340000" y="1628640"/>
            <a:ext cx="1224000" cy="0"/>
          </a:xfrm>
          <a:prstGeom prst="line">
            <a:avLst/>
          </a:prstGeom>
          <a:ln w="19080">
            <a:solidFill>
              <a:srgbClr val="cc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Line 43"/>
          <p:cNvSpPr/>
          <p:nvPr/>
        </p:nvSpPr>
        <p:spPr>
          <a:xfrm>
            <a:off x="7236000" y="1628640"/>
            <a:ext cx="1223640" cy="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Text Box 44"/>
          <p:cNvSpPr/>
          <p:nvPr/>
        </p:nvSpPr>
        <p:spPr>
          <a:xfrm>
            <a:off x="4846680" y="2936880"/>
            <a:ext cx="22860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Pragmatica"/>
              </a:rPr>
              <a:t>БИОЛОГИЧЕСКИЙ БАРЬЕР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Verdana"/>
              </a:rPr>
              <a:t>Большая система защиты</a:t>
            </a:r>
            <a:br>
              <a:rPr sz="3200"/>
            </a:br>
            <a:r>
              <a:rPr b="1" lang="ru-RU" sz="3200" spc="-1" strike="noStrike">
                <a:solidFill>
                  <a:srgbClr val="9933ff"/>
                </a:solidFill>
                <a:latin typeface="Verdana"/>
              </a:rPr>
              <a:t>организма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РЭС (моноциты,  макрофаги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Передняя доля гипофиза-надпочечн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Нервно-рефлекторная защит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 Дезинтоксикационная функция печен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Дезинтоксикационная функция С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3080"/>
            <a:ext cx="7772400" cy="15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9933ff"/>
                </a:solidFill>
                <a:latin typeface="Verdana"/>
              </a:rPr>
              <a:t>Комплексные антигомотоксические препараты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05176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Рецептуры на основе многолетней реперторизаци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Сокращение времени на поиск монопрепаратов согласно принципу подоб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Могут назначаться по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линическим </a:t>
            </a: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показания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Действуют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на патогенетические механизм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пособствуют в</a:t>
            </a: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ыв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едению</a:t>
            </a: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 токсин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Компенсируют вызванные токсинами поражения в организме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(регенерационный механизм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23480" cy="9572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933ff"/>
                </a:solidFill>
                <a:latin typeface="Arial"/>
              </a:rPr>
              <a:t>Комплексные </a:t>
            </a:r>
            <a:r>
              <a:rPr b="1" lang="ru-RU" sz="4000" spc="-1" strike="noStrike">
                <a:solidFill>
                  <a:srgbClr val="9933ff"/>
                </a:solidFill>
                <a:latin typeface="Arial"/>
              </a:rPr>
              <a:t>АГТ </a:t>
            </a:r>
            <a:r>
              <a:rPr b="1" lang="de-DE" sz="4000" spc="-1" strike="noStrike">
                <a:solidFill>
                  <a:srgbClr val="9933ff"/>
                </a:solidFill>
                <a:latin typeface="Arial"/>
              </a:rPr>
              <a:t>препарат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487520"/>
            <a:ext cx="8204400" cy="46022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290520" indent="-290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de-DE" sz="2800" spc="-1" strike="noStrike">
                <a:solidFill>
                  <a:srgbClr val="006699"/>
                </a:solidFill>
                <a:latin typeface="Verdana"/>
              </a:rPr>
              <a:t>Принцип Бюрги: 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</a:t>
            </a:r>
            <a:r>
              <a:rPr b="0" lang="de-DE" sz="2800" spc="-1" strike="noStrike">
                <a:solidFill>
                  <a:srgbClr val="006699"/>
                </a:solidFill>
                <a:latin typeface="Verdana"/>
              </a:rPr>
              <a:t>есколько веществ, направленных на один симптом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1) с</a:t>
            </a:r>
            <a:r>
              <a:rPr b="0" lang="de-DE" sz="2800" spc="-1" strike="noStrike">
                <a:solidFill>
                  <a:srgbClr val="006699"/>
                </a:solidFill>
                <a:latin typeface="Verdana"/>
              </a:rPr>
              <a:t>уммируются в своем действии, если направлены в одну точ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2) п</a:t>
            </a:r>
            <a:r>
              <a:rPr b="0" lang="de-DE" sz="2800" spc="-1" strike="noStrike">
                <a:solidFill>
                  <a:srgbClr val="006699"/>
                </a:solidFill>
                <a:latin typeface="Verdana"/>
              </a:rPr>
              <a:t>отенцируются, если действуют на разные точки приложе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681120" indent="0">
              <a:spcBef>
                <a:spcPts val="700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16524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Композит -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96516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Это комплексное лекарственное средство, в состав которого входят классические гомеопатические компоненты,   суисорганные препараты, нозоды, ферменты дыхательного цикла клетки,витамины, гомеопатизированные аллопатические средства (антибиотики,гормоны,цитостатики), токсины, необходимые для санации определенного органа или ткани организма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179280" y="0"/>
            <a:ext cx="863640" cy="685800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476360" y="630360"/>
            <a:ext cx="597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403280" y="1851120"/>
            <a:ext cx="705636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Pragmatica"/>
              </a:rPr>
              <a:t>ГОМАККОРД</a:t>
            </a:r>
            <a:r>
              <a:rPr b="1" lang="ru-RU" sz="1800" spc="-1" strike="noStrike">
                <a:solidFill>
                  <a:srgbClr val="9933ff"/>
                </a:solidFill>
                <a:latin typeface="Pragmatica"/>
              </a:rPr>
              <a:t> -</a:t>
            </a:r>
            <a:r>
              <a:rPr b="1" lang="ru-RU" sz="1800" spc="-1" strike="noStrike">
                <a:solidFill>
                  <a:srgbClr val="006699"/>
                </a:solidFill>
                <a:latin typeface="Pragmatica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Pragmatica"/>
              </a:rPr>
              <a:t>это комплексное антигомотоксическое средство, каждый компонент которого представлен как в низких, так и в высоких разведениях (аккорд потенций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4600" y="304920"/>
            <a:ext cx="7937280" cy="109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ff"/>
                </a:solidFill>
                <a:latin typeface="Times New Roman"/>
              </a:rPr>
              <a:t>Деятельность семейного врач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28240" y="153648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merican-Uncial-Normal"/>
              </a:rPr>
              <a:t>Цель: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высокий уровень качества жизни наблюдаемых пациентов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33ff"/>
                </a:solidFill>
                <a:latin typeface="American-Uncial-Normal"/>
              </a:rPr>
              <a:t>Технологии</a:t>
            </a:r>
            <a:r>
              <a:rPr b="1" lang="ru-RU" sz="3200" spc="-1" strike="noStrike">
                <a:solidFill>
                  <a:srgbClr val="f2dffd"/>
                </a:solidFill>
                <a:latin typeface="American-Uncial-Normal"/>
              </a:rPr>
              <a:t>: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лечебный стандарт, физиотерапевтичекие и натуропатические технолог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merican-Uncial-Normal"/>
              </a:rPr>
              <a:t>Клинические эффекты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-купирование симптомов заболевания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-восстановление нейро-эндокринной и иммунной защты организм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6720" y="196560"/>
            <a:ext cx="842976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Биологическое значение АГТ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95200" y="1116000"/>
            <a:ext cx="85456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Возможность эффективной терапии в бессимптомные периоды заболеваний: доклинический и постклиническ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Реализация принципа обратимости патоморфо-функциональных нарушений в органах и тканях после перенесенного заболевания (регенерационный и протекторный тканевые эффекты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Профилактика развития заболеван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ff"/>
                </a:solidFill>
                <a:latin typeface="Verdana"/>
              </a:rPr>
              <a:t>Лечебная стратег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ериод обострений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тандарты ОМС на фоне антигомотоксической терапии в режиме инициирующей терапии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нний и отсроченные восстановительные периоды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ГТ терапия в режиме долгосрочной терап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0" y="-27000"/>
            <a:ext cx="863640" cy="688500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Pragmatica"/>
              </a:rPr>
              <a:t>          </a:t>
            </a:r>
            <a:r>
              <a:rPr b="1" lang="ru-RU" sz="2800" spc="-1" strike="noStrike">
                <a:solidFill>
                  <a:srgbClr val="cc99ff"/>
                </a:solidFill>
                <a:latin typeface="Pragmatica"/>
              </a:rPr>
              <a:t>РЕЖИМ ИНИЦИИРУЮЩИЙ ТЕРАП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59" name="Group 4"/>
          <p:cNvGrpSpPr/>
          <p:nvPr/>
        </p:nvGrpSpPr>
        <p:grpSpPr>
          <a:xfrm>
            <a:off x="1116000" y="2924280"/>
            <a:ext cx="504720" cy="358560"/>
            <a:chOff x="1116000" y="2924280"/>
            <a:chExt cx="504720" cy="358560"/>
          </a:xfrm>
        </p:grpSpPr>
        <p:sp>
          <p:nvSpPr>
            <p:cNvPr id="260" name="Oval 5"/>
            <p:cNvSpPr/>
            <p:nvPr/>
          </p:nvSpPr>
          <p:spPr>
            <a:xfrm>
              <a:off x="1116000" y="2924280"/>
              <a:ext cx="360360" cy="358560"/>
            </a:xfrm>
            <a:prstGeom prst="ellips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1" name="Oval 6"/>
            <p:cNvSpPr/>
            <p:nvPr/>
          </p:nvSpPr>
          <p:spPr>
            <a:xfrm>
              <a:off x="1260360" y="2924280"/>
              <a:ext cx="360360" cy="358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62" name="Text Box 7"/>
          <p:cNvSpPr/>
          <p:nvPr/>
        </p:nvSpPr>
        <p:spPr>
          <a:xfrm>
            <a:off x="1476360" y="134136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Pragmatica"/>
              </a:rPr>
              <a:t>(острые заболевания, стадия обострения хронической патологии)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835280" y="2852640"/>
            <a:ext cx="64818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Разовая доза препарата через 15 минут кажды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2 часа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Растворы для инъекций – ежедневно в</a:t>
            </a:r>
            <a:r>
              <a:rPr b="1" lang="en-US" sz="2000" spc="-1" strike="noStrike">
                <a:solidFill>
                  <a:srgbClr val="006699"/>
                </a:solidFill>
                <a:latin typeface="Pragmatica"/>
              </a:rPr>
              <a:t>/</a:t>
            </a: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м ил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п</a:t>
            </a:r>
            <a:r>
              <a:rPr b="1" lang="en-US" sz="2000" spc="-1" strike="noStrike">
                <a:solidFill>
                  <a:srgbClr val="006699"/>
                </a:solidFill>
                <a:latin typeface="Pragmatica"/>
              </a:rPr>
              <a:t>/</a:t>
            </a: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к( в тяжелых случаях -  до 2-3 раз в день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64" name="Group 9"/>
          <p:cNvGrpSpPr/>
          <p:nvPr/>
        </p:nvGrpSpPr>
        <p:grpSpPr>
          <a:xfrm>
            <a:off x="1116000" y="4149720"/>
            <a:ext cx="504720" cy="358920"/>
            <a:chOff x="1116000" y="4149720"/>
            <a:chExt cx="504720" cy="358920"/>
          </a:xfrm>
        </p:grpSpPr>
        <p:sp>
          <p:nvSpPr>
            <p:cNvPr id="265" name="Oval 10"/>
            <p:cNvSpPr/>
            <p:nvPr/>
          </p:nvSpPr>
          <p:spPr>
            <a:xfrm>
              <a:off x="1116000" y="4149720"/>
              <a:ext cx="360360" cy="358920"/>
            </a:xfrm>
            <a:prstGeom prst="ellips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6" name="Oval 11"/>
            <p:cNvSpPr/>
            <p:nvPr/>
          </p:nvSpPr>
          <p:spPr>
            <a:xfrm>
              <a:off x="1260360" y="4149720"/>
              <a:ext cx="360360" cy="35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0"/>
            <a:ext cx="863640" cy="685800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Pragmatica"/>
              </a:rPr>
              <a:t>          </a:t>
            </a:r>
            <a:r>
              <a:rPr b="1" lang="ru-RU" sz="2800" spc="-1" strike="noStrike">
                <a:solidFill>
                  <a:srgbClr val="cc99ff"/>
                </a:solidFill>
                <a:latin typeface="Pragmatica"/>
              </a:rPr>
              <a:t>РЕЖИМ ДОЛГОВРЕМЕННОЙ ТЕРАП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1204920" y="3241800"/>
            <a:ext cx="504720" cy="358560"/>
            <a:chOff x="1204920" y="3241800"/>
            <a:chExt cx="504720" cy="358560"/>
          </a:xfrm>
        </p:grpSpPr>
        <p:sp>
          <p:nvSpPr>
            <p:cNvPr id="271" name="Oval 5"/>
            <p:cNvSpPr/>
            <p:nvPr/>
          </p:nvSpPr>
          <p:spPr>
            <a:xfrm>
              <a:off x="1204920" y="3241800"/>
              <a:ext cx="360360" cy="358560"/>
            </a:xfrm>
            <a:prstGeom prst="ellips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2" name="Oval 6"/>
            <p:cNvSpPr/>
            <p:nvPr/>
          </p:nvSpPr>
          <p:spPr>
            <a:xfrm>
              <a:off x="1349280" y="3241800"/>
              <a:ext cx="360360" cy="358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73" name="Text Box 7"/>
          <p:cNvSpPr/>
          <p:nvPr/>
        </p:nvSpPr>
        <p:spPr>
          <a:xfrm>
            <a:off x="1476360" y="134136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Pragmatica"/>
              </a:rPr>
              <a:t>(стихающее обострение, ранний и отсроченный восстановительный периоды, период ремиссии, противорецидивное лечение)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835280" y="3246480"/>
            <a:ext cx="698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Разовая доза препарата - в 3-х разовом режиме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(10 кап. или 1 табл.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Растворы для инъекций – 1-2 раза в неделю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75" name="Group 9"/>
          <p:cNvGrpSpPr/>
          <p:nvPr/>
        </p:nvGrpSpPr>
        <p:grpSpPr>
          <a:xfrm>
            <a:off x="1281240" y="4657680"/>
            <a:ext cx="504720" cy="358920"/>
            <a:chOff x="1281240" y="4657680"/>
            <a:chExt cx="504720" cy="358920"/>
          </a:xfrm>
        </p:grpSpPr>
        <p:sp>
          <p:nvSpPr>
            <p:cNvPr id="276" name="Oval 10"/>
            <p:cNvSpPr/>
            <p:nvPr/>
          </p:nvSpPr>
          <p:spPr>
            <a:xfrm>
              <a:off x="1281240" y="4657680"/>
              <a:ext cx="360360" cy="358920"/>
            </a:xfrm>
            <a:prstGeom prst="ellips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7" name="Oval 11"/>
            <p:cNvSpPr/>
            <p:nvPr/>
          </p:nvSpPr>
          <p:spPr>
            <a:xfrm>
              <a:off x="1425600" y="4657680"/>
              <a:ext cx="360360" cy="35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5560" y="448920"/>
            <a:ext cx="6435720" cy="22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ff"/>
                </a:solidFill>
                <a:latin typeface="Antiqua-Bold"/>
              </a:rPr>
              <a:t>КРИТЕРИИ ЭФФЕКТИВНОСТИ</a:t>
            </a:r>
            <a:br>
              <a:rPr sz="3600"/>
            </a:br>
            <a:r>
              <a:rPr b="0" lang="ru-RU" sz="3600" spc="-1" strike="noStrike">
                <a:solidFill>
                  <a:srgbClr val="9933ff"/>
                </a:solidFill>
                <a:latin typeface="Antiqua-Bold"/>
              </a:rPr>
              <a:t>  антигомотоксической терапи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712600"/>
            <a:ext cx="822960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упирование симптомов заболева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окращение сроков лече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тсутствие побочных реакций и осложнени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вышение качества жизни (самочувствие, активность, настроение, сон, аппетит, трудоспособность)на период от 6 до 18 месяцев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42800" y="314280"/>
            <a:ext cx="8244000" cy="20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Verdana"/>
              </a:rPr>
              <a:t>Тканевые и клеточные эффекты антигомотоксической терапи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3190680"/>
            <a:ext cx="8229600" cy="33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егенерацион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канеопротектор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рофикостимулирующ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истеморегулирующ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ммуно- и эндокрино-регуляцион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Verdana"/>
              </a:rPr>
              <a:t>Наши наблюдения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75880"/>
            <a:ext cx="822960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435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пациентов из 1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42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семей, наблюдаемых по поводу различных хронических заболеваний в течение 5-7 лет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Мамы в возрасте от 24 до 38 лет с детьми в возрасте до 14 лет с заболеваниями нервной системы и аллергическими заболеваниями  на фоне ССТкН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Контрольные групп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11240"/>
            <a:ext cx="82296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Times New Roman"/>
              </a:rPr>
              <a:t>314 пациентов с аналогичными заболеваниями для каждой основной группы наблюдений с использованием только стандартных терапевтических подходов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Методы контроля клинической  эффектив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Оценка клинической картины заболевания, длительности периода обострения , выраженности симптомов, частоты обострений заболеваний в течение год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Стандартные виды диагностик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Методы электропунктурной диагностик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Оценка по шкале САН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Оценка качества жизни по шкалам и опросника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Times New Roman"/>
              </a:rPr>
              <a:t>Критерии клинической эффективност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сроки купирования симптомов заболева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ормализация клинических и параклинических параметров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ормализация  электропроводности в точках акупунктуры (ТА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качество жизн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03040"/>
            <a:ext cx="6870600" cy="22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Особенности заболеваний в семейной медицине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3112920"/>
            <a:ext cx="822960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Вялотекущий характер хронических процессов  с обострениями умеренной степен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выраженност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363600"/>
            <a:ext cx="824400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33ff"/>
                </a:solidFill>
                <a:latin typeface="Times New Roman"/>
              </a:rPr>
              <a:t>ОРЗ и хронические заболевания бронхолегочной системы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*Энгистол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Engystol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Галиум-хеель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Galium-heel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Бронхалис-хеель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(Bronchalis-heel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Мукоза композитум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Mucosa compositum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Эхинацея композитум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Echinacea compositum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) Эуфорбиум композитум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Euphorbium compositum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*НЧМСТ, аэроионоингаляционная терапия, пунктурная электротерап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*точечный массаж, дыхательная гимнасти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Клиническая эффективность в случае проведения 2-3 курсов терапии в течение 1-1,5 лет составляет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79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7%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(в группе контроля - 4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7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8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%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1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Times New Roman"/>
              </a:rPr>
              <a:t>Аллергоз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5548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алиум-хеель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(Galium-heel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 Лимфомиозот (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Lymphomiozot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 псоринохеель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(Psorinoheel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 кутис композитум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Cutis cjmpositum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 мукоза композитум 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(Mucosa compositum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Люффель (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Luffel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ЧМСТ, направленная аэроионотерапия, рефлексотерапия, точечный массаж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Клиническая эффективность в случае проведения 2-3 курсов терапии в течение 1-2 лет составляет 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77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%(в группе контроля - 3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9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6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%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8240" y="-360"/>
            <a:ext cx="8086680" cy="166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imes New Roman"/>
              </a:rPr>
              <a:t>Последствия перинатальных энцефалопатий, ДЦП, </a:t>
            </a:r>
            <a:br>
              <a:rPr sz="3600"/>
            </a:br>
            <a:r>
              <a:rPr b="1" lang="ru-RU" sz="3600" spc="-1" strike="noStrike">
                <a:solidFill>
                  <a:srgbClr val="9933ff"/>
                </a:solidFill>
                <a:latin typeface="Times New Roman"/>
              </a:rPr>
              <a:t>НФ НКГМ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725480"/>
            <a:ext cx="84708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Церебрум композитум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Cerebrum compositum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Траумеель С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Traumeel S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Коэнзим композитум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Coensym compositum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Убихинон композитум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Ubihinon compositum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Вертигохееель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Vertigoheel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Спигелон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Spigelon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Спаскупреель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Spascupreel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), Нервохеель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Nervoheel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Валериана-хеель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Valeriana-heel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рефлексотерапия, гомеосиниатрия, полисенсорная релаксац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Клиническая эффективность в случае проведения 3-4 курсов терапии в течение 1,5-3 лет составляет 78,9%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(в группе контроля - 54,5%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96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imes New Roman"/>
              </a:rPr>
              <a:t>Нарушения осанки  Заболевания суставов и позвоночник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2480760"/>
            <a:ext cx="8229600" cy="35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*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Траумеель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С (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Traumeel S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), Цель Т(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Zeel T )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, Дискус композитум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(Discus compositum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*Рефлексотерапия, гомеосиниатри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*НЧЭТ, НЧМСТ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*сегментарный  и точечный массаж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*щадящее вытяжени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Клиническая эффективность в случае проведения 2-3 курсов терапии в течение 1-1,5 лет составляет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79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,2%(в группе контроля - 5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,7%)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4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Verdana"/>
              </a:rPr>
              <a:t>Принципы терапи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885600"/>
            <a:ext cx="7696080" cy="46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Индивидуально разработанные схемы лечения по результатам стандартной и биофизической диагност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Ежемесячная коррекция схем лечения  на основе повторных стандартной и биофизической диагност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Повторные лечебные курсы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Verdana"/>
              </a:rPr>
              <a:t>Вывод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применение системной  антигомотоксической терапии в комплекном лечении и реабилитации в семейной медицине приводи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1) к достоверному уменьшению количества обострений и их продолжительности в течение года, уменьшению выраженности симптомов заболевания   в среднем на 83,9%  (в контроле- в 45,8%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2) повышению качества жизни на 25-30%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03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Terminator Cyr 4"/>
              </a:rPr>
              <a:t>Антигомотоксическая терап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2084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Tiff-Heavy"/>
              </a:rPr>
              <a:t>способствует нормализации структуры и функции основных жизнеобеспечивающих систем организма у часто болеющих пациентов и пациентов с хроническими заболеваниям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dffd"/>
                </a:solidFill>
                <a:latin typeface="Tiff-Heavy"/>
              </a:rPr>
              <a:t>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Verdana"/>
              </a:rPr>
              <a:t>Достоинства в педиатри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полноценное развитие нервной, эндокринной и иммунной систем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профилактика развития заболеваний другой локализ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высокое качество жизни и развития организма ребенк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Verdana"/>
              </a:rPr>
              <a:t>Достоинства в терапии и гериатри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*замедление процессов преждевременного старения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*длительное сохранение трудоспособност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*профилактика нейрокардио-сосудистых и онкологических заболевани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6" descr="кремль"/>
          <p:cNvPicPr/>
          <p:nvPr/>
        </p:nvPicPr>
        <p:blipFill>
          <a:blip r:embed="rId1"/>
          <a:srcRect l="0" t="14860" r="0" b="31509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ярмарка"/>
          <p:cNvPicPr/>
          <p:nvPr/>
        </p:nvPicPr>
        <p:blipFill>
          <a:blip r:embed="rId2"/>
          <a:stretch/>
        </p:blipFill>
        <p:spPr>
          <a:xfrm>
            <a:off x="5386320" y="4248000"/>
            <a:ext cx="2970360" cy="1771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9"/>
          <p:cNvPicPr/>
          <p:nvPr/>
        </p:nvPicPr>
        <p:blipFill>
          <a:blip r:embed="rId3"/>
          <a:stretch/>
        </p:blipFill>
        <p:spPr>
          <a:xfrm>
            <a:off x="5591160" y="1969920"/>
            <a:ext cx="2598840" cy="17640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00ff"/>
                </a:solidFill>
                <a:latin typeface="FreeSetExtraCTT"/>
              </a:rPr>
              <a:t>БЛАГОДАРЮ ЗА ВНИМАНИЕ! </a:t>
            </a:r>
            <a:br>
              <a:rPr sz="2900"/>
            </a:br>
            <a:r>
              <a:rPr b="1" lang="en-US" sz="2900" spc="-1" strike="noStrike">
                <a:solidFill>
                  <a:srgbClr val="cc00ff"/>
                </a:solidFill>
                <a:latin typeface="FreeSetExtraCTT"/>
              </a:rPr>
              <a:t>VIELEN  DANK  FUER AUFMERKSAMKEIT</a:t>
            </a:r>
            <a:r>
              <a:rPr b="0" lang="en-US" sz="2900" spc="-1" strike="noStrike">
                <a:solidFill>
                  <a:srgbClr val="cc00ff"/>
                </a:solidFill>
                <a:latin typeface="FreeSetExtraCTT"/>
              </a:rPr>
              <a:t>!</a:t>
            </a:r>
            <a:endParaRPr b="0" lang="en-US" sz="2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3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3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21888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Хроническое  заболевание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431720"/>
            <a:ext cx="680868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процесс постоянного чередования периодов обострения симптомов и их временного отсутствия (ремиссий) при постоянно существующих вялотекущих патологических тканевых реакция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4" descr="j0234131"/>
          <p:cNvPicPr/>
          <p:nvPr/>
        </p:nvPicPr>
        <p:blipFill>
          <a:blip r:embed="rId1"/>
          <a:stretch/>
        </p:blipFill>
        <p:spPr>
          <a:xfrm>
            <a:off x="7257960" y="4889520"/>
            <a:ext cx="1487520" cy="156672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Обострение  хронических заболевани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еобладание тканевых патологических реакций (воспаление, дегенерация, их сочетание) с соответствующей клинической симптоматикой над местной иммунной защито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Ремисс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еобладание общей и местной иммунной защиты над развитием патологических тканевых реакц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Наиболее распространенные группы нозологий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заболевания дыхательной систем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заболевания цереброваскулярной и сердечно-сосудистой систе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заболевания суставов и позвоночни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клинические проявления метаболического синдром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онкологические процессы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3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Современный фон для развития хронических заболеваний 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5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Клиническая манифестация синдрома соединительнотканной недостаточности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55000"/>
              </a:lnSpc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Проблема нарастания клеточной патологии периферической иммунной системы (СТ) у пациентов молодого</a:t>
            </a:r>
            <a:r>
              <a:rPr b="0" lang="ru-RU" sz="2400" spc="-1" strike="noStrike">
                <a:solidFill>
                  <a:srgbClr val="006699"/>
                </a:solidFill>
                <a:latin typeface="Antiqua-Bold"/>
              </a:rPr>
              <a:t> возраста и детей</a:t>
            </a:r>
            <a:r>
              <a:rPr b="0" lang="ru-RU" sz="3600" spc="-1" strike="noStrike">
                <a:solidFill>
                  <a:srgbClr val="006699"/>
                </a:solidFill>
                <a:latin typeface="Antiqua-Bold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imes New Roman"/>
              </a:rPr>
              <a:t>Синдром соединительнотканной недостаточности (ССТкН)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2156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Клиническая манифестация ССТкН: астенический тип телосложения,  синдром Эйлорса-Данлоса, плоскостопие, сколиотические изменения позвоночника,  заболевания крупных суставов в молодом возрасте, венозная недостаточность, большое количество половых инфекций, бесплодие, быстрая хронизация заболеваний на фоне соединительнотканного дефицита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2:42:29Z</dcterms:created>
  <dc:creator>shevnin</dc:creator>
  <dc:description/>
  <dc:language>en-US</dc:language>
  <cp:lastModifiedBy>LEGION</cp:lastModifiedBy>
  <dcterms:modified xsi:type="dcterms:W3CDTF">2014-11-07T11:07:48Z</dcterms:modified>
  <cp:revision>22</cp:revision>
  <dc:subject/>
  <dc:title>Системный подход и оздоровительные технологии в деятельности врачей общей практики</dc:title>
</cp:coreProperties>
</file>