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0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dt" idx="28"/>
          </p:nvPr>
        </p:nvSpPr>
        <p:spPr>
          <a:xfrm>
            <a:off x="42782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ftr" idx="29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 type="sldNum" idx="30"/>
          </p:nvPr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427887-F752-482B-A408-CA86BCEAB4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071961-7FD9-4A40-913E-B7AA63E5CA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Экосисте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023605-0F6B-4A07-9D9F-7F969111AE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Продолжи фраз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планкто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циклопы и даф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мотыл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мох - сфагну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тор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экосистема луг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955F61-BB5E-4E48-B7C9-11625BAECC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Экосистема луг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82E483-A2F3-40A6-8E77-81C0BE1398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Луговы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производит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87230C-F7AC-4ABE-B6A8-EEB171AA3A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Луговые потребит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DAB222-816B-4640-8C17-F4D7022FEB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Луговые разрушит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09B1B4-46FF-4A4D-A83B-2688E6D42C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Если луг в благоприятных условиях может смениться лесом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начит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круговорот веществ на лугах незамкнутый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79EB-7315-4487-B1A6-0055664EC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691E-1BE1-4257-A830-C19D2F064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85E9E0-FC10-494F-92F7-79EA9E5BF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4AB507-2B5B-4E0D-A93A-45BE743F5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36240" y="503280"/>
            <a:ext cx="95756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205834-DB7E-4E38-BC95-260DD4953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E63D9F-0580-4F01-84E7-7486DE02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B875A9-ABD5-4977-A8E1-4F5B99FC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8D1CB8-5AF5-4123-A60A-9B52726A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A27576-EEB2-4286-8A03-42C6F40B0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24BD90-27C7-4672-966C-DF4B5F0D5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57372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81156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3624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57372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81156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1EC1EC-D476-43AC-8960-D1F1851F6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3A42-B956-4E48-AD1E-7DE6CE2DB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372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1156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3624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372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81156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6203-32DA-4239-93BA-A68F7F046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FB3D1-702F-44B9-B7A5-7FCEA4CA8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CD176-5749-4806-8217-9F2957108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BE0EF-BBF2-4C32-AB48-58B2D32CF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40C0B-1CF7-426F-BFCD-EF672CFF1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43854-19A1-4CD9-910B-E7A2239C5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36240" y="503280"/>
            <a:ext cx="95756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1B042-BB4E-4AFE-B25E-49497EFCB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6E625-F39E-4C2B-95A9-F5B04EE6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03A4-C345-4930-BC60-E30635AEE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32ADC-D1A1-42FD-AB0E-3CFA9561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EFE3C-E6E4-4AB1-96BB-5B36BC52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ABA80-BB2B-4FD0-A825-1A78DDCDB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D0714-3E82-42D9-BB3C-7E07C436B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7372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1156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3624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7372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81156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7A245-E485-407F-9303-3FF752249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DFF78-881D-4F44-96EC-8724F58CC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20876-F234-4E68-A6FF-FEAEF4A1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47A04-2BB5-46D0-832E-1771EBA3E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2484D-E20E-4BEB-B3C9-313DE9A8F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D142F-42A1-4E91-9F96-FD2AFE06D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39B7-AC4D-483B-A121-1C887592C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36240" y="503280"/>
            <a:ext cx="95756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A2ED4-69EE-49D3-8FA6-DB239920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5B014-31F0-4F22-A5C7-04D8B490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9EEC6-17D4-4298-82DA-157C5307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36F8C-8AEC-47B2-B46C-473886CC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D70BD-F0CA-48F3-B569-6C9F9E7F4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CCC89-B41D-4018-8C49-F83A5B6F0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57372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1156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3624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57372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81156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A9C06-2ADE-4F00-BB59-00285DA12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62020-BB92-48A5-8643-B945251BA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007AA-D983-47DF-8FFC-1C4FF4870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E5337-CC42-4F46-AD98-1181332C8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1C0F-C9A6-47B7-A0BA-D344CEB54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43507-7DA4-462C-8762-211139CAD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5CB44-4ADE-4835-8743-37B62F8CB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36240" y="503280"/>
            <a:ext cx="95756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577B3-32B7-4BB8-88F9-742B54BE0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C4EE6-402A-49F2-BC2A-187ABBE0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A7C06-E616-4896-B251-17C7B189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3AD27-6D5A-4F3B-9FC8-3FDD4EA5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BADB8-5A99-4452-8534-F4D863B3E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3B209-1D44-4F2A-88F7-52A71B715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57372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1156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3624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57372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81156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A8848-570A-45BE-8BB8-CD5080E39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BA6E8-59C2-4F61-9E9D-ED29F38D2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00CC-D438-45BF-8B0C-C7192631D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8C436-1B11-47F1-B046-BBEFF7774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DD26F-6184-4CD1-9D44-EBFF925F5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75A93-2A9D-4E70-AA88-B62EBD381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B87C4-5284-4ABA-9E2A-E24CFEDF6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36240" y="503280"/>
            <a:ext cx="95756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6DC06-4BF8-4DA9-8575-D5F681C54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DDB0A-4AFF-4F31-9C66-2EAF5EA0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70CA0-858F-4B32-840D-8E34DC0C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87F7D-1578-4387-9F18-BD5F361C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990C1-3803-452C-A1B5-76A3EA303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C2A13-A37B-4DA1-9B82-2C3D535DF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36240" y="503280"/>
            <a:ext cx="95756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8173-2005-4FCC-BB35-92926B4A1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7372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1156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3624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7372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81156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E0739-5CEF-4964-86B2-6D936B943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19F0DB-6FBE-4DA9-A353-730B8556D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88140-C1E9-4447-A96B-2B7FF4A64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9AD1A3-F774-4518-8F37-CFE0EFD2E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7C96C-17E8-4F41-BEBE-A8CCFF8D6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0EF94-3EB2-4FD5-8160-03C21B488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36240" y="503280"/>
            <a:ext cx="95756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A2695-7B7D-4EB1-9F64-26D701248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D3685A-7EA8-4086-9889-AA15A0F0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54A0A-0475-4FA9-8CB4-6169C178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0C4A6-C4E2-4AAE-AD80-2BB63EA8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618F-95B3-498B-9F65-196E362A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CCF86-23C5-486D-B818-D796538C7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E14C3-9D88-4B6E-9910-2AB93EEA0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57372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81156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3624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57372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81156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CB559-3951-46B2-B43D-D60A7C60D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B203BD-9BA1-4F84-97D3-885663F0B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BBB35A-ABC2-4245-9DB1-787A81A31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4BEAE-BC8E-4220-8D94-ABCEAFE5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02414A-862E-49E1-A529-9B569FFE3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95BA3-6EA9-4521-81FD-A94C2486D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36240" y="503280"/>
            <a:ext cx="95756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8C8D33-F1C0-44E8-A82B-E4302B5A9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D366D0-6E15-473D-8E60-B5A89076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125D-3F7A-46A0-AC9C-7D24EAB4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94FAD4-18D6-4733-A7E5-0BCDE077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DEF2F-D8E3-4903-84A7-519582C7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79F594-5EAC-4964-9D36-A2F82FFFE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228BD3-9ECD-4ADB-AA70-C2981BADD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57372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81156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3624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57372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81156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F9941-1E85-495E-958D-777A3C5CC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CA9CFC-4D5A-4FA5-B69E-CB0134A0B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0E920-949D-4824-9536-65C20B85C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0CA530-CF0C-4791-9C15-68D6CE6EA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D2C007-F7F3-4B28-9BA3-936EF499E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682D12-70BB-4818-9457-D8FD67A73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3142-7DAD-4CE7-9A11-3D3DD371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36240" y="503280"/>
            <a:ext cx="95756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CCCB54-6454-4391-940E-7B69C79CA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86D1EB-D98C-4776-BA32-DD28571C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6DBB27-4C09-4E0B-A75F-CE5299D9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6B30A9-4160-4A6D-9180-CC602D51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ED7F36-6369-4685-BB32-8C722F1A3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91C3E6-D3FA-4B24-8A10-B8A81055A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57372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1156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3624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57372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81156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A32D56-90EC-4283-8FFF-0824B6F20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1197FA-C422-47FE-8EB2-53C8A9CCB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238803-994A-4174-9C4D-F86C148F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F9F246-0276-4E5C-85A4-930DD5CD4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66640" y="1152360"/>
            <a:ext cx="9515520" cy="11160"/>
            <a:chOff x="566640" y="1152360"/>
            <a:chExt cx="9515520" cy="1116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66640" y="1152360"/>
              <a:ext cx="951552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66640" y="1158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50040" bIns="-5004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17560" indent="-31428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5892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6364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266920" indent="-250920">
              <a:spcBef>
                <a:spcPts val="876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7140240" y="84240"/>
            <a:ext cx="277164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9072720" y="7138800"/>
            <a:ext cx="839520" cy="26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84817F0-5153-4D5F-BF8F-B5828C9748D4}" type="slidenum"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66640" y="1152360"/>
            <a:ext cx="9515520" cy="11160"/>
            <a:chOff x="566640" y="1152360"/>
            <a:chExt cx="9515520" cy="1116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66640" y="1152360"/>
              <a:ext cx="951552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66640" y="1158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50040" bIns="-5004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66640" y="1158840"/>
            <a:ext cx="9515520" cy="17640"/>
            <a:chOff x="566640" y="1158840"/>
            <a:chExt cx="9515520" cy="1764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66640" y="1158840"/>
              <a:ext cx="951552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66640" y="1166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50040" bIns="-5004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66640" y="5888160"/>
            <a:ext cx="9515520" cy="19080"/>
            <a:chOff x="566640" y="5888160"/>
            <a:chExt cx="9515520" cy="1908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66640" y="5888160"/>
              <a:ext cx="951552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66640" y="58975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50040" bIns="-5004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17560" indent="-31428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5892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6364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266920" indent="-250920">
              <a:spcBef>
                <a:spcPts val="876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7140240" y="84240"/>
            <a:ext cx="277164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072360" y="7135920"/>
            <a:ext cx="836280" cy="272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1D427EA-5936-4F41-A889-192C4DA2C895}" type="slidenum"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66640" y="1152360"/>
            <a:ext cx="9515520" cy="11160"/>
            <a:chOff x="566640" y="1152360"/>
            <a:chExt cx="9515520" cy="1116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66640" y="1152360"/>
              <a:ext cx="951552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66640" y="1158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50040" bIns="-5004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66640" y="1152360"/>
            <a:ext cx="9515520" cy="11160"/>
            <a:chOff x="566640" y="1152360"/>
            <a:chExt cx="9515520" cy="1116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66640" y="1152360"/>
              <a:ext cx="951552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66640" y="1158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50040" bIns="-5004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66640" y="1158840"/>
            <a:ext cx="9515520" cy="17640"/>
            <a:chOff x="566640" y="1158840"/>
            <a:chExt cx="9515520" cy="1764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66640" y="1158840"/>
              <a:ext cx="951552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66640" y="1166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50040" bIns="-5004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17560" indent="-31428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5892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6364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266920" indent="-250920">
              <a:spcBef>
                <a:spcPts val="876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7140240" y="84240"/>
            <a:ext cx="277164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948120" y="84240"/>
            <a:ext cx="319248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9072360" y="7135920"/>
            <a:ext cx="836280" cy="272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FBCD1C1-A9A6-4907-9DC7-78831E288B72}" type="slidenum"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66640" y="3790800"/>
            <a:ext cx="9515520" cy="12960"/>
            <a:chOff x="566640" y="3790800"/>
            <a:chExt cx="9515520" cy="129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66640" y="3790800"/>
              <a:ext cx="9515520" cy="1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66640" y="37972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50040" bIns="-5004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5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817560" indent="-31428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5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25892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5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76364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5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266920" indent="-250920">
              <a:spcBef>
                <a:spcPts val="876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5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266920" indent="-250920">
              <a:spcBef>
                <a:spcPts val="876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5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266920" indent="-250920">
              <a:spcBef>
                <a:spcPts val="876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5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7140240" y="84240"/>
            <a:ext cx="277164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9072720" y="7138800"/>
            <a:ext cx="839520" cy="26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BB51F8E-D4C3-47F9-8ED7-DC9ED1D1B58E}" type="slidenum"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66640" y="6632640"/>
            <a:ext cx="9515520" cy="12600"/>
            <a:chOff x="566640" y="6632640"/>
            <a:chExt cx="951552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66640" y="6632640"/>
              <a:ext cx="951552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66640" y="66358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50040" bIns="-5004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17560" indent="-31428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5892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6364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266920" indent="-250920">
              <a:spcBef>
                <a:spcPts val="876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7140240" y="84240"/>
            <a:ext cx="277164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9072720" y="7139160"/>
            <a:ext cx="839520" cy="272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1E3245E-B9C2-4ACD-A96E-B67E5AF5AAE0}" type="slidenum"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17560" indent="-31428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5892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6364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266920" indent="-250920">
              <a:spcBef>
                <a:spcPts val="876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7140240" y="84240"/>
            <a:ext cx="277164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9072720" y="7138800"/>
            <a:ext cx="839520" cy="26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AB76E0E-63E4-44D2-A09F-9CF24F70285D}" type="slidenum"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66640" y="6443640"/>
            <a:ext cx="9515520" cy="12600"/>
            <a:chOff x="566640" y="6443640"/>
            <a:chExt cx="9515520" cy="1260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66640" y="6443640"/>
              <a:ext cx="951552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66640" y="64468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50040" bIns="-5004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17560" indent="-31428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5892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6364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266920" indent="-250920">
              <a:spcBef>
                <a:spcPts val="876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7140240" y="84240"/>
            <a:ext cx="277164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9072720" y="7138800"/>
            <a:ext cx="839520" cy="26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C1E4895-0417-4651-AB60-3920D8299E36}" type="slidenum"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17560" indent="-31428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5892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6364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266920" indent="-250920">
              <a:spcBef>
                <a:spcPts val="876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7140240" y="84240"/>
            <a:ext cx="277164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9072720" y="7138800"/>
            <a:ext cx="839520" cy="26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FBBA225-A14A-4D1D-B9B4-FDB98D107825}" type="slidenum"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17560" indent="-31428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5892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6364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266920" indent="-250920">
              <a:spcBef>
                <a:spcPts val="876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7140240" y="84240"/>
            <a:ext cx="277164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9072720" y="7138800"/>
            <a:ext cx="839520" cy="26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01FF063-5A3B-4064-B503-3D27294452C3}" type="slidenum"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1101;&#1082;&#1086;&#1089;&#1080;&#1089;&#1090;&#1077;&#1084;&#1072;%20&#1083;&#1091;&#1075;&#1072;.ppt" TargetMode="External"/><Relationship Id="rId2" Type="http://schemas.openxmlformats.org/officeDocument/2006/relationships/image" Target="../media/image7.jpeg"/><Relationship Id="rId3" Type="http://schemas.openxmlformats.org/officeDocument/2006/relationships/hyperlink" Target="file:///&#1101;&#1082;&#1086;&#1089;&#1080;&#1089;&#1090;&#1077;&#1084;&#1072;%20&#1083;&#1091;&#1075;&#1072;.ppt" TargetMode="External"/><Relationship Id="rId4" Type="http://schemas.openxmlformats.org/officeDocument/2006/relationships/image" Target="../media/image8.jpeg"/><Relationship Id="rId5" Type="http://schemas.openxmlformats.org/officeDocument/2006/relationships/hyperlink" Target="file:///&#1101;&#1082;&#1086;&#1089;&#1080;&#1089;&#1090;&#1077;&#1084;&#1072;%20&#1083;&#1091;&#1075;&#1072;.ppt" TargetMode="External"/><Relationship Id="rId6" Type="http://schemas.openxmlformats.org/officeDocument/2006/relationships/image" Target="../media/image9.jpeg"/><Relationship Id="rId7" Type="http://schemas.openxmlformats.org/officeDocument/2006/relationships/hyperlink" Target="file:///&#1101;&#1082;&#1086;&#1089;&#1080;&#1089;&#1090;&#1077;&#1084;&#1072;%20&#1083;&#1091;&#1075;&#1072;.ppt" TargetMode="External"/><Relationship Id="rId8" Type="http://schemas.openxmlformats.org/officeDocument/2006/relationships/image" Target="../media/image10.jpeg"/><Relationship Id="rId9" Type="http://schemas.openxmlformats.org/officeDocument/2006/relationships/hyperlink" Target="file:///&#1101;&#1082;&#1086;&#1089;&#1080;&#1089;&#1090;&#1077;&#1084;&#1072;%20&#1083;&#1091;&#1075;&#1072;.ppt" TargetMode="External"/><Relationship Id="rId10" Type="http://schemas.openxmlformats.org/officeDocument/2006/relationships/image" Target="../media/image11.jpeg"/><Relationship Id="rId11" Type="http://schemas.openxmlformats.org/officeDocument/2006/relationships/hyperlink" Target="file:///&#1101;&#1082;&#1086;&#1089;&#1080;&#1089;&#1090;&#1077;&#1084;&#1072;%20&#1083;&#1091;&#1075;&#1072;.ppt" TargetMode="External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6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1101;&#1082;&#1086;&#1089;&#1080;&#1089;&#1090;&#1077;&#1084;&#1072;%20&#1083;&#1091;&#1075;&#1072;.ppt" TargetMode="External"/><Relationship Id="rId2" Type="http://schemas.openxmlformats.org/officeDocument/2006/relationships/image" Target="../media/image13.jpeg"/><Relationship Id="rId3" Type="http://schemas.openxmlformats.org/officeDocument/2006/relationships/hyperlink" Target="file:///&#1101;&#1082;&#1086;&#1089;&#1080;&#1089;&#1090;&#1077;&#1084;&#1072;%20&#1083;&#1091;&#1075;&#1072;.ppt" TargetMode="External"/><Relationship Id="rId4" Type="http://schemas.openxmlformats.org/officeDocument/2006/relationships/image" Target="../media/image14.jpeg"/><Relationship Id="rId5" Type="http://schemas.openxmlformats.org/officeDocument/2006/relationships/hyperlink" Target="file:///&#1101;&#1082;&#1086;&#1089;&#1080;&#1089;&#1090;&#1077;&#1084;&#1072;%20&#1083;&#1091;&#1075;&#1072;.ppt" TargetMode="External"/><Relationship Id="rId6" Type="http://schemas.openxmlformats.org/officeDocument/2006/relationships/image" Target="../media/image15.jpeg"/><Relationship Id="rId7" Type="http://schemas.openxmlformats.org/officeDocument/2006/relationships/hyperlink" Target="file:///&#1101;&#1082;&#1086;&#1089;&#1080;&#1089;&#1090;&#1077;&#1084;&#1072;%20&#1083;&#1091;&#1075;&#1072;.ppt" TargetMode="External"/><Relationship Id="rId8" Type="http://schemas.openxmlformats.org/officeDocument/2006/relationships/image" Target="../media/image16.png"/><Relationship Id="rId9" Type="http://schemas.openxmlformats.org/officeDocument/2006/relationships/hyperlink" Target="file:///&#1101;&#1082;&#1086;&#1089;&#1080;&#1089;&#1090;&#1077;&#1084;&#1072;%20&#1083;&#1091;&#1075;&#1072;.ppt" TargetMode="External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image" Target="../media/image19.jpeg"/><Relationship Id="rId13" Type="http://schemas.openxmlformats.org/officeDocument/2006/relationships/image" Target="../media/image20.jpeg"/><Relationship Id="rId14" Type="http://schemas.openxmlformats.org/officeDocument/2006/relationships/image" Target="../media/image21.jpeg"/><Relationship Id="rId15" Type="http://schemas.openxmlformats.org/officeDocument/2006/relationships/slideLayout" Target="../slideLayouts/slideLayout61.xml"/><Relationship Id="rId1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1" descr=""/>
          <p:cNvPicPr/>
          <p:nvPr/>
        </p:nvPicPr>
        <p:blipFill>
          <a:blip r:embed="rId1"/>
          <a:stretch/>
        </p:blipFill>
        <p:spPr>
          <a:xfrm>
            <a:off x="0" y="1476360"/>
            <a:ext cx="9540720" cy="540072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2"/>
          <p:cNvSpPr/>
          <p:nvPr/>
        </p:nvSpPr>
        <p:spPr>
          <a:xfrm>
            <a:off x="3095640" y="1619280"/>
            <a:ext cx="3240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возду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3"/>
          <p:cNvSpPr/>
          <p:nvPr/>
        </p:nvSpPr>
        <p:spPr>
          <a:xfrm>
            <a:off x="3325680" y="351000"/>
            <a:ext cx="379584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4"/>
          <p:cNvSpPr/>
          <p:nvPr/>
        </p:nvSpPr>
        <p:spPr>
          <a:xfrm>
            <a:off x="3600360" y="360360"/>
            <a:ext cx="28796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5"/>
          <p:cNvSpPr/>
          <p:nvPr/>
        </p:nvSpPr>
        <p:spPr>
          <a:xfrm>
            <a:off x="6119640" y="360360"/>
            <a:ext cx="181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 Box 6"/>
          <p:cNvSpPr/>
          <p:nvPr/>
        </p:nvSpPr>
        <p:spPr>
          <a:xfrm>
            <a:off x="0" y="4067280"/>
            <a:ext cx="3672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производите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7"/>
          <p:cNvSpPr/>
          <p:nvPr/>
        </p:nvSpPr>
        <p:spPr>
          <a:xfrm>
            <a:off x="900000" y="3419640"/>
            <a:ext cx="1810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 Box 8"/>
          <p:cNvSpPr/>
          <p:nvPr/>
        </p:nvSpPr>
        <p:spPr>
          <a:xfrm>
            <a:off x="4896000" y="3780000"/>
            <a:ext cx="30607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потребите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 Box 9"/>
          <p:cNvSpPr/>
          <p:nvPr/>
        </p:nvSpPr>
        <p:spPr>
          <a:xfrm>
            <a:off x="3600360" y="6840360"/>
            <a:ext cx="3603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10"/>
          <p:cNvSpPr/>
          <p:nvPr/>
        </p:nvSpPr>
        <p:spPr>
          <a:xfrm>
            <a:off x="3600360" y="0"/>
            <a:ext cx="22971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11"/>
          <p:cNvSpPr/>
          <p:nvPr/>
        </p:nvSpPr>
        <p:spPr>
          <a:xfrm>
            <a:off x="4319640" y="360360"/>
            <a:ext cx="181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12"/>
          <p:cNvSpPr/>
          <p:nvPr/>
        </p:nvSpPr>
        <p:spPr>
          <a:xfrm>
            <a:off x="2808360" y="4716360"/>
            <a:ext cx="278604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разрушите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 Box 13"/>
          <p:cNvSpPr/>
          <p:nvPr/>
        </p:nvSpPr>
        <p:spPr>
          <a:xfrm>
            <a:off x="5940360" y="3959280"/>
            <a:ext cx="18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14"/>
          <p:cNvSpPr/>
          <p:nvPr/>
        </p:nvSpPr>
        <p:spPr>
          <a:xfrm>
            <a:off x="7345440" y="6156360"/>
            <a:ext cx="11430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в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Text Box 15"/>
          <p:cNvSpPr/>
          <p:nvPr/>
        </p:nvSpPr>
        <p:spPr>
          <a:xfrm>
            <a:off x="503280" y="5867280"/>
            <a:ext cx="14637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гор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16"/>
          <p:cNvSpPr/>
          <p:nvPr/>
        </p:nvSpPr>
        <p:spPr>
          <a:xfrm>
            <a:off x="720720" y="6480000"/>
            <a:ext cx="14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Text Box 2"/>
          <p:cNvSpPr/>
          <p:nvPr/>
        </p:nvSpPr>
        <p:spPr>
          <a:xfrm>
            <a:off x="3111480" y="351000"/>
            <a:ext cx="33685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Экосисте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Місце для нижнього колонтитула 1"/>
          <p:cNvSpPr/>
          <p:nvPr/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1"/>
          <p:cNvSpPr/>
          <p:nvPr/>
        </p:nvSpPr>
        <p:spPr>
          <a:xfrm>
            <a:off x="1260360" y="1619280"/>
            <a:ext cx="68518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планктон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циклопы и дафни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мотыл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мох - сфагнум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торф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экосистема луг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 Box 2"/>
          <p:cNvSpPr/>
          <p:nvPr/>
        </p:nvSpPr>
        <p:spPr>
          <a:xfrm>
            <a:off x="1440000" y="539640"/>
            <a:ext cx="5580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Продолжи фраз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Місце для нижнього колонтитула 1"/>
          <p:cNvSpPr/>
          <p:nvPr/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9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9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9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9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9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9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1" descr=""/>
          <p:cNvPicPr/>
          <p:nvPr/>
        </p:nvPicPr>
        <p:blipFill>
          <a:blip r:embed="rId1"/>
          <a:stretch/>
        </p:blipFill>
        <p:spPr>
          <a:xfrm>
            <a:off x="-7920" y="0"/>
            <a:ext cx="10088640" cy="7559640"/>
          </a:xfrm>
          <a:prstGeom prst="rect">
            <a:avLst/>
          </a:prstGeom>
          <a:ln w="0">
            <a:noFill/>
          </a:ln>
        </p:spPr>
      </p:pic>
      <p:sp>
        <p:nvSpPr>
          <p:cNvPr id="429" name="Text Box 2"/>
          <p:cNvSpPr/>
          <p:nvPr/>
        </p:nvSpPr>
        <p:spPr>
          <a:xfrm>
            <a:off x="2641680" y="3738600"/>
            <a:ext cx="18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3"/>
          <p:cNvSpPr/>
          <p:nvPr/>
        </p:nvSpPr>
        <p:spPr>
          <a:xfrm>
            <a:off x="682560" y="1851120"/>
            <a:ext cx="8643960" cy="18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Arial"/>
              </a:rPr>
              <a:t>Экосистема луга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Місце для нижнього колонтитула 1"/>
          <p:cNvSpPr/>
          <p:nvPr/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1"/>
          <p:cNvSpPr/>
          <p:nvPr/>
        </p:nvSpPr>
        <p:spPr>
          <a:xfrm>
            <a:off x="1727280" y="611280"/>
            <a:ext cx="670716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Луговые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производител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3" name="Picture 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36720" y="4500720"/>
            <a:ext cx="1962000" cy="232884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985080" y="1979640"/>
            <a:ext cx="1798560" cy="238284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4" descr="E:\Марьям\Звуки картинки\lopux2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248000" y="4572000"/>
            <a:ext cx="1643040" cy="23209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5" descr="E:\Марьям\Звуки картинки\p200095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39640" y="2279520"/>
            <a:ext cx="2689200" cy="183204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6" descr="E:\Марьям\Звуки картинки\medherb101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248000" y="1979640"/>
            <a:ext cx="1624320" cy="23670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7" descr="E:\PICT0102-21_resize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985080" y="4500720"/>
            <a:ext cx="1673280" cy="238896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10"/>
          <p:cNvSpPr/>
          <p:nvPr/>
        </p:nvSpPr>
        <p:spPr>
          <a:xfrm>
            <a:off x="907560" y="4140360"/>
            <a:ext cx="1153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уванчи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Text Box 11"/>
          <p:cNvSpPr/>
          <p:nvPr/>
        </p:nvSpPr>
        <p:spPr>
          <a:xfrm>
            <a:off x="1243800" y="6804000"/>
            <a:ext cx="93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силё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 Box 12"/>
          <p:cNvSpPr/>
          <p:nvPr/>
        </p:nvSpPr>
        <p:spPr>
          <a:xfrm>
            <a:off x="4565880" y="6967440"/>
            <a:ext cx="726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опу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Text Box 13"/>
          <p:cNvSpPr/>
          <p:nvPr/>
        </p:nvSpPr>
        <p:spPr>
          <a:xfrm>
            <a:off x="6851160" y="6894360"/>
            <a:ext cx="1945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ышиный гороше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Місце для нижнього колонтитула 1"/>
          <p:cNvSpPr/>
          <p:nvPr/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 Box 1"/>
          <p:cNvSpPr/>
          <p:nvPr/>
        </p:nvSpPr>
        <p:spPr>
          <a:xfrm>
            <a:off x="1397160" y="636480"/>
            <a:ext cx="642132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Луговые потребител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 Box 2"/>
          <p:cNvSpPr/>
          <p:nvPr/>
        </p:nvSpPr>
        <p:spPr>
          <a:xfrm>
            <a:off x="5940360" y="2700360"/>
            <a:ext cx="181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 Box 3"/>
          <p:cNvSpPr/>
          <p:nvPr/>
        </p:nvSpPr>
        <p:spPr>
          <a:xfrm>
            <a:off x="3240000" y="1258920"/>
            <a:ext cx="181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4"/>
          <p:cNvSpPr/>
          <p:nvPr/>
        </p:nvSpPr>
        <p:spPr>
          <a:xfrm>
            <a:off x="1897200" y="2851200"/>
            <a:ext cx="2340000" cy="29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8" name="Picture 6" descr="E:\Марьям\Звуки картинки\sm_529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4000" y="3203640"/>
            <a:ext cx="2143080" cy="15001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7" descr="E:\Марьям\Звуки картинки\strekoza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27640" y="3203640"/>
            <a:ext cx="1927080" cy="166680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8" descr="E:\Марьям\Звуки картинки\image002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184720" y="1332000"/>
            <a:ext cx="2028960" cy="15206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10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47640" y="3132000"/>
            <a:ext cx="1500120" cy="16606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12" descr="E:\Марьям\Звуки картинки\1110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480000" y="5508720"/>
            <a:ext cx="2167200" cy="1444680"/>
          </a:xfrm>
          <a:prstGeom prst="rect">
            <a:avLst/>
          </a:prstGeom>
          <a:ln w="0">
            <a:noFill/>
          </a:ln>
        </p:spPr>
      </p:pic>
      <p:sp>
        <p:nvSpPr>
          <p:cNvPr id="453" name="Прямоугольник 13"/>
          <p:cNvSpPr/>
          <p:nvPr/>
        </p:nvSpPr>
        <p:spPr>
          <a:xfrm>
            <a:off x="2660040" y="4716360"/>
            <a:ext cx="22485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а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ч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голубян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Прямоугольник 14"/>
          <p:cNvSpPr/>
          <p:nvPr/>
        </p:nvSpPr>
        <p:spPr>
          <a:xfrm>
            <a:off x="5724000" y="4932360"/>
            <a:ext cx="11120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стрекоз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Прямоугольник 15"/>
          <p:cNvSpPr/>
          <p:nvPr/>
        </p:nvSpPr>
        <p:spPr>
          <a:xfrm>
            <a:off x="6589800" y="7020000"/>
            <a:ext cx="1866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ыш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малют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Прямоугольник 16"/>
          <p:cNvSpPr/>
          <p:nvPr/>
        </p:nvSpPr>
        <p:spPr>
          <a:xfrm>
            <a:off x="5709240" y="2843280"/>
            <a:ext cx="7797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чек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Прямоугольник 17"/>
          <p:cNvSpPr/>
          <p:nvPr/>
        </p:nvSpPr>
        <p:spPr>
          <a:xfrm>
            <a:off x="487800" y="4859280"/>
            <a:ext cx="17262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божья коров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8" name="Picture 13" descr="E:\Марьям\Звуки картинки\16-1.jpg"/>
          <p:cNvPicPr/>
          <p:nvPr/>
        </p:nvPicPr>
        <p:blipFill>
          <a:blip r:embed="rId11"/>
          <a:stretch/>
        </p:blipFill>
        <p:spPr>
          <a:xfrm>
            <a:off x="4103640" y="5508720"/>
            <a:ext cx="1390680" cy="1455480"/>
          </a:xfrm>
          <a:prstGeom prst="rect">
            <a:avLst/>
          </a:prstGeom>
          <a:ln w="0">
            <a:noFill/>
          </a:ln>
        </p:spPr>
      </p:pic>
      <p:sp>
        <p:nvSpPr>
          <p:cNvPr id="459" name="Прямоугольник 19"/>
          <p:cNvSpPr/>
          <p:nvPr/>
        </p:nvSpPr>
        <p:spPr>
          <a:xfrm>
            <a:off x="3997800" y="7020000"/>
            <a:ext cx="18036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ыш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полев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0" name="Picture 14" descr="E:\Марьям\Звуки картинки\Image06.jpg"/>
          <p:cNvPicPr/>
          <p:nvPr/>
        </p:nvPicPr>
        <p:blipFill>
          <a:blip r:embed="rId12"/>
          <a:stretch/>
        </p:blipFill>
        <p:spPr>
          <a:xfrm>
            <a:off x="2592360" y="1332000"/>
            <a:ext cx="2092320" cy="1508040"/>
          </a:xfrm>
          <a:prstGeom prst="rect">
            <a:avLst/>
          </a:prstGeom>
          <a:ln w="0">
            <a:noFill/>
          </a:ln>
        </p:spPr>
      </p:pic>
      <p:sp>
        <p:nvSpPr>
          <p:cNvPr id="461" name="Прямоугольник 21"/>
          <p:cNvSpPr/>
          <p:nvPr/>
        </p:nvSpPr>
        <p:spPr>
          <a:xfrm>
            <a:off x="3002400" y="2843280"/>
            <a:ext cx="13071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трясог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2" name="Picture 16" descr="E:\Марьям\Звуки картинки\049056054124053048055054053057055.jpg"/>
          <p:cNvPicPr/>
          <p:nvPr/>
        </p:nvPicPr>
        <p:blipFill>
          <a:blip r:embed="rId13"/>
          <a:stretch/>
        </p:blipFill>
        <p:spPr>
          <a:xfrm>
            <a:off x="792000" y="5435640"/>
            <a:ext cx="2357640" cy="1643040"/>
          </a:xfrm>
          <a:prstGeom prst="rect">
            <a:avLst/>
          </a:prstGeom>
          <a:ln w="0">
            <a:noFill/>
          </a:ln>
        </p:spPr>
      </p:pic>
      <p:sp>
        <p:nvSpPr>
          <p:cNvPr id="463" name="Прямоугольник 25"/>
          <p:cNvSpPr/>
          <p:nvPr/>
        </p:nvSpPr>
        <p:spPr>
          <a:xfrm>
            <a:off x="1383480" y="7093080"/>
            <a:ext cx="782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лас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4" name="Picture 17" descr="E:\27.jpg"/>
          <p:cNvPicPr/>
          <p:nvPr/>
        </p:nvPicPr>
        <p:blipFill>
          <a:blip r:embed="rId14"/>
          <a:stretch/>
        </p:blipFill>
        <p:spPr>
          <a:xfrm>
            <a:off x="7561440" y="3419640"/>
            <a:ext cx="1404720" cy="1089000"/>
          </a:xfrm>
          <a:prstGeom prst="rect">
            <a:avLst/>
          </a:prstGeom>
          <a:ln w="0">
            <a:noFill/>
          </a:ln>
        </p:spPr>
      </p:pic>
      <p:sp>
        <p:nvSpPr>
          <p:cNvPr id="465" name="Прямоугольник 27"/>
          <p:cNvSpPr/>
          <p:nvPr/>
        </p:nvSpPr>
        <p:spPr>
          <a:xfrm>
            <a:off x="7748640" y="4572000"/>
            <a:ext cx="1101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кузнеч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 Box 1"/>
          <p:cNvSpPr/>
          <p:nvPr/>
        </p:nvSpPr>
        <p:spPr>
          <a:xfrm>
            <a:off x="1539720" y="2351160"/>
            <a:ext cx="64216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Місце для нижнього колонтитула 1"/>
          <p:cNvSpPr/>
          <p:nvPr/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 Box 1"/>
          <p:cNvSpPr/>
          <p:nvPr/>
        </p:nvSpPr>
        <p:spPr>
          <a:xfrm>
            <a:off x="2160720" y="684360"/>
            <a:ext cx="6408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Луговые разрушител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Text Box 2"/>
          <p:cNvSpPr/>
          <p:nvPr/>
        </p:nvSpPr>
        <p:spPr>
          <a:xfrm>
            <a:off x="1368360" y="6732720"/>
            <a:ext cx="11368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навозн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0" name="Picture 4" descr="E:\Марьям\Звуки картинки\LUMBRICIDAE.jpg"/>
          <p:cNvPicPr/>
          <p:nvPr/>
        </p:nvPicPr>
        <p:blipFill>
          <a:blip r:embed="rId1"/>
          <a:stretch/>
        </p:blipFill>
        <p:spPr>
          <a:xfrm>
            <a:off x="6264360" y="4284720"/>
            <a:ext cx="2806560" cy="2143080"/>
          </a:xfrm>
          <a:prstGeom prst="rect">
            <a:avLst/>
          </a:prstGeom>
          <a:ln w="0">
            <a:noFill/>
          </a:ln>
        </p:spPr>
      </p:pic>
      <p:sp>
        <p:nvSpPr>
          <p:cNvPr id="471" name="Прямоугольник 4"/>
          <p:cNvSpPr/>
          <p:nvPr/>
        </p:nvSpPr>
        <p:spPr>
          <a:xfrm>
            <a:off x="6680520" y="6443640"/>
            <a:ext cx="19072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дождевой черв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Прямоугольник 7"/>
          <p:cNvSpPr/>
          <p:nvPr/>
        </p:nvSpPr>
        <p:spPr>
          <a:xfrm>
            <a:off x="3988080" y="3564000"/>
            <a:ext cx="8895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улит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3" name="Picture 6" descr="E:\Марьям\Звуки картинки\навозник.jpg"/>
          <p:cNvPicPr/>
          <p:nvPr/>
        </p:nvPicPr>
        <p:blipFill>
          <a:blip r:embed="rId2"/>
          <a:stretch/>
        </p:blipFill>
        <p:spPr>
          <a:xfrm>
            <a:off x="719280" y="4356000"/>
            <a:ext cx="2984400" cy="2071800"/>
          </a:xfrm>
          <a:prstGeom prst="rect">
            <a:avLst/>
          </a:prstGeom>
          <a:ln w="0">
            <a:noFill/>
          </a:ln>
        </p:spPr>
      </p:pic>
      <p:sp>
        <p:nvSpPr>
          <p:cNvPr id="474" name="Прямоугольник 9"/>
          <p:cNvSpPr/>
          <p:nvPr/>
        </p:nvSpPr>
        <p:spPr>
          <a:xfrm>
            <a:off x="7117560" y="2411280"/>
            <a:ext cx="20826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почвенные клещ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5" name="Picture 1" descr=""/>
          <p:cNvPicPr/>
          <p:nvPr/>
        </p:nvPicPr>
        <p:blipFill>
          <a:blip r:embed="rId3"/>
          <a:stretch/>
        </p:blipFill>
        <p:spPr>
          <a:xfrm>
            <a:off x="3311640" y="1547640"/>
            <a:ext cx="1928520" cy="1984680"/>
          </a:xfrm>
          <a:prstGeom prst="rect">
            <a:avLst/>
          </a:prstGeom>
          <a:ln w="0">
            <a:noFill/>
          </a:ln>
        </p:spPr>
      </p:pic>
      <p:sp>
        <p:nvSpPr>
          <p:cNvPr id="476" name="Місце для нижнього колонтитула 1"/>
          <p:cNvSpPr/>
          <p:nvPr/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8640" cy="7559640"/>
          </a:xfrm>
          <a:prstGeom prst="rect">
            <a:avLst/>
          </a:prstGeom>
          <a:ln w="0">
            <a:noFill/>
          </a:ln>
        </p:spPr>
      </p:pic>
      <p:sp>
        <p:nvSpPr>
          <p:cNvPr id="478" name="Text Box 2"/>
          <p:cNvSpPr/>
          <p:nvPr/>
        </p:nvSpPr>
        <p:spPr>
          <a:xfrm>
            <a:off x="2641680" y="3738600"/>
            <a:ext cx="18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Прямоугольник 4"/>
          <p:cNvSpPr/>
          <p:nvPr/>
        </p:nvSpPr>
        <p:spPr>
          <a:xfrm>
            <a:off x="968400" y="2065320"/>
            <a:ext cx="8072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Если луг в благоприятных условиях может смениться лесом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начит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 круговорот веществ на лугах незамкнутый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Місце для нижнього колонтитула 1"/>
          <p:cNvSpPr/>
          <p:nvPr/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137" dur="5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142" dur="50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5-01-05T08:53:15Z</dcterms:modified>
  <cp:revision>60</cp:revision>
  <dc:subject/>
  <dc:title>Слайд 1</dc:title>
</cp:coreProperties>
</file>