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dt" idx="28"/>
          </p:nvPr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ftr" idx="29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 type="sldNum" idx="30"/>
          </p:nvPr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B4968-0026-4544-9F67-0057B024CC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9B8133-C838-4D02-B571-183EC520E0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Экосисте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35CAC-A007-4CEC-9EE4-EF741AF514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Продолжи фраз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ланкто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циклопы и даф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моты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мох - сфагну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тор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экосистема лу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51C7C3-8748-4E7A-858B-7E36B630DA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Экосистема лу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0D50F5-9470-4D9D-9721-40BB6C39FD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Луговы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производи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CF6D64-D2E3-4C77-ACF1-28A74D853B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Луговые потреби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A877A3-3871-44BC-BA68-E42440CDC1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Луговые разруши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F3A3C2-CA81-4EE0-80C7-E6B40485C0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Если луг в благоприятных условиях может смениться лесом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начит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круговорот веществ на лугах незамкнутый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C17D-6C5B-4F64-BD0D-5A13B84F3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3419-10AD-4AC8-9CC8-CB50E0B9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FB27E-FB3A-435C-A300-E03C9EA6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3652B-B360-4600-AFCB-86964B55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1018AF-54DA-410C-8D34-CD719E0A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82D7C3-40FF-46AA-9A42-F84F4A14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3DCB81-5695-451E-8C2D-A7D32551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F12B1E-1F4C-463F-83E1-32B01B05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4195D4-A589-4D18-B408-D0B0B3F2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65B48F-AB2C-49C3-B492-620D1F830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1DE355-115B-48D6-94EE-1198DADE4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365A-1E6D-4EBD-A63B-B279DAEE4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AE66-7FA8-4726-A6CA-CE1533487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5C30-F2DE-4299-83B5-7B4C0A769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13F9-D194-4C9A-912D-F5404B71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AEDA-17A0-401A-B0C7-81F24769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3385-6AA7-4428-A1D2-14C3E5BA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8ABD-BB90-46C8-8F07-FADF8C19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2750-BAB3-4F33-B0F2-4B8B7FFC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BE982-3E8B-4FB0-B8DD-0F54A6F9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8781-20C8-43BB-AC5F-C148394F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3EBC-3812-4133-B916-81E9291B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FD41-2BE9-47B3-B748-A47C14D2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61B9-BD54-40D1-8B30-6D223F21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8780-71BE-41F4-B4AE-05A2B0042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0DCF6-6623-4303-A873-5120A3D7D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D7E3C-2494-4713-9651-229F42FD1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38E4C-23DC-4774-91B7-CA2C17F4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43E1F-1E9E-422D-A9DD-A46C19AD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49F29-97BF-4DD9-A5E7-49CEAAA6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74E52-7A4D-49E3-99D1-74B38AFF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8EFE-2818-4D9B-90E5-E5A2DACA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0BC29-9AF1-473F-9728-41559C3E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BD96C-4B80-475F-8952-9D32DC73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CFD92-5346-471A-9F11-79D60A3F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9399A-7DFE-49C4-9B4C-73648E11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3808E-A264-41B4-BE32-33089D41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AE865-9701-4945-9217-25D10ED00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D8E76-7A65-406B-8FDD-07E4B58E3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12863-29CA-4BEE-97D1-4AB138A54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57A03-AD49-41CD-AE1B-7810E8DA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0C215-7141-434F-AA15-212D01D9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0587-1B28-402E-AA6E-E538C254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361E6-9CFC-4151-8D41-B5E7A939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69B47-4987-42A2-9E97-C02317B8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51833-65E2-4E38-88A1-7138AB26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E2E05-663F-4036-A953-302FD159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C356A-957C-409D-A19B-4292BD70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F6928-67F0-4CB3-A854-23A4259C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7150C-C741-40C1-81BD-1C510752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8A3E3-951C-4070-AEE2-C3B475124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F182E-7B9A-4545-A7AC-648FDA12D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F8928-6552-4C2D-928A-B97B5FCE0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0EE8-92F3-4FF4-B7C1-0D112CF4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85C5F-3AD1-4D28-B102-878BC381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A7128-CF74-402B-A60E-23AB737D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BE091-8DDC-40D2-B4B5-1E4F4082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6D644-C83F-4832-820D-F44D40B8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AFFFC-7626-4094-994D-BB812744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3439D-83EF-4E87-966E-89A35D33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9E7A0-C892-4699-B53D-6B661AFB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F5CCA-CF9D-4D4C-9C79-7C2B9F05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08913-FA7B-48CC-BE1D-68359683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0AA4B-D55B-4EE7-8BE3-BFCC52678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1D21-6B43-479E-9D59-0277A5F7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724BC-26F1-4660-BA3F-0FAA4AA4A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CE93C-685D-4DFD-ADB7-8C31E4062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688AD-1F36-46BA-95BE-EF547811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4DB9C-27B3-45B7-983D-350C673B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6D1D7-5AEA-4AFE-85E4-DAF8B4D7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C091C-1818-4AE2-8D60-E54A82C1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5C6F7-A46C-4414-97EA-DFE3D467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63731-0777-4EBC-869D-0AF8BCFE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781D6-1D63-4969-93A1-C95A7A8A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30614-B37A-47A1-BFD0-8E833711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3322-FAC7-426D-B3CF-AB91C455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607BB-2B41-4B15-9CDC-B539BBE2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C6D06-9F07-4F3C-8F52-4C4436514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41AFD-BC84-4935-9165-78517DF85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F2DAC-07EE-44AD-855B-876C926E0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EDCA7-1A92-413B-B01C-290460DF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38101-969E-4D5E-8EAE-70F41032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6E3D1-335F-48E4-8C67-3821D935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9406E-16C1-489C-8BA1-418879AE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CA62A-2F41-4EDA-B616-C482E2E7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C4E1F-FE76-4C03-8B02-1F37C965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9FC7-9FD6-424C-B373-D7E8FAE9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69D98-4A08-4254-BA88-ED95470C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78421-4176-45A5-A415-A97A8680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92C96-3364-4E3A-98AC-4F8C04F1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DC0C8-C2BA-4AEE-9854-3330A0473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31737-F06A-461C-9615-8E770EC2A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6C80D-4BAF-4B9B-B511-1C8F7C9CB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321CA-6C39-4560-AD95-51F98271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7AF3F-DE2C-4FAA-AE97-19CFD187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D3F4D-D5EB-4297-A553-5666AB98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5E3D1-E19E-4218-9351-0F795501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4031-8E16-43E1-A902-7C4DE82C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FE166-52E9-492D-8F52-7439E928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47609-D698-44E6-BDFF-E5AFBDAB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1D76E-352D-4A2E-84BC-F3364B62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A8401-3D23-41CC-9219-F52F4623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AC52A-A701-4BC0-B7A3-A36B3EFD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38FCD-C4AD-4334-96EE-8081FA15B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FC03E-624B-4271-9D25-D34710A43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049DD2-CF26-4E1D-A605-F48AF24C5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719670-D6E7-41ED-A939-F7301719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89FAD9-BFBF-422B-952F-86D79584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66640" y="1152360"/>
            <a:ext cx="9515520" cy="11160"/>
            <a:chOff x="566640" y="1152360"/>
            <a:chExt cx="9515520" cy="1116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66640" y="1152360"/>
              <a:ext cx="951552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66640" y="1158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9072720" y="7138800"/>
            <a:ext cx="839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9F1A9FE-CC40-4641-AE1F-2BC261DEED90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66640" y="1152360"/>
            <a:ext cx="9515520" cy="11160"/>
            <a:chOff x="566640" y="1152360"/>
            <a:chExt cx="9515520" cy="1116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66640" y="1152360"/>
              <a:ext cx="951552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66640" y="1158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66640" y="1158840"/>
            <a:ext cx="9515520" cy="17640"/>
            <a:chOff x="566640" y="1158840"/>
            <a:chExt cx="9515520" cy="1764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66640" y="1158840"/>
              <a:ext cx="951552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66640" y="1166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66640" y="5888160"/>
            <a:ext cx="9515520" cy="19080"/>
            <a:chOff x="566640" y="5888160"/>
            <a:chExt cx="9515520" cy="1908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66640" y="5888160"/>
              <a:ext cx="951552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66640" y="58975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072360" y="7135920"/>
            <a:ext cx="836280" cy="272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AC96174-914E-4BF2-89AD-3F5F44143348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66640" y="1152360"/>
            <a:ext cx="9515520" cy="11160"/>
            <a:chOff x="566640" y="1152360"/>
            <a:chExt cx="9515520" cy="1116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66640" y="1152360"/>
              <a:ext cx="951552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66640" y="1158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66640" y="1152360"/>
            <a:ext cx="9515520" cy="11160"/>
            <a:chOff x="566640" y="1152360"/>
            <a:chExt cx="9515520" cy="1116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66640" y="1152360"/>
              <a:ext cx="951552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66640" y="1158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66640" y="1158840"/>
            <a:ext cx="9515520" cy="17640"/>
            <a:chOff x="566640" y="1158840"/>
            <a:chExt cx="9515520" cy="1764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66640" y="1158840"/>
              <a:ext cx="951552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66640" y="1166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948120" y="84240"/>
            <a:ext cx="319248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9072360" y="7135920"/>
            <a:ext cx="836280" cy="272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203CEF4-39DA-4BCC-9DC0-2F5E60235EB6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66640" y="3790800"/>
            <a:ext cx="9515520" cy="12960"/>
            <a:chOff x="566640" y="3790800"/>
            <a:chExt cx="9515520" cy="129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66640" y="3790800"/>
              <a:ext cx="9515520" cy="1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66640" y="37972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9072720" y="7138800"/>
            <a:ext cx="839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6FDF8B3-B6AD-4943-9209-93296909D219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66640" y="6632640"/>
            <a:ext cx="9515520" cy="12600"/>
            <a:chOff x="566640" y="6632640"/>
            <a:chExt cx="951552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66640" y="6632640"/>
              <a:ext cx="951552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66640" y="66358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9072720" y="7139160"/>
            <a:ext cx="839520" cy="272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DC0C00A-D7A4-4AF1-80D0-AEDBDDF8E7B0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9072720" y="7138800"/>
            <a:ext cx="839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7339681-1A52-4870-9B25-C257AAC239F8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66640" y="6443640"/>
            <a:ext cx="9515520" cy="12600"/>
            <a:chOff x="566640" y="6443640"/>
            <a:chExt cx="9515520" cy="1260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66640" y="6443640"/>
              <a:ext cx="951552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66640" y="64468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9072720" y="7138800"/>
            <a:ext cx="839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BFC3B8C-A5FD-477F-9D04-E2722995C194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9072720" y="7138800"/>
            <a:ext cx="839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2D6A522-7CDB-470A-9D2E-645016227C90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9072720" y="7138800"/>
            <a:ext cx="839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5ABD098-B12D-4447-8BE9-C062C91775FA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1101;&#1082;&#1086;&#1089;&#1080;&#1089;&#1090;&#1077;&#1084;&#1072;%20&#1083;&#1091;&#1075;&#1072;.ppt" TargetMode="External"/><Relationship Id="rId2" Type="http://schemas.openxmlformats.org/officeDocument/2006/relationships/image" Target="../media/image7.jpeg"/><Relationship Id="rId3" Type="http://schemas.openxmlformats.org/officeDocument/2006/relationships/hyperlink" Target="file:///&#1101;&#1082;&#1086;&#1089;&#1080;&#1089;&#1090;&#1077;&#1084;&#1072;%20&#1083;&#1091;&#1075;&#1072;.ppt" TargetMode="External"/><Relationship Id="rId4" Type="http://schemas.openxmlformats.org/officeDocument/2006/relationships/image" Target="../media/image8.jpeg"/><Relationship Id="rId5" Type="http://schemas.openxmlformats.org/officeDocument/2006/relationships/hyperlink" Target="file:///&#1101;&#1082;&#1086;&#1089;&#1080;&#1089;&#1090;&#1077;&#1084;&#1072;%20&#1083;&#1091;&#1075;&#1072;.ppt" TargetMode="External"/><Relationship Id="rId6" Type="http://schemas.openxmlformats.org/officeDocument/2006/relationships/image" Target="../media/image9.jpeg"/><Relationship Id="rId7" Type="http://schemas.openxmlformats.org/officeDocument/2006/relationships/hyperlink" Target="file:///&#1101;&#1082;&#1086;&#1089;&#1080;&#1089;&#1090;&#1077;&#1084;&#1072;%20&#1083;&#1091;&#1075;&#1072;.ppt" TargetMode="External"/><Relationship Id="rId8" Type="http://schemas.openxmlformats.org/officeDocument/2006/relationships/image" Target="../media/image10.jpeg"/><Relationship Id="rId9" Type="http://schemas.openxmlformats.org/officeDocument/2006/relationships/hyperlink" Target="file:///&#1101;&#1082;&#1086;&#1089;&#1080;&#1089;&#1090;&#1077;&#1084;&#1072;%20&#1083;&#1091;&#1075;&#1072;.ppt" TargetMode="External"/><Relationship Id="rId10" Type="http://schemas.openxmlformats.org/officeDocument/2006/relationships/image" Target="../media/image11.jpeg"/><Relationship Id="rId11" Type="http://schemas.openxmlformats.org/officeDocument/2006/relationships/hyperlink" Target="file:///&#1101;&#1082;&#1086;&#1089;&#1080;&#1089;&#1090;&#1077;&#1084;&#1072;%20&#1083;&#1091;&#1075;&#1072;.ppt" TargetMode="External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6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101;&#1082;&#1086;&#1089;&#1080;&#1089;&#1090;&#1077;&#1084;&#1072;%20&#1083;&#1091;&#1075;&#1072;.ppt" TargetMode="External"/><Relationship Id="rId2" Type="http://schemas.openxmlformats.org/officeDocument/2006/relationships/image" Target="../media/image13.jpeg"/><Relationship Id="rId3" Type="http://schemas.openxmlformats.org/officeDocument/2006/relationships/hyperlink" Target="file:///&#1101;&#1082;&#1086;&#1089;&#1080;&#1089;&#1090;&#1077;&#1084;&#1072;%20&#1083;&#1091;&#1075;&#1072;.ppt" TargetMode="External"/><Relationship Id="rId4" Type="http://schemas.openxmlformats.org/officeDocument/2006/relationships/image" Target="../media/image14.jpeg"/><Relationship Id="rId5" Type="http://schemas.openxmlformats.org/officeDocument/2006/relationships/hyperlink" Target="file:///&#1101;&#1082;&#1086;&#1089;&#1080;&#1089;&#1090;&#1077;&#1084;&#1072;%20&#1083;&#1091;&#1075;&#1072;.ppt" TargetMode="External"/><Relationship Id="rId6" Type="http://schemas.openxmlformats.org/officeDocument/2006/relationships/image" Target="../media/image15.jpeg"/><Relationship Id="rId7" Type="http://schemas.openxmlformats.org/officeDocument/2006/relationships/hyperlink" Target="file:///&#1101;&#1082;&#1086;&#1089;&#1080;&#1089;&#1090;&#1077;&#1084;&#1072;%20&#1083;&#1091;&#1075;&#1072;.ppt" TargetMode="External"/><Relationship Id="rId8" Type="http://schemas.openxmlformats.org/officeDocument/2006/relationships/image" Target="../media/image16.png"/><Relationship Id="rId9" Type="http://schemas.openxmlformats.org/officeDocument/2006/relationships/hyperlink" Target="file:///&#1101;&#1082;&#1086;&#1089;&#1080;&#1089;&#1090;&#1077;&#1084;&#1072;%20&#1083;&#1091;&#1075;&#1072;.ppt" TargetMode="External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image" Target="../media/image20.jpeg"/><Relationship Id="rId14" Type="http://schemas.openxmlformats.org/officeDocument/2006/relationships/image" Target="../media/image21.jpeg"/><Relationship Id="rId15" Type="http://schemas.openxmlformats.org/officeDocument/2006/relationships/slideLayout" Target="../slideLayouts/slideLayout61.xml"/><Relationship Id="rId1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1" descr=""/>
          <p:cNvPicPr/>
          <p:nvPr/>
        </p:nvPicPr>
        <p:blipFill>
          <a:blip r:embed="rId1"/>
          <a:stretch/>
        </p:blipFill>
        <p:spPr>
          <a:xfrm>
            <a:off x="0" y="1476360"/>
            <a:ext cx="9540720" cy="540072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2"/>
          <p:cNvSpPr/>
          <p:nvPr/>
        </p:nvSpPr>
        <p:spPr>
          <a:xfrm>
            <a:off x="3095640" y="1619280"/>
            <a:ext cx="3240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озду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3325680" y="351000"/>
            <a:ext cx="379584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4"/>
          <p:cNvSpPr/>
          <p:nvPr/>
        </p:nvSpPr>
        <p:spPr>
          <a:xfrm>
            <a:off x="3600360" y="360360"/>
            <a:ext cx="28796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5"/>
          <p:cNvSpPr/>
          <p:nvPr/>
        </p:nvSpPr>
        <p:spPr>
          <a:xfrm>
            <a:off x="6119640" y="360360"/>
            <a:ext cx="1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6"/>
          <p:cNvSpPr/>
          <p:nvPr/>
        </p:nvSpPr>
        <p:spPr>
          <a:xfrm>
            <a:off x="0" y="4067280"/>
            <a:ext cx="367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роизводите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7"/>
          <p:cNvSpPr/>
          <p:nvPr/>
        </p:nvSpPr>
        <p:spPr>
          <a:xfrm>
            <a:off x="900000" y="3419640"/>
            <a:ext cx="181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4896000" y="3780000"/>
            <a:ext cx="3060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отребите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9"/>
          <p:cNvSpPr/>
          <p:nvPr/>
        </p:nvSpPr>
        <p:spPr>
          <a:xfrm>
            <a:off x="3600360" y="6840360"/>
            <a:ext cx="360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10"/>
          <p:cNvSpPr/>
          <p:nvPr/>
        </p:nvSpPr>
        <p:spPr>
          <a:xfrm>
            <a:off x="3600360" y="0"/>
            <a:ext cx="22971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1"/>
          <p:cNvSpPr/>
          <p:nvPr/>
        </p:nvSpPr>
        <p:spPr>
          <a:xfrm>
            <a:off x="4319640" y="360360"/>
            <a:ext cx="1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12"/>
          <p:cNvSpPr/>
          <p:nvPr/>
        </p:nvSpPr>
        <p:spPr>
          <a:xfrm>
            <a:off x="2808360" y="4716360"/>
            <a:ext cx="27860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разрушите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13"/>
          <p:cNvSpPr/>
          <p:nvPr/>
        </p:nvSpPr>
        <p:spPr>
          <a:xfrm>
            <a:off x="5940360" y="3959280"/>
            <a:ext cx="18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14"/>
          <p:cNvSpPr/>
          <p:nvPr/>
        </p:nvSpPr>
        <p:spPr>
          <a:xfrm>
            <a:off x="7345440" y="6156360"/>
            <a:ext cx="1143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15"/>
          <p:cNvSpPr/>
          <p:nvPr/>
        </p:nvSpPr>
        <p:spPr>
          <a:xfrm>
            <a:off x="503280" y="5867280"/>
            <a:ext cx="14637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гор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16"/>
          <p:cNvSpPr/>
          <p:nvPr/>
        </p:nvSpPr>
        <p:spPr>
          <a:xfrm>
            <a:off x="720720" y="6480000"/>
            <a:ext cx="14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3111480" y="351000"/>
            <a:ext cx="33685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Экосисте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Місце для нижнього колонтитула 1"/>
          <p:cNvSpPr/>
          <p:nvPr/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1"/>
          <p:cNvSpPr/>
          <p:nvPr/>
        </p:nvSpPr>
        <p:spPr>
          <a:xfrm>
            <a:off x="1260360" y="1619280"/>
            <a:ext cx="685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планктон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циклопы и дафни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мотыл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мох - сфагну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торф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экосистема луг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2"/>
          <p:cNvSpPr/>
          <p:nvPr/>
        </p:nvSpPr>
        <p:spPr>
          <a:xfrm>
            <a:off x="1440000" y="539640"/>
            <a:ext cx="558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родолжи фраз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Місце для нижнього колонтитула 1"/>
          <p:cNvSpPr/>
          <p:nvPr/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9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1" descr=""/>
          <p:cNvPicPr/>
          <p:nvPr/>
        </p:nvPicPr>
        <p:blipFill>
          <a:blip r:embed="rId1"/>
          <a:stretch/>
        </p:blipFill>
        <p:spPr>
          <a:xfrm>
            <a:off x="-7920" y="0"/>
            <a:ext cx="10088640" cy="7559640"/>
          </a:xfrm>
          <a:prstGeom prst="rect">
            <a:avLst/>
          </a:prstGeom>
          <a:ln w="0">
            <a:noFill/>
          </a:ln>
        </p:spPr>
      </p:pic>
      <p:sp>
        <p:nvSpPr>
          <p:cNvPr id="429" name="Text Box 2"/>
          <p:cNvSpPr/>
          <p:nvPr/>
        </p:nvSpPr>
        <p:spPr>
          <a:xfrm>
            <a:off x="2641680" y="3738600"/>
            <a:ext cx="18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682560" y="1851120"/>
            <a:ext cx="8643960" cy="18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Arial"/>
              </a:rPr>
              <a:t>Экосистема луга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Місце для нижнього колонтитула 1"/>
          <p:cNvSpPr/>
          <p:nvPr/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1"/>
          <p:cNvSpPr/>
          <p:nvPr/>
        </p:nvSpPr>
        <p:spPr>
          <a:xfrm>
            <a:off x="1727280" y="611280"/>
            <a:ext cx="670716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Луговые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производител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Picture 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36720" y="4500720"/>
            <a:ext cx="1962000" cy="23288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85080" y="1979640"/>
            <a:ext cx="1798560" cy="23828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4" descr="E:\Марьям\Звуки картинки\lopux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48000" y="4572000"/>
            <a:ext cx="1643040" cy="23209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5" descr="E:\Марьям\Звуки картинки\p200095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39640" y="2279520"/>
            <a:ext cx="2689200" cy="183204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6" descr="E:\Марьям\Звуки картинки\medherb101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248000" y="1979640"/>
            <a:ext cx="1624320" cy="23670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7" descr="E:\PICT0102-21_resize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985080" y="4500720"/>
            <a:ext cx="1673280" cy="238896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10"/>
          <p:cNvSpPr/>
          <p:nvPr/>
        </p:nvSpPr>
        <p:spPr>
          <a:xfrm>
            <a:off x="907560" y="4140360"/>
            <a:ext cx="1153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уванчи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 Box 11"/>
          <p:cNvSpPr/>
          <p:nvPr/>
        </p:nvSpPr>
        <p:spPr>
          <a:xfrm>
            <a:off x="1243800" y="6804000"/>
            <a:ext cx="93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силё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12"/>
          <p:cNvSpPr/>
          <p:nvPr/>
        </p:nvSpPr>
        <p:spPr>
          <a:xfrm>
            <a:off x="4565880" y="6967440"/>
            <a:ext cx="726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пу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13"/>
          <p:cNvSpPr/>
          <p:nvPr/>
        </p:nvSpPr>
        <p:spPr>
          <a:xfrm>
            <a:off x="6851160" y="6894360"/>
            <a:ext cx="1945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ышиный гороше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Місце для нижнього колонтитула 1"/>
          <p:cNvSpPr/>
          <p:nvPr/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1"/>
          <p:cNvSpPr/>
          <p:nvPr/>
        </p:nvSpPr>
        <p:spPr>
          <a:xfrm>
            <a:off x="1397160" y="636480"/>
            <a:ext cx="64213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Луговые потребител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2"/>
          <p:cNvSpPr/>
          <p:nvPr/>
        </p:nvSpPr>
        <p:spPr>
          <a:xfrm>
            <a:off x="5940360" y="2700360"/>
            <a:ext cx="1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3"/>
          <p:cNvSpPr/>
          <p:nvPr/>
        </p:nvSpPr>
        <p:spPr>
          <a:xfrm>
            <a:off x="3240000" y="1258920"/>
            <a:ext cx="1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1897200" y="2851200"/>
            <a:ext cx="2340000" cy="29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8" name="Picture 6" descr="E:\Марьям\Звуки картинки\sm_52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4000" y="3203640"/>
            <a:ext cx="2143080" cy="15001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7" descr="E:\Марьям\Звуки картинки\strekoz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27640" y="3203640"/>
            <a:ext cx="1927080" cy="16668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8" descr="E:\Марьям\Звуки картинки\image00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184720" y="1332000"/>
            <a:ext cx="2028960" cy="15206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0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7640" y="3132000"/>
            <a:ext cx="1500120" cy="16606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2" descr="E:\Марьям\Звуки картинки\1110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480000" y="5508720"/>
            <a:ext cx="2167200" cy="1444680"/>
          </a:xfrm>
          <a:prstGeom prst="rect">
            <a:avLst/>
          </a:prstGeom>
          <a:ln w="0">
            <a:noFill/>
          </a:ln>
        </p:spPr>
      </p:pic>
      <p:sp>
        <p:nvSpPr>
          <p:cNvPr id="453" name="Прямоугольник 13"/>
          <p:cNvSpPr/>
          <p:nvPr/>
        </p:nvSpPr>
        <p:spPr>
          <a:xfrm>
            <a:off x="2660040" y="4716360"/>
            <a:ext cx="22485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а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ч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голубя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Прямоугольник 14"/>
          <p:cNvSpPr/>
          <p:nvPr/>
        </p:nvSpPr>
        <p:spPr>
          <a:xfrm>
            <a:off x="5724000" y="4932360"/>
            <a:ext cx="1112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стреко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Прямоугольник 15"/>
          <p:cNvSpPr/>
          <p:nvPr/>
        </p:nvSpPr>
        <p:spPr>
          <a:xfrm>
            <a:off x="6589800" y="7020000"/>
            <a:ext cx="1866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ыш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малют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Прямоугольник 16"/>
          <p:cNvSpPr/>
          <p:nvPr/>
        </p:nvSpPr>
        <p:spPr>
          <a:xfrm>
            <a:off x="5709240" y="2843280"/>
            <a:ext cx="7797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чек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Прямоугольник 17"/>
          <p:cNvSpPr/>
          <p:nvPr/>
        </p:nvSpPr>
        <p:spPr>
          <a:xfrm>
            <a:off x="487800" y="4859280"/>
            <a:ext cx="17262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божья коров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8" name="Picture 13" descr="E:\Марьям\Звуки картинки\16-1.jpg"/>
          <p:cNvPicPr/>
          <p:nvPr/>
        </p:nvPicPr>
        <p:blipFill>
          <a:blip r:embed="rId11"/>
          <a:stretch/>
        </p:blipFill>
        <p:spPr>
          <a:xfrm>
            <a:off x="4103640" y="5508720"/>
            <a:ext cx="1390680" cy="1455480"/>
          </a:xfrm>
          <a:prstGeom prst="rect">
            <a:avLst/>
          </a:prstGeom>
          <a:ln w="0">
            <a:noFill/>
          </a:ln>
        </p:spPr>
      </p:pic>
      <p:sp>
        <p:nvSpPr>
          <p:cNvPr id="459" name="Прямоугольник 19"/>
          <p:cNvSpPr/>
          <p:nvPr/>
        </p:nvSpPr>
        <p:spPr>
          <a:xfrm>
            <a:off x="3997800" y="7020000"/>
            <a:ext cx="1803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ыш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полев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Picture 14" descr="E:\Марьям\Звуки картинки\Image06.jpg"/>
          <p:cNvPicPr/>
          <p:nvPr/>
        </p:nvPicPr>
        <p:blipFill>
          <a:blip r:embed="rId12"/>
          <a:stretch/>
        </p:blipFill>
        <p:spPr>
          <a:xfrm>
            <a:off x="2592360" y="1332000"/>
            <a:ext cx="2092320" cy="1508040"/>
          </a:xfrm>
          <a:prstGeom prst="rect">
            <a:avLst/>
          </a:prstGeom>
          <a:ln w="0">
            <a:noFill/>
          </a:ln>
        </p:spPr>
      </p:pic>
      <p:sp>
        <p:nvSpPr>
          <p:cNvPr id="461" name="Прямоугольник 21"/>
          <p:cNvSpPr/>
          <p:nvPr/>
        </p:nvSpPr>
        <p:spPr>
          <a:xfrm>
            <a:off x="3002400" y="2843280"/>
            <a:ext cx="13071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трясог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2" name="Picture 16" descr="E:\Марьям\Звуки картинки\049056054124053048055054053057055.jpg"/>
          <p:cNvPicPr/>
          <p:nvPr/>
        </p:nvPicPr>
        <p:blipFill>
          <a:blip r:embed="rId13"/>
          <a:stretch/>
        </p:blipFill>
        <p:spPr>
          <a:xfrm>
            <a:off x="792000" y="5435640"/>
            <a:ext cx="2357640" cy="1643040"/>
          </a:xfrm>
          <a:prstGeom prst="rect">
            <a:avLst/>
          </a:prstGeom>
          <a:ln w="0">
            <a:noFill/>
          </a:ln>
        </p:spPr>
      </p:pic>
      <p:sp>
        <p:nvSpPr>
          <p:cNvPr id="463" name="Прямоугольник 25"/>
          <p:cNvSpPr/>
          <p:nvPr/>
        </p:nvSpPr>
        <p:spPr>
          <a:xfrm>
            <a:off x="1383480" y="7093080"/>
            <a:ext cx="782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лас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Picture 17" descr="E:\27.jpg"/>
          <p:cNvPicPr/>
          <p:nvPr/>
        </p:nvPicPr>
        <p:blipFill>
          <a:blip r:embed="rId14"/>
          <a:stretch/>
        </p:blipFill>
        <p:spPr>
          <a:xfrm>
            <a:off x="7561440" y="3419640"/>
            <a:ext cx="1404720" cy="1089000"/>
          </a:xfrm>
          <a:prstGeom prst="rect">
            <a:avLst/>
          </a:prstGeom>
          <a:ln w="0">
            <a:noFill/>
          </a:ln>
        </p:spPr>
      </p:pic>
      <p:sp>
        <p:nvSpPr>
          <p:cNvPr id="465" name="Прямоугольник 27"/>
          <p:cNvSpPr/>
          <p:nvPr/>
        </p:nvSpPr>
        <p:spPr>
          <a:xfrm>
            <a:off x="7748640" y="4572000"/>
            <a:ext cx="1101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кузнеч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1"/>
          <p:cNvSpPr/>
          <p:nvPr/>
        </p:nvSpPr>
        <p:spPr>
          <a:xfrm>
            <a:off x="1539720" y="2351160"/>
            <a:ext cx="6421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Місце для нижнього колонтитула 1"/>
          <p:cNvSpPr/>
          <p:nvPr/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1"/>
          <p:cNvSpPr/>
          <p:nvPr/>
        </p:nvSpPr>
        <p:spPr>
          <a:xfrm>
            <a:off x="2160720" y="684360"/>
            <a:ext cx="6408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Луговые разрушител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2"/>
          <p:cNvSpPr/>
          <p:nvPr/>
        </p:nvSpPr>
        <p:spPr>
          <a:xfrm>
            <a:off x="1368360" y="6732720"/>
            <a:ext cx="11368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навоз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0" name="Picture 4" descr="E:\Марьям\Звуки картинки\LUMBRICIDAE.jpg"/>
          <p:cNvPicPr/>
          <p:nvPr/>
        </p:nvPicPr>
        <p:blipFill>
          <a:blip r:embed="rId1"/>
          <a:stretch/>
        </p:blipFill>
        <p:spPr>
          <a:xfrm>
            <a:off x="6264360" y="4284720"/>
            <a:ext cx="2806560" cy="2143080"/>
          </a:xfrm>
          <a:prstGeom prst="rect">
            <a:avLst/>
          </a:prstGeom>
          <a:ln w="0">
            <a:noFill/>
          </a:ln>
        </p:spPr>
      </p:pic>
      <p:sp>
        <p:nvSpPr>
          <p:cNvPr id="471" name="Прямоугольник 4"/>
          <p:cNvSpPr/>
          <p:nvPr/>
        </p:nvSpPr>
        <p:spPr>
          <a:xfrm>
            <a:off x="6680520" y="6443640"/>
            <a:ext cx="1907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дождевой черв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Прямоугольник 7"/>
          <p:cNvSpPr/>
          <p:nvPr/>
        </p:nvSpPr>
        <p:spPr>
          <a:xfrm>
            <a:off x="3988080" y="3564000"/>
            <a:ext cx="8895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улит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3" name="Picture 6" descr="E:\Марьям\Звуки картинки\навозник.jpg"/>
          <p:cNvPicPr/>
          <p:nvPr/>
        </p:nvPicPr>
        <p:blipFill>
          <a:blip r:embed="rId2"/>
          <a:stretch/>
        </p:blipFill>
        <p:spPr>
          <a:xfrm>
            <a:off x="719280" y="4356000"/>
            <a:ext cx="2984400" cy="2071800"/>
          </a:xfrm>
          <a:prstGeom prst="rect">
            <a:avLst/>
          </a:prstGeom>
          <a:ln w="0">
            <a:noFill/>
          </a:ln>
        </p:spPr>
      </p:pic>
      <p:sp>
        <p:nvSpPr>
          <p:cNvPr id="474" name="Прямоугольник 9"/>
          <p:cNvSpPr/>
          <p:nvPr/>
        </p:nvSpPr>
        <p:spPr>
          <a:xfrm>
            <a:off x="7117560" y="2411280"/>
            <a:ext cx="2082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почвенные клещ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Picture 1" descr=""/>
          <p:cNvPicPr/>
          <p:nvPr/>
        </p:nvPicPr>
        <p:blipFill>
          <a:blip r:embed="rId3"/>
          <a:stretch/>
        </p:blipFill>
        <p:spPr>
          <a:xfrm>
            <a:off x="3311640" y="1547640"/>
            <a:ext cx="1928520" cy="1984680"/>
          </a:xfrm>
          <a:prstGeom prst="rect">
            <a:avLst/>
          </a:prstGeom>
          <a:ln w="0">
            <a:noFill/>
          </a:ln>
        </p:spPr>
      </p:pic>
      <p:sp>
        <p:nvSpPr>
          <p:cNvPr id="476" name="Місце для нижнього колонтитула 1"/>
          <p:cNvSpPr/>
          <p:nvPr/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8640" cy="755964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2"/>
          <p:cNvSpPr/>
          <p:nvPr/>
        </p:nvSpPr>
        <p:spPr>
          <a:xfrm>
            <a:off x="2641680" y="3738600"/>
            <a:ext cx="18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Прямоугольник 4"/>
          <p:cNvSpPr/>
          <p:nvPr/>
        </p:nvSpPr>
        <p:spPr>
          <a:xfrm>
            <a:off x="968400" y="2065320"/>
            <a:ext cx="8072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Если луг в благоприятных условиях может смениться лесом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начит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 круговорот веществ на лугах незамкнутый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Місце для нижнього колонтитула 1"/>
          <p:cNvSpPr/>
          <p:nvPr/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137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142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5-01-05T08:53:15Z</dcterms:modified>
  <cp:revision>60</cp:revision>
  <dc:subject/>
  <dc:title>Слайд 1</dc:title>
</cp:coreProperties>
</file>