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875DA-4C43-43FD-93ED-433662ED71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E9E02-2136-4B08-982B-0ADFBB3721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448D1-DDCF-45EB-8953-37B6C6F037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должи фраз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ланк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иклопы и даф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т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х - сфагн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98173-32C4-43E4-BCC7-77909B5C8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4D2C8-3CDD-4F84-8C67-6110F47249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из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0B111-CC64-4F1F-8DC0-8237E817D1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03CF8-3039-46D6-9C68-2CB912EF93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разруш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8B92D-B865-4EB7-8C51-2B8B7F8A37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Если луг в благоприятных условиях может смениться лесо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начи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круговорот веществ на лугах незамкнут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0BD-A807-4FBA-9D2D-F65F7522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931-6966-4BAB-B805-D6B32A1A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E1185-9EFA-48AB-801A-8CEF88B9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01E36-AD80-4E49-80E9-647AAFE9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AFDD7-9628-49F1-AFEA-C14E6953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3275-29B9-4114-948A-2FEFBB91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6CD9A-79B1-435F-93C4-52DEB2F1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0D03F-4B74-4C1B-8FF3-2B2E1EC6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0FE34-BDA3-4556-A3F1-8C34A82E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AD50E-1D6A-400D-AEA4-0BE8C0C6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02948-534C-46FF-9E48-1FCD60E9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3B7-62D6-4147-AB56-9B3AD064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D96-D798-471E-A479-E2602323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C732-DBF1-41D8-B30D-96FA33C5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537E-B923-43C6-969D-DEF11386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8149-C1A5-41EF-A3BB-50CAFF9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58E6-F4DE-4574-9007-0873CA28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2EC8-43D7-4AE9-8039-723DF090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88B0-863C-4869-B6EB-8944269B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8BD5-6371-475E-A336-67D86F65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EC4-CB13-4A73-9895-BB4CD0BD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9723-56A9-4D64-AD0C-044EBAF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FE58-A85A-42F0-8F5A-A12AF49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FC8C-E8E0-4D04-B271-6EA65203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9375-9CF6-4D56-86C5-2B36C9EE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1E36-2D55-4F25-9BC3-D16EAA0E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EAF3-D0DB-49F8-9D8F-5ABA4260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4CCD-895B-4C4B-B7ED-16FBC310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6FF5-799C-41D2-A73D-BF0A89EF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E348-128D-456C-953F-9E70FA3D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C99D-6E1E-485F-9283-C1541C7A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3AF-83BA-4EF8-83C3-C17FD16A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C4C17-828A-4C04-9077-444FF7F5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7D77-79C0-4EEA-9CF9-BECD0F55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2A8F-434B-4344-A9E7-10C4085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025C-D61A-4572-91C6-4C3A5A37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8933-9FB7-4B65-AA34-94AF7870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D10FA-060B-4593-B8D3-1CB6EEE0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88AD-4BC7-4CE5-812B-EB3B2720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2534F-5F45-4F77-B810-FC5D94A7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0A39-43E9-4EB0-9254-A72533A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05A79-0123-4DA2-B64C-ED6A0163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B35-5DA3-476A-9F57-1228D2D3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29AA-77D7-4A31-8B01-BDBA6336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3A8F8-AFDA-4E5F-8932-9BA71443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1AE7D-BAFB-4B41-A4DD-F2DD174B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B30A-DDF1-41DC-8DB3-2517685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BA50-E9AF-41CB-A4F8-A9607C01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0F0F9-FC25-434F-826A-EB8397FA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EB89A-C65F-483A-AFBB-6C733589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0D46-A7C2-4D75-938A-DBD499CD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B9E42-1C25-4250-9ECD-F608B34E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F128-D062-4136-AC16-D6B6C624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0F0-573F-46CF-914F-D57933CB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B1F6E-5FE2-443D-9FED-AC2215A8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33B2-253B-448A-B1E5-F1185E98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5D565-2554-416F-8B09-9945C940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5FE16-6691-43E3-893F-BA24A033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8B568-23CF-4FCE-AFA7-A6C305ED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43320-FCFB-4641-B95B-4B5E2DE6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DCE54-8947-450F-BC99-3917FC4D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E86DC-D2E3-48EA-8979-5954DDE3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7B386-C204-4AD1-9351-80C78CDF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33430-C0B5-4900-92BE-25E96F44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1E4-8D21-45B1-BFA2-5FEA519A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63D4B-357D-4C1F-8B8E-AB13F67F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F833C-031B-4C56-AD9E-6BDB35A1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75A79-C660-426D-B977-EBFE4F15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B2AB4-56C2-494D-AD8F-682D2335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9F89C-0DA4-4307-8430-14C59D7D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469CF-5CA2-40CE-8AC1-D774ABFD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8CF30-50F4-4C7E-9DA8-5851D8AB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78C1D-9EB1-4053-98D5-14721AEB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8B9BC-1981-424F-8EE4-04509E9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99E96-A744-4E46-9EBF-885D205F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CF2-1B96-4F32-818C-94CAE4B6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D9AE9-EA40-4758-9807-0BD04A40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54872-0C5F-40E0-92E0-EB0113C4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6E3F-2170-49B7-A2D0-8FB01D91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62B97-9F3C-445D-800C-ED855E69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88530-DC30-4BC9-907E-792717E1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FAE3D-4441-40DF-9FAB-A9535D46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A142E-791E-4A59-A01B-F72BBAFA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513E0-FF0E-4C6A-9A9C-699C8BDB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CFBA5-6318-40E5-B6E1-2F19E0A2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900EF-B916-477A-98E2-766DA10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E1F-7A88-45DA-A4AF-70783A7B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29A7F-4348-43DD-8055-2EF08D2C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FC765-0B93-4B10-A914-2E3DE84C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8723-7A93-417A-B00B-30245A2E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A497C-2CEF-4E62-9BC0-97EEB780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E337-5E22-46D1-AA63-5CED016F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4CBD8-074F-47E7-8C1A-A7C0FCBD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02A0-18DD-4051-A748-595C6431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F0454-CA53-4E76-AEF7-03D24BB6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B1B99-615D-4546-9654-B55655BE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B2E6B-A368-44C9-93FC-8C304E78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7DE-DF27-4BB4-9ECC-C8527E74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2CFBA-78E2-4BB4-A431-890B0E47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29F6E-638C-4064-AFCD-8445DC6E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2913-CC65-47E1-BFF8-466FD4D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61F61-A96D-4C15-8595-C5AD555B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D958C-1D45-4260-A420-C1BD13B8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6FF42-0056-40E0-9409-CFF5977B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64208-DA48-4A80-BBEF-A7FE58EB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F32CC-B60F-46C2-BC1A-705B7AC5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35750-5A32-4140-A922-9689FCEE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2F08B-ACEE-4BEF-83A0-01994D0A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6887F6-F31D-4606-931E-B4954DD4F58A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66640" y="5888160"/>
            <a:ext cx="9515520" cy="19080"/>
            <a:chOff x="566640" y="5888160"/>
            <a:chExt cx="951552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5888160"/>
              <a:ext cx="95155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66640" y="589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BC4DFD-100B-4D1D-8496-91DB6D566264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948120" y="84240"/>
            <a:ext cx="319248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AEDEDE-405F-4172-B85C-117B0F34B7D4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66640" y="3790800"/>
            <a:ext cx="9515520" cy="12960"/>
            <a:chOff x="566640" y="3790800"/>
            <a:chExt cx="9515520" cy="129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3790800"/>
              <a:ext cx="951552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6640" y="379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26D120-19F0-4087-AEB3-806A16446644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66640" y="6632640"/>
            <a:ext cx="9515520" cy="12600"/>
            <a:chOff x="566640" y="6632640"/>
            <a:chExt cx="951552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632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6640" y="6635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9072720" y="7139160"/>
            <a:ext cx="83952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FEBBA4-5156-4951-BE43-C1AE81A05DAF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00F58F-163E-4AD5-8B19-B3708F37DF5A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66640" y="6443640"/>
            <a:ext cx="9515520" cy="12600"/>
            <a:chOff x="566640" y="6443640"/>
            <a:chExt cx="951552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443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6640" y="644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3D1463-B931-4323-8E05-80F23C7EE029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EFD368-3302-4112-A814-9A84894CE47C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A75B8D-EF12-47CB-AD89-86245673AB86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8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9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0.jpe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file:///&#1101;&#1082;&#1086;&#1089;&#1080;&#1089;&#1090;&#1077;&#1084;&#1072;%20&#1083;&#1091;&#1075;&#1072;.ppt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13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14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15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6.pn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0" y="1476360"/>
            <a:ext cx="9540720" cy="540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"/>
          <p:cNvSpPr/>
          <p:nvPr/>
        </p:nvSpPr>
        <p:spPr>
          <a:xfrm>
            <a:off x="3095640" y="161928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325680" y="351000"/>
            <a:ext cx="37958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600360" y="360360"/>
            <a:ext cx="28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61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0" y="4067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00000" y="3419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896000" y="378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треб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3600360" y="684036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3600360" y="0"/>
            <a:ext cx="229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43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2808360" y="4716360"/>
            <a:ext cx="2786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руш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5940360" y="395928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7345440" y="615636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03280" y="5867280"/>
            <a:ext cx="1463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720720" y="648000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3111480" y="351000"/>
            <a:ext cx="3368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Эко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260360" y="1619280"/>
            <a:ext cx="685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циклопы и даф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ты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х - сфагну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экосистема л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440000" y="539640"/>
            <a:ext cx="558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долж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-792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82560" y="1851120"/>
            <a:ext cx="8643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Экосистема луг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727280" y="611280"/>
            <a:ext cx="6707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450072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979640"/>
            <a:ext cx="1798560" cy="2382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E:\Марьям\Звуки картинки\lopux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48000" y="4572000"/>
            <a:ext cx="1643040" cy="2320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:\Марьям\Звуки картинки\p20009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2279520"/>
            <a:ext cx="2689200" cy="183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E:\Марьям\Звуки картинки\medherb1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1979640"/>
            <a:ext cx="1624320" cy="2367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E:\PICT0102-21_resiz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85080" y="4500720"/>
            <a:ext cx="1673280" cy="23889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907560" y="4140360"/>
            <a:ext cx="1153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243800" y="680400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565880" y="6967440"/>
            <a:ext cx="72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п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51160" y="6894360"/>
            <a:ext cx="194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иный горо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1397160" y="636480"/>
            <a:ext cx="6421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Луговые потреби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5940360" y="270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240000" y="125892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897200" y="2851200"/>
            <a:ext cx="23400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6" descr="E:\Марьям\Звуки картинки\sm_5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4000" y="32036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E:\Марьям\Звуки картинки\strekoz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7640" y="3203640"/>
            <a:ext cx="1927080" cy="1666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E:\Марьям\Звуки картинки\image0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4720" y="1332000"/>
            <a:ext cx="2028960" cy="1520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640" y="3132000"/>
            <a:ext cx="1500120" cy="1660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E:\Марьям\Звуки картинки\11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80000" y="5508720"/>
            <a:ext cx="2167200" cy="14446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3"/>
          <p:cNvSpPr/>
          <p:nvPr/>
        </p:nvSpPr>
        <p:spPr>
          <a:xfrm>
            <a:off x="2660040" y="4716360"/>
            <a:ext cx="2248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олубя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14"/>
          <p:cNvSpPr/>
          <p:nvPr/>
        </p:nvSpPr>
        <p:spPr>
          <a:xfrm>
            <a:off x="5724000" y="4932360"/>
            <a:ext cx="111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15"/>
          <p:cNvSpPr/>
          <p:nvPr/>
        </p:nvSpPr>
        <p:spPr>
          <a:xfrm>
            <a:off x="6589800" y="7020000"/>
            <a:ext cx="18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16"/>
          <p:cNvSpPr/>
          <p:nvPr/>
        </p:nvSpPr>
        <p:spPr>
          <a:xfrm>
            <a:off x="5709240" y="2843280"/>
            <a:ext cx="7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е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17"/>
          <p:cNvSpPr/>
          <p:nvPr/>
        </p:nvSpPr>
        <p:spPr>
          <a:xfrm>
            <a:off x="487800" y="4859280"/>
            <a:ext cx="172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3" descr="E:\Марьям\Звуки картинки\16-1.jpg"/>
          <p:cNvPicPr/>
          <p:nvPr/>
        </p:nvPicPr>
        <p:blipFill>
          <a:blip r:embed="rId11"/>
          <a:stretch/>
        </p:blipFill>
        <p:spPr>
          <a:xfrm>
            <a:off x="4103640" y="5508720"/>
            <a:ext cx="1390680" cy="14554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9"/>
          <p:cNvSpPr/>
          <p:nvPr/>
        </p:nvSpPr>
        <p:spPr>
          <a:xfrm>
            <a:off x="3997800" y="7020000"/>
            <a:ext cx="180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пол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14" descr="E:\Марьям\Звуки картинки\Image06.jpg"/>
          <p:cNvPicPr/>
          <p:nvPr/>
        </p:nvPicPr>
        <p:blipFill>
          <a:blip r:embed="rId12"/>
          <a:stretch/>
        </p:blipFill>
        <p:spPr>
          <a:xfrm>
            <a:off x="2592360" y="1332000"/>
            <a:ext cx="2092320" cy="15080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1"/>
          <p:cNvSpPr/>
          <p:nvPr/>
        </p:nvSpPr>
        <p:spPr>
          <a:xfrm>
            <a:off x="3002400" y="2843280"/>
            <a:ext cx="1307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рясог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E:\Марьям\Звуки картинки\049056054124053048055054053057055.jpg"/>
          <p:cNvPicPr/>
          <p:nvPr/>
        </p:nvPicPr>
        <p:blipFill>
          <a:blip r:embed="rId13"/>
          <a:stretch/>
        </p:blipFill>
        <p:spPr>
          <a:xfrm>
            <a:off x="792000" y="5435640"/>
            <a:ext cx="2357640" cy="16430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5"/>
          <p:cNvSpPr/>
          <p:nvPr/>
        </p:nvSpPr>
        <p:spPr>
          <a:xfrm>
            <a:off x="1383480" y="7093080"/>
            <a:ext cx="782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E:\27.jpg"/>
          <p:cNvPicPr/>
          <p:nvPr/>
        </p:nvPicPr>
        <p:blipFill>
          <a:blip r:embed="rId14"/>
          <a:stretch/>
        </p:blipFill>
        <p:spPr>
          <a:xfrm>
            <a:off x="7561440" y="3419640"/>
            <a:ext cx="1404720" cy="108900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7"/>
          <p:cNvSpPr/>
          <p:nvPr/>
        </p:nvSpPr>
        <p:spPr>
          <a:xfrm>
            <a:off x="7748640" y="4572000"/>
            <a:ext cx="110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539720" y="2351160"/>
            <a:ext cx="6421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60720" y="684360"/>
            <a:ext cx="640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разруш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368360" y="6732720"/>
            <a:ext cx="1136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воз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E:\Марьям\Звуки картинки\LUMBRICIDAE.jpg"/>
          <p:cNvPicPr/>
          <p:nvPr/>
        </p:nvPicPr>
        <p:blipFill>
          <a:blip r:embed="rId1"/>
          <a:stretch/>
        </p:blipFill>
        <p:spPr>
          <a:xfrm>
            <a:off x="6264360" y="4284720"/>
            <a:ext cx="2806560" cy="2143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4"/>
          <p:cNvSpPr/>
          <p:nvPr/>
        </p:nvSpPr>
        <p:spPr>
          <a:xfrm>
            <a:off x="6680520" y="644364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7"/>
          <p:cNvSpPr/>
          <p:nvPr/>
        </p:nvSpPr>
        <p:spPr>
          <a:xfrm>
            <a:off x="3988080" y="3564000"/>
            <a:ext cx="88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ли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6" descr="E:\Марьям\Звуки картинки\навозник.jpg"/>
          <p:cNvPicPr/>
          <p:nvPr/>
        </p:nvPicPr>
        <p:blipFill>
          <a:blip r:embed="rId2"/>
          <a:stretch/>
        </p:blipFill>
        <p:spPr>
          <a:xfrm>
            <a:off x="719280" y="4356000"/>
            <a:ext cx="2984400" cy="2071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9"/>
          <p:cNvSpPr/>
          <p:nvPr/>
        </p:nvSpPr>
        <p:spPr>
          <a:xfrm>
            <a:off x="7117560" y="2411280"/>
            <a:ext cx="2082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чвенные 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3311640" y="1547640"/>
            <a:ext cx="1928520" cy="198468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968400" y="20653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Если луг в благоприятных условиях может смениться лес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ачи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круговорот веществ на лугах незамкнут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08:53:15Z</dcterms:modified>
  <cp:revision>60</cp:revision>
  <dc:subject/>
  <dc:title>Слайд 1</dc:title>
</cp:coreProperties>
</file>