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DC1E-26AD-423E-80DC-AC68B40B32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И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8D62-AF9D-4B95-A5F4-6EFB85B9B9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ой ма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1579-5C9B-4041-8785-E916EE4F7D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omic Sans MS"/>
              </a:rPr>
              <a:t>Деятельность живых организмов служит основой круговорота веществ в приро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с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фосф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6275-620B-4063-8F2A-CC1FE62760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Молекула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любая живая система проявляется на уровне функционирования биополимеров (сложных органических соединений), построенных из большого количества единиц – мономеров (просто устроенные соединения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Клетка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клетка является единицей развития живых организмов. Она представляет саморегулирующуюся, самовоспроизводящуюся живую систему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Ткань 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– совокупность сходных по строению клеток и межклеточного вещества, объединенных выполнением общей функц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Орган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труктурно-функциональное объединение нескольких типов ткан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Организм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представляет собой целостную систему органов, специализированных для выполнения различных функц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Популяция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овокупность организмов одного и того же вида, объединенных общим местом обит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rbel"/>
              </a:rPr>
              <a:t>Биогеоценоз</a:t>
            </a: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– совокупность организмов разных видов и факторов среды их обитания, объединенных обменом вещест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C989-965F-4A39-9493-46DC2E915A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рь себ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рганизмы поглощают диоксид углерода из атмосфе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от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путем связанный углерод возвращается в атмосфер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ышат организ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рушаются полез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пае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ют микроорганиз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ют аз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ют реакци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ения и вос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6ACF-DAB0-44B4-AC54-59A41E3657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эволюци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руктура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а как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ворот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7640-A767-4F58-A979-D70B516769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нное вещество, создается в процессе жизнедеятельности организма (газы, каменный уголь, нефть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ное вещество, образующееся без участия организма (основные породы, лава вулканов, метеори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косное, представляет собой общий результат жизнедеятельности организма и абиогенных процессов  (поч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5571-DF25-40B3-A94C-75CA5A7064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 представляет собой совокупность больших и малых экосистем или всех биоценозов Земли 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E28D-7FEC-4FF0-A642-2688EAEFB4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текст учебника, заполните таблиц (стр. 2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3974-0787-4907-9773-47CCC5D50C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асса живых организмов оценивают в 2,43 * 10</a:t>
            </a:r>
            <a:r>
              <a:rPr b="0" lang="ru-RU" sz="1400" spc="-1" strike="noStrike" baseline="50000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уше: 99,2% растения и 0,8% - животные и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еане: 6,3% - растения и 93,7 % –животные и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% - видовое разнообразие растений, но их биомасса составляет – 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6 видов – беспозвоночные и только 4% - позвоночные, но их вклад в биомассу всего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0433-3D22-406A-A33E-50092EA140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396-6B46-493C-B3C4-8D9C07EF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5FC-90C7-4F46-8FFA-902A2035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384-CC1E-4D12-9657-73B3F087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ED5-0F72-4CF6-9A37-5EADD888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D60A-FFA5-40E0-844F-3ADE7BDF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2B34-753C-40EE-B527-3CFB22D0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E7EC-BB0B-487F-BCB3-557A0BA8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BCF1-B5A2-48BC-B8F4-76AB75AD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BEF5-44D9-47F9-A8BB-E6839714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1315-A379-4DC7-BB25-59C83D24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A153-F81F-4F92-AE5B-A25648F4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C9D-0BB3-491E-99CD-3D6BC89D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50FB-D8B0-48D3-9221-9CE0686E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9CAB-D775-4F54-A22A-1E3E9DBD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E3D9-4CAB-423E-B2CF-33BFE289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1C28-DB9E-49E0-BDCA-1A9AE4B3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2943-D170-41F6-8647-1C7EFE72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00E0-E94C-4D29-9E90-2E51F306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DF1C-82EA-4C16-B8AB-613AF1D0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F4CC-A40D-438A-8959-3FFB9A55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EF227-05C3-4956-85F6-DD744ABD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42F8D-5C3B-41F7-8A5C-EA7230A4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80C-0719-43AB-91D2-1D73E77C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C413-09DB-4DA1-8177-EC4E95D7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A9D77-8E5D-4685-9A0F-706E54F2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8AAAD-541E-47FB-84F9-C5F0A07A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556D-86A6-46D8-BD93-41CF73F1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58AE-E010-4D74-9BA3-AC5BAE0A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3F5A-9B54-4BF2-8B5F-069BFAB4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B6AC-18BF-4FDB-90BA-C483FD7B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B0CCD-57CC-4A9E-9E7B-4A21610A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5E33B-A807-4BE6-9504-F5690D9F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77ED2-BD07-48D7-8C95-5B864BB3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36E-C81E-4532-A6F3-27B7329B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5CD53-ACEC-4021-8D38-D3BD1E97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72913-7BC8-4824-9524-1FA1E25E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36A7-EFFE-4165-B780-7C202EB3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A4E2F-2FA9-4E4B-8C0F-866199D1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B871A-B2CE-45D7-A3B5-EF29CE80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89694-9165-45E0-8F7A-3AAF57AF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749D-8EAF-40B4-976E-0945B4F3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2A76B-00A2-4313-A085-CCA7C06A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0F64C-6265-4345-B638-AFDDC90B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DF21F-9F0F-41C1-8A8B-2EB40541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F80-6D37-4E1C-B968-8A760BE0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8A707-6061-46F5-8115-82DAADBC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D13D6-FA42-458D-B60E-3F175D64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6BF80-C492-480E-9B8C-8E231038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AAA7-E170-467A-A7E5-731FF343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D1915-3517-4B7A-9037-C49FA87C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E5921-11D4-4473-8A6C-B1A875B8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186C7-57D9-459A-992C-1A067447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BAC21-D2CB-47E1-9684-D76EF658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CD82E-10DB-4E46-8BBB-EE9DEBF2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30FAF-2172-4CE2-887D-756102C2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067-8C10-4C9B-805B-8DE2A6F5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75533-47D8-4F90-854D-7167EDE0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66AD7-C667-4FEF-8088-6C17919A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3885C-6A9E-4AC2-91DF-6283ABEF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6CE24-FBBB-4C48-88A5-9E615D2D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A2CA9-A4EF-4952-8EFC-448FC4DB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ADFC8-E338-4B45-A586-6480BF31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F4319-0057-42AE-91B6-DA455EC4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EFD1A-0F91-4AE8-ABED-A9A7425D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E40C1-12B4-468F-94F9-65278593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95B80-9409-47D4-AC18-960179C5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CC8-F63C-48B3-803A-F4AF1AEF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0285C-F719-489E-A70E-203D699D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2F92D-AC43-4FE6-ABC6-EE7C149D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29407-89CC-48EF-8325-D22AC55C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FBB1C-4160-434C-851D-A83BC610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91214-2D3A-47EE-A3DD-6A0947F7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41176-7034-4BCB-8C06-246AC500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7290E-99CC-47BA-9C74-CB00D046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AF9A3-E462-404D-9C5E-0AA7D902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691CE-A7C3-49B7-9CAC-8C803CD8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7A47F-97DE-4A92-B9FC-8F39C8E4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559-0C1F-4B00-9D35-ADCCC88C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9BD7E-A85D-43C7-9BD7-D052FB7D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54460-0758-4A18-B3DD-1224F29D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743DB-084A-47CA-A463-E800ABF2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46997-3416-4419-A907-671321F9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B4371-B66F-4C03-9C04-98C1928B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4695B-12CC-40D4-A9AB-E4DABE1D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20B81-D211-48F6-A00C-9D364576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FB977-C495-409F-B510-FE2ECAD6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F176B-8781-4D9B-8BD6-E58B6149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3C805-AFE9-4183-AD67-E16F3EB6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803-78BD-416D-A530-A4EB36FD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2EFDD-9271-4D6A-9EE1-9476682B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F8365-C2C6-4D93-822B-9EC010CE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86B64-D966-4B12-8BEB-BB6B8B32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995C2-2448-42F5-9A96-66471BA4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103E4-6DD8-4C7A-BC01-FC0DFC6F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3B0EE-9628-4D05-BFB7-3459B243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7E4DF-2128-40BD-8320-731AD176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0109-B68A-43A3-8009-08A4CA3765C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65B6-316E-40EB-AE6A-7810F65E6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4B68-AADF-4389-8D70-2576382BF03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BA61-D8C6-42BB-9E48-A51D46D0EC6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C97F-BC34-48EE-9C33-94DF1445B75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CA40-7B76-496C-AB30-E05870AC3D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4BF0-9619-4797-98CB-DBFF2E14A01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F14A-EA6F-4C12-98C4-D0C3C81D632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2F3A-0F45-42C3-8580-5B3975A8607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BFA0-3865-477D-A83C-F361540A4E5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7F72-206A-4B59-BF2C-FA55C298370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EECF-F15F-4F51-B9CC-F023A36C09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2436-8BEF-4D24-B6BA-D421F9E861E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789C-C1F7-4AA4-BCD2-00850F38BE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4C09-2B7F-4206-98F2-661878998B6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F144-2103-4003-B48D-8E65024327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143160" y="5378400"/>
            <a:ext cx="55008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имова М.Ф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биологии, ГОУ 4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8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Прямоугольник 14" descr=""/>
          <p:cNvPicPr/>
          <p:nvPr/>
        </p:nvPicPr>
        <p:blipFill>
          <a:blip r:embed="rId1"/>
          <a:stretch/>
        </p:blipFill>
        <p:spPr>
          <a:xfrm>
            <a:off x="523800" y="1536840"/>
            <a:ext cx="8334360" cy="30114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1571760" y="214200"/>
            <a:ext cx="65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вни организации живой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Схема 3" descr=""/>
          <p:cNvPicPr/>
          <p:nvPr/>
        </p:nvPicPr>
        <p:blipFill>
          <a:blip r:embed="rId1"/>
          <a:stretch/>
        </p:blipFill>
        <p:spPr>
          <a:xfrm>
            <a:off x="444600" y="853920"/>
            <a:ext cx="8040600" cy="5980320"/>
          </a:xfrm>
          <a:prstGeom prst="rect">
            <a:avLst/>
          </a:prstGeom>
          <a:ln w="0">
            <a:noFill/>
          </a:ln>
        </p:spPr>
      </p:pic>
      <p:sp>
        <p:nvSpPr>
          <p:cNvPr id="410" name="Управляющая кнопка: далее 26">
            <a:hlinkClick r:id="rId2" action="ppaction://hlinksldjump"/>
          </p:cNvPr>
          <p:cNvSpPr/>
          <p:nvPr/>
        </p:nvSpPr>
        <p:spPr>
          <a:xfrm>
            <a:off x="8501040" y="61437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5587"/>
                </a:moveTo>
                <a:lnTo>
                  <a:pt x="17806" y="12594"/>
                </a:lnTo>
                <a:lnTo>
                  <a:pt x="3794" y="196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c3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TextBox 1"/>
          <p:cNvGrpSpPr/>
          <p:nvPr/>
        </p:nvGrpSpPr>
        <p:grpSpPr>
          <a:xfrm>
            <a:off x="311040" y="1530360"/>
            <a:ext cx="8534520" cy="5010120"/>
            <a:chOff x="311040" y="1530360"/>
            <a:chExt cx="8534520" cy="5010120"/>
          </a:xfrm>
        </p:grpSpPr>
        <p:pic>
          <p:nvPicPr>
            <p:cNvPr id="413" name="TextBox 1" descr=""/>
            <p:cNvPicPr/>
            <p:nvPr/>
          </p:nvPicPr>
          <p:blipFill>
            <a:blip r:embed="rId1"/>
            <a:stretch/>
          </p:blipFill>
          <p:spPr>
            <a:xfrm>
              <a:off x="311040" y="1530360"/>
              <a:ext cx="853452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00040" y="1571760"/>
              <a:ext cx="8286840" cy="46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во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угле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азо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фосф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Управляющая кнопка: далее 4">
            <a:hlinkClick r:id="rId2" action="ppaction://hlinksldjump"/>
          </p:cNvPr>
          <p:cNvSpPr/>
          <p:nvPr/>
        </p:nvSpPr>
        <p:spPr>
          <a:xfrm>
            <a:off x="5000760" y="27860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Управляющая кнопка: далее 5">
            <a:hlinkClick r:id="rId3" action="ppaction://hlinksldjump"/>
          </p:cNvPr>
          <p:cNvSpPr/>
          <p:nvPr/>
        </p:nvSpPr>
        <p:spPr>
          <a:xfrm>
            <a:off x="5143680" y="56437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Управляющая кнопка: далее 6">
            <a:hlinkClick r:id="rId4" action="ppaction://hlinksldjump"/>
          </p:cNvPr>
          <p:cNvSpPr/>
          <p:nvPr/>
        </p:nvSpPr>
        <p:spPr>
          <a:xfrm>
            <a:off x="5000760" y="378612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Управляющая кнопка: далее 7">
            <a:hlinkClick r:id="rId5" action="ppaction://hlinksldjump"/>
          </p:cNvPr>
          <p:cNvSpPr/>
          <p:nvPr/>
        </p:nvSpPr>
        <p:spPr>
          <a:xfrm>
            <a:off x="5000760" y="18572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9"/>
          <p:cNvSpPr/>
          <p:nvPr/>
        </p:nvSpPr>
        <p:spPr>
          <a:xfrm>
            <a:off x="714240" y="28584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d47"/>
                </a:solidFill>
                <a:latin typeface="Comic Sans MS"/>
              </a:rPr>
              <a:t>Деятельность живых организмов служит основой круговорота веществ в приро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Управляющая кнопка: в конец 10">
            <a:hlinkClick r:id="rId6" action="ppaction://hlinksldjump"/>
          </p:cNvPr>
          <p:cNvSpPr/>
          <p:nvPr/>
        </p:nvSpPr>
        <p:spPr>
          <a:xfrm>
            <a:off x="7429680" y="6357960"/>
            <a:ext cx="928440" cy="500040"/>
          </a:xfrm>
          <a:custGeom>
            <a:avLst/>
            <a:gdLst>
              <a:gd name="textAreaLeft" fmla="*/ 32400 w 928440"/>
              <a:gd name="textAreaRight" fmla="*/ 896040 w 9284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092" h="21600">
                <a:moveTo>
                  <a:pt x="0" y="0"/>
                </a:moveTo>
                <a:lnTo>
                  <a:pt x="40092" y="0"/>
                </a:lnTo>
                <a:lnTo>
                  <a:pt x="40092" y="21600"/>
                </a:lnTo>
                <a:lnTo>
                  <a:pt x="0" y="21600"/>
                </a:lnTo>
                <a:close/>
              </a:path>
              <a:path fill="lightenLess" w="40092" h="21600">
                <a:moveTo>
                  <a:pt x="0" y="0"/>
                </a:moveTo>
                <a:lnTo>
                  <a:pt x="40092" y="0"/>
                </a:lnTo>
                <a:lnTo>
                  <a:pt x="38692" y="1400"/>
                </a:lnTo>
                <a:lnTo>
                  <a:pt x="1400" y="1400"/>
                </a:lnTo>
                <a:close/>
              </a:path>
              <a:path fill="darken" w="40092" h="21600">
                <a:moveTo>
                  <a:pt x="40092" y="0"/>
                </a:moveTo>
                <a:lnTo>
                  <a:pt x="40092" y="21600"/>
                </a:lnTo>
                <a:lnTo>
                  <a:pt x="38692" y="20200"/>
                </a:lnTo>
                <a:lnTo>
                  <a:pt x="38692" y="1400"/>
                </a:lnTo>
                <a:close/>
              </a:path>
              <a:path fill="darkenLess" w="40092" h="21600">
                <a:moveTo>
                  <a:pt x="40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2" y="20200"/>
                </a:lnTo>
                <a:close/>
              </a:path>
              <a:path fill="lighten" w="40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2" h="21600">
                <a:moveTo>
                  <a:pt x="23545" y="10800"/>
                </a:moveTo>
                <a:lnTo>
                  <a:pt x="13040" y="17806"/>
                </a:lnTo>
                <a:lnTo>
                  <a:pt x="13040" y="3794"/>
                </a:lnTo>
                <a:close/>
              </a:path>
              <a:path fill="darken" w="40092" h="21600">
                <a:moveTo>
                  <a:pt x="25390" y="3794"/>
                </a:moveTo>
                <a:lnTo>
                  <a:pt x="25390" y="17806"/>
                </a:lnTo>
                <a:lnTo>
                  <a:pt x="27053" y="17806"/>
                </a:lnTo>
                <a:lnTo>
                  <a:pt x="27053" y="3794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1214280" y="149400"/>
            <a:ext cx="7929720" cy="72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Молекул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любая живая система проявляется на уровне функционирования биополимеров (сложных органических соединений), построенных из большого количества единиц – мономеров (просто устроенные соеди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Клетк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клетка является единицей развития живых организмов. Она представляет саморегулирующуюся, самовоспроизводящуюся жив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Ткань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совокупность сходных по строению клеток и межклеточного вещества, объединенных выполнением обще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Орган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труктурно-функциональное объединение нескольких типов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Организ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редставляет собой целостную систему органов, специализированных для выполнения различны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Популяц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овокупность организмов одного и того же вида, объединенных общим местом об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Биогеоценоз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совокупность организмов разных видов и факторов среды их обитания, объединенных обменом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Управляющая кнопка: домой 2">
            <a:hlinkClick r:id="rId2" action="ppaction://hlinksldjump"/>
          </p:cNvPr>
          <p:cNvSpPr/>
          <p:nvPr/>
        </p:nvSpPr>
        <p:spPr>
          <a:xfrm>
            <a:off x="571680" y="592920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10800" y="5642"/>
                </a:moveTo>
                <a:lnTo>
                  <a:pt x="13376" y="8253"/>
                </a:ln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lnTo>
                  <a:pt x="17763" y="12605"/>
                </a:lnTo>
                <a:lnTo>
                  <a:pt x="16109" y="12605"/>
                </a:lnTo>
                <a:lnTo>
                  <a:pt x="16109" y="19794"/>
                </a:lnTo>
                <a:lnTo>
                  <a:pt x="5491" y="19794"/>
                </a:lnTo>
                <a:lnTo>
                  <a:pt x="5491" y="12605"/>
                </a:lnTo>
                <a:lnTo>
                  <a:pt x="3837" y="12605"/>
                </a:lnTo>
                <a:close/>
              </a:path>
              <a:path fill="darkenLess" w="21600" h="25209">
                <a:moveTo>
                  <a:pt x="13376" y="8253"/>
                </a:move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close/>
              </a:path>
              <a:path fill="darkenLess" w="21600" h="25209">
                <a:moveTo>
                  <a:pt x="9877" y="16103"/>
                </a:moveTo>
                <a:lnTo>
                  <a:pt x="11723" y="16103"/>
                </a:lnTo>
                <a:lnTo>
                  <a:pt x="11723" y="19794"/>
                </a:lnTo>
                <a:lnTo>
                  <a:pt x="16109" y="19794"/>
                </a:lnTo>
                <a:lnTo>
                  <a:pt x="16109" y="12605"/>
                </a:lnTo>
                <a:lnTo>
                  <a:pt x="5491" y="12605"/>
                </a:lnTo>
                <a:lnTo>
                  <a:pt x="5491" y="19794"/>
                </a:lnTo>
                <a:lnTo>
                  <a:pt x="9877" y="19794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Рисунок 2" descr="2.gif"/>
          <p:cNvPicPr/>
          <p:nvPr/>
        </p:nvPicPr>
        <p:blipFill>
          <a:blip r:embed="rId2"/>
          <a:stretch/>
        </p:blipFill>
        <p:spPr>
          <a:xfrm>
            <a:off x="1714680" y="357120"/>
            <a:ext cx="5045040" cy="6000840"/>
          </a:xfrm>
          <a:prstGeom prst="rect">
            <a:avLst/>
          </a:prstGeom>
          <a:ln w="0">
            <a:noFill/>
          </a:ln>
        </p:spPr>
      </p:pic>
      <p:sp>
        <p:nvSpPr>
          <p:cNvPr id="426" name="Управляющая кнопка: домой 3">
            <a:hlinkClick r:id="rId3" action="ppaction://hlinksldjump"/>
          </p:cNvPr>
          <p:cNvSpPr/>
          <p:nvPr/>
        </p:nvSpPr>
        <p:spPr>
          <a:xfrm>
            <a:off x="7858080" y="542916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7858080" y="6143760"/>
            <a:ext cx="714600" cy="71424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7493"/>
                </a:moveTo>
                <a:lnTo>
                  <a:pt x="7307" y="7493"/>
                </a:lnTo>
                <a:lnTo>
                  <a:pt x="7307" y="12828"/>
                </a:lnTo>
                <a:cubicBezTo>
                  <a:pt x="7307" y="13751"/>
                  <a:pt x="8107" y="14482"/>
                  <a:pt x="9143" y="14482"/>
                </a:cubicBezTo>
                <a:lnTo>
                  <a:pt x="10805" y="14482"/>
                </a:lnTo>
                <a:cubicBezTo>
                  <a:pt x="11841" y="14482"/>
                  <a:pt x="12642" y="13751"/>
                  <a:pt x="12642" y="12828"/>
                </a:cubicBezTo>
                <a:lnTo>
                  <a:pt x="12642" y="7493"/>
                </a:lnTo>
                <a:lnTo>
                  <a:pt x="10805" y="7493"/>
                </a:lnTo>
                <a:lnTo>
                  <a:pt x="14313" y="3985"/>
                </a:lnTo>
                <a:lnTo>
                  <a:pt x="17986" y="7493"/>
                </a:lnTo>
                <a:lnTo>
                  <a:pt x="16150" y="7493"/>
                </a:lnTo>
                <a:lnTo>
                  <a:pt x="16150" y="12828"/>
                </a:lnTo>
                <a:cubicBezTo>
                  <a:pt x="16150" y="15596"/>
                  <a:pt x="13573" y="18155"/>
                  <a:pt x="10805" y="18155"/>
                </a:cubicBezTo>
                <a:lnTo>
                  <a:pt x="9143" y="18155"/>
                </a:lnTo>
                <a:cubicBezTo>
                  <a:pt x="6375" y="18155"/>
                  <a:pt x="3799" y="15596"/>
                  <a:pt x="3799" y="12828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3.gif"/>
          <p:cNvPicPr/>
          <p:nvPr/>
        </p:nvPicPr>
        <p:blipFill>
          <a:blip r:embed="rId2"/>
          <a:stretch/>
        </p:blipFill>
        <p:spPr>
          <a:xfrm>
            <a:off x="2071800" y="714240"/>
            <a:ext cx="4714920" cy="5214960"/>
          </a:xfrm>
          <a:prstGeom prst="rect">
            <a:avLst/>
          </a:prstGeom>
          <a:ln w="0">
            <a:noFill/>
          </a:ln>
        </p:spPr>
      </p:pic>
      <p:sp>
        <p:nvSpPr>
          <p:cNvPr id="430" name="Управляющая кнопка: домой 2">
            <a:hlinkClick r:id="rId3" action="ppaction://hlinksldjump"/>
          </p:cNvPr>
          <p:cNvSpPr/>
          <p:nvPr/>
        </p:nvSpPr>
        <p:spPr>
          <a:xfrm>
            <a:off x="7858080" y="542916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12146" y="3837"/>
                </a:moveTo>
                <a:lnTo>
                  <a:pt x="14722" y="6448"/>
                </a:lnTo>
                <a:lnTo>
                  <a:pt x="14722" y="4707"/>
                </a:lnTo>
                <a:lnTo>
                  <a:pt x="16498" y="4707"/>
                </a:lnTo>
                <a:lnTo>
                  <a:pt x="16498" y="8224"/>
                </a:lnTo>
                <a:lnTo>
                  <a:pt x="19109" y="10800"/>
                </a:lnTo>
                <a:lnTo>
                  <a:pt x="17455" y="10800"/>
                </a:lnTo>
                <a:lnTo>
                  <a:pt x="17455" y="17989"/>
                </a:lnTo>
                <a:lnTo>
                  <a:pt x="6836" y="17989"/>
                </a:lnTo>
                <a:lnTo>
                  <a:pt x="6836" y="10800"/>
                </a:lnTo>
                <a:lnTo>
                  <a:pt x="5183" y="10800"/>
                </a:lnTo>
                <a:close/>
              </a:path>
              <a:path fill="darkenLess" w="24292" h="21600">
                <a:moveTo>
                  <a:pt x="14722" y="6448"/>
                </a:moveTo>
                <a:lnTo>
                  <a:pt x="14722" y="4707"/>
                </a:lnTo>
                <a:lnTo>
                  <a:pt x="16498" y="4707"/>
                </a:lnTo>
                <a:lnTo>
                  <a:pt x="16498" y="8224"/>
                </a:lnTo>
                <a:close/>
              </a:path>
              <a:path fill="darkenLess" w="24292" h="21600">
                <a:moveTo>
                  <a:pt x="11223" y="14299"/>
                </a:moveTo>
                <a:lnTo>
                  <a:pt x="13068" y="14299"/>
                </a:lnTo>
                <a:lnTo>
                  <a:pt x="13068" y="17989"/>
                </a:lnTo>
                <a:lnTo>
                  <a:pt x="17455" y="17989"/>
                </a:lnTo>
                <a:lnTo>
                  <a:pt x="17455" y="10800"/>
                </a:lnTo>
                <a:lnTo>
                  <a:pt x="6836" y="10800"/>
                </a:lnTo>
                <a:lnTo>
                  <a:pt x="6836" y="17989"/>
                </a:lnTo>
                <a:lnTo>
                  <a:pt x="11223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7900920" y="6043680"/>
            <a:ext cx="571680" cy="64296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642960"/>
              <a:gd name="textAreaBottom" fmla="*/ 606240 h 642960"/>
            </a:gdLst>
            <a:ahLst/>
            <a:rect l="textAreaLeft" t="textAreaTop" r="textAreaRight" b="textAreaBottom"/>
            <a:pathLst>
              <a:path w="21600" h="24292">
                <a:moveTo>
                  <a:pt x="0" y="0"/>
                </a:moveTo>
                <a:lnTo>
                  <a:pt x="21600" y="0"/>
                </a:lnTo>
                <a:lnTo>
                  <a:pt x="21600" y="24292"/>
                </a:lnTo>
                <a:lnTo>
                  <a:pt x="0" y="24292"/>
                </a:lnTo>
                <a:close/>
              </a:path>
              <a:path fill="lightenLess" w="21600" h="242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2">
                <a:moveTo>
                  <a:pt x="21600" y="0"/>
                </a:moveTo>
                <a:lnTo>
                  <a:pt x="21600" y="24292"/>
                </a:lnTo>
                <a:lnTo>
                  <a:pt x="20200" y="22892"/>
                </a:lnTo>
                <a:lnTo>
                  <a:pt x="20200" y="1400"/>
                </a:lnTo>
                <a:close/>
              </a:path>
              <a:path fill="darkenLess" w="21600" h="24292">
                <a:moveTo>
                  <a:pt x="21600" y="24292"/>
                </a:moveTo>
                <a:lnTo>
                  <a:pt x="0" y="24292"/>
                </a:lnTo>
                <a:lnTo>
                  <a:pt x="1400" y="22892"/>
                </a:lnTo>
                <a:lnTo>
                  <a:pt x="20200" y="22892"/>
                </a:lnTo>
                <a:close/>
              </a:path>
              <a:path fill="lighten" w="21600" h="24292">
                <a:moveTo>
                  <a:pt x="0" y="242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2"/>
                </a:lnTo>
                <a:close/>
              </a:path>
              <a:path fill="darken" w="21600" h="24292">
                <a:moveTo>
                  <a:pt x="3794" y="8838"/>
                </a:moveTo>
                <a:lnTo>
                  <a:pt x="7301" y="8838"/>
                </a:lnTo>
                <a:lnTo>
                  <a:pt x="7301" y="14174"/>
                </a:lnTo>
                <a:cubicBezTo>
                  <a:pt x="7301" y="15096"/>
                  <a:pt x="8102" y="15827"/>
                  <a:pt x="9138" y="15827"/>
                </a:cubicBezTo>
                <a:lnTo>
                  <a:pt x="10800" y="15827"/>
                </a:lnTo>
                <a:cubicBezTo>
                  <a:pt x="11836" y="15827"/>
                  <a:pt x="12636" y="15096"/>
                  <a:pt x="12636" y="14174"/>
                </a:cubicBezTo>
                <a:lnTo>
                  <a:pt x="12636" y="8838"/>
                </a:lnTo>
                <a:lnTo>
                  <a:pt x="10800" y="8838"/>
                </a:lnTo>
                <a:lnTo>
                  <a:pt x="14308" y="5331"/>
                </a:lnTo>
                <a:lnTo>
                  <a:pt x="17981" y="8838"/>
                </a:lnTo>
                <a:lnTo>
                  <a:pt x="16144" y="8838"/>
                </a:lnTo>
                <a:lnTo>
                  <a:pt x="16144" y="14174"/>
                </a:lnTo>
                <a:cubicBezTo>
                  <a:pt x="16144" y="16941"/>
                  <a:pt x="13568" y="19500"/>
                  <a:pt x="10800" y="19500"/>
                </a:cubicBezTo>
                <a:lnTo>
                  <a:pt x="9138" y="19500"/>
                </a:lnTo>
                <a:cubicBezTo>
                  <a:pt x="6370" y="19500"/>
                  <a:pt x="3794" y="16941"/>
                  <a:pt x="3794" y="14174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4.gif"/>
          <p:cNvPicPr/>
          <p:nvPr/>
        </p:nvPicPr>
        <p:blipFill>
          <a:blip r:embed="rId2"/>
          <a:stretch/>
        </p:blipFill>
        <p:spPr>
          <a:xfrm>
            <a:off x="1785960" y="1214280"/>
            <a:ext cx="5786280" cy="4357800"/>
          </a:xfrm>
          <a:prstGeom prst="rect">
            <a:avLst/>
          </a:prstGeom>
          <a:ln w="0">
            <a:noFill/>
          </a:ln>
        </p:spPr>
      </p:pic>
      <p:sp>
        <p:nvSpPr>
          <p:cNvPr id="434" name="Управляющая кнопка: домой 2">
            <a:hlinkClick r:id="rId3" action="ppaction://hlinksldjump"/>
          </p:cNvPr>
          <p:cNvSpPr/>
          <p:nvPr/>
        </p:nvSpPr>
        <p:spPr>
          <a:xfrm>
            <a:off x="8001000" y="600084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10800" y="5631"/>
                </a:moveTo>
                <a:lnTo>
                  <a:pt x="13376" y="8242"/>
                </a:ln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lnTo>
                  <a:pt x="17763" y="12594"/>
                </a:lnTo>
                <a:lnTo>
                  <a:pt x="16109" y="12594"/>
                </a:lnTo>
                <a:lnTo>
                  <a:pt x="16109" y="19783"/>
                </a:lnTo>
                <a:lnTo>
                  <a:pt x="5491" y="19783"/>
                </a:lnTo>
                <a:lnTo>
                  <a:pt x="5491" y="12594"/>
                </a:lnTo>
                <a:lnTo>
                  <a:pt x="3837" y="12594"/>
                </a:lnTo>
                <a:close/>
              </a:path>
              <a:path fill="darkenLess" w="21600" h="25188">
                <a:moveTo>
                  <a:pt x="13376" y="8242"/>
                </a:move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close/>
              </a:path>
              <a:path fill="darkenLess" w="21600" h="25188">
                <a:moveTo>
                  <a:pt x="9877" y="16093"/>
                </a:moveTo>
                <a:lnTo>
                  <a:pt x="11723" y="16093"/>
                </a:lnTo>
                <a:lnTo>
                  <a:pt x="11723" y="19783"/>
                </a:lnTo>
                <a:lnTo>
                  <a:pt x="16109" y="19783"/>
                </a:lnTo>
                <a:lnTo>
                  <a:pt x="16109" y="12594"/>
                </a:lnTo>
                <a:lnTo>
                  <a:pt x="5491" y="12594"/>
                </a:lnTo>
                <a:lnTo>
                  <a:pt x="5491" y="19783"/>
                </a:lnTo>
                <a:lnTo>
                  <a:pt x="9877" y="19783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2" descr="9.gif"/>
          <p:cNvPicPr/>
          <p:nvPr/>
        </p:nvPicPr>
        <p:blipFill>
          <a:blip r:embed="rId2"/>
          <a:stretch/>
        </p:blipFill>
        <p:spPr>
          <a:xfrm>
            <a:off x="1571760" y="1000080"/>
            <a:ext cx="5302080" cy="4857840"/>
          </a:xfrm>
          <a:prstGeom prst="rect">
            <a:avLst/>
          </a:prstGeom>
          <a:ln w="0">
            <a:noFill/>
          </a:ln>
        </p:spPr>
      </p:pic>
      <p:sp>
        <p:nvSpPr>
          <p:cNvPr id="437" name="Управляющая кнопка: домой 3">
            <a:hlinkClick r:id="rId3" action="ppaction://hlinksldjump"/>
          </p:cNvPr>
          <p:cNvSpPr/>
          <p:nvPr/>
        </p:nvSpPr>
        <p:spPr>
          <a:xfrm>
            <a:off x="8143920" y="600084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extBox 2" descr=""/>
          <p:cNvPicPr/>
          <p:nvPr/>
        </p:nvPicPr>
        <p:blipFill>
          <a:blip r:embed="rId1"/>
          <a:stretch/>
        </p:blipFill>
        <p:spPr>
          <a:xfrm>
            <a:off x="-176040" y="646200"/>
            <a:ext cx="9350280" cy="510228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Улыбка - рожица.wmf"/>
          <p:cNvPicPr/>
          <p:nvPr/>
        </p:nvPicPr>
        <p:blipFill>
          <a:blip r:embed="rId1"/>
          <a:stretch/>
        </p:blipFill>
        <p:spPr>
          <a:xfrm>
            <a:off x="2357280" y="1571760"/>
            <a:ext cx="4316400" cy="371628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ebf1"/>
            </a:gs>
            <a:gs pos="100000">
              <a:srgbClr val="006699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Прямоугольник 2" descr=""/>
          <p:cNvPicPr/>
          <p:nvPr/>
        </p:nvPicPr>
        <p:blipFill>
          <a:blip r:embed="rId1"/>
          <a:stretch/>
        </p:blipFill>
        <p:spPr>
          <a:xfrm>
            <a:off x="706320" y="2792520"/>
            <a:ext cx="7364520" cy="15350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e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6"/>
          <p:cNvSpPr/>
          <p:nvPr/>
        </p:nvSpPr>
        <p:spPr>
          <a:xfrm>
            <a:off x="2857680" y="71424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TextBox 7"/>
          <p:cNvGrpSpPr/>
          <p:nvPr/>
        </p:nvGrpSpPr>
        <p:grpSpPr>
          <a:xfrm>
            <a:off x="1000080" y="1536840"/>
            <a:ext cx="7278840" cy="4383000"/>
            <a:chOff x="1000080" y="1536840"/>
            <a:chExt cx="7278840" cy="4383000"/>
          </a:xfrm>
        </p:grpSpPr>
        <p:pic>
          <p:nvPicPr>
            <p:cNvPr id="371" name="TextBox 7" descr=""/>
            <p:cNvPicPr/>
            <p:nvPr/>
          </p:nvPicPr>
          <p:blipFill>
            <a:blip r:embed="rId1"/>
            <a:stretch/>
          </p:blipFill>
          <p:spPr>
            <a:xfrm>
              <a:off x="1000080" y="1536840"/>
              <a:ext cx="7278840" cy="43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14280" y="1643040"/>
              <a:ext cx="700092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труктура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акторы эволюции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став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 структура биосф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Биосфера как экосистем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ровни организации живых организм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руговорот вещест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оверь себ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4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хема 2" descr=""/>
          <p:cNvPicPr/>
          <p:nvPr/>
        </p:nvPicPr>
        <p:blipFill>
          <a:blip r:embed="rId1"/>
          <a:stretch/>
        </p:blipFill>
        <p:spPr>
          <a:xfrm>
            <a:off x="1292400" y="1633680"/>
            <a:ext cx="6510240" cy="41446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"/>
          <p:cNvSpPr/>
          <p:nvPr/>
        </p:nvSpPr>
        <p:spPr>
          <a:xfrm>
            <a:off x="264312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би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extBox 1" descr=""/>
          <p:cNvPicPr/>
          <p:nvPr/>
        </p:nvPicPr>
        <p:blipFill>
          <a:blip r:embed="rId1"/>
          <a:stretch/>
        </p:blipFill>
        <p:spPr>
          <a:xfrm>
            <a:off x="1847880" y="208080"/>
            <a:ext cx="6510240" cy="8586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с двумя вырезанными противолежащими углами 17"/>
          <p:cNvSpPr/>
          <p:nvPr/>
        </p:nvSpPr>
        <p:spPr>
          <a:xfrm>
            <a:off x="6429240" y="1643040"/>
            <a:ext cx="2071800" cy="1285920"/>
          </a:xfrm>
          <a:custGeom>
            <a:avLst/>
            <a:gdLst/>
            <a:ahLst/>
            <a:rect l="l" t="t" r="r" b="b"/>
            <a:pathLst>
              <a:path w="2071688" h="1285875">
                <a:moveTo>
                  <a:pt x="0" y="0"/>
                </a:moveTo>
                <a:lnTo>
                  <a:pt x="1857371" y="0"/>
                </a:lnTo>
                <a:lnTo>
                  <a:pt x="2071688" y="214317"/>
                </a:lnTo>
                <a:lnTo>
                  <a:pt x="2071688" y="1285875"/>
                </a:lnTo>
                <a:lnTo>
                  <a:pt x="2071688" y="1285875"/>
                </a:lnTo>
                <a:lnTo>
                  <a:pt x="214317" y="1285875"/>
                </a:lnTo>
                <a:lnTo>
                  <a:pt x="0" y="107155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с двумя вырезанными противолежащими углами 18"/>
          <p:cNvSpPr/>
          <p:nvPr/>
        </p:nvSpPr>
        <p:spPr>
          <a:xfrm>
            <a:off x="1143000" y="1571760"/>
            <a:ext cx="2143080" cy="1357200"/>
          </a:xfrm>
          <a:custGeom>
            <a:avLst/>
            <a:gdLst/>
            <a:ahLst/>
            <a:rect l="l" t="t" r="r" b="b"/>
            <a:pathLst>
              <a:path w="2143125" h="1357313">
                <a:moveTo>
                  <a:pt x="0" y="0"/>
                </a:moveTo>
                <a:lnTo>
                  <a:pt x="1916902" y="0"/>
                </a:lnTo>
                <a:lnTo>
                  <a:pt x="2143125" y="226223"/>
                </a:lnTo>
                <a:lnTo>
                  <a:pt x="2143125" y="1357313"/>
                </a:lnTo>
                <a:lnTo>
                  <a:pt x="2143125" y="1357313"/>
                </a:lnTo>
                <a:lnTo>
                  <a:pt x="226223" y="1357313"/>
                </a:lnTo>
                <a:lnTo>
                  <a:pt x="0" y="11310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с двумя вырезанными противолежащими углами 19"/>
          <p:cNvSpPr/>
          <p:nvPr/>
        </p:nvSpPr>
        <p:spPr>
          <a:xfrm>
            <a:off x="3500280" y="5143680"/>
            <a:ext cx="2571840" cy="1143000"/>
          </a:xfrm>
          <a:custGeom>
            <a:avLst/>
            <a:gdLst/>
            <a:ahLst/>
            <a:rect l="l" t="t" r="r" b="b"/>
            <a:pathLst>
              <a:path w="2571750" h="1143000">
                <a:moveTo>
                  <a:pt x="0" y="0"/>
                </a:moveTo>
                <a:lnTo>
                  <a:pt x="2381246" y="0"/>
                </a:lnTo>
                <a:lnTo>
                  <a:pt x="2571750" y="190504"/>
                </a:lnTo>
                <a:lnTo>
                  <a:pt x="2571750" y="1143000"/>
                </a:lnTo>
                <a:lnTo>
                  <a:pt x="2571750" y="1143000"/>
                </a:lnTo>
                <a:lnTo>
                  <a:pt x="190504" y="1143000"/>
                </a:lnTo>
                <a:lnTo>
                  <a:pt x="0" y="95249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898"/>
              </a:gs>
              <a:gs pos="100000">
                <a:srgbClr val="ffe2e2"/>
              </a:gs>
            </a:gsLst>
            <a:lin ang="16200000"/>
          </a:gradFill>
          <a:ln w="9360">
            <a:solidFill>
              <a:srgbClr val="c2282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Шестиугольник 20"/>
          <p:cNvSpPr/>
          <p:nvPr/>
        </p:nvSpPr>
        <p:spPr>
          <a:xfrm>
            <a:off x="3286080" y="2857680"/>
            <a:ext cx="2786040" cy="1071360"/>
          </a:xfrm>
          <a:prstGeom prst="hexagon">
            <a:avLst>
              <a:gd name="adj" fmla="val 25005"/>
              <a:gd name="vf" fmla="val 115470"/>
            </a:avLst>
          </a:prstGeom>
          <a:gradFill rotWithShape="0">
            <a:gsLst>
              <a:gs pos="0">
                <a:srgbClr val="ebb2a4"/>
              </a:gs>
              <a:gs pos="100000">
                <a:srgbClr val="faeae7"/>
              </a:gs>
            </a:gsLst>
            <a:lin ang="16200000"/>
          </a:gradFill>
          <a:ln w="9360">
            <a:solidFill>
              <a:srgbClr val="96410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трелка вправо с вырезом 27"/>
          <p:cNvSpPr/>
          <p:nvPr/>
        </p:nvSpPr>
        <p:spPr>
          <a:xfrm rot="2170200">
            <a:off x="3274920" y="1881000"/>
            <a:ext cx="1533600" cy="744480"/>
          </a:xfrm>
          <a:custGeom>
            <a:avLst/>
            <a:gdLst>
              <a:gd name="textAreaLeft" fmla="*/ 176040 w 1533600"/>
              <a:gd name="textAreaRight" fmla="*/ 1357560 w 1533600"/>
              <a:gd name="textAreaTop" fmla="*/ 196200 h 744480"/>
              <a:gd name="textAreaBottom" fmla="*/ 548280 h 744480"/>
            </a:gdLst>
            <a:ahLst/>
            <a:rect l="textAreaLeft" t="textAreaTop" r="textAreaRight" b="textAreaBottom"/>
            <a:pathLst>
              <a:path w="21600" h="21600">
                <a:moveTo>
                  <a:pt x="0" y="5692"/>
                </a:moveTo>
                <a:lnTo>
                  <a:pt x="16357" y="5692"/>
                </a:lnTo>
                <a:lnTo>
                  <a:pt x="16357" y="0"/>
                </a:lnTo>
                <a:lnTo>
                  <a:pt x="21600" y="10800"/>
                </a:lnTo>
                <a:lnTo>
                  <a:pt x="16357" y="21600"/>
                </a:lnTo>
                <a:lnTo>
                  <a:pt x="16357" y="15908"/>
                </a:lnTo>
                <a:lnTo>
                  <a:pt x="0" y="15908"/>
                </a:lnTo>
                <a:lnTo>
                  <a:pt x="2480" y="10800"/>
                </a:lnTo>
                <a:lnTo>
                  <a:pt x="0" y="5692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трелка вправо с вырезом 28"/>
          <p:cNvSpPr/>
          <p:nvPr/>
        </p:nvSpPr>
        <p:spPr>
          <a:xfrm rot="8304600">
            <a:off x="4903560" y="1881360"/>
            <a:ext cx="1563480" cy="691920"/>
          </a:xfrm>
          <a:custGeom>
            <a:avLst/>
            <a:gdLst>
              <a:gd name="textAreaLeft" fmla="*/ 172800 w 1563480"/>
              <a:gd name="textAreaRight" fmla="*/ 1390680 w 1563480"/>
              <a:gd name="textAreaTop" fmla="*/ 172800 h 691920"/>
              <a:gd name="textAreaBottom" fmla="*/ 519120 h 691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19" y="5400"/>
                </a:lnTo>
                <a:lnTo>
                  <a:pt x="16819" y="0"/>
                </a:lnTo>
                <a:lnTo>
                  <a:pt x="21600" y="10800"/>
                </a:lnTo>
                <a:lnTo>
                  <a:pt x="16819" y="21600"/>
                </a:lnTo>
                <a:lnTo>
                  <a:pt x="16819" y="16200"/>
                </a:lnTo>
                <a:lnTo>
                  <a:pt x="0" y="16200"/>
                </a:lnTo>
                <a:lnTo>
                  <a:pt x="239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0"/>
          <p:cNvSpPr/>
          <p:nvPr/>
        </p:nvSpPr>
        <p:spPr>
          <a:xfrm>
            <a:off x="1428840" y="19288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1"/>
          <p:cNvSpPr/>
          <p:nvPr/>
        </p:nvSpPr>
        <p:spPr>
          <a:xfrm>
            <a:off x="6643800" y="2000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3"/>
          <p:cNvSpPr/>
          <p:nvPr/>
        </p:nvSpPr>
        <p:spPr>
          <a:xfrm>
            <a:off x="3571920" y="53578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волю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4"/>
          <p:cNvSpPr/>
          <p:nvPr/>
        </p:nvSpPr>
        <p:spPr>
          <a:xfrm>
            <a:off x="3786120" y="31431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право с вырезом 36"/>
          <p:cNvSpPr/>
          <p:nvPr/>
        </p:nvSpPr>
        <p:spPr>
          <a:xfrm rot="16200000">
            <a:off x="4357800" y="4143600"/>
            <a:ext cx="1071360" cy="785520"/>
          </a:xfrm>
          <a:custGeom>
            <a:avLst/>
            <a:gdLst>
              <a:gd name="textAreaLeft" fmla="*/ 196200 w 1071360"/>
              <a:gd name="textAreaRight" fmla="*/ 875160 w 1071360"/>
              <a:gd name="textAreaTop" fmla="*/ 196200 h 785520"/>
              <a:gd name="textAreaBottom" fmla="*/ 589320 h 785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680" y="5400"/>
                </a:lnTo>
                <a:lnTo>
                  <a:pt x="13680" y="0"/>
                </a:lnTo>
                <a:lnTo>
                  <a:pt x="21600" y="10800"/>
                </a:lnTo>
                <a:lnTo>
                  <a:pt x="13680" y="21600"/>
                </a:lnTo>
                <a:lnTo>
                  <a:pt x="13680" y="16200"/>
                </a:lnTo>
                <a:lnTo>
                  <a:pt x="0" y="16200"/>
                </a:lnTo>
                <a:lnTo>
                  <a:pt x="39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4287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extBox 1" descr=""/>
          <p:cNvPicPr/>
          <p:nvPr/>
        </p:nvPicPr>
        <p:blipFill>
          <a:blip r:embed="rId1"/>
          <a:stretch/>
        </p:blipFill>
        <p:spPr>
          <a:xfrm>
            <a:off x="2060640" y="500040"/>
            <a:ext cx="5960880" cy="1219320"/>
          </a:xfrm>
          <a:prstGeom prst="rect">
            <a:avLst/>
          </a:prstGeom>
          <a:ln w="0">
            <a:noFill/>
          </a:ln>
        </p:spPr>
      </p:pic>
      <p:pic>
        <p:nvPicPr>
          <p:cNvPr id="392" name="Схема 18" descr=""/>
          <p:cNvPicPr/>
          <p:nvPr/>
        </p:nvPicPr>
        <p:blipFill>
          <a:blip r:embed="rId2"/>
          <a:stretch/>
        </p:blipFill>
        <p:spPr>
          <a:xfrm>
            <a:off x="858960" y="1573200"/>
            <a:ext cx="7924680" cy="43578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d01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TextBox 1"/>
          <p:cNvGrpSpPr/>
          <p:nvPr/>
        </p:nvGrpSpPr>
        <p:grpSpPr>
          <a:xfrm>
            <a:off x="768240" y="987480"/>
            <a:ext cx="7747200" cy="5443560"/>
            <a:chOff x="768240" y="987480"/>
            <a:chExt cx="7747200" cy="5443560"/>
          </a:xfrm>
        </p:grpSpPr>
        <p:pic>
          <p:nvPicPr>
            <p:cNvPr id="395" name="TextBox 1" descr=""/>
            <p:cNvPicPr/>
            <p:nvPr/>
          </p:nvPicPr>
          <p:blipFill>
            <a:blip r:embed="rId1"/>
            <a:stretch/>
          </p:blipFill>
          <p:spPr>
            <a:xfrm>
              <a:off x="768240" y="987480"/>
              <a:ext cx="7747200" cy="54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85880" y="1000080"/>
              <a:ext cx="771516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иогенное вещество, создается в процессе жизнедеятельности организма (газы, каменный уголь, нефть и т.д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Косное вещество, образующееся без участия организма (основные породы, лава вулканов, метеориты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иокосное, представляет собой общий результат жизнедеятельности организма и абиогенных процессов  (почв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80a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Схема 5" descr=""/>
          <p:cNvPicPr/>
          <p:nvPr/>
        </p:nvPicPr>
        <p:blipFill>
          <a:blip r:embed="rId1"/>
          <a:stretch/>
        </p:blipFill>
        <p:spPr>
          <a:xfrm>
            <a:off x="212760" y="1852560"/>
            <a:ext cx="8931240" cy="4657680"/>
          </a:xfrm>
          <a:prstGeom prst="rect">
            <a:avLst/>
          </a:prstGeom>
          <a:ln w="0">
            <a:noFill/>
          </a:ln>
        </p:spPr>
      </p:pic>
      <p:pic>
        <p:nvPicPr>
          <p:cNvPr id="399" name="TextBox 3" descr=""/>
          <p:cNvPicPr/>
          <p:nvPr/>
        </p:nvPicPr>
        <p:blipFill>
          <a:blip r:embed="rId2"/>
          <a:stretch/>
        </p:blipFill>
        <p:spPr>
          <a:xfrm>
            <a:off x="158760" y="115920"/>
            <a:ext cx="8624880" cy="191448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928800" y="6429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текст учебника, заполните таблиц (стр. 2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214280" y="1428840"/>
          <a:ext cx="6572520" cy="4429080"/>
        </p:xfrm>
        <a:graphic>
          <a:graphicData uri="http://schemas.openxmlformats.org/drawingml/2006/table">
            <a:tbl>
              <a:tblPr/>
              <a:tblGrid>
                <a:gridCol w="857520"/>
                <a:gridCol w="1714320"/>
                <a:gridCol w="1285920"/>
                <a:gridCol w="1400040"/>
                <a:gridCol w="1314720"/>
              </a:tblGrid>
              <a:tr h="1265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оболочек Зем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тм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идр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т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2d2e"/>
                    </a:solidFill>
                  </a:tcPr>
                </a:tc>
              </a:tr>
              <a:tr h="1582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e8"/>
                    </a:solidFill>
                  </a:tcPr>
                </a:tc>
              </a:tr>
              <a:tr h="1581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чение для биологических проце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80a"/>
            </a:gs>
            <a:gs pos="100000">
              <a:srgbClr val="d1b8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786040" y="57168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интер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71720" y="1285920"/>
            <a:ext cx="72864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я масса живых организмов оценивают в 2,43 * 10</a:t>
            </a:r>
            <a:r>
              <a:rPr b="0" lang="ru-RU" sz="2800" spc="-1" strike="noStrike" baseline="50000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уше: 99,2% растения и 0,8% - животные и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кеане: 6,3% - растения и 93,7 % –животные и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1% - видовое разнообразие растений, но их биомасса составляет –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6 видов – беспозвоночные и только 4% - позвоночные, но их вклад в биомассу всего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олнце 4"/>
          <p:cNvSpPr/>
          <p:nvPr/>
        </p:nvSpPr>
        <p:spPr>
          <a:xfrm>
            <a:off x="7143840" y="214200"/>
            <a:ext cx="1143000" cy="1071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1:17:21Z</dcterms:created>
  <dc:creator>аа</dc:creator>
  <dc:description/>
  <dc:language>en-US</dc:language>
  <cp:lastModifiedBy>LEGION</cp:lastModifiedBy>
  <dcterms:modified xsi:type="dcterms:W3CDTF">2015-01-05T08:30:05Z</dcterms:modified>
  <cp:revision>181</cp:revision>
  <dc:subject/>
  <dc:title>Слайд 1</dc:title>
</cp:coreProperties>
</file>