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4.png" ContentType="image/png"/>
  <Override PartName="/ppt/media/image23.wmf" ContentType="image/x-wmf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5D7C-C054-4FDD-A823-C17EBF16BD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ИОСФЕ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РУКТУРА И ФУН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D91C-1EA6-4BC6-8D34-B54A9522E3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организации живой мате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E7CD-3154-4553-8C9B-03D00D3CE4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omic Sans MS"/>
              </a:rPr>
              <a:t>Деятельность живых организмов служит основой круговорота веществ в природ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ворот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ворот угле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ворот аз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ворот с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ворот фосф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EAA0-EF5F-47A9-85E5-03FAE838F0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Corbel"/>
              </a:rPr>
              <a:t>Молекула</a:t>
            </a: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 – любая живая система проявляется на уровне функционирования биополимеров (сложных органических соединений), построенных из большого количества единиц – мономеров (просто устроенные соединения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Corbel"/>
              </a:rPr>
              <a:t>Клетка</a:t>
            </a: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 – клетка является единицей развития живых организмов. Она представляет саморегулирующуюся, самовоспроизводящуюся живую систему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Corbel"/>
              </a:rPr>
              <a:t>Ткань </a:t>
            </a: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– совокупность сходных по строению клеток и межклеточного вещества, объединенных выполнением общей функци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Corbel"/>
              </a:rPr>
              <a:t>Орган</a:t>
            </a: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 – структурно-функциональное объединение нескольких типов ткане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Corbel"/>
              </a:rPr>
              <a:t>Организм</a:t>
            </a: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 – представляет собой целостную систему органов, специализированных для выполнения различных функц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Corbel"/>
              </a:rPr>
              <a:t>Популяция</a:t>
            </a: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 – совокупность организмов одного и того же вида, объединенных общим местом обитан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Corbel"/>
              </a:rPr>
              <a:t>Биогеоценоз</a:t>
            </a: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 – совокупность организмов разных видов и факторов среды их обитания, объединенных обменом вещест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DE52-B09F-4371-AA63-9EEBC91B08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верь себ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организмы поглощают диоксид углерода из атмосфер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Живот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м путем связанный углерод возвращается в атмосфер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ышат организм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зрушаются полезны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опаем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делают микроорганиз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ксируют азо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существляют реакцию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исления и восстано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DDC4-5CE3-41DA-9FA7-6C8FCBABB8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би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эволюции би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труктура би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сфера как эко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организации живых 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ворот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ь себ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A533-DE7C-4291-9756-F4D7AB9E8E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генное вещество, создается в процессе жизнедеятельности организма (газы, каменный уголь, нефть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ное вещество, образующееся без участия организма (основные породы, лава вулканов, метеорит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косное, представляет собой общий результат жизнедеятельности организма и абиогенных процессов  (поч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19BF-3C69-4A88-8D38-6A74DA8B31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иосфера представляет собой совокупность больших и малых экосистем или всех биоценозов Земли и характеризу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CC86-D6E5-471E-8200-B14DA12822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я текст учебника, заполните таблиц (стр. 21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97B0-E1CE-4C4F-983E-356799D239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интерес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масса живых организмов оценивают в 2,43 * 10</a:t>
            </a:r>
            <a:r>
              <a:rPr b="0" lang="ru-RU" sz="1400" spc="-1" strike="noStrike" baseline="50000">
                <a:solidFill>
                  <a:srgbClr val="000000"/>
                </a:solidFill>
                <a:latin typeface="Calibri"/>
              </a:rPr>
              <a:t>1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уше: 99,2% растения и 0,8% - животные и микроорганиз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кеане: 6,3% - растения и 93,7 % –животные и микроорганиз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1% - видовое разнообразие растений, но их биомасса составляет – 99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6 видов – беспозвоночные и только 4% - позвоночные, но их вклад в биомассу всего 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F181-F7A3-418E-A89D-6953EBB569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44E0-08BB-4BB2-8C79-93C5EF539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47CC-B74C-4CC6-B395-BD5CCF21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1406-3C57-4C47-AE45-7AF6322DA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44B0-E969-4056-89AB-9D4D9F401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E6A2-2713-4C41-8865-994BEF2CE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DA45-F7E9-4099-ABA3-DFB8B1FC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A269-D6E8-4740-9042-C0107B0E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0B4D-F01A-47D7-A71E-F5A345D8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C2CB-340C-4E79-AEB8-09EC0B14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2B1A-5ACC-470B-88B1-1A8B2CE5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DD37-6315-4C8F-B3B1-D5E73B2B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1686-7805-41A3-BEE3-59A0C135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204D-F9F7-4BF2-A5E6-5B683E67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36B3-F1D0-40C2-87CC-C73D6635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88E74-B3B1-4691-9956-022400DE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948A7-85DD-4E40-9F7F-6383AEBC8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0A37-CF42-4BC2-B2BB-BB6D5425E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B09BB-EB1E-441F-8CA0-C1340AC8F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BD7E3-81B7-4C22-9C82-74F53CBF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B43CE-E7F0-4972-8061-07B83497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B848C-CFF0-48C0-BC59-CF430A29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F77F4-5FD2-4C5E-83FF-06FD823FF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A9DD-A40C-4204-BE77-760FB4C8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B73FE-3565-4405-AE9C-A520B0C8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406F4-39FA-4F9C-B195-B4BB55E8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FE1FC-5D4F-4752-8280-5CD84BB9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3873D-8F1C-4288-BBBC-C3F3063D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8EB47-E4C2-4E1D-9377-32A6E9E5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9A5C9-2C66-4A53-93C8-F81CC688B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97B8B-2C53-4ADA-AF87-DAAB2EB63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B6710-05C5-4820-A162-888348CA2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3D01F-AE78-44DE-B37E-D1070020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0BC12-916A-4C6C-94A5-7BDEA63E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F463-30BB-40B8-97B2-03F7E532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85A01-062D-4382-99D8-432386BB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921B8-2CDB-41EC-A1BB-C1C0886F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49DA2-023D-48F7-BBA9-A325B3BB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42AE4-4D23-42DF-868C-86A66D86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09811-234A-4FE9-8D73-802F4DE1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52AF7-FB7A-4370-B836-24AA6B11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9A629-BE2A-4DEE-8DF0-42F8EBC4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81171-28FC-4F4E-95A7-DBE100D40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55FBD-0E94-4D32-B360-40D64F18F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C6520-EE0F-447B-A7E0-1FBFA1888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023A-FA4B-4143-ADBC-1EBC4F1E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657EA-0C0A-4C98-83B5-5EBEACEF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F64EB-14B4-4E59-B6D6-258DB0D4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89C57-0542-4778-9E82-4C1423A0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EFFA0-C0FE-4C3D-AF3C-EA5AE1ED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E75BF-D553-41AF-AB3C-A5AC6E49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1C378-40E3-43F6-9E43-52EF9E65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8CDEF-E7B0-47A1-96A0-CE12CBE9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C7A51-4726-436E-99C4-EC62B215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6D4C7-1D9C-4AEE-99C1-3A4CC084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F6A6A-60CE-4D2C-AB4A-72247872F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3D9F-8692-473E-9190-A4D2FD23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261BB-9EA5-4D9F-A041-AEAFAA2F7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1E776-C063-4527-8BC2-51ABA0C53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91938-E527-488A-A1E6-6F08F024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6C22A-4E17-4920-BA6C-319DC705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0E269-A24A-47F4-8FEA-13F59000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1867D-2EBF-4FD9-A531-74DCB523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C1332-4169-455B-8040-D7CFE30A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5C882-0ADB-435C-B62C-A6C3B727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4EC70-1359-4E9D-B942-4B54983E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58CF1-C228-459C-9108-3FDC11EC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C1AE-73B2-42BB-AF4B-E6A89980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32127-CFF9-49E9-BAFD-E9C099A0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AEC0A-E8DC-49DB-8847-E40384F22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8B14D-8970-4EFD-AADC-3B3ED6976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060F3-D528-4167-B091-27D68AA82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88205-D6FA-4798-9D5A-BC69C8CD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B20D3-2D32-4A03-85B0-9523682C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99798-D17B-481E-BD35-36C54378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79D0A-87A8-4ED0-AB0F-F7199AD5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BA5B4-158C-41F2-AC42-06298307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C9502-B8F5-410D-810C-CB2BB881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EE42-960A-4697-A283-E6406A55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D95A7-011A-4DB1-BC72-7436782E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8AABD-6113-49F9-9B2D-4F80781B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7B22D-60E2-4C31-967F-64937CA9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5C181-F771-449F-B4AB-35398F93F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8D002-814A-41B4-9476-7B07038DE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A9350-7051-4059-8F54-0D9C04C61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9BFD7-B5ED-4618-91B7-3EB95533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2DDA9-4B69-41D3-83DE-38040A18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B36C1-0BD4-4FB6-8339-05B0E274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4489E-DC69-42C3-A07B-6BD86764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1F90-CC92-4AA9-A1EB-06319D91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CF5B6-57DA-4F72-8299-B5068732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B4C88-52A8-4DC3-A9C6-A3339979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B5A31-7AAD-4E34-AF2C-5E760844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A7F92-B40E-44F6-9238-C40A14D0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05C3C-7685-4D9B-BAA1-D068B201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FC369-8339-47A7-BF17-D103A47B2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D944A-089F-4667-9024-3BD894ADB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ADB2-C468-42F8-8CB0-6E954034E32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6DD7-3D3A-4558-8331-71A14A849B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4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B757-B3D5-4F21-8F05-6BC3A814B388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A1FD-5CAE-4BC9-8D89-CB0966C5414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92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97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E1D1-5A3C-4575-B625-1115D975C7DB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FF67-6FC2-46C1-91F9-1BC3529AD95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44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EF99-97F1-45F2-9121-E3491B4ABFBB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2E11-314E-4242-8327-47B37E22989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F256-E6E4-47B0-87B3-FB6A5ADD4DCE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2E90-AC8D-4C5C-A19A-0DA5B2D13D3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EE85-7C7F-41D1-A224-BA0B8C7C08F0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AC75-89B4-4459-AD91-0F7BB6097B3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B2E3-FA60-49E8-8EBA-A66D7B575AA9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2D1E-067A-4F84-80CC-2D1976CD8D1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314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5963-53DB-4314-A9AB-2AD3CF22FF31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85B0-824E-439B-8A47-ABCAEDD3499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13.xml"/><Relationship Id="rId3" Type="http://schemas.openxmlformats.org/officeDocument/2006/relationships/slide" Target="slide16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8631"/>
            </a:gs>
            <a:gs pos="100000">
              <a:srgbClr val="d1b8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3143160" y="5378400"/>
            <a:ext cx="5500800" cy="10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юбимова М.Ф.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итель биологии, ГОУ 48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008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Прямоугольник 14" descr=""/>
          <p:cNvPicPr/>
          <p:nvPr/>
        </p:nvPicPr>
        <p:blipFill>
          <a:blip r:embed="rId1"/>
          <a:stretch/>
        </p:blipFill>
        <p:spPr>
          <a:xfrm>
            <a:off x="523800" y="1536840"/>
            <a:ext cx="8334360" cy="3011400"/>
          </a:xfrm>
          <a:prstGeom prst="rect">
            <a:avLst/>
          </a:prstGeom>
          <a:ln w="0">
            <a:noFill/>
          </a:ln>
        </p:spPr>
      </p:pic>
      <p:sp>
        <p:nvSpPr>
          <p:cNvPr id="3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2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1"/>
          <p:cNvSpPr/>
          <p:nvPr/>
        </p:nvSpPr>
        <p:spPr>
          <a:xfrm>
            <a:off x="1571760" y="214200"/>
            <a:ext cx="65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ровни организации живой мат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Схема 3" descr=""/>
          <p:cNvPicPr/>
          <p:nvPr/>
        </p:nvPicPr>
        <p:blipFill>
          <a:blip r:embed="rId1"/>
          <a:stretch/>
        </p:blipFill>
        <p:spPr>
          <a:xfrm>
            <a:off x="444600" y="853920"/>
            <a:ext cx="8040600" cy="5980320"/>
          </a:xfrm>
          <a:prstGeom prst="rect">
            <a:avLst/>
          </a:prstGeom>
          <a:ln w="0">
            <a:noFill/>
          </a:ln>
        </p:spPr>
      </p:pic>
      <p:sp>
        <p:nvSpPr>
          <p:cNvPr id="410" name="Управляющая кнопка: далее 26">
            <a:hlinkClick r:id="rId2" action="ppaction://hlinksldjump"/>
          </p:cNvPr>
          <p:cNvSpPr/>
          <p:nvPr/>
        </p:nvSpPr>
        <p:spPr>
          <a:xfrm>
            <a:off x="8501040" y="6143760"/>
            <a:ext cx="428760" cy="50004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188">
                <a:moveTo>
                  <a:pt x="0" y="0"/>
                </a:moveTo>
                <a:lnTo>
                  <a:pt x="21600" y="0"/>
                </a:lnTo>
                <a:lnTo>
                  <a:pt x="21600" y="25188"/>
                </a:lnTo>
                <a:lnTo>
                  <a:pt x="0" y="25188"/>
                </a:lnTo>
                <a:close/>
              </a:path>
              <a:path fill="lightenLess" w="21600" h="251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8">
                <a:moveTo>
                  <a:pt x="21600" y="0"/>
                </a:moveTo>
                <a:lnTo>
                  <a:pt x="21600" y="25188"/>
                </a:lnTo>
                <a:lnTo>
                  <a:pt x="20200" y="23788"/>
                </a:lnTo>
                <a:lnTo>
                  <a:pt x="20200" y="1400"/>
                </a:lnTo>
                <a:close/>
              </a:path>
              <a:path fill="darkenLess" w="21600" h="25188">
                <a:moveTo>
                  <a:pt x="21600" y="25188"/>
                </a:moveTo>
                <a:lnTo>
                  <a:pt x="0" y="25188"/>
                </a:lnTo>
                <a:lnTo>
                  <a:pt x="1400" y="23788"/>
                </a:lnTo>
                <a:lnTo>
                  <a:pt x="20200" y="23788"/>
                </a:lnTo>
                <a:close/>
              </a:path>
              <a:path fill="lighten" w="21600" h="25188">
                <a:moveTo>
                  <a:pt x="0" y="251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8"/>
                </a:lnTo>
                <a:close/>
              </a:path>
              <a:path fill="darken" w="21600" h="25188">
                <a:moveTo>
                  <a:pt x="3794" y="5587"/>
                </a:moveTo>
                <a:lnTo>
                  <a:pt x="17806" y="12594"/>
                </a:lnTo>
                <a:lnTo>
                  <a:pt x="3794" y="19600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ec3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TextBox 1"/>
          <p:cNvGrpSpPr/>
          <p:nvPr/>
        </p:nvGrpSpPr>
        <p:grpSpPr>
          <a:xfrm>
            <a:off x="311040" y="1530360"/>
            <a:ext cx="8534520" cy="5010120"/>
            <a:chOff x="311040" y="1530360"/>
            <a:chExt cx="8534520" cy="5010120"/>
          </a:xfrm>
        </p:grpSpPr>
        <p:pic>
          <p:nvPicPr>
            <p:cNvPr id="413" name="TextBox 1" descr=""/>
            <p:cNvPicPr/>
            <p:nvPr/>
          </p:nvPicPr>
          <p:blipFill>
            <a:blip r:embed="rId1"/>
            <a:stretch/>
          </p:blipFill>
          <p:spPr>
            <a:xfrm>
              <a:off x="311040" y="1530360"/>
              <a:ext cx="8534520" cy="501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500040" y="1571760"/>
              <a:ext cx="8286840" cy="469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Круговорот вод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Круговорот углерод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Круговорот азот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Круговорот сер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Круговорот фосфор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Управляющая кнопка: далее 4">
            <a:hlinkClick r:id="rId2" action="ppaction://hlinksldjump"/>
          </p:cNvPr>
          <p:cNvSpPr/>
          <p:nvPr/>
        </p:nvSpPr>
        <p:spPr>
          <a:xfrm>
            <a:off x="5000760" y="2786040"/>
            <a:ext cx="428400" cy="50004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" w="21600" h="25209">
                <a:moveTo>
                  <a:pt x="3794" y="5598"/>
                </a:moveTo>
                <a:lnTo>
                  <a:pt x="17806" y="12605"/>
                </a:lnTo>
                <a:lnTo>
                  <a:pt x="3794" y="19611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Управляющая кнопка: далее 5">
            <a:hlinkClick r:id="rId3" action="ppaction://hlinksldjump"/>
          </p:cNvPr>
          <p:cNvSpPr/>
          <p:nvPr/>
        </p:nvSpPr>
        <p:spPr>
          <a:xfrm>
            <a:off x="5143680" y="5643720"/>
            <a:ext cx="428400" cy="50004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" w="21600" h="25209">
                <a:moveTo>
                  <a:pt x="3794" y="5598"/>
                </a:moveTo>
                <a:lnTo>
                  <a:pt x="17806" y="12605"/>
                </a:lnTo>
                <a:lnTo>
                  <a:pt x="3794" y="19611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Управляющая кнопка: далее 6">
            <a:hlinkClick r:id="rId4" action="ppaction://hlinksldjump"/>
          </p:cNvPr>
          <p:cNvSpPr/>
          <p:nvPr/>
        </p:nvSpPr>
        <p:spPr>
          <a:xfrm>
            <a:off x="5000760" y="3786120"/>
            <a:ext cx="428400" cy="50004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" w="21600" h="25209">
                <a:moveTo>
                  <a:pt x="3794" y="5598"/>
                </a:moveTo>
                <a:lnTo>
                  <a:pt x="17806" y="12605"/>
                </a:lnTo>
                <a:lnTo>
                  <a:pt x="3794" y="19611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Управляющая кнопка: далее 7">
            <a:hlinkClick r:id="rId5" action="ppaction://hlinksldjump"/>
          </p:cNvPr>
          <p:cNvSpPr/>
          <p:nvPr/>
        </p:nvSpPr>
        <p:spPr>
          <a:xfrm>
            <a:off x="5000760" y="1857240"/>
            <a:ext cx="428400" cy="50004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" w="21600" h="25209">
                <a:moveTo>
                  <a:pt x="3794" y="5598"/>
                </a:moveTo>
                <a:lnTo>
                  <a:pt x="17806" y="12605"/>
                </a:lnTo>
                <a:lnTo>
                  <a:pt x="3794" y="19611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9"/>
          <p:cNvSpPr/>
          <p:nvPr/>
        </p:nvSpPr>
        <p:spPr>
          <a:xfrm>
            <a:off x="714240" y="285840"/>
            <a:ext cx="77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2d47"/>
                </a:solidFill>
                <a:latin typeface="Comic Sans MS"/>
              </a:rPr>
              <a:t>Деятельность живых организмов служит основой круговорота веществ в природ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Управляющая кнопка: в конец 10">
            <a:hlinkClick r:id="rId6" action="ppaction://hlinksldjump"/>
          </p:cNvPr>
          <p:cNvSpPr/>
          <p:nvPr/>
        </p:nvSpPr>
        <p:spPr>
          <a:xfrm>
            <a:off x="7429680" y="6357960"/>
            <a:ext cx="928440" cy="500040"/>
          </a:xfrm>
          <a:custGeom>
            <a:avLst/>
            <a:gdLst>
              <a:gd name="textAreaLeft" fmla="*/ 32400 w 928440"/>
              <a:gd name="textAreaRight" fmla="*/ 896040 w 9284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0092" h="21600">
                <a:moveTo>
                  <a:pt x="0" y="0"/>
                </a:moveTo>
                <a:lnTo>
                  <a:pt x="40092" y="0"/>
                </a:lnTo>
                <a:lnTo>
                  <a:pt x="40092" y="21600"/>
                </a:lnTo>
                <a:lnTo>
                  <a:pt x="0" y="21600"/>
                </a:lnTo>
                <a:close/>
              </a:path>
              <a:path fill="lightenLess" w="40092" h="21600">
                <a:moveTo>
                  <a:pt x="0" y="0"/>
                </a:moveTo>
                <a:lnTo>
                  <a:pt x="40092" y="0"/>
                </a:lnTo>
                <a:lnTo>
                  <a:pt x="38692" y="1400"/>
                </a:lnTo>
                <a:lnTo>
                  <a:pt x="1400" y="1400"/>
                </a:lnTo>
                <a:close/>
              </a:path>
              <a:path fill="darken" w="40092" h="21600">
                <a:moveTo>
                  <a:pt x="40092" y="0"/>
                </a:moveTo>
                <a:lnTo>
                  <a:pt x="40092" y="21600"/>
                </a:lnTo>
                <a:lnTo>
                  <a:pt x="38692" y="20200"/>
                </a:lnTo>
                <a:lnTo>
                  <a:pt x="38692" y="1400"/>
                </a:lnTo>
                <a:close/>
              </a:path>
              <a:path fill="darkenLess" w="40092" h="21600">
                <a:moveTo>
                  <a:pt x="40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2" y="20200"/>
                </a:lnTo>
                <a:close/>
              </a:path>
              <a:path fill="lighten" w="40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2" h="21600">
                <a:moveTo>
                  <a:pt x="23545" y="10800"/>
                </a:moveTo>
                <a:lnTo>
                  <a:pt x="13040" y="17806"/>
                </a:lnTo>
                <a:lnTo>
                  <a:pt x="13040" y="3794"/>
                </a:lnTo>
                <a:close/>
              </a:path>
              <a:path fill="darken" w="40092" h="21600">
                <a:moveTo>
                  <a:pt x="25390" y="3794"/>
                </a:moveTo>
                <a:lnTo>
                  <a:pt x="25390" y="17806"/>
                </a:lnTo>
                <a:lnTo>
                  <a:pt x="27053" y="17806"/>
                </a:lnTo>
                <a:lnTo>
                  <a:pt x="27053" y="3794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1"/>
          <p:cNvSpPr/>
          <p:nvPr/>
        </p:nvSpPr>
        <p:spPr>
          <a:xfrm>
            <a:off x="1214280" y="149400"/>
            <a:ext cx="7929720" cy="72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orbel"/>
              </a:rPr>
              <a:t>Молекула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– любая живая система проявляется на уровне функционирования биополимеров (сложных органических соединений), построенных из большого количества единиц – мономеров (просто устроенные соедин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orbel"/>
              </a:rPr>
              <a:t>Клетка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– клетка является единицей развития живых организмов. Она представляет саморегулирующуюся, самовоспроизводящуюся живую сист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orbel"/>
              </a:rPr>
              <a:t>Ткань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– совокупность сходных по строению клеток и межклеточного вещества, объединенных выполнением общей 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orbel"/>
              </a:rPr>
              <a:t>Орган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– структурно-функциональное объединение нескольких типов тка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orbel"/>
              </a:rPr>
              <a:t>Организм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– представляет собой целостную систему органов, специализированных для выполнения различных функ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orbel"/>
              </a:rPr>
              <a:t>Популяция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– совокупность организмов одного и того же вида, объединенных общим местом обит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orbel"/>
              </a:rPr>
              <a:t>Биогеоценоз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– совокупность организмов разных видов и факторов среды их обитания, объединенных обменом вещ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Управляющая кнопка: домой 2">
            <a:hlinkClick r:id="rId2" action="ppaction://hlinksldjump"/>
          </p:cNvPr>
          <p:cNvSpPr/>
          <p:nvPr/>
        </p:nvSpPr>
        <p:spPr>
          <a:xfrm>
            <a:off x="571680" y="5929200"/>
            <a:ext cx="428400" cy="50004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" w="21600" h="25209">
                <a:moveTo>
                  <a:pt x="10800" y="5642"/>
                </a:moveTo>
                <a:lnTo>
                  <a:pt x="13376" y="8253"/>
                </a:lnTo>
                <a:lnTo>
                  <a:pt x="13376" y="6512"/>
                </a:lnTo>
                <a:lnTo>
                  <a:pt x="15152" y="6512"/>
                </a:lnTo>
                <a:lnTo>
                  <a:pt x="15152" y="10028"/>
                </a:lnTo>
                <a:lnTo>
                  <a:pt x="17763" y="12605"/>
                </a:lnTo>
                <a:lnTo>
                  <a:pt x="16109" y="12605"/>
                </a:lnTo>
                <a:lnTo>
                  <a:pt x="16109" y="19794"/>
                </a:lnTo>
                <a:lnTo>
                  <a:pt x="5491" y="19794"/>
                </a:lnTo>
                <a:lnTo>
                  <a:pt x="5491" y="12605"/>
                </a:lnTo>
                <a:lnTo>
                  <a:pt x="3837" y="12605"/>
                </a:lnTo>
                <a:close/>
              </a:path>
              <a:path fill="darkenLess" w="21600" h="25209">
                <a:moveTo>
                  <a:pt x="13376" y="8253"/>
                </a:moveTo>
                <a:lnTo>
                  <a:pt x="13376" y="6512"/>
                </a:lnTo>
                <a:lnTo>
                  <a:pt x="15152" y="6512"/>
                </a:lnTo>
                <a:lnTo>
                  <a:pt x="15152" y="10028"/>
                </a:lnTo>
                <a:close/>
              </a:path>
              <a:path fill="darkenLess" w="21600" h="25209">
                <a:moveTo>
                  <a:pt x="9877" y="16103"/>
                </a:moveTo>
                <a:lnTo>
                  <a:pt x="11723" y="16103"/>
                </a:lnTo>
                <a:lnTo>
                  <a:pt x="11723" y="19794"/>
                </a:lnTo>
                <a:lnTo>
                  <a:pt x="16109" y="19794"/>
                </a:lnTo>
                <a:lnTo>
                  <a:pt x="16109" y="12605"/>
                </a:lnTo>
                <a:lnTo>
                  <a:pt x="5491" y="12605"/>
                </a:lnTo>
                <a:lnTo>
                  <a:pt x="5491" y="19794"/>
                </a:lnTo>
                <a:lnTo>
                  <a:pt x="9877" y="19794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Рисунок 2" descr="2.gif"/>
          <p:cNvPicPr/>
          <p:nvPr/>
        </p:nvPicPr>
        <p:blipFill>
          <a:blip r:embed="rId2"/>
          <a:stretch/>
        </p:blipFill>
        <p:spPr>
          <a:xfrm>
            <a:off x="1714680" y="357120"/>
            <a:ext cx="5045040" cy="6000840"/>
          </a:xfrm>
          <a:prstGeom prst="rect">
            <a:avLst/>
          </a:prstGeom>
          <a:ln w="0">
            <a:noFill/>
          </a:ln>
        </p:spPr>
      </p:pic>
      <p:sp>
        <p:nvSpPr>
          <p:cNvPr id="426" name="Управляющая кнопка: домой 3">
            <a:hlinkClick r:id="rId3" action="ppaction://hlinksldjump"/>
          </p:cNvPr>
          <p:cNvSpPr/>
          <p:nvPr/>
        </p:nvSpPr>
        <p:spPr>
          <a:xfrm>
            <a:off x="7858080" y="5429160"/>
            <a:ext cx="714600" cy="642960"/>
          </a:xfrm>
          <a:custGeom>
            <a:avLst/>
            <a:gdLst>
              <a:gd name="textAreaLeft" fmla="*/ 41400 w 714600"/>
              <a:gd name="textAreaRight" fmla="*/ 673200 w 71460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4005" h="21600">
                <a:moveTo>
                  <a:pt x="0" y="0"/>
                </a:moveTo>
                <a:lnTo>
                  <a:pt x="24005" y="0"/>
                </a:lnTo>
                <a:lnTo>
                  <a:pt x="24005" y="21600"/>
                </a:lnTo>
                <a:lnTo>
                  <a:pt x="0" y="21600"/>
                </a:lnTo>
                <a:close/>
              </a:path>
              <a:path fill="lightenLess" w="24005" h="21600">
                <a:moveTo>
                  <a:pt x="0" y="0"/>
                </a:moveTo>
                <a:lnTo>
                  <a:pt x="24005" y="0"/>
                </a:lnTo>
                <a:lnTo>
                  <a:pt x="22605" y="1400"/>
                </a:lnTo>
                <a:lnTo>
                  <a:pt x="1400" y="1400"/>
                </a:lnTo>
                <a:close/>
              </a:path>
              <a:path fill="darken" w="24005" h="21600">
                <a:moveTo>
                  <a:pt x="24005" y="0"/>
                </a:moveTo>
                <a:lnTo>
                  <a:pt x="24005" y="21600"/>
                </a:lnTo>
                <a:lnTo>
                  <a:pt x="22605" y="20200"/>
                </a:lnTo>
                <a:lnTo>
                  <a:pt x="22605" y="1400"/>
                </a:lnTo>
                <a:close/>
              </a:path>
              <a:path fill="darkenLess" w="24005" h="21600">
                <a:moveTo>
                  <a:pt x="24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5" y="20200"/>
                </a:lnTo>
                <a:close/>
              </a:path>
              <a:path fill="lighten" w="24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5" h="21600">
                <a:moveTo>
                  <a:pt x="12003" y="3837"/>
                </a:moveTo>
                <a:lnTo>
                  <a:pt x="14579" y="6448"/>
                </a:lnTo>
                <a:lnTo>
                  <a:pt x="14579" y="4707"/>
                </a:lnTo>
                <a:lnTo>
                  <a:pt x="16355" y="4707"/>
                </a:lnTo>
                <a:lnTo>
                  <a:pt x="16355" y="8224"/>
                </a:lnTo>
                <a:lnTo>
                  <a:pt x="18966" y="10800"/>
                </a:lnTo>
                <a:lnTo>
                  <a:pt x="17312" y="10800"/>
                </a:lnTo>
                <a:lnTo>
                  <a:pt x="17312" y="17989"/>
                </a:lnTo>
                <a:lnTo>
                  <a:pt x="6693" y="17989"/>
                </a:lnTo>
                <a:lnTo>
                  <a:pt x="6693" y="10800"/>
                </a:lnTo>
                <a:lnTo>
                  <a:pt x="5040" y="10800"/>
                </a:lnTo>
                <a:close/>
              </a:path>
              <a:path fill="darkenLess" w="24005" h="21600">
                <a:moveTo>
                  <a:pt x="14579" y="6448"/>
                </a:moveTo>
                <a:lnTo>
                  <a:pt x="14579" y="4707"/>
                </a:lnTo>
                <a:lnTo>
                  <a:pt x="16355" y="4707"/>
                </a:lnTo>
                <a:lnTo>
                  <a:pt x="16355" y="8224"/>
                </a:lnTo>
                <a:close/>
              </a:path>
              <a:path fill="darkenLess" w="24005" h="21600">
                <a:moveTo>
                  <a:pt x="11080" y="14299"/>
                </a:moveTo>
                <a:lnTo>
                  <a:pt x="12925" y="14299"/>
                </a:lnTo>
                <a:lnTo>
                  <a:pt x="12925" y="17989"/>
                </a:lnTo>
                <a:lnTo>
                  <a:pt x="17312" y="17989"/>
                </a:lnTo>
                <a:lnTo>
                  <a:pt x="17312" y="10800"/>
                </a:lnTo>
                <a:lnTo>
                  <a:pt x="6693" y="10800"/>
                </a:lnTo>
                <a:lnTo>
                  <a:pt x="6693" y="17989"/>
                </a:lnTo>
                <a:lnTo>
                  <a:pt x="11080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Управляющая кнопка: возврат 4">
            <a:hlinkClick r:id="" action="ppaction://hlinkshowjump?jump=previousslide"/>
          </p:cNvPr>
          <p:cNvSpPr/>
          <p:nvPr/>
        </p:nvSpPr>
        <p:spPr>
          <a:xfrm>
            <a:off x="7858080" y="6143760"/>
            <a:ext cx="714600" cy="714240"/>
          </a:xfrm>
          <a:custGeom>
            <a:avLst/>
            <a:gdLst>
              <a:gd name="textAreaLeft" fmla="*/ 46080 w 714600"/>
              <a:gd name="textAreaRight" fmla="*/ 668520 w 71460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3799" y="7493"/>
                </a:moveTo>
                <a:lnTo>
                  <a:pt x="7307" y="7493"/>
                </a:lnTo>
                <a:lnTo>
                  <a:pt x="7307" y="12828"/>
                </a:lnTo>
                <a:cubicBezTo>
                  <a:pt x="7307" y="13751"/>
                  <a:pt x="8107" y="14482"/>
                  <a:pt x="9143" y="14482"/>
                </a:cubicBezTo>
                <a:lnTo>
                  <a:pt x="10805" y="14482"/>
                </a:lnTo>
                <a:cubicBezTo>
                  <a:pt x="11841" y="14482"/>
                  <a:pt x="12642" y="13751"/>
                  <a:pt x="12642" y="12828"/>
                </a:cubicBezTo>
                <a:lnTo>
                  <a:pt x="12642" y="7493"/>
                </a:lnTo>
                <a:lnTo>
                  <a:pt x="10805" y="7493"/>
                </a:lnTo>
                <a:lnTo>
                  <a:pt x="14313" y="3985"/>
                </a:lnTo>
                <a:lnTo>
                  <a:pt x="17986" y="7493"/>
                </a:lnTo>
                <a:lnTo>
                  <a:pt x="16150" y="7493"/>
                </a:lnTo>
                <a:lnTo>
                  <a:pt x="16150" y="12828"/>
                </a:lnTo>
                <a:cubicBezTo>
                  <a:pt x="16150" y="15596"/>
                  <a:pt x="13573" y="18155"/>
                  <a:pt x="10805" y="18155"/>
                </a:cubicBezTo>
                <a:lnTo>
                  <a:pt x="9143" y="18155"/>
                </a:lnTo>
                <a:cubicBezTo>
                  <a:pt x="6375" y="18155"/>
                  <a:pt x="3799" y="15596"/>
                  <a:pt x="3799" y="12828"/>
                </a:cubicBez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Рисунок 1" descr="3.gif"/>
          <p:cNvPicPr/>
          <p:nvPr/>
        </p:nvPicPr>
        <p:blipFill>
          <a:blip r:embed="rId2"/>
          <a:stretch/>
        </p:blipFill>
        <p:spPr>
          <a:xfrm>
            <a:off x="2071800" y="714240"/>
            <a:ext cx="4714920" cy="5214960"/>
          </a:xfrm>
          <a:prstGeom prst="rect">
            <a:avLst/>
          </a:prstGeom>
          <a:ln w="0">
            <a:noFill/>
          </a:ln>
        </p:spPr>
      </p:pic>
      <p:sp>
        <p:nvSpPr>
          <p:cNvPr id="430" name="Управляющая кнопка: домой 2">
            <a:hlinkClick r:id="rId3" action="ppaction://hlinksldjump"/>
          </p:cNvPr>
          <p:cNvSpPr/>
          <p:nvPr/>
        </p:nvSpPr>
        <p:spPr>
          <a:xfrm>
            <a:off x="7858080" y="5429160"/>
            <a:ext cx="642960" cy="571680"/>
          </a:xfrm>
          <a:custGeom>
            <a:avLst/>
            <a:gdLst>
              <a:gd name="textAreaLeft" fmla="*/ 36720 w 642960"/>
              <a:gd name="textAreaRight" fmla="*/ 606240 w 64296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4292" h="21600">
                <a:moveTo>
                  <a:pt x="0" y="0"/>
                </a:moveTo>
                <a:lnTo>
                  <a:pt x="24292" y="0"/>
                </a:lnTo>
                <a:lnTo>
                  <a:pt x="24292" y="21600"/>
                </a:lnTo>
                <a:lnTo>
                  <a:pt x="0" y="21600"/>
                </a:lnTo>
                <a:close/>
              </a:path>
              <a:path fill="lightenLess" w="24292" h="21600">
                <a:moveTo>
                  <a:pt x="0" y="0"/>
                </a:moveTo>
                <a:lnTo>
                  <a:pt x="24292" y="0"/>
                </a:lnTo>
                <a:lnTo>
                  <a:pt x="22892" y="1400"/>
                </a:lnTo>
                <a:lnTo>
                  <a:pt x="1400" y="1400"/>
                </a:lnTo>
                <a:close/>
              </a:path>
              <a:path fill="darken" w="24292" h="21600">
                <a:moveTo>
                  <a:pt x="24292" y="0"/>
                </a:moveTo>
                <a:lnTo>
                  <a:pt x="24292" y="21600"/>
                </a:lnTo>
                <a:lnTo>
                  <a:pt x="22892" y="20200"/>
                </a:lnTo>
                <a:lnTo>
                  <a:pt x="22892" y="1400"/>
                </a:lnTo>
                <a:close/>
              </a:path>
              <a:path fill="darkenLess" w="24292" h="21600">
                <a:moveTo>
                  <a:pt x="24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2" y="20200"/>
                </a:lnTo>
                <a:close/>
              </a:path>
              <a:path fill="lighten" w="24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92" h="21600">
                <a:moveTo>
                  <a:pt x="12146" y="3837"/>
                </a:moveTo>
                <a:lnTo>
                  <a:pt x="14722" y="6448"/>
                </a:lnTo>
                <a:lnTo>
                  <a:pt x="14722" y="4707"/>
                </a:lnTo>
                <a:lnTo>
                  <a:pt x="16498" y="4707"/>
                </a:lnTo>
                <a:lnTo>
                  <a:pt x="16498" y="8224"/>
                </a:lnTo>
                <a:lnTo>
                  <a:pt x="19109" y="10800"/>
                </a:lnTo>
                <a:lnTo>
                  <a:pt x="17455" y="10800"/>
                </a:lnTo>
                <a:lnTo>
                  <a:pt x="17455" y="17989"/>
                </a:lnTo>
                <a:lnTo>
                  <a:pt x="6836" y="17989"/>
                </a:lnTo>
                <a:lnTo>
                  <a:pt x="6836" y="10800"/>
                </a:lnTo>
                <a:lnTo>
                  <a:pt x="5183" y="10800"/>
                </a:lnTo>
                <a:close/>
              </a:path>
              <a:path fill="darkenLess" w="24292" h="21600">
                <a:moveTo>
                  <a:pt x="14722" y="6448"/>
                </a:moveTo>
                <a:lnTo>
                  <a:pt x="14722" y="4707"/>
                </a:lnTo>
                <a:lnTo>
                  <a:pt x="16498" y="4707"/>
                </a:lnTo>
                <a:lnTo>
                  <a:pt x="16498" y="8224"/>
                </a:lnTo>
                <a:close/>
              </a:path>
              <a:path fill="darkenLess" w="24292" h="21600">
                <a:moveTo>
                  <a:pt x="11223" y="14299"/>
                </a:moveTo>
                <a:lnTo>
                  <a:pt x="13068" y="14299"/>
                </a:lnTo>
                <a:lnTo>
                  <a:pt x="13068" y="17989"/>
                </a:lnTo>
                <a:lnTo>
                  <a:pt x="17455" y="17989"/>
                </a:lnTo>
                <a:lnTo>
                  <a:pt x="17455" y="10800"/>
                </a:lnTo>
                <a:lnTo>
                  <a:pt x="6836" y="10800"/>
                </a:lnTo>
                <a:lnTo>
                  <a:pt x="6836" y="17989"/>
                </a:lnTo>
                <a:lnTo>
                  <a:pt x="11223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Управляющая кнопка: возврат 3">
            <a:hlinkClick r:id="" action="ppaction://hlinkshowjump?jump=previousslide"/>
          </p:cNvPr>
          <p:cNvSpPr/>
          <p:nvPr/>
        </p:nvSpPr>
        <p:spPr>
          <a:xfrm>
            <a:off x="7900920" y="6043680"/>
            <a:ext cx="571680" cy="642960"/>
          </a:xfrm>
          <a:custGeom>
            <a:avLst/>
            <a:gdLst>
              <a:gd name="textAreaLeft" fmla="*/ 36720 w 571680"/>
              <a:gd name="textAreaRight" fmla="*/ 534960 w 571680"/>
              <a:gd name="textAreaTop" fmla="*/ 36720 h 642960"/>
              <a:gd name="textAreaBottom" fmla="*/ 606240 h 642960"/>
            </a:gdLst>
            <a:ahLst/>
            <a:rect l="textAreaLeft" t="textAreaTop" r="textAreaRight" b="textAreaBottom"/>
            <a:pathLst>
              <a:path w="21600" h="24292">
                <a:moveTo>
                  <a:pt x="0" y="0"/>
                </a:moveTo>
                <a:lnTo>
                  <a:pt x="21600" y="0"/>
                </a:lnTo>
                <a:lnTo>
                  <a:pt x="21600" y="24292"/>
                </a:lnTo>
                <a:lnTo>
                  <a:pt x="0" y="24292"/>
                </a:lnTo>
                <a:close/>
              </a:path>
              <a:path fill="lightenLess" w="21600" h="242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92">
                <a:moveTo>
                  <a:pt x="21600" y="0"/>
                </a:moveTo>
                <a:lnTo>
                  <a:pt x="21600" y="24292"/>
                </a:lnTo>
                <a:lnTo>
                  <a:pt x="20200" y="22892"/>
                </a:lnTo>
                <a:lnTo>
                  <a:pt x="20200" y="1400"/>
                </a:lnTo>
                <a:close/>
              </a:path>
              <a:path fill="darkenLess" w="21600" h="24292">
                <a:moveTo>
                  <a:pt x="21600" y="24292"/>
                </a:moveTo>
                <a:lnTo>
                  <a:pt x="0" y="24292"/>
                </a:lnTo>
                <a:lnTo>
                  <a:pt x="1400" y="22892"/>
                </a:lnTo>
                <a:lnTo>
                  <a:pt x="20200" y="22892"/>
                </a:lnTo>
                <a:close/>
              </a:path>
              <a:path fill="lighten" w="21600" h="24292">
                <a:moveTo>
                  <a:pt x="0" y="242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92"/>
                </a:lnTo>
                <a:close/>
              </a:path>
              <a:path fill="darken" w="21600" h="24292">
                <a:moveTo>
                  <a:pt x="3794" y="8838"/>
                </a:moveTo>
                <a:lnTo>
                  <a:pt x="7301" y="8838"/>
                </a:lnTo>
                <a:lnTo>
                  <a:pt x="7301" y="14174"/>
                </a:lnTo>
                <a:cubicBezTo>
                  <a:pt x="7301" y="15096"/>
                  <a:pt x="8102" y="15827"/>
                  <a:pt x="9138" y="15827"/>
                </a:cubicBezTo>
                <a:lnTo>
                  <a:pt x="10800" y="15827"/>
                </a:lnTo>
                <a:cubicBezTo>
                  <a:pt x="11836" y="15827"/>
                  <a:pt x="12636" y="15096"/>
                  <a:pt x="12636" y="14174"/>
                </a:cubicBezTo>
                <a:lnTo>
                  <a:pt x="12636" y="8838"/>
                </a:lnTo>
                <a:lnTo>
                  <a:pt x="10800" y="8838"/>
                </a:lnTo>
                <a:lnTo>
                  <a:pt x="14308" y="5331"/>
                </a:lnTo>
                <a:lnTo>
                  <a:pt x="17981" y="8838"/>
                </a:lnTo>
                <a:lnTo>
                  <a:pt x="16144" y="8838"/>
                </a:lnTo>
                <a:lnTo>
                  <a:pt x="16144" y="14174"/>
                </a:lnTo>
                <a:cubicBezTo>
                  <a:pt x="16144" y="16941"/>
                  <a:pt x="13568" y="19500"/>
                  <a:pt x="10800" y="19500"/>
                </a:cubicBezTo>
                <a:lnTo>
                  <a:pt x="9138" y="19500"/>
                </a:lnTo>
                <a:cubicBezTo>
                  <a:pt x="6370" y="19500"/>
                  <a:pt x="3794" y="16941"/>
                  <a:pt x="3794" y="14174"/>
                </a:cubicBez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Рисунок 1" descr="4.gif"/>
          <p:cNvPicPr/>
          <p:nvPr/>
        </p:nvPicPr>
        <p:blipFill>
          <a:blip r:embed="rId2"/>
          <a:stretch/>
        </p:blipFill>
        <p:spPr>
          <a:xfrm>
            <a:off x="1785960" y="1214280"/>
            <a:ext cx="5786280" cy="4357800"/>
          </a:xfrm>
          <a:prstGeom prst="rect">
            <a:avLst/>
          </a:prstGeom>
          <a:ln w="0">
            <a:noFill/>
          </a:ln>
        </p:spPr>
      </p:pic>
      <p:sp>
        <p:nvSpPr>
          <p:cNvPr id="434" name="Управляющая кнопка: домой 2">
            <a:hlinkClick r:id="rId3" action="ppaction://hlinksldjump"/>
          </p:cNvPr>
          <p:cNvSpPr/>
          <p:nvPr/>
        </p:nvSpPr>
        <p:spPr>
          <a:xfrm>
            <a:off x="8001000" y="6000840"/>
            <a:ext cx="428760" cy="50004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188">
                <a:moveTo>
                  <a:pt x="0" y="0"/>
                </a:moveTo>
                <a:lnTo>
                  <a:pt x="21600" y="0"/>
                </a:lnTo>
                <a:lnTo>
                  <a:pt x="21600" y="25188"/>
                </a:lnTo>
                <a:lnTo>
                  <a:pt x="0" y="25188"/>
                </a:lnTo>
                <a:close/>
              </a:path>
              <a:path fill="lightenLess" w="21600" h="251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8">
                <a:moveTo>
                  <a:pt x="21600" y="0"/>
                </a:moveTo>
                <a:lnTo>
                  <a:pt x="21600" y="25188"/>
                </a:lnTo>
                <a:lnTo>
                  <a:pt x="20200" y="23788"/>
                </a:lnTo>
                <a:lnTo>
                  <a:pt x="20200" y="1400"/>
                </a:lnTo>
                <a:close/>
              </a:path>
              <a:path fill="darkenLess" w="21600" h="25188">
                <a:moveTo>
                  <a:pt x="21600" y="25188"/>
                </a:moveTo>
                <a:lnTo>
                  <a:pt x="0" y="25188"/>
                </a:lnTo>
                <a:lnTo>
                  <a:pt x="1400" y="23788"/>
                </a:lnTo>
                <a:lnTo>
                  <a:pt x="20200" y="23788"/>
                </a:lnTo>
                <a:close/>
              </a:path>
              <a:path fill="lighten" w="21600" h="25188">
                <a:moveTo>
                  <a:pt x="0" y="251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8"/>
                </a:lnTo>
                <a:close/>
              </a:path>
              <a:path fill="darken" w="21600" h="25188">
                <a:moveTo>
                  <a:pt x="10800" y="5631"/>
                </a:moveTo>
                <a:lnTo>
                  <a:pt x="13376" y="8242"/>
                </a:lnTo>
                <a:lnTo>
                  <a:pt x="13376" y="6501"/>
                </a:lnTo>
                <a:lnTo>
                  <a:pt x="15152" y="6501"/>
                </a:lnTo>
                <a:lnTo>
                  <a:pt x="15152" y="10018"/>
                </a:lnTo>
                <a:lnTo>
                  <a:pt x="17763" y="12594"/>
                </a:lnTo>
                <a:lnTo>
                  <a:pt x="16109" y="12594"/>
                </a:lnTo>
                <a:lnTo>
                  <a:pt x="16109" y="19783"/>
                </a:lnTo>
                <a:lnTo>
                  <a:pt x="5491" y="19783"/>
                </a:lnTo>
                <a:lnTo>
                  <a:pt x="5491" y="12594"/>
                </a:lnTo>
                <a:lnTo>
                  <a:pt x="3837" y="12594"/>
                </a:lnTo>
                <a:close/>
              </a:path>
              <a:path fill="darkenLess" w="21600" h="25188">
                <a:moveTo>
                  <a:pt x="13376" y="8242"/>
                </a:moveTo>
                <a:lnTo>
                  <a:pt x="13376" y="6501"/>
                </a:lnTo>
                <a:lnTo>
                  <a:pt x="15152" y="6501"/>
                </a:lnTo>
                <a:lnTo>
                  <a:pt x="15152" y="10018"/>
                </a:lnTo>
                <a:close/>
              </a:path>
              <a:path fill="darkenLess" w="21600" h="25188">
                <a:moveTo>
                  <a:pt x="9877" y="16093"/>
                </a:moveTo>
                <a:lnTo>
                  <a:pt x="11723" y="16093"/>
                </a:lnTo>
                <a:lnTo>
                  <a:pt x="11723" y="19783"/>
                </a:lnTo>
                <a:lnTo>
                  <a:pt x="16109" y="19783"/>
                </a:lnTo>
                <a:lnTo>
                  <a:pt x="16109" y="12594"/>
                </a:lnTo>
                <a:lnTo>
                  <a:pt x="5491" y="12594"/>
                </a:lnTo>
                <a:lnTo>
                  <a:pt x="5491" y="19783"/>
                </a:lnTo>
                <a:lnTo>
                  <a:pt x="9877" y="19783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Рисунок 2" descr="9.gif"/>
          <p:cNvPicPr/>
          <p:nvPr/>
        </p:nvPicPr>
        <p:blipFill>
          <a:blip r:embed="rId2"/>
          <a:stretch/>
        </p:blipFill>
        <p:spPr>
          <a:xfrm>
            <a:off x="1571760" y="1000080"/>
            <a:ext cx="5302080" cy="4857840"/>
          </a:xfrm>
          <a:prstGeom prst="rect">
            <a:avLst/>
          </a:prstGeom>
          <a:ln w="0">
            <a:noFill/>
          </a:ln>
        </p:spPr>
      </p:pic>
      <p:sp>
        <p:nvSpPr>
          <p:cNvPr id="437" name="Управляющая кнопка: домой 3">
            <a:hlinkClick r:id="rId3" action="ppaction://hlinksldjump"/>
          </p:cNvPr>
          <p:cNvSpPr/>
          <p:nvPr/>
        </p:nvSpPr>
        <p:spPr>
          <a:xfrm>
            <a:off x="8143920" y="6000840"/>
            <a:ext cx="642960" cy="500040"/>
          </a:xfrm>
          <a:custGeom>
            <a:avLst/>
            <a:gdLst>
              <a:gd name="textAreaLeft" fmla="*/ 32400 w 642960"/>
              <a:gd name="textAreaRight" fmla="*/ 610560 w 6429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7769" h="21600">
                <a:moveTo>
                  <a:pt x="0" y="0"/>
                </a:moveTo>
                <a:lnTo>
                  <a:pt x="27769" y="0"/>
                </a:lnTo>
                <a:lnTo>
                  <a:pt x="27769" y="21600"/>
                </a:lnTo>
                <a:lnTo>
                  <a:pt x="0" y="21600"/>
                </a:lnTo>
                <a:close/>
              </a:path>
              <a:path fill="lightenLess" w="27769" h="21600">
                <a:moveTo>
                  <a:pt x="0" y="0"/>
                </a:moveTo>
                <a:lnTo>
                  <a:pt x="27769" y="0"/>
                </a:lnTo>
                <a:lnTo>
                  <a:pt x="26369" y="1400"/>
                </a:lnTo>
                <a:lnTo>
                  <a:pt x="1400" y="1400"/>
                </a:lnTo>
                <a:close/>
              </a:path>
              <a:path fill="darken" w="27769" h="21600">
                <a:moveTo>
                  <a:pt x="27769" y="0"/>
                </a:moveTo>
                <a:lnTo>
                  <a:pt x="27769" y="21600"/>
                </a:lnTo>
                <a:lnTo>
                  <a:pt x="26369" y="20200"/>
                </a:lnTo>
                <a:lnTo>
                  <a:pt x="26369" y="1400"/>
                </a:lnTo>
                <a:close/>
              </a:path>
              <a:path fill="darkenLess" w="27769" h="21600">
                <a:moveTo>
                  <a:pt x="2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9" y="20200"/>
                </a:lnTo>
                <a:close/>
              </a:path>
              <a:path fill="lighten" w="2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9" h="21600">
                <a:moveTo>
                  <a:pt x="13885" y="3837"/>
                </a:moveTo>
                <a:lnTo>
                  <a:pt x="16461" y="6448"/>
                </a:lnTo>
                <a:lnTo>
                  <a:pt x="16461" y="4707"/>
                </a:lnTo>
                <a:lnTo>
                  <a:pt x="18236" y="4707"/>
                </a:lnTo>
                <a:lnTo>
                  <a:pt x="18236" y="8224"/>
                </a:lnTo>
                <a:lnTo>
                  <a:pt x="20848" y="10800"/>
                </a:lnTo>
                <a:lnTo>
                  <a:pt x="19194" y="10800"/>
                </a:lnTo>
                <a:lnTo>
                  <a:pt x="19194" y="17989"/>
                </a:lnTo>
                <a:lnTo>
                  <a:pt x="8575" y="17989"/>
                </a:lnTo>
                <a:lnTo>
                  <a:pt x="8575" y="10800"/>
                </a:lnTo>
                <a:lnTo>
                  <a:pt x="6922" y="10800"/>
                </a:lnTo>
                <a:close/>
              </a:path>
              <a:path fill="darkenLess" w="27769" h="21600">
                <a:moveTo>
                  <a:pt x="16461" y="6448"/>
                </a:moveTo>
                <a:lnTo>
                  <a:pt x="16461" y="4707"/>
                </a:lnTo>
                <a:lnTo>
                  <a:pt x="18236" y="4707"/>
                </a:lnTo>
                <a:lnTo>
                  <a:pt x="18236" y="8224"/>
                </a:lnTo>
                <a:close/>
              </a:path>
              <a:path fill="darkenLess" w="27769" h="21600">
                <a:moveTo>
                  <a:pt x="12962" y="14299"/>
                </a:moveTo>
                <a:lnTo>
                  <a:pt x="14807" y="14299"/>
                </a:lnTo>
                <a:lnTo>
                  <a:pt x="14807" y="17989"/>
                </a:lnTo>
                <a:lnTo>
                  <a:pt x="19194" y="17989"/>
                </a:lnTo>
                <a:lnTo>
                  <a:pt x="19194" y="10800"/>
                </a:lnTo>
                <a:lnTo>
                  <a:pt x="8575" y="10800"/>
                </a:lnTo>
                <a:lnTo>
                  <a:pt x="8575" y="17989"/>
                </a:lnTo>
                <a:lnTo>
                  <a:pt x="12962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8631"/>
            </a:gs>
            <a:gs pos="100000">
              <a:srgbClr val="d1b8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TextBox 2" descr=""/>
          <p:cNvPicPr/>
          <p:nvPr/>
        </p:nvPicPr>
        <p:blipFill>
          <a:blip r:embed="rId1"/>
          <a:stretch/>
        </p:blipFill>
        <p:spPr>
          <a:xfrm>
            <a:off x="-176040" y="646200"/>
            <a:ext cx="9350280" cy="5102280"/>
          </a:xfrm>
          <a:prstGeom prst="rect">
            <a:avLst/>
          </a:prstGeom>
          <a:ln w="0">
            <a:noFill/>
          </a:ln>
        </p:spPr>
      </p:pic>
      <p:sp>
        <p:nvSpPr>
          <p:cNvPr id="4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Рисунок 1" descr="Улыбка - рожица.wmf"/>
          <p:cNvPicPr/>
          <p:nvPr/>
        </p:nvPicPr>
        <p:blipFill>
          <a:blip r:embed="rId1"/>
          <a:stretch/>
        </p:blipFill>
        <p:spPr>
          <a:xfrm>
            <a:off x="2357280" y="1571760"/>
            <a:ext cx="4316400" cy="3716280"/>
          </a:xfrm>
          <a:prstGeom prst="rect">
            <a:avLst/>
          </a:prstGeom>
          <a:ln w="0">
            <a:noFill/>
          </a:ln>
        </p:spPr>
      </p:pic>
      <p:sp>
        <p:nvSpPr>
          <p:cNvPr id="44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ebf1"/>
            </a:gs>
            <a:gs pos="100000">
              <a:srgbClr val="006699"/>
            </a:gs>
          </a:gsLst>
          <a:lin ang="15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Прямоугольник 2" descr=""/>
          <p:cNvPicPr/>
          <p:nvPr/>
        </p:nvPicPr>
        <p:blipFill>
          <a:blip r:embed="rId1"/>
          <a:stretch/>
        </p:blipFill>
        <p:spPr>
          <a:xfrm>
            <a:off x="706320" y="2792520"/>
            <a:ext cx="7364520" cy="1535040"/>
          </a:xfrm>
          <a:prstGeom prst="rect">
            <a:avLst/>
          </a:prstGeom>
          <a:ln w="0">
            <a:noFill/>
          </a:ln>
        </p:spPr>
      </p:pic>
      <p:sp>
        <p:nvSpPr>
          <p:cNvPr id="44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ae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Box 6"/>
          <p:cNvSpPr/>
          <p:nvPr/>
        </p:nvSpPr>
        <p:spPr>
          <a:xfrm>
            <a:off x="2857680" y="714240"/>
            <a:ext cx="50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держ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TextBox 7"/>
          <p:cNvGrpSpPr/>
          <p:nvPr/>
        </p:nvGrpSpPr>
        <p:grpSpPr>
          <a:xfrm>
            <a:off x="1000080" y="1536840"/>
            <a:ext cx="7278840" cy="4383000"/>
            <a:chOff x="1000080" y="1536840"/>
            <a:chExt cx="7278840" cy="4383000"/>
          </a:xfrm>
        </p:grpSpPr>
        <p:pic>
          <p:nvPicPr>
            <p:cNvPr id="371" name="TextBox 7" descr=""/>
            <p:cNvPicPr/>
            <p:nvPr/>
          </p:nvPicPr>
          <p:blipFill>
            <a:blip r:embed="rId1"/>
            <a:stretch/>
          </p:blipFill>
          <p:spPr>
            <a:xfrm>
              <a:off x="1000080" y="1536840"/>
              <a:ext cx="7278840" cy="438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1214280" y="1643040"/>
              <a:ext cx="7000920" cy="39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труктура биосфер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Факторы эволюции биосфер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остав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и структура биосфер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Биосфера как экосистем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Уровни организации живых организмо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Круговорот вещест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Проверь себ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d4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Схема 2" descr=""/>
          <p:cNvPicPr/>
          <p:nvPr/>
        </p:nvPicPr>
        <p:blipFill>
          <a:blip r:embed="rId1"/>
          <a:stretch/>
        </p:blipFill>
        <p:spPr>
          <a:xfrm>
            <a:off x="1292400" y="1633680"/>
            <a:ext cx="6510240" cy="4144680"/>
          </a:xfrm>
          <a:prstGeom prst="rect">
            <a:avLst/>
          </a:prstGeom>
          <a:ln w="0">
            <a:noFill/>
          </a:ln>
        </p:spPr>
      </p:pic>
      <p:sp>
        <p:nvSpPr>
          <p:cNvPr id="375" name="TextBox 3"/>
          <p:cNvSpPr/>
          <p:nvPr/>
        </p:nvSpPr>
        <p:spPr>
          <a:xfrm>
            <a:off x="2643120" y="642960"/>
            <a:ext cx="50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уктура биосф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d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extBox 1" descr=""/>
          <p:cNvPicPr/>
          <p:nvPr/>
        </p:nvPicPr>
        <p:blipFill>
          <a:blip r:embed="rId1"/>
          <a:stretch/>
        </p:blipFill>
        <p:spPr>
          <a:xfrm>
            <a:off x="1847880" y="208080"/>
            <a:ext cx="6510240" cy="858600"/>
          </a:xfrm>
          <a:prstGeom prst="rect">
            <a:avLst/>
          </a:prstGeom>
          <a:ln w="0">
            <a:noFill/>
          </a:ln>
        </p:spPr>
      </p:pic>
      <p:sp>
        <p:nvSpPr>
          <p:cNvPr id="378" name="Прямоугольник с двумя вырезанными противолежащими углами 17"/>
          <p:cNvSpPr/>
          <p:nvPr/>
        </p:nvSpPr>
        <p:spPr>
          <a:xfrm>
            <a:off x="6429240" y="1643040"/>
            <a:ext cx="2071800" cy="1285920"/>
          </a:xfrm>
          <a:custGeom>
            <a:avLst/>
            <a:gdLst/>
            <a:ahLst/>
            <a:rect l="l" t="t" r="r" b="b"/>
            <a:pathLst>
              <a:path w="2071688" h="1285875">
                <a:moveTo>
                  <a:pt x="0" y="0"/>
                </a:moveTo>
                <a:lnTo>
                  <a:pt x="1857371" y="0"/>
                </a:lnTo>
                <a:lnTo>
                  <a:pt x="2071688" y="214317"/>
                </a:lnTo>
                <a:lnTo>
                  <a:pt x="2071688" y="1285875"/>
                </a:lnTo>
                <a:lnTo>
                  <a:pt x="2071688" y="1285875"/>
                </a:lnTo>
                <a:lnTo>
                  <a:pt x="214317" y="1285875"/>
                </a:lnTo>
                <a:lnTo>
                  <a:pt x="0" y="107155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9898"/>
              </a:gs>
              <a:gs pos="100000">
                <a:srgbClr val="ffe2e2"/>
              </a:gs>
            </a:gsLst>
            <a:lin ang="16200000"/>
          </a:gradFill>
          <a:ln w="9360">
            <a:solidFill>
              <a:srgbClr val="c22829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с двумя вырезанными противолежащими углами 18"/>
          <p:cNvSpPr/>
          <p:nvPr/>
        </p:nvSpPr>
        <p:spPr>
          <a:xfrm>
            <a:off x="1143000" y="1571760"/>
            <a:ext cx="2143080" cy="1357200"/>
          </a:xfrm>
          <a:custGeom>
            <a:avLst/>
            <a:gdLst/>
            <a:ahLst/>
            <a:rect l="l" t="t" r="r" b="b"/>
            <a:pathLst>
              <a:path w="2143125" h="1357313">
                <a:moveTo>
                  <a:pt x="0" y="0"/>
                </a:moveTo>
                <a:lnTo>
                  <a:pt x="1916902" y="0"/>
                </a:lnTo>
                <a:lnTo>
                  <a:pt x="2143125" y="226223"/>
                </a:lnTo>
                <a:lnTo>
                  <a:pt x="2143125" y="1357313"/>
                </a:lnTo>
                <a:lnTo>
                  <a:pt x="2143125" y="1357313"/>
                </a:lnTo>
                <a:lnTo>
                  <a:pt x="226223" y="1357313"/>
                </a:lnTo>
                <a:lnTo>
                  <a:pt x="0" y="113109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9898"/>
              </a:gs>
              <a:gs pos="100000">
                <a:srgbClr val="ffe2e2"/>
              </a:gs>
            </a:gsLst>
            <a:lin ang="16200000"/>
          </a:gradFill>
          <a:ln w="9360">
            <a:solidFill>
              <a:srgbClr val="c22829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с двумя вырезанными противолежащими углами 19"/>
          <p:cNvSpPr/>
          <p:nvPr/>
        </p:nvSpPr>
        <p:spPr>
          <a:xfrm>
            <a:off x="3500280" y="5143680"/>
            <a:ext cx="2571840" cy="1143000"/>
          </a:xfrm>
          <a:custGeom>
            <a:avLst/>
            <a:gdLst/>
            <a:ahLst/>
            <a:rect l="l" t="t" r="r" b="b"/>
            <a:pathLst>
              <a:path w="2571750" h="1143000">
                <a:moveTo>
                  <a:pt x="0" y="0"/>
                </a:moveTo>
                <a:lnTo>
                  <a:pt x="2381246" y="0"/>
                </a:lnTo>
                <a:lnTo>
                  <a:pt x="2571750" y="190504"/>
                </a:lnTo>
                <a:lnTo>
                  <a:pt x="2571750" y="1143000"/>
                </a:lnTo>
                <a:lnTo>
                  <a:pt x="2571750" y="1143000"/>
                </a:lnTo>
                <a:lnTo>
                  <a:pt x="190504" y="1143000"/>
                </a:lnTo>
                <a:lnTo>
                  <a:pt x="0" y="95249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9898"/>
              </a:gs>
              <a:gs pos="100000">
                <a:srgbClr val="ffe2e2"/>
              </a:gs>
            </a:gsLst>
            <a:lin ang="16200000"/>
          </a:gradFill>
          <a:ln w="9360">
            <a:solidFill>
              <a:srgbClr val="c22829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Шестиугольник 20"/>
          <p:cNvSpPr/>
          <p:nvPr/>
        </p:nvSpPr>
        <p:spPr>
          <a:xfrm>
            <a:off x="3286080" y="2857680"/>
            <a:ext cx="2786040" cy="1071360"/>
          </a:xfrm>
          <a:prstGeom prst="hexagon">
            <a:avLst>
              <a:gd name="adj" fmla="val 25005"/>
              <a:gd name="vf" fmla="val 115470"/>
            </a:avLst>
          </a:prstGeom>
          <a:gradFill rotWithShape="0">
            <a:gsLst>
              <a:gs pos="0">
                <a:srgbClr val="ebb2a4"/>
              </a:gs>
              <a:gs pos="100000">
                <a:srgbClr val="faeae7"/>
              </a:gs>
            </a:gsLst>
            <a:lin ang="16200000"/>
          </a:gradFill>
          <a:ln w="9360">
            <a:solidFill>
              <a:srgbClr val="96410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Стрелка вправо с вырезом 27"/>
          <p:cNvSpPr/>
          <p:nvPr/>
        </p:nvSpPr>
        <p:spPr>
          <a:xfrm rot="2170200">
            <a:off x="3274920" y="1881000"/>
            <a:ext cx="1533600" cy="744480"/>
          </a:xfrm>
          <a:custGeom>
            <a:avLst/>
            <a:gdLst>
              <a:gd name="textAreaLeft" fmla="*/ 176040 w 1533600"/>
              <a:gd name="textAreaRight" fmla="*/ 1357560 w 1533600"/>
              <a:gd name="textAreaTop" fmla="*/ 196200 h 744480"/>
              <a:gd name="textAreaBottom" fmla="*/ 548280 h 744480"/>
            </a:gdLst>
            <a:ahLst/>
            <a:rect l="textAreaLeft" t="textAreaTop" r="textAreaRight" b="textAreaBottom"/>
            <a:pathLst>
              <a:path w="21600" h="21600">
                <a:moveTo>
                  <a:pt x="0" y="5692"/>
                </a:moveTo>
                <a:lnTo>
                  <a:pt x="16357" y="5692"/>
                </a:lnTo>
                <a:lnTo>
                  <a:pt x="16357" y="0"/>
                </a:lnTo>
                <a:lnTo>
                  <a:pt x="21600" y="10800"/>
                </a:lnTo>
                <a:lnTo>
                  <a:pt x="16357" y="21600"/>
                </a:lnTo>
                <a:lnTo>
                  <a:pt x="16357" y="15908"/>
                </a:lnTo>
                <a:lnTo>
                  <a:pt x="0" y="15908"/>
                </a:lnTo>
                <a:lnTo>
                  <a:pt x="2480" y="10800"/>
                </a:lnTo>
                <a:lnTo>
                  <a:pt x="0" y="5692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Стрелка вправо с вырезом 28"/>
          <p:cNvSpPr/>
          <p:nvPr/>
        </p:nvSpPr>
        <p:spPr>
          <a:xfrm rot="8304600">
            <a:off x="4903560" y="1881360"/>
            <a:ext cx="1563480" cy="691920"/>
          </a:xfrm>
          <a:custGeom>
            <a:avLst/>
            <a:gdLst>
              <a:gd name="textAreaLeft" fmla="*/ 172800 w 1563480"/>
              <a:gd name="textAreaRight" fmla="*/ 1390680 w 1563480"/>
              <a:gd name="textAreaTop" fmla="*/ 172800 h 691920"/>
              <a:gd name="textAreaBottom" fmla="*/ 519120 h 691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819" y="5400"/>
                </a:lnTo>
                <a:lnTo>
                  <a:pt x="16819" y="0"/>
                </a:lnTo>
                <a:lnTo>
                  <a:pt x="21600" y="10800"/>
                </a:lnTo>
                <a:lnTo>
                  <a:pt x="16819" y="21600"/>
                </a:lnTo>
                <a:lnTo>
                  <a:pt x="16819" y="16200"/>
                </a:lnTo>
                <a:lnTo>
                  <a:pt x="0" y="16200"/>
                </a:lnTo>
                <a:lnTo>
                  <a:pt x="239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30"/>
          <p:cNvSpPr/>
          <p:nvPr/>
        </p:nvSpPr>
        <p:spPr>
          <a:xfrm>
            <a:off x="1428840" y="192888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лове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31"/>
          <p:cNvSpPr/>
          <p:nvPr/>
        </p:nvSpPr>
        <p:spPr>
          <a:xfrm>
            <a:off x="6643800" y="200016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ан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33"/>
          <p:cNvSpPr/>
          <p:nvPr/>
        </p:nvSpPr>
        <p:spPr>
          <a:xfrm>
            <a:off x="3571920" y="535788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волю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Живых организ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34"/>
          <p:cNvSpPr/>
          <p:nvPr/>
        </p:nvSpPr>
        <p:spPr>
          <a:xfrm>
            <a:off x="3786120" y="314316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и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Стрелка вправо с вырезом 36"/>
          <p:cNvSpPr/>
          <p:nvPr/>
        </p:nvSpPr>
        <p:spPr>
          <a:xfrm rot="16200000">
            <a:off x="4357800" y="4143600"/>
            <a:ext cx="1071360" cy="785520"/>
          </a:xfrm>
          <a:custGeom>
            <a:avLst/>
            <a:gdLst>
              <a:gd name="textAreaLeft" fmla="*/ 196200 w 1071360"/>
              <a:gd name="textAreaRight" fmla="*/ 875160 w 1071360"/>
              <a:gd name="textAreaTop" fmla="*/ 196200 h 785520"/>
              <a:gd name="textAreaBottom" fmla="*/ 589320 h 785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680" y="5400"/>
                </a:lnTo>
                <a:lnTo>
                  <a:pt x="13680" y="0"/>
                </a:lnTo>
                <a:lnTo>
                  <a:pt x="21600" y="10800"/>
                </a:lnTo>
                <a:lnTo>
                  <a:pt x="13680" y="21600"/>
                </a:lnTo>
                <a:lnTo>
                  <a:pt x="13680" y="16200"/>
                </a:lnTo>
                <a:lnTo>
                  <a:pt x="0" y="16200"/>
                </a:lnTo>
                <a:lnTo>
                  <a:pt x="396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3"/>
          <p:cNvSpPr/>
          <p:nvPr/>
        </p:nvSpPr>
        <p:spPr>
          <a:xfrm>
            <a:off x="428760" y="37861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e4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TextBox 1" descr=""/>
          <p:cNvPicPr/>
          <p:nvPr/>
        </p:nvPicPr>
        <p:blipFill>
          <a:blip r:embed="rId1"/>
          <a:stretch/>
        </p:blipFill>
        <p:spPr>
          <a:xfrm>
            <a:off x="2060640" y="500040"/>
            <a:ext cx="5960880" cy="1219320"/>
          </a:xfrm>
          <a:prstGeom prst="rect">
            <a:avLst/>
          </a:prstGeom>
          <a:ln w="0">
            <a:noFill/>
          </a:ln>
        </p:spPr>
      </p:pic>
      <p:pic>
        <p:nvPicPr>
          <p:cNvPr id="392" name="Схема 18" descr=""/>
          <p:cNvPicPr/>
          <p:nvPr/>
        </p:nvPicPr>
        <p:blipFill>
          <a:blip r:embed="rId2"/>
          <a:stretch/>
        </p:blipFill>
        <p:spPr>
          <a:xfrm>
            <a:off x="858960" y="1573200"/>
            <a:ext cx="7924680" cy="4357800"/>
          </a:xfrm>
          <a:prstGeom prst="rect">
            <a:avLst/>
          </a:prstGeom>
          <a:ln w="0">
            <a:noFill/>
          </a:ln>
        </p:spPr>
      </p:pic>
      <p:sp>
        <p:nvSpPr>
          <p:cNvPr id="39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8d01"/>
            </a:gs>
            <a:gs pos="100000">
              <a:srgbClr val="d1b8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TextBox 1"/>
          <p:cNvGrpSpPr/>
          <p:nvPr/>
        </p:nvGrpSpPr>
        <p:grpSpPr>
          <a:xfrm>
            <a:off x="768240" y="987480"/>
            <a:ext cx="7747200" cy="5443560"/>
            <a:chOff x="768240" y="987480"/>
            <a:chExt cx="7747200" cy="5443560"/>
          </a:xfrm>
        </p:grpSpPr>
        <p:pic>
          <p:nvPicPr>
            <p:cNvPr id="395" name="TextBox 1" descr=""/>
            <p:cNvPicPr/>
            <p:nvPr/>
          </p:nvPicPr>
          <p:blipFill>
            <a:blip r:embed="rId1"/>
            <a:stretch/>
          </p:blipFill>
          <p:spPr>
            <a:xfrm>
              <a:off x="768240" y="987480"/>
              <a:ext cx="7747200" cy="544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785880" y="1000080"/>
              <a:ext cx="7715160" cy="41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Биогенное вещество, создается в процессе жизнедеятельности организма (газы, каменный уголь, нефть и т.д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Косное вещество, образующееся без участия организма (основные породы, лава вулканов, метеориты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Биокосное, представляет собой общий результат жизнедеятельности организма и абиогенных процессов  (почва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b80a"/>
            </a:gs>
            <a:gs pos="100000">
              <a:srgbClr val="d1b8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Схема 5" descr=""/>
          <p:cNvPicPr/>
          <p:nvPr/>
        </p:nvPicPr>
        <p:blipFill>
          <a:blip r:embed="rId1"/>
          <a:stretch/>
        </p:blipFill>
        <p:spPr>
          <a:xfrm>
            <a:off x="212760" y="1852560"/>
            <a:ext cx="8931240" cy="4657680"/>
          </a:xfrm>
          <a:prstGeom prst="rect">
            <a:avLst/>
          </a:prstGeom>
          <a:ln w="0">
            <a:noFill/>
          </a:ln>
        </p:spPr>
      </p:pic>
      <p:pic>
        <p:nvPicPr>
          <p:cNvPr id="399" name="TextBox 3" descr=""/>
          <p:cNvPicPr/>
          <p:nvPr/>
        </p:nvPicPr>
        <p:blipFill>
          <a:blip r:embed="rId2"/>
          <a:stretch/>
        </p:blipFill>
        <p:spPr>
          <a:xfrm>
            <a:off x="158760" y="115920"/>
            <a:ext cx="8624880" cy="1914480"/>
          </a:xfrm>
          <a:prstGeom prst="rect">
            <a:avLst/>
          </a:prstGeom>
          <a:ln w="0">
            <a:noFill/>
          </a:ln>
        </p:spPr>
      </p:pic>
      <p:sp>
        <p:nvSpPr>
          <p:cNvPr id="4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e4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1"/>
          <p:cNvSpPr/>
          <p:nvPr/>
        </p:nvSpPr>
        <p:spPr>
          <a:xfrm>
            <a:off x="928800" y="64296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ьзуя текст учебника, заполните таблиц (стр. 2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1214280" y="1428840"/>
          <a:ext cx="6572520" cy="4429080"/>
        </p:xfrm>
        <a:graphic>
          <a:graphicData uri="http://schemas.openxmlformats.org/drawingml/2006/table">
            <a:tbl>
              <a:tblPr/>
              <a:tblGrid>
                <a:gridCol w="857520"/>
                <a:gridCol w="1714320"/>
                <a:gridCol w="1285920"/>
                <a:gridCol w="1400040"/>
                <a:gridCol w="1314720"/>
              </a:tblGrid>
              <a:tr h="12650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\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2d2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арактеристика оболочек Зем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2d2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тмосф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2d2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идросф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2d2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итосф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2d2e"/>
                    </a:solidFill>
                  </a:tcPr>
                </a:tc>
              </a:tr>
              <a:tr h="1582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ста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8e8"/>
                    </a:solidFill>
                  </a:tcPr>
                </a:tc>
              </a:tr>
              <a:tr h="15811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начение для биологических процес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0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b80a"/>
            </a:gs>
            <a:gs pos="100000">
              <a:srgbClr val="d1b8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Box 1"/>
          <p:cNvSpPr/>
          <p:nvPr/>
        </p:nvSpPr>
        <p:spPr>
          <a:xfrm>
            <a:off x="2786040" y="57168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интере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2"/>
          <p:cNvSpPr/>
          <p:nvPr/>
        </p:nvSpPr>
        <p:spPr>
          <a:xfrm>
            <a:off x="1071720" y="1285920"/>
            <a:ext cx="728640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ая масса живых организмов оценивают в 2,43 * 10</a:t>
            </a:r>
            <a:r>
              <a:rPr b="0" lang="ru-RU" sz="2800" spc="-1" strike="noStrike" baseline="50000">
                <a:solidFill>
                  <a:srgbClr val="000000"/>
                </a:solidFill>
                <a:latin typeface="Calibri"/>
              </a:rPr>
              <a:t>12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суше: 99,2% растения и 0,8% - животные и микроорганиз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океане: 6,3% - растения и 93,7 % –животные и микроорганиз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1% - видовое разнообразие растений, но их биомасса составляет – 9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96 видов – беспозвоночные и только 4% - позвоночные, но их вклад в биомассу всего 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Солнце 4"/>
          <p:cNvSpPr/>
          <p:nvPr/>
        </p:nvSpPr>
        <p:spPr>
          <a:xfrm>
            <a:off x="7143840" y="214200"/>
            <a:ext cx="1143000" cy="1071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1:17:21Z</dcterms:created>
  <dc:creator>аа</dc:creator>
  <dc:description/>
  <dc:language>en-US</dc:language>
  <cp:lastModifiedBy>LEGION</cp:lastModifiedBy>
  <dcterms:modified xsi:type="dcterms:W3CDTF">2015-01-05T08:30:05Z</dcterms:modified>
  <cp:revision>181</cp:revision>
  <dc:subject/>
  <dc:title>Слайд 1</dc:title>
</cp:coreProperties>
</file>