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2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D110-9853-422F-9915-8D7FD8B0D9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И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F9AB-3440-4643-953B-2C1007E2DF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ой ма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20D2-D55C-4223-BAA3-C6A0F9FFCD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omic Sans MS"/>
              </a:rPr>
              <a:t>Деятельность живых организмов служит основой круговорота веществ в приро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аз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с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фосф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9045-E039-4D5C-8496-087C984D54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Молекула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любая живая система проявляется на уровне функционирования биополимеров (сложных органических соединений), построенных из большого количества единиц – мономеров (просто устроенные соединения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Клетка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клетка является единицей развития живых организмов. Она представляет саморегулирующуюся, самовоспроизводящуюся живую систему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Ткань 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– совокупность сходных по строению клеток и межклеточного вещества, объединенных выполнением общей функц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Орган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труктурно-функциональное объединение нескольких типов ткан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Организм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представляет собой целостную систему органов, специализированных для выполнения различных функц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Популяция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овокупность организмов одного и того же вида, объединенных общим местом обит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Биогеоценоз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овокупность организмов разных видов и факторов среды их обитания, объединенных обменом вещест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3402-30FF-404C-8448-9C46497651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ерь себ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рганизмы поглощают диоксид углерода из атмосфе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от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путем связанный углерод возвращается в атмосфер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ышат организм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рушаются полез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пае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ют микроорганиз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уют аз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ют реакци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ления и вос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3B9E-32B5-4E40-9388-7652BDD406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эволюции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руктура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а как эко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A26C-FB61-4B2D-9F43-6A2C86463A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енное вещество, создается в процессе жизнедеятельности организма (газы, каменный уголь, нефть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ное вещество, образующееся без участия организма (основные породы, лава вулканов, метеори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косное, представляет собой общий результат жизнедеятельности организма и абиогенных процессов  (поч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E066-0951-44E9-81C2-C9E6D58F23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 представляет собой совокупность больших и малых экосистем или всех биоценозов Земли и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394F-2E1D-4AFB-9DA5-AF9BA18748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текст учебника, заполните таблиц (стр. 2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CC67-F280-47D5-9C01-7C74BA81D9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масса живых организмов оценивают в 2,43 * 10</a:t>
            </a:r>
            <a:r>
              <a:rPr b="0" lang="ru-RU" sz="1400" spc="-1" strike="noStrike" baseline="50000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уше: 99,2% растения и 0,8% - животные и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еане: 6,3% - растения и 93,7 % –животные и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% - видовое разнообразие растений, но их биомасса составляет – 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6 видов – беспозвоночные и только 4% - позвоночные, но их вклад в биомассу всего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6C02-3C26-4853-85A3-0551A36D49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FF6-93C9-4AD9-8598-FD90188D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2B0-EE4A-4BE3-B432-F53C0D1C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141-4086-43FB-8C19-F36A406C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6F1-EB21-4F69-BEC5-67159702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FAB5-23AC-48CF-B2FE-24AC797C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492C-D85C-49D7-AD9D-0C547F73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2504-FF10-4802-B067-1EC4E45E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FEF8-7F21-4287-93A2-3E618B5D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3822-A503-4A04-856D-1C28DBF4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C3CC-0C74-4DCC-9DF6-195FD64C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541B-966A-40B4-A005-B33EB68E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8B5-6F16-4959-84CB-8A0A9CEF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9C3A-9FB7-4B0E-9E56-EC4C96E4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D897-C802-4052-85BC-D08A099D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ECCB-5864-4588-ACB3-F0A5CA74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DDE7-4CD4-40F1-80E3-960B0F6A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861A-31D0-417B-8A7B-3FF1586E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01BCA-1700-4BC1-9E1F-4F0D8849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D87F3-2FFB-4B0F-8F54-86C2D182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6E39E-4E0C-4D01-8F1A-51F78427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9B873-6C33-4D5F-A531-3584EBD9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06452-1EDF-44CB-A91B-C488F289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3A0-D7D9-4665-AD01-20736C84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4595-804D-4640-9991-8F136234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39B9A-C1C1-4A13-94FC-608CD217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2D615-9C82-4B9F-84FE-EE9D30F4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0CFFD-1FD1-4047-9A4D-3CA48FCE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7A95-A01F-4D84-AB1E-2683A597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97613-C77A-47A3-A5B9-19277B62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E1B2D-584C-46F3-9A77-85C753EE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41CD2-AD37-48A9-BB4D-E4965C2D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BC8A-D3A2-4D9C-A4DD-D7437BA6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ECD05-D614-4F98-AA57-CD1A3263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4A8-196A-4E17-A04D-A0586AEC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2EF2B-861C-4884-80E4-09BF656D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CE503-FDF5-4D4E-B37C-28209630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0AE26-B0F0-4AFA-B18B-A1A5ECE5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21DD5-1556-4E37-AFB5-87A3712F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A1C80-6576-4CDC-A195-94542181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F212-AC59-4045-9CBD-4C6449D2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F8B1B-24C4-40F7-8727-D3A110B7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02DCD-EF50-40AF-8513-287E67A1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1C61A-CE76-451C-BF1B-25C046FF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31AA1-9F63-4652-BC76-00AAE530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9CC-3F81-4CB2-ACEE-912B2E2D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33633-7557-4FFC-A10F-186FBFD8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1C792-2096-4E0C-A620-41D9912A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91961-5451-4CCF-9A06-A047AA44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3F346-AED7-4486-AD39-AF033C25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FFC47-5B28-4DFE-B2FC-ED640743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1D316-2E0F-4A15-AAFD-23EA43E3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1F79E-6388-4B40-B826-452665D2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32664-6824-4AF1-BCFB-5F73F809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E770A-5A47-4F8C-BF39-D03063D9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E3353-F9DB-4AB5-9BAE-3F465F3C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AE7-17D8-49B6-B9E9-10C4D3A8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CC669-DA8A-44AF-8CF2-2345762C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12389-DC56-452B-8CD4-D4D69D7F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82DDA-EE8C-485C-A94A-C6D705FA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5BB2E-B72A-481C-9C06-7ACCFFC2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8B076-FDE7-4FDA-BD0D-E9FF146D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808A7-340D-4238-917E-B2A8C14C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75E3E-E915-4CC7-A0D6-A224EBED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5B321-E184-486F-BECA-293B7CB1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D0F23-2927-4348-A56B-A7CC7E99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CA66A-97F3-4C4E-8E10-F7335E06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29A-0B8E-4BEA-ACAB-1C6199B8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666F9-87EE-464B-957A-40C8D3A5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8140A-2CDC-476B-BBD4-146C3995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1C4D3-BAA8-45C8-BD0F-51052BE4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54DD4-3454-4666-B4DF-59977675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541A1-6042-40B1-BCBD-F0C4EA03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8F54E-E4C1-45C1-8EAE-EBC429AA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4543D-B6EE-4A84-88CD-3A14F5C9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DAE4B-FA98-48D0-BB3E-2D153D49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7F499-E82D-43F3-88EA-4F4048C5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579CF-BC51-465C-95FA-C96E3EDF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AA5-C31C-4750-BF3C-B9D0CBBA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5DDCC-040D-45FD-9BFC-41D73290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9BB43-4C3B-48DF-85E6-01BB354A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CE9BE-5267-4925-A517-F2C44DB4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D5FE2-B81A-4242-8760-602018B0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2A523-5907-4B6C-9179-F9961AC0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85B0F-03C7-45CC-8B26-D6E1DAEB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AEE4F-FD9D-4C3E-A2BC-77949E6F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6DAE1-10A3-4CB6-95F5-C03451CF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0CB70-8D90-47B0-912A-B2C5156B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464C7-394D-4B29-8D25-42A5511C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412-F4D0-4DCA-B7F0-DCB2CC32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48602-45BF-4217-BDAF-B2963657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F1EBA-1B23-475C-9167-61FDB80E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F67E8-6441-423B-BF15-F4CE24FE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57246-68EF-4DE5-B2F6-FB46EC82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60B05-0C4D-4946-82BF-7FB041FE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7EA7D-C6EA-449A-B665-FB85F39A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F5ED8-A606-4A3A-B49D-FC610B84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D324-562B-4DA1-A96F-C9880E9F808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7476-A589-42BE-A04C-8FB4167C2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0798-96FD-4265-9443-798C3D01F9C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C1C5-3617-4D09-B0F1-A2985B41935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97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051B-E047-47F5-8DB8-8247B4B31AA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4D3F-2E9D-45AB-8D52-F3A07D99069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44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8BFF-5FA7-44D3-BCEA-483DE62D472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9F03-2D97-4D6F-BA6E-2F96BC01239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B35E-AC36-4137-B8B3-C375EEB573F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F8D2-FA5D-4DB0-84AE-63350F8DFC9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7152-9C3B-4833-9657-3F964541B01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2391-BC0B-4600-866C-B06361C0131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2D38-A0E0-4437-9C52-96F2E34D9A9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594D-FEAE-4F2C-9D0D-2A2C74EAA13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1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DC6C-1EB6-4612-A882-C7760A1A35F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611C-1D74-4176-AD67-0451A1E478F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3.xml"/><Relationship Id="rId3" Type="http://schemas.openxmlformats.org/officeDocument/2006/relationships/slide" Target="slide16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143160" y="5378400"/>
            <a:ext cx="55008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бимова М.Ф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биологии, ГОУ 4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08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Прямоугольник 14" descr=""/>
          <p:cNvPicPr/>
          <p:nvPr/>
        </p:nvPicPr>
        <p:blipFill>
          <a:blip r:embed="rId1"/>
          <a:stretch/>
        </p:blipFill>
        <p:spPr>
          <a:xfrm>
            <a:off x="523800" y="1536840"/>
            <a:ext cx="8334360" cy="30114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1571760" y="214200"/>
            <a:ext cx="65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овни организации живой ма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Схема 3" descr=""/>
          <p:cNvPicPr/>
          <p:nvPr/>
        </p:nvPicPr>
        <p:blipFill>
          <a:blip r:embed="rId1"/>
          <a:stretch/>
        </p:blipFill>
        <p:spPr>
          <a:xfrm>
            <a:off x="444600" y="853920"/>
            <a:ext cx="8040600" cy="5980320"/>
          </a:xfrm>
          <a:prstGeom prst="rect">
            <a:avLst/>
          </a:prstGeom>
          <a:ln w="0">
            <a:noFill/>
          </a:ln>
        </p:spPr>
      </p:pic>
      <p:sp>
        <p:nvSpPr>
          <p:cNvPr id="410" name="Управляющая кнопка: далее 26">
            <a:hlinkClick r:id="rId2" action="ppaction://hlinksldjump"/>
          </p:cNvPr>
          <p:cNvSpPr/>
          <p:nvPr/>
        </p:nvSpPr>
        <p:spPr>
          <a:xfrm>
            <a:off x="8501040" y="614376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3794" y="5587"/>
                </a:moveTo>
                <a:lnTo>
                  <a:pt x="17806" y="12594"/>
                </a:lnTo>
                <a:lnTo>
                  <a:pt x="3794" y="196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c3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TextBox 1"/>
          <p:cNvGrpSpPr/>
          <p:nvPr/>
        </p:nvGrpSpPr>
        <p:grpSpPr>
          <a:xfrm>
            <a:off x="311040" y="1530360"/>
            <a:ext cx="8534520" cy="5010120"/>
            <a:chOff x="311040" y="1530360"/>
            <a:chExt cx="8534520" cy="5010120"/>
          </a:xfrm>
        </p:grpSpPr>
        <p:pic>
          <p:nvPicPr>
            <p:cNvPr id="413" name="TextBox 1" descr=""/>
            <p:cNvPicPr/>
            <p:nvPr/>
          </p:nvPicPr>
          <p:blipFill>
            <a:blip r:embed="rId1"/>
            <a:stretch/>
          </p:blipFill>
          <p:spPr>
            <a:xfrm>
              <a:off x="311040" y="1530360"/>
              <a:ext cx="853452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00040" y="1571760"/>
              <a:ext cx="8286840" cy="46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вод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угле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азот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с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фосфо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Управляющая кнопка: далее 4">
            <a:hlinkClick r:id="rId2" action="ppaction://hlinksldjump"/>
          </p:cNvPr>
          <p:cNvSpPr/>
          <p:nvPr/>
        </p:nvSpPr>
        <p:spPr>
          <a:xfrm>
            <a:off x="5000760" y="278604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Управляющая кнопка: далее 5">
            <a:hlinkClick r:id="rId3" action="ppaction://hlinksldjump"/>
          </p:cNvPr>
          <p:cNvSpPr/>
          <p:nvPr/>
        </p:nvSpPr>
        <p:spPr>
          <a:xfrm>
            <a:off x="5143680" y="56437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Управляющая кнопка: далее 6">
            <a:hlinkClick r:id="rId4" action="ppaction://hlinksldjump"/>
          </p:cNvPr>
          <p:cNvSpPr/>
          <p:nvPr/>
        </p:nvSpPr>
        <p:spPr>
          <a:xfrm>
            <a:off x="5000760" y="3786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Управляющая кнопка: далее 7">
            <a:hlinkClick r:id="rId5" action="ppaction://hlinksldjump"/>
          </p:cNvPr>
          <p:cNvSpPr/>
          <p:nvPr/>
        </p:nvSpPr>
        <p:spPr>
          <a:xfrm>
            <a:off x="5000760" y="185724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9"/>
          <p:cNvSpPr/>
          <p:nvPr/>
        </p:nvSpPr>
        <p:spPr>
          <a:xfrm>
            <a:off x="714240" y="28584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2d47"/>
                </a:solidFill>
                <a:latin typeface="Comic Sans MS"/>
              </a:rPr>
              <a:t>Деятельность живых организмов служит основой круговорота веществ в приро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Управляющая кнопка: в конец 10">
            <a:hlinkClick r:id="rId6" action="ppaction://hlinksldjump"/>
          </p:cNvPr>
          <p:cNvSpPr/>
          <p:nvPr/>
        </p:nvSpPr>
        <p:spPr>
          <a:xfrm>
            <a:off x="7429680" y="6357960"/>
            <a:ext cx="928440" cy="500040"/>
          </a:xfrm>
          <a:custGeom>
            <a:avLst/>
            <a:gdLst>
              <a:gd name="textAreaLeft" fmla="*/ 32400 w 928440"/>
              <a:gd name="textAreaRight" fmla="*/ 896040 w 9284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092" h="21600">
                <a:moveTo>
                  <a:pt x="0" y="0"/>
                </a:moveTo>
                <a:lnTo>
                  <a:pt x="40092" y="0"/>
                </a:lnTo>
                <a:lnTo>
                  <a:pt x="40092" y="21600"/>
                </a:lnTo>
                <a:lnTo>
                  <a:pt x="0" y="21600"/>
                </a:lnTo>
                <a:close/>
              </a:path>
              <a:path fill="lightenLess" w="40092" h="21600">
                <a:moveTo>
                  <a:pt x="0" y="0"/>
                </a:moveTo>
                <a:lnTo>
                  <a:pt x="40092" y="0"/>
                </a:lnTo>
                <a:lnTo>
                  <a:pt x="38692" y="1400"/>
                </a:lnTo>
                <a:lnTo>
                  <a:pt x="1400" y="1400"/>
                </a:lnTo>
                <a:close/>
              </a:path>
              <a:path fill="darken" w="40092" h="21600">
                <a:moveTo>
                  <a:pt x="40092" y="0"/>
                </a:moveTo>
                <a:lnTo>
                  <a:pt x="40092" y="21600"/>
                </a:lnTo>
                <a:lnTo>
                  <a:pt x="38692" y="20200"/>
                </a:lnTo>
                <a:lnTo>
                  <a:pt x="38692" y="1400"/>
                </a:lnTo>
                <a:close/>
              </a:path>
              <a:path fill="darkenLess" w="40092" h="21600">
                <a:moveTo>
                  <a:pt x="40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2" y="20200"/>
                </a:lnTo>
                <a:close/>
              </a:path>
              <a:path fill="lighten" w="40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2" h="21600">
                <a:moveTo>
                  <a:pt x="23545" y="10800"/>
                </a:moveTo>
                <a:lnTo>
                  <a:pt x="13040" y="17806"/>
                </a:lnTo>
                <a:lnTo>
                  <a:pt x="13040" y="3794"/>
                </a:lnTo>
                <a:close/>
              </a:path>
              <a:path fill="darken" w="40092" h="21600">
                <a:moveTo>
                  <a:pt x="25390" y="3794"/>
                </a:moveTo>
                <a:lnTo>
                  <a:pt x="25390" y="17806"/>
                </a:lnTo>
                <a:lnTo>
                  <a:pt x="27053" y="17806"/>
                </a:lnTo>
                <a:lnTo>
                  <a:pt x="27053" y="3794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1214280" y="149400"/>
            <a:ext cx="7929720" cy="72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Молекул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любая живая система проявляется на уровне функционирования биополимеров (сложных органических соединений), построенных из большого количества единиц – мономеров (просто устроенные соедин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Клетк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клетка является единицей развития живых организмов. Она представляет саморегулирующуюся, самовоспроизводящуюся жив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Ткань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– совокупность сходных по строению клеток и межклеточного вещества, объединенных выполнением обще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Орган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труктурно-функциональное объединение нескольких типов тка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Организ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представляет собой целостную систему органов, специализированных для выполнения различных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Популяция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овокупность организмов одного и того же вида, объединенных общим местом об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Биогеоценоз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овокупность организмов разных видов и факторов среды их обитания, объединенных обменом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Управляющая кнопка: домой 2">
            <a:hlinkClick r:id="rId2" action="ppaction://hlinksldjump"/>
          </p:cNvPr>
          <p:cNvSpPr/>
          <p:nvPr/>
        </p:nvSpPr>
        <p:spPr>
          <a:xfrm>
            <a:off x="571680" y="592920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10800" y="5642"/>
                </a:moveTo>
                <a:lnTo>
                  <a:pt x="13376" y="8253"/>
                </a:ln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lnTo>
                  <a:pt x="17763" y="12605"/>
                </a:lnTo>
                <a:lnTo>
                  <a:pt x="16109" y="12605"/>
                </a:lnTo>
                <a:lnTo>
                  <a:pt x="16109" y="19794"/>
                </a:lnTo>
                <a:lnTo>
                  <a:pt x="5491" y="19794"/>
                </a:lnTo>
                <a:lnTo>
                  <a:pt x="5491" y="12605"/>
                </a:lnTo>
                <a:lnTo>
                  <a:pt x="3837" y="12605"/>
                </a:lnTo>
                <a:close/>
              </a:path>
              <a:path fill="darkenLess" w="21600" h="25209">
                <a:moveTo>
                  <a:pt x="13376" y="8253"/>
                </a:move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close/>
              </a:path>
              <a:path fill="darkenLess" w="21600" h="25209">
                <a:moveTo>
                  <a:pt x="9877" y="16103"/>
                </a:moveTo>
                <a:lnTo>
                  <a:pt x="11723" y="16103"/>
                </a:lnTo>
                <a:lnTo>
                  <a:pt x="11723" y="19794"/>
                </a:lnTo>
                <a:lnTo>
                  <a:pt x="16109" y="19794"/>
                </a:lnTo>
                <a:lnTo>
                  <a:pt x="16109" y="12605"/>
                </a:lnTo>
                <a:lnTo>
                  <a:pt x="5491" y="12605"/>
                </a:lnTo>
                <a:lnTo>
                  <a:pt x="5491" y="19794"/>
                </a:lnTo>
                <a:lnTo>
                  <a:pt x="9877" y="19794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Рисунок 2" descr="2.gif"/>
          <p:cNvPicPr/>
          <p:nvPr/>
        </p:nvPicPr>
        <p:blipFill>
          <a:blip r:embed="rId2"/>
          <a:stretch/>
        </p:blipFill>
        <p:spPr>
          <a:xfrm>
            <a:off x="1714680" y="357120"/>
            <a:ext cx="5045040" cy="6000840"/>
          </a:xfrm>
          <a:prstGeom prst="rect">
            <a:avLst/>
          </a:prstGeom>
          <a:ln w="0">
            <a:noFill/>
          </a:ln>
        </p:spPr>
      </p:pic>
      <p:sp>
        <p:nvSpPr>
          <p:cNvPr id="426" name="Управляющая кнопка: домой 3">
            <a:hlinkClick r:id="rId3" action="ppaction://hlinksldjump"/>
          </p:cNvPr>
          <p:cNvSpPr/>
          <p:nvPr/>
        </p:nvSpPr>
        <p:spPr>
          <a:xfrm>
            <a:off x="7858080" y="5429160"/>
            <a:ext cx="714600" cy="642960"/>
          </a:xfrm>
          <a:custGeom>
            <a:avLst/>
            <a:gdLst>
              <a:gd name="textAreaLeft" fmla="*/ 41400 w 714600"/>
              <a:gd name="textAreaRight" fmla="*/ 673200 w 7146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4005" h="21600">
                <a:moveTo>
                  <a:pt x="0" y="0"/>
                </a:moveTo>
                <a:lnTo>
                  <a:pt x="24005" y="0"/>
                </a:lnTo>
                <a:lnTo>
                  <a:pt x="24005" y="21600"/>
                </a:lnTo>
                <a:lnTo>
                  <a:pt x="0" y="21600"/>
                </a:lnTo>
                <a:close/>
              </a:path>
              <a:path fill="lightenLess" w="24005" h="21600">
                <a:moveTo>
                  <a:pt x="0" y="0"/>
                </a:moveTo>
                <a:lnTo>
                  <a:pt x="24005" y="0"/>
                </a:lnTo>
                <a:lnTo>
                  <a:pt x="22605" y="1400"/>
                </a:lnTo>
                <a:lnTo>
                  <a:pt x="1400" y="1400"/>
                </a:lnTo>
                <a:close/>
              </a:path>
              <a:path fill="darken" w="24005" h="21600">
                <a:moveTo>
                  <a:pt x="24005" y="0"/>
                </a:moveTo>
                <a:lnTo>
                  <a:pt x="24005" y="21600"/>
                </a:lnTo>
                <a:lnTo>
                  <a:pt x="22605" y="20200"/>
                </a:lnTo>
                <a:lnTo>
                  <a:pt x="22605" y="1400"/>
                </a:lnTo>
                <a:close/>
              </a:path>
              <a:path fill="darkenLess" w="24005" h="21600">
                <a:moveTo>
                  <a:pt x="2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5" y="20200"/>
                </a:lnTo>
                <a:close/>
              </a:path>
              <a:path fill="lighten" w="2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5" h="21600">
                <a:moveTo>
                  <a:pt x="12003" y="3837"/>
                </a:moveTo>
                <a:lnTo>
                  <a:pt x="14579" y="6448"/>
                </a:ln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lnTo>
                  <a:pt x="18966" y="10800"/>
                </a:lnTo>
                <a:lnTo>
                  <a:pt x="17312" y="10800"/>
                </a:lnTo>
                <a:lnTo>
                  <a:pt x="17312" y="17989"/>
                </a:lnTo>
                <a:lnTo>
                  <a:pt x="6693" y="17989"/>
                </a:lnTo>
                <a:lnTo>
                  <a:pt x="6693" y="10800"/>
                </a:lnTo>
                <a:lnTo>
                  <a:pt x="5040" y="10800"/>
                </a:lnTo>
                <a:close/>
              </a:path>
              <a:path fill="darkenLess" w="24005" h="21600">
                <a:moveTo>
                  <a:pt x="14579" y="6448"/>
                </a:move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close/>
              </a:path>
              <a:path fill="darkenLess" w="24005" h="21600">
                <a:moveTo>
                  <a:pt x="11080" y="14299"/>
                </a:moveTo>
                <a:lnTo>
                  <a:pt x="12925" y="14299"/>
                </a:lnTo>
                <a:lnTo>
                  <a:pt x="12925" y="17989"/>
                </a:lnTo>
                <a:lnTo>
                  <a:pt x="17312" y="17989"/>
                </a:lnTo>
                <a:lnTo>
                  <a:pt x="17312" y="10800"/>
                </a:lnTo>
                <a:lnTo>
                  <a:pt x="6693" y="10800"/>
                </a:lnTo>
                <a:lnTo>
                  <a:pt x="6693" y="17989"/>
                </a:lnTo>
                <a:lnTo>
                  <a:pt x="11080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7858080" y="6143760"/>
            <a:ext cx="714600" cy="714240"/>
          </a:xfrm>
          <a:custGeom>
            <a:avLst/>
            <a:gdLst>
              <a:gd name="textAreaLeft" fmla="*/ 46080 w 714600"/>
              <a:gd name="textAreaRight" fmla="*/ 668520 w 71460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7493"/>
                </a:moveTo>
                <a:lnTo>
                  <a:pt x="7307" y="7493"/>
                </a:lnTo>
                <a:lnTo>
                  <a:pt x="7307" y="12828"/>
                </a:lnTo>
                <a:cubicBezTo>
                  <a:pt x="7307" y="13751"/>
                  <a:pt x="8107" y="14482"/>
                  <a:pt x="9143" y="14482"/>
                </a:cubicBezTo>
                <a:lnTo>
                  <a:pt x="10805" y="14482"/>
                </a:lnTo>
                <a:cubicBezTo>
                  <a:pt x="11841" y="14482"/>
                  <a:pt x="12642" y="13751"/>
                  <a:pt x="12642" y="12828"/>
                </a:cubicBezTo>
                <a:lnTo>
                  <a:pt x="12642" y="7493"/>
                </a:lnTo>
                <a:lnTo>
                  <a:pt x="10805" y="7493"/>
                </a:lnTo>
                <a:lnTo>
                  <a:pt x="14313" y="3985"/>
                </a:lnTo>
                <a:lnTo>
                  <a:pt x="17986" y="7493"/>
                </a:lnTo>
                <a:lnTo>
                  <a:pt x="16150" y="7493"/>
                </a:lnTo>
                <a:lnTo>
                  <a:pt x="16150" y="12828"/>
                </a:lnTo>
                <a:cubicBezTo>
                  <a:pt x="16150" y="15596"/>
                  <a:pt x="13573" y="18155"/>
                  <a:pt x="10805" y="18155"/>
                </a:cubicBezTo>
                <a:lnTo>
                  <a:pt x="9143" y="18155"/>
                </a:lnTo>
                <a:cubicBezTo>
                  <a:pt x="6375" y="18155"/>
                  <a:pt x="3799" y="15596"/>
                  <a:pt x="3799" y="12828"/>
                </a:cubicBez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1" descr="3.gif"/>
          <p:cNvPicPr/>
          <p:nvPr/>
        </p:nvPicPr>
        <p:blipFill>
          <a:blip r:embed="rId2"/>
          <a:stretch/>
        </p:blipFill>
        <p:spPr>
          <a:xfrm>
            <a:off x="2071800" y="714240"/>
            <a:ext cx="4714920" cy="5214960"/>
          </a:xfrm>
          <a:prstGeom prst="rect">
            <a:avLst/>
          </a:prstGeom>
          <a:ln w="0">
            <a:noFill/>
          </a:ln>
        </p:spPr>
      </p:pic>
      <p:sp>
        <p:nvSpPr>
          <p:cNvPr id="430" name="Управляющая кнопка: домой 2">
            <a:hlinkClick r:id="rId3" action="ppaction://hlinksldjump"/>
          </p:cNvPr>
          <p:cNvSpPr/>
          <p:nvPr/>
        </p:nvSpPr>
        <p:spPr>
          <a:xfrm>
            <a:off x="7858080" y="542916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12146" y="3837"/>
                </a:moveTo>
                <a:lnTo>
                  <a:pt x="14722" y="6448"/>
                </a:lnTo>
                <a:lnTo>
                  <a:pt x="14722" y="4707"/>
                </a:lnTo>
                <a:lnTo>
                  <a:pt x="16498" y="4707"/>
                </a:lnTo>
                <a:lnTo>
                  <a:pt x="16498" y="8224"/>
                </a:lnTo>
                <a:lnTo>
                  <a:pt x="19109" y="10800"/>
                </a:lnTo>
                <a:lnTo>
                  <a:pt x="17455" y="10800"/>
                </a:lnTo>
                <a:lnTo>
                  <a:pt x="17455" y="17989"/>
                </a:lnTo>
                <a:lnTo>
                  <a:pt x="6836" y="17989"/>
                </a:lnTo>
                <a:lnTo>
                  <a:pt x="6836" y="10800"/>
                </a:lnTo>
                <a:lnTo>
                  <a:pt x="5183" y="10800"/>
                </a:lnTo>
                <a:close/>
              </a:path>
              <a:path fill="darkenLess" w="24292" h="21600">
                <a:moveTo>
                  <a:pt x="14722" y="6448"/>
                </a:moveTo>
                <a:lnTo>
                  <a:pt x="14722" y="4707"/>
                </a:lnTo>
                <a:lnTo>
                  <a:pt x="16498" y="4707"/>
                </a:lnTo>
                <a:lnTo>
                  <a:pt x="16498" y="8224"/>
                </a:lnTo>
                <a:close/>
              </a:path>
              <a:path fill="darkenLess" w="24292" h="21600">
                <a:moveTo>
                  <a:pt x="11223" y="14299"/>
                </a:moveTo>
                <a:lnTo>
                  <a:pt x="13068" y="14299"/>
                </a:lnTo>
                <a:lnTo>
                  <a:pt x="13068" y="17989"/>
                </a:lnTo>
                <a:lnTo>
                  <a:pt x="17455" y="17989"/>
                </a:lnTo>
                <a:lnTo>
                  <a:pt x="17455" y="10800"/>
                </a:lnTo>
                <a:lnTo>
                  <a:pt x="6836" y="10800"/>
                </a:lnTo>
                <a:lnTo>
                  <a:pt x="6836" y="17989"/>
                </a:lnTo>
                <a:lnTo>
                  <a:pt x="11223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Управляющая кнопка: возврат 3">
            <a:hlinkClick r:id="" action="ppaction://hlinkshowjump?jump=previousslide"/>
          </p:cNvPr>
          <p:cNvSpPr/>
          <p:nvPr/>
        </p:nvSpPr>
        <p:spPr>
          <a:xfrm>
            <a:off x="7900920" y="6043680"/>
            <a:ext cx="571680" cy="64296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642960"/>
              <a:gd name="textAreaBottom" fmla="*/ 606240 h 642960"/>
            </a:gdLst>
            <a:ahLst/>
            <a:rect l="textAreaLeft" t="textAreaTop" r="textAreaRight" b="textAreaBottom"/>
            <a:pathLst>
              <a:path w="21600" h="24292">
                <a:moveTo>
                  <a:pt x="0" y="0"/>
                </a:moveTo>
                <a:lnTo>
                  <a:pt x="21600" y="0"/>
                </a:lnTo>
                <a:lnTo>
                  <a:pt x="21600" y="24292"/>
                </a:lnTo>
                <a:lnTo>
                  <a:pt x="0" y="24292"/>
                </a:lnTo>
                <a:close/>
              </a:path>
              <a:path fill="lightenLess" w="21600" h="242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2">
                <a:moveTo>
                  <a:pt x="21600" y="0"/>
                </a:moveTo>
                <a:lnTo>
                  <a:pt x="21600" y="24292"/>
                </a:lnTo>
                <a:lnTo>
                  <a:pt x="20200" y="22892"/>
                </a:lnTo>
                <a:lnTo>
                  <a:pt x="20200" y="1400"/>
                </a:lnTo>
                <a:close/>
              </a:path>
              <a:path fill="darkenLess" w="21600" h="24292">
                <a:moveTo>
                  <a:pt x="21600" y="24292"/>
                </a:moveTo>
                <a:lnTo>
                  <a:pt x="0" y="24292"/>
                </a:lnTo>
                <a:lnTo>
                  <a:pt x="1400" y="22892"/>
                </a:lnTo>
                <a:lnTo>
                  <a:pt x="20200" y="22892"/>
                </a:lnTo>
                <a:close/>
              </a:path>
              <a:path fill="lighten" w="21600" h="24292">
                <a:moveTo>
                  <a:pt x="0" y="242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2"/>
                </a:lnTo>
                <a:close/>
              </a:path>
              <a:path fill="darken" w="21600" h="24292">
                <a:moveTo>
                  <a:pt x="3794" y="8838"/>
                </a:moveTo>
                <a:lnTo>
                  <a:pt x="7301" y="8838"/>
                </a:lnTo>
                <a:lnTo>
                  <a:pt x="7301" y="14174"/>
                </a:lnTo>
                <a:cubicBezTo>
                  <a:pt x="7301" y="15096"/>
                  <a:pt x="8102" y="15827"/>
                  <a:pt x="9138" y="15827"/>
                </a:cubicBezTo>
                <a:lnTo>
                  <a:pt x="10800" y="15827"/>
                </a:lnTo>
                <a:cubicBezTo>
                  <a:pt x="11836" y="15827"/>
                  <a:pt x="12636" y="15096"/>
                  <a:pt x="12636" y="14174"/>
                </a:cubicBezTo>
                <a:lnTo>
                  <a:pt x="12636" y="8838"/>
                </a:lnTo>
                <a:lnTo>
                  <a:pt x="10800" y="8838"/>
                </a:lnTo>
                <a:lnTo>
                  <a:pt x="14308" y="5331"/>
                </a:lnTo>
                <a:lnTo>
                  <a:pt x="17981" y="8838"/>
                </a:lnTo>
                <a:lnTo>
                  <a:pt x="16144" y="8838"/>
                </a:lnTo>
                <a:lnTo>
                  <a:pt x="16144" y="14174"/>
                </a:lnTo>
                <a:cubicBezTo>
                  <a:pt x="16144" y="16941"/>
                  <a:pt x="13568" y="19500"/>
                  <a:pt x="10800" y="19500"/>
                </a:cubicBezTo>
                <a:lnTo>
                  <a:pt x="9138" y="19500"/>
                </a:lnTo>
                <a:cubicBezTo>
                  <a:pt x="6370" y="19500"/>
                  <a:pt x="3794" y="16941"/>
                  <a:pt x="3794" y="14174"/>
                </a:cubicBez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4.gif"/>
          <p:cNvPicPr/>
          <p:nvPr/>
        </p:nvPicPr>
        <p:blipFill>
          <a:blip r:embed="rId2"/>
          <a:stretch/>
        </p:blipFill>
        <p:spPr>
          <a:xfrm>
            <a:off x="1785960" y="1214280"/>
            <a:ext cx="5786280" cy="4357800"/>
          </a:xfrm>
          <a:prstGeom prst="rect">
            <a:avLst/>
          </a:prstGeom>
          <a:ln w="0">
            <a:noFill/>
          </a:ln>
        </p:spPr>
      </p:pic>
      <p:sp>
        <p:nvSpPr>
          <p:cNvPr id="434" name="Управляющая кнопка: домой 2">
            <a:hlinkClick r:id="rId3" action="ppaction://hlinksldjump"/>
          </p:cNvPr>
          <p:cNvSpPr/>
          <p:nvPr/>
        </p:nvSpPr>
        <p:spPr>
          <a:xfrm>
            <a:off x="8001000" y="600084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10800" y="5631"/>
                </a:moveTo>
                <a:lnTo>
                  <a:pt x="13376" y="8242"/>
                </a:lnTo>
                <a:lnTo>
                  <a:pt x="13376" y="6501"/>
                </a:lnTo>
                <a:lnTo>
                  <a:pt x="15152" y="6501"/>
                </a:lnTo>
                <a:lnTo>
                  <a:pt x="15152" y="10018"/>
                </a:lnTo>
                <a:lnTo>
                  <a:pt x="17763" y="12594"/>
                </a:lnTo>
                <a:lnTo>
                  <a:pt x="16109" y="12594"/>
                </a:lnTo>
                <a:lnTo>
                  <a:pt x="16109" y="19783"/>
                </a:lnTo>
                <a:lnTo>
                  <a:pt x="5491" y="19783"/>
                </a:lnTo>
                <a:lnTo>
                  <a:pt x="5491" y="12594"/>
                </a:lnTo>
                <a:lnTo>
                  <a:pt x="3837" y="12594"/>
                </a:lnTo>
                <a:close/>
              </a:path>
              <a:path fill="darkenLess" w="21600" h="25188">
                <a:moveTo>
                  <a:pt x="13376" y="8242"/>
                </a:moveTo>
                <a:lnTo>
                  <a:pt x="13376" y="6501"/>
                </a:lnTo>
                <a:lnTo>
                  <a:pt x="15152" y="6501"/>
                </a:lnTo>
                <a:lnTo>
                  <a:pt x="15152" y="10018"/>
                </a:lnTo>
                <a:close/>
              </a:path>
              <a:path fill="darkenLess" w="21600" h="25188">
                <a:moveTo>
                  <a:pt x="9877" y="16093"/>
                </a:moveTo>
                <a:lnTo>
                  <a:pt x="11723" y="16093"/>
                </a:lnTo>
                <a:lnTo>
                  <a:pt x="11723" y="19783"/>
                </a:lnTo>
                <a:lnTo>
                  <a:pt x="16109" y="19783"/>
                </a:lnTo>
                <a:lnTo>
                  <a:pt x="16109" y="12594"/>
                </a:lnTo>
                <a:lnTo>
                  <a:pt x="5491" y="12594"/>
                </a:lnTo>
                <a:lnTo>
                  <a:pt x="5491" y="19783"/>
                </a:lnTo>
                <a:lnTo>
                  <a:pt x="9877" y="19783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2" descr="9.gif"/>
          <p:cNvPicPr/>
          <p:nvPr/>
        </p:nvPicPr>
        <p:blipFill>
          <a:blip r:embed="rId2"/>
          <a:stretch/>
        </p:blipFill>
        <p:spPr>
          <a:xfrm>
            <a:off x="1571760" y="1000080"/>
            <a:ext cx="5302080" cy="4857840"/>
          </a:xfrm>
          <a:prstGeom prst="rect">
            <a:avLst/>
          </a:prstGeom>
          <a:ln w="0">
            <a:noFill/>
          </a:ln>
        </p:spPr>
      </p:pic>
      <p:sp>
        <p:nvSpPr>
          <p:cNvPr id="437" name="Управляющая кнопка: домой 3">
            <a:hlinkClick r:id="rId3" action="ppaction://hlinksldjump"/>
          </p:cNvPr>
          <p:cNvSpPr/>
          <p:nvPr/>
        </p:nvSpPr>
        <p:spPr>
          <a:xfrm>
            <a:off x="8143920" y="600084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extBox 2" descr=""/>
          <p:cNvPicPr/>
          <p:nvPr/>
        </p:nvPicPr>
        <p:blipFill>
          <a:blip r:embed="rId1"/>
          <a:stretch/>
        </p:blipFill>
        <p:spPr>
          <a:xfrm>
            <a:off x="-176040" y="646200"/>
            <a:ext cx="9350280" cy="510228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1" descr="Улыбка - рожица.wmf"/>
          <p:cNvPicPr/>
          <p:nvPr/>
        </p:nvPicPr>
        <p:blipFill>
          <a:blip r:embed="rId1"/>
          <a:stretch/>
        </p:blipFill>
        <p:spPr>
          <a:xfrm>
            <a:off x="2357280" y="1571760"/>
            <a:ext cx="4316400" cy="371628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ebf1"/>
            </a:gs>
            <a:gs pos="100000">
              <a:srgbClr val="006699"/>
            </a:gs>
          </a:gsLst>
          <a:lin ang="15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Прямоугольник 2" descr=""/>
          <p:cNvPicPr/>
          <p:nvPr/>
        </p:nvPicPr>
        <p:blipFill>
          <a:blip r:embed="rId1"/>
          <a:stretch/>
        </p:blipFill>
        <p:spPr>
          <a:xfrm>
            <a:off x="706320" y="2792520"/>
            <a:ext cx="7364520" cy="153504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e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6"/>
          <p:cNvSpPr/>
          <p:nvPr/>
        </p:nvSpPr>
        <p:spPr>
          <a:xfrm>
            <a:off x="2857680" y="71424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TextBox 7"/>
          <p:cNvGrpSpPr/>
          <p:nvPr/>
        </p:nvGrpSpPr>
        <p:grpSpPr>
          <a:xfrm>
            <a:off x="1000080" y="1536840"/>
            <a:ext cx="7278840" cy="4383000"/>
            <a:chOff x="1000080" y="1536840"/>
            <a:chExt cx="7278840" cy="4383000"/>
          </a:xfrm>
        </p:grpSpPr>
        <p:pic>
          <p:nvPicPr>
            <p:cNvPr id="371" name="TextBox 7" descr=""/>
            <p:cNvPicPr/>
            <p:nvPr/>
          </p:nvPicPr>
          <p:blipFill>
            <a:blip r:embed="rId1"/>
            <a:stretch/>
          </p:blipFill>
          <p:spPr>
            <a:xfrm>
              <a:off x="1000080" y="1536840"/>
              <a:ext cx="7278840" cy="43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214280" y="1643040"/>
              <a:ext cx="700092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труктура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Факторы эволюции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став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и структура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Биосфера как экосистем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ровни организации живых организм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вещест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оверь себ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4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Схема 2" descr=""/>
          <p:cNvPicPr/>
          <p:nvPr/>
        </p:nvPicPr>
        <p:blipFill>
          <a:blip r:embed="rId1"/>
          <a:stretch/>
        </p:blipFill>
        <p:spPr>
          <a:xfrm>
            <a:off x="1292400" y="1633680"/>
            <a:ext cx="6510240" cy="41446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3"/>
          <p:cNvSpPr/>
          <p:nvPr/>
        </p:nvSpPr>
        <p:spPr>
          <a:xfrm>
            <a:off x="264312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би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extBox 1" descr=""/>
          <p:cNvPicPr/>
          <p:nvPr/>
        </p:nvPicPr>
        <p:blipFill>
          <a:blip r:embed="rId1"/>
          <a:stretch/>
        </p:blipFill>
        <p:spPr>
          <a:xfrm>
            <a:off x="1847880" y="208080"/>
            <a:ext cx="6510240" cy="85860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с двумя вырезанными противолежащими углами 17"/>
          <p:cNvSpPr/>
          <p:nvPr/>
        </p:nvSpPr>
        <p:spPr>
          <a:xfrm>
            <a:off x="6429240" y="1643040"/>
            <a:ext cx="2071800" cy="1285920"/>
          </a:xfrm>
          <a:custGeom>
            <a:avLst/>
            <a:gdLst/>
            <a:ahLst/>
            <a:rect l="l" t="t" r="r" b="b"/>
            <a:pathLst>
              <a:path w="2071688" h="1285875">
                <a:moveTo>
                  <a:pt x="0" y="0"/>
                </a:moveTo>
                <a:lnTo>
                  <a:pt x="1857371" y="0"/>
                </a:lnTo>
                <a:lnTo>
                  <a:pt x="2071688" y="214317"/>
                </a:lnTo>
                <a:lnTo>
                  <a:pt x="2071688" y="1285875"/>
                </a:lnTo>
                <a:lnTo>
                  <a:pt x="2071688" y="1285875"/>
                </a:lnTo>
                <a:lnTo>
                  <a:pt x="214317" y="1285875"/>
                </a:lnTo>
                <a:lnTo>
                  <a:pt x="0" y="107155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с двумя вырезанными противолежащими углами 18"/>
          <p:cNvSpPr/>
          <p:nvPr/>
        </p:nvSpPr>
        <p:spPr>
          <a:xfrm>
            <a:off x="1143000" y="1571760"/>
            <a:ext cx="2143080" cy="1357200"/>
          </a:xfrm>
          <a:custGeom>
            <a:avLst/>
            <a:gdLst/>
            <a:ahLst/>
            <a:rect l="l" t="t" r="r" b="b"/>
            <a:pathLst>
              <a:path w="2143125" h="1357313">
                <a:moveTo>
                  <a:pt x="0" y="0"/>
                </a:moveTo>
                <a:lnTo>
                  <a:pt x="1916902" y="0"/>
                </a:lnTo>
                <a:lnTo>
                  <a:pt x="2143125" y="226223"/>
                </a:lnTo>
                <a:lnTo>
                  <a:pt x="2143125" y="1357313"/>
                </a:lnTo>
                <a:lnTo>
                  <a:pt x="2143125" y="1357313"/>
                </a:lnTo>
                <a:lnTo>
                  <a:pt x="226223" y="1357313"/>
                </a:lnTo>
                <a:lnTo>
                  <a:pt x="0" y="11310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с двумя вырезанными противолежащими углами 19"/>
          <p:cNvSpPr/>
          <p:nvPr/>
        </p:nvSpPr>
        <p:spPr>
          <a:xfrm>
            <a:off x="3500280" y="5143680"/>
            <a:ext cx="2571840" cy="1143000"/>
          </a:xfrm>
          <a:custGeom>
            <a:avLst/>
            <a:gdLst/>
            <a:ahLst/>
            <a:rect l="l" t="t" r="r" b="b"/>
            <a:pathLst>
              <a:path w="2571750" h="1143000">
                <a:moveTo>
                  <a:pt x="0" y="0"/>
                </a:moveTo>
                <a:lnTo>
                  <a:pt x="2381246" y="0"/>
                </a:lnTo>
                <a:lnTo>
                  <a:pt x="2571750" y="190504"/>
                </a:lnTo>
                <a:lnTo>
                  <a:pt x="2571750" y="1143000"/>
                </a:lnTo>
                <a:lnTo>
                  <a:pt x="2571750" y="1143000"/>
                </a:lnTo>
                <a:lnTo>
                  <a:pt x="190504" y="1143000"/>
                </a:lnTo>
                <a:lnTo>
                  <a:pt x="0" y="95249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Шестиугольник 20"/>
          <p:cNvSpPr/>
          <p:nvPr/>
        </p:nvSpPr>
        <p:spPr>
          <a:xfrm>
            <a:off x="3286080" y="2857680"/>
            <a:ext cx="2786040" cy="1071360"/>
          </a:xfrm>
          <a:prstGeom prst="hexagon">
            <a:avLst>
              <a:gd name="adj" fmla="val 25005"/>
              <a:gd name="vf" fmla="val 115470"/>
            </a:avLst>
          </a:prstGeom>
          <a:gradFill rotWithShape="0">
            <a:gsLst>
              <a:gs pos="0">
                <a:srgbClr val="ebb2a4"/>
              </a:gs>
              <a:gs pos="100000">
                <a:srgbClr val="faeae7"/>
              </a:gs>
            </a:gsLst>
            <a:lin ang="16200000"/>
          </a:gradFill>
          <a:ln w="9360">
            <a:solidFill>
              <a:srgbClr val="96410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трелка вправо с вырезом 27"/>
          <p:cNvSpPr/>
          <p:nvPr/>
        </p:nvSpPr>
        <p:spPr>
          <a:xfrm rot="2170200">
            <a:off x="3274920" y="1881000"/>
            <a:ext cx="1533600" cy="744480"/>
          </a:xfrm>
          <a:custGeom>
            <a:avLst/>
            <a:gdLst>
              <a:gd name="textAreaLeft" fmla="*/ 176040 w 1533600"/>
              <a:gd name="textAreaRight" fmla="*/ 1357560 w 1533600"/>
              <a:gd name="textAreaTop" fmla="*/ 196200 h 744480"/>
              <a:gd name="textAreaBottom" fmla="*/ 548280 h 744480"/>
            </a:gdLst>
            <a:ahLst/>
            <a:rect l="textAreaLeft" t="textAreaTop" r="textAreaRight" b="textAreaBottom"/>
            <a:pathLst>
              <a:path w="21600" h="21600">
                <a:moveTo>
                  <a:pt x="0" y="5692"/>
                </a:moveTo>
                <a:lnTo>
                  <a:pt x="16357" y="5692"/>
                </a:lnTo>
                <a:lnTo>
                  <a:pt x="16357" y="0"/>
                </a:lnTo>
                <a:lnTo>
                  <a:pt x="21600" y="10800"/>
                </a:lnTo>
                <a:lnTo>
                  <a:pt x="16357" y="21600"/>
                </a:lnTo>
                <a:lnTo>
                  <a:pt x="16357" y="15908"/>
                </a:lnTo>
                <a:lnTo>
                  <a:pt x="0" y="15908"/>
                </a:lnTo>
                <a:lnTo>
                  <a:pt x="2480" y="10800"/>
                </a:lnTo>
                <a:lnTo>
                  <a:pt x="0" y="5692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трелка вправо с вырезом 28"/>
          <p:cNvSpPr/>
          <p:nvPr/>
        </p:nvSpPr>
        <p:spPr>
          <a:xfrm rot="8304600">
            <a:off x="4903560" y="1881360"/>
            <a:ext cx="1563480" cy="691920"/>
          </a:xfrm>
          <a:custGeom>
            <a:avLst/>
            <a:gdLst>
              <a:gd name="textAreaLeft" fmla="*/ 172800 w 1563480"/>
              <a:gd name="textAreaRight" fmla="*/ 1390680 w 1563480"/>
              <a:gd name="textAreaTop" fmla="*/ 172800 h 691920"/>
              <a:gd name="textAreaBottom" fmla="*/ 519120 h 691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19" y="5400"/>
                </a:lnTo>
                <a:lnTo>
                  <a:pt x="16819" y="0"/>
                </a:lnTo>
                <a:lnTo>
                  <a:pt x="21600" y="10800"/>
                </a:lnTo>
                <a:lnTo>
                  <a:pt x="16819" y="21600"/>
                </a:lnTo>
                <a:lnTo>
                  <a:pt x="16819" y="16200"/>
                </a:lnTo>
                <a:lnTo>
                  <a:pt x="0" y="16200"/>
                </a:lnTo>
                <a:lnTo>
                  <a:pt x="239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0"/>
          <p:cNvSpPr/>
          <p:nvPr/>
        </p:nvSpPr>
        <p:spPr>
          <a:xfrm>
            <a:off x="1428840" y="19288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1"/>
          <p:cNvSpPr/>
          <p:nvPr/>
        </p:nvSpPr>
        <p:spPr>
          <a:xfrm>
            <a:off x="6643800" y="20001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3"/>
          <p:cNvSpPr/>
          <p:nvPr/>
        </p:nvSpPr>
        <p:spPr>
          <a:xfrm>
            <a:off x="3571920" y="53578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волю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4"/>
          <p:cNvSpPr/>
          <p:nvPr/>
        </p:nvSpPr>
        <p:spPr>
          <a:xfrm>
            <a:off x="3786120" y="31431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вправо с вырезом 36"/>
          <p:cNvSpPr/>
          <p:nvPr/>
        </p:nvSpPr>
        <p:spPr>
          <a:xfrm rot="16200000">
            <a:off x="4357800" y="4143600"/>
            <a:ext cx="1071360" cy="785520"/>
          </a:xfrm>
          <a:custGeom>
            <a:avLst/>
            <a:gdLst>
              <a:gd name="textAreaLeft" fmla="*/ 196200 w 1071360"/>
              <a:gd name="textAreaRight" fmla="*/ 875160 w 1071360"/>
              <a:gd name="textAreaTop" fmla="*/ 196200 h 785520"/>
              <a:gd name="textAreaBottom" fmla="*/ 589320 h 785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680" y="5400"/>
                </a:lnTo>
                <a:lnTo>
                  <a:pt x="13680" y="0"/>
                </a:lnTo>
                <a:lnTo>
                  <a:pt x="21600" y="10800"/>
                </a:lnTo>
                <a:lnTo>
                  <a:pt x="13680" y="21600"/>
                </a:lnTo>
                <a:lnTo>
                  <a:pt x="13680" y="16200"/>
                </a:lnTo>
                <a:lnTo>
                  <a:pt x="0" y="16200"/>
                </a:lnTo>
                <a:lnTo>
                  <a:pt x="39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4287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extBox 1" descr=""/>
          <p:cNvPicPr/>
          <p:nvPr/>
        </p:nvPicPr>
        <p:blipFill>
          <a:blip r:embed="rId1"/>
          <a:stretch/>
        </p:blipFill>
        <p:spPr>
          <a:xfrm>
            <a:off x="2060640" y="500040"/>
            <a:ext cx="5960880" cy="1219320"/>
          </a:xfrm>
          <a:prstGeom prst="rect">
            <a:avLst/>
          </a:prstGeom>
          <a:ln w="0">
            <a:noFill/>
          </a:ln>
        </p:spPr>
      </p:pic>
      <p:pic>
        <p:nvPicPr>
          <p:cNvPr id="392" name="Схема 18" descr=""/>
          <p:cNvPicPr/>
          <p:nvPr/>
        </p:nvPicPr>
        <p:blipFill>
          <a:blip r:embed="rId2"/>
          <a:stretch/>
        </p:blipFill>
        <p:spPr>
          <a:xfrm>
            <a:off x="858960" y="1573200"/>
            <a:ext cx="7924680" cy="43578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d0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TextBox 1"/>
          <p:cNvGrpSpPr/>
          <p:nvPr/>
        </p:nvGrpSpPr>
        <p:grpSpPr>
          <a:xfrm>
            <a:off x="768240" y="987480"/>
            <a:ext cx="7747200" cy="5443560"/>
            <a:chOff x="768240" y="987480"/>
            <a:chExt cx="7747200" cy="5443560"/>
          </a:xfrm>
        </p:grpSpPr>
        <p:pic>
          <p:nvPicPr>
            <p:cNvPr id="395" name="TextBox 1" descr=""/>
            <p:cNvPicPr/>
            <p:nvPr/>
          </p:nvPicPr>
          <p:blipFill>
            <a:blip r:embed="rId1"/>
            <a:stretch/>
          </p:blipFill>
          <p:spPr>
            <a:xfrm>
              <a:off x="768240" y="987480"/>
              <a:ext cx="7747200" cy="54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85880" y="1000080"/>
              <a:ext cx="771516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Биогенное вещество, создается в процессе жизнедеятельности организма (газы, каменный уголь, нефть и т.д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Косное вещество, образующееся без участия организма (основные породы, лава вулканов, метеориты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Биокосное, представляет собой общий результат жизнедеятельности организма и абиогенных процессов  (почв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80a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Схема 5" descr=""/>
          <p:cNvPicPr/>
          <p:nvPr/>
        </p:nvPicPr>
        <p:blipFill>
          <a:blip r:embed="rId1"/>
          <a:stretch/>
        </p:blipFill>
        <p:spPr>
          <a:xfrm>
            <a:off x="212760" y="1852560"/>
            <a:ext cx="8931240" cy="4657680"/>
          </a:xfrm>
          <a:prstGeom prst="rect">
            <a:avLst/>
          </a:prstGeom>
          <a:ln w="0">
            <a:noFill/>
          </a:ln>
        </p:spPr>
      </p:pic>
      <p:pic>
        <p:nvPicPr>
          <p:cNvPr id="399" name="TextBox 3" descr=""/>
          <p:cNvPicPr/>
          <p:nvPr/>
        </p:nvPicPr>
        <p:blipFill>
          <a:blip r:embed="rId2"/>
          <a:stretch/>
        </p:blipFill>
        <p:spPr>
          <a:xfrm>
            <a:off x="158760" y="115920"/>
            <a:ext cx="8624880" cy="191448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928800" y="64296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текст учебника, заполните таблиц (стр. 2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214280" y="1428840"/>
          <a:ext cx="6572520" cy="4429080"/>
        </p:xfrm>
        <a:graphic>
          <a:graphicData uri="http://schemas.openxmlformats.org/drawingml/2006/table">
            <a:tbl>
              <a:tblPr/>
              <a:tblGrid>
                <a:gridCol w="857520"/>
                <a:gridCol w="1714320"/>
                <a:gridCol w="1285920"/>
                <a:gridCol w="1400040"/>
                <a:gridCol w="1314720"/>
              </a:tblGrid>
              <a:tr h="1265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оболочек Зем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тм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идр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т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</a:tr>
              <a:tr h="1582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</a:tr>
              <a:tr h="1581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чение для биологических проце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80a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2786040" y="57168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интер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071720" y="1285920"/>
            <a:ext cx="72864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ая масса живых организмов оценивают в 2,43 * 10</a:t>
            </a:r>
            <a:r>
              <a:rPr b="0" lang="ru-RU" sz="2800" spc="-1" strike="noStrike" baseline="50000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уше: 99,2% растения и 0,8% - животные и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кеане: 6,3% - растения и 93,7 % –животные и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1% - видовое разнообразие растений, но их биомасса составляет – 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6 видов – беспозвоночные и только 4% - позвоночные, но их вклад в биомассу всего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олнце 4"/>
          <p:cNvSpPr/>
          <p:nvPr/>
        </p:nvSpPr>
        <p:spPr>
          <a:xfrm>
            <a:off x="7143840" y="214200"/>
            <a:ext cx="1143000" cy="1071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1:17:21Z</dcterms:created>
  <dc:creator>аа</dc:creator>
  <dc:description/>
  <dc:language>en-US</dc:language>
  <cp:lastModifiedBy>LEGION</cp:lastModifiedBy>
  <dcterms:modified xsi:type="dcterms:W3CDTF">2015-01-05T08:30:05Z</dcterms:modified>
  <cp:revision>181</cp:revision>
  <dc:subject/>
  <dc:title>Слайд 1</dc:title>
</cp:coreProperties>
</file>