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23C-19EB-4340-9A42-D7DE11F30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И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B59A-C22E-4DDE-B410-994E23A803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8878-7E97-4050-9C52-93F6163C97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с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фосф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60A-A331-485F-8594-50FAFAC68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6D1A-71AB-47C6-9C36-EEC657EBCD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рганизмы поглощают диоксид углерода из атмосф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путем связанный углерод возвращается в атмосфер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ышат организ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рушаются полез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ют микроорганиз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ют аз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ют реак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ения и вос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E57C-A6A7-4327-9C5F-E9526A4424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волюци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как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F21-1A8F-4508-9BE2-80837450D3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нное вещество, создается в процессе жизнедеятельности организма (газы, каменный уголь, нефть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ное вещество, образующееся без участия организма (основные породы, лава вулканов, метеори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косное, представляет собой общий результат жизнедеятельности организма и абиогенных процессов  (поч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A99-7B56-4DB9-8FFF-FD046358D2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 представляет собой совокупность больших и малых экосистем или всех биоценозов Земли 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D37F-E186-40B8-B8C6-35384953D4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5663-5D57-4DB6-A68A-C97D17F07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14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1E3-E064-4287-A261-BD5D9793E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4E6-B0EA-4613-9418-F992C746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F5B-2E03-4B45-9760-EDFB8647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3EC-60C5-4748-B771-E887627F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316-B40A-4D69-8C2C-CA8EF78E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54D6-BEC4-420A-A37A-384F7961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6DB5-B0B1-452A-8C73-0C5FC069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CA26-0C3D-4484-ACDF-C0474D4F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5372-1068-4791-83D3-93C0C80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4EF4-BF60-4DD0-821A-CB626DF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8000-2B70-41DF-810B-857142D3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FA2-AD78-408F-A5EA-C24B3E9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864-015B-442E-A1D9-0AB6EFF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4F00-563B-43CF-806C-6957291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09D8-CF33-4CBA-9377-1FBCF91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341E-8E56-4E0E-B3A8-B653BBFA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34D3-D841-4637-9667-107DF1BD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E3DC-AE1F-4D5A-97A5-39CB1260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79FE-7F64-4E65-A461-4876A512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1931-3710-4144-AC98-B73A37E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8B49-599A-42CE-91A8-F6E83B68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FD37-7974-40B7-8245-C74A128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9C1E-485F-426E-ABE8-F7DBBA7C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815-807F-42C6-BF37-FE404097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7491-E300-407D-A53A-9A5D5461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399A-BB78-464B-AE36-454A3F8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23250-2090-4AF8-9E57-914F463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56F6-49A4-439A-A85F-FBE135A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3618-CC53-4E11-944D-C2BC3CA2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F960-296D-46D9-B48F-0801349A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A85E-4B5B-4BBF-9016-14D4D265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627C-7590-46CF-9DF2-3A432236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F683-39E9-420A-8958-7CA37809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210B-1828-4581-9051-B11A58FA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4AD-4DE4-4ED0-992D-A59480A7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88E4-4F12-4E63-A982-E4C07190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C38C-A1B5-42DE-97E7-FA31C116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F2D0-44BD-4C52-9D8D-9645AF8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0F5F-D9B9-493F-A945-3A8F219F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FED96-08E7-436D-AA5B-38DDE1E8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FAA3-3834-4099-A36D-4E27C47F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F973-398D-41A6-B28B-EA574074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231E-BDDE-490C-B2F4-EB0535B7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A733-769A-404B-A38B-8B86986E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5E78-D6E6-4F6E-B8E0-A1155BA2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030-B969-460C-8135-C09C107D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52FF-994D-4178-8554-9F057C2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E444-7F39-4737-B17F-F6F3ABD6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12917-1EB4-470F-9E48-35C076D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F522-C9C7-41B5-9769-301CD1C1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1529-7D5D-4A2C-9F7B-59C32FFB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ABB3-ED22-46C3-B2B8-8C007A1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29CD-7FC4-4C87-B444-5042547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2F3E0-7BB4-4FDE-8EB3-3BF034A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CE62-9138-46FB-B08B-53D1901A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102FC-D72C-4D7A-9E59-D10F54CC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67F-0BBA-4CCB-AF46-6F1F666B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73CC-F273-4038-8F1D-DBC95B40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071D-1860-4441-9E16-E2F41570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91D3D-916E-43B6-B898-75024491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09921-854E-433E-9777-E03C434E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D390-683C-4F05-AECE-DCB1A52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B9E5-284E-4933-AC58-7DD58ABF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B1321-A05B-4F00-B2BF-E0F4F69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BD4CE-C7AA-4E87-A2ED-9931E8A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8A3D0-F802-457A-B24E-5B794A3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F866-AADE-4B1F-9F9E-1A03089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4EA-F3F5-48D5-A159-DE55C43A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F100-5313-4204-BEB4-B90DE399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792E6-59F3-4C39-A4AD-5166B019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EFFB-1FCA-46D5-BEB9-3459E6E4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8B38-DE0A-4F48-B887-93B0A778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73AA-C325-4D6A-AFFF-F3C7401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B2795-554B-4217-839A-894EFC5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E6A8E-5AE0-402E-B486-E42483F0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C4A0-1EEB-4132-AC56-39DED9FA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7DC4-9910-4E11-8F09-90277181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7F599-49D1-4F6D-9D69-51E621B2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67D-1EA6-4CB1-9CDD-161AF232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957B5-D99A-45B2-9C3D-DB3EEA23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F4BBF-BBF9-4DD2-8A72-6F1FA2C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B9AF-6E89-4D7B-A9C8-499587C2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3A6B7-82C5-449E-82D3-E2F52279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6A61-0B45-416F-9AEE-E9F744F6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A707E-4D12-4AF8-B992-4621AE6D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A0382-815C-465B-A3F2-89475946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2AFBE-B0DD-408F-926B-D807638E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B1BA-B932-434E-8A61-A0F071A0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08C0F-B27A-4FB6-8A28-D9689ED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242-B39D-4ECD-BD7C-BDBB78C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04AA3-E18E-4E1D-AA02-2637E20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7797-6BC1-4A63-B2B1-DA681317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60105-718A-463F-88E2-04AAC66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988C-8080-4548-988D-7725752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865D2-EC23-4FCD-B68C-F7D61111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13A13-F1B7-4396-85BD-B6011CC2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16D59-4F40-4F25-8586-2BF1661D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6F71-874B-4DDA-9786-69E37E58E8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1670-7BD4-4238-9D7B-38CE029D2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3F6-F0B3-4849-B803-8DB6E6FFB31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63A8-6143-496B-8E41-BA28B3345E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5EA7-CF5C-4F25-9911-1BA59C65607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D2C-4A22-4AB3-A90C-06BE9BEF8B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A4B1-6678-449C-BC95-44C72188A70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4D63-608D-4341-AF00-CA33C9033BF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6136-CDF1-4C0B-B985-9B570C443E3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0A0-AE35-4AA4-9E46-1C5A27FC33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48D5-6706-4976-B4A5-F9C44352BBF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AA8-09AD-4132-B72C-8DA82FA93D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861F-BD40-41C0-9A07-610ADC13AA7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1609-B025-4F9E-8E4D-30C9029DE4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8DEB-B6F1-48D4-8E02-432F6F1463D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FE36-8739-4A85-B2E8-679C456261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143160" y="5378400"/>
            <a:ext cx="55008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мова М.Ф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биологии, ГОУ 4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Прямоугольник 14" descr=""/>
          <p:cNvPicPr/>
          <p:nvPr/>
        </p:nvPicPr>
        <p:blipFill>
          <a:blip r:embed="rId1"/>
          <a:stretch/>
        </p:blipFill>
        <p:spPr>
          <a:xfrm>
            <a:off x="523800" y="1536840"/>
            <a:ext cx="8334360" cy="30114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571760" y="2142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444600" y="853920"/>
            <a:ext cx="8040600" cy="5980320"/>
          </a:xfrm>
          <a:prstGeom prst="rect">
            <a:avLst/>
          </a:prstGeom>
          <a:ln w="0">
            <a:noFill/>
          </a:ln>
        </p:spPr>
      </p:pic>
      <p:sp>
        <p:nvSpPr>
          <p:cNvPr id="410" name="Управляющая кнопка: далее 26">
            <a:hlinkClick r:id="rId2" action="ppaction://hlinksldjump"/>
          </p:cNvPr>
          <p:cNvSpPr/>
          <p:nvPr/>
        </p:nvSpPr>
        <p:spPr>
          <a:xfrm>
            <a:off x="8501040" y="6143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5587"/>
                </a:moveTo>
                <a:lnTo>
                  <a:pt x="17806" y="12594"/>
                </a:lnTo>
                <a:lnTo>
                  <a:pt x="3794" y="196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3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1"/>
          <p:cNvGrpSpPr/>
          <p:nvPr/>
        </p:nvGrpSpPr>
        <p:grpSpPr>
          <a:xfrm>
            <a:off x="311040" y="1530360"/>
            <a:ext cx="8534520" cy="5010120"/>
            <a:chOff x="311040" y="1530360"/>
            <a:chExt cx="8534520" cy="5010120"/>
          </a:xfrm>
        </p:grpSpPr>
        <p:pic>
          <p:nvPicPr>
            <p:cNvPr id="413" name="TextBox 1" descr=""/>
            <p:cNvPicPr/>
            <p:nvPr/>
          </p:nvPicPr>
          <p:blipFill>
            <a:blip r:embed="rId1"/>
            <a:stretch/>
          </p:blipFill>
          <p:spPr>
            <a:xfrm>
              <a:off x="311040" y="1530360"/>
              <a:ext cx="853452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00040" y="1571760"/>
              <a:ext cx="8286840" cy="46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угле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аз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фосф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Управляющая кнопка: далее 4">
            <a:hlinkClick r:id="rId2" action="ppaction://hlinksldjump"/>
          </p:cNvPr>
          <p:cNvSpPr/>
          <p:nvPr/>
        </p:nvSpPr>
        <p:spPr>
          <a:xfrm>
            <a:off x="5000760" y="27860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Управляющая кнопка: далее 5">
            <a:hlinkClick r:id="rId3" action="ppaction://hlinksldjump"/>
          </p:cNvPr>
          <p:cNvSpPr/>
          <p:nvPr/>
        </p:nvSpPr>
        <p:spPr>
          <a:xfrm>
            <a:off x="5143680" y="56437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6">
            <a:hlinkClick r:id="rId4" action="ppaction://hlinksldjump"/>
          </p:cNvPr>
          <p:cNvSpPr/>
          <p:nvPr/>
        </p:nvSpPr>
        <p:spPr>
          <a:xfrm>
            <a:off x="5000760" y="3786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Управляющая кнопка: далее 7">
            <a:hlinkClick r:id="rId5" action="ppaction://hlinksldjump"/>
          </p:cNvPr>
          <p:cNvSpPr/>
          <p:nvPr/>
        </p:nvSpPr>
        <p:spPr>
          <a:xfrm>
            <a:off x="5000760" y="18572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"/>
          <p:cNvSpPr/>
          <p:nvPr/>
        </p:nvSpPr>
        <p:spPr>
          <a:xfrm>
            <a:off x="714240" y="28584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d4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 конец 10">
            <a:hlinkClick r:id="rId6" action="ppaction://hlinksldjump"/>
          </p:cNvPr>
          <p:cNvSpPr/>
          <p:nvPr/>
        </p:nvSpPr>
        <p:spPr>
          <a:xfrm>
            <a:off x="7429680" y="6357960"/>
            <a:ext cx="928440" cy="500040"/>
          </a:xfrm>
          <a:custGeom>
            <a:avLst/>
            <a:gdLst>
              <a:gd name="textAreaLeft" fmla="*/ 32400 w 928440"/>
              <a:gd name="textAreaRight" fmla="*/ 896040 w 928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092" h="21600">
                <a:moveTo>
                  <a:pt x="0" y="0"/>
                </a:moveTo>
                <a:lnTo>
                  <a:pt x="40092" y="0"/>
                </a:lnTo>
                <a:lnTo>
                  <a:pt x="40092" y="21600"/>
                </a:lnTo>
                <a:lnTo>
                  <a:pt x="0" y="21600"/>
                </a:lnTo>
                <a:close/>
              </a:path>
              <a:path fill="lightenLess" w="40092" h="21600">
                <a:moveTo>
                  <a:pt x="0" y="0"/>
                </a:moveTo>
                <a:lnTo>
                  <a:pt x="40092" y="0"/>
                </a:lnTo>
                <a:lnTo>
                  <a:pt x="38692" y="1400"/>
                </a:lnTo>
                <a:lnTo>
                  <a:pt x="1400" y="1400"/>
                </a:lnTo>
                <a:close/>
              </a:path>
              <a:path fill="darken" w="40092" h="21600">
                <a:moveTo>
                  <a:pt x="40092" y="0"/>
                </a:moveTo>
                <a:lnTo>
                  <a:pt x="40092" y="21600"/>
                </a:lnTo>
                <a:lnTo>
                  <a:pt x="38692" y="20200"/>
                </a:lnTo>
                <a:lnTo>
                  <a:pt x="38692" y="1400"/>
                </a:lnTo>
                <a:close/>
              </a:path>
              <a:path fill="darkenLess" w="40092" h="21600">
                <a:moveTo>
                  <a:pt x="40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2" y="20200"/>
                </a:lnTo>
                <a:close/>
              </a:path>
              <a:path fill="lighten" w="40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2" h="21600">
                <a:moveTo>
                  <a:pt x="23545" y="10800"/>
                </a:moveTo>
                <a:lnTo>
                  <a:pt x="13040" y="17806"/>
                </a:lnTo>
                <a:lnTo>
                  <a:pt x="13040" y="3794"/>
                </a:lnTo>
                <a:close/>
              </a:path>
              <a:path fill="darken" w="40092" h="21600">
                <a:moveTo>
                  <a:pt x="25390" y="3794"/>
                </a:moveTo>
                <a:lnTo>
                  <a:pt x="25390" y="17806"/>
                </a:lnTo>
                <a:lnTo>
                  <a:pt x="27053" y="17806"/>
                </a:lnTo>
                <a:lnTo>
                  <a:pt x="27053" y="3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1214280" y="149400"/>
            <a:ext cx="792972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домой 2">
            <a:hlinkClick r:id="rId2" action="ppaction://hlinksldjump"/>
          </p:cNvPr>
          <p:cNvSpPr/>
          <p:nvPr/>
        </p:nvSpPr>
        <p:spPr>
          <a:xfrm>
            <a:off x="571680" y="592920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2" descr="2.gif"/>
          <p:cNvPicPr/>
          <p:nvPr/>
        </p:nvPicPr>
        <p:blipFill>
          <a:blip r:embed="rId2"/>
          <a:stretch/>
        </p:blipFill>
        <p:spPr>
          <a:xfrm>
            <a:off x="1714680" y="357120"/>
            <a:ext cx="5045040" cy="600084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42916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3.gif"/>
          <p:cNvPicPr/>
          <p:nvPr/>
        </p:nvPicPr>
        <p:blipFill>
          <a:blip r:embed="rId2"/>
          <a:stretch/>
        </p:blipFill>
        <p:spPr>
          <a:xfrm>
            <a:off x="2071800" y="714240"/>
            <a:ext cx="4714920" cy="521496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домой 2">
            <a:hlinkClick r:id="rId3" action="ppaction://hlinksldjump"/>
          </p:cNvPr>
          <p:cNvSpPr/>
          <p:nvPr/>
        </p:nvSpPr>
        <p:spPr>
          <a:xfrm>
            <a:off x="7858080" y="542916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12146" y="3837"/>
                </a:moveTo>
                <a:lnTo>
                  <a:pt x="14722" y="6448"/>
                </a:ln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09" y="10800"/>
                </a:lnTo>
                <a:lnTo>
                  <a:pt x="17455" y="10800"/>
                </a:lnTo>
                <a:lnTo>
                  <a:pt x="17455" y="17989"/>
                </a:lnTo>
                <a:lnTo>
                  <a:pt x="6836" y="17989"/>
                </a:lnTo>
                <a:lnTo>
                  <a:pt x="6836" y="10800"/>
                </a:lnTo>
                <a:lnTo>
                  <a:pt x="5183" y="10800"/>
                </a:lnTo>
                <a:close/>
              </a:path>
              <a:path fill="darkenLess" w="24292" h="21600">
                <a:moveTo>
                  <a:pt x="14722" y="6448"/>
                </a:move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2" h="21600">
                <a:moveTo>
                  <a:pt x="11223" y="14299"/>
                </a:moveTo>
                <a:lnTo>
                  <a:pt x="13068" y="14299"/>
                </a:lnTo>
                <a:lnTo>
                  <a:pt x="13068" y="17989"/>
                </a:lnTo>
                <a:lnTo>
                  <a:pt x="17455" y="17989"/>
                </a:lnTo>
                <a:lnTo>
                  <a:pt x="17455" y="10800"/>
                </a:lnTo>
                <a:lnTo>
                  <a:pt x="6836" y="10800"/>
                </a:lnTo>
                <a:lnTo>
                  <a:pt x="6836" y="17989"/>
                </a:lnTo>
                <a:lnTo>
                  <a:pt x="11223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7900920" y="604368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4.gif"/>
          <p:cNvPicPr/>
          <p:nvPr/>
        </p:nvPicPr>
        <p:blipFill>
          <a:blip r:embed="rId2"/>
          <a:stretch/>
        </p:blipFill>
        <p:spPr>
          <a:xfrm>
            <a:off x="1785960" y="1214280"/>
            <a:ext cx="5786280" cy="4357800"/>
          </a:xfrm>
          <a:prstGeom prst="rect">
            <a:avLst/>
          </a:prstGeom>
          <a:ln w="0">
            <a:noFill/>
          </a:ln>
        </p:spPr>
      </p:pic>
      <p:sp>
        <p:nvSpPr>
          <p:cNvPr id="434" name="Управляющая кнопка: домой 2">
            <a:hlinkClick r:id="rId3" action="ppaction://hlinksldjump"/>
          </p:cNvPr>
          <p:cNvSpPr/>
          <p:nvPr/>
        </p:nvSpPr>
        <p:spPr>
          <a:xfrm>
            <a:off x="8001000" y="6000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10800" y="5631"/>
                </a:moveTo>
                <a:lnTo>
                  <a:pt x="13376" y="8242"/>
                </a:ln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lnTo>
                  <a:pt x="17763" y="12594"/>
                </a:lnTo>
                <a:lnTo>
                  <a:pt x="16109" y="12594"/>
                </a:lnTo>
                <a:lnTo>
                  <a:pt x="16109" y="19783"/>
                </a:lnTo>
                <a:lnTo>
                  <a:pt x="5491" y="19783"/>
                </a:lnTo>
                <a:lnTo>
                  <a:pt x="5491" y="12594"/>
                </a:lnTo>
                <a:lnTo>
                  <a:pt x="3837" y="12594"/>
                </a:lnTo>
                <a:close/>
              </a:path>
              <a:path fill="darkenLess" w="21600" h="25188">
                <a:moveTo>
                  <a:pt x="13376" y="8242"/>
                </a:move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close/>
              </a:path>
              <a:path fill="darkenLess" w="21600" h="25188">
                <a:moveTo>
                  <a:pt x="9877" y="16093"/>
                </a:moveTo>
                <a:lnTo>
                  <a:pt x="11723" y="16093"/>
                </a:lnTo>
                <a:lnTo>
                  <a:pt x="11723" y="19783"/>
                </a:lnTo>
                <a:lnTo>
                  <a:pt x="16109" y="19783"/>
                </a:lnTo>
                <a:lnTo>
                  <a:pt x="16109" y="12594"/>
                </a:lnTo>
                <a:lnTo>
                  <a:pt x="5491" y="12594"/>
                </a:lnTo>
                <a:lnTo>
                  <a:pt x="5491" y="19783"/>
                </a:lnTo>
                <a:lnTo>
                  <a:pt x="9877" y="19783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2" descr="9.gif"/>
          <p:cNvPicPr/>
          <p:nvPr/>
        </p:nvPicPr>
        <p:blipFill>
          <a:blip r:embed="rId2"/>
          <a:stretch/>
        </p:blipFill>
        <p:spPr>
          <a:xfrm>
            <a:off x="1571760" y="1000080"/>
            <a:ext cx="5302080" cy="485784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домой 3">
            <a:hlinkClick r:id="rId3" action="ppaction://hlinksldjump"/>
          </p:cNvPr>
          <p:cNvSpPr/>
          <p:nvPr/>
        </p:nvSpPr>
        <p:spPr>
          <a:xfrm>
            <a:off x="8143920" y="600084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extBox 2" descr=""/>
          <p:cNvPicPr/>
          <p:nvPr/>
        </p:nvPicPr>
        <p:blipFill>
          <a:blip r:embed="rId1"/>
          <a:stretch/>
        </p:blipFill>
        <p:spPr>
          <a:xfrm>
            <a:off x="-176040" y="646200"/>
            <a:ext cx="9350280" cy="510228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Улыбка - рожица.wmf"/>
          <p:cNvPicPr/>
          <p:nvPr/>
        </p:nvPicPr>
        <p:blipFill>
          <a:blip r:embed="rId1"/>
          <a:stretch/>
        </p:blipFill>
        <p:spPr>
          <a:xfrm>
            <a:off x="2357280" y="1571760"/>
            <a:ext cx="4316400" cy="371628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ebf1"/>
            </a:gs>
            <a:gs pos="100000">
              <a:srgbClr val="006699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2792520"/>
            <a:ext cx="7364520" cy="15350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2857680" y="7142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TextBox 7"/>
          <p:cNvGrpSpPr/>
          <p:nvPr/>
        </p:nvGrpSpPr>
        <p:grpSpPr>
          <a:xfrm>
            <a:off x="1000080" y="1536840"/>
            <a:ext cx="7278840" cy="4383000"/>
            <a:chOff x="1000080" y="1536840"/>
            <a:chExt cx="7278840" cy="4383000"/>
          </a:xfrm>
        </p:grpSpPr>
        <p:pic>
          <p:nvPicPr>
            <p:cNvPr id="371" name="TextBox 7" descr=""/>
            <p:cNvPicPr/>
            <p:nvPr/>
          </p:nvPicPr>
          <p:blipFill>
            <a:blip r:embed="rId1"/>
            <a:stretch/>
          </p:blipFill>
          <p:spPr>
            <a:xfrm>
              <a:off x="1000080" y="1536840"/>
              <a:ext cx="727884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14280" y="1643040"/>
              <a:ext cx="70009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акторы эволюции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став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 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Биосфера как экосисте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ровни организации живых организм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ещест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верь себ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2" descr=""/>
          <p:cNvPicPr/>
          <p:nvPr/>
        </p:nvPicPr>
        <p:blipFill>
          <a:blip r:embed="rId1"/>
          <a:stretch/>
        </p:blipFill>
        <p:spPr>
          <a:xfrm>
            <a:off x="1292400" y="1633680"/>
            <a:ext cx="6510240" cy="41446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264312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Box 1" descr=""/>
          <p:cNvPicPr/>
          <p:nvPr/>
        </p:nvPicPr>
        <p:blipFill>
          <a:blip r:embed="rId1"/>
          <a:stretch/>
        </p:blipFill>
        <p:spPr>
          <a:xfrm>
            <a:off x="1847880" y="208080"/>
            <a:ext cx="6510240" cy="858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7"/>
          <p:cNvSpPr/>
          <p:nvPr/>
        </p:nvSpPr>
        <p:spPr>
          <a:xfrm>
            <a:off x="6429240" y="1643040"/>
            <a:ext cx="2071800" cy="128592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0" y="0"/>
                </a:moveTo>
                <a:lnTo>
                  <a:pt x="1857371" y="0"/>
                </a:lnTo>
                <a:lnTo>
                  <a:pt x="2071688" y="214317"/>
                </a:lnTo>
                <a:lnTo>
                  <a:pt x="2071688" y="1285875"/>
                </a:lnTo>
                <a:lnTo>
                  <a:pt x="2071688" y="1285875"/>
                </a:lnTo>
                <a:lnTo>
                  <a:pt x="214317" y="1285875"/>
                </a:lnTo>
                <a:lnTo>
                  <a:pt x="0" y="107155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с двумя вырезанными противолежащими углами 18"/>
          <p:cNvSpPr/>
          <p:nvPr/>
        </p:nvSpPr>
        <p:spPr>
          <a:xfrm>
            <a:off x="1143000" y="1571760"/>
            <a:ext cx="2143080" cy="1357200"/>
          </a:xfrm>
          <a:custGeom>
            <a:avLst/>
            <a:gdLst/>
            <a:ahLst/>
            <a:rect l="l" t="t" r="r" b="b"/>
            <a:pathLst>
              <a:path w="2143125" h="1357313">
                <a:moveTo>
                  <a:pt x="0" y="0"/>
                </a:moveTo>
                <a:lnTo>
                  <a:pt x="1916902" y="0"/>
                </a:lnTo>
                <a:lnTo>
                  <a:pt x="2143125" y="226223"/>
                </a:lnTo>
                <a:lnTo>
                  <a:pt x="2143125" y="1357313"/>
                </a:lnTo>
                <a:lnTo>
                  <a:pt x="2143125" y="1357313"/>
                </a:lnTo>
                <a:lnTo>
                  <a:pt x="226223" y="1357313"/>
                </a:lnTo>
                <a:lnTo>
                  <a:pt x="0" y="11310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9"/>
          <p:cNvSpPr/>
          <p:nvPr/>
        </p:nvSpPr>
        <p:spPr>
          <a:xfrm>
            <a:off x="3500280" y="5143680"/>
            <a:ext cx="2571840" cy="1143000"/>
          </a:xfrm>
          <a:custGeom>
            <a:avLst/>
            <a:gdLst/>
            <a:ahLst/>
            <a:rect l="l" t="t" r="r" b="b"/>
            <a:pathLst>
              <a:path w="2571750" h="1143000">
                <a:moveTo>
                  <a:pt x="0" y="0"/>
                </a:moveTo>
                <a:lnTo>
                  <a:pt x="2381246" y="0"/>
                </a:lnTo>
                <a:lnTo>
                  <a:pt x="2571750" y="190504"/>
                </a:lnTo>
                <a:lnTo>
                  <a:pt x="2571750" y="1143000"/>
                </a:lnTo>
                <a:lnTo>
                  <a:pt x="2571750" y="1143000"/>
                </a:lnTo>
                <a:lnTo>
                  <a:pt x="190504" y="1143000"/>
                </a:lnTo>
                <a:lnTo>
                  <a:pt x="0" y="9524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Шестиугольник 20"/>
          <p:cNvSpPr/>
          <p:nvPr/>
        </p:nvSpPr>
        <p:spPr>
          <a:xfrm>
            <a:off x="3286080" y="2857680"/>
            <a:ext cx="2786040" cy="1071360"/>
          </a:xfrm>
          <a:prstGeom prst="hexagon">
            <a:avLst>
              <a:gd name="adj" fmla="val 25005"/>
              <a:gd name="vf" fmla="val 115470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с вырезом 27"/>
          <p:cNvSpPr/>
          <p:nvPr/>
        </p:nvSpPr>
        <p:spPr>
          <a:xfrm rot="2170200">
            <a:off x="3274920" y="1881000"/>
            <a:ext cx="1533600" cy="744480"/>
          </a:xfrm>
          <a:custGeom>
            <a:avLst/>
            <a:gdLst>
              <a:gd name="textAreaLeft" fmla="*/ 176040 w 1533600"/>
              <a:gd name="textAreaRight" fmla="*/ 1357560 w 1533600"/>
              <a:gd name="textAreaTop" fmla="*/ 196200 h 744480"/>
              <a:gd name="textAreaBottom" fmla="*/ 548280 h 744480"/>
            </a:gdLst>
            <a:ahLst/>
            <a:rect l="textAreaLeft" t="textAreaTop" r="textAreaRight" b="textAreaBottom"/>
            <a:pathLst>
              <a:path w="21600" h="21600">
                <a:moveTo>
                  <a:pt x="0" y="5692"/>
                </a:moveTo>
                <a:lnTo>
                  <a:pt x="16357" y="5692"/>
                </a:lnTo>
                <a:lnTo>
                  <a:pt x="16357" y="0"/>
                </a:lnTo>
                <a:lnTo>
                  <a:pt x="21600" y="10800"/>
                </a:lnTo>
                <a:lnTo>
                  <a:pt x="16357" y="21600"/>
                </a:lnTo>
                <a:lnTo>
                  <a:pt x="16357" y="15908"/>
                </a:lnTo>
                <a:lnTo>
                  <a:pt x="0" y="15908"/>
                </a:lnTo>
                <a:lnTo>
                  <a:pt x="2480" y="10800"/>
                </a:lnTo>
                <a:lnTo>
                  <a:pt x="0" y="5692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трелка вправо с вырезом 28"/>
          <p:cNvSpPr/>
          <p:nvPr/>
        </p:nvSpPr>
        <p:spPr>
          <a:xfrm rot="8304600">
            <a:off x="4903560" y="1881360"/>
            <a:ext cx="1563480" cy="691920"/>
          </a:xfrm>
          <a:custGeom>
            <a:avLst/>
            <a:gdLst>
              <a:gd name="textAreaLeft" fmla="*/ 172800 w 1563480"/>
              <a:gd name="textAreaRight" fmla="*/ 1390680 w 1563480"/>
              <a:gd name="textAreaTop" fmla="*/ 172800 h 691920"/>
              <a:gd name="textAreaBottom" fmla="*/ 519120 h 691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19" y="5400"/>
                </a:lnTo>
                <a:lnTo>
                  <a:pt x="16819" y="0"/>
                </a:lnTo>
                <a:lnTo>
                  <a:pt x="21600" y="10800"/>
                </a:lnTo>
                <a:lnTo>
                  <a:pt x="16819" y="21600"/>
                </a:lnTo>
                <a:lnTo>
                  <a:pt x="16819" y="16200"/>
                </a:lnTo>
                <a:lnTo>
                  <a:pt x="0" y="16200"/>
                </a:lnTo>
                <a:lnTo>
                  <a:pt x="23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1428840" y="1928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1"/>
          <p:cNvSpPr/>
          <p:nvPr/>
        </p:nvSpPr>
        <p:spPr>
          <a:xfrm>
            <a:off x="6643800" y="2000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3571920" y="5357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4"/>
          <p:cNvSpPr/>
          <p:nvPr/>
        </p:nvSpPr>
        <p:spPr>
          <a:xfrm>
            <a:off x="3786120" y="3143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с вырезом 36"/>
          <p:cNvSpPr/>
          <p:nvPr/>
        </p:nvSpPr>
        <p:spPr>
          <a:xfrm rot="16200000">
            <a:off x="4357800" y="4143600"/>
            <a:ext cx="1071360" cy="785520"/>
          </a:xfrm>
          <a:custGeom>
            <a:avLst/>
            <a:gdLst>
              <a:gd name="textAreaLeft" fmla="*/ 196200 w 1071360"/>
              <a:gd name="textAreaRight" fmla="*/ 875160 w 107136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680" y="5400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200"/>
                </a:lnTo>
                <a:lnTo>
                  <a:pt x="0" y="16200"/>
                </a:lnTo>
                <a:lnTo>
                  <a:pt x="39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4287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2060640" y="500040"/>
            <a:ext cx="5960880" cy="12193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18" descr=""/>
          <p:cNvPicPr/>
          <p:nvPr/>
        </p:nvPicPr>
        <p:blipFill>
          <a:blip r:embed="rId2"/>
          <a:stretch/>
        </p:blipFill>
        <p:spPr>
          <a:xfrm>
            <a:off x="858960" y="1573200"/>
            <a:ext cx="7924680" cy="43578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d0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TextBox 1"/>
          <p:cNvGrpSpPr/>
          <p:nvPr/>
        </p:nvGrpSpPr>
        <p:grpSpPr>
          <a:xfrm>
            <a:off x="768240" y="987480"/>
            <a:ext cx="7747200" cy="5443560"/>
            <a:chOff x="768240" y="987480"/>
            <a:chExt cx="7747200" cy="5443560"/>
          </a:xfrm>
        </p:grpSpPr>
        <p:pic>
          <p:nvPicPr>
            <p:cNvPr id="395" name="TextBox 1" descr=""/>
            <p:cNvPicPr/>
            <p:nvPr/>
          </p:nvPicPr>
          <p:blipFill>
            <a:blip r:embed="rId1"/>
            <a:stretch/>
          </p:blipFill>
          <p:spPr>
            <a:xfrm>
              <a:off x="768240" y="987480"/>
              <a:ext cx="774720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5880" y="1000080"/>
              <a:ext cx="7715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генное вещество, создается в процессе жизнедеятельности организма (газы, каменный уголь, нефть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сное вещество, образующееся без участия организма (основные породы, лава вулканов, метеориты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косное, представляет собой общий результат жизнедеятельности организма и абиогенных процессов  (почв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Схема 5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931240" cy="4657680"/>
          </a:xfrm>
          <a:prstGeom prst="rect">
            <a:avLst/>
          </a:prstGeom>
          <a:ln w="0">
            <a:noFill/>
          </a:ln>
        </p:spPr>
      </p:pic>
      <p:pic>
        <p:nvPicPr>
          <p:cNvPr id="399" name="TextBox 3" descr=""/>
          <p:cNvPicPr/>
          <p:nvPr/>
        </p:nvPicPr>
        <p:blipFill>
          <a:blip r:embed="rId2"/>
          <a:stretch/>
        </p:blipFill>
        <p:spPr>
          <a:xfrm>
            <a:off x="158760" y="115920"/>
            <a:ext cx="8624880" cy="191448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928800" y="642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4280" y="1428840"/>
          <a:ext cx="6572520" cy="4429080"/>
        </p:xfrm>
        <a:graphic>
          <a:graphicData uri="http://schemas.openxmlformats.org/drawingml/2006/table">
            <a:tbl>
              <a:tblPr/>
              <a:tblGrid>
                <a:gridCol w="857520"/>
                <a:gridCol w="1714320"/>
                <a:gridCol w="1285920"/>
                <a:gridCol w="1400040"/>
                <a:gridCol w="1314720"/>
              </a:tblGrid>
              <a:tr h="1265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болочек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идр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т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1582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1581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для биологически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786040" y="5716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71720" y="1285920"/>
            <a:ext cx="72864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28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олнце 4"/>
          <p:cNvSpPr/>
          <p:nvPr/>
        </p:nvSpPr>
        <p:spPr>
          <a:xfrm>
            <a:off x="7143840" y="214200"/>
            <a:ext cx="1143000" cy="1071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1:17:21Z</dcterms:created>
  <dc:creator>аа</dc:creator>
  <dc:description/>
  <dc:language>en-US</dc:language>
  <cp:lastModifiedBy>LEGION</cp:lastModifiedBy>
  <dcterms:modified xsi:type="dcterms:W3CDTF">2015-01-05T08:30:05Z</dcterms:modified>
  <cp:revision>181</cp:revision>
  <dc:subject/>
  <dc:title>Слайд 1</dc:title>
</cp:coreProperties>
</file>