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E048-900B-47CE-967F-7CBE51525BE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– часть живой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зависит от природы, то и она от него зависит: она его сделала - он ее переделыв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А. Фран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AE4B-A330-4E08-A007-EB0265C46212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ю на глобус - шар зем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друг вздохнул он, как жив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шепчут мне матери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воге рощи и ле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а на травах, как слез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ихо просят родни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стит глубокая р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и теряя берег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бя мы верим - не сол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ю на глобус - шар зем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прекрасный и род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шепчут губ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берегу, я сберегу вас, сберегу»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.Шкл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9B79-E474-4253-B1B7-50525CA96EC6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ловек – часть живой прир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ышит   питается      растет    размножается    умира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ловия, необходимые для процветания жизне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дух           вода         питательные вещества      эне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Охрана окружающей сре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Регулирование потребност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7C44-BA05-4825-8AEA-01AD18767386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ая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слительная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05DF-52CA-4E89-8676-135AC466C1AF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рево, трава, цветок и пт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всегда сумеют защити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будут уничтожены он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планете мы останемся одн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.Р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D7CA-CCC6-4DC0-9644-A8436AB2A673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B570-55FA-47AD-B692-B81A3A05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CB9-7B4E-4661-86E6-4D31E834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2B1-04A7-4B00-A0D3-5BD13857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798-55B6-4D2D-87D8-2945D1D2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EA76-D7A6-436B-BDC3-EE1506C0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FF2D-C2A4-41D8-9016-57288A31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C812-F210-453A-816C-77F944E6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5787-6C58-451D-B43F-09E1F67F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CB69-7C3B-4985-A0FF-69FB798D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D452-0E5E-4CDC-9803-A2600E38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F467-9D06-4AB6-9B91-F3629124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B8B-821D-499B-A822-6B311BAB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63F4-10C1-49D5-A6CF-470A6716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892D-08A8-4C05-9D39-6C389AA0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6AF8-571D-40D6-81D1-F4CEB59A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5DF8-948C-43E6-8CC3-950644B4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1DF5-46B2-4A6C-847B-5318D0FB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FD18-B734-4658-B75D-34C35A91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DB3-6667-4D31-82F6-1FD6F836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D1D-D786-4A30-946C-376C21EB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517D-53C1-4D9D-8676-5DD258F3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9B6D-F576-4C92-8231-E490A21D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22B-DC31-4777-A3BE-6E9E3DB5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105-D6EA-466A-91E9-855A1BAF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D533-D0C3-41ED-B2DE-2A0959A951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78E5-2032-4C98-90F1-70F011AB4FA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ffcc"/>
                </a:solidFill>
                <a:latin typeface="Arial"/>
              </a:rPr>
              <a:t>Человек – часть живой природы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Если человек зависит от природы, то и она от него зависит: она его сделала - он ее переделывает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           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(А. Франс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BD07240_"/>
          <p:cNvPicPr/>
          <p:nvPr/>
        </p:nvPicPr>
        <p:blipFill>
          <a:blip r:embed="rId1"/>
          <a:stretch/>
        </p:blipFill>
        <p:spPr>
          <a:xfrm>
            <a:off x="0" y="189000"/>
            <a:ext cx="1820880" cy="1550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мотрю на глобус - шар земной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вдруг вздохнул он, как живой;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шепчут мне материки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тревоге рощи и лес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оса на травах, как слез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тихо просят родники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рустит глубокая рек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вои теряя берег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тебя мы верим - не солг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мотрю на глобус - шар земной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акой прекрасный и родно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шепчут губы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Сберегу, я сберегу вас, сберегу»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                                           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Е.Шклов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6" descr="MP00646_"/>
          <p:cNvPicPr/>
          <p:nvPr/>
        </p:nvPicPr>
        <p:blipFill>
          <a:blip r:embed="rId1"/>
          <a:stretch/>
        </p:blipFill>
        <p:spPr>
          <a:xfrm>
            <a:off x="5292720" y="1268280"/>
            <a:ext cx="3529080" cy="3456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Человек – часть живой природ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9325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ышит   питается      растет    размножается    умирае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условия, необходимые для процветания жизнедеятельно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оздух           вода         питательные вещества      энерг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1. Охрана окружающей сред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2. Регулирование потребност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Line 4"/>
          <p:cNvSpPr/>
          <p:nvPr/>
        </p:nvSpPr>
        <p:spPr>
          <a:xfrm flipH="1">
            <a:off x="826920" y="1125360"/>
            <a:ext cx="4320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411280" y="1268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5867280" y="1197000"/>
            <a:ext cx="73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4140360" y="1197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524720" y="126828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539640" y="2565360"/>
            <a:ext cx="414360" cy="60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Line 10"/>
          <p:cNvSpPr/>
          <p:nvPr/>
        </p:nvSpPr>
        <p:spPr>
          <a:xfrm flipH="1">
            <a:off x="3708360" y="256536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219564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Line 12"/>
          <p:cNvSpPr/>
          <p:nvPr/>
        </p:nvSpPr>
        <p:spPr>
          <a:xfrm flipH="1">
            <a:off x="5219640" y="256536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53964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248436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514836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802800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0" t="0" r="0" b="66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rcRect l="25848" t="32293" r="12876" b="13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циальные потребност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удовая деятельн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ыслительная деятельн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витие реч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J0144484"/>
          <p:cNvPicPr/>
          <p:nvPr/>
        </p:nvPicPr>
        <p:blipFill>
          <a:blip r:embed="rId1"/>
          <a:stretch/>
        </p:blipFill>
        <p:spPr>
          <a:xfrm>
            <a:off x="324000" y="189000"/>
            <a:ext cx="2293920" cy="3657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J0144687"/>
          <p:cNvPicPr/>
          <p:nvPr/>
        </p:nvPicPr>
        <p:blipFill>
          <a:blip r:embed="rId2"/>
          <a:stretch/>
        </p:blipFill>
        <p:spPr>
          <a:xfrm>
            <a:off x="2916360" y="189000"/>
            <a:ext cx="229392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J0144694"/>
          <p:cNvPicPr/>
          <p:nvPr/>
        </p:nvPicPr>
        <p:blipFill>
          <a:blip r:embed="rId3"/>
          <a:stretch/>
        </p:blipFill>
        <p:spPr>
          <a:xfrm>
            <a:off x="539640" y="4149720"/>
            <a:ext cx="3657600" cy="2416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J0149283"/>
          <p:cNvPicPr/>
          <p:nvPr/>
        </p:nvPicPr>
        <p:blipFill>
          <a:blip r:embed="rId4"/>
          <a:stretch/>
        </p:blipFill>
        <p:spPr>
          <a:xfrm>
            <a:off x="4859280" y="4149720"/>
            <a:ext cx="3657600" cy="2400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PH01958K"/>
          <p:cNvPicPr/>
          <p:nvPr/>
        </p:nvPicPr>
        <p:blipFill>
          <a:blip r:embed="rId5"/>
          <a:stretch/>
        </p:blipFill>
        <p:spPr>
          <a:xfrm>
            <a:off x="5580000" y="189000"/>
            <a:ext cx="3240000" cy="36734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6840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ерево, трава, цветок и пт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е всегда сумеют защититься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Если будут уничтожены они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а планете мы останемся одни!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</a:t>
            </a: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Д.Родович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4" descr="BD07242_"/>
          <p:cNvPicPr/>
          <p:nvPr/>
        </p:nvPicPr>
        <p:blipFill>
          <a:blip r:embed="rId1"/>
          <a:stretch/>
        </p:blipFill>
        <p:spPr>
          <a:xfrm>
            <a:off x="6767640" y="476280"/>
            <a:ext cx="2376360" cy="49687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3:41:49Z</dcterms:created>
  <dc:creator>ENA</dc:creator>
  <dc:description/>
  <dc:language>en-US</dc:language>
  <cp:lastModifiedBy>LEGION</cp:lastModifiedBy>
  <dcterms:modified xsi:type="dcterms:W3CDTF">2015-01-05T08:30:54Z</dcterms:modified>
  <cp:revision>8</cp:revision>
  <dc:subject/>
  <dc:title>Слайд 1</dc:title>
</cp:coreProperties>
</file>