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png" ContentType="image/pn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C17B-E78A-44E7-8E32-14EACF3313F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ловек – часть живой прир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человек зависит от природы, то и она от него зависит: она его сделала - он ее переделыва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А. Фран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6D9E-3463-4F84-B454-AE51C6FB55A0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отрю на глобус - шар земно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друг вздохнул он, как живо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шепчут мне материк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ы береги нас, береги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ревоге рощи и лес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а на травах, как слез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ихо просят родник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ы береги нас, береги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стит глубокая ре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и теряя берег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бя мы верим - не сол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ы береги нас, бере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отрю на глобус - шар земно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ой прекрасный и род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шепчут губ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берегу, я сберегу вас, сберегу»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.Шкло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5F16-FEA5-411E-A550-D9E1B1DBA72A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ловек – часть живой прир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ышит   питается      растет    размножается    умира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ловия, необходимые для процветания жизне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здух           вода         питательные вещества      энер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Охрана окружающей сред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Регулирование потребност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CDD9-17D1-40E3-A926-9E21A1CE1539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 потре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ая де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слительная де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ре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FB0D-5976-44A5-A76C-EF3CE421652B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рево, трава, цветок и птиц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всегда сумеют защитить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будут уничтожены он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планете мы останемся одни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.Род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287E-1932-49A1-8604-F9D644510D98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427E-D1FA-401B-AE87-49FA4B549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66E7-8254-4503-B62F-AFB13981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897D-A8DB-4B48-9EE5-8E2B55C86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F0ED-3390-412E-B3B9-A0D26F8C1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A79B-8F6D-40DF-86CD-A1BE2507C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60E4-316D-499D-A65B-5E37C19B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D1B3-43D3-4FA6-8870-5C887A2C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80B4-3962-4C04-8064-08B122AD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C268-716B-47AF-8F07-7A534FF8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7FFA-DC92-4154-AFAA-2343965D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4EB3-65D9-4357-9BE3-2239DDE4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38CB-05C3-43FE-A98A-4AEE87DF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9FAF-FA30-4B3C-ADEB-95016EBD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8182-5086-4F68-B59E-DCAE2B44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0451-81CF-4EA2-87CA-59EE14AF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209A-85BD-4B63-9161-C1A329B47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0989-C9E5-46CE-9AD4-F44FA16AA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9197-D5EA-468A-91D1-85F702CE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39C8-6AF1-4224-A7FA-3A890F7A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4B6D-64B4-4CCE-95C7-2C9F1992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6DDE-54DE-4915-9C41-CE332CCC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FF77-0330-4E54-89ED-62B2AADE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0FAD-6CAC-4316-9CE0-8A0EFF61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9A05-AEAE-42D5-949A-761832B5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411C-F6C1-4209-A248-C7A815EFC8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9C81-8658-445A-908A-6AE1B21A9FDB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ffcc"/>
                </a:solidFill>
                <a:latin typeface="Arial"/>
              </a:rPr>
              <a:t>Человек – часть живой природы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5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Если человек зависит от природы, то и она от него зависит: она его сделала - он ее переделывает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                        </a:t>
            </a: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(А. Франс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5" descr="BD07240_"/>
          <p:cNvPicPr/>
          <p:nvPr/>
        </p:nvPicPr>
        <p:blipFill>
          <a:blip r:embed="rId1"/>
          <a:stretch/>
        </p:blipFill>
        <p:spPr>
          <a:xfrm>
            <a:off x="0" y="189000"/>
            <a:ext cx="1820880" cy="155088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мотрю на глобус - шар земной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 вдруг вздохнул он, как живой;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 шепчут мне материки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ы береги нас, береги!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тревоге рощи и леса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оса на травах, как слеза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 тихо просят родники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ы береги нас, береги!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Грустит глубокая река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вои теряя берега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тебя мы верим - не солг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ы береги нас, берег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мотрю на глобус - шар земной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акой прекрасный и родной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 шепчут губы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«Сберегу, я сберегу вас, сберегу»!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                                               </a:t>
            </a: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Е.Шкловски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6" descr="MP00646_"/>
          <p:cNvPicPr/>
          <p:nvPr/>
        </p:nvPicPr>
        <p:blipFill>
          <a:blip r:embed="rId1"/>
          <a:stretch/>
        </p:blipFill>
        <p:spPr>
          <a:xfrm>
            <a:off x="5292720" y="1268280"/>
            <a:ext cx="3529080" cy="3456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Человек – часть живой природ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2060280"/>
            <a:ext cx="9325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дышит   питается      растет    размножается    умирает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условия, необходимые для процветания жизнедеятельност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воздух           вода         питательные вещества      энерги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1. Охрана окружающей среды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2. Регулирование потребносте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Line 4"/>
          <p:cNvSpPr/>
          <p:nvPr/>
        </p:nvSpPr>
        <p:spPr>
          <a:xfrm flipH="1">
            <a:off x="826920" y="1125360"/>
            <a:ext cx="43200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2411280" y="1268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5867280" y="1197000"/>
            <a:ext cx="730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4140360" y="1197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7524720" y="1268280"/>
            <a:ext cx="576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539640" y="2565360"/>
            <a:ext cx="414360" cy="60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Line 10"/>
          <p:cNvSpPr/>
          <p:nvPr/>
        </p:nvSpPr>
        <p:spPr>
          <a:xfrm flipH="1">
            <a:off x="3708360" y="2565360"/>
            <a:ext cx="287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Line 11"/>
          <p:cNvSpPr/>
          <p:nvPr/>
        </p:nvSpPr>
        <p:spPr>
          <a:xfrm>
            <a:off x="2195640" y="2565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Line 12"/>
          <p:cNvSpPr/>
          <p:nvPr/>
        </p:nvSpPr>
        <p:spPr>
          <a:xfrm flipH="1">
            <a:off x="5219640" y="2565360"/>
            <a:ext cx="432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Line 13"/>
          <p:cNvSpPr/>
          <p:nvPr/>
        </p:nvSpPr>
        <p:spPr>
          <a:xfrm>
            <a:off x="539640" y="3573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Line 14"/>
          <p:cNvSpPr/>
          <p:nvPr/>
        </p:nvSpPr>
        <p:spPr>
          <a:xfrm>
            <a:off x="2484360" y="3573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Line 15"/>
          <p:cNvSpPr/>
          <p:nvPr/>
        </p:nvSpPr>
        <p:spPr>
          <a:xfrm>
            <a:off x="5148360" y="35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Line 16"/>
          <p:cNvSpPr/>
          <p:nvPr/>
        </p:nvSpPr>
        <p:spPr>
          <a:xfrm>
            <a:off x="8028000" y="35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rcRect l="0" t="0" r="0" b="664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rcRect l="25848" t="32293" r="12876" b="133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оциальные потребност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Трудовая деятельнос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Мыслительная деятельнос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звитие реч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J0144484"/>
          <p:cNvPicPr/>
          <p:nvPr/>
        </p:nvPicPr>
        <p:blipFill>
          <a:blip r:embed="rId1"/>
          <a:stretch/>
        </p:blipFill>
        <p:spPr>
          <a:xfrm>
            <a:off x="324000" y="189000"/>
            <a:ext cx="2293920" cy="3657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J0144687"/>
          <p:cNvPicPr/>
          <p:nvPr/>
        </p:nvPicPr>
        <p:blipFill>
          <a:blip r:embed="rId2"/>
          <a:stretch/>
        </p:blipFill>
        <p:spPr>
          <a:xfrm>
            <a:off x="2916360" y="189000"/>
            <a:ext cx="2293920" cy="3657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J0144694"/>
          <p:cNvPicPr/>
          <p:nvPr/>
        </p:nvPicPr>
        <p:blipFill>
          <a:blip r:embed="rId3"/>
          <a:stretch/>
        </p:blipFill>
        <p:spPr>
          <a:xfrm>
            <a:off x="539640" y="4149720"/>
            <a:ext cx="3657600" cy="2416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J0149283"/>
          <p:cNvPicPr/>
          <p:nvPr/>
        </p:nvPicPr>
        <p:blipFill>
          <a:blip r:embed="rId4"/>
          <a:stretch/>
        </p:blipFill>
        <p:spPr>
          <a:xfrm>
            <a:off x="4859280" y="4149720"/>
            <a:ext cx="3657600" cy="2400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PH01958K"/>
          <p:cNvPicPr/>
          <p:nvPr/>
        </p:nvPicPr>
        <p:blipFill>
          <a:blip r:embed="rId5"/>
          <a:stretch/>
        </p:blipFill>
        <p:spPr>
          <a:xfrm>
            <a:off x="5580000" y="189000"/>
            <a:ext cx="3240000" cy="36734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79280" y="1557360"/>
            <a:ext cx="68407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Дерево, трава, цветок и птица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Не всегда сумеют защититься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Если будут уничтожены они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На планете мы останемся одни!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                                                    </a:t>
            </a:r>
            <a:r>
              <a:rPr b="0" i="1" lang="ru-RU" sz="2800" spc="-1" strike="noStrike">
                <a:solidFill>
                  <a:srgbClr val="eaeaea"/>
                </a:solidFill>
                <a:latin typeface="Verdana"/>
              </a:rPr>
              <a:t>Д.Родович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Picture 4" descr="BD07242_"/>
          <p:cNvPicPr/>
          <p:nvPr/>
        </p:nvPicPr>
        <p:blipFill>
          <a:blip r:embed="rId1"/>
          <a:stretch/>
        </p:blipFill>
        <p:spPr>
          <a:xfrm>
            <a:off x="6767640" y="476280"/>
            <a:ext cx="2376360" cy="496872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23:41:49Z</dcterms:created>
  <dc:creator>ENA</dc:creator>
  <dc:description/>
  <dc:language>en-US</dc:language>
  <cp:lastModifiedBy>LEGION</cp:lastModifiedBy>
  <dcterms:modified xsi:type="dcterms:W3CDTF">2015-01-05T08:30:54Z</dcterms:modified>
  <cp:revision>8</cp:revision>
  <dc:subject/>
  <dc:title>Слайд 1</dc:title>
</cp:coreProperties>
</file>