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9.jpeg" ContentType="image/jpeg"/>
  <Override PartName="/ppt/media/image2.wmf" ContentType="image/x-wmf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0.png" ContentType="image/png"/>
  <Override PartName="/ppt/media/image1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4A3E5-C032-4992-96B4-4769797CD7B3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Человек – часть живой приро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человек зависит от природы, то и она от него зависит: она его сделала - он ее переделывает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                      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(А. Франс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03735-754E-4442-9A29-E7B60EC30954}" type="slidenum">
              <a:rPr b="0" lang="uk-UA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мотрю на глобус - шар земной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вдруг вздохнул он, как живой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шепчут мне материки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ы береги нас, береги!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тревоге рощи и леса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са на травах, как слеза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тихо просят родники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ы береги нас, береги!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устит глубокая река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ои теряя берега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тебя мы верим - не солг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ы береги нас, берег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мотрю на глобус - шар земной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кой прекрасный и родно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шепчут губы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Сберегу, я сберегу вас, сберегу»!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       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Е.Шкловск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27B2D-DE2E-40C2-8E3D-01A26E6D5B76}" type="slidenum">
              <a:rPr b="0" lang="uk-UA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Человек – часть живой природ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дышит   питается      растет    размножается    умирае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словия, необходимые для процветания жизнедеятель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оздух           вода         питательные вещества      энерг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1. Охрана окружающей среды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2. Регулирование потребносте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A6066-4BCD-49DD-A725-986C2BA378EC}" type="slidenum">
              <a:rPr b="0" lang="uk-UA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циальные потреб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удовая деятельно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ыслительная деятельно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витие реч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DA7E2-A4CD-45ED-AD83-26AA85DFFCA9}" type="slidenum">
              <a:rPr b="0" lang="uk-UA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ерево, трава, цветок и птиц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е всегда сумеют защититьс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Если будут уничтожены они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 планете мы останемся одни!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Д.Родович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7D8CC-5A0C-45BF-9071-AB3CDA3192EB}" type="slidenum">
              <a:rPr b="0" lang="uk-UA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DB907-3779-404D-9117-5BF17B803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A16C8-2E9D-4920-A02A-56C5F4D17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DDF48-EC2D-4C3F-94B6-F60823DD8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82908-70D5-4DE2-BC77-F1D0E8979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9EB30-7619-4DD6-960D-9C2160467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C2D22-CA35-49FE-A08D-482C9DB3C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53EB2-44AC-4605-87A7-3ED7E0DB6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93A43-7FC1-4EDD-82F2-D42C4EAAB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9653D-090F-4FCC-BB6B-98424A577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F12B8-DF35-44EF-A264-898141205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3716F-68B8-4F82-BC8E-B96F61410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D57B6-5EBF-4FE7-8959-1F652F31C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BBF3E-7BA6-4FBC-A5A9-5A94C6A5E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DA44B-4AA1-40D6-9E7C-2C05085B2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D87A7-CEEC-4607-B21E-3A9031FD3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62C33-F357-47DC-8347-8B29E1BF8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40B11-3CB8-4C57-8E0A-2209A0DDC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84FEA-B02A-4F6F-B0AA-4861E3E0A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8EF8B-A59D-41E5-B930-BFCD9DE2D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821E5-9750-4E44-883B-7262C5E70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ACB02-5D65-4C9F-AD9A-1B6A598F9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C8D6D-E10A-45B5-9658-4314C886F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9CCD8-ADA8-4059-B0D3-25DCC07BF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ECEF9-2FA7-4EA5-88DA-40C1BB6DF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536C5-5A1A-4699-9EDF-CB3374FAB0D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00D34-CF28-445D-869D-263F79A198BA}" type="slidenum">
              <a:rPr b="0" lang="ru-RU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700" spc="-1" strike="noStrike">
                <a:solidFill>
                  <a:srgbClr val="ffffcc"/>
                </a:solidFill>
                <a:latin typeface="Arial"/>
              </a:rPr>
              <a:t>Человек – часть живой природы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250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Если человек зависит от природы, то и она от него зависит: она его сделала - он ее переделывает.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eaeaea"/>
                </a:solidFill>
                <a:latin typeface="Verdana"/>
              </a:rPr>
              <a:t>                        </a:t>
            </a:r>
            <a:r>
              <a:rPr b="0" i="1" lang="ru-RU" sz="3200" spc="-1" strike="noStrike">
                <a:solidFill>
                  <a:srgbClr val="eaeaea"/>
                </a:solidFill>
                <a:latin typeface="Verdana"/>
              </a:rPr>
              <a:t>(А. Франс)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3" name="Picture 5" descr="BD07240_"/>
          <p:cNvPicPr/>
          <p:nvPr/>
        </p:nvPicPr>
        <p:blipFill>
          <a:blip r:embed="rId1"/>
          <a:stretch/>
        </p:blipFill>
        <p:spPr>
          <a:xfrm>
            <a:off x="0" y="189000"/>
            <a:ext cx="1820880" cy="1550880"/>
          </a:xfrm>
          <a:prstGeom prst="rect">
            <a:avLst/>
          </a:prstGeom>
          <a:ln w="0">
            <a:noFill/>
          </a:ln>
        </p:spPr>
      </p:pic>
      <p:sp>
        <p:nvSpPr>
          <p:cNvPr id="1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Смотрю на глобус - шар земной,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И вдруг вздохнул он, как живой;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И шепчут мне материки: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Ты береги нас, береги!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В тревоге рощи и леса,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Роса на травах, как слеза,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И тихо просят родники: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Ты береги нас, береги!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Грустит глубокая река,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Свои теряя берега,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В тебя мы верим - не солги.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Ты береги нас, береги.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Смотрю на глобус - шар земной,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Такой прекрасный и родной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И шепчут губы: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«Сберегу, я сберегу вас, сберегу»!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eaeaea"/>
                </a:solidFill>
                <a:latin typeface="Verdana"/>
              </a:rPr>
              <a:t>                                               </a:t>
            </a:r>
            <a:r>
              <a:rPr b="0" i="1" lang="ru-RU" sz="2400" spc="-1" strike="noStrike">
                <a:solidFill>
                  <a:srgbClr val="eaeaea"/>
                </a:solidFill>
                <a:latin typeface="Verdana"/>
              </a:rPr>
              <a:t>Е.Шкловский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6" name="Picture 6" descr="MP00646_"/>
          <p:cNvPicPr/>
          <p:nvPr/>
        </p:nvPicPr>
        <p:blipFill>
          <a:blip r:embed="rId1"/>
          <a:stretch/>
        </p:blipFill>
        <p:spPr>
          <a:xfrm>
            <a:off x="5292720" y="1268280"/>
            <a:ext cx="3529080" cy="3456000"/>
          </a:xfrm>
          <a:prstGeom prst="rect">
            <a:avLst/>
          </a:prstGeom>
          <a:ln w="0">
            <a:noFill/>
          </a:ln>
        </p:spPr>
      </p:pic>
      <p:sp>
        <p:nvSpPr>
          <p:cNvPr id="12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Человек – часть живой природы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-360" y="2060280"/>
            <a:ext cx="93250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дышит   питается      растет    размножается    умирает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394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394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Verdana"/>
              </a:rPr>
              <a:t>условия, необходимые для процветания жизнедеятельности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394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Verdana"/>
              </a:rPr>
              <a:t>воздух           вода         питательные вещества      энергия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Verdana"/>
              </a:rPr>
              <a:t>1. Охрана окружающей среды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Verdana"/>
              </a:rPr>
              <a:t>2. Регулирование потребностей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0" name="Line 4"/>
          <p:cNvSpPr/>
          <p:nvPr/>
        </p:nvSpPr>
        <p:spPr>
          <a:xfrm flipH="1">
            <a:off x="826920" y="1125360"/>
            <a:ext cx="432000" cy="86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1" name="Line 5"/>
          <p:cNvSpPr/>
          <p:nvPr/>
        </p:nvSpPr>
        <p:spPr>
          <a:xfrm>
            <a:off x="2411280" y="12682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2" name="Line 6"/>
          <p:cNvSpPr/>
          <p:nvPr/>
        </p:nvSpPr>
        <p:spPr>
          <a:xfrm>
            <a:off x="5867280" y="1197000"/>
            <a:ext cx="7308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3" name="Line 7"/>
          <p:cNvSpPr/>
          <p:nvPr/>
        </p:nvSpPr>
        <p:spPr>
          <a:xfrm>
            <a:off x="4140360" y="1197000"/>
            <a:ext cx="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4" name="Line 8"/>
          <p:cNvSpPr/>
          <p:nvPr/>
        </p:nvSpPr>
        <p:spPr>
          <a:xfrm>
            <a:off x="7524720" y="1268280"/>
            <a:ext cx="57636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5" name="Line 9"/>
          <p:cNvSpPr/>
          <p:nvPr/>
        </p:nvSpPr>
        <p:spPr>
          <a:xfrm>
            <a:off x="539640" y="2565360"/>
            <a:ext cx="414360" cy="601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6" name="Line 10"/>
          <p:cNvSpPr/>
          <p:nvPr/>
        </p:nvSpPr>
        <p:spPr>
          <a:xfrm flipH="1">
            <a:off x="3708360" y="2565360"/>
            <a:ext cx="287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7" name="Line 11"/>
          <p:cNvSpPr/>
          <p:nvPr/>
        </p:nvSpPr>
        <p:spPr>
          <a:xfrm>
            <a:off x="2195640" y="2565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8" name="Line 12"/>
          <p:cNvSpPr/>
          <p:nvPr/>
        </p:nvSpPr>
        <p:spPr>
          <a:xfrm flipH="1">
            <a:off x="5219640" y="2565360"/>
            <a:ext cx="43200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9" name="Line 13"/>
          <p:cNvSpPr/>
          <p:nvPr/>
        </p:nvSpPr>
        <p:spPr>
          <a:xfrm>
            <a:off x="539640" y="3573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0" name="Line 14"/>
          <p:cNvSpPr/>
          <p:nvPr/>
        </p:nvSpPr>
        <p:spPr>
          <a:xfrm>
            <a:off x="2484360" y="3573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1" name="Line 15"/>
          <p:cNvSpPr/>
          <p:nvPr/>
        </p:nvSpPr>
        <p:spPr>
          <a:xfrm>
            <a:off x="5148360" y="3500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2" name="Line 16"/>
          <p:cNvSpPr/>
          <p:nvPr/>
        </p:nvSpPr>
        <p:spPr>
          <a:xfrm>
            <a:off x="8028000" y="3500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46" name="Picture 4" descr=""/>
          <p:cNvPicPr/>
          <p:nvPr/>
        </p:nvPicPr>
        <p:blipFill>
          <a:blip r:embed="rId1"/>
          <a:srcRect l="0" t="0" r="0" b="664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50" name="Picture 4" descr=""/>
          <p:cNvPicPr/>
          <p:nvPr/>
        </p:nvPicPr>
        <p:blipFill>
          <a:blip r:embed="rId1"/>
          <a:srcRect l="25848" t="32293" r="12876" b="1336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Социальные потребности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Трудовая деятельность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Мыслительная деятельность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Развитие речи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4" descr="J0144484"/>
          <p:cNvPicPr/>
          <p:nvPr/>
        </p:nvPicPr>
        <p:blipFill>
          <a:blip r:embed="rId1"/>
          <a:stretch/>
        </p:blipFill>
        <p:spPr>
          <a:xfrm>
            <a:off x="324000" y="189000"/>
            <a:ext cx="2293920" cy="36576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5" descr="J0144687"/>
          <p:cNvPicPr/>
          <p:nvPr/>
        </p:nvPicPr>
        <p:blipFill>
          <a:blip r:embed="rId2"/>
          <a:stretch/>
        </p:blipFill>
        <p:spPr>
          <a:xfrm>
            <a:off x="2916360" y="189000"/>
            <a:ext cx="2293920" cy="36576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6" descr="J0144694"/>
          <p:cNvPicPr/>
          <p:nvPr/>
        </p:nvPicPr>
        <p:blipFill>
          <a:blip r:embed="rId3"/>
          <a:stretch/>
        </p:blipFill>
        <p:spPr>
          <a:xfrm>
            <a:off x="539640" y="4149720"/>
            <a:ext cx="3657600" cy="24163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7" descr="J0149283"/>
          <p:cNvPicPr/>
          <p:nvPr/>
        </p:nvPicPr>
        <p:blipFill>
          <a:blip r:embed="rId4"/>
          <a:stretch/>
        </p:blipFill>
        <p:spPr>
          <a:xfrm>
            <a:off x="4859280" y="4149720"/>
            <a:ext cx="3657600" cy="240048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8" descr="PH01958K"/>
          <p:cNvPicPr/>
          <p:nvPr/>
        </p:nvPicPr>
        <p:blipFill>
          <a:blip r:embed="rId5"/>
          <a:stretch/>
        </p:blipFill>
        <p:spPr>
          <a:xfrm>
            <a:off x="5580000" y="189000"/>
            <a:ext cx="3240000" cy="3673440"/>
          </a:xfrm>
          <a:prstGeom prst="rect">
            <a:avLst/>
          </a:prstGeom>
          <a:ln w="0">
            <a:noFill/>
          </a:ln>
        </p:spPr>
      </p:pic>
      <p:sp>
        <p:nvSpPr>
          <p:cNvPr id="1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63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179280" y="1557360"/>
            <a:ext cx="6840720" cy="61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aeaea"/>
                </a:solidFill>
                <a:latin typeface="Verdana"/>
              </a:rPr>
              <a:t>Дерево, трава, цветок и птица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aeaea"/>
                </a:solidFill>
                <a:latin typeface="Verdana"/>
              </a:rPr>
              <a:t>Не всегда сумеют защититься.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aeaea"/>
                </a:solidFill>
                <a:latin typeface="Verdana"/>
              </a:rPr>
              <a:t>Если будут уничтожены они,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aeaea"/>
                </a:solidFill>
                <a:latin typeface="Verdana"/>
              </a:rPr>
              <a:t>На планете мы останемся одни!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                                                       </a:t>
            </a:r>
            <a:r>
              <a:rPr b="0" i="1" lang="ru-RU" sz="2800" spc="-1" strike="noStrike">
                <a:solidFill>
                  <a:srgbClr val="eaeaea"/>
                </a:solidFill>
                <a:latin typeface="Verdana"/>
              </a:rPr>
              <a:t>Д.Родович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66" name="Picture 4" descr="BD07242_"/>
          <p:cNvPicPr/>
          <p:nvPr/>
        </p:nvPicPr>
        <p:blipFill>
          <a:blip r:embed="rId1"/>
          <a:stretch/>
        </p:blipFill>
        <p:spPr>
          <a:xfrm>
            <a:off x="6767640" y="476280"/>
            <a:ext cx="2376360" cy="4968720"/>
          </a:xfrm>
          <a:prstGeom prst="rect">
            <a:avLst/>
          </a:prstGeom>
          <a:ln w="0">
            <a:noFill/>
          </a:ln>
        </p:spPr>
      </p:pic>
      <p:sp>
        <p:nvSpPr>
          <p:cNvPr id="1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9T23:41:49Z</dcterms:created>
  <dc:creator>ENA</dc:creator>
  <dc:description/>
  <dc:language>en-US</dc:language>
  <cp:lastModifiedBy>LEGION</cp:lastModifiedBy>
  <dcterms:modified xsi:type="dcterms:W3CDTF">2015-01-05T08:30:54Z</dcterms:modified>
  <cp:revision>8</cp:revision>
  <dc:subject/>
  <dc:title>Слайд 1</dc:title>
</cp:coreProperties>
</file>