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B153-734F-4791-A61E-B6A964C6AF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А. Фр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4232-3241-43D1-8511-1F70C14EB5C4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друг вздохнул он, как жи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мне матер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воге рощи и лес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а на травах, как слез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ихо просят родни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стит глубокая р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 теряя берег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бя мы верим - не сол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береги нас, бере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отрю на глобус - шар земно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рекрасный и род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шепчут гу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берегу, я сберегу вас, сберегу»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.Шкл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1059-ABEA-4623-A455-E5DCDB394E8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ышит   питается      растет    размножается    умира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, необходимые для процветания жизне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дух           вода         питательные вещества      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Охрана окружающей сред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Регулирование потребност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2E1E-7A4B-4442-8A6B-29315465C3A9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слительная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9BE5-0422-4F95-82FB-F5214FA53268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рево, трава, цветок и пт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всегда сумеют защит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будут уничтожены о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ланете мы останемся одн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.Р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4B25-FDBC-4CDF-BC55-9B7900C5C2DA}" type="slidenum">
              <a:rPr b="0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B46-CE2C-49B8-A8FB-EC19E7A0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45C-B93E-473B-9B24-9EB9009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425-6CDF-4375-8F0E-C1CD53A5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EE3-1497-4D7D-804E-96DECFF3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661-41FF-4FC1-B9A6-02B40F79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B763-132C-48E4-8A6A-E461FD2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F4DF-42DE-49F6-BFCC-6A9419D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7D80-EF8F-4142-A9C1-C736DDDB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9EAC-98D9-4879-A9DB-EDC1C61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4C97-EC16-44BA-B40D-0DE0311A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CC30-5A48-4AC3-A799-EC412087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99A-426A-49E4-9A6D-7428CBBE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A3F4-4965-491B-90D1-9EE5283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5C71-4634-4F78-8340-FEC4D672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86E-374C-48D4-AC71-026E76E2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959F-812E-4D72-AA71-0803098E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961E-59D2-4370-9560-D89E57FA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269-8864-4C9A-A13A-99C6F40C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55C-29A4-4805-A054-08E5F7C6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5F2-59AF-43D7-B664-0E9775CD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783-D119-43C3-A4CE-6152A39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B85-4540-4ACD-8D59-5B00A96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F1D-9154-4EFF-8F68-7553E99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137-827E-4B57-B5A3-56155D97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7D8-E1BE-4E5F-BEA9-0F9A2C8446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B14-B8BF-40CB-B12F-1B56EA1B311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Если человек зависит от природы, то и она от него зависит: она его сделала - он ее переделывает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(А. Франс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BD07240_"/>
          <p:cNvPicPr/>
          <p:nvPr/>
        </p:nvPicPr>
        <p:blipFill>
          <a:blip r:embed="rId1"/>
          <a:stretch/>
        </p:blipFill>
        <p:spPr>
          <a:xfrm>
            <a:off x="0" y="189000"/>
            <a:ext cx="1820880" cy="155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вдруг вздохнул он, как живой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мне матер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ревоге рощи и лес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оса на травах, как слез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тихо просят родники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рустит глубокая рек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вои теряя берега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тебя мы верим - не сол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береги нас, берег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мотрю на глобус - шар земно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акой прекрасный и родн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шепчут губы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«Сберегу, я сберегу вас, сберегу»!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.Шклов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6" descr="MP00646_"/>
          <p:cNvPicPr/>
          <p:nvPr/>
        </p:nvPicPr>
        <p:blipFill>
          <a:blip r:embed="rId1"/>
          <a:stretch/>
        </p:blipFill>
        <p:spPr>
          <a:xfrm>
            <a:off x="5292720" y="1268280"/>
            <a:ext cx="3529080" cy="3456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– часть живой природ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932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ышит   питается      растет    размножается    умира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условия, необходимые для процветания жизне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оздух           вода         питательные вещества      энерг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1. Охрана окружающей сред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2. Регулирование потребност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826920" y="1125360"/>
            <a:ext cx="4320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411280" y="1268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867280" y="1197000"/>
            <a:ext cx="730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4140360" y="1197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7524720" y="126828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539640" y="2565360"/>
            <a:ext cx="41436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3708360" y="256536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2195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12"/>
          <p:cNvSpPr/>
          <p:nvPr/>
        </p:nvSpPr>
        <p:spPr>
          <a:xfrm flipH="1">
            <a:off x="5219640" y="2565360"/>
            <a:ext cx="43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53964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48436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5148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802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0" t="0" r="0" b="664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25848" t="32293" r="12876" b="13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оциальные потребност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удов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слительная деятель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тие реч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J0144484"/>
          <p:cNvPicPr/>
          <p:nvPr/>
        </p:nvPicPr>
        <p:blipFill>
          <a:blip r:embed="rId1"/>
          <a:stretch/>
        </p:blipFill>
        <p:spPr>
          <a:xfrm>
            <a:off x="32400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0144687"/>
          <p:cNvPicPr/>
          <p:nvPr/>
        </p:nvPicPr>
        <p:blipFill>
          <a:blip r:embed="rId2"/>
          <a:stretch/>
        </p:blipFill>
        <p:spPr>
          <a:xfrm>
            <a:off x="2916360" y="189000"/>
            <a:ext cx="229392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J0144694"/>
          <p:cNvPicPr/>
          <p:nvPr/>
        </p:nvPicPr>
        <p:blipFill>
          <a:blip r:embed="rId3"/>
          <a:stretch/>
        </p:blipFill>
        <p:spPr>
          <a:xfrm>
            <a:off x="539640" y="4149720"/>
            <a:ext cx="3657600" cy="2416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J0149283"/>
          <p:cNvPicPr/>
          <p:nvPr/>
        </p:nvPicPr>
        <p:blipFill>
          <a:blip r:embed="rId4"/>
          <a:stretch/>
        </p:blipFill>
        <p:spPr>
          <a:xfrm>
            <a:off x="4859280" y="4149720"/>
            <a:ext cx="3657600" cy="240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PH01958K"/>
          <p:cNvPicPr/>
          <p:nvPr/>
        </p:nvPicPr>
        <p:blipFill>
          <a:blip r:embed="rId5"/>
          <a:stretch/>
        </p:blipFill>
        <p:spPr>
          <a:xfrm>
            <a:off x="5580000" y="18900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6840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рево, трава, цветок и птиц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е всегда сумеют защититься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Если будут уничтожены они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 планете мы останемся одни!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                                       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.Родови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Picture 4" descr="BD07242_"/>
          <p:cNvPicPr/>
          <p:nvPr/>
        </p:nvPicPr>
        <p:blipFill>
          <a:blip r:embed="rId1"/>
          <a:stretch/>
        </p:blipFill>
        <p:spPr>
          <a:xfrm>
            <a:off x="6767640" y="476280"/>
            <a:ext cx="2376360" cy="49687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23:41:49Z</dcterms:created>
  <dc:creator>ENA</dc:creator>
  <dc:description/>
  <dc:language>en-US</dc:language>
  <cp:lastModifiedBy>LEGION</cp:lastModifiedBy>
  <dcterms:modified xsi:type="dcterms:W3CDTF">2015-01-05T08:30:54Z</dcterms:modified>
  <cp:revision>8</cp:revision>
  <dc:subject/>
  <dc:title>Слайд 1</dc:title>
</cp:coreProperties>
</file>