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D44-4B59-4F41-AB1E-2DD6F7B962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ликация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AEE0-781C-4B68-BB7D-87BABEBB5E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плика́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Н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BFE9-6C2E-4339-B01D-FC0B53E946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репликаци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6EDC-0AA3-4814-B159-AEC601F2F8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747C-6753-4602-A426-57BF12AF26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35AC-CB3B-4290-9A3C-1D8BE5E2AB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B92A-74CE-46FA-96CD-DD054ADC21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1C38-3358-494D-B6CF-95D2FAF1A0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965-00E3-423C-B7C5-522E24CA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479-76BC-443C-B6C0-50B59B73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810-0C3E-4315-908B-C4296BE5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3A6-A7F6-46E0-BFD3-4E1C2EED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DC4B-F6DB-446A-A2B0-2B0CA7BD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3D23-8E8B-4823-878D-11F184DD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D3CE-7605-4806-979B-E6251488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DEB7-5285-460E-B009-0735CE01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5E21-B408-4926-B828-E5C83614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3B0E-985D-4961-A0B3-7FC5E5C1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A669-8CDE-4691-A95C-4F6F303A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191-C73C-454E-8783-CE90EF3A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1120-8FD3-4FDF-9E8F-409B1992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3B70-1050-4D30-A510-47038D9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AE9-A4E8-4A75-85D9-10F9DFCD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765E-89C0-40F4-8E81-A3289539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E270-3D42-466B-A419-66920EB9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7B3-4D11-44FB-97CC-8A4598E9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B61-433E-46F8-8FB4-34B653BE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31D-5873-4615-81CA-91249B7C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AF5-9D2A-4127-A350-7E6745C3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768-0DE2-4D5A-B6DE-1EF653CB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EE3-CE16-4191-B55D-716CF556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C6A-993D-4426-AD9F-C8253EA5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1086-2953-45FD-940A-4BBE51F10EE2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18EE-1BC5-4BE7-8AAE-96EDF47D3F1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B3E9-C131-489B-BD11-016DF48BBFAF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C4D1-81F9-4692-B418-E64ECFEFC9D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08080" y="1785960"/>
            <a:ext cx="9075600" cy="25970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Documents and Settings\azid\Рабочий стол\презент\5.JPG"/>
          <p:cNvPicPr/>
          <p:nvPr/>
        </p:nvPicPr>
        <p:blipFill>
          <a:blip r:embed="rId1"/>
          <a:stretch/>
        </p:blipFill>
        <p:spPr>
          <a:xfrm>
            <a:off x="285840" y="428760"/>
            <a:ext cx="8629560" cy="59292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Documents and Settings\azid\Рабочий стол\презент\Безымянный.JPG"/>
          <p:cNvPicPr/>
          <p:nvPr/>
        </p:nvPicPr>
        <p:blipFill>
          <a:blip r:embed="rId1"/>
          <a:stretch/>
        </p:blipFill>
        <p:spPr>
          <a:xfrm>
            <a:off x="428760" y="285840"/>
            <a:ext cx="8404200" cy="6141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еплика́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Documents and Settings\azid\Рабочий стол\презент\1.JPG"/>
          <p:cNvPicPr/>
          <p:nvPr/>
        </p:nvPicPr>
        <p:blipFill>
          <a:blip r:embed="rId2"/>
          <a:stretch/>
        </p:blipFill>
        <p:spPr>
          <a:xfrm>
            <a:off x="1428840" y="1571760"/>
            <a:ext cx="6500880" cy="4606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col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Documents and Settings\azid\Рабочий стол\презент\2.JPG"/>
          <p:cNvPicPr/>
          <p:nvPr/>
        </p:nvPicPr>
        <p:blipFill>
          <a:blip r:embed="rId1"/>
          <a:stretch/>
        </p:blipFill>
        <p:spPr>
          <a:xfrm>
            <a:off x="928800" y="357120"/>
            <a:ext cx="7202520" cy="5929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428760"/>
            <a:ext cx="4686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лет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C:\Documents and Settings\azid\Рабочий стол\презент\3.JPG"/>
          <p:cNvPicPr/>
          <p:nvPr/>
        </p:nvPicPr>
        <p:blipFill>
          <a:blip r:embed="rId1"/>
          <a:stretch/>
        </p:blipFill>
        <p:spPr>
          <a:xfrm>
            <a:off x="4572000" y="500040"/>
            <a:ext cx="4324320" cy="57625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2876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C:\Documents and Settings\azid\Рабочий стол\презент\4.JPG"/>
          <p:cNvPicPr/>
          <p:nvPr/>
        </p:nvPicPr>
        <p:blipFill>
          <a:blip r:embed="rId1"/>
          <a:stretch/>
        </p:blipFill>
        <p:spPr>
          <a:xfrm>
            <a:off x="285840" y="847800"/>
            <a:ext cx="8486640" cy="50101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7168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22:27Z</dcterms:created>
  <dc:creator>azid</dc:creator>
  <dc:description/>
  <dc:language>en-US</dc:language>
  <cp:lastModifiedBy>LEGION</cp:lastModifiedBy>
  <dcterms:modified xsi:type="dcterms:W3CDTF">2015-01-05T09:27:29Z</dcterms:modified>
  <cp:revision>8</cp:revision>
  <dc:subject/>
  <dc:title>Репликация ДНК</dc:title>
</cp:coreProperties>
</file>