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58F8-A7A7-48A4-84A6-F3BB74F9B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ликация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0EAC-3981-4DFC-87D5-C2BF8CA5D4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плика́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Н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6FC9-D1B3-49EE-BCFA-655A409AE1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репликаци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DBC-0E0F-4924-BEFB-FFE9156E9E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5DB9-1F9B-4F8D-8F66-6D4916B524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6971-4383-4A28-8112-22C9C2FB3A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3428-C523-4411-8931-CF3E7C67AE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1BB3-8381-4AA4-B68C-56FB0656D3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48F-08FE-4BB7-91BF-EE2429B7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060-C3A0-4227-8756-5F364E3F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04F-01A3-42FB-ADE0-BFF1E4AE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7D7-1717-4920-8763-C573B37F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AC9C-E158-4BDA-943A-D9486382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7D4-D11B-4D05-8961-18787A9B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AA60-AA2A-43C1-99F2-62FE0614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04DF-FF3C-4C8B-8449-A4402E51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E507-A147-41F7-9176-3E5C2D2B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A4F2-854F-4449-82C6-B47C1DEB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5384-6869-4601-A3C4-448B55A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6EC-A933-4056-A834-A8A42C84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5D1E-2CE2-4998-8FDE-8C3FDA4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DB9A-3B5B-4335-9D8B-9796C5E5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A0F9-295F-4BCF-ABE7-ED7B57EB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C02F-EBEC-4994-9F4C-45AF5429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153C-D381-4F2B-893C-7E52338B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B12-AD19-4CA8-937D-A8E722D4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5E2-E7EE-4289-B91C-3F84B2B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436-E63B-468A-84E6-616A2CB5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8CE-26D2-4E82-8F57-038191CF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4C7-259E-428B-8D8B-E0014B63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A34-7116-4CD3-8A79-A5D14D4D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DBC-7834-48B1-ABB1-BBB65455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7CDD-8C50-4CB1-8293-91E49B7616BC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3B4-6F9D-419A-8D2A-04D2DB2A959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7DC-5F9A-48CD-8FCA-B380698BBB84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8525-8574-4EA2-8859-97C5A9B0102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08080" y="1785960"/>
            <a:ext cx="9075600" cy="25970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Documents and Settings\azid\Рабочий стол\презент\5.JPG"/>
          <p:cNvPicPr/>
          <p:nvPr/>
        </p:nvPicPr>
        <p:blipFill>
          <a:blip r:embed="rId1"/>
          <a:stretch/>
        </p:blipFill>
        <p:spPr>
          <a:xfrm>
            <a:off x="285840" y="428760"/>
            <a:ext cx="862956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azid\Рабочий стол\презент\Безымянный.JPG"/>
          <p:cNvPicPr/>
          <p:nvPr/>
        </p:nvPicPr>
        <p:blipFill>
          <a:blip r:embed="rId1"/>
          <a:stretch/>
        </p:blipFill>
        <p:spPr>
          <a:xfrm>
            <a:off x="428760" y="285840"/>
            <a:ext cx="8404200" cy="6141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еплика́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azid\Рабочий стол\презент\1.JPG"/>
          <p:cNvPicPr/>
          <p:nvPr/>
        </p:nvPicPr>
        <p:blipFill>
          <a:blip r:embed="rId2"/>
          <a:stretch/>
        </p:blipFill>
        <p:spPr>
          <a:xfrm>
            <a:off x="1428840" y="1571760"/>
            <a:ext cx="6500880" cy="4606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col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Documents and Settings\azid\Рабочий стол\презент\2.JPG"/>
          <p:cNvPicPr/>
          <p:nvPr/>
        </p:nvPicPr>
        <p:blipFill>
          <a:blip r:embed="rId1"/>
          <a:stretch/>
        </p:blipFill>
        <p:spPr>
          <a:xfrm>
            <a:off x="928800" y="357120"/>
            <a:ext cx="7202520" cy="5929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428760"/>
            <a:ext cx="4686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лет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C:\Documents and Settings\azid\Рабочий стол\презент\3.JPG"/>
          <p:cNvPicPr/>
          <p:nvPr/>
        </p:nvPicPr>
        <p:blipFill>
          <a:blip r:embed="rId1"/>
          <a:stretch/>
        </p:blipFill>
        <p:spPr>
          <a:xfrm>
            <a:off x="4572000" y="500040"/>
            <a:ext cx="4324320" cy="57625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C:\Documents and Settings\azid\Рабочий стол\презент\4.JPG"/>
          <p:cNvPicPr/>
          <p:nvPr/>
        </p:nvPicPr>
        <p:blipFill>
          <a:blip r:embed="rId1"/>
          <a:stretch/>
        </p:blipFill>
        <p:spPr>
          <a:xfrm>
            <a:off x="285840" y="847800"/>
            <a:ext cx="8486640" cy="50101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7168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22:27Z</dcterms:created>
  <dc:creator>azid</dc:creator>
  <dc:description/>
  <dc:language>en-US</dc:language>
  <cp:lastModifiedBy>LEGION</cp:lastModifiedBy>
  <dcterms:modified xsi:type="dcterms:W3CDTF">2015-01-05T09:27:29Z</dcterms:modified>
  <cp:revision>8</cp:revision>
  <dc:subject/>
  <dc:title>Репликация ДНК</dc:title>
</cp:coreProperties>
</file>