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F3313-D382-436D-A6CB-B31DAFC37B7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пликация ДН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0B750-1C17-4035-8A2D-47DC96260E5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Реплика́ц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ДН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это процесс синтеза дочерней молекулы дезоксирибонуклеиновой кислоты, который происходит в процессе деления клетки на матрице родительской молекулы ДНК. При этом генетический материал, зашифрованный в ДНК, удваивается и делится между дочерними клет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129A2-D6FF-430D-B796-67FE8DA0315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и репликации дн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65815-E135-4D52-BB8F-3CC54F36ABC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азали существование полуконсервативной модели М. Мезельсон и Ф.Сталь в 1958 году. Они выращивали бактери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coli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колько поколений на минимальной среде в которой единственным источником азота бы хлорид аммония  с меченым атомом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5.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зультате все клеточные компоненты бактерий содержали в своем составе тяжелый азот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5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7525C-5239-450C-8B1E-902FB55E526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летк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епликация начинается со специфической точки в кольцевой ДНК (область начала репликации) и продолжается в обоих направлениях. В результате образуются две репликативные вилки, которые продвигаются в противоположных направлениях, т. е. обе цепи реплицируются одновремен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D9A59-3BA7-470E-92DD-1E4514BE631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ая репликативная вилка включает по крайней мере две молекулы ДНК-полимеразы III, ассоциированные с несколькими вспомогательными белками. К последним относятся ДНК-топоизомеразы (гиразы), которые раскручивают плотно свернутую двойную спираль ДНК, и хеликазы, которые расплетают двухтяжевую ДНК на две цепи. Поскольку матричная цепь всегда читается в направлении 3'→5', только одна из цепей может считываться непрерывно. Другая цепь считывается в направлении, противоположном движению репликативной вилки. В результате на матрице вначале синтезируются короткие фрагменты новой цепи ДНК , так называемые фрагменты Оказаки , названные так по имени их первооткрывате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DACA5-D6BB-41D0-B8CD-208C601E7E3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фрагмент начинается с короткой РНК-затравки , необходимой для функционирования ДНК-полимеразы. Праймер синтезируется специальной РНК-полимеразой, ДНК-полимераза III достраивает этот праймер до фрагмента ДНК длиной 1000-2000 дезоксинуклеотидных звеньев. Синтез этого фрагмента далее прерывается, и новый синтез начинается со следующего РНК-праймера. Индивидуальные фрагменты Оказаки первоначально не связаны друг с другом и все еще имеют РНК на 5'-концах. На некотором расстоянии от репликативной вилки ДНК-полимераза I начинает замещать РНК-праймер последовательностью ДНК. В завершение остающиеся одноцепочечные разрывы репарируются ДНК-лигазой. В образованной таким образом двойной спирали ДНК только одна из цепей синтезирована зано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B2370-051D-4DB1-AA99-D6BEF181CFD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EA64-544F-430A-A434-655351BCD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93D7-C365-4766-A326-13635872A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5A72-8AA4-4D2D-9F5F-28FA8D9AE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9D77-ED3D-4311-9A10-671BF39E5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93984-5C6F-446F-A644-553420AD5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02560-B4BB-4EF2-8FA1-FD02F2F92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7CEE2-2257-41B4-AD17-58B73EDB6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A0A26-05E7-4B5D-BEDE-8C93A5656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33FAD-0318-4128-AE0F-160D6C1DE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E7802-584C-4EB0-92CE-535363668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B79EA-0223-42B2-A662-36F234B96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8993-CFBC-47FD-9863-DB06C14F1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B749F-1508-4BB6-96A3-B46B42CCA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A35B2-FAEA-4505-B8A7-434D657E1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40C4C-0BBC-4ACB-AB82-0D482941E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2E564-8CDC-4910-B6D5-9692FBD5D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04335-BC37-4432-90A6-91B059C9A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9585-60C7-48AD-90F3-1727F610E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CFE0-815E-4DA5-81B6-C3F30CC77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4067-C539-48C8-AB79-A9F5983CE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D703-366D-48DE-8A07-E6E79B231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9C05-CBF2-4134-ADB8-A0A069B6A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64CB-EEDA-4699-99CF-0CA0CC6BF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1A4B-D5D8-4704-B24F-F8D1F0611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591EA-F05B-471C-9A58-7EA76AA1155F}" type="datetime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20E83-F9AB-4D07-9E6D-48B87D14BDC6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22E2C-22A3-4B4E-A730-8DCB13965E31}" type="datetime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02063-2830-41E4-BD19-9039C1F8251A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208080" y="1785960"/>
            <a:ext cx="9075600" cy="259704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Picture 2" descr="C:\Documents and Settings\azid\Рабочий стол\презент\5.JPG"/>
          <p:cNvPicPr/>
          <p:nvPr/>
        </p:nvPicPr>
        <p:blipFill>
          <a:blip r:embed="rId1"/>
          <a:stretch/>
        </p:blipFill>
        <p:spPr>
          <a:xfrm>
            <a:off x="285840" y="428760"/>
            <a:ext cx="8629560" cy="592920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Picture 2" descr="C:\Documents and Settings\azid\Рабочий стол\презент\Безымянный.JPG"/>
          <p:cNvPicPr/>
          <p:nvPr/>
        </p:nvPicPr>
        <p:blipFill>
          <a:blip r:embed="rId1"/>
          <a:stretch/>
        </p:blipFill>
        <p:spPr>
          <a:xfrm>
            <a:off x="428760" y="285840"/>
            <a:ext cx="8404200" cy="614196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Реплика́ция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ДНК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— это процесс синтеза дочерней молекулы дезоксирибонуклеиновой кислоты, который происходит в процессе деления клетки на матрице родительской молекулы ДНК. При этом генетический материал, зашифрованный в ДНК, удваивается и делится между дочерними клеткам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Picture 2" descr="C:\Documents and Settings\azid\Рабочий стол\презент\1.JPG"/>
          <p:cNvPicPr/>
          <p:nvPr/>
        </p:nvPicPr>
        <p:blipFill>
          <a:blip r:embed="rId2"/>
          <a:stretch/>
        </p:blipFill>
        <p:spPr>
          <a:xfrm>
            <a:off x="1428840" y="1571760"/>
            <a:ext cx="6500880" cy="460692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оказали существование полуконсервативной модели М. Мезельсон и Ф.Сталь в 1958 году. Они выращивали бактерии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.coli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сколько поколений на минимальной среде в которой единственным источником азота бы хлорид аммония  с меченым атомом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15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результате все клеточные компоненты бактерий содержали в своем составе тяжелый азот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15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2" descr="C:\Documents and Settings\azid\Рабочий стол\презент\2.JPG"/>
          <p:cNvPicPr/>
          <p:nvPr/>
        </p:nvPicPr>
        <p:blipFill>
          <a:blip r:embed="rId1"/>
          <a:stretch/>
        </p:blipFill>
        <p:spPr>
          <a:xfrm>
            <a:off x="928800" y="357120"/>
            <a:ext cx="7202520" cy="592956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0" y="428760"/>
            <a:ext cx="468648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клетк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репликация начинается со специфической точки в кольцевой ДНК (область начала репликации) и продолжается в обоих направлениях. В результате образуются две репликативные вилки, которые продвигаются в противоположных направлениях, т. е. обе цепи реплицируются одновременно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3" descr="C:\Documents and Settings\azid\Рабочий стол\презент\3.JPG"/>
          <p:cNvPicPr/>
          <p:nvPr/>
        </p:nvPicPr>
        <p:blipFill>
          <a:blip r:embed="rId1"/>
          <a:stretch/>
        </p:blipFill>
        <p:spPr>
          <a:xfrm>
            <a:off x="4572000" y="500040"/>
            <a:ext cx="4324320" cy="576252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28760" y="78552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ждая репликативная вилка включает по крайней мере две молекулы ДНК-полимеразы III, ассоциированные с несколькими вспомогательными белками. К последним относятся ДНК-топоизомеразы (гиразы), которые раскручивают плотно свернутую двойную спираль ДНК, и хеликазы, которые расплетают двухтяжевую ДНК на две цепи. Поскольку матричная цепь всегда читается в направлении 3'→5', только одна из цепей может считываться непрерывно. Другая цепь считывается в направлении, противоположном движению репликативной вилки. В результате на матрице вначале синтезируются короткие фрагменты новой цепи ДНК , так называемые фрагменты Оказаки , названные так по имени их первооткрывател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Picture 2" descr="C:\Documents and Settings\azid\Рабочий стол\презент\4.JPG"/>
          <p:cNvPicPr/>
          <p:nvPr/>
        </p:nvPicPr>
        <p:blipFill>
          <a:blip r:embed="rId1"/>
          <a:stretch/>
        </p:blipFill>
        <p:spPr>
          <a:xfrm>
            <a:off x="285840" y="847800"/>
            <a:ext cx="8486640" cy="501012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71680" y="9284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Каждый фрагмент начинается с короткой РНК-затравки , необходимой для функционирования ДНК-полимеразы. Праймер синтезируется специальной РНК-полимеразой, ДНК-полимераза III достраивает этот праймер до фрагмента ДНК длиной 1000-2000 дезоксинуклеотидных звеньев. Синтез этого фрагмента далее прерывается, и новый синтез начинается со следующего РНК-праймера. Индивидуальные фрагменты Оказаки первоначально не связаны друг с другом и все еще имеют РНК на 5'-концах. На некотором расстоянии от репликативной вилки ДНК-полимераза I начинает замещать РНК-праймер последовательностью ДНК. В завершение остающиеся одноцепочечные разрывы репарируются ДНК-лигазой. В образованной таким образом двойной спирали ДНК только одна из цепей синтезирована заново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9:22:27Z</dcterms:created>
  <dc:creator>azid</dc:creator>
  <dc:description/>
  <dc:language>en-US</dc:language>
  <cp:lastModifiedBy>LEGION</cp:lastModifiedBy>
  <dcterms:modified xsi:type="dcterms:W3CDTF">2015-01-05T09:27:29Z</dcterms:modified>
  <cp:revision>8</cp:revision>
  <dc:subject/>
  <dc:title>Репликация ДНК</dc:title>
</cp:coreProperties>
</file>