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932F-4C6F-47A1-BD7F-9CA6567411D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Мутацио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4738-6AAD-484A-9D1C-D067C75E388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адаптивному 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40A1-1564-4EDF-B544-70FE82C5C24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локализации в кле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итохондриях. Причем такие му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основном наследуются по женской ли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394A-0C4A-47FD-B9C0-D81864D7157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тационная те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ередаётся по наслед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AD91-E754-45BF-B3E6-028F2560E00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сновные положения этой те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я возникает внезапно, без всяких пере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нтные формы вполне устойч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мутации возникают в разных направлениях и могут быть как полезными, так и вредны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ыявление мутаций зависит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числа проанализированных особ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дни и те же мутации могут возникать повтор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F1C0-3795-46E9-8354-7BE7E0E56EF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A9E9-280A-4DD8-A0FC-7F82CCC83B3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утация-помощь челове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концентрациях мутагенным действием. В сельс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озяйстве используют минеральные у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48D-3545-40CF-B0BD-7F3FCAC32FF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DC68-2D10-45B3-B415-F15EA2F9816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3AFA-3CCA-4B33-A59F-FC2E0453139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не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D6AC-3388-4639-9D5F-67704CAE6A7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 ист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B0C-9528-4BD1-80EE-F7059A32D2D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Мута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F83D-E8CC-4110-87BD-F59F6183636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ем была созда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BD50-A00B-4CEB-88EE-957D0D08259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раздел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676-E8F7-485F-9602-372949A5DE6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лассификация мутац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способу воз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отношению к зачатковому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адаптивному знач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По локализации в кле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2A59-B1C4-4D59-B3FA-133DE206A6E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способу возникнов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Физ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Хим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70E9-E5C5-4ECF-A635-F884C6D0B14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 отношению к зачатковому пу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6214-B39F-4DE3-8415-4BCF7AF2490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008-322D-461E-BB5F-DBD0F05E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079-39BC-48C5-8BC6-3DA894D9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029-08B4-4A03-9C7A-517A1DDC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F4B-8989-4C4D-BB41-60D2D709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B0F26-2226-4CFC-98CC-F53FAE9D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685C8-7D7E-432A-85BE-400A6C04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30C60-D649-4DD9-AE5F-B3B7D5AC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422E2-8747-47A2-9CAE-7C3E1B9F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46993-016B-4043-885C-3E907327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3B53F-DD45-4E5E-AF69-538348EA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BE292-32F6-4532-AFEE-851A67B1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285-134E-49D7-B90F-1431C607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EE7FB-27CD-4DA5-9C1F-C68FECFC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D2918-8D5F-4084-9DC3-71F5FA2C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17E83-77DD-48CB-BDD2-94E7C778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907E8-1000-4E9E-B471-88E389D6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B5E86-96C0-446C-9BAE-B13B1819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E19-70FF-4436-9A11-EF74D3CB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544-4A86-4215-9F21-F282B3A2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B77-E46C-4321-9BE1-72EFE3E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547-ED52-4B3D-AF2C-4B6B2D90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D18-DC29-4D98-8317-6B7A1F5E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8A8-E093-4A17-9598-95C3ECD1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2CFB-5580-4162-8E73-20A13D4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58F2-51C3-42BB-9A70-98F6A605A0C4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9E22-5EE0-4D15-9023-6B068DC72DAB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1835280" y="3430440"/>
            <a:ext cx="74674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утационная изменчивость.</a:t>
            </a:r>
            <a:endParaRPr b="0" lang="en-US" sz="4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1044720" y="4805280"/>
            <a:ext cx="640872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Выполнила учениц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10 «А» класс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Средней школы №3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333399"/>
                </a:solidFill>
                <a:uFillTx/>
                <a:latin typeface="Arial"/>
              </a:rPr>
              <a:t>Третьякова Светлана</a:t>
            </a: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Picture 13" descr="AN00790_"/>
          <p:cNvPicPr/>
          <p:nvPr/>
        </p:nvPicPr>
        <p:blipFill>
          <a:blip r:embed="rId2"/>
          <a:stretch/>
        </p:blipFill>
        <p:spPr>
          <a:xfrm>
            <a:off x="7308720" y="517680"/>
            <a:ext cx="155124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NA02125_"/>
          <p:cNvPicPr/>
          <p:nvPr/>
        </p:nvPicPr>
        <p:blipFill>
          <a:blip r:embed="rId3"/>
          <a:stretch/>
        </p:blipFill>
        <p:spPr>
          <a:xfrm rot="20163600">
            <a:off x="318600" y="720360"/>
            <a:ext cx="379440" cy="40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NA02125_"/>
          <p:cNvPicPr/>
          <p:nvPr/>
        </p:nvPicPr>
        <p:blipFill>
          <a:blip r:embed="rId4"/>
          <a:stretch/>
        </p:blipFill>
        <p:spPr>
          <a:xfrm rot="20544000">
            <a:off x="317520" y="246240"/>
            <a:ext cx="58248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NA02125_"/>
          <p:cNvPicPr/>
          <p:nvPr/>
        </p:nvPicPr>
        <p:blipFill>
          <a:blip r:embed="rId5"/>
          <a:stretch/>
        </p:blipFill>
        <p:spPr>
          <a:xfrm rot="1433400">
            <a:off x="833400" y="382320"/>
            <a:ext cx="422280" cy="552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адаптивному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деляют положительные, отрицательные и нейтральные мутации. Эта классификация связана с оценкой жизнеспособности образовавшегося мутанта. По изменению генотипа. Мутации бывают генные, хромосомные и геномные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Picture 4" descr="38780"/>
          <p:cNvPicPr/>
          <p:nvPr/>
        </p:nvPicPr>
        <p:blipFill>
          <a:blip r:embed="rId1"/>
          <a:stretch/>
        </p:blipFill>
        <p:spPr>
          <a:xfrm>
            <a:off x="3132000" y="4149720"/>
            <a:ext cx="3229200" cy="1938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локализации в клет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делятся на ядерные и цитоплазматические. Плазматические мутации возникают в результате мутаций в плазмогенах, находящихся 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итохондриях. Причем такие мутац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основном наследуются по женской ли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4" descr="dna"/>
          <p:cNvPicPr/>
          <p:nvPr/>
        </p:nvPicPr>
        <p:blipFill>
          <a:blip r:embed="rId1"/>
          <a:stretch/>
        </p:blipFill>
        <p:spPr>
          <a:xfrm>
            <a:off x="3492360" y="4076640"/>
            <a:ext cx="2570400" cy="18414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онная 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онная теория утверждает, что из двух категорий изменчивости - непрерывной и прерывистой, только последня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аётся по наследству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6" name="Picture 4" descr="19-07-42379"/>
          <p:cNvPicPr/>
          <p:nvPr/>
        </p:nvPicPr>
        <p:blipFill>
          <a:blip r:embed="rId1"/>
          <a:stretch/>
        </p:blipFill>
        <p:spPr>
          <a:xfrm>
            <a:off x="1187280" y="3357720"/>
            <a:ext cx="1940040" cy="2585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00224839-preview"/>
          <p:cNvPicPr/>
          <p:nvPr/>
        </p:nvPicPr>
        <p:blipFill>
          <a:blip r:embed="rId2"/>
          <a:stretch/>
        </p:blipFill>
        <p:spPr>
          <a:xfrm>
            <a:off x="5219640" y="3429000"/>
            <a:ext cx="2879640" cy="2401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сновные положения этой теор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я возникает внезапно, без всяких переходов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нтные формы вполне устойчивы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- изменения качественные и в отличие от ненаследственных изменений (флуктуаций) не образуют непрерывных рядов, не группируются вокруг среднего типа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утации возникают в разных направлениях и могут быть как полезными, так и вредными;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ыявление мутаций зависит от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числа проанализированных особей;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дни и те же мутации могут возникать повторно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сновной ошибкой в мутационной теории Де Фриза было утверждение, что в результате мутации без участия естественного отбора могут сразу возникать новые виды. В действительности мутационная изменчивость наряду с комбинативной создаёт материал для естественного отбора, который формирует виды в процессе эволюц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Picture 4" descr="72399"/>
          <p:cNvPicPr/>
          <p:nvPr/>
        </p:nvPicPr>
        <p:blipFill>
          <a:blip r:embed="rId1"/>
          <a:stretch/>
        </p:blipFill>
        <p:spPr>
          <a:xfrm>
            <a:off x="684360" y="4292640"/>
            <a:ext cx="2722320" cy="185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Мутация-помощь человек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дуцированные мутации широко используются в селекционной работе для быстрого получения разнообразия исходного материала с последующим применением искусственного отбора в направлении, представляющем интерес для человека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В последние десятилетия в народном хозяйстве всех стран широко применяются различные химические соединения и радиоактивные вещества, обладающие в определённых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концентрациях мутагенным действием. В сельско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хозяйстве используют минеральные удобрения,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инсектициды, гербициды, дефолианты, в промышленности - формалин, аммиак, кислоты, щёлочи и другие химические соединения.</a:t>
            </a:r>
            <a:r>
              <a:rPr b="0" lang="ru-RU" sz="1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8" name="Picture 4" descr="normal_medclipart_0359"/>
          <p:cNvPicPr/>
          <p:nvPr/>
        </p:nvPicPr>
        <p:blipFill>
          <a:blip r:embed="rId1"/>
          <a:stretch/>
        </p:blipFill>
        <p:spPr>
          <a:xfrm>
            <a:off x="1116000" y="4941720"/>
            <a:ext cx="2008080" cy="13352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ред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утационный процесс является главным источником изменений, приводящим к различным патологиям. Задачи науки на ближайшие время определяются как уменьшения генетического груза путем предотвращения или снижения вероятности мутаций и устранения возникших в ДНК изменений с помощью генной инженер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2" name="Picture 4" descr="programmirovanie-molekul-dnk-0"/>
          <p:cNvPicPr/>
          <p:nvPr/>
        </p:nvPicPr>
        <p:blipFill>
          <a:blip r:embed="rId1"/>
          <a:stretch/>
        </p:blipFill>
        <p:spPr>
          <a:xfrm>
            <a:off x="3203640" y="4653000"/>
            <a:ext cx="2592360" cy="16430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biser_info_4113_dnk-8_070504_preview"/>
          <p:cNvPicPr/>
          <p:nvPr/>
        </p:nvPicPr>
        <p:blipFill>
          <a:blip r:embed="rId1"/>
          <a:stretch/>
        </p:blipFill>
        <p:spPr>
          <a:xfrm>
            <a:off x="3059280" y="4005360"/>
            <a:ext cx="3313080" cy="2198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"/>
              </a:rPr>
              <a:t>За короткий срок генетика выросла в разветвленную биологическую науку с широким кругом экспериментальных методов и направлении. Большое внимание уделяется мутационным изменениям клеток и организмов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енетик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Генетика - наука о наследственности и её изменчивости - получила развитие в начале XX в. , после того как исследователи обратили внимание на законы Г. Менделя , открытые в 1865 г., Название генетика было предложено английским ученым У.Бэтсоном в 1906 г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8" name="Picture 5" descr="001"/>
          <p:cNvPicPr/>
          <p:nvPr/>
        </p:nvPicPr>
        <p:blipFill>
          <a:blip r:embed="rId1"/>
          <a:stretch/>
        </p:blipFill>
        <p:spPr>
          <a:xfrm>
            <a:off x="826920" y="4149720"/>
            <a:ext cx="1729080" cy="1639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Из истори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опытки понять природу передачи признаков по наследству от родителей детям предпринимались ещё в древности. Размышления на эту тему встречаются в сочинениях Гиппократа, Аристотеля и других мыслителей. В XVII -XVIII гг., когда биологи начали искать с каким началом - мужским или с женским - связанна тайна оплодотворения, споры о природе наследственности возобновились с новой сило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утац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утационная изменчивость связана с процессом образования мутаций. Мутации – это внезапные скачкообразные стойкие изменения в структуре генотип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Picture 4" descr="02dfasgcvmkfd"/>
          <p:cNvPicPr/>
          <p:nvPr/>
        </p:nvPicPr>
        <p:blipFill>
          <a:blip r:embed="rId1"/>
          <a:stretch/>
        </p:blipFill>
        <p:spPr>
          <a:xfrm>
            <a:off x="2700360" y="3573360"/>
            <a:ext cx="3594240" cy="2311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ем была созда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Организмы у которых произошла мутация называются мутантами. Мутационная теория была создана Гуго де Фризом в 1901-1903 гг. На основных ее положениях строила современная генетика: мутации, дискретные изменения наследственности, в природе спонтанны, мутации передаются по наследству, встречаются достаточно редко и могут быть различных типов. В зависимости от того какой признак положен в основу, на сегодняшний день существует несколько систем классификации мутаций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dnk"/>
          <p:cNvPicPr/>
          <p:nvPr/>
        </p:nvPicPr>
        <p:blipFill>
          <a:blip r:embed="rId1"/>
          <a:stretch/>
        </p:blipFill>
        <p:spPr>
          <a:xfrm>
            <a:off x="1547640" y="1484280"/>
            <a:ext cx="6070680" cy="4508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способу возникнове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отношению к зачатковому пут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адаптивному значению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По локализации в клетк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Классификация мутаций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8"/>
          <p:cNvPicPr/>
          <p:nvPr/>
        </p:nvPicPr>
        <p:blipFill>
          <a:blip r:embed="rId1"/>
          <a:stretch/>
        </p:blipFill>
        <p:spPr>
          <a:xfrm>
            <a:off x="3276720" y="3860640"/>
            <a:ext cx="2781360" cy="21463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По способу возникнов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Различают спонтанные и индуцированные мутации. Спонтанные происходят в природе крайне редко с частотой 1-100 на миллион экземпляров данного гена. В настоящие время очевидно, что спонтанный мутационный процесс зависит как от внутренних, так и от внешних факторов, которые называют мутационным давлением среды. Индуцированные мутации возникают при воздействии на человека мутагенами –факторами, вызывающими мутации. Мутагены же бывают трех видов: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Физ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Химическ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иологическ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9" name="Picture 4" descr="080143_0"/>
          <p:cNvPicPr/>
          <p:nvPr/>
        </p:nvPicPr>
        <p:blipFill>
          <a:blip r:embed="rId1"/>
          <a:stretch/>
        </p:blipFill>
        <p:spPr>
          <a:xfrm>
            <a:off x="826920" y="4724280"/>
            <a:ext cx="1524240" cy="142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Arial"/>
              </a:rPr>
              <a:t>По отношению к зачатковому пут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Существуют соматические и генеративные мутации. Генеративные мутации возникают в репродуктивных тканях и поэтому не всегда выявляются. Для того, чтобы выявилась генеративная мутация, необходимо, чтобы мутантная гамета участвовала в оплодотворении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PR20040622165041"/>
          <p:cNvPicPr/>
          <p:nvPr/>
        </p:nvPicPr>
        <p:blipFill>
          <a:blip r:embed="rId1"/>
          <a:stretch/>
        </p:blipFill>
        <p:spPr>
          <a:xfrm>
            <a:off x="755640" y="42926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mol4"/>
          <p:cNvPicPr/>
          <p:nvPr/>
        </p:nvPicPr>
        <p:blipFill>
          <a:blip r:embed="rId2"/>
          <a:stretch/>
        </p:blipFill>
        <p:spPr>
          <a:xfrm>
            <a:off x="5940360" y="4149720"/>
            <a:ext cx="2452680" cy="1800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2:52:36Z</dcterms:created>
  <dc:creator>user</dc:creator>
  <dc:description/>
  <cp:keywords>"PowerLexis" - Презентационное агентство</cp:keywords>
  <dc:language>en-US</dc:language>
  <cp:lastModifiedBy>LEGION</cp:lastModifiedBy>
  <dcterms:modified xsi:type="dcterms:W3CDTF">2015-01-05T09:30:40Z</dcterms:modified>
  <cp:revision>9</cp:revision>
  <dc:subject/>
  <dc:title>Слайд 1</dc:title>
</cp:coreProperties>
</file>