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6CC3-A7BB-454A-B811-B6430FDABA0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Мутационная изменчив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84EF-3EDC-4AFE-A748-196D666B67FB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адаптивному значен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ыделяют положительные, отрицательные и нейтральные мутации. Эта классификация связана с оценкой жизнеспособности образовавшегося мутанта. По изменению генотипа. Мутации бывают генные, хромосомные и геном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5633-78FC-4D4A-8105-A272522DC964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локализации в клет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и делятся на ядерные и цитоплазматические. Плазматические мутации возникают в результате мутаций в плазмогенах, находящих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итохондриях. Причем такие мут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 основном наследуются по женской ли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1F85-8719-4D87-899D-AB46543D0AC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утационная те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онная теория утверждает, что из двух категорий изменчивости - непрерывной и прерывистой, только последня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передаётся по наследст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F1DC-04D4-44CF-9BFA-45C735BB7DCC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Основные положения этой теори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я возникает внезапно, без всяких пере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нтные формы вполне устойчи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и - изменения качественные и в отличие от ненаследственных изменений (флуктуаций) не образуют непрерывных рядов, не группируются вокруг среднего тип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и возникают в разных направлениях и могут быть как полезными, так и вредны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ыявление мутаций зависит о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числа проанализированных особ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дни и те же мутации могут возникать повтор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CFDE-019E-470F-BCFA-997C31089314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Основной ошибкой в мутационной теории Де Фриза было утверждение, что в результате мутации без участия естественного отбора могут сразу возникать новые виды. В действительности мутационная изменчивость наряду с комбинативной создаёт материал для естественного отбора, который формирует виды в процессе эволю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F2A6-4DCD-443C-93B1-D3889AE98F6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утация-помощь человек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Индуцированные мутации широко используются в селекционной работе для быстрого получения разнообразия исходного материала с последующим применением искусственного отбора в направлении, представляющем интерес для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В последние десятилетия в народном хозяйстве всех стран широко применяются различные химические соединения и радиоактивные вещества, обладающие в определё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концентрациях мутагенным действием. В сельс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хозяйстве используют минеральные удобр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инсектициды, гербициды, дефолианты, в промышленности - формалин, аммиак, кислоты, щёлочи и другие химические соединения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BE48-8A65-4FB4-AA14-9EF0595671F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ред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утационный процесс является главным источником изменений, приводящим к различным патологиям. Задачи науки на ближайшие время определяются как уменьшения генетического груза путем предотвращения или снижения вероятности мутаций и устранения возникших в ДНК изменений с помощью генной инжен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8885-8DBA-4AAD-A667-E729F2632E3B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 короткий срок генетика выросла в разветвленную биологическую науку с широким кругом экспериментальных методов и направлении. Большое внимание уделяется мутационным изменениям клеток и 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CB91-26C0-4477-AF66-B37544554312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нети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енетика - наука о наследственности и её изменчивости - получила развитие в начале XX в. , после того как исследователи обратили внимание на законы Г. Менделя , открытые в 1865 г., Название генетика было предложено английским ученым У.Бэтсоном в 1906 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0C0F-4DF7-4705-B296-9FEA9DD2466C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з ист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пытки понять природу передачи признаков по наследству от родителей детям предпринимались ещё в древности. Размышления на эту тему встречаются в сочинениях Гиппократа, Аристотеля и других мыслителей. В XVII -XVIII гг., когда биологи начали искать с каким началом - мужским или с женским - связанна тайна оплодотворения, споры о природе наследственности возобновились с новой с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4DE7-AAF4-47B8-B4B8-12697A58F714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утаци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утационная изменчивость связана с процессом образования мутаций. Мутации – это внезапные скачкообразные стойкие изменения в структуре геноти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43CB-A221-40D8-9974-37F3B60C28D9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ем была создан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Организмы у которых произошла мутация называются мутантами. Мутационная теория была создана Гуго де Фризом в 1901-1903 гг. На основных ее положениях строила современная генетика: мутации, дискретные изменения наследственности, в природе спонтанны, мутации передаются по наследству, встречаются достаточно редко и могут быть различных типов. В зависимости от того какой признак положен в основу, на сегодняшний день существует несколько систем классификации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6A03-F845-4A16-9723-DB9C54DC07F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раздел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3C21-4D1A-48D9-9E8A-41479E191779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лассификация мутац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способу возникнов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отношению к зачатковому пу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адаптивному знач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локализации в клет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1E38-3162-45C6-8896-DEEDC0D360EE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способу возникнов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Различают спонтанные и индуцированные мутации. Спонтанные происходят в природе крайне редко с частотой 1-100 на миллион экземпляров данного гена. В настоящие время очевидно, что спонтанный мутационный процесс зависит как от внутренних, так и от внешних факторов, которые называют мутационным давлением среды. Индуцированные мутации возникают при воздействии на человека мутагенами –факторами, вызывающими мутации. Мутагены же бывают трех вид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Физ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Хим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7CD4-EA0E-4D8E-BC88-BA14D0CACAC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отношению к зачатковому пу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Существуют соматические и генеративные мутации. Генеративные мутации возникают в репродуктивных тканях и поэтому не всегда выявляются. Для того, чтобы выявилась генеративная мутация, необходимо, чтобы мутантная гамета участвовала в оплодотвор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2D93-B796-4D79-8846-87B3D1806931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BB0-6F1E-42F7-932A-4F514D86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3052-B513-4B83-AC43-0EF75300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01A5-8022-4F90-821D-9311FA26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D76-FAA0-4B5C-B62E-CC34D600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FD415-310F-4D46-9B4D-8E424C15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9FDA0-99F1-48BF-9851-4B73C981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8C9BE-7494-44E2-BE18-FD9CBC33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FFF3D-1B79-49D7-9750-82F2B046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93263-D82E-456F-8093-DE7141A4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44B29-4078-4AF7-9190-4C4671FB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58DEE-3891-4D77-ABBA-66740864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7D66-46BA-47F4-9B2B-5DFADBC8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4CF0A-43D2-4866-A6EE-A4C38C7C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C3932-A343-41B9-AF65-9F32DF58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0AAFC-C4CB-49FE-85B8-1F6132E5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EECF7-35AF-442C-8BC2-BAD543A5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F0A2A-F41C-4A9D-9D35-9526C537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B77C-9FDF-42C7-9D2A-60EEA3C2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48B3-05EA-4237-8AE4-EA546D9A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6CB1-2812-424A-A566-669885ED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0024-8551-4601-8465-65D5F77F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CACA-6AB5-4553-93E4-8023932B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2AB0-67BB-469D-A378-C1003D2D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DC7B-6986-4477-9A84-0FD2A652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5370-77AD-4C97-BD8A-A89BC9456981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E70C-47FA-4D05-A3CE-90919BC67174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"/>
          <p:cNvSpPr/>
          <p:nvPr/>
        </p:nvSpPr>
        <p:spPr>
          <a:xfrm>
            <a:off x="1835280" y="3430440"/>
            <a:ext cx="74674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Мутационная изменчивость.</a:t>
            </a:r>
            <a:endParaRPr b="0" lang="en-US" sz="4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-1044720" y="4805280"/>
            <a:ext cx="640872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Выполнила ученица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10 «А» класса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Средней школы №3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Третьякова Светлана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1" name="Picture 13" descr="AN00790_"/>
          <p:cNvPicPr/>
          <p:nvPr/>
        </p:nvPicPr>
        <p:blipFill>
          <a:blip r:embed="rId2"/>
          <a:stretch/>
        </p:blipFill>
        <p:spPr>
          <a:xfrm>
            <a:off x="7308720" y="517680"/>
            <a:ext cx="1551240" cy="1520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NA02125_"/>
          <p:cNvPicPr/>
          <p:nvPr/>
        </p:nvPicPr>
        <p:blipFill>
          <a:blip r:embed="rId3"/>
          <a:stretch/>
        </p:blipFill>
        <p:spPr>
          <a:xfrm rot="20163600">
            <a:off x="318600" y="720360"/>
            <a:ext cx="379440" cy="403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NA02125_"/>
          <p:cNvPicPr/>
          <p:nvPr/>
        </p:nvPicPr>
        <p:blipFill>
          <a:blip r:embed="rId4"/>
          <a:stretch/>
        </p:blipFill>
        <p:spPr>
          <a:xfrm rot="20544000">
            <a:off x="317520" y="246240"/>
            <a:ext cx="582480" cy="61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NA02125_"/>
          <p:cNvPicPr/>
          <p:nvPr/>
        </p:nvPicPr>
        <p:blipFill>
          <a:blip r:embed="rId5"/>
          <a:stretch/>
        </p:blipFill>
        <p:spPr>
          <a:xfrm rot="1433400">
            <a:off x="833400" y="382320"/>
            <a:ext cx="422280" cy="5522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 адаптивному знач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ыделяют положительные, отрицательные и нейтральные мутации. Эта классификация связана с оценкой жизнеспособности образовавшегося мутанта. По изменению генотипа. Мутации бывают генные, хромосомные и геномные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8" name="Picture 4" descr="38780"/>
          <p:cNvPicPr/>
          <p:nvPr/>
        </p:nvPicPr>
        <p:blipFill>
          <a:blip r:embed="rId1"/>
          <a:stretch/>
        </p:blipFill>
        <p:spPr>
          <a:xfrm>
            <a:off x="3132000" y="4149720"/>
            <a:ext cx="3229200" cy="19382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 локализации в клетк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и делятся на ядерные и цитоплазматические. Плазматические мутации возникают в результате мутаций в плазмогенах, находящихся в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итохондриях. Причем такие мутаци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основном наследуются по женской лин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32" name="Picture 4" descr="dna"/>
          <p:cNvPicPr/>
          <p:nvPr/>
        </p:nvPicPr>
        <p:blipFill>
          <a:blip r:embed="rId1"/>
          <a:stretch/>
        </p:blipFill>
        <p:spPr>
          <a:xfrm>
            <a:off x="3492360" y="4076640"/>
            <a:ext cx="2570400" cy="18414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утационная теор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онная теория утверждает, что из двух категорий изменчивости - непрерывной и прерывистой, только последняя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ередаётся по наследству.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36" name="Picture 4" descr="19-07-42379"/>
          <p:cNvPicPr/>
          <p:nvPr/>
        </p:nvPicPr>
        <p:blipFill>
          <a:blip r:embed="rId1"/>
          <a:stretch/>
        </p:blipFill>
        <p:spPr>
          <a:xfrm>
            <a:off x="1187280" y="3357720"/>
            <a:ext cx="1940040" cy="2585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0000224839-preview"/>
          <p:cNvPicPr/>
          <p:nvPr/>
        </p:nvPicPr>
        <p:blipFill>
          <a:blip r:embed="rId2"/>
          <a:stretch/>
        </p:blipFill>
        <p:spPr>
          <a:xfrm>
            <a:off x="5219640" y="3429000"/>
            <a:ext cx="2879640" cy="24019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сновные положения этой теор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я возникает внезапно, без всяких переходов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нтные формы вполне устойчивы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и - изменения качественные и в отличие от ненаследственных изменений (флуктуаций) не образуют непрерывных рядов, не группируются вокруг среднего типа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и возникают в разных направлениях и могут быть как полезными, так и вредными;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ыявление мутаций зависит от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числа проанализированных особей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дни и те же мутации могут возникать повторно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Основной ошибкой в мутационной теории Де Фриза было утверждение, что в результате мутации без участия естественного отбора могут сразу возникать новые виды. В действительности мутационная изменчивость наряду с комбинативной создаёт материал для естественного отбора, который формирует виды в процессе эволюц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4" name="Picture 4" descr="72399"/>
          <p:cNvPicPr/>
          <p:nvPr/>
        </p:nvPicPr>
        <p:blipFill>
          <a:blip r:embed="rId1"/>
          <a:stretch/>
        </p:blipFill>
        <p:spPr>
          <a:xfrm>
            <a:off x="684360" y="4292640"/>
            <a:ext cx="2722320" cy="1854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Мутация-помощь человек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Индуцированные мутации широко используются в селекционной работе для быстрого получения разнообразия исходного материала с последующим применением искусственного отбора в направлении, представляющем интерес для человека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В последние десятилетия в народном хозяйстве всех стран широко применяются различные химические соединения и радиоактивные вещества, обладающие в определённых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концентрациях мутагенным действием. В сельском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хозяйстве используют минеральные удобрения,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инсектициды, гербициды, дефолианты, в промышленности - формалин, аммиак, кислоты, щёлочи и другие химические соединения.</a:t>
            </a:r>
            <a:r>
              <a:rPr b="0" lang="ru-RU" sz="10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8" name="Picture 4" descr="normal_medclipart_0359"/>
          <p:cNvPicPr/>
          <p:nvPr/>
        </p:nvPicPr>
        <p:blipFill>
          <a:blip r:embed="rId1"/>
          <a:stretch/>
        </p:blipFill>
        <p:spPr>
          <a:xfrm>
            <a:off x="1116000" y="4941720"/>
            <a:ext cx="2008080" cy="13352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ред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Мутационный процесс является главным источником изменений, приводящим к различным патологиям. Задачи науки на ближайшие время определяются как уменьшения генетического груза путем предотвращения или снижения вероятности мутаций и устранения возникших в ДНК изменений с помощью генной инженер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52" name="Picture 4" descr="programmirovanie-molekul-dnk-0"/>
          <p:cNvPicPr/>
          <p:nvPr/>
        </p:nvPicPr>
        <p:blipFill>
          <a:blip r:embed="rId1"/>
          <a:stretch/>
        </p:blipFill>
        <p:spPr>
          <a:xfrm>
            <a:off x="3203640" y="4653000"/>
            <a:ext cx="2592360" cy="16430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biser_info_4113_dnk-8_070504_preview"/>
          <p:cNvPicPr/>
          <p:nvPr/>
        </p:nvPicPr>
        <p:blipFill>
          <a:blip r:embed="rId1"/>
          <a:stretch/>
        </p:blipFill>
        <p:spPr>
          <a:xfrm>
            <a:off x="3059280" y="4005360"/>
            <a:ext cx="3313080" cy="2198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05ff6"/>
                </a:solidFill>
                <a:latin typeface="Arial"/>
              </a:rPr>
              <a:t>За короткий срок генетика выросла в разветвленную биологическую науку с широким кругом экспериментальных методов и направлении. Большое внимание уделяется мутационным изменениям клеток и организмов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Генетика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Генетика - наука о наследственности и её изменчивости - получила развитие в начале XX в. , после того как исследователи обратили внимание на законы Г. Менделя , открытые в 1865 г., Название генетика было предложено английским ученым У.Бэтсоном в 1906 г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8" name="Picture 5" descr="001"/>
          <p:cNvPicPr/>
          <p:nvPr/>
        </p:nvPicPr>
        <p:blipFill>
          <a:blip r:embed="rId1"/>
          <a:stretch/>
        </p:blipFill>
        <p:spPr>
          <a:xfrm>
            <a:off x="826920" y="4149720"/>
            <a:ext cx="1729080" cy="16398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Из истори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05ff6"/>
                </a:solidFill>
                <a:latin typeface="Arial"/>
              </a:rPr>
              <a:t>Попытки понять природу передачи признаков по наследству от родителей детям предпринимались ещё в древности. Размышления на эту тему встречаются в сочинениях Гиппократа, Аристотеля и других мыслителей. В XVII -XVIII гг., когда биологи начали искать с каким началом - мужским или с женским - связанна тайна оплодотворения, споры о природе наследственности возобновились с новой силой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утаци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Мутационная изменчивость связана с процессом образования мутаций. Мутации – это внезапные скачкообразные стойкие изменения в структуре генотипа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5" name="Picture 4" descr="02dfasgcvmkfd"/>
          <p:cNvPicPr/>
          <p:nvPr/>
        </p:nvPicPr>
        <p:blipFill>
          <a:blip r:embed="rId1"/>
          <a:stretch/>
        </p:blipFill>
        <p:spPr>
          <a:xfrm>
            <a:off x="2700360" y="3573360"/>
            <a:ext cx="3594240" cy="23115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Кем была создан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Организмы у которых произошла мутация называются мутантами. Мутационная теория была создана Гуго де Фризом в 1901-1903 гг. На основных ее положениях строила современная генетика: мутации, дискретные изменения наследственности, в природе спонтанны, мутации передаются по наследству, встречаются достаточно редко и могут быть различных типов. В зависимости от того какой признак положен в основу, на сегодняшний день существует несколько систем классификации мутаций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лайд разделите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dnk"/>
          <p:cNvPicPr/>
          <p:nvPr/>
        </p:nvPicPr>
        <p:blipFill>
          <a:blip r:embed="rId1"/>
          <a:stretch/>
        </p:blipFill>
        <p:spPr>
          <a:xfrm>
            <a:off x="1547640" y="1484280"/>
            <a:ext cx="6070680" cy="45086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способу возникновения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отношению к зачатковому пути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адаптивному значению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локализации в клетке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Классификация мутаций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8"/>
          <p:cNvPicPr/>
          <p:nvPr/>
        </p:nvPicPr>
        <p:blipFill>
          <a:blip r:embed="rId1"/>
          <a:stretch/>
        </p:blipFill>
        <p:spPr>
          <a:xfrm>
            <a:off x="3276720" y="3860640"/>
            <a:ext cx="2781360" cy="21463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 способу возникнов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Различают спонтанные и индуцированные мутации. Спонтанные происходят в природе крайне редко с частотой 1-100 на миллион экземпляров данного гена. В настоящие время очевидно, что спонтанный мутационный процесс зависит как от внутренних, так и от внешних факторов, которые называют мутационным давлением среды. Индуцированные мутации возникают при воздействии на человека мутагенами –факторами, вызывающими мутации. Мутагены же бывают трех видов: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Физически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Химически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Биологические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9" name="Picture 4" descr="080143_0"/>
          <p:cNvPicPr/>
          <p:nvPr/>
        </p:nvPicPr>
        <p:blipFill>
          <a:blip r:embed="rId1"/>
          <a:stretch/>
        </p:blipFill>
        <p:spPr>
          <a:xfrm>
            <a:off x="826920" y="4724280"/>
            <a:ext cx="1524240" cy="14274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ffffff"/>
                </a:solidFill>
                <a:latin typeface="Arial"/>
              </a:rPr>
              <a:t>По отношению к зачатковому пут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Существуют соматические и генеративные мутации. Генеративные мутации возникают в репродуктивных тканях и поэтому не всегда выявляются. Для того, чтобы выявилась генеративная мутация, необходимо, чтобы мутантная гамета участвовала в оплодотворен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3" name="Picture 4" descr="PR20040622165041"/>
          <p:cNvPicPr/>
          <p:nvPr/>
        </p:nvPicPr>
        <p:blipFill>
          <a:blip r:embed="rId1"/>
          <a:stretch/>
        </p:blipFill>
        <p:spPr>
          <a:xfrm>
            <a:off x="755640" y="429264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ol4"/>
          <p:cNvPicPr/>
          <p:nvPr/>
        </p:nvPicPr>
        <p:blipFill>
          <a:blip r:embed="rId2"/>
          <a:stretch/>
        </p:blipFill>
        <p:spPr>
          <a:xfrm>
            <a:off x="5940360" y="4149720"/>
            <a:ext cx="2452680" cy="18003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2:52:36Z</dcterms:created>
  <dc:creator>user</dc:creator>
  <dc:description/>
  <cp:keywords>"PowerLexis" - Презентационное агентство</cp:keywords>
  <dc:language>en-US</dc:language>
  <cp:lastModifiedBy>LEGION</cp:lastModifiedBy>
  <dcterms:modified xsi:type="dcterms:W3CDTF">2015-01-05T09:30:40Z</dcterms:modified>
  <cp:revision>9</cp:revision>
  <dc:subject/>
  <dc:title>Слайд 1</dc:title>
</cp:coreProperties>
</file>