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09D3-C7A9-4DD2-9094-31AAE7F811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Мутацио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C125-1B24-49D6-B21B-DC8E3028508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адаптивному 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9ECF-B89E-42B5-A25A-FDD56EDCE8C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локализации в кле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итохондриях. Причем такие му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основном наследуются по женской ли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68AD-8637-4EF7-9FF5-3BD0C7CA1F6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тационная те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ередаётся по наслед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E4C7-A649-4416-B161-1EC49469247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сновные положения этой те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я возникает внезапно, без всяких пере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нтные формы вполне устойч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возникают в разных направлениях и могут быть как полезными, так и вредны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явление мутаций 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числа проанализированных особ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дни и те же мутации могут возникать повтор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9F04-C402-43C1-B902-1F28F6533BA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96AC-041D-48A3-8E78-F6DE7B9E979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утация-помощь челове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концентрациях мутагенным действием. В сельс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озяйстве используют минеральные у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40F4-5998-4961-9342-48B642644BF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8804-0D11-40FD-899C-B73E023B9FB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C4DC-6E31-4F9C-80EE-F9E35479687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не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EA9E-DA4A-48E5-B70A-99954F2A148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 ист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9AA8-2131-48B3-9071-BCF41E4CABA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та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F13E-F96B-45EC-901E-B8DC32F32C2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ем была созда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2B65-BE7F-486B-9C9C-004E0B54292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разд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2E60-DC10-4385-9B02-C6530A70AFC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лассификация мутац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способу воз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отношению к зачатковому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адаптивному знач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локализац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9C55-C7FE-41DE-8A2E-4590E645179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способу возникнов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Физ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им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85E-3622-4A3C-B3A0-B3FCA16C1C7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отношению к зачатковому пу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F451-2171-4D01-8021-B934B6F635B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947-CF0E-46DD-81CF-1E5BBA58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43A-D253-4A5E-B4D7-5C96F157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534-D37B-4F0A-934A-888E5E74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6FD-8522-424E-AA27-83FB907C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3A3AF-4B70-4C05-9C77-A8259ECE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EB848-6B5C-40BE-8456-B4778209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381DD-5DFE-4950-AC98-4CBB6F48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07AE7-1684-4102-BE3E-5562DA8F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D4542-22BE-4475-803F-0644D1DB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13255-86D7-47DC-BB4E-F42F6CB4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44F8C-B428-49EC-A016-2108572D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42E-6DCE-4989-897F-0C9A0135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960D0-C2CE-4863-BE52-146090F4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5CB2C-08EE-48A4-AF37-496BB65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A3FC0-7ADA-4321-9AA0-6CB06760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A1A72-C639-4B96-8A3B-F295E85B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6C89B-5C28-42FC-B66B-0B667AA7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64F-0F9D-467B-8C34-15D25008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C3D-F1E1-4A65-8072-A0E09883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CF3-5D38-4179-83AD-BDAA531F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A3A-94D7-4DFA-9E26-ACC62346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64C-7B55-40B1-991F-543E0D76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F6A-B64B-45A6-B6D0-4A628DEE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43E-851A-4DE1-9AD9-A7E7B2D2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A33D-6E55-425B-81A8-28904EC99F0F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7FCC-E2CF-40BB-BBA6-BE9CE83889E6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1835280" y="3430440"/>
            <a:ext cx="7467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утационная изменчивость.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1044720" y="4805280"/>
            <a:ext cx="64087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Выполнила учениц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10 «А» класс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Средней школы №3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Третьякова Светлан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3" descr="AN00790_"/>
          <p:cNvPicPr/>
          <p:nvPr/>
        </p:nvPicPr>
        <p:blipFill>
          <a:blip r:embed="rId2"/>
          <a:stretch/>
        </p:blipFill>
        <p:spPr>
          <a:xfrm>
            <a:off x="7308720" y="517680"/>
            <a:ext cx="155124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NA02125_"/>
          <p:cNvPicPr/>
          <p:nvPr/>
        </p:nvPicPr>
        <p:blipFill>
          <a:blip r:embed="rId3"/>
          <a:stretch/>
        </p:blipFill>
        <p:spPr>
          <a:xfrm rot="20163600">
            <a:off x="318600" y="720360"/>
            <a:ext cx="37944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NA02125_"/>
          <p:cNvPicPr/>
          <p:nvPr/>
        </p:nvPicPr>
        <p:blipFill>
          <a:blip r:embed="rId4"/>
          <a:stretch/>
        </p:blipFill>
        <p:spPr>
          <a:xfrm rot="20544000">
            <a:off x="317520" y="246240"/>
            <a:ext cx="58248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NA02125_"/>
          <p:cNvPicPr/>
          <p:nvPr/>
        </p:nvPicPr>
        <p:blipFill>
          <a:blip r:embed="rId5"/>
          <a:stretch/>
        </p:blipFill>
        <p:spPr>
          <a:xfrm rot="1433400">
            <a:off x="833400" y="382320"/>
            <a:ext cx="422280" cy="552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адаптивному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Picture 4" descr="38780"/>
          <p:cNvPicPr/>
          <p:nvPr/>
        </p:nvPicPr>
        <p:blipFill>
          <a:blip r:embed="rId1"/>
          <a:stretch/>
        </p:blipFill>
        <p:spPr>
          <a:xfrm>
            <a:off x="3132000" y="4149720"/>
            <a:ext cx="3229200" cy="1938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локализации в клет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итохондриях. Причем такие мутац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основном наследуются по женской ли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4" descr="dna"/>
          <p:cNvPicPr/>
          <p:nvPr/>
        </p:nvPicPr>
        <p:blipFill>
          <a:blip r:embed="rId1"/>
          <a:stretch/>
        </p:blipFill>
        <p:spPr>
          <a:xfrm>
            <a:off x="3492360" y="4076640"/>
            <a:ext cx="257040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онная те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даётся по наследству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6" name="Picture 4" descr="19-07-42379"/>
          <p:cNvPicPr/>
          <p:nvPr/>
        </p:nvPicPr>
        <p:blipFill>
          <a:blip r:embed="rId1"/>
          <a:stretch/>
        </p:blipFill>
        <p:spPr>
          <a:xfrm>
            <a:off x="1187280" y="3357720"/>
            <a:ext cx="1940040" cy="258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00224839-preview"/>
          <p:cNvPicPr/>
          <p:nvPr/>
        </p:nvPicPr>
        <p:blipFill>
          <a:blip r:embed="rId2"/>
          <a:stretch/>
        </p:blipFill>
        <p:spPr>
          <a:xfrm>
            <a:off x="5219640" y="3429000"/>
            <a:ext cx="2879640" cy="2401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положения этой теор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я возникает внезапно, без всяких переходов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нтные формы вполне устойчивы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возникают в разных направлениях и могут быть как полезными, так и вредными;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явление мутаций зависит от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исла проанализированных особ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дни и те же мутации могут возникать повторно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Picture 4" descr="72399"/>
          <p:cNvPicPr/>
          <p:nvPr/>
        </p:nvPicPr>
        <p:blipFill>
          <a:blip r:embed="rId1"/>
          <a:stretch/>
        </p:blipFill>
        <p:spPr>
          <a:xfrm>
            <a:off x="684360" y="4292640"/>
            <a:ext cx="2722320" cy="185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утация-помощь человек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онцентрациях мутагенным действием. В сельско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хозяйстве используют минеральные удобрения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8" name="Picture 4" descr="normal_medclipart_0359"/>
          <p:cNvPicPr/>
          <p:nvPr/>
        </p:nvPicPr>
        <p:blipFill>
          <a:blip r:embed="rId1"/>
          <a:stretch/>
        </p:blipFill>
        <p:spPr>
          <a:xfrm>
            <a:off x="1116000" y="4941720"/>
            <a:ext cx="2008080" cy="1335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ре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2" name="Picture 4" descr="programmirovanie-molekul-dnk-0"/>
          <p:cNvPicPr/>
          <p:nvPr/>
        </p:nvPicPr>
        <p:blipFill>
          <a:blip r:embed="rId1"/>
          <a:stretch/>
        </p:blipFill>
        <p:spPr>
          <a:xfrm>
            <a:off x="3203640" y="4653000"/>
            <a:ext cx="2592360" cy="16430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biser_info_4113_dnk-8_070504_preview"/>
          <p:cNvPicPr/>
          <p:nvPr/>
        </p:nvPicPr>
        <p:blipFill>
          <a:blip r:embed="rId1"/>
          <a:stretch/>
        </p:blipFill>
        <p:spPr>
          <a:xfrm>
            <a:off x="3059280" y="4005360"/>
            <a:ext cx="3313080" cy="2198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енетик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Picture 5" descr="001"/>
          <p:cNvPicPr/>
          <p:nvPr/>
        </p:nvPicPr>
        <p:blipFill>
          <a:blip r:embed="rId1"/>
          <a:stretch/>
        </p:blipFill>
        <p:spPr>
          <a:xfrm>
            <a:off x="826920" y="4149720"/>
            <a:ext cx="1729080" cy="1639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з истор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4" descr="02dfasgcvmkfd"/>
          <p:cNvPicPr/>
          <p:nvPr/>
        </p:nvPicPr>
        <p:blipFill>
          <a:blip r:embed="rId1"/>
          <a:stretch/>
        </p:blipFill>
        <p:spPr>
          <a:xfrm>
            <a:off x="2700360" y="3573360"/>
            <a:ext cx="3594240" cy="2311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ем была созда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айд раздели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nk"/>
          <p:cNvPicPr/>
          <p:nvPr/>
        </p:nvPicPr>
        <p:blipFill>
          <a:blip r:embed="rId1"/>
          <a:stretch/>
        </p:blipFill>
        <p:spPr>
          <a:xfrm>
            <a:off x="1547640" y="1484280"/>
            <a:ext cx="6070680" cy="450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способу возникнов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отношению к зачатковому пут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адаптивному значению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локализации в клетк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лассификация мутаци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8"/>
          <p:cNvPicPr/>
          <p:nvPr/>
        </p:nvPicPr>
        <p:blipFill>
          <a:blip r:embed="rId1"/>
          <a:stretch/>
        </p:blipFill>
        <p:spPr>
          <a:xfrm>
            <a:off x="3276720" y="3860640"/>
            <a:ext cx="2781360" cy="21463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способу возникнов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Физ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Хим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иологическ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9" name="Picture 4" descr="080143_0"/>
          <p:cNvPicPr/>
          <p:nvPr/>
        </p:nvPicPr>
        <p:blipFill>
          <a:blip r:embed="rId1"/>
          <a:stretch/>
        </p:blipFill>
        <p:spPr>
          <a:xfrm>
            <a:off x="826920" y="4724280"/>
            <a:ext cx="1524240" cy="142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По отношению к зачатковому пу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PR20040622165041"/>
          <p:cNvPicPr/>
          <p:nvPr/>
        </p:nvPicPr>
        <p:blipFill>
          <a:blip r:embed="rId1"/>
          <a:stretch/>
        </p:blipFill>
        <p:spPr>
          <a:xfrm>
            <a:off x="755640" y="429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l4"/>
          <p:cNvPicPr/>
          <p:nvPr/>
        </p:nvPicPr>
        <p:blipFill>
          <a:blip r:embed="rId2"/>
          <a:stretch/>
        </p:blipFill>
        <p:spPr>
          <a:xfrm>
            <a:off x="5940360" y="4149720"/>
            <a:ext cx="24526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2:52:36Z</dcterms:created>
  <dc:creator>user</dc:creator>
  <dc:description/>
  <cp:keywords>"PowerLexis" - Презентационное агентство</cp:keywords>
  <dc:language>en-US</dc:language>
  <cp:lastModifiedBy>LEGION</cp:lastModifiedBy>
  <dcterms:modified xsi:type="dcterms:W3CDTF">2015-01-05T09:30:40Z</dcterms:modified>
  <cp:revision>9</cp:revision>
  <dc:subject/>
  <dc:title>Слайд 1</dc:title>
</cp:coreProperties>
</file>