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1622-FBED-492D-ABBD-9CFF23CBC33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ческие закономерности модификационной изменчив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би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0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: Мииккулайнен М.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C341-BC46-469C-A234-AC14B8155DC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Цель</a:t>
            </a:r>
            <a:r>
              <a:rPr b="0" lang="en-US" sz="1200" spc="-1" strike="noStrike">
                <a:solidFill>
                  <a:srgbClr val="009900"/>
                </a:solidFill>
                <a:latin typeface="Calibri"/>
              </a:rPr>
              <a:t>:</a:t>
            </a: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  </a:t>
            </a:r>
            <a:r>
              <a:rPr b="0" lang="ru-RU" sz="1600" spc="-1" strike="noStrike">
                <a:solidFill>
                  <a:srgbClr val="009900"/>
                </a:solidFill>
                <a:latin typeface="Calibri"/>
              </a:rPr>
              <a:t>сформулировать знания о модификационной изменчивости и ее основных характеристика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ть главные причины возникновения модифик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 основные закономерности взаимодействия организма и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ать навыки статистической обработки в изучении изменчивости призна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ить основные понят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ющие модификационную изменч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9F34-E4D3-45C9-AEE3-A0D1A19D520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Модифик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это результат взаимодействия условий среды и геноти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3C0E-3445-4632-BA96-F5BE66CC157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ы, в которых возможно изменение признака у данного генотипа называется </a:t>
            </a:r>
            <a:r>
              <a:rPr b="0" lang="ru-RU" sz="1400" spc="-1" strike="noStrike">
                <a:solidFill>
                  <a:srgbClr val="009900"/>
                </a:solidFill>
                <a:latin typeface="Calibri"/>
              </a:rPr>
              <a:t>нормой реак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яд изменчивости признака называется </a:t>
            </a:r>
            <a:r>
              <a:rPr b="0" lang="ru-RU" sz="1600" spc="-1" strike="noStrike">
                <a:solidFill>
                  <a:srgbClr val="009900"/>
                </a:solidFill>
                <a:latin typeface="Calibri"/>
              </a:rPr>
              <a:t>вариационным ряд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3F14-BA62-46A4-9CAD-37558DBAB42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Модификационную изменчивость можно представить графиче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ое выражение изменчивости признака, отражающее размах вариации и частоту встречаемости называют </a:t>
            </a:r>
            <a:r>
              <a:rPr b="0" lang="ru-RU" sz="1400" spc="-1" strike="noStrike">
                <a:solidFill>
                  <a:srgbClr val="009900"/>
                </a:solidFill>
                <a:latin typeface="Calibri"/>
              </a:rPr>
              <a:t>вариационной криво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76A3-1F1E-46AA-89D5-A1DCDD47BE0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Графическое выражение изменчивости призн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3A9D-2BD0-49F5-BD99-9BB84C6C4F3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Для определения средней величины признака определяется средняя арифметическая – М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представляет собой основной параметр и определяется по следующей форму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69B6-3B28-49B6-B97C-E082F63EA72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е признаки отличаются пределами изменчивости под влиянием внешних усло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реакции определяется генотип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ификационная изменчивость в естественных условиях носит приспособитель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закономерностей модификационной изменчивости имеет большое практическое значение, так как позволяет предвидеть и заранее планировать многие показа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FCF7-F93A-45C6-9C26-62982F2325C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7DF1-265A-40C0-9C4C-75828BB7B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0EBE-4BF9-4AED-8C41-FB109600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DF20-BB5C-4C74-A479-FBD615F99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A1F0-68ED-4F61-9194-89F1D0670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C2A1-F737-4020-8453-65CDC59E8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0511-FB72-4496-BDD0-010F9F47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28FE-3BF6-48A9-AA38-2ED003AD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FB05-F5EB-496B-9ADC-EBA49ECC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4DA3-120A-476E-BB38-696D0392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024F-1367-4357-8C8F-D3760CDA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A494-1CBE-480A-9575-68C2E56E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0C2E-7B36-4B51-8ECC-0574E7F5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A3CC-7D7F-456D-B828-4E859AED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4A41-5422-486D-B476-61670DAF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C8EE-9885-4ECE-9B26-04C39775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A9E6-ACCA-4D76-B47D-8E5B4BCBC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9A18-6794-4F0A-9421-AE628248C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475B-F74B-4C39-BD15-FA35698C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ED05-988C-4AA2-B22F-9E18321A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E49B-4B02-41B6-B9B2-A69D8701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279A-B6FC-4235-8253-E9EB68E6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6818-7624-42D7-9FA8-07FEAC69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9009-AB12-4AEF-B0D6-24C8E608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F885-53A0-40BF-91B6-D9616796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3450-75BA-4B34-8E5F-BA873552EA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29A0-54EC-4DEA-8EAD-AEF4DEF71D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Статистические закономерности модификационной изменчивост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ок биолог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0 класс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тель : Мииккулайнен М.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9900"/>
                </a:solidFill>
                <a:latin typeface="Times New Roman"/>
              </a:rPr>
              <a:t>Цель</a:t>
            </a: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:</a:t>
            </a:r>
            <a:r>
              <a:rPr b="0" lang="ru-RU" sz="44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9900"/>
                </a:solidFill>
                <a:latin typeface="Times New Roman"/>
              </a:rPr>
              <a:t>сформулировать знания о модификационной изменчивости и ее основных характеристиках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вить главные причины возникновения модификац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снить основные закономерности взаимодействия организма и сре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работать навыки статистической обработки в изучении изменчивости признак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делить основные понят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арактеризующие модификационную изменчив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1066680" y="6858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Модифика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это результат взаимодействия условий среды и генотип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609480" y="19810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ловия ср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9"/>
          <p:cNvSpPr/>
          <p:nvPr/>
        </p:nvSpPr>
        <p:spPr>
          <a:xfrm>
            <a:off x="2819520" y="2438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388620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ноти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5410080" y="2438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6553080" y="205740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ый феноти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8"/>
          <p:cNvGraphicFramePr/>
          <p:nvPr/>
        </p:nvGraphicFramePr>
        <p:xfrm>
          <a:off x="1752480" y="3581280"/>
          <a:ext cx="2629080" cy="17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581280"/>
                    <a:ext cx="26290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9"/>
          <p:cNvGraphicFramePr/>
          <p:nvPr/>
        </p:nvGraphicFramePr>
        <p:xfrm>
          <a:off x="5791320" y="3657600"/>
          <a:ext cx="1914480" cy="138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657600"/>
                    <a:ext cx="191448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1066680" y="228600"/>
            <a:ext cx="6324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елы, в которых возможно изменение признака у данного генотипа называе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нормой реак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295280" y="1981080"/>
            <a:ext cx="6553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яд изменчивости признака называется 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вариационным ряд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6" descr="лавровишня"/>
          <p:cNvPicPr/>
          <p:nvPr/>
        </p:nvPicPr>
        <p:blipFill>
          <a:blip r:embed="rId1"/>
          <a:stretch/>
        </p:blipFill>
        <p:spPr>
          <a:xfrm>
            <a:off x="1066680" y="3352680"/>
            <a:ext cx="7317000" cy="272736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1066680" y="45720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Модификационную изменчивость можно представить графичес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143000" y="2133720"/>
            <a:ext cx="7391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афическое выражение изменчивости признака, отражающее размах вариации и частоту встречаемости называют 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вариационной крив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057400" y="3962520"/>
          <a:ext cx="6095880" cy="142236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 Box 46"/>
          <p:cNvSpPr/>
          <p:nvPr/>
        </p:nvSpPr>
        <p:spPr>
          <a:xfrm>
            <a:off x="1447920" y="57150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ина лис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7"/>
          <p:cNvSpPr/>
          <p:nvPr/>
        </p:nvSpPr>
        <p:spPr>
          <a:xfrm>
            <a:off x="5334120" y="56386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частота встречаем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Object 4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5"/>
          <p:cNvSpPr/>
          <p:nvPr/>
        </p:nvSpPr>
        <p:spPr>
          <a:xfrm>
            <a:off x="1219320" y="76212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Графическое выражение изменчивости призна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Object 6"/>
          <p:cNvGraphicFramePr/>
          <p:nvPr/>
        </p:nvGraphicFramePr>
        <p:xfrm>
          <a:off x="1136520" y="1747800"/>
          <a:ext cx="6910560" cy="3809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36520" y="1747800"/>
                    <a:ext cx="69105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7"/>
          <p:cNvGraphicFramePr/>
          <p:nvPr/>
        </p:nvGraphicFramePr>
        <p:xfrm>
          <a:off x="1143000" y="1828800"/>
          <a:ext cx="6873840" cy="3787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1828800"/>
                    <a:ext cx="6873840" cy="37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31" name="AutoShape 11"/>
          <p:cNvCxnSpPr/>
          <p:nvPr/>
        </p:nvCxnSpPr>
        <p:spPr>
          <a:xfrm>
            <a:off x="2133360" y="4876560"/>
            <a:ext cx="5715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2" name="Text Box 12"/>
          <p:cNvSpPr/>
          <p:nvPr/>
        </p:nvSpPr>
        <p:spPr>
          <a:xfrm>
            <a:off x="2590920" y="517356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1523880" y="4800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мах вари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990720" y="6094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Для определения средней величины признака определяется средняя арифметическая – М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447920" y="16765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а представляет собой основной параметр и определяется по следующей формул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0481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396252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8"/>
          <p:cNvSpPr/>
          <p:nvPr/>
        </p:nvSpPr>
        <p:spPr>
          <a:xfrm>
            <a:off x="4572000" y="3200400"/>
            <a:ext cx="152388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4648320" y="2743200"/>
            <a:ext cx="12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Σ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р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4648320" y="3124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2895480" y="2666880"/>
            <a:ext cx="40388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914400" y="48769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914400" y="4800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1600200" y="49528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1447920" y="4572000"/>
            <a:ext cx="60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*1 + 3*3 + 4*9 + 5*20 + 6*35 + 7*19 + 8*8 + 9*3 + 10*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2438280" y="4952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74674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3276720" y="57150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 = 6 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1295280" y="6858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Выво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371600" y="1905120"/>
            <a:ext cx="70866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личные признаки отличаются пределами изменчивости под влиянием внешних услов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рма реакции определяется генотип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ификационная изменчивость в естественных условиях носит приспособительный характ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чение закономерностей модификационной изменчивости имеет большое практическое значение, так как позволяет предвидеть и заранее планировать многие показате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6T19:37:51Z</dcterms:created>
  <dc:creator>1</dc:creator>
  <dc:description/>
  <dc:language>en-US</dc:language>
  <cp:lastModifiedBy>LEGION</cp:lastModifiedBy>
  <dcterms:modified xsi:type="dcterms:W3CDTF">2015-01-05T09:32:06Z</dcterms:modified>
  <cp:revision>21</cp:revision>
  <dc:subject/>
  <dc:title>Статистические закономерности модификационной изменчивости</dc:title>
</cp:coreProperties>
</file>