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57A4D-5D99-43FF-8709-C0A5387B5DF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тистические закономерности модификационной изменчив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биолог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0 класс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: Мииккулайнен М.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EE13D-FCF9-44EE-ABB5-4F85C358E28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9900"/>
                </a:solidFill>
                <a:latin typeface="Calibri"/>
              </a:rPr>
              <a:t>Цель</a:t>
            </a:r>
            <a:r>
              <a:rPr b="0" lang="en-US" sz="1200" spc="-1" strike="noStrike">
                <a:solidFill>
                  <a:srgbClr val="009900"/>
                </a:solidFill>
                <a:latin typeface="Calibri"/>
              </a:rPr>
              <a:t>:</a:t>
            </a:r>
            <a:r>
              <a:rPr b="0" lang="ru-RU" sz="1200" spc="-1" strike="noStrike">
                <a:solidFill>
                  <a:srgbClr val="009900"/>
                </a:solidFill>
                <a:latin typeface="Calibri"/>
              </a:rPr>
              <a:t>  </a:t>
            </a:r>
            <a:r>
              <a:rPr b="0" lang="ru-RU" sz="1600" spc="-1" strike="noStrike">
                <a:solidFill>
                  <a:srgbClr val="009900"/>
                </a:solidFill>
                <a:latin typeface="Calibri"/>
              </a:rPr>
              <a:t>сформулировать знания о модификационной изменчивости и ее основных характеристика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вить главные причины возникновения модифик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снить основные закономерности взаимодействия организма и сре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аботать навыки статистической обработки в изучении изменчивости признак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ить основные поняти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зующие модификационную изменчив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A7452-E925-4C64-8FFF-5BB15E903D9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00"/>
                </a:solidFill>
                <a:latin typeface="Calibri"/>
              </a:rPr>
              <a:t>Модификац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это результат взаимодействия условий среды и геноти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6FDE4-D2E0-46D6-A589-BBED6E3B0F1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елы, в которых возможно изменение признака у данного генотипа называется </a:t>
            </a:r>
            <a:r>
              <a:rPr b="0" lang="ru-RU" sz="1400" spc="-1" strike="noStrike">
                <a:solidFill>
                  <a:srgbClr val="009900"/>
                </a:solidFill>
                <a:latin typeface="Calibri"/>
              </a:rPr>
              <a:t>нормой реакци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яд изменчивости признака называется </a:t>
            </a:r>
            <a:r>
              <a:rPr b="0" lang="ru-RU" sz="1600" spc="-1" strike="noStrike">
                <a:solidFill>
                  <a:srgbClr val="009900"/>
                </a:solidFill>
                <a:latin typeface="Calibri"/>
              </a:rPr>
              <a:t>вариационным рядо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4B98C-FCD1-4DDD-BEF8-8D3F0051392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00"/>
                </a:solidFill>
                <a:latin typeface="Calibri"/>
              </a:rPr>
              <a:t>Модификационную изменчивость можно представить графичес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фическое выражение изменчивости признака, отражающее размах вариации и частоту встречаемости называют </a:t>
            </a:r>
            <a:r>
              <a:rPr b="0" lang="ru-RU" sz="1400" spc="-1" strike="noStrike">
                <a:solidFill>
                  <a:srgbClr val="009900"/>
                </a:solidFill>
                <a:latin typeface="Calibri"/>
              </a:rPr>
              <a:t>вариационной криво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58204-4511-4E4F-8EF8-833D0A6C126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Графическое выражение изменчивости призна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0B023-5418-4CAF-89C8-E46F8F23ADC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00"/>
                </a:solidFill>
                <a:latin typeface="Calibri"/>
              </a:rPr>
              <a:t>Для определения средней величины признака определяется средняя арифметическая – М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а представляет собой основной параметр и определяется по следующей формул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89ACA-5AA6-454E-BAD8-855C3F86324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00"/>
                </a:solidFill>
                <a:latin typeface="Calibri"/>
              </a:rPr>
              <a:t>Вы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личные признаки отличаются пределами изменчивости под влиянием внешних усло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 реакции определяется генотип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ификационная изменчивость в естественных условиях носит приспособительный характ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закономерностей модификационной изменчивости имеет большое практическое значение, так как позволяет предвидеть и заранее планировать многие показат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19131-FC04-4282-9E94-0F0E2705EB1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4902-A2D2-4A8F-A5E4-D71B5AD0C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E36E-0936-47C4-A2A2-E6716921F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0511-E1F9-4ADC-8DF9-220B80F74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873B-981A-40C4-987B-6834B2BCE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78041-0736-42CF-B0B5-012BC75EA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21422-DA87-4496-A6F0-5892D4DDD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BB46E-4977-4D86-A012-D054A32B5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A4832-C1C8-411B-B193-2BD717C33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33ACE-7765-4432-8B59-ECC8E0249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8A01F-D1B9-46EB-8322-F65F6DB48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93AAF-E394-48AF-95D5-96B3FD7AF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4EFA-F61B-4E0E-B864-DEA70E270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AF1EB-F054-4A9D-A5FD-C7AFC6A8E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56F61-7261-4847-A1EB-D67986880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3698D-86A5-4155-B0B5-11455BE1B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867BA-753E-4C39-9B3B-2A6ADE36D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0C129-A9B1-44A6-9996-3529ACBB1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E7AE-64C7-467F-B954-A4E94852A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B4EA-19F8-455F-BD15-973E4DA26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EA45-9879-460E-BB82-38A15E1B0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AA89-74C7-4A21-9D1C-8F6F8ADCF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4615-95AB-4A61-A6DB-EBE9A6803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4A29-A46D-4290-B359-CE8FC00E0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11C1-964E-479D-A452-BBA745E99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35DDA-1296-4C1E-9F64-F6A240BB8EC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5EC48-75D0-42A4-9D51-70AC87077FF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Статистические закономерности модификационной изменчивост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рок биологи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10 класс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читель : Мииккулайнен М.Н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9900"/>
                </a:solidFill>
                <a:latin typeface="Times New Roman"/>
              </a:rPr>
              <a:t>Цель</a:t>
            </a:r>
            <a:r>
              <a:rPr b="0" lang="en-US" sz="4400" spc="-1" strike="noStrike">
                <a:solidFill>
                  <a:srgbClr val="009900"/>
                </a:solidFill>
                <a:latin typeface="Times New Roman"/>
              </a:rPr>
              <a:t>:</a:t>
            </a:r>
            <a:r>
              <a:rPr b="0" lang="ru-RU" sz="4400" spc="-1" strike="noStrike">
                <a:solidFill>
                  <a:srgbClr val="009900"/>
                </a:solidFill>
                <a:latin typeface="Times New Roman"/>
              </a:rPr>
              <a:t>  </a:t>
            </a:r>
            <a:r>
              <a:rPr b="0" lang="ru-RU" sz="3600" spc="-1" strike="noStrike">
                <a:solidFill>
                  <a:srgbClr val="009900"/>
                </a:solidFill>
                <a:latin typeface="Times New Roman"/>
              </a:rPr>
              <a:t>сформулировать знания о модификационной изменчивости и ее основных характеристиках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явить главные причины возникновения модификац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яснить основные закономерности взаимодействия организма и сре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работать навыки статистической обработки в изучении изменчивости признако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делить основные поняти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характеризующие модификационную изменчивос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1066680" y="68580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Модификац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это результат взаимодействия условий среды и генотип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609480" y="19810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словия сре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9"/>
          <p:cNvSpPr/>
          <p:nvPr/>
        </p:nvSpPr>
        <p:spPr>
          <a:xfrm>
            <a:off x="2819520" y="2438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3886200" y="2133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еноти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2"/>
          <p:cNvSpPr/>
          <p:nvPr/>
        </p:nvSpPr>
        <p:spPr>
          <a:xfrm>
            <a:off x="5410080" y="2438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5"/>
          <p:cNvSpPr/>
          <p:nvPr/>
        </p:nvSpPr>
        <p:spPr>
          <a:xfrm>
            <a:off x="6553080" y="205740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вый феноти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Object 18"/>
          <p:cNvGraphicFramePr/>
          <p:nvPr/>
        </p:nvGraphicFramePr>
        <p:xfrm>
          <a:off x="1752480" y="3581280"/>
          <a:ext cx="2629080" cy="172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3581280"/>
                    <a:ext cx="262908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Object 19"/>
          <p:cNvGraphicFramePr/>
          <p:nvPr/>
        </p:nvGraphicFramePr>
        <p:xfrm>
          <a:off x="5791320" y="3657600"/>
          <a:ext cx="1914480" cy="1380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657600"/>
                    <a:ext cx="1914480" cy="13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1066680" y="228600"/>
            <a:ext cx="6324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делы, в которых возможно изменение признака у данного генотипа называетс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9900"/>
                </a:solidFill>
                <a:latin typeface="Times New Roman"/>
              </a:rPr>
              <a:t>нормой реак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1295280" y="1981080"/>
            <a:ext cx="6553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яд изменчивости признака называется </a:t>
            </a:r>
            <a:r>
              <a:rPr b="0" lang="ru-RU" sz="2800" spc="-1" strike="noStrike">
                <a:solidFill>
                  <a:srgbClr val="009900"/>
                </a:solidFill>
                <a:latin typeface="Times New Roman"/>
              </a:rPr>
              <a:t>вариационным рядо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6" descr="лавровишня"/>
          <p:cNvPicPr/>
          <p:nvPr/>
        </p:nvPicPr>
        <p:blipFill>
          <a:blip r:embed="rId1"/>
          <a:stretch/>
        </p:blipFill>
        <p:spPr>
          <a:xfrm>
            <a:off x="1066680" y="3352680"/>
            <a:ext cx="7317000" cy="272736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1066680" y="457200"/>
            <a:ext cx="739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Times New Roman"/>
              </a:rPr>
              <a:t>Модификационную изменчивость можно представить графичес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1143000" y="2133720"/>
            <a:ext cx="7391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рафическое выражение изменчивости признака, отражающее размах вариации и частоту встречаемости называют </a:t>
            </a:r>
            <a:r>
              <a:rPr b="0" lang="ru-RU" sz="2800" spc="-1" strike="noStrike">
                <a:solidFill>
                  <a:srgbClr val="009900"/>
                </a:solidFill>
                <a:latin typeface="Times New Roman"/>
              </a:rPr>
              <a:t>вариационной криво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057400" y="3962520"/>
          <a:ext cx="6095880" cy="142236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</a:tblGrid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Text Box 46"/>
          <p:cNvSpPr/>
          <p:nvPr/>
        </p:nvSpPr>
        <p:spPr>
          <a:xfrm>
            <a:off x="1447920" y="571500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ина лис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7"/>
          <p:cNvSpPr/>
          <p:nvPr/>
        </p:nvSpPr>
        <p:spPr>
          <a:xfrm>
            <a:off x="5334120" y="56386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частота встречаемост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Object 4"/>
          <p:cNvGraphicFramePr/>
          <p:nvPr/>
        </p:nvGraphicFramePr>
        <p:xfrm>
          <a:off x="1523880" y="1395360"/>
          <a:ext cx="609624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95360"/>
                    <a:ext cx="609624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Text Box 5"/>
          <p:cNvSpPr/>
          <p:nvPr/>
        </p:nvSpPr>
        <p:spPr>
          <a:xfrm>
            <a:off x="1219320" y="76212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Графическое выражение изменчивости призна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Object 6"/>
          <p:cNvGraphicFramePr/>
          <p:nvPr/>
        </p:nvGraphicFramePr>
        <p:xfrm>
          <a:off x="1136520" y="1747800"/>
          <a:ext cx="6910560" cy="3809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36520" y="1747800"/>
                    <a:ext cx="691056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Object 7"/>
          <p:cNvGraphicFramePr/>
          <p:nvPr/>
        </p:nvGraphicFramePr>
        <p:xfrm>
          <a:off x="1143000" y="1828800"/>
          <a:ext cx="6873840" cy="37879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30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3000" y="1828800"/>
                    <a:ext cx="6873840" cy="37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131" name="AutoShape 11"/>
          <p:cNvCxnSpPr/>
          <p:nvPr/>
        </p:nvCxnSpPr>
        <p:spPr>
          <a:xfrm>
            <a:off x="2133360" y="4876560"/>
            <a:ext cx="5715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2" name="Text Box 12"/>
          <p:cNvSpPr/>
          <p:nvPr/>
        </p:nvSpPr>
        <p:spPr>
          <a:xfrm>
            <a:off x="2590920" y="517356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1523880" y="48006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мах вари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4"/>
          <p:cNvSpPr/>
          <p:nvPr/>
        </p:nvSpPr>
        <p:spPr>
          <a:xfrm>
            <a:off x="990720" y="60948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Для определения средней величины признака определяется средняя арифметическая – М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1447920" y="167652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на представляет собой основной параметр и определяется по следующей формул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3048120" y="2971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3962520" y="2971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8"/>
          <p:cNvSpPr/>
          <p:nvPr/>
        </p:nvSpPr>
        <p:spPr>
          <a:xfrm>
            <a:off x="4572000" y="3200400"/>
            <a:ext cx="152388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4648320" y="2743200"/>
            <a:ext cx="120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Σ</a:t>
            </a: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•</a:t>
            </a: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 р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4648320" y="31240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k</a:t>
            </a: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11"/>
          <p:cNvSpPr/>
          <p:nvPr/>
        </p:nvSpPr>
        <p:spPr>
          <a:xfrm>
            <a:off x="2895480" y="2666880"/>
            <a:ext cx="4038840" cy="144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2"/>
          <p:cNvSpPr/>
          <p:nvPr/>
        </p:nvSpPr>
        <p:spPr>
          <a:xfrm>
            <a:off x="914400" y="487692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4"/>
          <p:cNvSpPr/>
          <p:nvPr/>
        </p:nvSpPr>
        <p:spPr>
          <a:xfrm>
            <a:off x="914400" y="480060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5"/>
          <p:cNvSpPr/>
          <p:nvPr/>
        </p:nvSpPr>
        <p:spPr>
          <a:xfrm>
            <a:off x="1600200" y="4952880"/>
            <a:ext cx="617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1447920" y="4572000"/>
            <a:ext cx="60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*1 + 3*3 + 4*9 + 5*20 + 6*35 + 7*19 + 8*8 + 9*3 + 10*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7"/>
          <p:cNvSpPr/>
          <p:nvPr/>
        </p:nvSpPr>
        <p:spPr>
          <a:xfrm>
            <a:off x="2438280" y="49528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20"/>
          <p:cNvSpPr/>
          <p:nvPr/>
        </p:nvSpPr>
        <p:spPr>
          <a:xfrm>
            <a:off x="7467480" y="4724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=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21"/>
          <p:cNvSpPr/>
          <p:nvPr/>
        </p:nvSpPr>
        <p:spPr>
          <a:xfrm>
            <a:off x="3276720" y="571500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 = 6 с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4"/>
          <p:cNvSpPr/>
          <p:nvPr/>
        </p:nvSpPr>
        <p:spPr>
          <a:xfrm>
            <a:off x="1295280" y="68580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Times New Roman"/>
              </a:rPr>
              <a:t>Вывод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1371600" y="1905120"/>
            <a:ext cx="708660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личные признаки отличаются пределами изменчивости под влиянием внешних услов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рма реакции определяется генотип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дификационная изменчивость в естественных условиях носит приспособительный характ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начение закономерностей модификационной изменчивости имеет большое практическое значение, так как позволяет предвидеть и заранее планировать многие показател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6T19:37:51Z</dcterms:created>
  <dc:creator>1</dc:creator>
  <dc:description/>
  <dc:language>en-US</dc:language>
  <cp:lastModifiedBy>LEGION</cp:lastModifiedBy>
  <dcterms:modified xsi:type="dcterms:W3CDTF">2015-01-05T09:32:06Z</dcterms:modified>
  <cp:revision>21</cp:revision>
  <dc:subject/>
  <dc:title>Статистические закономерности модификационной изменчивости</dc:title>
</cp:coreProperties>
</file>