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A35DA-1169-45FC-901D-69231CCFAD48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ffff"/>
                </a:solidFill>
                <a:latin typeface="Calibri"/>
              </a:rPr>
              <a:t>Гипертиреоз-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болевание в основе , которого лежит гиперфункция щитовидной железы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ffff"/>
                </a:solidFill>
                <a:latin typeface="Calibri"/>
              </a:rPr>
              <a:t>Причины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80% больных имеют в анамнезе острую хроническую психическую травму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екционный фактор: тяжелая ангина, грипп, корь, коклюш, ревмат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ледственная предрасполож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резмерная инсоляция и эндокринные сдви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ACD7D-16B0-4780-97D0-85D1586D568C}" type="slidenum">
              <a:rPr b="0" lang="uk-UA" sz="1200" spc="-1" strike="noStrike">
                <a:solidFill>
                  <a:srgbClr val="f8f8f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ffff"/>
                </a:solidFill>
                <a:latin typeface="Calibri"/>
              </a:rPr>
              <a:t>Изменения  в других систем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A7FBE-5C3D-4E65-A82E-808389433836}" type="slidenum">
              <a:rPr b="0" lang="uk-UA" sz="1200" spc="-1" strike="noStrike">
                <a:solidFill>
                  <a:srgbClr val="f8f8f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ffff"/>
                </a:solidFill>
                <a:latin typeface="Calibri"/>
              </a:rPr>
              <a:t>Течение заболевания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ериод компенсаций и декомпенса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41149-4627-40B6-8953-5030D2755B4D}" type="slidenum">
              <a:rPr b="0" lang="uk-UA" sz="1200" spc="-1" strike="noStrike">
                <a:solidFill>
                  <a:srgbClr val="f8f8f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ffff"/>
                </a:solidFill>
                <a:latin typeface="Calibri"/>
              </a:rPr>
              <a:t>Лечение -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но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угнетение синтеза тиреойдных горм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ть психический покой, полноценный сон, пит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бегать инсоля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ета с высоким содержанием бел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ить чай , кофе , шокола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каментозный мето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теройдные препараты – « Мерказолил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параты йода – « Йод активны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мптоматическая терапия: гипотензивные , антигистаминные, транквилизаторы, анабол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рургический метод – резекция части ткани щитовидной желез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2C963-E35C-4974-8CC2-AD7B72216ED3}" type="slidenum">
              <a:rPr b="0" lang="uk-UA" sz="1200" spc="-1" strike="noStrike">
                <a:solidFill>
                  <a:srgbClr val="f8f8f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Calibri"/>
              </a:rPr>
              <a:t>Степени увелич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-щитовидная железа не прощупыва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-щитовидная железа прощупывается особенно ее переше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-увеличение железы определяется при ощупывании и глот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-увеличение железы заметно при осмот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-изменение конфигурации или зоб ясен виде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-зоб достигает больших разме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A58C3-3911-484B-B7F2-DF47EA3FC27D}" type="slidenum">
              <a:rPr b="0" lang="uk-UA" sz="1200" spc="-1" strike="noStrike">
                <a:solidFill>
                  <a:srgbClr val="f8f8f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E013-A15A-4547-89AE-D73762DA4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2378-45D6-4E13-9503-5312A006C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CB24-E11A-48B1-88E5-6D35566F2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3C1A-80F1-43EC-9BD3-DF296709E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47A7A-A843-4DC0-A01C-AB2B49B5A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ECCEF-BB65-4C6B-9961-89B751B1E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28AB0-82FC-4839-AE24-B435DF8C7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A0CAC-CFCF-4E63-81F0-4B1DF0E24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D0A55-F7B7-4F71-B1F5-5BD611716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C12AF-F698-42CA-80B9-AF97A6F98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E629B-B8A5-487F-8848-C5678F2D5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7927-9594-41B3-99FC-B872446A3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2AC86-62B5-4C94-A605-E44BCB787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40B17-BAF1-4FA9-8E23-8FC41A8A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6198C-ACB3-4542-AC27-62EFE1571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14B23-A3A0-48F5-8AAD-061CBFC47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1A6FE-7DF6-44BA-82CF-F2A5E3BD4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0A82-46CD-4A46-B923-0A28CA906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1B41-0EC3-498F-8120-EDDE2E8AF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8B9A-8E22-44B9-BB07-53EBAB553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90FF-6971-42B6-A4A8-B81DD237B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3CB2-7009-4B8A-9BE7-16A2643E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4E1B-6746-4697-8B73-75AAC1BA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498E-7BF6-4D5B-90DC-A73A4C861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d7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5777A-7CD1-42B7-A141-FCA164C1E84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1ddd4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808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d7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1ddd4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808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2B85C-ED98-440C-ABED-DA36005C75B6}" type="slidenum">
              <a:rPr b="0" lang="ru-RU" sz="1200" spc="-1" strike="noStrike">
                <a:solidFill>
                  <a:srgbClr val="f8f8f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tiensmed.ru/news/post_new1466.html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21&amp;text=&#1090;&#1080;&#1088;&#1077;&#1086;&#1090;&#1086;&#1082;&#1089;&#1080;&#1082;&#1086;&#1079;&amp;spsite=fictionbook.ru&amp;img_url=lib.rus.ec%2Fi%2F90%2F157290%2Fi_014.jpg&amp;rpt=simage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ffff"/>
                </a:solidFill>
                <a:latin typeface="Arial"/>
              </a:rPr>
              <a:t>Гипертиреоз-</a:t>
            </a:r>
            <a:r>
              <a:rPr b="0" lang="ru-RU" sz="2400" spc="-1" strike="noStrike">
                <a:solidFill>
                  <a:srgbClr val="d1ddd4"/>
                </a:solidFill>
                <a:latin typeface="Arial"/>
              </a:rPr>
              <a:t>заболевание в основе , которого лежит гиперфункция щитовидной железы.</a:t>
            </a:r>
            <a:br>
              <a:rPr sz="2400"/>
            </a:br>
            <a:endParaRPr b="0" lang="en-US" sz="2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ffff"/>
                </a:solidFill>
                <a:latin typeface="Verdana"/>
              </a:rPr>
              <a:t>Причины 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86c0c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До 80% больных имеют в анамнезе острую хроническую психическую травму</a:t>
            </a:r>
            <a:r>
              <a:rPr b="0" lang="ru-RU" sz="2400" spc="-1" strike="noStrike">
                <a:solidFill>
                  <a:srgbClr val="f8f8f8"/>
                </a:solidFill>
                <a:latin typeface="Verdana"/>
              </a:rPr>
              <a:t>.</a:t>
            </a:r>
            <a:r>
              <a:rPr b="0" lang="ru-RU" sz="2800" spc="-1" strike="noStrike">
                <a:solidFill>
                  <a:srgbClr val="f8f8f8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86c0c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Инфекционный фактор: тяжелая ангина, грипп, корь, коклюш, ревматизм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86c0c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Наследственная предрасположенность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86c0c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Чрезмерная инсоляция и эндокринные сдвиги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23" name="Picture 14" descr="html_pic"/>
          <p:cNvPicPr/>
          <p:nvPr/>
        </p:nvPicPr>
        <p:blipFill>
          <a:blip r:embed="rId1"/>
          <a:stretch/>
        </p:blipFill>
        <p:spPr>
          <a:xfrm>
            <a:off x="4932360" y="2060640"/>
            <a:ext cx="3887640" cy="324144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4000" y="277560"/>
            <a:ext cx="8002440" cy="48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ffff"/>
                </a:solidFill>
                <a:latin typeface="Arial"/>
              </a:rPr>
              <a:t>Изменения  в других системах</a:t>
            </a:r>
            <a:endParaRPr b="0" lang="en-US" sz="3600" spc="-1" strike="noStrike">
              <a:solidFill>
                <a:srgbClr val="d1ddd4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539640" y="981000"/>
          <a:ext cx="8229600" cy="5962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311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Глазные симптомы: </a:t>
                      </a:r>
                      <a:r>
                        <a:rPr b="0" lang="ru-RU" sz="14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глазные щели широко раскрыты, экзофтальм, повышен блеск глаз, редкое мигание, отставание верхнего века от края радужки, нарушение конвергенции. 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8f8f8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Расстройства нервно психической   деятельности и ЦНС: </a:t>
                      </a:r>
                      <a:r>
                        <a:rPr b="0" lang="ru-RU" sz="14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конфликтные, капризные, неусидчивые, характерно дрожание пальцев вытянутых рук, дрожание головы, губ , языка , головные боли, головокружение, светобоязнь, нарушение сна, двоение, резь в глазах.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1944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Нарушение со стороны ССС:  </a:t>
                      </a:r>
                      <a:r>
                        <a:rPr b="0" lang="ru-RU" sz="14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тахикардия , АД- систолическое увеличено,  диастолическое понижено , границы сердца расширены в лево. У 15-20% развивается недостаточность кровообращения.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8f8f8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Нарушение со стороны органов дыхания: </a:t>
                      </a:r>
                      <a:r>
                        <a:rPr b="0" lang="ru-RU" sz="14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аллергические заболевания, бронхиальная астма, одышка. 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8f8f8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1706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Нарушение со стороны органов пищеварения: </a:t>
                      </a:r>
                      <a:r>
                        <a:rPr b="0" lang="ru-RU" sz="14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боли в животе,  иногда рвота, неустойчивый стул. 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Нарушение функции половых желез: </a:t>
                      </a:r>
                      <a:r>
                        <a:rPr b="0" lang="ru-RU" sz="14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у женщин часто развивается менорагия, аменорея, бесплодие. В тяжелых случаях атрофия матки, яичников, молочных желез. У мужчин атрофия яичек, предстательной железы. потонция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7" name="Picture 43" descr="http://im8-tub.yandex.net/i?id=66660830&amp;tov=8"/>
          <p:cNvPicPr/>
          <p:nvPr/>
        </p:nvPicPr>
        <p:blipFill>
          <a:blip r:embed="rId1"/>
          <a:stretch/>
        </p:blipFill>
        <p:spPr>
          <a:xfrm>
            <a:off x="2484360" y="2060640"/>
            <a:ext cx="1987560" cy="100944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ffff"/>
                </a:solidFill>
                <a:latin typeface="Arial"/>
              </a:rPr>
              <a:t>Течение заболевания</a:t>
            </a:r>
            <a:r>
              <a:rPr b="0" lang="ru-RU" sz="1800" spc="-1" strike="noStrike">
                <a:solidFill>
                  <a:srgbClr val="d1ddd4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d1ddd4"/>
                </a:solidFill>
                <a:latin typeface="Arial"/>
              </a:rPr>
              <a:t>- период компенсаций и декомпенсаций.</a:t>
            </a:r>
            <a:endParaRPr b="0" lang="en-US" sz="2400" spc="-1" strike="noStrike">
              <a:solidFill>
                <a:srgbClr val="d1ddd4"/>
              </a:solidFill>
              <a:latin typeface="Arial"/>
            </a:endParaRPr>
          </a:p>
        </p:txBody>
      </p:sp>
      <p:grpSp>
        <p:nvGrpSpPr>
          <p:cNvPr id="150" name="Organization Chart 8"/>
          <p:cNvGrpSpPr/>
          <p:nvPr/>
        </p:nvGrpSpPr>
        <p:grpSpPr>
          <a:xfrm>
            <a:off x="457200" y="1600200"/>
            <a:ext cx="8228880" cy="4529160"/>
            <a:chOff x="457200" y="1600200"/>
            <a:chExt cx="8228880" cy="4529160"/>
          </a:xfrm>
        </p:grpSpPr>
        <p:cxnSp>
          <p:nvCxnSpPr>
            <p:cNvPr id="151" name="_s1028"/>
            <p:cNvCxnSpPr>
              <a:stCxn id="152" idx="0"/>
              <a:endCxn id="153" idx="2"/>
            </p:cNvCxnSpPr>
            <p:nvPr/>
          </p:nvCxnSpPr>
          <p:spPr>
            <a:xfrm flipV="1" rot="16200000">
              <a:off x="5558400" y="2423880"/>
              <a:ext cx="906480" cy="2880720"/>
            </a:xfrm>
            <a:prstGeom prst="bentConnector3">
              <a:avLst>
                <a:gd name="adj1" fmla="val 12594"/>
              </a:avLst>
            </a:prstGeom>
            <a:ln w="9360">
              <a:solidFill>
                <a:srgbClr val="f8f8f8"/>
              </a:solidFill>
              <a:miter/>
            </a:ln>
          </p:spPr>
        </p:cxnSp>
        <p:cxnSp>
          <p:nvCxnSpPr>
            <p:cNvPr id="154" name="_s1029"/>
            <p:cNvCxnSpPr>
              <a:stCxn id="155" idx="0"/>
              <a:endCxn id="153" idx="1"/>
            </p:cNvCxnSpPr>
            <p:nvPr/>
          </p:nvCxnSpPr>
          <p:spPr>
            <a:xfrm flipV="1">
              <a:off x="4571280" y="3411360"/>
              <a:ext cx="3240" cy="906480"/>
            </a:xfrm>
            <a:prstGeom prst="bentConnector2">
              <a:avLst/>
            </a:prstGeom>
            <a:ln w="9360">
              <a:solidFill>
                <a:srgbClr val="f8f8f8"/>
              </a:solidFill>
              <a:miter/>
            </a:ln>
          </p:spPr>
        </p:cxnSp>
        <p:cxnSp>
          <p:nvCxnSpPr>
            <p:cNvPr id="156" name="_s1030"/>
            <p:cNvCxnSpPr>
              <a:stCxn id="157" idx="0"/>
              <a:endCxn id="153" idx="0"/>
            </p:cNvCxnSpPr>
            <p:nvPr/>
          </p:nvCxnSpPr>
          <p:spPr>
            <a:xfrm flipH="1" flipV="1" rot="5400000">
              <a:off x="2678040" y="2424240"/>
              <a:ext cx="906480" cy="2880720"/>
            </a:xfrm>
            <a:prstGeom prst="bentConnector3">
              <a:avLst>
                <a:gd name="adj1" fmla="val 12594"/>
              </a:avLst>
            </a:prstGeom>
            <a:ln w="9360">
              <a:solidFill>
                <a:srgbClr val="f8f8f8"/>
              </a:solidFill>
              <a:miter/>
            </a:ln>
          </p:spPr>
        </p:cxnSp>
        <p:sp>
          <p:nvSpPr>
            <p:cNvPr id="153" name="_s1031"/>
            <p:cNvSpPr/>
            <p:nvPr/>
          </p:nvSpPr>
          <p:spPr>
            <a:xfrm>
              <a:off x="3337200" y="1600200"/>
              <a:ext cx="2468520" cy="1811520"/>
            </a:xfrm>
            <a:prstGeom prst="bevel">
              <a:avLst>
                <a:gd name="adj" fmla="val 12500"/>
              </a:avLst>
            </a:prstGeom>
            <a:solidFill>
              <a:srgbClr val="3399ff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8f8f8"/>
                  </a:solidFill>
                  <a:latin typeface="Verdana"/>
                </a:rPr>
                <a:t>По степени тяжести</a:t>
              </a:r>
              <a:endParaRPr b="0" lang="en-US" sz="20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57" name="_s1032"/>
            <p:cNvSpPr/>
            <p:nvPr/>
          </p:nvSpPr>
          <p:spPr>
            <a:xfrm>
              <a:off x="457200" y="4317840"/>
              <a:ext cx="2468520" cy="1811520"/>
            </a:xfrm>
            <a:prstGeom prst="bevel">
              <a:avLst>
                <a:gd name="adj" fmla="val 12500"/>
              </a:avLst>
            </a:prstGeom>
            <a:solidFill>
              <a:srgbClr val="006699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8f8f8"/>
                  </a:solidFill>
                  <a:latin typeface="Verdana"/>
                </a:rPr>
                <a:t>Легкая</a:t>
              </a:r>
              <a:endParaRPr b="0" lang="en-US" sz="21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55" name="_s1033"/>
            <p:cNvSpPr/>
            <p:nvPr/>
          </p:nvSpPr>
          <p:spPr>
            <a:xfrm>
              <a:off x="3337200" y="4317840"/>
              <a:ext cx="2468520" cy="1811520"/>
            </a:xfrm>
            <a:prstGeom prst="bevel">
              <a:avLst>
                <a:gd name="adj" fmla="val 12500"/>
              </a:avLst>
            </a:prstGeom>
            <a:solidFill>
              <a:srgbClr val="006699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8f8f8"/>
                  </a:solidFill>
                  <a:latin typeface="Verdana"/>
                </a:rPr>
                <a:t>Средняя</a:t>
              </a:r>
              <a:endParaRPr b="0" lang="en-US" sz="21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52" name="_s1034"/>
            <p:cNvSpPr/>
            <p:nvPr/>
          </p:nvSpPr>
          <p:spPr>
            <a:xfrm>
              <a:off x="6217560" y="4317840"/>
              <a:ext cx="2468520" cy="1811520"/>
            </a:xfrm>
            <a:prstGeom prst="bevel">
              <a:avLst>
                <a:gd name="adj" fmla="val 12500"/>
              </a:avLst>
            </a:prstGeom>
            <a:solidFill>
              <a:srgbClr val="006699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8f8f8"/>
                  </a:solidFill>
                  <a:latin typeface="Verdana"/>
                </a:rPr>
                <a:t>Тяжелая</a:t>
              </a:r>
              <a:endParaRPr b="0" lang="en-US" sz="2100" spc="-1" strike="noStrike">
                <a:solidFill>
                  <a:srgbClr val="f8f8f8"/>
                </a:solidFill>
                <a:latin typeface="Verdana"/>
              </a:endParaRPr>
            </a:p>
          </p:txBody>
        </p:sp>
      </p:grp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ffff"/>
                </a:solidFill>
                <a:latin typeface="Arial"/>
              </a:rPr>
              <a:t>Лечение -</a:t>
            </a:r>
            <a:r>
              <a:rPr b="0" lang="ru-RU" sz="3200" spc="-1" strike="noStrike">
                <a:solidFill>
                  <a:srgbClr val="d1ddd4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d1ddd4"/>
                </a:solidFill>
                <a:latin typeface="Arial"/>
              </a:rPr>
              <a:t>направленно</a:t>
            </a:r>
            <a:r>
              <a:rPr b="0" lang="ru-RU" sz="3200" spc="-1" strike="noStrike">
                <a:solidFill>
                  <a:srgbClr val="d1ddd4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d1ddd4"/>
                </a:solidFill>
                <a:latin typeface="Arial"/>
              </a:rPr>
              <a:t>на угнетение синтеза тиреойдных гормонов.</a:t>
            </a:r>
            <a:endParaRPr b="0" lang="en-US" sz="18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Обеспечить психический покой, полноценный сон, питание.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Избегать инсоляции.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Диета с высоким содержанием белка.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Ограничить чай , кофе , шоколад. 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Медикаментозный метод: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Антитеройдные препараты – « Мерказолил» 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Препараты йода – « Йод активный»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Симптоматическая терапия: гипотензивные , антигистаминные, транквилизаторы, анаболики.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2920" y="142848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Хирургический метод – резекция части ткани щитовидной железы.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62" name="Picture 32" descr="Iodum_enl"/>
          <p:cNvPicPr/>
          <p:nvPr/>
        </p:nvPicPr>
        <p:blipFill>
          <a:blip r:embed="rId1"/>
          <a:stretch/>
        </p:blipFill>
        <p:spPr>
          <a:xfrm>
            <a:off x="4932360" y="3071880"/>
            <a:ext cx="3024360" cy="150012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SpidInfo-192-diffuz_zob"/>
          <p:cNvPicPr/>
          <p:nvPr/>
        </p:nvPicPr>
        <p:blipFill>
          <a:blip r:embed="rId1"/>
          <a:stretch/>
        </p:blipFill>
        <p:spPr>
          <a:xfrm>
            <a:off x="2771640" y="1052640"/>
            <a:ext cx="4248360" cy="432108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6" descr="hypert012401-122566454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43280" y="1052640"/>
            <a:ext cx="4176720" cy="432108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Thyroid-c-big"/>
          <p:cNvPicPr/>
          <p:nvPr/>
        </p:nvPicPr>
        <p:blipFill>
          <a:blip r:embed="rId1"/>
          <a:stretch/>
        </p:blipFill>
        <p:spPr>
          <a:xfrm>
            <a:off x="3059280" y="1197000"/>
            <a:ext cx="4176720" cy="432108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5" descr="http://im8-tub.yandex.net/i?id=90711165&amp;tov=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43280" y="1341360"/>
            <a:ext cx="4176720" cy="439128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81054a53b7891780b"/>
          <p:cNvPicPr/>
          <p:nvPr/>
        </p:nvPicPr>
        <p:blipFill>
          <a:blip r:embed="rId1"/>
          <a:stretch/>
        </p:blipFill>
        <p:spPr>
          <a:xfrm>
            <a:off x="2627280" y="981000"/>
            <a:ext cx="4176720" cy="439272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Zob"/>
          <p:cNvPicPr/>
          <p:nvPr/>
        </p:nvPicPr>
        <p:blipFill>
          <a:blip r:embed="rId1"/>
          <a:stretch/>
        </p:blipFill>
        <p:spPr>
          <a:xfrm>
            <a:off x="2916360" y="981000"/>
            <a:ext cx="4176720" cy="439272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Shitovidnaja_zheleza_ru_Gepertireoz"/>
          <p:cNvPicPr/>
          <p:nvPr/>
        </p:nvPicPr>
        <p:blipFill>
          <a:blip r:embed="rId1"/>
          <a:stretch/>
        </p:blipFill>
        <p:spPr>
          <a:xfrm>
            <a:off x="1908000" y="0"/>
            <a:ext cx="540072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ffff"/>
                </a:solidFill>
                <a:latin typeface="Arial"/>
              </a:rPr>
              <a:t>Степени увеличения</a:t>
            </a:r>
            <a:endParaRPr b="0" lang="en-US" sz="36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Verdana"/>
              </a:rPr>
              <a:t>О-щитовидная железа не прощупывается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Verdana"/>
              </a:rPr>
              <a:t>1-щитовидная железа прощупывается особенно ее перешеек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Verdana"/>
              </a:rPr>
              <a:t>2-увеличение железы определяется при ощупывании и глотании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Verdana"/>
              </a:rPr>
              <a:t>3-увеличение железы заметно при осмотре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Verdana"/>
              </a:rPr>
              <a:t>4-изменение конфигурации или зоб ясен виден 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Verdana"/>
              </a:rPr>
              <a:t>5-зоб достигает больших размеров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41" name="Picture 66" descr="y0fyluwp_new-1228391469"/>
          <p:cNvPicPr/>
          <p:nvPr/>
        </p:nvPicPr>
        <p:blipFill>
          <a:blip r:embed="rId1"/>
          <a:stretch/>
        </p:blipFill>
        <p:spPr>
          <a:xfrm>
            <a:off x="468360" y="4365720"/>
            <a:ext cx="1800000" cy="15825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7" descr="16719_pub-1228390836"/>
          <p:cNvPicPr/>
          <p:nvPr/>
        </p:nvPicPr>
        <p:blipFill>
          <a:blip r:embed="rId2"/>
          <a:stretch/>
        </p:blipFill>
        <p:spPr>
          <a:xfrm>
            <a:off x="3635280" y="4941720"/>
            <a:ext cx="1905120" cy="1557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9" descr="30024-1228391236"/>
          <p:cNvPicPr/>
          <p:nvPr/>
        </p:nvPicPr>
        <p:blipFill>
          <a:blip r:embed="rId3"/>
          <a:stretch/>
        </p:blipFill>
        <p:spPr>
          <a:xfrm>
            <a:off x="6804000" y="4365720"/>
            <a:ext cx="1905120" cy="158256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9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14:38:14Z</dcterms:created>
  <dc:creator>Customer</dc:creator>
  <dc:description/>
  <dc:language>en-US</dc:language>
  <cp:lastModifiedBy>LEGION</cp:lastModifiedBy>
  <dcterms:modified xsi:type="dcterms:W3CDTF">2014-11-07T11:14:41Z</dcterms:modified>
  <cp:revision>24</cp:revision>
  <dc:subject/>
  <dc:title>Заболевание щитовидной железы</dc:title>
</cp:coreProperties>
</file>