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E726-7F3F-4112-89B7-3A3B90465BE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Гипертиреоз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олевание в основе , которого лежит гиперфункция щитовидной желез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80% больных имеют в анамнезе острую хроническую психическую травм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й фактор: тяжелая ангина, грипп, корь, коклюш, ревма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инсоляция и эндокринные сдв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61CA-762E-4C3A-BAE7-9BA0BF7F7946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Изменения  в друг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BD64-A4BB-4FD7-A1BD-1EB7583EEB2B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Течение заболе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иод компенсаций и декомпенс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42D9-D606-485F-9E18-A39A909CBEE1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Лечение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гнетение синтеза тиреойдных горм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сихический покой, полноценный сон, пи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ть инсо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ета с высоким содержанием бе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чай , кофе , шоко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аментозный мет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ройдные препараты – « Мерказолил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йода – « Йод активны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метод – резекция части ткани щитовид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4AAB-626B-4463-8F25-29637E92DDB4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Степени увел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щитовидная железа не прощуп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щитовидная железа прощупывается особенно ее переше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увеличение железы определяется при ощупывании и глот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увеличение железы заметно при осмот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изменение конфигурации или зоб ясен ви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зоб достигает больших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2414-690F-4021-93A5-E1408C75F3BE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962-3B5B-47F2-80A2-966FB04C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DF6-42CE-4AF5-9D2F-A04D5C42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5CA-31E7-4DDB-945A-34DA3AB5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14B-323A-46CE-AA38-68B5A546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23BF-7C9D-4A13-B64B-12047AE7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A688-F04C-4E15-ABDB-BF6AD6B8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C925-C6FE-4352-B41A-515D2BA4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CBC9-5AEE-4099-9082-1BB8E4D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138A-26AE-4EB6-9541-5456B708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6963-18FF-414C-8D3D-5329430D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FE1D-7C43-4444-943A-26FE97F4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89A-52A8-4D0A-A7CC-C37ED052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9694-A17D-424A-96E7-16325854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7E2E-9CA1-440F-BFD5-85A826BC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125C-CED5-402D-81C6-B8CFA4AC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3162-1D8A-4811-911C-B3733A4D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9419-6534-48C4-A14A-763BDBB2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DA5-9711-4877-9564-67EA913B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0E0-07B7-4514-A139-B850E231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9AA-919E-404E-A149-E532AF33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154-52D4-4DFF-B1FB-FE6121E1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74B-2940-4767-8A26-CD3B7700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381-D844-41CE-A8C0-CDACDED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957-B6A7-4A40-86A3-030D5B76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83CC-F678-447F-ACCF-6D84CA7852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04C5-9F00-4935-9577-50A9E8ED918D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 в основе ,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3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50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1" name="Picture 66" descr="y0fyluwp_new-1228391469"/>
          <p:cNvPicPr/>
          <p:nvPr/>
        </p:nvPicPr>
        <p:blipFill>
          <a:blip r:embed="rId1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16719_pub-1228390836"/>
          <p:cNvPicPr/>
          <p:nvPr/>
        </p:nvPicPr>
        <p:blipFill>
          <a:blip r:embed="rId2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024-1228391236"/>
          <p:cNvPicPr/>
          <p:nvPr/>
        </p:nvPicPr>
        <p:blipFill>
          <a:blip r:embed="rId3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LEGION</cp:lastModifiedBy>
  <dcterms:modified xsi:type="dcterms:W3CDTF">2014-11-07T11:14:41Z</dcterms:modified>
  <cp:revision>24</cp:revision>
  <dc:subject/>
  <dc:title>Заболевание щитовидной железы</dc:title>
</cp:coreProperties>
</file>