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4781-C5BA-4BF4-AECF-1B5AF3147DD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Гипертиреоз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болевание в основе , которого лежит гиперфункция щитовидной желез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Причи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80% больных имеют в анамнезе острую хроническую психическую травм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й фактор: тяжелая ангина, грипп, корь, коклюш, ревма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предрасполож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инсоляция и эндокринные сдв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9EC7-D641-4F9F-92DB-81DF36DAB6AB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Изменения  в других сист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C63D-C7A8-409C-839F-CC4D70C836BE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ff"/>
                </a:solidFill>
                <a:latin typeface="Calibri"/>
              </a:rPr>
              <a:t>Течение заболе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иод компенсаций и декомпенс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4FE-D8A4-4E0A-902C-D0552EB824FB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Calibri"/>
              </a:rPr>
              <a:t>Лечение 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гнетение синтеза тиреойдных горм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сихический покой, полноценный сон, пи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ть инсо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ета с высоким содержанием бел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чай , кофе , шоко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аментозный мет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ройдные препараты – « Мерказолил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йода – « Йод активны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метод – резекция части ткани щитовид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3B60-15BA-4B21-9F98-B2713B94D847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alibri"/>
              </a:rPr>
              <a:t>Степени увели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щитовидная железа не прощуп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щитовидная железа прощупывается особенно ее переше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увеличение железы определяется при ощупывании и глот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увеличение железы заметно при осмот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изменение конфигурации или зоб ясен ви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зоб достигает больших разм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0D0-D7D7-449D-AD94-2FA9AC2E2EC2}" type="slidenum">
              <a:rPr b="0" lang="uk-UA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D99-A9C5-4231-88D1-36EA9C26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7F8-6D2C-41A0-A4B2-BC47AC42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74B-BA60-4243-82E6-F93D909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8CF-0960-4D48-B1F6-78AB23D0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7F7-D0D1-4C7D-841C-7A485698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847-7FAD-4C2F-9FBC-9CAB6DF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666-F5AE-44EE-831A-E982767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6CD4-008E-414D-B913-FB0BB33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DC2-D29D-49C6-B367-6EE1B298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26B0-B13D-4373-A301-E791E44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A34D-41F4-40AA-9C6E-E45AC69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3FE-A2BE-4AB4-8F03-CB2EEFF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CC1F-794B-49C4-8625-60FE235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CE91-5D74-4096-8D87-F8B62766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2E87-F6EA-4FD7-9E72-6495769D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0212-E46B-4EC7-A9B1-B6DE9B62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5AA-CAAB-410A-B1B4-BF6878C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8D4-1D6C-4E49-8618-65C58B5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494-9051-4513-B017-38149FF0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1D3-7BE4-4164-B848-75BDBFBF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83-36EC-45F3-B3A3-02990DAB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10D-EA6E-4309-A1D0-31A5CEF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A29-73A0-46EA-89E9-E0A39EF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569-FD70-454B-868E-1F11ECC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5A1-8E56-4C76-BD05-6C6A4F89CF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1057-0BB5-47AC-96EC-51DEFB51B537}" type="slidenum">
              <a:rPr b="0" lang="ru-RU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ensmed.ru/news/post_new146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1&amp;text=&#1090;&#1080;&#1088;&#1077;&#1086;&#1090;&#1086;&#1082;&#1089;&#1080;&#1082;&#1086;&#1079;&amp;spsite=fictionbook.ru&amp;img_url=lib.rus.ec%2Fi%2F90%2F157290%2Fi_014.jpg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Гипертиреоз-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заболевание в основе , которого лежит гиперфункция щитовидной железы.</a:t>
            </a:r>
            <a:br>
              <a:rPr sz="2400"/>
            </a:b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erdana"/>
              </a:rPr>
              <a:t>Причины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о 80% больных имеют в анамнезе острую хроническую психическую травму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нфекционный фактор: тяжелая ангина, грипп, корь, коклюш, ревматизм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Наследственная предрасположенность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86c0c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Чрезмерная инсоляция и эндокринные сдвиги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3" name="Picture 14" descr="html_pic"/>
          <p:cNvPicPr/>
          <p:nvPr/>
        </p:nvPicPr>
        <p:blipFill>
          <a:blip r:embed="rId1"/>
          <a:stretch/>
        </p:blipFill>
        <p:spPr>
          <a:xfrm>
            <a:off x="4932360" y="2060640"/>
            <a:ext cx="3887640" cy="3241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Изменения  в других системах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981000"/>
          <a:ext cx="8229600" cy="5962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3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симптомы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глазные щели широко раскрыты, экзофтальм, повышен блеск глаз, редкое мигание, отставание верхнего века от края радужки, нарушение конвергенции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Расстройства нервно психической   деятельности и ЦНС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конфликтные, капризные, неусидчивые, характерно дрожание пальцев вытянутых рук, дрожание головы, губ , языка , головные боли, головокружение, светобоязнь, нарушение сна, двоение, резь в глазах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ССС: 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тахикардия , АД- систолическое увеличено,  диастолическое понижено , границы сердца расширены в лево. У 15-20% развивается недостаточность кровообращения.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дыха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аллергические заболевания, бронхиальная астма, одышка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со стороны органов пищеварения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боли в животе,  иногда рвота, неустойчивый стул. 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Нарушение функции половых желез: </a:t>
                      </a:r>
                      <a:r>
                        <a:rPr b="0" lang="ru-RU" sz="1400" spc="-1" strike="noStrike">
                          <a:solidFill>
                            <a:srgbClr val="f8f8f8"/>
                          </a:solidFill>
                          <a:latin typeface="Verdana"/>
                        </a:rPr>
                        <a:t>у женщин часто развивается менорагия, аменорея, бесплодие. В тяжелых случаях атрофия матки, яичников, молочных желез. У мужчин атрофия яичек, предстательной железы. потонция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43" descr="http://im8-tub.yandex.net/i?id=66660830&amp;tov=8"/>
          <p:cNvPicPr/>
          <p:nvPr/>
        </p:nvPicPr>
        <p:blipFill>
          <a:blip r:embed="rId1"/>
          <a:stretch/>
        </p:blipFill>
        <p:spPr>
          <a:xfrm>
            <a:off x="2484360" y="2060640"/>
            <a:ext cx="1987560" cy="1009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Течение заболевания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1ddd4"/>
                </a:solidFill>
                <a:latin typeface="Arial"/>
              </a:rPr>
              <a:t>- период компенсаций и декомпенсаций.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grpSp>
        <p:nvGrpSpPr>
          <p:cNvPr id="150" name="Organization Chart 8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1" name="_s1028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4" name="_s1029"/>
            <p:cNvCxnSpPr>
              <a:stCxn id="155" idx="0"/>
              <a:endCxn id="153" idx="1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9360">
              <a:solidFill>
                <a:srgbClr val="f8f8f8"/>
              </a:solidFill>
              <a:miter/>
            </a:ln>
          </p:spPr>
        </p:cxnSp>
        <p:cxnSp>
          <p:nvCxnSpPr>
            <p:cNvPr id="156" name="_s1030"/>
            <p:cNvCxnSpPr>
              <a:stCxn id="157" idx="0"/>
              <a:endCxn id="153" idx="0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594"/>
              </a:avLst>
            </a:prstGeom>
            <a:ln w="9360">
              <a:solidFill>
                <a:srgbClr val="f8f8f8"/>
              </a:solidFill>
              <a:miter/>
            </a:ln>
          </p:spPr>
        </p:cxnSp>
        <p:sp>
          <p:nvSpPr>
            <p:cNvPr id="153" name="_s1031"/>
            <p:cNvSpPr/>
            <p:nvPr/>
          </p:nvSpPr>
          <p:spPr>
            <a:xfrm>
              <a:off x="3337200" y="160020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33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Verdana"/>
                </a:rPr>
                <a:t>По степени тяжести</a:t>
              </a:r>
              <a:endParaRPr b="0" lang="en-US" sz="20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45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Легк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33720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Средня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6217560" y="4317840"/>
              <a:ext cx="2468520" cy="1811520"/>
            </a:xfrm>
            <a:prstGeom prst="bevel">
              <a:avLst>
                <a:gd name="adj" fmla="val 12500"/>
              </a:avLst>
            </a:prstGeom>
            <a:solidFill>
              <a:srgbClr val="00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8f8f8"/>
                  </a:solidFill>
                  <a:latin typeface="Verdana"/>
                </a:rPr>
                <a:t>Тяжелая</a:t>
              </a:r>
              <a:endParaRPr b="0" lang="en-US" sz="21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Лечение -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правленно</a:t>
            </a:r>
            <a:r>
              <a:rPr b="0" lang="ru-RU" sz="3200" spc="-1" strike="noStrike">
                <a:solidFill>
                  <a:srgbClr val="d1ddd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d1ddd4"/>
                </a:solidFill>
                <a:latin typeface="Arial"/>
              </a:rPr>
              <a:t>на угнетение синтеза тиреойдных гормонов.</a:t>
            </a:r>
            <a:endParaRPr b="0" lang="en-US" sz="18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беспечить психический покой, полноценный сон, питание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Избегать инсоляци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Диета с высоким содержанием белка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Ограничить чай , кофе , шоколад.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Медикаментозный метод: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Антитеройдные препараты – « Мерказолил»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Препараты йода – « Йод активный»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Симптоматическая терапия: гипотензивные , антигистаминные, транквилизаторы, анаболики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2920" y="14284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Verdana"/>
              </a:rPr>
              <a:t>Хирургический метод – резекция части ткани щитовидной железы.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2" name="Picture 32" descr="Iodum_enl"/>
          <p:cNvPicPr/>
          <p:nvPr/>
        </p:nvPicPr>
        <p:blipFill>
          <a:blip r:embed="rId1"/>
          <a:stretch/>
        </p:blipFill>
        <p:spPr>
          <a:xfrm>
            <a:off x="4932360" y="3071880"/>
            <a:ext cx="302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pidInfo-192-diffuz_zob"/>
          <p:cNvPicPr/>
          <p:nvPr/>
        </p:nvPicPr>
        <p:blipFill>
          <a:blip r:embed="rId1"/>
          <a:stretch/>
        </p:blipFill>
        <p:spPr>
          <a:xfrm>
            <a:off x="2771640" y="1052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hypert012401-1225664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05264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hyroid-c-big"/>
          <p:cNvPicPr/>
          <p:nvPr/>
        </p:nvPicPr>
        <p:blipFill>
          <a:blip r:embed="rId1"/>
          <a:stretch/>
        </p:blipFill>
        <p:spPr>
          <a:xfrm>
            <a:off x="3059280" y="1197000"/>
            <a:ext cx="4176720" cy="432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http://im8-tub.yandex.net/i?id=90711165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341360"/>
            <a:ext cx="4176720" cy="4391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81054a53b7891780b"/>
          <p:cNvPicPr/>
          <p:nvPr/>
        </p:nvPicPr>
        <p:blipFill>
          <a:blip r:embed="rId1"/>
          <a:stretch/>
        </p:blipFill>
        <p:spPr>
          <a:xfrm>
            <a:off x="262728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Zob"/>
          <p:cNvPicPr/>
          <p:nvPr/>
        </p:nvPicPr>
        <p:blipFill>
          <a:blip r:embed="rId1"/>
          <a:stretch/>
        </p:blipFill>
        <p:spPr>
          <a:xfrm>
            <a:off x="2916360" y="981000"/>
            <a:ext cx="417672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hitovidnaja_zheleza_ru_Gepertireoz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Степени увеличения</a:t>
            </a:r>
            <a:endParaRPr b="0" lang="en-US" sz="36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О-щитовидная железа не прощупывается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1-щитовидная железа прощупывается особенно ее перешеек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2-увеличение железы определяется при ощупывании и глотании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3-увеличение железы заметно при осмотре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4-изменение конфигурации или зоб ясен виден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5-зоб достигает больших размеров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1" name="Picture 66" descr="y0fyluwp_new-1228391469"/>
          <p:cNvPicPr/>
          <p:nvPr/>
        </p:nvPicPr>
        <p:blipFill>
          <a:blip r:embed="rId1"/>
          <a:stretch/>
        </p:blipFill>
        <p:spPr>
          <a:xfrm>
            <a:off x="468360" y="4365720"/>
            <a:ext cx="1800000" cy="158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7" descr="16719_pub-1228390836"/>
          <p:cNvPicPr/>
          <p:nvPr/>
        </p:nvPicPr>
        <p:blipFill>
          <a:blip r:embed="rId2"/>
          <a:stretch/>
        </p:blipFill>
        <p:spPr>
          <a:xfrm>
            <a:off x="3635280" y="4941720"/>
            <a:ext cx="190512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9" descr="30024-1228391236"/>
          <p:cNvPicPr/>
          <p:nvPr/>
        </p:nvPicPr>
        <p:blipFill>
          <a:blip r:embed="rId3"/>
          <a:stretch/>
        </p:blipFill>
        <p:spPr>
          <a:xfrm>
            <a:off x="6804000" y="4365720"/>
            <a:ext cx="1905120" cy="1582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38:14Z</dcterms:created>
  <dc:creator>Customer</dc:creator>
  <dc:description/>
  <dc:language>en-US</dc:language>
  <cp:lastModifiedBy>LEGION</cp:lastModifiedBy>
  <dcterms:modified xsi:type="dcterms:W3CDTF">2014-11-07T11:14:41Z</dcterms:modified>
  <cp:revision>24</cp:revision>
  <dc:subject/>
  <dc:title>Заболевание щитовидной железы</dc:title>
</cp:coreProperties>
</file>