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2EA8-C1EC-4BF7-9C24-B67424BBE0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нфляция: сущность, причины, изме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авка Н.В., учитель истории и обществознания МОУ «Февральская СОШ № 1»,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32F8-ECB9-4B2B-A754-4907F35DC8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Устойчивая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тенденция повышения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общего уровня цен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а товары и услуги в стране, выраженная в процен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латинского «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ati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ду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 = ЦТП / ЦБГ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П - индекс цен текущего периода (мес., кв., год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ТП - цены текущего периода, ЦБГ - цены базов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= (ЦТП-ЦПП) / ЦПП х 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ЦП - темпы прироста цен текущего периода, ЦТП - цены текущего перио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ПП - цены прошлого пери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</a:rPr>
              <a:t>Дефля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– снижение общего уровня цен, которое не носит сезо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арактера. Замедление темпа прироста цен назыв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дезинфляци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BE09-E1D2-48EF-AC68-9628177A9F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2D3-B23D-4B56-AED0-E28103A416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 цен по секторам экономики России (декабрь к декабрю предыдущего года; в раз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C76F-9B20-4D21-AB98-B7FED1A0B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 степени сбалансированности роста цен 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сбалансированную и несбалансированную инфля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Различают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прогнозируемую и непрогнозируемую инфляции.</a:t>
            </a:r>
            <a:r>
              <a:rPr b="0" lang="ru-RU" sz="1200" spc="-1" strike="noStrike">
                <a:solidFill>
                  <a:srgbClr val="ffff99"/>
                </a:solidFill>
                <a:latin typeface="Calibri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Сочетание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сбалансированн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прогнозируемой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 инфляции не наносит особого вреда экономике, а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сбалансированн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непрогнозируемая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опасны и чреваты большими издержками в период адап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ED81-1AE0-4D26-986E-CC992096EE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66"/>
                </a:solidFill>
                <a:latin typeface="Impact"/>
              </a:rPr>
              <a:t>Антиинфляционная политика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учетной ставки (ставки рефинансирования).</a:t>
            </a: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cc00"/>
                </a:solidFill>
                <a:latin typeface="Calibri"/>
              </a:rPr>
              <a:t>повышение нормы обязательного резерв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b0faa4"/>
                </a:solidFill>
                <a:latin typeface="Calibri"/>
              </a:rPr>
              <a:t>сокращение государственных расходов и социаль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совершен</a:t>
            </a:r>
            <a:r>
              <a:rPr b="0" lang="en-US" sz="1200" spc="-1" strike="noStrike">
                <a:solidFill>
                  <a:srgbClr val="66ff66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66ff66"/>
                </a:solidFill>
                <a:latin typeface="Calibri"/>
              </a:rPr>
              <a:t>твование налоговой системы и увеличение налоговых поступлений в бюдж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5AF5-2304-4CDF-9CE6-F21302D9D3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Правила написания синкве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1 строчка – одно слово (название стихотворения, тема, обычно существительно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2 строчка – два слова (описание темы, прилагательные или причас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3 строчка – три слова (действие темы, глаго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dddd"/>
                </a:solidFill>
                <a:latin typeface="Calibri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DE82-6E59-452C-9795-94D6186B6D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9 (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§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18 – по жела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Творческая работа на тему «Инфля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1539-69EF-4F7A-A5EB-3A58FB0C46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1BA-57EE-4217-8BC4-4099EB63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787-BF4F-4307-A387-0D943B32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249-C63F-4EAE-A0DD-1FA6848A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291-760C-4CD0-9841-5B438D1F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5170-85C9-4DD2-90EB-314FA273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AE5-5987-4160-B9C8-349DC0D7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EA3-F4C7-4616-A548-DD9D305B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4CD2-33F8-42CB-9E6B-C594DB48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2FC-4EAD-431B-8754-1AFADE8E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2F0-46B4-4947-966C-E9E262A0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D4B-C0D1-48DB-9800-3524D9E4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01C-4642-4DC4-B408-C2D58C0F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C530-6638-46D1-9150-1450BE240B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инфляция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Инфляция: сущность, причины, изме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87700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059280" y="189000"/>
            <a:ext cx="21621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Эконом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4"/>
          <p:cNvSpPr txBox="1"/>
          <p:nvPr/>
        </p:nvSpPr>
        <p:spPr>
          <a:xfrm rot="20684400">
            <a:off x="250920" y="980640"/>
            <a:ext cx="244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ля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987640" y="189000"/>
            <a:ext cx="5545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роцесс обесценивания денег в результате переполнения каналов товарного обращения денежной масс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стойчивая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тенденция повышени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щего уровня 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на товары и услуги в стране, выраженная в процен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68360" y="328464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латинского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at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дут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5877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фля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снижение общего уровня цен, которое не носит сезо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а. Замедление темпа прироста цен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дезинфляцие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4"/>
          <p:cNvSpPr/>
          <p:nvPr/>
        </p:nvSpPr>
        <p:spPr>
          <a:xfrm>
            <a:off x="1258920" y="3645000"/>
            <a:ext cx="7129440" cy="1081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 = ЦТП / ЦБГ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ИП - индекс цен текущего периода (мес., кв., год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ТП - цены текущего периода, ЦБГ - цены баз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7"/>
          <p:cNvSpPr/>
          <p:nvPr/>
        </p:nvSpPr>
        <p:spPr>
          <a:xfrm>
            <a:off x="179280" y="4797360"/>
            <a:ext cx="8964720" cy="10796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= (ЦТП-ЦПП) / ЦПП х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ЦП - темпы прироста цен текущего периода, ЦТП - цены текущего пери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ПП - цены прошлого пери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5"/>
          <p:cNvSpPr/>
          <p:nvPr/>
        </p:nvSpPr>
        <p:spPr>
          <a:xfrm>
            <a:off x="1332000" y="692280"/>
            <a:ext cx="6264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90000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ем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300720" y="1916280"/>
            <a:ext cx="18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3635280" y="1882800"/>
            <a:ext cx="18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мех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428472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>
            <a:off x="176364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6732720" y="1341360"/>
            <a:ext cx="215640" cy="432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bbe0e3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8"/>
          <p:cNvGrpSpPr/>
          <p:nvPr/>
        </p:nvGrpSpPr>
        <p:grpSpPr>
          <a:xfrm>
            <a:off x="179280" y="2781360"/>
            <a:ext cx="8712360" cy="1584360"/>
            <a:chOff x="179280" y="2781360"/>
            <a:chExt cx="8712360" cy="1584360"/>
          </a:xfrm>
        </p:grpSpPr>
        <p:sp>
          <p:nvSpPr>
            <p:cNvPr id="68" name="AutoShape 39"/>
            <p:cNvSpPr/>
            <p:nvPr/>
          </p:nvSpPr>
          <p:spPr>
            <a:xfrm>
              <a:off x="2340000" y="2781360"/>
              <a:ext cx="3887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темп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40"/>
            <p:cNvSpPr/>
            <p:nvPr/>
          </p:nvSpPr>
          <p:spPr>
            <a:xfrm>
              <a:off x="17928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ползуч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1"/>
            <p:cNvSpPr/>
            <p:nvPr/>
          </p:nvSpPr>
          <p:spPr>
            <a:xfrm>
              <a:off x="6659640" y="3718080"/>
              <a:ext cx="223200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42"/>
            <p:cNvSpPr/>
            <p:nvPr/>
          </p:nvSpPr>
          <p:spPr>
            <a:xfrm>
              <a:off x="2411280" y="3718080"/>
              <a:ext cx="187164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мер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3"/>
            <p:cNvSpPr/>
            <p:nvPr/>
          </p:nvSpPr>
          <p:spPr>
            <a:xfrm>
              <a:off x="4427640" y="3718080"/>
              <a:ext cx="20890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/>
                </a:gs>
                <a:gs pos="100000">
                  <a:srgbClr val="ff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AutoShape 44"/>
            <p:cNvCxnSpPr>
              <a:stCxn id="68" idx="1"/>
              <a:endCxn id="69" idx="0"/>
            </p:cNvCxnSpPr>
            <p:nvPr/>
          </p:nvCxnSpPr>
          <p:spPr>
            <a:xfrm flipV="1" rot="10800000">
              <a:off x="1223280" y="3105000"/>
              <a:ext cx="1116720" cy="613440"/>
            </a:xfrm>
            <a:prstGeom prst="bentConnector2">
              <a:avLst/>
            </a:prstGeom>
            <a:ln w="38160">
              <a:solidFill>
                <a:srgbClr val="ffcccc"/>
              </a:solidFill>
              <a:miter/>
            </a:ln>
          </p:spPr>
        </p:cxnSp>
        <p:cxnSp>
          <p:nvCxnSpPr>
            <p:cNvPr id="74" name="AutoShape 45"/>
            <p:cNvCxnSpPr>
              <a:stCxn id="68" idx="3"/>
              <a:endCxn id="70" idx="0"/>
            </p:cNvCxnSpPr>
            <p:nvPr/>
          </p:nvCxnSpPr>
          <p:spPr>
            <a:xfrm>
              <a:off x="6227640" y="3105360"/>
              <a:ext cx="1548720" cy="613440"/>
            </a:xfrm>
            <a:prstGeom prst="bentConnector2">
              <a:avLst/>
            </a:prstGeom>
            <a:ln w="28440">
              <a:solidFill>
                <a:srgbClr val="ffcccc"/>
              </a:solidFill>
              <a:miter/>
            </a:ln>
          </p:spPr>
        </p:cxnSp>
        <p:sp>
          <p:nvSpPr>
            <p:cNvPr id="75" name="Line 46"/>
            <p:cNvSpPr/>
            <p:nvPr/>
          </p:nvSpPr>
          <p:spPr>
            <a:xfrm>
              <a:off x="334800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47"/>
            <p:cNvSpPr/>
            <p:nvPr/>
          </p:nvSpPr>
          <p:spPr>
            <a:xfrm>
              <a:off x="5435640" y="3429000"/>
              <a:ext cx="0" cy="289080"/>
            </a:xfrm>
            <a:prstGeom prst="line">
              <a:avLst/>
            </a:prstGeom>
            <a:ln w="284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4"/>
          <p:cNvGrpSpPr/>
          <p:nvPr/>
        </p:nvGrpSpPr>
        <p:grpSpPr>
          <a:xfrm>
            <a:off x="1258920" y="4581360"/>
            <a:ext cx="6696000" cy="1655640"/>
            <a:chOff x="1258920" y="4581360"/>
            <a:chExt cx="6696000" cy="1655640"/>
          </a:xfrm>
        </p:grpSpPr>
        <p:sp>
          <p:nvSpPr>
            <p:cNvPr id="78" name="AutoShape 49"/>
            <p:cNvSpPr/>
            <p:nvPr/>
          </p:nvSpPr>
          <p:spPr>
            <a:xfrm>
              <a:off x="3132360" y="4581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0"/>
            <p:cNvSpPr/>
            <p:nvPr/>
          </p:nvSpPr>
          <p:spPr>
            <a:xfrm>
              <a:off x="125892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т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ценова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51"/>
            <p:cNvSpPr/>
            <p:nvPr/>
          </p:nvSpPr>
          <p:spPr>
            <a:xfrm>
              <a:off x="5219640" y="5589360"/>
              <a:ext cx="2735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50000">
                  <a:srgbClr val="ffff99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крыт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авл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AutoShape 52"/>
            <p:cNvCxnSpPr>
              <a:stCxn id="78" idx="1"/>
              <a:endCxn id="79" idx="0"/>
            </p:cNvCxnSpPr>
            <p:nvPr/>
          </p:nvCxnSpPr>
          <p:spPr>
            <a:xfrm flipV="1" rot="10800000">
              <a:off x="2626560" y="4903920"/>
              <a:ext cx="50580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  <p:cxnSp>
          <p:nvCxnSpPr>
            <p:cNvPr id="82" name="AutoShape 53"/>
            <p:cNvCxnSpPr>
              <a:stCxn id="78" idx="3"/>
              <a:endCxn id="80" idx="0"/>
            </p:cNvCxnSpPr>
            <p:nvPr/>
          </p:nvCxnSpPr>
          <p:spPr>
            <a:xfrm>
              <a:off x="5867640" y="4904640"/>
              <a:ext cx="721440" cy="685080"/>
            </a:xfrm>
            <a:prstGeom prst="bentConnector2">
              <a:avLst/>
            </a:prstGeom>
            <a:ln w="38160">
              <a:solidFill>
                <a:srgbClr val="ffff99"/>
              </a:solidFill>
              <a:miter/>
            </a:ln>
          </p:spPr>
        </p:cxnSp>
      </p:grpSp>
      <p:grpSp>
        <p:nvGrpSpPr>
          <p:cNvPr id="83" name="Group 62"/>
          <p:cNvGrpSpPr/>
          <p:nvPr/>
        </p:nvGrpSpPr>
        <p:grpSpPr>
          <a:xfrm>
            <a:off x="250920" y="4581360"/>
            <a:ext cx="8570880" cy="1585800"/>
            <a:chOff x="250920" y="4581360"/>
            <a:chExt cx="8570880" cy="1585800"/>
          </a:xfrm>
        </p:grpSpPr>
        <p:sp>
          <p:nvSpPr>
            <p:cNvPr id="84" name="AutoShape 55"/>
            <p:cNvSpPr/>
            <p:nvPr/>
          </p:nvSpPr>
          <p:spPr>
            <a:xfrm>
              <a:off x="3132000" y="458136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у проя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56"/>
            <p:cNvSpPr/>
            <p:nvPr/>
          </p:nvSpPr>
          <p:spPr>
            <a:xfrm>
              <a:off x="25092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спро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7"/>
            <p:cNvSpPr/>
            <p:nvPr/>
          </p:nvSpPr>
          <p:spPr>
            <a:xfrm>
              <a:off x="3165480" y="5518080"/>
              <a:ext cx="273672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предло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58"/>
            <p:cNvSpPr/>
            <p:nvPr/>
          </p:nvSpPr>
          <p:spPr>
            <a:xfrm>
              <a:off x="6084720" y="5518080"/>
              <a:ext cx="2737080" cy="649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900"/>
                </a:gs>
                <a:gs pos="50000">
                  <a:srgbClr val="b0faa4"/>
                </a:gs>
                <a:gs pos="100000">
                  <a:srgbClr val="0099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ляция издерже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59"/>
            <p:cNvCxnSpPr>
              <a:stCxn id="84" idx="1"/>
              <a:endCxn id="85" idx="0"/>
            </p:cNvCxnSpPr>
            <p:nvPr/>
          </p:nvCxnSpPr>
          <p:spPr>
            <a:xfrm flipV="1" rot="10800000">
              <a:off x="1618560" y="4906440"/>
              <a:ext cx="151344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cxnSp>
          <p:nvCxnSpPr>
            <p:cNvPr id="89" name="AutoShape 60"/>
            <p:cNvCxnSpPr>
              <a:stCxn id="84" idx="3"/>
              <a:endCxn id="87" idx="0"/>
            </p:cNvCxnSpPr>
            <p:nvPr/>
          </p:nvCxnSpPr>
          <p:spPr>
            <a:xfrm>
              <a:off x="5868720" y="4906800"/>
              <a:ext cx="1585080" cy="612000"/>
            </a:xfrm>
            <a:prstGeom prst="bentConnector2">
              <a:avLst/>
            </a:prstGeom>
            <a:ln w="38160">
              <a:solidFill>
                <a:srgbClr val="ccff66"/>
              </a:solidFill>
              <a:miter/>
            </a:ln>
          </p:spPr>
        </p:cxnSp>
        <p:sp>
          <p:nvSpPr>
            <p:cNvPr id="90" name="Line 61"/>
            <p:cNvSpPr/>
            <p:nvPr/>
          </p:nvSpPr>
          <p:spPr>
            <a:xfrm>
              <a:off x="4500720" y="5229000"/>
              <a:ext cx="0" cy="289080"/>
            </a:xfrm>
            <a:prstGeom prst="line">
              <a:avLst/>
            </a:prstGeom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63">
            <a:hlinkClick r:id="" action="ppaction://hlinkshowjump?jump=nextslide"/>
          </p:cNvPr>
          <p:cNvSpPr/>
          <p:nvPr/>
        </p:nvSpPr>
        <p:spPr>
          <a:xfrm>
            <a:off x="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Less" w="21600" h="21931">
                <a:moveTo>
                  <a:pt x="5273" y="4150"/>
                </a:moveTo>
                <a:lnTo>
                  <a:pt x="12271" y="4150"/>
                </a:lnTo>
                <a:lnTo>
                  <a:pt x="16327" y="7649"/>
                </a:lnTo>
                <a:lnTo>
                  <a:pt x="16327" y="17780"/>
                </a:lnTo>
                <a:lnTo>
                  <a:pt x="5273" y="17780"/>
                </a:lnTo>
                <a:close/>
              </a:path>
              <a:path fill="darken" w="21600" h="21931">
                <a:moveTo>
                  <a:pt x="12271" y="4150"/>
                </a:moveTo>
                <a:lnTo>
                  <a:pt x="16327" y="7649"/>
                </a:lnTo>
                <a:lnTo>
                  <a:pt x="12271" y="764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4">
            <a:hlinkClick r:id="rId1" action="ppaction://hlinksldjump"/>
          </p:cNvPr>
          <p:cNvSpPr/>
          <p:nvPr/>
        </p:nvSpPr>
        <p:spPr>
          <a:xfrm>
            <a:off x="831708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ексы цен по секторам экономики России (декабрь к декабрю предыдущего года; в раз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250920" y="126828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25092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8893080" y="1268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250920" y="2133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41128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9236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457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565164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673272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7812000" y="126828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24360" y="14130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тор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48652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56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64580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726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680616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7958880" y="141300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9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325080" y="2205000"/>
            <a:ext cx="19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потреб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ьских 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558160" y="2276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3781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4861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58690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687888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029800" y="22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250920" y="299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252000" y="2997360"/>
            <a:ext cx="214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произ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ителе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шленной пр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55816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3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>
            <a:off x="3710520" y="3141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>
            <a:off x="4789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2"/>
          <p:cNvSpPr/>
          <p:nvPr/>
        </p:nvSpPr>
        <p:spPr>
          <a:xfrm>
            <a:off x="579780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6950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8174160" y="3141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250920" y="436572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252000" y="4508640"/>
            <a:ext cx="217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 цен реал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ции проду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ьскохозяй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ными пред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ят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2557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3637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478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0"/>
          <p:cNvSpPr/>
          <p:nvPr/>
        </p:nvSpPr>
        <p:spPr>
          <a:xfrm>
            <a:off x="58690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687888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8029800" y="486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3"/>
          <p:cNvSpPr/>
          <p:nvPr/>
        </p:nvSpPr>
        <p:spPr>
          <a:xfrm>
            <a:off x="250920" y="623736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5">
            <a:hlinkClick r:id="" action="ppaction://hlinkshowjump?jump=nextslide"/>
          </p:cNvPr>
          <p:cNvSpPr/>
          <p:nvPr/>
        </p:nvSpPr>
        <p:spPr>
          <a:xfrm>
            <a:off x="817236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3794"/>
                </a:moveTo>
                <a:lnTo>
                  <a:pt x="26103" y="10800"/>
                </a:lnTo>
                <a:lnTo>
                  <a:pt x="1209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инфляция в России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72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>
            <a:hlinkClick r:id="rId2" action="ppaction://hlinksldjump"/>
          </p:cNvPr>
          <p:cNvSpPr/>
          <p:nvPr/>
        </p:nvSpPr>
        <p:spPr>
          <a:xfrm>
            <a:off x="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684360" y="476280"/>
            <a:ext cx="5545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о степени сбалансированности роста цен 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балансированную и несбалансированную инфля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При сбалансированной инфляции цены различных товаров друг относительно друга остаются неизменными, а при несбалансированной - цены различных товаров изменяются по отношению друг к другу в различных пропор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kassa"/>
          <p:cNvPicPr/>
          <p:nvPr/>
        </p:nvPicPr>
        <p:blipFill>
          <a:blip r:embed="rId1"/>
          <a:stretch/>
        </p:blipFill>
        <p:spPr>
          <a:xfrm>
            <a:off x="6300720" y="404640"/>
            <a:ext cx="182088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world2_135"/>
          <p:cNvPicPr/>
          <p:nvPr/>
        </p:nvPicPr>
        <p:blipFill>
          <a:blip r:embed="rId2"/>
          <a:stretch/>
        </p:blipFill>
        <p:spPr>
          <a:xfrm>
            <a:off x="324000" y="3284640"/>
            <a:ext cx="3373200" cy="2498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3924360" y="314172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азличают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гнозируемую и непрогнозируемую инфляции.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Прогнозируемая инфляция - это инфляция, которая учитывается в ожиданиях и поведении экономических субъектов, непрогнозируемая инфляция становится для населения неожиданностью, т.к. фактический темп роста уровня цен превышает ожидаем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9280" y="5805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Сочетание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сбалансированн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рогнозируемой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 инфляции не наносит особого вреда экономике, а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сбалансированн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непрогнозируемая</a:t>
            </a: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опасны и чреваты большими издержками в период адап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5"/>
          <p:cNvGrpSpPr/>
          <p:nvPr/>
        </p:nvGrpSpPr>
        <p:grpSpPr>
          <a:xfrm>
            <a:off x="1476360" y="5805360"/>
            <a:ext cx="5472000" cy="648000"/>
            <a:chOff x="1476360" y="5805360"/>
            <a:chExt cx="5472000" cy="648000"/>
          </a:xfrm>
        </p:grpSpPr>
        <p:sp>
          <p:nvSpPr>
            <p:cNvPr id="147" name="Rectangle 10"/>
            <p:cNvSpPr/>
            <p:nvPr/>
          </p:nvSpPr>
          <p:spPr>
            <a:xfrm>
              <a:off x="1476360" y="5805360"/>
              <a:ext cx="2016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3708360" y="5805360"/>
              <a:ext cx="180036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>
              <a:off x="4859280" y="6165720"/>
              <a:ext cx="208908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411280" y="6165720"/>
              <a:ext cx="2232000" cy="2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"/>
          <p:cNvSpPr/>
          <p:nvPr/>
        </p:nvSpPr>
        <p:spPr>
          <a:xfrm>
            <a:off x="324000" y="649440"/>
            <a:ext cx="864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политика цен и доходов, означающая, что правительство либо "замораживает" цены и номинальные доходы, либо "привязывает" рост цен к росту оплаты труда, а увеличение доходов - к повышению производительности тру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учетной ставки (ставки рефинансирования).</a:t>
            </a: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ограничение денежной массы, которую можно сокращать резко или постепенно, которое будет успешным, если рост денежной массы и уровня цен не превышает 20-30% в г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вышение нормы обязательного резерв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b0fa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b0faa4"/>
                </a:solidFill>
                <a:latin typeface="Arial"/>
              </a:rPr>
              <a:t>сокращение государственных расходов и социа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совершен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66ff66"/>
                </a:solidFill>
                <a:latin typeface="Arial"/>
              </a:rPr>
              <a:t>твование налоговой системы и увеличение налоговых поступлений в бюдж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8"/>
          <p:cNvSpPr txBox="1"/>
          <p:nvPr/>
        </p:nvSpPr>
        <p:spPr>
          <a:xfrm>
            <a:off x="250920" y="189000"/>
            <a:ext cx="8562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инфляционная политика государства</a:t>
            </a:r>
            <a:endParaRPr b="0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Слово «синквейн» пришло к нам из французского языка и переводится как «пять». Следовательно, синквейн – это стихотворение, состоящее из пяти строк.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Правила написания синквей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1 строчка – одно слово (название стихотворения, тема, обычно существительно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2 строчка – два слова (описание темы, прилагательные или причас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3 строчка – три слова (действие темы, глагол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4 строчка – четыре слова – предложение (фраза, которая показывает отношение автора к теме, заявленной в первой строч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dddd"/>
                </a:solidFill>
                <a:latin typeface="Arial"/>
              </a:rPr>
              <a:t>5 строчка – одно слово (ассоциация, синоним к теме, обычно существительное, допускается описательный оборо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9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18 – по желан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ворческая работа на тему «Инфляц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татистические данные о темпах инфляции в России в 2008-2009гг. в сравнении с другими странами, прогноз на 2010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5:12:26Z</dcterms:created>
  <dc:creator>Надежда</dc:creator>
  <dc:description/>
  <dc:language>en-US</dc:language>
  <cp:lastModifiedBy>LEGION</cp:lastModifiedBy>
  <dcterms:modified xsi:type="dcterms:W3CDTF">2015-01-05T10:16:45Z</dcterms:modified>
  <cp:revision>14</cp:revision>
  <dc:subject/>
  <dc:title>Инфляция: сущность, причины, измерение</dc:title>
</cp:coreProperties>
</file>