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78E8-DD5D-4A1F-8384-C470B7AB0F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нфляция: сущность, причины, изме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авка Н.В., учитель истории и обществознания МОУ «Февральская СОШ № 1»,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A93B-DE99-424C-9CC3-0913FFC4C1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Устойчивая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тенденция повышения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общего уровня цен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а товары и услуги в стране, выраженная в процен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инского 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ti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ду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 = ЦТП / ЦБГ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П - индекс цен текущего периода (мес., кв.,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ТП - цены текущего периода, ЦБГ - цены базов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= (ЦТП-ЦПП) / ЦПП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 - темпы прироста цен текущего периода, ЦТП - цены текущего пери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ПП - цены прошл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Дефля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снижение общего уровня цен, которое не носит сезо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арактера. Замедление темпа прироста цен назыв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дезинфляци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BB10-B782-4522-8193-6B168521FA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796C-7A08-465E-A9D9-F288810056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 цен по секторам экономики России (декабрь к декабрю предыдущего года; в раз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3DDF-D983-434E-B495-DF1BBB47B5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 степени сбалансированности роста цен 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балансированную и несбалансированную инфля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прогнозируемую и непрогнозируемую инфляции.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Сочетание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сбалансированн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прогнозируем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 инфляции не наносит особого вреда экономике, а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сбалансированн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прогнозируем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опасны и чреваты большими издержками в период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6F57-6B3C-4F6F-A953-15C010D32C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66"/>
                </a:solidFill>
                <a:latin typeface="Impact"/>
              </a:rPr>
              <a:t>Антиинфляционн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учетной ставки (ставки рефинансирования).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нормы обязательного резерв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сокращение государственных расходов и социаль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совершен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твование налоговой системы и увеличение налоговых поступлений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F3B0-83F7-489B-9824-8F96F8CF77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Правила написания синкве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1 строчка – одно слово (название стихотворения, тема, обычно существительно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2 строчка – два слова (описание темы, прилагательные или причас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3 строчка – три слова (действие темы, глаго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E3C4-2119-4C11-AFE2-FAEB68AE33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9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8 – 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Творческая работа на тему «Инфля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996A-0F28-4181-918E-3DFE4102EC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A1B-5B04-45D9-BBE0-433B44C6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74A-DECF-4494-A30E-65864564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016-E26D-4D48-A7C7-D53DF672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CEE-8108-4E9C-9A8A-8322FAC8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B56-A1C2-498D-8F9E-B6FB90B1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D54-E223-49F4-9799-06016478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637-D1FA-4F0E-A048-90F54807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150-6CE1-4CC9-ABC1-A3BB3F0C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138-6CD6-4585-A7A1-D679E52F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823-28A1-4AAA-A0AF-B6965E89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5DC-A468-4237-B470-00AD0B40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A05-1C61-445A-8631-C7B638C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95CB-67B5-4F4C-8EA0-52CCE8DA6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инфляция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нфляция: сущность, причины, изм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87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059280" y="189000"/>
            <a:ext cx="2162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20684400">
            <a:off x="250920" y="98064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ля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87640" y="18900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стойчива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тенденция повышени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го уровня 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товары и услуги в стране, выраженна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8360" y="3284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атинског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ду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5877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фля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нижение общего уровня цен, которое не носит сезо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а. Замедление темпа прироста цен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езинфляци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258920" y="3645000"/>
            <a:ext cx="7129440" cy="1081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 = ЦТП / ЦБГ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ИП - индекс цен текущего периода (мес., кв., го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ТП - цены текущего периода, ЦБГ - цены баз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179280" y="4797360"/>
            <a:ext cx="8964720" cy="1079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= (ЦТП-ЦПП) / ЦПП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 - темпы прироста цен текущего периода, ЦТП - цены текущего пери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ПП - цены прошл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1332000" y="692280"/>
            <a:ext cx="6264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30072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635280" y="188280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428472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176364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6732720" y="1341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179280" y="2781360"/>
            <a:ext cx="8712360" cy="1584360"/>
            <a:chOff x="179280" y="2781360"/>
            <a:chExt cx="8712360" cy="1584360"/>
          </a:xfrm>
        </p:grpSpPr>
        <p:sp>
          <p:nvSpPr>
            <p:cNvPr id="68" name="AutoShape 39"/>
            <p:cNvSpPr/>
            <p:nvPr/>
          </p:nvSpPr>
          <p:spPr>
            <a:xfrm>
              <a:off x="2340000" y="2781360"/>
              <a:ext cx="388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тем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0"/>
            <p:cNvSpPr/>
            <p:nvPr/>
          </p:nvSpPr>
          <p:spPr>
            <a:xfrm>
              <a:off x="17928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олзуч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1"/>
            <p:cNvSpPr/>
            <p:nvPr/>
          </p:nvSpPr>
          <p:spPr>
            <a:xfrm>
              <a:off x="6659640" y="3718080"/>
              <a:ext cx="2232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2"/>
            <p:cNvSpPr/>
            <p:nvPr/>
          </p:nvSpPr>
          <p:spPr>
            <a:xfrm>
              <a:off x="2411280" y="3718080"/>
              <a:ext cx="1871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мер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3"/>
            <p:cNvSpPr/>
            <p:nvPr/>
          </p:nvSpPr>
          <p:spPr>
            <a:xfrm>
              <a:off x="442764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AutoShape 44"/>
            <p:cNvCxnSpPr>
              <a:stCxn id="68" idx="1"/>
              <a:endCxn id="69" idx="0"/>
            </p:cNvCxnSpPr>
            <p:nvPr/>
          </p:nvCxnSpPr>
          <p:spPr>
            <a:xfrm flipV="1" rot="10800000">
              <a:off x="1223280" y="3105000"/>
              <a:ext cx="1116720" cy="613440"/>
            </a:xfrm>
            <a:prstGeom prst="bentConnector2">
              <a:avLst/>
            </a:prstGeom>
            <a:ln w="38160">
              <a:solidFill>
                <a:srgbClr val="ffcccc"/>
              </a:solidFill>
              <a:miter/>
            </a:ln>
          </p:spPr>
        </p:cxnSp>
        <p:cxnSp>
          <p:nvCxnSpPr>
            <p:cNvPr id="74" name="AutoShape 45"/>
            <p:cNvCxnSpPr>
              <a:stCxn id="68" idx="3"/>
              <a:endCxn id="70" idx="0"/>
            </p:cNvCxnSpPr>
            <p:nvPr/>
          </p:nvCxnSpPr>
          <p:spPr>
            <a:xfrm>
              <a:off x="6227640" y="3105360"/>
              <a:ext cx="1548720" cy="613440"/>
            </a:xfrm>
            <a:prstGeom prst="bentConnector2">
              <a:avLst/>
            </a:prstGeom>
            <a:ln w="28440">
              <a:solidFill>
                <a:srgbClr val="ffcccc"/>
              </a:solidFill>
              <a:miter/>
            </a:ln>
          </p:spPr>
        </p:cxnSp>
        <p:sp>
          <p:nvSpPr>
            <p:cNvPr id="75" name="Line 46"/>
            <p:cNvSpPr/>
            <p:nvPr/>
          </p:nvSpPr>
          <p:spPr>
            <a:xfrm>
              <a:off x="334800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>
              <a:off x="543564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4"/>
          <p:cNvGrpSpPr/>
          <p:nvPr/>
        </p:nvGrpSpPr>
        <p:grpSpPr>
          <a:xfrm>
            <a:off x="1258920" y="4581360"/>
            <a:ext cx="6696000" cy="1655640"/>
            <a:chOff x="1258920" y="4581360"/>
            <a:chExt cx="6696000" cy="1655640"/>
          </a:xfrm>
        </p:grpSpPr>
        <p:sp>
          <p:nvSpPr>
            <p:cNvPr id="78" name="AutoShape 49"/>
            <p:cNvSpPr/>
            <p:nvPr/>
          </p:nvSpPr>
          <p:spPr>
            <a:xfrm>
              <a:off x="3132360" y="4581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125892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ценов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521964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авл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52"/>
            <p:cNvCxnSpPr>
              <a:stCxn id="78" idx="1"/>
              <a:endCxn id="79" idx="0"/>
            </p:cNvCxnSpPr>
            <p:nvPr/>
          </p:nvCxnSpPr>
          <p:spPr>
            <a:xfrm flipV="1" rot="10800000">
              <a:off x="2626560" y="4903920"/>
              <a:ext cx="50580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  <p:cxnSp>
          <p:nvCxnSpPr>
            <p:cNvPr id="82" name="AutoShape 53"/>
            <p:cNvCxnSpPr>
              <a:stCxn id="78" idx="3"/>
              <a:endCxn id="80" idx="0"/>
            </p:cNvCxnSpPr>
            <p:nvPr/>
          </p:nvCxnSpPr>
          <p:spPr>
            <a:xfrm>
              <a:off x="5867640" y="4904640"/>
              <a:ext cx="72144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</p:grpSp>
      <p:grpSp>
        <p:nvGrpSpPr>
          <p:cNvPr id="83" name="Group 62"/>
          <p:cNvGrpSpPr/>
          <p:nvPr/>
        </p:nvGrpSpPr>
        <p:grpSpPr>
          <a:xfrm>
            <a:off x="250920" y="4581360"/>
            <a:ext cx="8570880" cy="1585800"/>
            <a:chOff x="250920" y="4581360"/>
            <a:chExt cx="8570880" cy="1585800"/>
          </a:xfrm>
        </p:grpSpPr>
        <p:sp>
          <p:nvSpPr>
            <p:cNvPr id="84" name="AutoShape 55"/>
            <p:cNvSpPr/>
            <p:nvPr/>
          </p:nvSpPr>
          <p:spPr>
            <a:xfrm>
              <a:off x="3132000" y="458136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у 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5092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с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316548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6084720" y="551808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издерж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59"/>
            <p:cNvCxnSpPr>
              <a:stCxn id="84" idx="1"/>
              <a:endCxn id="85" idx="0"/>
            </p:cNvCxnSpPr>
            <p:nvPr/>
          </p:nvCxnSpPr>
          <p:spPr>
            <a:xfrm flipV="1" rot="10800000">
              <a:off x="1618560" y="4906440"/>
              <a:ext cx="151344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cxnSp>
          <p:nvCxnSpPr>
            <p:cNvPr id="89" name="AutoShape 60"/>
            <p:cNvCxnSpPr>
              <a:stCxn id="84" idx="3"/>
              <a:endCxn id="87" idx="0"/>
            </p:cNvCxnSpPr>
            <p:nvPr/>
          </p:nvCxnSpPr>
          <p:spPr>
            <a:xfrm>
              <a:off x="5868720" y="4906800"/>
              <a:ext cx="158508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sp>
          <p:nvSpPr>
            <p:cNvPr id="90" name="Line 61"/>
            <p:cNvSpPr/>
            <p:nvPr/>
          </p:nvSpPr>
          <p:spPr>
            <a:xfrm>
              <a:off x="4500720" y="5229000"/>
              <a:ext cx="0" cy="289080"/>
            </a:xfrm>
            <a:prstGeom prst="line">
              <a:avLst/>
            </a:prstGeom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3">
            <a:hlinkClick r:id="" action="ppaction://hlinkshowjump?jump=nextslide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Less" w="21600" h="21931">
                <a:moveTo>
                  <a:pt x="5273" y="4150"/>
                </a:moveTo>
                <a:lnTo>
                  <a:pt x="12271" y="4150"/>
                </a:lnTo>
                <a:lnTo>
                  <a:pt x="16327" y="7649"/>
                </a:lnTo>
                <a:lnTo>
                  <a:pt x="16327" y="17780"/>
                </a:lnTo>
                <a:lnTo>
                  <a:pt x="5273" y="17780"/>
                </a:lnTo>
                <a:close/>
              </a:path>
              <a:path fill="darken" w="21600" h="21931">
                <a:moveTo>
                  <a:pt x="12271" y="4150"/>
                </a:moveTo>
                <a:lnTo>
                  <a:pt x="16327" y="7649"/>
                </a:lnTo>
                <a:lnTo>
                  <a:pt x="12271" y="7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4">
            <a:hlinkClick r:id="rId1" action="ppaction://hlinksldjump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ы цен по секторам экономики России (декабрь к декабрю предыдущего года; в раз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25092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889308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50920" y="2133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41128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9236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565164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673272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781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24360" y="1413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тор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48652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6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64580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726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0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958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2508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потреб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ьских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558160" y="2276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3781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861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869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68788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029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250920" y="299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52000" y="299736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прои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е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ленно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55816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371052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4789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5797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6950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8174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252000" y="4508640"/>
            <a:ext cx="217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реа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ции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охозяй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ными пр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2557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3637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478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5869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68788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802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250920" y="623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5">
            <a:hlinkClick r:id="" action="ppaction://hlinkshowjump?jump=nextslide"/>
          </p:cNvPr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3794"/>
                </a:moveTo>
                <a:lnTo>
                  <a:pt x="26103" y="10800"/>
                </a:lnTo>
                <a:lnTo>
                  <a:pt x="120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инфляция в России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2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84360" y="476280"/>
            <a:ext cx="5545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о степени сбалансированности роста цен 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балансированную и несбалансированную инфля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assa"/>
          <p:cNvPicPr/>
          <p:nvPr/>
        </p:nvPicPr>
        <p:blipFill>
          <a:blip r:embed="rId1"/>
          <a:stretch/>
        </p:blipFill>
        <p:spPr>
          <a:xfrm>
            <a:off x="6300720" y="404640"/>
            <a:ext cx="182088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world2_135"/>
          <p:cNvPicPr/>
          <p:nvPr/>
        </p:nvPicPr>
        <p:blipFill>
          <a:blip r:embed="rId2"/>
          <a:stretch/>
        </p:blipFill>
        <p:spPr>
          <a:xfrm>
            <a:off x="324000" y="3284640"/>
            <a:ext cx="3373200" cy="2498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924360" y="314172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гнозируемую и непрогнозируемую инфляции.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9280" y="5805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Сочетание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балансированн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гнозируем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 инфляции не наносит особого вреда экономике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сбалансированн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рогнозируем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опасны и чреваты большими издержками в период адап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76360" y="5805360"/>
            <a:ext cx="5472000" cy="648000"/>
            <a:chOff x="1476360" y="5805360"/>
            <a:chExt cx="5472000" cy="648000"/>
          </a:xfrm>
        </p:grpSpPr>
        <p:sp>
          <p:nvSpPr>
            <p:cNvPr id="147" name="Rectangle 10"/>
            <p:cNvSpPr/>
            <p:nvPr/>
          </p:nvSpPr>
          <p:spPr>
            <a:xfrm>
              <a:off x="1476360" y="5805360"/>
              <a:ext cx="2016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708360" y="5805360"/>
              <a:ext cx="180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859280" y="6165720"/>
              <a:ext cx="20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411280" y="6165720"/>
              <a:ext cx="22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324000" y="64944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учетной ставки (ставки рефинансирования).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нормы обязательного резерв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сокращение государственных расходов и социа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совершен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твование налоговой системы и увеличение налоговых поступлений в бюд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250920" y="189000"/>
            <a:ext cx="8562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инфляционная политика государства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1 строчка – одно слово (название стихотворения, тема, обычно существитель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2 строчка – два слова (описание темы, прилагательные или причас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3 строчка – три слова (действие темы, глаго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9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8 –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ворческая работа на тему «Инфля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5:12:26Z</dcterms:created>
  <dc:creator>Надежда</dc:creator>
  <dc:description/>
  <dc:language>en-US</dc:language>
  <cp:lastModifiedBy>LEGION</cp:lastModifiedBy>
  <dcterms:modified xsi:type="dcterms:W3CDTF">2015-01-05T10:16:45Z</dcterms:modified>
  <cp:revision>14</cp:revision>
  <dc:subject/>
  <dc:title>Инфляция: сущность, причины, измерение</dc:title>
</cp:coreProperties>
</file>