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9C79-120F-413A-945A-360D010BB6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нфляция: сущность, причины, изме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авка Н.В., учитель истории и обществознания МОУ «Февральская СОШ № 1», 200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0B59-D55B-4BC9-A9B4-AD6CD00D71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оцесс обесценивания денег в результате переполнения каналов товарного обращения денежной масс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Устойчивая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тенденция повышения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общего уровня цен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на товары и услуги в стране, выраженная в процен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латинского 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ati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здут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П = ЦТП / ЦБГ х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ИП - индекс цен текущего периода (мес., кв.,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ТП - цены текущего периода, ЦБГ - цены базов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ЦП= (ЦТП-ЦПП) / ЦПП х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ЦП - темпы прироста цен текущего периода, ЦТП - цены текущего перио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ПП - цены прошлого пери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Calibri"/>
              </a:rPr>
              <a:t>Дефля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снижение общего уровня цен, которое не носит сезон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арактера. Замедление темпа прироста цен называе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ff6600"/>
                </a:solidFill>
                <a:latin typeface="Calibri"/>
              </a:rPr>
              <a:t>дезинфляцие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A182-8B29-4B7E-A8BA-2EEB5E6572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Ф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30F4-785A-41E0-9853-81522B96CF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ы цен по секторам экономики России (декабрь к декабрю предыдущего года; в раз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6904-5C76-4141-A102-F470B44699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По степени сбалансированности роста цен различают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балансированную и несбалансированную инфля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При сбалансированной инфляции цены различных товаров друг относительно друга остаются неизменными, а при несбалансированной - цены различных товаров изменяются по отношению друг к другу в различных пропор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Различают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прогнозируемую и непрогнозируемую инфляции.</a:t>
            </a: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 Прогнозируемая инфляция - это инфляция, которая учитывается в ожиданиях и поведении экономических субъектов, непрогнозируемая инфляция становится для населения неожиданностью, т.к. фактический темп роста уровня цен превышает ожидаем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Сочетание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сбалансированной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прогнозируемой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 инфляции не наносит особого вреда экономике, а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несбалансированная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непрогнозируемая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опасны и чреваты большими издержками в период адап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1083-1097-4731-BE62-02D1FF1523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66"/>
                </a:solidFill>
                <a:latin typeface="Impact"/>
              </a:rPr>
              <a:t>Антиинфляционная политика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политика цен и доходов, означающая, что правительство либо "замораживает" цены и номинальные доходы, либо "привязывает" рост цен к росту оплаты труда, а увеличение доходов - к повышению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повышение учетной ставки (ставки рефинансирования).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ограничение денежной массы, которую можно сокращать резко или постепенно, которое будет успешным, если рост денежной массы и уровня цен не превышает 20-30% в г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повышение нормы обязательного резерв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b0fa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0faa4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b0faa4"/>
                </a:solidFill>
                <a:latin typeface="Calibri"/>
              </a:rPr>
              <a:t>сокращение государственных расходов и социальных програм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совершен</a:t>
            </a: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твование налоговой системы и увеличение налоговых поступлений в бюдж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2C90-A50A-44AA-B5D7-81655CDCAF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лово «синквейн» пришло к нам из французского языка и переводится как «пять». Следовательно, синквейн – это стихотворение, состоящее из пяти строк.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Правила написания синквей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1 строчка – одно слово (название стихотворения, тема, обычно существительно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2 строчка – два слова (описание темы, прилагательные или причас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3 строчка – три слова (действие темы, глаго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4 строчка – четыре слова – предложение (фраза, которая показывает отношение автора к теме, заявленной в первой строчк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5 строчка – одно слово (ассоциация, синоним к теме, обычно существительное, допускается описательный оборо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1AFA-3A1B-425C-8396-D63239BC79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19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18 – по жела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Творческая работа на тему «Инфля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Статистические данные о темпах инфляции в России в 2008-2009гг. в сравнении с другими странами, прогноз на 2010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814C-9F80-4156-BBA2-95DD250467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E88-4865-4CF9-A118-2DFA0383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BBFF-0B23-478D-8A35-16F344FE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7058-1900-48D6-BC48-FA050029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8B3F-0E03-410F-9883-70CCC1E6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A296-27AF-4863-A9F3-6E98585C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486D-2066-4AFB-91FA-2ABF5ED1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4FCB-E16E-47E1-A530-6FC98C66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1635-008D-4B8B-8B46-2ECEE4C1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5D0D-D605-4529-8A92-A1DA82E1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CF6C-97A2-4DE5-94B4-8FA2A742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8EDA-F943-40E0-ABFE-F0BF919E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6AAC-DE30-4017-85C7-ACA5BB08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345A-EBF2-4458-8AE6-A0F51CA882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инфляция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Инфляция: сущность, причины, изме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877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авка Н.В., учитель истории и обществознания МОУ «Февральская СОШ № 1», 200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3059280" y="189000"/>
            <a:ext cx="21621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Эконом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 rot="20684400">
            <a:off x="250920" y="980640"/>
            <a:ext cx="2448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ляц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987640" y="189000"/>
            <a:ext cx="5545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оцесс обесценивания денег в результате переполнения каналов товарного обращения денежной масс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Устойчивая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тенденция повышения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бщего уровня 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на товары и услуги в стране, выраженная в процен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68360" y="3284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латинского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ati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здут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24000" y="587700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фля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снижение общего уровня цен, которое не носит сезон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а. Замедление темпа прироста цен называ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дезинфляци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4"/>
          <p:cNvSpPr/>
          <p:nvPr/>
        </p:nvSpPr>
        <p:spPr>
          <a:xfrm>
            <a:off x="1258920" y="3645000"/>
            <a:ext cx="7129440" cy="1081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П = ЦТП / ЦБГ х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ИП - индекс цен текущего периода (мес., кв., год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ТП - цены текущего периода, ЦБГ - цены базового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7"/>
          <p:cNvSpPr/>
          <p:nvPr/>
        </p:nvSpPr>
        <p:spPr>
          <a:xfrm>
            <a:off x="179280" y="4797360"/>
            <a:ext cx="8964720" cy="10796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ЦП= (ЦТП-ЦПП) / ЦПП х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ЦП - темпы прироста цен текущего периода, ЦТП - цены текущего пери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ПП - цены прошлого пери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5"/>
          <p:cNvSpPr/>
          <p:nvPr/>
        </p:nvSpPr>
        <p:spPr>
          <a:xfrm>
            <a:off x="1332000" y="692280"/>
            <a:ext cx="6264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ИНФ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900000" y="1916280"/>
            <a:ext cx="1800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тем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6300720" y="1916280"/>
            <a:ext cx="1800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я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3635280" y="1882800"/>
            <a:ext cx="1800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механи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4284720" y="134136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>
            <a:off x="1763640" y="134136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>
            <a:off x="6732720" y="1341360"/>
            <a:ext cx="215640" cy="432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bbe0e3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8"/>
          <p:cNvGrpSpPr/>
          <p:nvPr/>
        </p:nvGrpSpPr>
        <p:grpSpPr>
          <a:xfrm>
            <a:off x="179280" y="2781360"/>
            <a:ext cx="8712360" cy="1584360"/>
            <a:chOff x="179280" y="2781360"/>
            <a:chExt cx="8712360" cy="1584360"/>
          </a:xfrm>
        </p:grpSpPr>
        <p:sp>
          <p:nvSpPr>
            <p:cNvPr id="68" name="AutoShape 39"/>
            <p:cNvSpPr/>
            <p:nvPr/>
          </p:nvSpPr>
          <p:spPr>
            <a:xfrm>
              <a:off x="2340000" y="2781360"/>
              <a:ext cx="3887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о темп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40"/>
            <p:cNvSpPr/>
            <p:nvPr/>
          </p:nvSpPr>
          <p:spPr>
            <a:xfrm>
              <a:off x="179280" y="3718080"/>
              <a:ext cx="20890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рма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олзуча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1"/>
            <p:cNvSpPr/>
            <p:nvPr/>
          </p:nvSpPr>
          <p:spPr>
            <a:xfrm>
              <a:off x="6659640" y="3718080"/>
              <a:ext cx="223200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иперинфля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42"/>
            <p:cNvSpPr/>
            <p:nvPr/>
          </p:nvSpPr>
          <p:spPr>
            <a:xfrm>
              <a:off x="2411280" y="3718080"/>
              <a:ext cx="1871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мерен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43"/>
            <p:cNvSpPr/>
            <p:nvPr/>
          </p:nvSpPr>
          <p:spPr>
            <a:xfrm>
              <a:off x="4427640" y="3718080"/>
              <a:ext cx="20890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алопирующ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AutoShape 44"/>
            <p:cNvCxnSpPr>
              <a:stCxn id="68" idx="1"/>
              <a:endCxn id="69" idx="0"/>
            </p:cNvCxnSpPr>
            <p:nvPr/>
          </p:nvCxnSpPr>
          <p:spPr>
            <a:xfrm flipV="1" rot="10800000">
              <a:off x="1223280" y="3105000"/>
              <a:ext cx="1116720" cy="613440"/>
            </a:xfrm>
            <a:prstGeom prst="bentConnector2">
              <a:avLst/>
            </a:prstGeom>
            <a:ln w="38160">
              <a:solidFill>
                <a:srgbClr val="ffcccc"/>
              </a:solidFill>
              <a:miter/>
            </a:ln>
          </p:spPr>
        </p:cxnSp>
        <p:cxnSp>
          <p:nvCxnSpPr>
            <p:cNvPr id="74" name="AutoShape 45"/>
            <p:cNvCxnSpPr>
              <a:stCxn id="68" idx="3"/>
              <a:endCxn id="70" idx="0"/>
            </p:cNvCxnSpPr>
            <p:nvPr/>
          </p:nvCxnSpPr>
          <p:spPr>
            <a:xfrm>
              <a:off x="6227640" y="3105360"/>
              <a:ext cx="1548720" cy="613440"/>
            </a:xfrm>
            <a:prstGeom prst="bentConnector2">
              <a:avLst/>
            </a:prstGeom>
            <a:ln w="28440">
              <a:solidFill>
                <a:srgbClr val="ffcccc"/>
              </a:solidFill>
              <a:miter/>
            </a:ln>
          </p:spPr>
        </p:cxnSp>
        <p:sp>
          <p:nvSpPr>
            <p:cNvPr id="75" name="Line 46"/>
            <p:cNvSpPr/>
            <p:nvPr/>
          </p:nvSpPr>
          <p:spPr>
            <a:xfrm>
              <a:off x="3348000" y="3429000"/>
              <a:ext cx="0" cy="289080"/>
            </a:xfrm>
            <a:prstGeom prst="line">
              <a:avLst/>
            </a:prstGeom>
            <a:ln w="284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47"/>
            <p:cNvSpPr/>
            <p:nvPr/>
          </p:nvSpPr>
          <p:spPr>
            <a:xfrm>
              <a:off x="5435640" y="3429000"/>
              <a:ext cx="0" cy="289080"/>
            </a:xfrm>
            <a:prstGeom prst="line">
              <a:avLst/>
            </a:prstGeom>
            <a:ln w="284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54"/>
          <p:cNvGrpSpPr/>
          <p:nvPr/>
        </p:nvGrpSpPr>
        <p:grpSpPr>
          <a:xfrm>
            <a:off x="1258920" y="4581360"/>
            <a:ext cx="6696000" cy="1655640"/>
            <a:chOff x="1258920" y="4581360"/>
            <a:chExt cx="6696000" cy="1655640"/>
          </a:xfrm>
        </p:grpSpPr>
        <p:sp>
          <p:nvSpPr>
            <p:cNvPr id="78" name="AutoShape 49"/>
            <p:cNvSpPr/>
            <p:nvPr/>
          </p:nvSpPr>
          <p:spPr>
            <a:xfrm>
              <a:off x="3132360" y="4581360"/>
              <a:ext cx="2735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о форм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я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50"/>
            <p:cNvSpPr/>
            <p:nvPr/>
          </p:nvSpPr>
          <p:spPr>
            <a:xfrm>
              <a:off x="1258920" y="5589360"/>
              <a:ext cx="2735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ткрыт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ценова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51"/>
            <p:cNvSpPr/>
            <p:nvPr/>
          </p:nvSpPr>
          <p:spPr>
            <a:xfrm>
              <a:off x="5219640" y="5589360"/>
              <a:ext cx="2735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крыт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давлен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AutoShape 52"/>
            <p:cNvCxnSpPr>
              <a:stCxn id="78" idx="1"/>
              <a:endCxn id="79" idx="0"/>
            </p:cNvCxnSpPr>
            <p:nvPr/>
          </p:nvCxnSpPr>
          <p:spPr>
            <a:xfrm flipV="1" rot="10800000">
              <a:off x="2626560" y="4903920"/>
              <a:ext cx="505800" cy="685080"/>
            </a:xfrm>
            <a:prstGeom prst="bentConnector2">
              <a:avLst/>
            </a:prstGeom>
            <a:ln w="38160">
              <a:solidFill>
                <a:srgbClr val="ffff99"/>
              </a:solidFill>
              <a:miter/>
            </a:ln>
          </p:spPr>
        </p:cxnSp>
        <p:cxnSp>
          <p:nvCxnSpPr>
            <p:cNvPr id="82" name="AutoShape 53"/>
            <p:cNvCxnSpPr>
              <a:stCxn id="78" idx="3"/>
              <a:endCxn id="80" idx="0"/>
            </p:cNvCxnSpPr>
            <p:nvPr/>
          </p:nvCxnSpPr>
          <p:spPr>
            <a:xfrm>
              <a:off x="5867640" y="4904640"/>
              <a:ext cx="721440" cy="685080"/>
            </a:xfrm>
            <a:prstGeom prst="bentConnector2">
              <a:avLst/>
            </a:prstGeom>
            <a:ln w="38160">
              <a:solidFill>
                <a:srgbClr val="ffff99"/>
              </a:solidFill>
              <a:miter/>
            </a:ln>
          </p:spPr>
        </p:cxnSp>
      </p:grpSp>
      <p:grpSp>
        <p:nvGrpSpPr>
          <p:cNvPr id="83" name="Group 62"/>
          <p:cNvGrpSpPr/>
          <p:nvPr/>
        </p:nvGrpSpPr>
        <p:grpSpPr>
          <a:xfrm>
            <a:off x="250920" y="4581360"/>
            <a:ext cx="8570880" cy="1585800"/>
            <a:chOff x="250920" y="4581360"/>
            <a:chExt cx="8570880" cy="1585800"/>
          </a:xfrm>
        </p:grpSpPr>
        <p:sp>
          <p:nvSpPr>
            <p:cNvPr id="84" name="AutoShape 55"/>
            <p:cNvSpPr/>
            <p:nvPr/>
          </p:nvSpPr>
          <p:spPr>
            <a:xfrm>
              <a:off x="3132000" y="4581360"/>
              <a:ext cx="273708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ханизму проя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56"/>
            <p:cNvSpPr/>
            <p:nvPr/>
          </p:nvSpPr>
          <p:spPr>
            <a:xfrm>
              <a:off x="250920" y="5518080"/>
              <a:ext cx="273672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с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57"/>
            <p:cNvSpPr/>
            <p:nvPr/>
          </p:nvSpPr>
          <p:spPr>
            <a:xfrm>
              <a:off x="3165480" y="5518080"/>
              <a:ext cx="273672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редло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58"/>
            <p:cNvSpPr/>
            <p:nvPr/>
          </p:nvSpPr>
          <p:spPr>
            <a:xfrm>
              <a:off x="6084720" y="5518080"/>
              <a:ext cx="273708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издерж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59"/>
            <p:cNvCxnSpPr>
              <a:stCxn id="84" idx="1"/>
              <a:endCxn id="85" idx="0"/>
            </p:cNvCxnSpPr>
            <p:nvPr/>
          </p:nvCxnSpPr>
          <p:spPr>
            <a:xfrm flipV="1" rot="10800000">
              <a:off x="1618560" y="4906440"/>
              <a:ext cx="1513440" cy="612000"/>
            </a:xfrm>
            <a:prstGeom prst="bentConnector2">
              <a:avLst/>
            </a:prstGeom>
            <a:ln w="38160">
              <a:solidFill>
                <a:srgbClr val="ccff66"/>
              </a:solidFill>
              <a:miter/>
            </a:ln>
          </p:spPr>
        </p:cxnSp>
        <p:cxnSp>
          <p:nvCxnSpPr>
            <p:cNvPr id="89" name="AutoShape 60"/>
            <p:cNvCxnSpPr>
              <a:stCxn id="84" idx="3"/>
              <a:endCxn id="87" idx="0"/>
            </p:cNvCxnSpPr>
            <p:nvPr/>
          </p:nvCxnSpPr>
          <p:spPr>
            <a:xfrm>
              <a:off x="5868720" y="4906800"/>
              <a:ext cx="1585080" cy="612000"/>
            </a:xfrm>
            <a:prstGeom prst="bentConnector2">
              <a:avLst/>
            </a:prstGeom>
            <a:ln w="38160">
              <a:solidFill>
                <a:srgbClr val="ccff66"/>
              </a:solidFill>
              <a:miter/>
            </a:ln>
          </p:spPr>
        </p:cxnSp>
        <p:sp>
          <p:nvSpPr>
            <p:cNvPr id="90" name="Line 61"/>
            <p:cNvSpPr/>
            <p:nvPr/>
          </p:nvSpPr>
          <p:spPr>
            <a:xfrm>
              <a:off x="4500720" y="5229000"/>
              <a:ext cx="0" cy="289080"/>
            </a:xfrm>
            <a:prstGeom prst="line">
              <a:avLst/>
            </a:prstGeom>
            <a:ln w="381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AutoShape 63">
            <a:hlinkClick r:id="" action="ppaction://hlinkshowjump?jump=nextslide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Less" w="21600" h="21931">
                <a:moveTo>
                  <a:pt x="5273" y="4150"/>
                </a:moveTo>
                <a:lnTo>
                  <a:pt x="12271" y="4150"/>
                </a:lnTo>
                <a:lnTo>
                  <a:pt x="16327" y="7649"/>
                </a:lnTo>
                <a:lnTo>
                  <a:pt x="16327" y="17780"/>
                </a:lnTo>
                <a:lnTo>
                  <a:pt x="5273" y="17780"/>
                </a:lnTo>
                <a:close/>
              </a:path>
              <a:path fill="darken" w="21600" h="21931">
                <a:moveTo>
                  <a:pt x="12271" y="4150"/>
                </a:moveTo>
                <a:lnTo>
                  <a:pt x="16327" y="7649"/>
                </a:lnTo>
                <a:lnTo>
                  <a:pt x="12271" y="764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4">
            <a:hlinkClick r:id="rId1" action="ppaction://hlinksldjump"/>
          </p:cNvPr>
          <p:cNvSpPr/>
          <p:nvPr/>
        </p:nvSpPr>
        <p:spPr>
          <a:xfrm>
            <a:off x="8317080" y="623736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ексы цен по секторам экономики России (декабрь к декабрю предыдущего года; в раз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"/>
          <p:cNvSpPr/>
          <p:nvPr/>
        </p:nvSpPr>
        <p:spPr>
          <a:xfrm>
            <a:off x="250920" y="126828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250920" y="126828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8893080" y="126828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250920" y="213372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241128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349236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457200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>
            <a:off x="565164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673272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>
            <a:off x="781200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324360" y="141300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тор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48652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56616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464580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72688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680616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795888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325080" y="2205000"/>
            <a:ext cx="19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потреб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ьских ц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2558160" y="2276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6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378180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486108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586908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687888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802980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250920" y="2997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252000" y="2997360"/>
            <a:ext cx="21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цен произ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ителей пр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шленной пр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255816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3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0"/>
          <p:cNvSpPr/>
          <p:nvPr/>
        </p:nvSpPr>
        <p:spPr>
          <a:xfrm>
            <a:off x="371052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>
            <a:off x="478980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2"/>
          <p:cNvSpPr/>
          <p:nvPr/>
        </p:nvSpPr>
        <p:spPr>
          <a:xfrm>
            <a:off x="579780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3"/>
          <p:cNvSpPr/>
          <p:nvPr/>
        </p:nvSpPr>
        <p:spPr>
          <a:xfrm>
            <a:off x="695016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817416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250920" y="436572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252000" y="4508640"/>
            <a:ext cx="217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цен реал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ции проду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ьскохозяйс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ными пред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ят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255780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8"/>
          <p:cNvSpPr/>
          <p:nvPr/>
        </p:nvSpPr>
        <p:spPr>
          <a:xfrm>
            <a:off x="36370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478980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0"/>
          <p:cNvSpPr/>
          <p:nvPr/>
        </p:nvSpPr>
        <p:spPr>
          <a:xfrm>
            <a:off x="58690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1"/>
          <p:cNvSpPr/>
          <p:nvPr/>
        </p:nvSpPr>
        <p:spPr>
          <a:xfrm>
            <a:off x="68788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2"/>
          <p:cNvSpPr/>
          <p:nvPr/>
        </p:nvSpPr>
        <p:spPr>
          <a:xfrm>
            <a:off x="802980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3"/>
          <p:cNvSpPr/>
          <p:nvPr/>
        </p:nvSpPr>
        <p:spPr>
          <a:xfrm>
            <a:off x="250920" y="6237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5">
            <a:hlinkClick r:id="" action="ppaction://hlinkshowjump?jump=nextslide"/>
          </p:cNvPr>
          <p:cNvSpPr/>
          <p:nvPr/>
        </p:nvSpPr>
        <p:spPr>
          <a:xfrm>
            <a:off x="8172360" y="6308640"/>
            <a:ext cx="971640" cy="549360"/>
          </a:xfrm>
          <a:custGeom>
            <a:avLst/>
            <a:gdLst>
              <a:gd name="textAreaLeft" fmla="*/ 35280 w 971640"/>
              <a:gd name="textAreaRight" fmla="*/ 936360 w 971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8193" h="21600">
                <a:moveTo>
                  <a:pt x="0" y="0"/>
                </a:moveTo>
                <a:lnTo>
                  <a:pt x="38193" y="0"/>
                </a:lnTo>
                <a:lnTo>
                  <a:pt x="38193" y="21600"/>
                </a:lnTo>
                <a:lnTo>
                  <a:pt x="0" y="21600"/>
                </a:lnTo>
                <a:close/>
              </a:path>
              <a:path fill="lightenLess" w="38193" h="21600">
                <a:moveTo>
                  <a:pt x="0" y="0"/>
                </a:moveTo>
                <a:lnTo>
                  <a:pt x="38193" y="0"/>
                </a:lnTo>
                <a:lnTo>
                  <a:pt x="36793" y="1400"/>
                </a:lnTo>
                <a:lnTo>
                  <a:pt x="1400" y="1400"/>
                </a:lnTo>
                <a:close/>
              </a:path>
              <a:path fill="darken" w="38193" h="21600">
                <a:moveTo>
                  <a:pt x="38193" y="0"/>
                </a:moveTo>
                <a:lnTo>
                  <a:pt x="38193" y="21600"/>
                </a:lnTo>
                <a:lnTo>
                  <a:pt x="36793" y="20200"/>
                </a:lnTo>
                <a:lnTo>
                  <a:pt x="36793" y="1400"/>
                </a:lnTo>
                <a:close/>
              </a:path>
              <a:path fill="darkenLess" w="38193" h="21600">
                <a:moveTo>
                  <a:pt x="38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93" y="20200"/>
                </a:lnTo>
                <a:close/>
              </a:path>
              <a:path fill="lighten" w="38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193" h="21600">
                <a:moveTo>
                  <a:pt x="12090" y="3794"/>
                </a:moveTo>
                <a:lnTo>
                  <a:pt x="26103" y="10800"/>
                </a:lnTo>
                <a:lnTo>
                  <a:pt x="120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инфляция в России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57214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5">
            <a:hlinkClick r:id="rId2" action="ppaction://hlinksldjump"/>
          </p:cNvPr>
          <p:cNvSpPr/>
          <p:nvPr/>
        </p:nvSpPr>
        <p:spPr>
          <a:xfrm>
            <a:off x="0" y="6165720"/>
            <a:ext cx="1116000" cy="692280"/>
          </a:xfrm>
          <a:custGeom>
            <a:avLst/>
            <a:gdLst>
              <a:gd name="textAreaLeft" fmla="*/ 44640 w 1116000"/>
              <a:gd name="textAreaRight" fmla="*/ 1071360 w 1116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4814" h="21600">
                <a:moveTo>
                  <a:pt x="0" y="0"/>
                </a:moveTo>
                <a:lnTo>
                  <a:pt x="34814" y="0"/>
                </a:lnTo>
                <a:lnTo>
                  <a:pt x="34814" y="21600"/>
                </a:lnTo>
                <a:lnTo>
                  <a:pt x="0" y="21600"/>
                </a:lnTo>
                <a:close/>
              </a:path>
              <a:path fill="lightenLess" w="34814" h="21600">
                <a:moveTo>
                  <a:pt x="0" y="0"/>
                </a:moveTo>
                <a:lnTo>
                  <a:pt x="34814" y="0"/>
                </a:lnTo>
                <a:lnTo>
                  <a:pt x="33414" y="1400"/>
                </a:lnTo>
                <a:lnTo>
                  <a:pt x="1400" y="1400"/>
                </a:lnTo>
                <a:close/>
              </a:path>
              <a:path fill="darken" w="34814" h="21600">
                <a:moveTo>
                  <a:pt x="34814" y="0"/>
                </a:moveTo>
                <a:lnTo>
                  <a:pt x="34814" y="21600"/>
                </a:lnTo>
                <a:lnTo>
                  <a:pt x="33414" y="20200"/>
                </a:lnTo>
                <a:lnTo>
                  <a:pt x="33414" y="1400"/>
                </a:lnTo>
                <a:close/>
              </a:path>
              <a:path fill="darkenLess" w="34814" h="21600">
                <a:moveTo>
                  <a:pt x="34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14" y="20200"/>
                </a:lnTo>
                <a:close/>
              </a:path>
              <a:path fill="lighten" w="34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14" h="21600">
                <a:moveTo>
                  <a:pt x="10400" y="10800"/>
                </a:moveTo>
                <a:lnTo>
                  <a:pt x="24413" y="3794"/>
                </a:lnTo>
                <a:lnTo>
                  <a:pt x="244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684360" y="476280"/>
            <a:ext cx="5545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По степени сбалансированности роста цен различают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балансированную и несбалансированную инфля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При сбалансированной инфляции цены различных товаров друг относительно друга остаются неизменными, а при несбалансированной - цены различных товаров изменяются по отношению друг к другу в различных пропор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kassa"/>
          <p:cNvPicPr/>
          <p:nvPr/>
        </p:nvPicPr>
        <p:blipFill>
          <a:blip r:embed="rId1"/>
          <a:stretch/>
        </p:blipFill>
        <p:spPr>
          <a:xfrm>
            <a:off x="6300720" y="404640"/>
            <a:ext cx="1820880" cy="237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world2_135"/>
          <p:cNvPicPr/>
          <p:nvPr/>
        </p:nvPicPr>
        <p:blipFill>
          <a:blip r:embed="rId2"/>
          <a:stretch/>
        </p:blipFill>
        <p:spPr>
          <a:xfrm>
            <a:off x="324000" y="3284640"/>
            <a:ext cx="3373200" cy="24987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3924360" y="3141720"/>
            <a:ext cx="475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Различают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гнозируемую и непрогнозируемую инфляции.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Прогнозируемая инфляция - это инфляция, которая учитывается в ожиданиях и поведении экономических субъектов, непрогнозируемая инфляция становится для населения неожиданностью, т.к. фактический темп роста уровня цен превышает ожидаем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9280" y="58053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Сочетание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балансированной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рогнозируемой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 инфляции не наносит особого вреда экономике, а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сбалансированная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прогнозируемая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опасны и чреваты большими издержками в период адап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5"/>
          <p:cNvGrpSpPr/>
          <p:nvPr/>
        </p:nvGrpSpPr>
        <p:grpSpPr>
          <a:xfrm>
            <a:off x="1476360" y="5805360"/>
            <a:ext cx="5472000" cy="648000"/>
            <a:chOff x="1476360" y="5805360"/>
            <a:chExt cx="5472000" cy="648000"/>
          </a:xfrm>
        </p:grpSpPr>
        <p:sp>
          <p:nvSpPr>
            <p:cNvPr id="147" name="Rectangle 10"/>
            <p:cNvSpPr/>
            <p:nvPr/>
          </p:nvSpPr>
          <p:spPr>
            <a:xfrm>
              <a:off x="1476360" y="5805360"/>
              <a:ext cx="201600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3708360" y="5805360"/>
              <a:ext cx="180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>
              <a:off x="4859280" y="6165720"/>
              <a:ext cx="20890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3"/>
            <p:cNvSpPr/>
            <p:nvPr/>
          </p:nvSpPr>
          <p:spPr>
            <a:xfrm>
              <a:off x="2411280" y="6165720"/>
              <a:ext cx="223200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7"/>
          <p:cNvSpPr/>
          <p:nvPr/>
        </p:nvSpPr>
        <p:spPr>
          <a:xfrm>
            <a:off x="324000" y="649440"/>
            <a:ext cx="864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политика цен и доходов, означающая, что правительство либо "замораживает" цены и номинальные доходы, либо "привязывает" рост цен к росту оплаты труда, а увеличение доходов - к повышению производительности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повышение учетной ставки (ставки рефинансирования).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dddddd"/>
                </a:solidFill>
                <a:latin typeface="Arial"/>
              </a:rPr>
              <a:t>ограничение денежной массы, которую можно сокращать резко или постепенно, которое будет успешным, если рост денежной массы и уровня цен не превышает 20-30% в г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повышение нормы обязательного резерв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0fa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faa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b0faa4"/>
                </a:solidFill>
                <a:latin typeface="Arial"/>
              </a:rPr>
              <a:t>сокращение государственных расходов и социальных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совершен</a:t>
            </a: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твование налоговой системы и увеличение налоговых поступлений в бюдж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8"/>
          <p:cNvSpPr txBox="1"/>
          <p:nvPr/>
        </p:nvSpPr>
        <p:spPr>
          <a:xfrm>
            <a:off x="250920" y="189000"/>
            <a:ext cx="8562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инфляционная политика государства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Слово «синквейн» пришло к нам из французского языка и переводится как «пять». Следовательно, синквейн – это стихотворение, состоящее из пяти строк.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Правила написания синквей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1 строчка – одно слово (название стихотворения, тема, обычно существительно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2 строчка – два слова (описание темы, прилагательные или причаст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3 строчка – три слова (действие темы, глагол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4 строчка – четыре слова – предложение (фраза, которая показывает отношение автора к теме, заявленной в первой строчк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5 строчка – одно слово (ассоциация, синоним к теме, обычно существительное, допускается описательный оборо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9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8 – по желани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Творческая работа на тему «Инфляц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татистические данные о темпах инфляции в России в 2008-2009гг. в сравнении с другими странами, прогноз на 2010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05:12:26Z</dcterms:created>
  <dc:creator>Надежда</dc:creator>
  <dc:description/>
  <dc:language>en-US</dc:language>
  <cp:lastModifiedBy>LEGION</cp:lastModifiedBy>
  <dcterms:modified xsi:type="dcterms:W3CDTF">2015-01-05T10:16:45Z</dcterms:modified>
  <cp:revision>14</cp:revision>
  <dc:subject/>
  <dc:title>Инфляция: сущность, причины, измерение</dc:title>
</cp:coreProperties>
</file>