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74F1-F6BB-4261-857A-C04B359A9D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7;&#1077;&#1089;&#1090;&#1074;&#1086;" TargetMode="External"/><Relationship Id="rId2" Type="http://schemas.openxmlformats.org/officeDocument/2006/relationships/hyperlink" Target="http://ru.wikipedia.org/wiki/&#1057;&#1086;&#1073;&#1089;&#1090;&#1074;&#1077;&#1085;&#1085;&#1086;&#1089;&#1090;&#1100;" TargetMode="External"/><Relationship Id="rId3" Type="http://schemas.openxmlformats.org/officeDocument/2006/relationships/hyperlink" Target="http://ru.wikipedia.org/wiki/&#1044;&#1077;&#1085;&#1077;&#1078;&#1085;&#1099;&#1081;_&#1088;&#1099;&#1085;&#1086;&#1082;" TargetMode="External"/><Relationship Id="rId4" Type="http://schemas.openxmlformats.org/officeDocument/2006/relationships/hyperlink" Target="http://ru.wikipedia.org/wiki/&#1056;&#1099;&#1085;&#1086;&#1082;_&#1094;&#1077;&#1085;&#1085;&#1099;&#1093;_&#1073;&#1091;&#1084;&#1072;&#1075;" TargetMode="External"/><Relationship Id="rId5" Type="http://schemas.openxmlformats.org/officeDocument/2006/relationships/hyperlink" Target="http://ru.wikipedia.org/wiki/&#1052;&#1072;&#1082;&#1088;&#1086;&#1101;&#1082;&#1086;&#1085;&#1086;&#1084;&#1080;&#1082;&#1072;" TargetMode="External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2;&#1073;&#1086;&#1095;&#1072;&#1103;_&#1089;&#1080;&#1083;&#1072;" TargetMode="External"/><Relationship Id="rId2" Type="http://schemas.openxmlformats.org/officeDocument/2006/relationships/hyperlink" Target="http://ru.wikipedia.org/wiki/&#1050;&#1074;&#1072;&#1083;&#1080;&#1092;&#1080;&#1082;&#1072;&#1094;&#1080;&#1103;_(&#1086;&#1073;&#1088;&#1072;&#1079;&#1086;&#1074;&#1072;&#1085;&#1080;&#1077;)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58;&#1088;&#1091;&#1076;" TargetMode="External"/><Relationship Id="rId3" Type="http://schemas.openxmlformats.org/officeDocument/2006/relationships/slide" Target="../slides/slide7.xml"/><Relationship Id="rId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47;&#1072;&#1082;&#1086;&#1085;_&#1089;&#1087;&#1088;&#1086;&#1089;&#1072;_&#1080;_&#1087;&#1088;&#1077;&#1076;&#1083;&#1086;&#1078;&#1077;&#1085;&#1080;&#1103;" TargetMode="External"/><Relationship Id="rId3" Type="http://schemas.openxmlformats.org/officeDocument/2006/relationships/hyperlink" Target="http://ru.wikipedia.org/wiki/&#1047;&#1072;&#1088;&#1072;&#1073;&#1086;&#1090;&#1085;&#1072;&#1103;_&#1087;&#1083;&#1072;&#1090;&#1072;" TargetMode="External"/><Relationship Id="rId4" Type="http://schemas.openxmlformats.org/officeDocument/2006/relationships/slide" Target="../slides/slide8.xml"/><Relationship Id="rId5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5;&#1082;&#1091;&#1088;&#1077;&#1085;&#1094;&#1080;&#1103;_(&#1101;&#1082;&#1086;&#1085;&#1086;&#1084;&#1080;&#1082;&#1072;)" TargetMode="External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5b40"/>
                </a:solidFill>
                <a:latin typeface="Arial Black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Narrow"/>
              </a:rPr>
              <a:t>Модель монополии и монопс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60E0-68D6-4A8F-93AB-5744358154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руда зачастую является самым точным детектором социального положения населения той или иной страны. Возникновение рынка труда связано со становлением рыночных отношений и развитием капитализ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ынке труда зависит от положения дел на товарных рынках. Поэтому кадровый заказ формируется не только государством, но и предприятиями, отраслями.  В условиях рынка труда  отрасли и предприятия будут определять как текущие потребности в кадрах, так и перспективные, а также содержание профессионального труда, его черты и особ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A061-7BEE-480C-AC69-47B051785E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ая школа вынуждена реагировать на конъюнктуру рынка труда: разрабатываются новые образовательные стандарты изменяется структура, спектр профессий и специально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до настоящего времени необходимого баланса между спросом на профессии со стороны работодателей и предложением со стороны выпускников профессиональных школ н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50% выпускников после окончания учебного заведения оказываются невостребованными и вынуждены работать не по специальности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189E-336C-4765-9F78-4A7F967828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ование занятости в современных условиях должно обеспечиваться не закрепляемостью за работниками конкретного рабочего места, а созданием условий для непрерывного роста квалификаций и профессионального мастерства. Именно это будет способствовать решению проблемы регулирования занятости населения. В дальнейшем для молодых людей в соответствии с их трудолюбием, способностями и профессиональной подготовкой будут открываться дополнительные перспективы освоения еще более сложных и престижны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6649-16F0-4D66-BDAF-10EE210CAD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бильность трудовых ресурсов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— один из важнейших параметров, при которых возможен экономический рост в экономике вообще. Мобильность трудовых ресурсов характеризуется реальными возможностями работников и их семей переехать в другие местности для выбора места проживания, где они могут иметь более выгодные предложения по найму</a:t>
            </a:r>
            <a:r>
              <a:rPr b="0" lang="ru-RU" sz="1200" spc="-1" strike="noStrike" u="sng">
                <a:solidFill>
                  <a:srgbClr val="3c8c93"/>
                </a:solidFill>
                <a:uFillTx/>
                <a:latin typeface="Arial"/>
              </a:rPr>
              <a:t>.(Территориальна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c8c93"/>
                </a:solidFill>
                <a:uFillTx/>
                <a:latin typeface="Arial"/>
              </a:rPr>
              <a:t>Профессиональная </a:t>
            </a:r>
            <a:r>
              <a:rPr b="0" lang="ru-RU" sz="1200" spc="-1" strike="noStrike">
                <a:solidFill>
                  <a:srgbClr val="3c8c93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человека овладевать разными профессиями и переучиваться в течение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2bfc5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мобильность трудовых ресурсов способствует более высокой эффективности и производительности в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0187-7702-46D9-9C07-276E571A42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руда в России имеет ряд особенностей по сравнению с рынками труда других развитых государ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рынок труда ещё не до конца сформиров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менталитета россиян, климатическими особенностями и большой территорией россияне не отличаются мобиль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C8AD-54A1-49A1-902B-AF4306F31E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фициальным данным в России низкий уровень безработицы, хотя безработица имеет теневые формы, иногда безработица имеет скрытые формы, когда, например, работник переводится на 0,1 ставки (формально это человек имеющий работу, но реально 1/10 часть оплаты труда не позволяет содержать себя и семью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7C7E-22D3-4B7D-B2CB-3CDE553219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ие предприятий приводит к тому, что состояние рынка труда не позволяет говорит о высокой эффективности. Гонка правительства за социальной стабильностью приводит к тому, что работу сохраняют низкоэффективные работники, что приводит к серьезным проблемам с производительностью труда. Происходит резервирование рабочей си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871B-271C-49EC-8970-4119100088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низкий уровень оплаты труда, что приводит к низкой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ий средний уровень качества и гибкости образования приводит к высокому уровню безработицы и низкому уровню оплаты труда квалифицированных кад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CD2C-247E-469F-993D-CABFB87681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Рынок труд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рынок, где продают и покупают рабочую силу, не в прямом физическом смысле, а силу как способность к определенному виду труда.   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версальность труда как товара связана с тем, что человек способен овладеть разными профессиями и переучиваться в течение жи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навыки любого рода приобретают ценность для общества и превращаются в интересующий рынок товаров только в том случае, если есть спрос на товары и услуги, для изготовления которых нужны эти навы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427C-2023-4421-9C6E-EBE008D10E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монопс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я, возникающая на рынке при наличии только одного покупателя, который в силу  своего исключительного положения может диктовать всем продавцам условия приобретения этих товаров , и прежде всего их це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0C0A-6DEB-4A6E-9A9D-48F1D164AC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то наиболее эффективный инструмент развития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особенность рынка заключается в его способности к саморегулированию. Поскольку производители, учитывая спрос потребителей, решают, что и сколько производи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ункционирования рынка лежит конкуренция. Она является основным мотивом, побуждающим предприятие к борьбе за место на рынке. На рынке, где встречается потребитель и производитель, происходит уравновешивание спроса и предложения това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5F39-D809-4636-BDDD-F99A24C7FA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житочный минимум (1че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45A8-A92E-433A-8CCF-FDF82220FA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мы собственники, даже если не имеем дачи, машины и приватизированной кварти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мы собственники своего труда и можем продать его тому, кто в нем нуждается. Таким образом, формируется рынок труда, который похож на другие рынки товаров и услуг, но есть и важные особенност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1BF7-0CC1-43ED-85F1-E5C4D38E84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социально-трудовых отношений в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бществ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поводу найма и использования работников в сфере общественного производства, обусловленная многообразием форм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обствен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еоднородностью рабочей силы и интересов субъектов производства.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руда наряду с рынком благ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ынком дене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ынком ценных бума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ходит в фундаментальные совокупные макрорынки, которые изучаются учеными-экономистами в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макроэкономик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экономика страны, региона, группы стр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9499-303E-457B-B8AA-856CBB94F7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купли-продажи на нем является право на использовани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абочей сил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знаний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валифик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способностей к трудовому процес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BB7A-4BF1-4AD6-8907-710A78C052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товар – услуги труда, предлагаемый на этом рынке, весьма неоднород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ценой труда является ставка заработанной платы, которая менее подвижна, чем цены на другие товары, и от ее уровня зависят условия жизни гражда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отношения работодателя и наемного работника, как отношения господства и подчинения, всегда порождают противоречия и борь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3688-576B-49DC-A0C3-374602A4FF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  — система социально-экономических и юридических отношений в обществе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орм и институ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званных обеспечить нормальный непрерывный процесс воспроизводства рабочей силы и эффективное использовани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C3BB-102A-4D0B-BE27-DEBD743D20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ношения на рынке тру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ются общественными и государственным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ститут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Эти отношения противоречивы в силу действия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законов спроса и предлож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обмена устанавливается состояние их временного равновесия, которое выражается определенным уровнем занятости 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платой тру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5C3D-8F31-4CE6-A277-FEF045C0AB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рос на рабочую сил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словиях свободной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нкурен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ируется под влиянием двух основных показателей: реальной заработной пла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тоимости предельного продукта труда (продукта труда, произведенного последним нанятым работник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труда прямо зависит от уровня оплаты тру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зарплата, тем выше уровень предложения рабочей си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422B-76D1-4063-8BC4-97F49C5EA2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C8F-2A79-4B03-BF91-B6A79BE8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682-1C95-4174-88E2-6AD3F05D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7EB6-34FA-48DC-919F-8C0211E6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6B9-19A9-45C6-8A87-E6FB38C6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CB96-8BDB-46B2-A212-1EE12514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550-503A-4D93-A6DA-B8E2184D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9B44-B87A-4D01-8E32-82161F1F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EFFD-D343-440F-A6F9-501887E4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27EC-8DCA-475D-9AAD-F0C1DD0F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247-819D-4299-AA97-4E1BCB58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6060-6748-4A77-9E85-9A5DBD1F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662C-650E-4A28-ACEA-3CF38F09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31B8-BD21-47BE-BDF2-6396A71298D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2CED-553E-4E3B-A830-30AB68D993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7;&#1080;&#1090;&#1072;&#1083;&#1080;&#1079;&#1084;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2;&#1086;&#1085;&#1086;&#1084;&#1080;&#1095;&#1077;&#1089;&#1082;&#1080;&#1081;_&#1088;&#1086;&#1089;&#1090;" TargetMode="External"/><Relationship Id="rId2" Type="http://schemas.openxmlformats.org/officeDocument/2006/relationships/hyperlink" Target="http://ru.wikipedia.org/wiki/&#1069;&#1082;&#1086;&#1085;&#1086;&#1084;&#1080;&#1095;&#1077;&#1089;&#1082;&#1072;&#1103;_&#1101;&#1092;&#1092;&#1077;&#1082;&#1090;&#1080;&#1074;&#1085;&#1086;&#1089;&#1090;&#1100;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7;&#1077;&#1089;&#1090;&#1074;&#1086;" TargetMode="External"/><Relationship Id="rId2" Type="http://schemas.openxmlformats.org/officeDocument/2006/relationships/hyperlink" Target="http://ru.wikipedia.org/wiki/&#1057;&#1086;&#1073;&#1089;&#1090;&#1074;&#1077;&#1085;&#1085;&#1086;&#1089;&#1090;&#1100;" TargetMode="External"/><Relationship Id="rId3" Type="http://schemas.openxmlformats.org/officeDocument/2006/relationships/hyperlink" Target="http://ru.wikipedia.org/wiki/&#1044;&#1077;&#1085;&#1077;&#1078;&#1085;&#1099;&#1081;_&#1088;&#1099;&#1085;&#1086;&#1082;" TargetMode="External"/><Relationship Id="rId4" Type="http://schemas.openxmlformats.org/officeDocument/2006/relationships/hyperlink" Target="http://ru.wikipedia.org/wiki/&#1056;&#1099;&#1085;&#1086;&#1082;_&#1094;&#1077;&#1085;&#1085;&#1099;&#1093;_&#1073;&#1091;&#1084;&#1072;&#1075;" TargetMode="External"/><Relationship Id="rId5" Type="http://schemas.openxmlformats.org/officeDocument/2006/relationships/hyperlink" Target="http://ru.wikipedia.org/wiki/&#1052;&#1072;&#1082;&#1088;&#1086;&#1101;&#1082;&#1086;&#1085;&#1086;&#1084;&#1080;&#1082;&#1072;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2;&#1073;&#1086;&#1095;&#1072;&#1103;_&#1089;&#1080;&#1083;&#1072;" TargetMode="External"/><Relationship Id="rId2" Type="http://schemas.openxmlformats.org/officeDocument/2006/relationships/hyperlink" Target="http://ru.wikipedia.org/wiki/&#1050;&#1074;&#1072;&#1083;&#1080;&#1092;&#1080;&#1082;&#1072;&#1094;&#1080;&#1103;_%28&#1086;&#1073;&#1088;&#1072;&#1079;&#1086;&#1074;&#1072;&#1085;&#1080;&#1077;%29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58;&#1088;&#1091;&#1076;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47;&#1072;&#1082;&#1086;&#1085;_&#1089;&#1087;&#1088;&#1086;&#1089;&#1072;_&#1080;_&#1087;&#1088;&#1077;&#1076;&#1083;&#1086;&#1078;&#1077;&#1085;&#1080;&#1103;" TargetMode="External"/><Relationship Id="rId3" Type="http://schemas.openxmlformats.org/officeDocument/2006/relationships/hyperlink" Target="http://ru.wikipedia.org/wiki/&#1047;&#1072;&#1088;&#1072;&#1073;&#1086;&#1090;&#1085;&#1072;&#1103;_&#1087;&#1083;&#1072;&#1090;&#1072;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5;&#1082;&#1091;&#1088;&#1077;&#1085;&#1094;&#1080;&#1103;_%28&#1101;&#1082;&#1086;&#1085;&#1086;&#1084;&#1080;&#1082;&#1072;%29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3357720"/>
            <a:ext cx="77724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35b40"/>
                </a:solidFill>
                <a:latin typeface="Arial Black"/>
              </a:rPr>
              <a:t>Рынок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92360" y="4797000"/>
            <a:ext cx="64008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Модель монополии и монопсо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7120" y="1071360"/>
            <a:ext cx="85010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зачастую является самым точным детектором социального положения населения той или иной страны. Возникновение рынка труда связано со становлением рыночных отношений и развитие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апитализ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ос на рынке труда зависит от положения дел на товарных рынках. Поэтому кадровый заказ формируется не только государством, но и предприятиями, отраслями.  В условиях рынка труда  отрасли и предприятия будут определять как текущие потребности в кадрах, так и перспективные, а также содержание профессионального труда, его черты и особ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г"/>
          <p:cNvPicPr/>
          <p:nvPr/>
        </p:nvPicPr>
        <p:blipFill>
          <a:blip r:embed="rId2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г"/>
          <p:cNvPicPr/>
          <p:nvPr/>
        </p:nvPicPr>
        <p:blipFill>
          <a:blip r:embed="rId3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4"/>
          <p:cNvSpPr/>
          <p:nvPr/>
        </p:nvSpPr>
        <p:spPr>
          <a:xfrm>
            <a:off x="357120" y="1000080"/>
            <a:ext cx="82868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ая школа вынуждена реагировать на конъюнктуру рынка труда: разрабатываются новые образовательные стандарты изменяется структура, спектр профессий и специаль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до настоящего времени необходимого баланса между спросом на профессии со стороны работодателей и предложением со стороны выпускников профессиональных школ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50% выпускников после окончания учебного заведения оказываются невостребованными и вынуждены работать не по специальности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"/>
          <p:cNvSpPr/>
          <p:nvPr/>
        </p:nvSpPr>
        <p:spPr>
          <a:xfrm>
            <a:off x="428760" y="10288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ование занятости в современных условиях должно обеспечиваться не закрепляемостью за работниками конкретного рабочего места, а созданием условий для непрерывного роста квалификаций и профессионального мастерства. Именно это будет способствовать решению проблемы регулирования занятости населения. В дальнейшем для молодых людей в соответствии с их трудолюбием, способностями и профессиональной подготовкой будут открываться дополнительные перспективы освоения еще более сложных и престижн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бильность трудовых ресурсов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4200" y="1000080"/>
            <a:ext cx="8715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— один из важнейших параметров, при которых возможен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экономический ро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экономике вообще. Мобильность трудовых ресурсов характеризуется реальными возможностями работников и их семей переехать в другие местности для выбора места проживания, где они могут иметь более выгодные предложения по найму</a:t>
            </a:r>
            <a:r>
              <a:rPr b="0" lang="ru-RU" sz="2400" spc="-1" strike="noStrike" u="sng">
                <a:solidFill>
                  <a:srgbClr val="3c8c93"/>
                </a:solidFill>
                <a:uFillTx/>
                <a:latin typeface="Arial"/>
              </a:rPr>
              <a:t>.(Территориальн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c8c93"/>
                </a:solidFill>
                <a:uFillTx/>
                <a:latin typeface="Arial"/>
              </a:rPr>
              <a:t>Профессиональная </a:t>
            </a:r>
            <a:r>
              <a:rPr b="0" lang="ru-RU" sz="2400" spc="-1" strike="noStrike">
                <a:solidFill>
                  <a:srgbClr val="3c8c93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человека овладевать разными профессиями и переучиваться в течение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2bfc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мобильность трудовых ресурсов способствует более высоко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эффектив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оизводительности в эконом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в России имеет ряд особенностей по сравнению с рынками труда других развитых государ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йский рынок труда ещё не до конца сформиро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менталитета россиян, климатическими особенностями и большой территорией россияне не отличаются моби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фициальным данным в России низкий уровень безработицы, хотя безработица имеет теневые формы, иногда безработица имеет скрытые формы, когда, например, работник переводится на 0,1 ставки (формально это человек имеющий работу, но реально 1/10 часть оплаты труда не позволяет содержать себя и семь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дение предприятий приводит к тому, что состояние рынка труда не позволяет говорит о высокой эффективности. Гонка правительства за социальной стабильностью приводит к тому, что работу сохраняют низкоэффективные работники, что приводит к серьезным проблемам с производительностью труда. Происходит резервирование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низкий уровень оплаты труда, что приводит к низкой производительности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ий средний уровень качества и гибкости образования приводит к высокому уровню безработицы и низкому уровню оплаты труда квалифицированных кад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ынок тру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то рынок, где продают и покупают рабочую силу, не в прямом физическом смысле, а силу как способность к определенному виду труда.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ость труда как товара связана с тем, что человек способен овладеть разными профессиями и переучиваться в течение жизн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вые навыки любого рода приобретают ценность для общества и превращаются в интересующий рынок товаров только в том случае, если есть спрос на товары и услуги, для изготовления которых нужны эти навык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ель монопс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, возникающая на рынке при наличии только одного покупателя, который в силу  своего исключительного положения может диктовать всем продавцам условия приобретения этих товаров , и прежде всего их це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это наиболее эффективный инструмент развития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собенность рынка заключается в его способности к саморегулированию. Поскольку производители, учитывая спрос потребителей, решают, что и сколько производ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е функционирования рынка лежит конкуренция. Она является основным мотивом, побуждающим предприятие к борьбе за место на рынке. На рынке, где встречается потребитель и производитель, происходит уравновешивание спроса и предложения това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житочный минимум (1ч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214280"/>
          <a:ext cx="8229600" cy="3978360"/>
        </p:xfrm>
        <a:graphic>
          <a:graphicData uri="http://schemas.openxmlformats.org/drawingml/2006/table">
            <a:tbl>
              <a:tblPr/>
              <a:tblGrid>
                <a:gridCol w="1757520"/>
                <a:gridCol w="1535040"/>
                <a:gridCol w="1644480"/>
                <a:gridCol w="1646280"/>
                <a:gridCol w="16462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 бул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с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о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у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дитер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08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29" name="TextBox 5"/>
          <p:cNvSpPr/>
          <p:nvPr/>
        </p:nvSpPr>
        <p:spPr>
          <a:xfrm>
            <a:off x="785880" y="564372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делать расчет на свою сем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мы собственники, даже если не имеем дачи, машины и приватизированной кварти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мы собственники своего труда и можем продать его тому, кто в нем нуждается. Таким образом, формируется рынок труда, который похож на другие рынки товаров и услуг, но есть и важные особеннос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071360"/>
            <a:ext cx="850104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социально-трудовых отношений 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бще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поводу найма и использования работников в сфере общественного производства, обусловленная многообразием фор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обстве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однородностью рабочей силы и интересов субъектов производства.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наряду с рынком благ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ынком дене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ынком ценных бум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ходит в фундаментальные совокупные макрорынки, которые изучаются учеными-экономистами 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макроэкономи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экономика страны, региона, группы стра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г"/>
          <p:cNvPicPr/>
          <p:nvPr/>
        </p:nvPicPr>
        <p:blipFill>
          <a:blip r:embed="rId6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г"/>
          <p:cNvPicPr/>
          <p:nvPr/>
        </p:nvPicPr>
        <p:blipFill>
          <a:blip r:embed="rId7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ом купли-продажи на нем является право на использовани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абочей си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наний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валиф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пособностей к трудовому процес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E:\Мои документы\Анимационные картинки для презентаций. Часть 2\Люди\688eefce77194fac99ba5bb0fb6fb63a.gif"/>
          <p:cNvPicPr/>
          <p:nvPr/>
        </p:nvPicPr>
        <p:blipFill>
          <a:blip r:embed="rId5"/>
          <a:stretch/>
        </p:blipFill>
        <p:spPr>
          <a:xfrm>
            <a:off x="35712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E:\Мои документы\Анимационные картинки для презентаций. Часть 2\Люди\medical_41.gif"/>
          <p:cNvPicPr/>
          <p:nvPr/>
        </p:nvPicPr>
        <p:blipFill>
          <a:blip r:embed="rId6"/>
          <a:stretch/>
        </p:blipFill>
        <p:spPr>
          <a:xfrm>
            <a:off x="2643120" y="235728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E:\Мои документы\Анимационные картинки для презентаций. Часть 2\Люди\ballerina_tanec.gif"/>
          <p:cNvPicPr/>
          <p:nvPr/>
        </p:nvPicPr>
        <p:blipFill>
          <a:blip r:embed="rId7"/>
          <a:stretch/>
        </p:blipFill>
        <p:spPr>
          <a:xfrm>
            <a:off x="5715000" y="2286000"/>
            <a:ext cx="281772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E:\Мои документы\Анимационные картинки для презентаций. Часть 2\Люди\повар.gif"/>
          <p:cNvPicPr/>
          <p:nvPr/>
        </p:nvPicPr>
        <p:blipFill>
          <a:blip r:embed="rId8"/>
          <a:stretch/>
        </p:blipFill>
        <p:spPr>
          <a:xfrm>
            <a:off x="2928960" y="4500720"/>
            <a:ext cx="1000080" cy="198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E:\Мои документы\Анимационные картинки для презентаций. Часть 2\Люди\почтальон.gif"/>
          <p:cNvPicPr/>
          <p:nvPr/>
        </p:nvPicPr>
        <p:blipFill>
          <a:blip r:embed="rId9"/>
          <a:stretch/>
        </p:blipFill>
        <p:spPr>
          <a:xfrm>
            <a:off x="1000080" y="4484520"/>
            <a:ext cx="1357200" cy="218448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-первых, товар – услуги труда, предлагаемый на этом рынке, весьма неоднород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-вторых, ценой труда является ставка заработанной платы, которая менее подвижна, чем цены на другие товары, и от ее уровня зависят условия жизни гражд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-третьих, отношения работодателя и наемного работника, как отношения господства и подчинения, всегда порождают противоречия и борь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г"/>
          <p:cNvPicPr/>
          <p:nvPr/>
        </p:nvPicPr>
        <p:blipFill>
          <a:blip r:embed="rId1"/>
          <a:stretch/>
        </p:blipFill>
        <p:spPr>
          <a:xfrm>
            <a:off x="2928960" y="593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г"/>
          <p:cNvPicPr/>
          <p:nvPr/>
        </p:nvPicPr>
        <p:blipFill>
          <a:blip r:embed="rId2"/>
          <a:stretch/>
        </p:blipFill>
        <p:spPr>
          <a:xfrm>
            <a:off x="4429080" y="592128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широком смысле  — система социально-экономических и юридических отношений в обществе,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орм и институ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званных обеспечить нормальный непрерывный процесс воспроизводства рабочей силы и эффективное использование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ру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ношения на рынке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ются общественными и государственным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ститу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и отношения противоречивы в силу действия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законов спроса и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обмена устанавливается состояние их временного равновесия, которое выражается определенным уровнем занятости 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платой тру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г"/>
          <p:cNvPicPr/>
          <p:nvPr/>
        </p:nvPicPr>
        <p:blipFill>
          <a:blip r:embed="rId4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г"/>
          <p:cNvPicPr/>
          <p:nvPr/>
        </p:nvPicPr>
        <p:blipFill>
          <a:blip r:embed="rId5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рос на рабочую си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свободно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нкурен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ормируется под влиянием двух основных показателей: реальной заработной пл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тоимости предельного продукта труда (продукта труда, произведенного последним нанятым работник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ение труда прямо зависит от уровня оплаты тру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выше зарплата, тем выше уровень предложения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г"/>
          <p:cNvPicPr/>
          <p:nvPr/>
        </p:nvPicPr>
        <p:blipFill>
          <a:blip r:embed="rId2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г"/>
          <p:cNvPicPr/>
          <p:nvPr/>
        </p:nvPicPr>
        <p:blipFill>
          <a:blip r:embed="rId3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8:10:52Z</dcterms:created>
  <dc:creator>Loner-XP</dc:creator>
  <dc:description/>
  <dc:language>en-US</dc:language>
  <cp:lastModifiedBy>LEGION</cp:lastModifiedBy>
  <dcterms:modified xsi:type="dcterms:W3CDTF">2015-01-05T09:49:40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a0000000000010250300207f7000400038000</vt:lpwstr>
  </property>
</Properties>
</file>