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67AE-B5F1-416D-847C-9A8BC32A9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(&#1086;&#1073;&#1088;&#1072;&#1079;&#1086;&#1074;&#1072;&#1085;&#1080;&#1077;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(&#1101;&#1082;&#1086;&#1085;&#1086;&#1084;&#1080;&#1082;&#1072;)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251-A251-47BD-84A1-03CD056D3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капитал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4A44-2417-4BE6-95D8-EA7FB9BB82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2498-D53C-45AB-AFAD-B50891D92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EC0C-2E10-4C23-AD83-C0C00A7D6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12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8453-9EBF-4232-9548-70346B916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179-5744-4A9B-8AE2-351796436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FC80-F04F-45DF-9864-903767007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C76-7A9C-433E-8053-3B3A66810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09FE-1732-42B5-A26B-5869F8D0F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695-82F4-4D1A-A22A-C25D89CA9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4DEC-8C9C-4899-8072-1C43FF6D3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F1A5-C28B-4712-B989-755AC4414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E50-A195-4347-82D4-03526BDF3B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C65B-430B-4A03-9238-3CB4D3FB6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7ECD-5390-4857-AB94-8505AB0B8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F79-BBAC-4DB4-966B-8E49095B3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45A-8CFF-49D9-92D6-9C439C252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0C9-D9FA-435D-8A82-495AA73FE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8503-80EE-42EC-A3CC-C84D5E060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D4F2-3414-4CD7-8FB9-68956E97B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298-318C-4948-B866-739BB62D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B22-A5D3-471B-862B-8FB1136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033-7710-47E0-9C14-59251582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F00-6C8E-4318-A9DE-7F61F762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5BC-224B-4233-80ED-49627FD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0F1-DD23-4D1C-899B-F8A972C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C99-E29C-4F55-8BAE-CE107A8C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8AE-781E-4DD0-8A6C-2FDED910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946-CD2C-4365-997C-4505E0A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113-8C19-4A07-B235-86A93B01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70A-E249-479E-89CA-7007D9E2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3D6-ACA2-42AD-9EC0-1B16E78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2769-BF4B-4A93-B8EE-0040DFB1034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CC53-98B0-463E-B6A1-95A9336D4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5;&#1086;&#1084;&#1080;&#1095;&#1077;&#1089;&#1082;&#1080;&#1081;_&#1088;&#1086;&#1089;&#1090;" TargetMode="External"/><Relationship Id="rId2" Type="http://schemas.openxmlformats.org/officeDocument/2006/relationships/hyperlink" Target="http://ru.wikipedia.org/wiki/&#1069;&#1082;&#1086;&#1085;&#1086;&#1084;&#1080;&#1095;&#1077;&#1089;&#1082;&#1072;&#1103;_&#1101;&#1092;&#1092;&#1077;&#1082;&#1090;&#1080;&#1074;&#1085;&#1086;&#1089;&#1090;&#1100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номический р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ффе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EGION</cp:lastModifiedBy>
  <dcterms:modified xsi:type="dcterms:W3CDTF">2015-01-05T09:49:40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