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1E3F-2CDA-4888-BBD0-48C1AB9D77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1C0E-0014-40C6-B475-1B42B48DD5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1445-FE77-4438-B6F2-84DCEB5D64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Общественные бла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Товары и услуги предоставляемые государством его гражданам на равных началах. Для производства общественных благ необходимы значительные финансовые средства, и государство получает их, собирая нало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5B6C-2728-4558-A552-2F040E3FC81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Внешние эффе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Внешние эффекты связаны с производством или потреблением благ. Издержки и выгоды для третьих лиц не участвующих в производ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Компенсация внешних эффектов – важная функция государства в рыночной эконом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3E0F-3518-4014-A60B-4D799AC922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Внешние эффе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им пример на стр. 81 учеб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8CA5-D0DB-48BB-83BF-76A6F87218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ая экономическая по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правлена преимущественно на оздоровление «заболевшей»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7432-1B2B-4F07-AB46-D95C67C682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Воздействия государства на рыночный меха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96B2-064D-41D9-B8C1-C8125C4132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Механизмы регулирования   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91AD-F0F8-4383-B170-39818040C0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00"/>
                </a:solidFill>
                <a:uFillTx/>
                <a:latin typeface="Arial"/>
              </a:rPr>
              <a:t>Позиция</a:t>
            </a:r>
            <a:r>
              <a:rPr b="1" lang="ru-RU" sz="1600" spc="-1" strike="noStrike" u="sng">
                <a:solidFill>
                  <a:srgbClr val="00ff00"/>
                </a:solidFill>
                <a:uFillTx/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003300"/>
                </a:solidFill>
                <a:uFillTx/>
                <a:latin typeface="Arial"/>
              </a:rPr>
              <a:t>монетарист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ак можно больше освободить экономику от опеки государства, сократить налоги и государственные расходы, давая возможность рыночному механизму самому обеспечивать устойчивую экономическую сист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81A2-FB54-4D07-BF55-EFA4F79AB50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3300"/>
                </a:solidFill>
                <a:uFillTx/>
                <a:latin typeface="Arial"/>
              </a:rPr>
              <a:t>Позиция кейнсианского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едставители данного направления считают, что один только рыночный механизм не в состоянии решать многообразные проблемы в экономике. Кейнс пришел к выводу, что только активная финансовая политика государства, стимулирующая спрос, способна справиться с массовой безработицей. Для удовлетворения современных экономических потребностей общества необходимы и неизбежны правительственные м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DEA9-863F-403A-8BDA-32E24A8C98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Денежно-кредитная (монетарная) поли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онетарная политика означает контроль над денежной массой в экономик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ё цель – поддержка стабильного развития в эконом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82D9-1DC5-40F3-A8FB-F1017935C1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и            креди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650D-CAAF-4721-9525-586FCE5C81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функции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инструмент регулирования экономики выбр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ежно-кредитная (монетарная)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о-налоговая (фиксальная)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а ли рынку помощь государ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740B-B0EA-4E72-AD32-2FF926B683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Бюджетно-налоговая (фискальная) поли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государства в области налогооблажения, регулирования государственных расходов и государственного бюджета называется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ФИСКАЛЬНОЙ ПОЛИТИ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DE5F-0159-47D2-AB96-DB59C7EB81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Государствен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Государственный бюдже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то сводный план доходов государства и использование полученных средств на покрытие всех видов государственных расходов. Бюджет утверждается парламентом страны, а правительство отвечает за его испол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Главные источники доходов государст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алоговые дох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947C-FCF7-46A9-9552-4CC6C25A53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Налоги</a:t>
            </a: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логи являются основным источником доходов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экономика страдает от высокой инфляции, государство увеличивает налоги, снижая тем самым экономическую активность фирм и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добор налогов приводит к </a:t>
            </a:r>
            <a:r>
              <a:rPr b="1" i="1" lang="ru-RU" sz="1200" spc="-1" strike="noStrike">
                <a:solidFill>
                  <a:srgbClr val="ffff00"/>
                </a:solidFill>
                <a:latin typeface="Arial"/>
              </a:rPr>
              <a:t>дефициту бюджет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одному из негативных экономических показ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B18A-0B96-422B-9E55-55FC43C07C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Государственный дол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сударственный дол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это сумма задолженности государства внешним и внутренним кредитор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фицит бюджета и величина государственного долга – важнейшие показатели состояния эконом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00"/>
                </a:solidFill>
                <a:latin typeface="Arial"/>
              </a:rPr>
              <a:t>Нужна ли рынку помощь государ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6F62-D7B0-433B-B088-A1E338A8A18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DD1E-D83E-484B-B8D1-B7016C47C7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Нужна ли рынку помощь государств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Государственное регулирование рыночной экономики проявляется в виде поддержки предприниматель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Помощь предпринимательству имеет такие формы, как льготное налогооблажение в первые годы работы фирм, упрощение правил их регистрации, предоставление субсидий предприятиям малого бизне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Приоритет в рыночной экономике принадлежит косвенным методам государственного воздействия, не разрушающим систему рыночных отношений и не противоречащим 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7B0E-2FAE-4FC3-B2B4-F8016B593BA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Arial"/>
              </a:rPr>
              <a:t>Экономическая политик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номическая политика государства представляет собой процесс реализации его экономических функций путем разнообразных государственных мер воздействия на экономические процессы для достижения определенных ц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CB03-F79B-408C-86B1-F8083DB6D3E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и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и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60F2-8571-4FE1-9BD4-596EDA0156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экономической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820C-7A4F-4396-A20B-639D59EC95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Основные направления </a:t>
            </a:r>
            <a:br>
              <a:rPr sz="1200"/>
            </a:b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экономической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BE62-D79F-4874-8E1E-6613F6BBA0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Экономические функции гос-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3CD6-2353-4EE0-A6BF-53E087EE5C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Экономические функции гос-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698D-51FA-4924-A8D8-7558B7272E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6BEC-7A86-4ECB-B2E3-59DD9E092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A233-A8DC-46D8-9575-0CF0C874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73CC9-8B7C-4A71-A705-A3C378AC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D3839-B156-441A-B96D-A1F2B65A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0A3CA-9408-4B7C-A92F-2485DA8E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FB110-648C-4D24-8AC6-AD012B6C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D1920-D46A-47D4-ADD7-70A89609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3408F-1322-4871-BFE3-252A2DE9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5FD51-2764-4A5B-9E32-B7C3D323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7CCB1-2FDB-4170-A607-C842187FB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2470C-2A47-4430-9E3A-19FD8866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DBDE2-4D8C-4B06-A7B0-D2D4F79D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9630-0EF4-472D-AF48-F8BF89CEA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33C87-2379-4AB1-AC77-DA7A18D2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B2661-B5E2-446C-BFEF-6ADA0C70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CE412-E57F-4DB4-A1B8-586F0B0C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1F34C-17AC-4D32-B059-C2704263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C3A3B-3E1A-4339-B79F-A3A8CB72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C09D1B-0841-4F17-847B-27AA7A94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F9A5F-2141-47BE-A9D7-6D38513D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B22BD0-FBD6-42A9-9920-D7E07703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085A7-FE0A-451B-A98B-16250736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2DF48-9226-4056-8727-A822BAE06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4946-1016-4DF5-A888-1DC44FDBC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ECC34-11DC-4051-AAD5-FD422CD4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2291B-4FC7-4722-A5A8-37A95CC11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003A4-DE1E-49BB-ADEC-C570C9FE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F31E0-56CB-4CC6-86FC-B068A0EB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A95F5-CFD9-48DB-9359-19F0A6B0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80584-7015-4FE1-81DB-4ACBE0F5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F8332-2EBE-4185-8B02-DEB7BAD5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DBCA1-7A05-400C-8B1F-4374DEAF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A572E-E255-4AB3-AAF8-0B66B393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108A9-945C-4519-B1ED-C001DEF5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6529-06F0-45BF-9010-B5C85F4E7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F2A91-A9A5-4DD6-A402-21E9789F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FE3FA-1AFA-49ED-AD64-D1FD7295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389F8-3346-4B67-8BFD-AFB1C0BAF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26C69-150C-4EB8-835E-AB8F9F452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AA2A9E-1AFD-4790-8581-126F27DD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2978BE-B4F3-47E8-B2B1-D358C514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1CEF6-6F29-4A3A-B5A1-9F03CCEA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7D0F3-036E-4CCA-AFFE-8DE0CE30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D8AC6-7007-4CBD-A397-F2F70A30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67FA4-5829-4AAD-9122-C7A1B3D7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7242-5D5B-4154-A909-48BFAD3E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7CBED-DA48-4E2A-ADB2-D909F982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9501F-2779-45BD-A2DA-9C9AD4A6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387E87-7C57-442C-A364-76BED40A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236E35-00FD-47F8-B87F-1C5A30D4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B30DC-49FF-472C-9871-E613FE68B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ACDD-D56E-4E08-99D2-84DE2BC7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FDFB-929A-48C4-A4E7-15F1FCEC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C461-0833-4F9E-95DE-6BC24BFE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760C-F314-460B-883B-761141EC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F46C-1ED7-4E98-A897-A3A7F75C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DF19-693D-4287-81E4-DB0FBD53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446D-5C7D-4002-B3D5-38D85FF9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CD18-0A6A-4FA3-BFD3-7D047488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4850-2DF0-4A5D-BA12-E1A38AE8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A838-922A-4BF9-A8A4-E7E0C68D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65EF-F6EC-4335-992E-2A4E8CFB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D7E44-D163-4FE9-90FF-583B537B5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C0624-739A-45E8-A014-D2E1D630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411E3-D13B-4E7D-BE2F-392B15DE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13FBB-6390-488E-A463-D7CFC81B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FE7D8-3A07-48DA-B037-C8E3610E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4EBF-EE9D-4DE7-9D5C-371C619B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B7529-3749-4D63-8910-3832A3AD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9FCD1-5E5A-4A69-930A-01961021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99983-833C-4A27-A5C6-9CCEB7B1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D026A-5E7C-405F-A8F3-DFFE7DCC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7E9D1-C1AF-4906-860E-5EB2A5B1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EA7A2-90C5-4E35-A220-D2C185AC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FC39B-4E2F-4E8A-BA4B-DB90519D6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149A7-A132-4C69-A59B-1B44FB8D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D9BED-C207-4316-B359-600827E2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085C8-50D2-4A74-9EF3-FB7259AD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43F5-E06F-4A02-8239-E5C803B4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25557-1CFA-44D6-A56C-06FB9DD6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701D4-D918-4E83-B38A-561FD79C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DE491-E72D-4236-9D12-9277BA1E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7EBBF-25E6-4ED1-89BA-06276C8E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2EE7B-B36F-40FF-A6F2-7B46304B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7EA53-BEB6-4E47-B11A-F77F88D4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A85DF-8726-4D74-8CFF-964E7934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3FFF0-1D9A-440B-AD80-4AAD91DB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59479-80A2-479B-9958-68AE5680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1E1F3-67DF-49DD-AB1B-7165BF746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3A3B-86AD-4FDA-BD65-BF13261C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E6F48-3CC9-4169-B2AB-5022D814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DA823-FA6B-4C5E-B564-D4EF0A55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6B920-5AEF-4513-BC2E-41CD6DFC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8A2EC-9150-4B78-BEDD-F7D969BD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3E8F2-62DA-49ED-BDAE-AC3D546E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9B154-1809-4961-B088-BC57CD03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A0CD0-D431-48B8-928F-0880E578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855C9-2C88-4A3B-80B6-61340C88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A89F3-6DD5-441A-BB41-9AB0C5FD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DEFBE-154E-419F-B4E5-88427EA7B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4C1D-1814-4A35-9C70-16EC0333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868DA-E716-4BF2-8DC8-BE7D0D25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844DC-FC15-4EE9-A672-4AC3F8BF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FE4CB-F445-40C3-AFC8-0EFD9132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5EEAA-21FD-4F2E-943E-82D22D7A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9137C-49DB-4192-A996-B2EB73CD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67FF1-3E6A-475A-B1B8-3B3888FD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986BF-F728-4595-9263-2BC87EEE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B5A56-3234-4B70-8711-9DCCB7CB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7600D-9155-45B0-9CCA-F5D6D585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36CB5-813E-4281-A2B9-3984D439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9FF2-CDAE-4B23-A8AD-B85EA17F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7FB64-879D-4D84-85B8-C1D2F15D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20E30-9E6D-4613-8769-14819AF4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96FF3-EDEF-4DD8-821D-FE9B2C3A5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B0C23-CEEA-4D67-B44C-7E7FC465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580E4-2980-444C-83FF-8B5FB303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9312E-9AA5-4FBE-9FAC-3E1A92ED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0DFFB-B0F4-470B-91F0-1F0AD75D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ED05B-25D0-4BC5-B7BC-96DE7972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923F3-57F0-4BB6-8419-BBEDD5D3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B744C-1267-43E9-9EBA-FB501040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6E58-F5A8-4FA2-9C63-603679E5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E286C-41E3-455B-8498-8291B9B3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51D6A-C3D8-42F2-A46B-4A0EC3AD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81F99-4C74-4647-84D4-458FD394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F1499-F4A2-40BC-833B-41AEC966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DBACD-2037-408C-83E2-48DF84F44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8E106-0909-44FC-8D64-1C1543DD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86ED3-AC8C-40BE-9A19-BAF7B6F9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AACFF-BD24-42D9-B79B-BBF92191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A8C2B-5B31-451E-AC66-810014C2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2CF29-97FA-4BA3-BB45-8078727F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F6C9-98E5-4BC2-80C6-18823B59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BCC70-7652-4B9B-9B6B-6163E5D7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94002-D169-465F-B5CD-2AFF0DDD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860AE-E6C2-4A01-A673-1DF12498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F99F7-AF30-4720-99A8-BA168F2B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0CC3D-9FA9-4548-B935-879FDE82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1FF30-6656-49A5-9D64-861CB19D5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CAE36-28F6-41BC-8CC8-7FB8344D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0B942-D0B6-4204-8F75-308C42C1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EEF71-0E54-4F08-88AC-F07017C3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A41BA-C84E-4D9F-9670-17D2C93F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B5CD-4ED4-45AB-BC88-D4D15B50296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D5B2-3D10-49F0-9D5D-B277DF5A6EC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E2FE-DA6D-49F5-AE01-10A4B88D31C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2E98-44AE-4FF1-BAE5-AD256852FD0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F022-3E90-4C8A-B3B5-36F41D4A49F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7FB4-8457-4CC4-9C07-06E03714277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F91C-EF2C-4FB6-A824-3A50E5C1B11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A3CB-AA0A-478D-B6D2-D74C143A263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BAC8-2260-4EE2-B3D2-6EB404F6CA8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9D2C-F681-4EFD-85F2-70FD7BE2A10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585A-6AD7-4220-8BF8-56624EC7CAE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3E27-5DC9-4B41-9153-DEDA3EE5807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675640" cy="597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dfd293"/>
                </a:solidFill>
                <a:latin typeface="Arial"/>
              </a:rPr>
              <a:t>Экономика </a:t>
            </a:r>
            <a:br>
              <a:rPr sz="9600"/>
            </a:br>
            <a:r>
              <a:rPr b="0" lang="ru-RU" sz="9600" spc="-1" strike="noStrike">
                <a:solidFill>
                  <a:srgbClr val="dfd293"/>
                </a:solidFill>
                <a:latin typeface="Arial"/>
              </a:rPr>
              <a:t>и </a:t>
            </a:r>
            <a:br>
              <a:rPr sz="9600"/>
            </a:br>
            <a:r>
              <a:rPr b="0" lang="ru-RU" sz="9600" spc="-1" strike="noStrike">
                <a:solidFill>
                  <a:srgbClr val="dfd293"/>
                </a:solidFill>
                <a:latin typeface="Arial"/>
              </a:rPr>
              <a:t>государство</a:t>
            </a:r>
            <a:endParaRPr b="0" lang="en-US" sz="9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00"/>
                </a:solidFill>
                <a:latin typeface="Arial"/>
              </a:rPr>
              <a:t>Общественные блага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3499920"/>
            <a:ext cx="8229600" cy="33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Товары и услуги предоставляемые государством его гражданам на равных началах. Для производства общественных благ необходимы значительные финансовые средства, и государство получает их, собирая налог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Line 4"/>
          <p:cNvSpPr/>
          <p:nvPr/>
        </p:nvSpPr>
        <p:spPr>
          <a:xfrm flipH="1">
            <a:off x="1619280" y="1125360"/>
            <a:ext cx="2887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Oval 6"/>
          <p:cNvSpPr/>
          <p:nvPr/>
        </p:nvSpPr>
        <p:spPr>
          <a:xfrm>
            <a:off x="0" y="1773360"/>
            <a:ext cx="2556000" cy="863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рон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Line 7"/>
          <p:cNvSpPr/>
          <p:nvPr/>
        </p:nvSpPr>
        <p:spPr>
          <a:xfrm>
            <a:off x="3924360" y="112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Oval 8"/>
          <p:cNvSpPr/>
          <p:nvPr/>
        </p:nvSpPr>
        <p:spPr>
          <a:xfrm>
            <a:off x="2484360" y="1916280"/>
            <a:ext cx="3024360" cy="14414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сплатно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раз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Oval 10"/>
          <p:cNvSpPr/>
          <p:nvPr/>
        </p:nvSpPr>
        <p:spPr>
          <a:xfrm>
            <a:off x="5076720" y="1413000"/>
            <a:ext cx="2880000" cy="1008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ликлиник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Oval 12"/>
          <p:cNvSpPr/>
          <p:nvPr/>
        </p:nvSpPr>
        <p:spPr>
          <a:xfrm>
            <a:off x="7093080" y="2492280"/>
            <a:ext cx="2050920" cy="792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к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Line 13"/>
          <p:cNvSpPr/>
          <p:nvPr/>
        </p:nvSpPr>
        <p:spPr>
          <a:xfrm>
            <a:off x="8028000" y="1197000"/>
            <a:ext cx="2890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Line 14"/>
          <p:cNvSpPr/>
          <p:nvPr/>
        </p:nvSpPr>
        <p:spPr>
          <a:xfrm>
            <a:off x="6372360" y="1125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00"/>
                </a:solidFill>
                <a:latin typeface="Arial"/>
              </a:rPr>
              <a:t>Внешние эффекты</a:t>
            </a:r>
            <a:endParaRPr b="0" lang="en-US" sz="6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Внешние эффекты связаны с производством или потреблением благ. Издержки и выгоды для третьих лиц не участвующих в производств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Компенсация внешних эффектов – важная функция государства в рыночной экономи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3300"/>
                </a:solidFill>
                <a:latin typeface="Arial"/>
              </a:rPr>
              <a:t>Внешние эффекты</a:t>
            </a:r>
            <a:endParaRPr b="0" lang="en-US" sz="6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им пример на стр. 81 учеб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Line 5"/>
          <p:cNvSpPr/>
          <p:nvPr/>
        </p:nvSpPr>
        <p:spPr>
          <a:xfrm flipH="1">
            <a:off x="2484360" y="1197000"/>
            <a:ext cx="72072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Line 7"/>
          <p:cNvSpPr/>
          <p:nvPr/>
        </p:nvSpPr>
        <p:spPr>
          <a:xfrm>
            <a:off x="5796000" y="1197000"/>
            <a:ext cx="64908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Rectangle 8"/>
          <p:cNvSpPr/>
          <p:nvPr/>
        </p:nvSpPr>
        <p:spPr>
          <a:xfrm>
            <a:off x="179280" y="2349360"/>
            <a:ext cx="3888000" cy="45086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РИЦАТЕЛЬНЫ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зникаю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 случае появления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здержек у других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иц, в результате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оизводства ил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требления товара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Rectangle 9"/>
          <p:cNvSpPr/>
          <p:nvPr/>
        </p:nvSpPr>
        <p:spPr>
          <a:xfrm>
            <a:off x="5003640" y="2349360"/>
            <a:ext cx="3961080" cy="45086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ЛОЖИТЕЛЬНЫ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зникаю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 случае появления у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этих лиц выгоды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оторая не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омпенсируется им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оизводителям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овара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293"/>
                </a:solidFill>
                <a:latin typeface="Arial"/>
              </a:rPr>
              <a:t>Государственная экономическая политика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0" name="Oval 6"/>
          <p:cNvSpPr/>
          <p:nvPr/>
        </p:nvSpPr>
        <p:spPr>
          <a:xfrm>
            <a:off x="179280" y="1916280"/>
            <a:ext cx="4321440" cy="19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билизационна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Oval 8"/>
          <p:cNvSpPr/>
          <p:nvPr/>
        </p:nvSpPr>
        <p:spPr>
          <a:xfrm>
            <a:off x="4716360" y="1773360"/>
            <a:ext cx="4427640" cy="21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на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0" y="4724280"/>
            <a:ext cx="38512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правлена преимущественно на оздоровление «заболевшей» эконом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10"/>
          <p:cNvSpPr/>
          <p:nvPr/>
        </p:nvSpPr>
        <p:spPr>
          <a:xfrm>
            <a:off x="4859280" y="4653000"/>
            <a:ext cx="4284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авлена на обеспечение её сбалансированного развития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Line 12"/>
          <p:cNvSpPr/>
          <p:nvPr/>
        </p:nvSpPr>
        <p:spPr>
          <a:xfrm flipH="1">
            <a:off x="3779640" y="1484280"/>
            <a:ext cx="64764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Line 13"/>
          <p:cNvSpPr/>
          <p:nvPr/>
        </p:nvSpPr>
        <p:spPr>
          <a:xfrm>
            <a:off x="4427640" y="1484280"/>
            <a:ext cx="72072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Line 14"/>
          <p:cNvSpPr/>
          <p:nvPr/>
        </p:nvSpPr>
        <p:spPr>
          <a:xfrm>
            <a:off x="1835280" y="386064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Line 15"/>
          <p:cNvSpPr/>
          <p:nvPr/>
        </p:nvSpPr>
        <p:spPr>
          <a:xfrm>
            <a:off x="7020000" y="393372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Воздействия государства на рыночный механизм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90" name="Line 4"/>
          <p:cNvSpPr/>
          <p:nvPr/>
        </p:nvSpPr>
        <p:spPr>
          <a:xfrm flipH="1">
            <a:off x="2339640" y="1413000"/>
            <a:ext cx="576360" cy="1222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Line 6"/>
          <p:cNvSpPr/>
          <p:nvPr/>
        </p:nvSpPr>
        <p:spPr>
          <a:xfrm>
            <a:off x="5940360" y="1413000"/>
            <a:ext cx="719280" cy="1079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AutoShape 8"/>
          <p:cNvSpPr/>
          <p:nvPr/>
        </p:nvSpPr>
        <p:spPr>
          <a:xfrm>
            <a:off x="0" y="2637000"/>
            <a:ext cx="4572000" cy="1873080"/>
          </a:xfrm>
          <a:prstGeom prst="diamond">
            <a:avLst/>
          </a:prstGeom>
          <a:solidFill>
            <a:srgbClr val="5c1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о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гулир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AutoShape 10"/>
          <p:cNvSpPr/>
          <p:nvPr/>
        </p:nvSpPr>
        <p:spPr>
          <a:xfrm>
            <a:off x="4788000" y="2492280"/>
            <a:ext cx="4356000" cy="2087640"/>
          </a:xfrm>
          <a:prstGeom prst="diamond">
            <a:avLst/>
          </a:prstGeom>
          <a:solidFill>
            <a:srgbClr val="5c1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свенно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гулир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Line 11"/>
          <p:cNvSpPr/>
          <p:nvPr/>
        </p:nvSpPr>
        <p:spPr>
          <a:xfrm>
            <a:off x="2268360" y="4508640"/>
            <a:ext cx="0" cy="93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Line 12"/>
          <p:cNvSpPr/>
          <p:nvPr/>
        </p:nvSpPr>
        <p:spPr>
          <a:xfrm>
            <a:off x="6732720" y="4581360"/>
            <a:ext cx="0" cy="93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ctangle 16"/>
          <p:cNvSpPr/>
          <p:nvPr/>
        </p:nvSpPr>
        <p:spPr>
          <a:xfrm flipH="1">
            <a:off x="0" y="5445000"/>
            <a:ext cx="4356000" cy="12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Использ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административных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метод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18"/>
          <p:cNvSpPr/>
          <p:nvPr/>
        </p:nvSpPr>
        <p:spPr>
          <a:xfrm>
            <a:off x="5148360" y="5516640"/>
            <a:ext cx="3995640" cy="12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Использ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экономических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метод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293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Механизмы регулирования    рыночной экономики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0" name="Oval 13"/>
          <p:cNvSpPr/>
          <p:nvPr/>
        </p:nvSpPr>
        <p:spPr>
          <a:xfrm>
            <a:off x="1763640" y="4724280"/>
            <a:ext cx="5184720" cy="194472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скальная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Oval 14"/>
          <p:cNvSpPr/>
          <p:nvPr/>
        </p:nvSpPr>
        <p:spPr>
          <a:xfrm>
            <a:off x="0" y="2205000"/>
            <a:ext cx="4140360" cy="230508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нетарная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Oval 15"/>
          <p:cNvSpPr/>
          <p:nvPr/>
        </p:nvSpPr>
        <p:spPr>
          <a:xfrm>
            <a:off x="4932360" y="2133720"/>
            <a:ext cx="4211640" cy="230508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овое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гулирование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Line 10"/>
          <p:cNvSpPr/>
          <p:nvPr/>
        </p:nvSpPr>
        <p:spPr>
          <a:xfrm flipH="1">
            <a:off x="3419640" y="1484280"/>
            <a:ext cx="100800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11"/>
          <p:cNvSpPr/>
          <p:nvPr/>
        </p:nvSpPr>
        <p:spPr>
          <a:xfrm>
            <a:off x="4427640" y="1413000"/>
            <a:ext cx="100800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12"/>
          <p:cNvSpPr/>
          <p:nvPr/>
        </p:nvSpPr>
        <p:spPr>
          <a:xfrm>
            <a:off x="4427640" y="1484280"/>
            <a:ext cx="0" cy="316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3300"/>
                </a:solidFill>
                <a:uFillTx/>
                <a:latin typeface="Arial"/>
              </a:rPr>
              <a:t>Позиция</a:t>
            </a:r>
            <a:r>
              <a:rPr b="1" lang="ru-RU" sz="4800" spc="-1" strike="noStrike" u="sng">
                <a:solidFill>
                  <a:srgbClr val="00ff00"/>
                </a:solidFill>
                <a:uFillTx/>
                <a:latin typeface="Arial"/>
              </a:rPr>
              <a:t> </a:t>
            </a:r>
            <a:r>
              <a:rPr b="1" lang="ru-RU" sz="4800" spc="-1" strike="noStrike" u="sng">
                <a:solidFill>
                  <a:srgbClr val="003300"/>
                </a:solidFill>
                <a:uFillTx/>
                <a:latin typeface="Arial"/>
              </a:rPr>
              <a:t>монетаристов: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Как можно больше освободить экономику от опеки государства, сократить налоги и государственные расходы, давая возможность рыночному механизму самому обеспечивать устойчивую экономическую систем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3300"/>
                </a:solidFill>
                <a:uFillTx/>
                <a:latin typeface="Arial"/>
              </a:rPr>
              <a:t>Позиция кейнсианского направления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едставители данного направления считают, что один только рыночный механизм не в состоянии решать многообразные проблемы в экономике. Кейнс пришел к выводу, что только активная финансовая политика государства, стимулирующая спрос, способна справиться с массовой безработицей. Для удовлетворения современных экономических потребностей общества необходимы и неизбежны правительственные ме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Денежно-кредитная (монетарная) политика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нетарная политика означает контроль над денежной массой в экономик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Её цель – поддержка стабильного развития в экономик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AutoShape 6"/>
          <p:cNvSpPr/>
          <p:nvPr/>
        </p:nvSpPr>
        <p:spPr>
          <a:xfrm>
            <a:off x="4572000" y="3789360"/>
            <a:ext cx="71280" cy="863640"/>
          </a:xfrm>
          <a:prstGeom prst="downArrow">
            <a:avLst>
              <a:gd name="adj1" fmla="val 50000"/>
              <a:gd name="adj2" fmla="val 302904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AutoShape 7"/>
          <p:cNvSpPr/>
          <p:nvPr/>
        </p:nvSpPr>
        <p:spPr>
          <a:xfrm>
            <a:off x="4067280" y="3357720"/>
            <a:ext cx="990360" cy="1439640"/>
          </a:xfrm>
          <a:prstGeom prst="downArrow">
            <a:avLst>
              <a:gd name="adj1" fmla="val 50000"/>
              <a:gd name="adj2" fmla="val 36341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Банки            кредиты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9" name="AutoShape 5"/>
          <p:cNvSpPr/>
          <p:nvPr/>
        </p:nvSpPr>
        <p:spPr>
          <a:xfrm>
            <a:off x="3635280" y="765000"/>
            <a:ext cx="1008000" cy="289080"/>
          </a:xfrm>
          <a:prstGeom prst="rightArrow">
            <a:avLst>
              <a:gd name="adj1" fmla="val 50000"/>
              <a:gd name="adj2" fmla="val 87173"/>
            </a:avLst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Line 6"/>
          <p:cNvSpPr/>
          <p:nvPr/>
        </p:nvSpPr>
        <p:spPr>
          <a:xfrm flipH="1">
            <a:off x="1115640" y="1197000"/>
            <a:ext cx="57636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Line 8"/>
          <p:cNvSpPr/>
          <p:nvPr/>
        </p:nvSpPr>
        <p:spPr>
          <a:xfrm>
            <a:off x="7093080" y="1197000"/>
            <a:ext cx="576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Line 9"/>
          <p:cNvSpPr/>
          <p:nvPr/>
        </p:nvSpPr>
        <p:spPr>
          <a:xfrm>
            <a:off x="4716360" y="126828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179280" y="2781360"/>
            <a:ext cx="280836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Учетная ставка процента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– норма процента, под который центральный банк дает кредиты коммерческим банка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 Box 11"/>
          <p:cNvSpPr/>
          <p:nvPr/>
        </p:nvSpPr>
        <p:spPr>
          <a:xfrm>
            <a:off x="3564000" y="2852640"/>
            <a:ext cx="230328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Инфляция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озникает, когда объем денежной массы превышает количество производимых товаров и услуг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12"/>
          <p:cNvSpPr/>
          <p:nvPr/>
        </p:nvSpPr>
        <p:spPr>
          <a:xfrm>
            <a:off x="6443640" y="2781360"/>
            <a:ext cx="2484360" cy="344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Норма обязательных резервов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– оказание влияния на возможность банков предоставлять кредиты, изменяя тем самым общее количество денег в обороте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кономические функции государств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ой инструмент регулирования экономики выбрат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енежно-кредитная (монетарная) полити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юджетно-налоговая (фиксальная) полити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ужна ли рынку помощь государств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43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00"/>
                </a:solidFill>
                <a:latin typeface="Arial"/>
              </a:rPr>
              <a:t>Бюджетно-налоговая (фискальная) политика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ятельность государства в области налогооблажения, регулирования государственных расходов и государственного бюджета называется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ФИСКАЛЬНОЙ ПОЛИТИК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179280" y="5589720"/>
            <a:ext cx="45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осударственн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бюдже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7"/>
          <p:cNvSpPr/>
          <p:nvPr/>
        </p:nvSpPr>
        <p:spPr>
          <a:xfrm>
            <a:off x="6878520" y="5972040"/>
            <a:ext cx="185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Налог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Line 9"/>
          <p:cNvSpPr/>
          <p:nvPr/>
        </p:nvSpPr>
        <p:spPr>
          <a:xfrm flipH="1">
            <a:off x="2987280" y="4581360"/>
            <a:ext cx="1655640" cy="93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10"/>
          <p:cNvSpPr/>
          <p:nvPr/>
        </p:nvSpPr>
        <p:spPr>
          <a:xfrm>
            <a:off x="4643280" y="4581360"/>
            <a:ext cx="244980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00"/>
                </a:solidFill>
                <a:latin typeface="Arial"/>
              </a:rPr>
              <a:t>Государственный бюджет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Государственный бюджет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это сводный план доходов государства и использование полученных средств на покрытие всех видов государственных расходов. Бюджет утверждается парламентом страны, а правительство отвечает за его исполн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Главные источники доходов государств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налоговые доход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                  </a:t>
            </a:r>
            <a:r>
              <a:rPr b="1" lang="ru-RU" sz="6600" spc="-1" strike="noStrike">
                <a:solidFill>
                  <a:srgbClr val="003300"/>
                </a:solidFill>
                <a:latin typeface="Arial"/>
              </a:rPr>
              <a:t>Налоги</a:t>
            </a: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18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логи являются основным источником доходов государственного бюдж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сли экономика страдает от высокой инфляции, государство увеличивает налоги, снижая тем самым экономическую активность фирм и насе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едобор налогов приводит к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дефициту бюджет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одному из негативных экономических показател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Государственный долг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0" y="3212640"/>
            <a:ext cx="91440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осударственный долг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это сумма задолженности государства внешним и внутренним кредитор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фицит бюджета и величина государственного долга – важнейшие показатели состояния эконом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Line 4"/>
          <p:cNvSpPr/>
          <p:nvPr/>
        </p:nvSpPr>
        <p:spPr>
          <a:xfrm flipH="1">
            <a:off x="2700000" y="1125360"/>
            <a:ext cx="10810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Line 5"/>
          <p:cNvSpPr/>
          <p:nvPr/>
        </p:nvSpPr>
        <p:spPr>
          <a:xfrm>
            <a:off x="5219640" y="1197000"/>
            <a:ext cx="100800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95280" y="2060640"/>
            <a:ext cx="3529080" cy="10080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нешний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4284720" y="2060640"/>
            <a:ext cx="4319640" cy="10080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нутренний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3300"/>
                </a:solidFill>
                <a:latin typeface="Arial"/>
              </a:rPr>
              <a:t>Нужна ли рынку помощь государства?</a:t>
            </a:r>
            <a:endParaRPr b="0" lang="en-US" sz="7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Нужна ли рынку помощь государства?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Государственное регулирование рыночной экономики проявляется в виде поддержки предпринимательст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Помощь предпринимательству имеет такие формы, как льготное налогооблажение в первые годы работы фирм, упрощение правил их регистрации, предоставление субсидий предприятиям малого бизнес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Приоритет в рыночной экономике принадлежит косвенным методам государственного воздействия, не разрушающим систему рыночных отношений и не противоречащим 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96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ff00"/>
                </a:solidFill>
                <a:latin typeface="Arial"/>
              </a:rPr>
              <a:t>Экономическая политика</a:t>
            </a:r>
            <a:br>
              <a:rPr sz="5400"/>
            </a:b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Экономическая политика государства представляет собой процесс реализации его экономических функций путем разнообразных государственных мер воздействия на экономические процессы для достижения определенных цел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Цели государства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56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Line 7"/>
          <p:cNvSpPr/>
          <p:nvPr/>
        </p:nvSpPr>
        <p:spPr>
          <a:xfrm>
            <a:off x="4572000" y="1484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Line 13"/>
          <p:cNvSpPr/>
          <p:nvPr/>
        </p:nvSpPr>
        <p:spPr>
          <a:xfrm flipV="1">
            <a:off x="4572000" y="141300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13"/>
          <p:cNvSpPr/>
          <p:nvPr/>
        </p:nvSpPr>
        <p:spPr>
          <a:xfrm>
            <a:off x="0" y="1916280"/>
            <a:ext cx="9144000" cy="7207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.Обеспечить экономический рост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>
            <a:off x="0" y="2852640"/>
            <a:ext cx="9144000" cy="9367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Создать условия экономической свобод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0" y="4221000"/>
            <a:ext cx="9144000" cy="9144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Обеспечивать экономическую безопасност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16"/>
          <p:cNvSpPr/>
          <p:nvPr/>
        </p:nvSpPr>
        <p:spPr>
          <a:xfrm>
            <a:off x="0" y="5589720"/>
            <a:ext cx="9144000" cy="9144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Обеспечивать экономическую эффективност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Цели государства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0" y="2205000"/>
            <a:ext cx="9144000" cy="15620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Заботится об обеспечении полной занятост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каждый, кто может и хочет работать,должен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меть работу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0" y="4724280"/>
            <a:ext cx="9144000" cy="15843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6. Оказывать помощь тем, кто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 может себя обеспечить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ели экономической политик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Oval 4"/>
          <p:cNvSpPr/>
          <p:nvPr/>
        </p:nvSpPr>
        <p:spPr>
          <a:xfrm>
            <a:off x="539640" y="1773360"/>
            <a:ext cx="3961080" cy="41767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спективны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рмирование социальн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иентированног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ыночного варианта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ономик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Oval 5"/>
          <p:cNvSpPr/>
          <p:nvPr/>
        </p:nvSpPr>
        <p:spPr>
          <a:xfrm>
            <a:off x="4716360" y="1773360"/>
            <a:ext cx="3888000" cy="4248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кущ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шение проблем гос. долга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рьба с бедностью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нижение налогов на бизнес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Line 6"/>
          <p:cNvSpPr/>
          <p:nvPr/>
        </p:nvSpPr>
        <p:spPr>
          <a:xfrm flipH="1">
            <a:off x="3708360" y="1197000"/>
            <a:ext cx="100800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7"/>
          <p:cNvSpPr/>
          <p:nvPr/>
        </p:nvSpPr>
        <p:spPr>
          <a:xfrm>
            <a:off x="4716360" y="1197000"/>
            <a:ext cx="9352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Основные направления </a:t>
            </a:r>
            <a:br>
              <a:rPr sz="4000"/>
            </a:b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экономической политики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Oval 4"/>
          <p:cNvSpPr/>
          <p:nvPr/>
        </p:nvSpPr>
        <p:spPr>
          <a:xfrm>
            <a:off x="0" y="2133720"/>
            <a:ext cx="3492360" cy="9144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нансова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Oval 5"/>
          <p:cNvSpPr/>
          <p:nvPr/>
        </p:nvSpPr>
        <p:spPr>
          <a:xfrm>
            <a:off x="2340000" y="5516640"/>
            <a:ext cx="5146560" cy="1152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нвестиционна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Oval 6"/>
          <p:cNvSpPr/>
          <p:nvPr/>
        </p:nvSpPr>
        <p:spPr>
          <a:xfrm>
            <a:off x="5003640" y="1916280"/>
            <a:ext cx="4140360" cy="936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грарна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Oval 8"/>
          <p:cNvSpPr/>
          <p:nvPr/>
        </p:nvSpPr>
        <p:spPr>
          <a:xfrm>
            <a:off x="4859280" y="3500280"/>
            <a:ext cx="4284720" cy="16574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нешне-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кономическа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Oval 9"/>
          <p:cNvSpPr/>
          <p:nvPr/>
        </p:nvSpPr>
        <p:spPr>
          <a:xfrm>
            <a:off x="0" y="3573360"/>
            <a:ext cx="4140360" cy="14907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учно-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хническ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10"/>
          <p:cNvSpPr/>
          <p:nvPr/>
        </p:nvSpPr>
        <p:spPr>
          <a:xfrm flipH="1">
            <a:off x="3492000" y="1628640"/>
            <a:ext cx="86364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11"/>
          <p:cNvSpPr/>
          <p:nvPr/>
        </p:nvSpPr>
        <p:spPr>
          <a:xfrm>
            <a:off x="4356000" y="1557360"/>
            <a:ext cx="72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Line 12"/>
          <p:cNvSpPr/>
          <p:nvPr/>
        </p:nvSpPr>
        <p:spPr>
          <a:xfrm>
            <a:off x="4356000" y="1557360"/>
            <a:ext cx="71640" cy="395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13"/>
          <p:cNvSpPr/>
          <p:nvPr/>
        </p:nvSpPr>
        <p:spPr>
          <a:xfrm flipH="1">
            <a:off x="3492000" y="1628640"/>
            <a:ext cx="863640" cy="20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14"/>
          <p:cNvSpPr/>
          <p:nvPr/>
        </p:nvSpPr>
        <p:spPr>
          <a:xfrm>
            <a:off x="4356000" y="1628640"/>
            <a:ext cx="936720" cy="216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Экономические функции гос-ва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Oval 4"/>
          <p:cNvSpPr/>
          <p:nvPr/>
        </p:nvSpPr>
        <p:spPr>
          <a:xfrm>
            <a:off x="0" y="1844640"/>
            <a:ext cx="3851280" cy="1849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абилизаци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кономик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Oval 5"/>
          <p:cNvSpPr/>
          <p:nvPr/>
        </p:nvSpPr>
        <p:spPr>
          <a:xfrm>
            <a:off x="4716360" y="1628640"/>
            <a:ext cx="4427640" cy="2087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ераспределен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ходо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Oval 6"/>
          <p:cNvSpPr/>
          <p:nvPr/>
        </p:nvSpPr>
        <p:spPr>
          <a:xfrm>
            <a:off x="0" y="4076640"/>
            <a:ext cx="8964720" cy="2016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гулирован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нежног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ращени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Line 8"/>
          <p:cNvSpPr/>
          <p:nvPr/>
        </p:nvSpPr>
        <p:spPr>
          <a:xfrm flipH="1">
            <a:off x="3708360" y="1557360"/>
            <a:ext cx="5032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Line 9"/>
          <p:cNvSpPr/>
          <p:nvPr/>
        </p:nvSpPr>
        <p:spPr>
          <a:xfrm>
            <a:off x="4211640" y="1628640"/>
            <a:ext cx="576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10"/>
          <p:cNvSpPr/>
          <p:nvPr/>
        </p:nvSpPr>
        <p:spPr>
          <a:xfrm flipH="1">
            <a:off x="4140360" y="1628640"/>
            <a:ext cx="71280" cy="24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Экономические функции гос-ва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179280" y="1773360"/>
            <a:ext cx="4105440" cy="2447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щественны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ла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4859280" y="1700280"/>
            <a:ext cx="4284720" cy="23050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троль над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ещнеэкономическо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ятельность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Oval 6"/>
          <p:cNvSpPr/>
          <p:nvPr/>
        </p:nvSpPr>
        <p:spPr>
          <a:xfrm>
            <a:off x="826920" y="4149720"/>
            <a:ext cx="7705800" cy="2708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гулирование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ношений между работодателям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наемными работникам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Line 7"/>
          <p:cNvSpPr/>
          <p:nvPr/>
        </p:nvSpPr>
        <p:spPr>
          <a:xfrm flipH="1">
            <a:off x="3924000" y="1484280"/>
            <a:ext cx="57636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Line 8"/>
          <p:cNvSpPr/>
          <p:nvPr/>
        </p:nvSpPr>
        <p:spPr>
          <a:xfrm>
            <a:off x="4500720" y="1484280"/>
            <a:ext cx="64764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>
            <a:off x="4500720" y="1484280"/>
            <a:ext cx="0" cy="266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4T18:08:11Z</dcterms:created>
  <dc:creator>Acer</dc:creator>
  <dc:description/>
  <dc:language>en-US</dc:language>
  <cp:lastModifiedBy>LEGION</cp:lastModifiedBy>
  <dcterms:modified xsi:type="dcterms:W3CDTF">2015-01-05T09:59:32Z</dcterms:modified>
  <cp:revision>26</cp:revision>
  <dc:subject/>
  <dc:title>Слайд 1</dc:title>
</cp:coreProperties>
</file>