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5A5B-4874-48E0-9DF7-E23F9CCBEA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B83D-600D-40FB-9C7D-0EE99E9BB3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AA86-6B11-44AF-BE5C-9E46958782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Общественные бла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Товары и услуги предоставляемые государством его гражданам на равных началах. Для производства общественных благ необходимы значительные финансовые средства, и государство получает их, собирая нало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2356-F3AA-4759-BB0E-A5D9EF2964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Внешние эффе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Внешние эффекты связаны с производством или потреблением благ. Издержки и выгоды для третьих лиц не участвующих в производ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Компенсация внешних эффектов – важная функция государства в рыночной эконом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0704-942B-432A-A8A9-3C925F0E02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Внешние эффе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им пример на стр. 81 учеб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B338-3A0A-486C-A8E2-D063184383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ая экономическая по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правлена преимущественно на оздоровление «заболевшей»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D51A-435C-4A3A-9749-3D3F873A61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Воздействия государства на рыночный меха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C111-D738-4A1D-8B7F-827AF0F095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Механизмы регулирования   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6854-F1F6-417A-AA71-BB5EA2D2A9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00"/>
                </a:solidFill>
                <a:uFillTx/>
                <a:latin typeface="Arial"/>
              </a:rPr>
              <a:t>Позиция</a:t>
            </a:r>
            <a:r>
              <a:rPr b="1" lang="ru-RU" sz="1600" spc="-1" strike="noStrike" u="sng">
                <a:solidFill>
                  <a:srgbClr val="00ff00"/>
                </a:solidFill>
                <a:uFillTx/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003300"/>
                </a:solidFill>
                <a:uFillTx/>
                <a:latin typeface="Arial"/>
              </a:rPr>
              <a:t>монетарист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ак можно больше освободить экономику от опеки государства, сократить налоги и государственные расходы, давая возможность рыночному механизму самому обеспечивать устойчивую экономическую сист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656A-0DDB-472E-971B-BA478B6AEE9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3300"/>
                </a:solidFill>
                <a:uFillTx/>
                <a:latin typeface="Arial"/>
              </a:rPr>
              <a:t>Позиция кейнсианского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едставители данного направления считают, что один только рыночный механизм не в состоянии решать многообразные проблемы в экономике. Кейнс пришел к выводу, что только активная финансовая политика государства, стимулирующая спрос, способна справиться с массовой безработицей. Для удовлетворения современных экономических потребностей общества необходимы и неизбежны правительственные м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F8FE-62B5-46E1-B392-AA5ECE4BDE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Денежно-кредитная (монетарная) поли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онетарная политика означает контроль над денежной массой в экономик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ё цель – поддержка стабильного развития в эконом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4AD4-3A85-4614-A624-5831F8FE77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и            креди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1450-C915-4C27-946F-3A405DDF47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функции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инструмент регулирования экономики выбр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ежно-кредитная (монетарная)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о-налоговая (фиксальная)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а ли рынку помощь государ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6B9A-2DE4-4B10-AED4-0FBDBBD17E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Бюджетно-налоговая (фискальная) поли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государства в области налогооблажения, регулирования государственных расходов и государственного бюджета называется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ФИСКАЛЬНОЙ ПОЛИТИ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C60B-AB38-49CA-AC92-33A7CD7475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Государствен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Государственный бюдже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то сводный план доходов государства и использование полученных средств на покрытие всех видов государственных расходов. Бюджет утверждается парламентом страны, а правительство отвечает за его испол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Главные источники доходов государст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алоговые дох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CD09-9B08-4AA9-9708-D0F0AF2FAE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Налоги</a:t>
            </a: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логи являются основным источником доходов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экономика страдает от высокой инфляции, государство увеличивает налоги, снижая тем самым экономическую активность фирм и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добор налогов приводит к </a:t>
            </a:r>
            <a:r>
              <a:rPr b="1" i="1" lang="ru-RU" sz="1200" spc="-1" strike="noStrike">
                <a:solidFill>
                  <a:srgbClr val="ffff00"/>
                </a:solidFill>
                <a:latin typeface="Arial"/>
              </a:rPr>
              <a:t>дефициту бюджет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одному из негативных экономических показ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F003-29BA-4DF4-AB41-31428FDBBE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Государственный дол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сударственный дол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это сумма задолженности государства внешним и внутренним кредитор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фицит бюджета и величина государственного долга – важнейшие показатели состояния эконом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00"/>
                </a:solidFill>
                <a:latin typeface="Arial"/>
              </a:rPr>
              <a:t>Нужна ли рынку помощь государ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34DA-3409-4CFA-A263-D6EA86AE4D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72AC-D2D2-487B-9E4C-370E7A6E58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Нужна ли рынку помощь государств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Государственное регулирование рыночной экономики проявляется в виде поддержки предприниматель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Помощь предпринимательству имеет такие формы, как льготное налогооблажение в первые годы работы фирм, упрощение правил их регистрации, предоставление субсидий предприятиям малого бизне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Приоритет в рыночной экономике принадлежит косвенным методам государственного воздействия, не разрушающим систему рыночных отношений и не противоречащим 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05FD-DB29-4DB7-8239-A692137A13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Arial"/>
              </a:rPr>
              <a:t>Экономическая политик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номическая политика государства представляет собой процесс реализации его экономических функций путем разнообразных государственных мер воздействия на экономические процессы для достижения определенных ц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3536-DF0D-4B2E-8C9A-AEB4682F39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и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и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B316-6D71-4E70-A7AE-FB007525C1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экономической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24E8-2874-4EBB-9ED7-E6F53658B3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Основные направления </a:t>
            </a:r>
            <a:br>
              <a:rPr sz="1200"/>
            </a:b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экономической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5D5A-5258-4E1F-9495-287604BDE7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Экономические функции гос-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F148-9FD8-4F33-B280-F2D7D917CA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Экономические функции гос-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499F-E146-4275-A61D-1724659064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2738-2F1B-4524-8572-8A55197EA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140D-7C2F-4C0C-A019-C937091F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25BF4-5E3E-4B8E-85A5-4ACCF2F9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402D8-9210-41E2-B8A6-ABF08AAB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6916C-33BB-42BA-AD8A-C0707433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86016-3359-476A-848D-6F2B88D9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A0AEB-05D2-4D96-9CB0-2B999DBA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60989-AA90-487F-AD19-89CDBA1E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DB707-C3BD-4875-98E7-3F254457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D394E-1ED1-4A61-9050-499215DB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1754A-026A-4698-AE3C-14AE114F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74F0F-0C43-4124-8EC5-A7B7E7CA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5E3E-539D-4F50-BE3B-78854E6B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EACA3-A938-4D3B-8146-6D12EC38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70E88-C0EF-4BF4-86D5-70C60CE9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4012FD-13E6-430E-8506-FE4AD71C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63643-D987-4BD7-80C5-C9E794EC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C93F8A-6048-4116-9737-3E7DC8F9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F7C01-EBE4-4DE7-8FB7-5F8079D4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8506C-F5EC-45D6-B48F-07CBF8CC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01CA9-7668-4BD1-9274-C084D1EA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263E8-7F7A-46BC-8E23-C4DE901E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60D2D7-D999-4225-88DC-6831A49D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5A51-BF29-40E4-A622-A19EAF83E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83AD7-8F30-4482-AA52-85AA8246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C9E66-7AE2-4466-BED3-B87BFAC6D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91615-DDD6-4A35-A9F8-30C1BACC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6A1A2-2EAF-456A-A6CD-559A748F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46442-062C-4204-B269-FE31C80D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58C79-F08D-4B80-9ABB-78D6779C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C33DA-0CE8-4ADA-B4DA-FC1415C4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2EC7A-DF6E-4662-B546-35F3527C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E7CEC-2BB1-4C1B-85ED-0C4F6F80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8AD53-13BC-4926-8B3A-0FC4DE42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84CE-6F4D-4D3C-ACF0-5A74BBDB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6E2CE-0A7C-4C68-A10B-610456FF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C3FB7-1ACA-4581-BA60-580949E4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2BD5D-8F58-4F91-8568-B19BDCD90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2F60F-E86A-43C9-A38C-9FD7A4A8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0ECF0-03DA-4F02-9157-C20BC5A9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D2151-534E-4F3B-955B-9AAA3E4C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A2484-1E7F-4E7A-A883-A56BA975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8337C-4D0F-4155-B4B8-17441108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425FF-57B3-43DC-B8C1-BD58E86E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B5D6D3-8AF6-411F-AD88-99D5A598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B887-D88F-4F86-9365-005FAFA7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00EF71-EB49-4E8A-9DD2-A03B8CB6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22126-12AB-4E73-8765-F04F2460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A13759-6EB5-4413-AB8A-4B7E7B31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5003A-6F0C-4977-A9FE-0759581EF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EF7AF-2889-49A1-B954-62C76D51C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3C5F-4837-4270-9EE4-3072B15E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3AAF-A887-451E-A5EA-C444A482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277C-B8D3-42E4-B268-C0A4B30B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B4BF-1527-48FA-9A98-B541310A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085D-FFCC-4911-9654-A390C5BB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5DCA-3985-4727-8074-303AF0B5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DDA6-20E6-43E3-99F5-6CACAC20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3E6B-46A9-4158-B65E-ACECB85E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7DF9-626E-4DD1-AABA-E4DBB51A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14D4-1279-44F1-9E75-FEC88F21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89EC-60AA-423E-B431-E8ED5E771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B690B-4F0F-4AC5-B47F-6C59E085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C81A6-F0D2-4369-A942-227DC121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F6581-3CE4-4410-AD01-4D165034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9DBE2-24FE-4EBD-8004-4E0FB598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9F61D-871F-4DA3-ADC4-8E86436A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2A7C-F26F-4F08-AEA2-AE97E7E7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0AD37-1F38-4F45-A156-DD641FF3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772AB-C5F2-4272-96D8-58651A93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9C473-B5AD-4101-9C8C-718DB10A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1DF46-4960-4248-9109-E622683E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FF9F7-D627-43B2-90E5-6870C024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978E5-1356-4BEE-A17D-55184E58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00010-74B2-401D-94A4-97A09031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A46A5-EC4F-4F10-B146-0191E45E5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67324-FAF7-46D1-8461-9EDE7438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5E8BB-ADE9-46CB-B0DC-35FA9498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16CA-424B-4F27-92B1-F434E72D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19A2C-ADC9-4CA5-8DDD-A029E785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F17CF-560A-48D8-A8C0-BC311BDD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1B617-8494-4A74-80A8-A27D0DDA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26B79-7F31-4111-85D1-AB071CD0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02DA5-61F0-495B-A6A1-A2426B09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A0642-FAC8-47F8-8C84-E828BF33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60EDB-224C-4708-9FCA-8AAE2106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CD026-2AEA-4A43-9BA5-E511863E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723D7-1B5A-4586-A4FB-B8890A16F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79205-567D-47D9-89AE-4DD1E08E4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E67A-22DC-4109-91A5-07DF5F65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111A7-1AE3-4C88-89E1-7F10EEA8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CFB2D-C42A-4570-8CD6-DB0DC698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F244B-0F2F-4401-83BE-E1444BCD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A78F2-D0C7-48D2-A182-AF45C47E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1C1EA-9D4F-49D1-BBB5-ABA47354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48463-7E89-4AFA-B30F-E1133AFD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9882E-6AAA-4F99-800A-5632D46F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E7617-FE59-460F-90C6-A840D10D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A7F09-19AD-4A57-A4F8-BDC0652E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601B4-4293-40EC-8332-170C7BC58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E8F2-1055-43BB-AF89-D55B9D2F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9D9EE-021E-43BF-87D9-8B0B1325C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E3244-2851-4206-A25F-CAC8B1EC2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232B7-9500-4D9C-A10C-87B643FD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208AD-0264-4813-A5AF-EB275CD7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81509-8F20-4DB6-90CA-EE5C61BE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19B3A-0B94-497A-BFB6-E715564B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814A8-5C7C-482E-A62F-D85CA49C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3E966-204C-451B-B438-14F4D2CE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92522-E55C-4A02-A05C-914E128D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1FBB6-5809-4CE5-BEF7-CF0B14F5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2FA4-8F96-474D-A375-8729D564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8B2DD-897F-4D37-AF67-DD4FF9C3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92CEF-30F9-46DC-8F47-14C4966E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E6177-F8A6-4393-A25C-B2CB66FF1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479C5-97DF-4622-9141-C04B1CBA3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4EC6C-F793-428A-BB79-A8191E7F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72031-A388-45F0-BF1F-E103937F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0385F-60EF-4056-8E1C-4E6CC66C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7CA7D-D5C7-4D22-895F-D6CDE2C7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99B94-5422-44C1-A169-3F5B2A0B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14B27-055C-4EBB-A86E-EFAA0D08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4D25-9143-4A0D-AEF8-DB1316B8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E6C19-DEA6-4B68-9894-FEECD551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1C2A6-5168-460E-91AB-74B86B14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C10CB-8242-4D3F-B007-D710AE8F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D334A-22DB-42D7-AF85-8E07A241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E4C9A-4ACC-4606-A5F5-06334B1F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3B5FA-81BC-4EA2-A25D-78F4DD81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3D103-E83D-4148-AB50-5BC3AE1C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AC63E-3584-4D82-8872-51AAFAE0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CA495-FAC9-4BDE-AC8D-52C42B98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A8724-AB17-4720-BA10-8EA3AF90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E24A-D0BF-41B1-9A12-7437576D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9DEDC-8D4E-44B8-8B48-7A94AA08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38245-CDED-484E-8E28-E746D4FF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5B1DD-D9CE-43A6-BA06-5719B4FC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2ABF6-EC32-4A35-AE7F-0B4230F2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C1470-4F8A-4491-AFB1-5453FBDA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746DE-FDC1-4693-AA61-82211AF6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899C9-F250-441C-8136-D199FA4F6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CAF52-E515-4AB4-9F90-14336FDD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92DA4-F36D-461C-94E7-20C76CF8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1322D-C45D-45F3-B7AA-6AB499AA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0E94-761F-4E60-9AE9-84A80467949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3B4F-8383-4220-A441-44D6518BA04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F92B-CEDF-4D3B-97AD-655EE373E15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342C-6F00-4784-96BB-E9D899A2A0A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6147-80D8-4FB7-9879-FE6BAD8F051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0272-0169-4BCF-A16A-A0E5ACD7762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EA93-A4A7-4D3C-ADC1-55DA936AA65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CE0B-9D71-42BA-B18C-842BB0C072A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E2E5-4C93-477D-AD2C-58C8AAE524E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BEBF-CA69-413C-864A-1C9486BA7BF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6AB0-707E-4EE5-BA2A-2A8AF89D6D5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9916-2EB0-4EF1-ABA1-6CBC363395D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675640" cy="597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dfd293"/>
                </a:solidFill>
                <a:latin typeface="Arial"/>
              </a:rPr>
              <a:t>Экономика </a:t>
            </a:r>
            <a:br>
              <a:rPr sz="9600"/>
            </a:br>
            <a:r>
              <a:rPr b="0" lang="ru-RU" sz="9600" spc="-1" strike="noStrike">
                <a:solidFill>
                  <a:srgbClr val="dfd293"/>
                </a:solidFill>
                <a:latin typeface="Arial"/>
              </a:rPr>
              <a:t>и </a:t>
            </a:r>
            <a:br>
              <a:rPr sz="9600"/>
            </a:br>
            <a:r>
              <a:rPr b="0" lang="ru-RU" sz="9600" spc="-1" strike="noStrike">
                <a:solidFill>
                  <a:srgbClr val="dfd293"/>
                </a:solidFill>
                <a:latin typeface="Arial"/>
              </a:rPr>
              <a:t>государство</a:t>
            </a:r>
            <a:endParaRPr b="0" lang="en-US" sz="9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00"/>
                </a:solidFill>
                <a:latin typeface="Arial"/>
              </a:rPr>
              <a:t>Общественные блага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3499920"/>
            <a:ext cx="8229600" cy="33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Товары и услуги предоставляемые государством его гражданам на равных началах. Для производства общественных благ необходимы значительные финансовые средства, и государство получает их, собирая налог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Line 4"/>
          <p:cNvSpPr/>
          <p:nvPr/>
        </p:nvSpPr>
        <p:spPr>
          <a:xfrm flipH="1">
            <a:off x="1619280" y="1125360"/>
            <a:ext cx="2887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Oval 6"/>
          <p:cNvSpPr/>
          <p:nvPr/>
        </p:nvSpPr>
        <p:spPr>
          <a:xfrm>
            <a:off x="0" y="1773360"/>
            <a:ext cx="2556000" cy="863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рон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Line 7"/>
          <p:cNvSpPr/>
          <p:nvPr/>
        </p:nvSpPr>
        <p:spPr>
          <a:xfrm>
            <a:off x="3924360" y="112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Oval 8"/>
          <p:cNvSpPr/>
          <p:nvPr/>
        </p:nvSpPr>
        <p:spPr>
          <a:xfrm>
            <a:off x="2484360" y="1916280"/>
            <a:ext cx="3024360" cy="14414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сплатно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раз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Oval 10"/>
          <p:cNvSpPr/>
          <p:nvPr/>
        </p:nvSpPr>
        <p:spPr>
          <a:xfrm>
            <a:off x="5076720" y="1413000"/>
            <a:ext cx="2880000" cy="1008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ликлиник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Oval 12"/>
          <p:cNvSpPr/>
          <p:nvPr/>
        </p:nvSpPr>
        <p:spPr>
          <a:xfrm>
            <a:off x="7093080" y="2492280"/>
            <a:ext cx="2050920" cy="792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к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Line 13"/>
          <p:cNvSpPr/>
          <p:nvPr/>
        </p:nvSpPr>
        <p:spPr>
          <a:xfrm>
            <a:off x="8028000" y="1197000"/>
            <a:ext cx="2890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Line 14"/>
          <p:cNvSpPr/>
          <p:nvPr/>
        </p:nvSpPr>
        <p:spPr>
          <a:xfrm>
            <a:off x="6372360" y="1125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00"/>
                </a:solidFill>
                <a:latin typeface="Arial"/>
              </a:rPr>
              <a:t>Внешние эффекты</a:t>
            </a:r>
            <a:endParaRPr b="0" lang="en-US" sz="6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Внешние эффекты связаны с производством или потреблением благ. Издержки и выгоды для третьих лиц не участвующих в производств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Компенсация внешних эффектов – важная функция государства в рыночной экономи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3300"/>
                </a:solidFill>
                <a:latin typeface="Arial"/>
              </a:rPr>
              <a:t>Внешние эффекты</a:t>
            </a:r>
            <a:endParaRPr b="0" lang="en-US" sz="6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им пример на стр. 81 учеб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Line 5"/>
          <p:cNvSpPr/>
          <p:nvPr/>
        </p:nvSpPr>
        <p:spPr>
          <a:xfrm flipH="1">
            <a:off x="2484360" y="1197000"/>
            <a:ext cx="72072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Line 7"/>
          <p:cNvSpPr/>
          <p:nvPr/>
        </p:nvSpPr>
        <p:spPr>
          <a:xfrm>
            <a:off x="5796000" y="1197000"/>
            <a:ext cx="64908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Rectangle 8"/>
          <p:cNvSpPr/>
          <p:nvPr/>
        </p:nvSpPr>
        <p:spPr>
          <a:xfrm>
            <a:off x="179280" y="2349360"/>
            <a:ext cx="3888000" cy="45086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РИЦАТЕЛЬНЫ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зникаю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 случае появления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здержек у других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иц, в результате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оизводства ил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требления товара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Rectangle 9"/>
          <p:cNvSpPr/>
          <p:nvPr/>
        </p:nvSpPr>
        <p:spPr>
          <a:xfrm>
            <a:off x="5003640" y="2349360"/>
            <a:ext cx="3961080" cy="45086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ЛОЖИТЕЛЬНЫ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зникаю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 случае появления у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этих лиц выгоды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оторая не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омпенсируется им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оизводителям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овара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293"/>
                </a:solidFill>
                <a:latin typeface="Arial"/>
              </a:rPr>
              <a:t>Государственная экономическая политика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0" name="Oval 6"/>
          <p:cNvSpPr/>
          <p:nvPr/>
        </p:nvSpPr>
        <p:spPr>
          <a:xfrm>
            <a:off x="179280" y="1916280"/>
            <a:ext cx="4321440" cy="19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билизационна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Oval 8"/>
          <p:cNvSpPr/>
          <p:nvPr/>
        </p:nvSpPr>
        <p:spPr>
          <a:xfrm>
            <a:off x="4716360" y="1773360"/>
            <a:ext cx="4427640" cy="21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на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0" y="4724280"/>
            <a:ext cx="38512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правлена преимущественно на оздоровление «заболевшей» эконом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10"/>
          <p:cNvSpPr/>
          <p:nvPr/>
        </p:nvSpPr>
        <p:spPr>
          <a:xfrm>
            <a:off x="4859280" y="4653000"/>
            <a:ext cx="4284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авлена на обеспечение её сбалансированного развития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Line 12"/>
          <p:cNvSpPr/>
          <p:nvPr/>
        </p:nvSpPr>
        <p:spPr>
          <a:xfrm flipH="1">
            <a:off x="3779640" y="1484280"/>
            <a:ext cx="64764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Line 13"/>
          <p:cNvSpPr/>
          <p:nvPr/>
        </p:nvSpPr>
        <p:spPr>
          <a:xfrm>
            <a:off x="4427640" y="1484280"/>
            <a:ext cx="72072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Line 14"/>
          <p:cNvSpPr/>
          <p:nvPr/>
        </p:nvSpPr>
        <p:spPr>
          <a:xfrm>
            <a:off x="1835280" y="386064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Line 15"/>
          <p:cNvSpPr/>
          <p:nvPr/>
        </p:nvSpPr>
        <p:spPr>
          <a:xfrm>
            <a:off x="7020000" y="393372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Воздействия государства на рыночный механизм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90" name="Line 4"/>
          <p:cNvSpPr/>
          <p:nvPr/>
        </p:nvSpPr>
        <p:spPr>
          <a:xfrm flipH="1">
            <a:off x="2339640" y="1413000"/>
            <a:ext cx="576360" cy="1222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Line 6"/>
          <p:cNvSpPr/>
          <p:nvPr/>
        </p:nvSpPr>
        <p:spPr>
          <a:xfrm>
            <a:off x="5940360" y="1413000"/>
            <a:ext cx="719280" cy="1079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AutoShape 8"/>
          <p:cNvSpPr/>
          <p:nvPr/>
        </p:nvSpPr>
        <p:spPr>
          <a:xfrm>
            <a:off x="0" y="2637000"/>
            <a:ext cx="4572000" cy="1873080"/>
          </a:xfrm>
          <a:prstGeom prst="diamond">
            <a:avLst/>
          </a:prstGeom>
          <a:solidFill>
            <a:srgbClr val="5c1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о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гулир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AutoShape 10"/>
          <p:cNvSpPr/>
          <p:nvPr/>
        </p:nvSpPr>
        <p:spPr>
          <a:xfrm>
            <a:off x="4788000" y="2492280"/>
            <a:ext cx="4356000" cy="2087640"/>
          </a:xfrm>
          <a:prstGeom prst="diamond">
            <a:avLst/>
          </a:prstGeom>
          <a:solidFill>
            <a:srgbClr val="5c1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свенно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гулир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Line 11"/>
          <p:cNvSpPr/>
          <p:nvPr/>
        </p:nvSpPr>
        <p:spPr>
          <a:xfrm>
            <a:off x="2268360" y="4508640"/>
            <a:ext cx="0" cy="93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Line 12"/>
          <p:cNvSpPr/>
          <p:nvPr/>
        </p:nvSpPr>
        <p:spPr>
          <a:xfrm>
            <a:off x="6732720" y="4581360"/>
            <a:ext cx="0" cy="93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ctangle 16"/>
          <p:cNvSpPr/>
          <p:nvPr/>
        </p:nvSpPr>
        <p:spPr>
          <a:xfrm flipH="1">
            <a:off x="0" y="5445000"/>
            <a:ext cx="4356000" cy="12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Использ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административных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метод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18"/>
          <p:cNvSpPr/>
          <p:nvPr/>
        </p:nvSpPr>
        <p:spPr>
          <a:xfrm>
            <a:off x="5148360" y="5516640"/>
            <a:ext cx="3995640" cy="12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Использ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экономических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метод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293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Механизмы регулирования    рыночной экономики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0" name="Oval 13"/>
          <p:cNvSpPr/>
          <p:nvPr/>
        </p:nvSpPr>
        <p:spPr>
          <a:xfrm>
            <a:off x="1763640" y="4724280"/>
            <a:ext cx="5184720" cy="194472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скальная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Oval 14"/>
          <p:cNvSpPr/>
          <p:nvPr/>
        </p:nvSpPr>
        <p:spPr>
          <a:xfrm>
            <a:off x="0" y="2205000"/>
            <a:ext cx="4140360" cy="230508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нетарная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Oval 15"/>
          <p:cNvSpPr/>
          <p:nvPr/>
        </p:nvSpPr>
        <p:spPr>
          <a:xfrm>
            <a:off x="4932360" y="2133720"/>
            <a:ext cx="4211640" cy="230508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овое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гулирование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Line 10"/>
          <p:cNvSpPr/>
          <p:nvPr/>
        </p:nvSpPr>
        <p:spPr>
          <a:xfrm flipH="1">
            <a:off x="3419640" y="1484280"/>
            <a:ext cx="100800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11"/>
          <p:cNvSpPr/>
          <p:nvPr/>
        </p:nvSpPr>
        <p:spPr>
          <a:xfrm>
            <a:off x="4427640" y="1413000"/>
            <a:ext cx="100800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12"/>
          <p:cNvSpPr/>
          <p:nvPr/>
        </p:nvSpPr>
        <p:spPr>
          <a:xfrm>
            <a:off x="4427640" y="1484280"/>
            <a:ext cx="0" cy="316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3300"/>
                </a:solidFill>
                <a:uFillTx/>
                <a:latin typeface="Arial"/>
              </a:rPr>
              <a:t>Позиция</a:t>
            </a:r>
            <a:r>
              <a:rPr b="1" lang="ru-RU" sz="4800" spc="-1" strike="noStrike" u="sng">
                <a:solidFill>
                  <a:srgbClr val="00ff00"/>
                </a:solidFill>
                <a:uFillTx/>
                <a:latin typeface="Arial"/>
              </a:rPr>
              <a:t> </a:t>
            </a:r>
            <a:r>
              <a:rPr b="1" lang="ru-RU" sz="4800" spc="-1" strike="noStrike" u="sng">
                <a:solidFill>
                  <a:srgbClr val="003300"/>
                </a:solidFill>
                <a:uFillTx/>
                <a:latin typeface="Arial"/>
              </a:rPr>
              <a:t>монетаристов: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Как можно больше освободить экономику от опеки государства, сократить налоги и государственные расходы, давая возможность рыночному механизму самому обеспечивать устойчивую экономическую систем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3300"/>
                </a:solidFill>
                <a:uFillTx/>
                <a:latin typeface="Arial"/>
              </a:rPr>
              <a:t>Позиция кейнсианского направления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едставители данного направления считают, что один только рыночный механизм не в состоянии решать многообразные проблемы в экономике. Кейнс пришел к выводу, что только активная финансовая политика государства, стимулирующая спрос, способна справиться с массовой безработицей. Для удовлетворения современных экономических потребностей общества необходимы и неизбежны правительственные ме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Денежно-кредитная (монетарная) политика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нетарная политика означает контроль над денежной массой в экономик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Её цель – поддержка стабильного развития в экономик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AutoShape 6"/>
          <p:cNvSpPr/>
          <p:nvPr/>
        </p:nvSpPr>
        <p:spPr>
          <a:xfrm>
            <a:off x="4572000" y="3789360"/>
            <a:ext cx="71280" cy="863640"/>
          </a:xfrm>
          <a:prstGeom prst="downArrow">
            <a:avLst>
              <a:gd name="adj1" fmla="val 50000"/>
              <a:gd name="adj2" fmla="val 302904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AutoShape 7"/>
          <p:cNvSpPr/>
          <p:nvPr/>
        </p:nvSpPr>
        <p:spPr>
          <a:xfrm>
            <a:off x="4067280" y="3357720"/>
            <a:ext cx="990360" cy="1439640"/>
          </a:xfrm>
          <a:prstGeom prst="downArrow">
            <a:avLst>
              <a:gd name="adj1" fmla="val 50000"/>
              <a:gd name="adj2" fmla="val 36341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Банки            кредиты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9" name="AutoShape 5"/>
          <p:cNvSpPr/>
          <p:nvPr/>
        </p:nvSpPr>
        <p:spPr>
          <a:xfrm>
            <a:off x="3635280" y="765000"/>
            <a:ext cx="1008000" cy="289080"/>
          </a:xfrm>
          <a:prstGeom prst="rightArrow">
            <a:avLst>
              <a:gd name="adj1" fmla="val 50000"/>
              <a:gd name="adj2" fmla="val 87173"/>
            </a:avLst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Line 6"/>
          <p:cNvSpPr/>
          <p:nvPr/>
        </p:nvSpPr>
        <p:spPr>
          <a:xfrm flipH="1">
            <a:off x="1115640" y="1197000"/>
            <a:ext cx="57636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Line 8"/>
          <p:cNvSpPr/>
          <p:nvPr/>
        </p:nvSpPr>
        <p:spPr>
          <a:xfrm>
            <a:off x="7093080" y="1197000"/>
            <a:ext cx="576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Line 9"/>
          <p:cNvSpPr/>
          <p:nvPr/>
        </p:nvSpPr>
        <p:spPr>
          <a:xfrm>
            <a:off x="4716360" y="126828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179280" y="2781360"/>
            <a:ext cx="280836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Учетная ставка процента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– норма процента, под который центральный банк дает кредиты коммерческим банка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 Box 11"/>
          <p:cNvSpPr/>
          <p:nvPr/>
        </p:nvSpPr>
        <p:spPr>
          <a:xfrm>
            <a:off x="3564000" y="2852640"/>
            <a:ext cx="230328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Инфляция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озникает, когда объем денежной массы превышает количество производимых товаров и услуг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12"/>
          <p:cNvSpPr/>
          <p:nvPr/>
        </p:nvSpPr>
        <p:spPr>
          <a:xfrm>
            <a:off x="6443640" y="2781360"/>
            <a:ext cx="2484360" cy="344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Норма обязательных резервов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– оказание влияния на возможность банков предоставлять кредиты, изменяя тем самым общее количество денег в обороте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кономические функции государств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ой инструмент регулирования экономики выбрат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енежно-кредитная (монетарная) полити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юджетно-налоговая (фиксальная) полити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ужна ли рынку помощь государств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43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00"/>
                </a:solidFill>
                <a:latin typeface="Arial"/>
              </a:rPr>
              <a:t>Бюджетно-налоговая (фискальная) политика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ятельность государства в области налогооблажения, регулирования государственных расходов и государственного бюджета называется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ФИСКАЛЬНОЙ ПОЛИТИК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179280" y="5589720"/>
            <a:ext cx="45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осударственн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бюдже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7"/>
          <p:cNvSpPr/>
          <p:nvPr/>
        </p:nvSpPr>
        <p:spPr>
          <a:xfrm>
            <a:off x="6878520" y="5972040"/>
            <a:ext cx="185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Налог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Line 9"/>
          <p:cNvSpPr/>
          <p:nvPr/>
        </p:nvSpPr>
        <p:spPr>
          <a:xfrm flipH="1">
            <a:off x="2987280" y="4581360"/>
            <a:ext cx="1655640" cy="93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10"/>
          <p:cNvSpPr/>
          <p:nvPr/>
        </p:nvSpPr>
        <p:spPr>
          <a:xfrm>
            <a:off x="4643280" y="4581360"/>
            <a:ext cx="244980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00"/>
                </a:solidFill>
                <a:latin typeface="Arial"/>
              </a:rPr>
              <a:t>Государственный бюджет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Государственный бюджет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это сводный план доходов государства и использование полученных средств на покрытие всех видов государственных расходов. Бюджет утверждается парламентом страны, а правительство отвечает за его исполн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Главные источники доходов государств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налоговые доход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                  </a:t>
            </a:r>
            <a:r>
              <a:rPr b="1" lang="ru-RU" sz="6600" spc="-1" strike="noStrike">
                <a:solidFill>
                  <a:srgbClr val="003300"/>
                </a:solidFill>
                <a:latin typeface="Arial"/>
              </a:rPr>
              <a:t>Налоги</a:t>
            </a: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18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логи являются основным источником доходов государственного бюдж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сли экономика страдает от высокой инфляции, государство увеличивает налоги, снижая тем самым экономическую активность фирм и насе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едобор налогов приводит к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дефициту бюджет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одному из негативных экономических показател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Государственный долг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0" y="3212640"/>
            <a:ext cx="91440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осударственный долг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это сумма задолженности государства внешним и внутренним кредитор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фицит бюджета и величина государственного долга – важнейшие показатели состояния эконом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Line 4"/>
          <p:cNvSpPr/>
          <p:nvPr/>
        </p:nvSpPr>
        <p:spPr>
          <a:xfrm flipH="1">
            <a:off x="2700000" y="1125360"/>
            <a:ext cx="10810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Line 5"/>
          <p:cNvSpPr/>
          <p:nvPr/>
        </p:nvSpPr>
        <p:spPr>
          <a:xfrm>
            <a:off x="5219640" y="1197000"/>
            <a:ext cx="100800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95280" y="2060640"/>
            <a:ext cx="3529080" cy="10080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нешний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4284720" y="2060640"/>
            <a:ext cx="4319640" cy="10080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нутренний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3300"/>
                </a:solidFill>
                <a:latin typeface="Arial"/>
              </a:rPr>
              <a:t>Нужна ли рынку помощь государства?</a:t>
            </a:r>
            <a:endParaRPr b="0" lang="en-US" sz="7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Нужна ли рынку помощь государства?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Государственное регулирование рыночной экономики проявляется в виде поддержки предпринимательст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Помощь предпринимательству имеет такие формы, как льготное налогооблажение в первые годы работы фирм, упрощение правил их регистрации, предоставление субсидий предприятиям малого бизнес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Приоритет в рыночной экономике принадлежит косвенным методам государственного воздействия, не разрушающим систему рыночных отношений и не противоречащим 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96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ff00"/>
                </a:solidFill>
                <a:latin typeface="Arial"/>
              </a:rPr>
              <a:t>Экономическая политика</a:t>
            </a:r>
            <a:br>
              <a:rPr sz="5400"/>
            </a:b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Экономическая политика государства представляет собой процесс реализации его экономических функций путем разнообразных государственных мер воздействия на экономические процессы для достижения определенных цел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Цели государства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56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Line 7"/>
          <p:cNvSpPr/>
          <p:nvPr/>
        </p:nvSpPr>
        <p:spPr>
          <a:xfrm>
            <a:off x="4572000" y="1484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Line 13"/>
          <p:cNvSpPr/>
          <p:nvPr/>
        </p:nvSpPr>
        <p:spPr>
          <a:xfrm flipV="1">
            <a:off x="4572000" y="141300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13"/>
          <p:cNvSpPr/>
          <p:nvPr/>
        </p:nvSpPr>
        <p:spPr>
          <a:xfrm>
            <a:off x="0" y="1916280"/>
            <a:ext cx="9144000" cy="7207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.Обеспечить экономический рост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>
            <a:off x="0" y="2852640"/>
            <a:ext cx="9144000" cy="9367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Создать условия экономической свобод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0" y="4221000"/>
            <a:ext cx="9144000" cy="9144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Обеспечивать экономическую безопасност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16"/>
          <p:cNvSpPr/>
          <p:nvPr/>
        </p:nvSpPr>
        <p:spPr>
          <a:xfrm>
            <a:off x="0" y="5589720"/>
            <a:ext cx="9144000" cy="9144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Обеспечивать экономическую эффективност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Цели государства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0" y="2205000"/>
            <a:ext cx="9144000" cy="15620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Заботится об обеспечении полной занятост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каждый, кто может и хочет работать,должен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меть работу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0" y="4724280"/>
            <a:ext cx="9144000" cy="15843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6. Оказывать помощь тем, кто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 может себя обеспечить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ели экономической политик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Oval 4"/>
          <p:cNvSpPr/>
          <p:nvPr/>
        </p:nvSpPr>
        <p:spPr>
          <a:xfrm>
            <a:off x="539640" y="1773360"/>
            <a:ext cx="3961080" cy="41767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спективны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рмирование социальн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иентированног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ыночного варианта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ономик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Oval 5"/>
          <p:cNvSpPr/>
          <p:nvPr/>
        </p:nvSpPr>
        <p:spPr>
          <a:xfrm>
            <a:off x="4716360" y="1773360"/>
            <a:ext cx="3888000" cy="4248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кущ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шение проблем гос. долга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рьба с бедностью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нижение налогов на бизнес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Line 6"/>
          <p:cNvSpPr/>
          <p:nvPr/>
        </p:nvSpPr>
        <p:spPr>
          <a:xfrm flipH="1">
            <a:off x="3708360" y="1197000"/>
            <a:ext cx="100800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7"/>
          <p:cNvSpPr/>
          <p:nvPr/>
        </p:nvSpPr>
        <p:spPr>
          <a:xfrm>
            <a:off x="4716360" y="1197000"/>
            <a:ext cx="9352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Основные направления </a:t>
            </a:r>
            <a:br>
              <a:rPr sz="4000"/>
            </a:b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экономической политики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Oval 4"/>
          <p:cNvSpPr/>
          <p:nvPr/>
        </p:nvSpPr>
        <p:spPr>
          <a:xfrm>
            <a:off x="0" y="2133720"/>
            <a:ext cx="3492360" cy="9144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нансова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Oval 5"/>
          <p:cNvSpPr/>
          <p:nvPr/>
        </p:nvSpPr>
        <p:spPr>
          <a:xfrm>
            <a:off x="2340000" y="5516640"/>
            <a:ext cx="5146560" cy="1152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нвестиционна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Oval 6"/>
          <p:cNvSpPr/>
          <p:nvPr/>
        </p:nvSpPr>
        <p:spPr>
          <a:xfrm>
            <a:off x="5003640" y="1916280"/>
            <a:ext cx="4140360" cy="936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грарна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Oval 8"/>
          <p:cNvSpPr/>
          <p:nvPr/>
        </p:nvSpPr>
        <p:spPr>
          <a:xfrm>
            <a:off x="4859280" y="3500280"/>
            <a:ext cx="4284720" cy="16574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нешне-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кономическа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Oval 9"/>
          <p:cNvSpPr/>
          <p:nvPr/>
        </p:nvSpPr>
        <p:spPr>
          <a:xfrm>
            <a:off x="0" y="3573360"/>
            <a:ext cx="4140360" cy="14907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учно-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хническ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10"/>
          <p:cNvSpPr/>
          <p:nvPr/>
        </p:nvSpPr>
        <p:spPr>
          <a:xfrm flipH="1">
            <a:off x="3492000" y="1628640"/>
            <a:ext cx="86364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11"/>
          <p:cNvSpPr/>
          <p:nvPr/>
        </p:nvSpPr>
        <p:spPr>
          <a:xfrm>
            <a:off x="4356000" y="1557360"/>
            <a:ext cx="72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Line 12"/>
          <p:cNvSpPr/>
          <p:nvPr/>
        </p:nvSpPr>
        <p:spPr>
          <a:xfrm>
            <a:off x="4356000" y="1557360"/>
            <a:ext cx="71640" cy="395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13"/>
          <p:cNvSpPr/>
          <p:nvPr/>
        </p:nvSpPr>
        <p:spPr>
          <a:xfrm flipH="1">
            <a:off x="3492000" y="1628640"/>
            <a:ext cx="863640" cy="20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14"/>
          <p:cNvSpPr/>
          <p:nvPr/>
        </p:nvSpPr>
        <p:spPr>
          <a:xfrm>
            <a:off x="4356000" y="1628640"/>
            <a:ext cx="936720" cy="216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Экономические функции гос-ва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Oval 4"/>
          <p:cNvSpPr/>
          <p:nvPr/>
        </p:nvSpPr>
        <p:spPr>
          <a:xfrm>
            <a:off x="0" y="1844640"/>
            <a:ext cx="3851280" cy="1849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абилизаци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кономик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Oval 5"/>
          <p:cNvSpPr/>
          <p:nvPr/>
        </p:nvSpPr>
        <p:spPr>
          <a:xfrm>
            <a:off x="4716360" y="1628640"/>
            <a:ext cx="4427640" cy="2087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ераспределен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ходо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Oval 6"/>
          <p:cNvSpPr/>
          <p:nvPr/>
        </p:nvSpPr>
        <p:spPr>
          <a:xfrm>
            <a:off x="0" y="4076640"/>
            <a:ext cx="8964720" cy="2016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гулирован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нежног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ращени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Line 8"/>
          <p:cNvSpPr/>
          <p:nvPr/>
        </p:nvSpPr>
        <p:spPr>
          <a:xfrm flipH="1">
            <a:off x="3708360" y="1557360"/>
            <a:ext cx="5032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Line 9"/>
          <p:cNvSpPr/>
          <p:nvPr/>
        </p:nvSpPr>
        <p:spPr>
          <a:xfrm>
            <a:off x="4211640" y="1628640"/>
            <a:ext cx="576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10"/>
          <p:cNvSpPr/>
          <p:nvPr/>
        </p:nvSpPr>
        <p:spPr>
          <a:xfrm flipH="1">
            <a:off x="4140360" y="1628640"/>
            <a:ext cx="71280" cy="24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Экономические функции гос-ва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179280" y="1773360"/>
            <a:ext cx="4105440" cy="2447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щественны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ла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4859280" y="1700280"/>
            <a:ext cx="4284720" cy="23050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троль над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ещнеэкономическо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ятельность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Oval 6"/>
          <p:cNvSpPr/>
          <p:nvPr/>
        </p:nvSpPr>
        <p:spPr>
          <a:xfrm>
            <a:off x="826920" y="4149720"/>
            <a:ext cx="7705800" cy="2708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гулирование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ношений между работодателям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наемными работникам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Line 7"/>
          <p:cNvSpPr/>
          <p:nvPr/>
        </p:nvSpPr>
        <p:spPr>
          <a:xfrm flipH="1">
            <a:off x="3924000" y="1484280"/>
            <a:ext cx="57636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Line 8"/>
          <p:cNvSpPr/>
          <p:nvPr/>
        </p:nvSpPr>
        <p:spPr>
          <a:xfrm>
            <a:off x="4500720" y="1484280"/>
            <a:ext cx="64764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>
            <a:off x="4500720" y="1484280"/>
            <a:ext cx="0" cy="266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4T18:08:11Z</dcterms:created>
  <dc:creator>Acer</dc:creator>
  <dc:description/>
  <dc:language>en-US</dc:language>
  <cp:lastModifiedBy>LEGION</cp:lastModifiedBy>
  <dcterms:modified xsi:type="dcterms:W3CDTF">2015-01-05T09:59:32Z</dcterms:modified>
  <cp:revision>26</cp:revision>
  <dc:subject/>
  <dc:title>Слайд 1</dc:title>
</cp:coreProperties>
</file>