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858A-A551-479F-B0D4-50B0686771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F240-C562-439E-A122-3F38B24A52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66DD-84EE-4CE7-A84F-44C8B788BE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483F-90FE-4667-89D6-EAA71536CC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4541-E863-4B7A-8B5E-8EBB071BD5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 на стр. 81 учеб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DE6C-AE4B-4A72-AD3F-E5389D34A0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экономическ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8C40-07A8-411B-AD13-9490B3A350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3343-C84C-4512-9F6B-AB674CFA5B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F09D-6532-428D-957F-0B34D7FF40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4103-8276-4553-9D17-4E456C0395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5381-D527-4FE5-962B-CA0455A3B9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F8AB-F602-454A-9CCA-13482E5E5A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и            кред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8571-9F4F-4322-8FFA-9805CA8069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функци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(монетар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-налоговая (фиксаль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7F39-61AD-4419-8938-884F44147F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ИСКАЛЬНОЙ ПОЛИТИ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5EAA-2CDE-42B6-BB49-4CB36D74F1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ые до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935A-989F-4491-ABCB-282D575442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бор налогов приводит к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5068-4E09-4C63-9090-2DD80788A0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148C-9B1A-4C52-88E8-1A05D87C59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3FB6-1FB2-4736-AE0E-A962696834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4FE4-7DB5-4FF1-8DFD-E05BE60849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4BC9-ED3E-4868-B1B2-DC3DD09A33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E43A-9EF7-4885-9771-CCCEA3D835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2D64-C0AB-4AC9-8822-21213D3C2C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1200"/>
            </a:b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37C8-E99D-47BE-8B3C-43533446A2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0850-3E7E-4E6F-9234-4F4D4E7FBA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D946-CC52-49AE-AFF4-58F2340A94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A50-FB04-458F-A524-CB4FD4F1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199-C6D6-4E28-98A8-22A7DB4D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ADAA6-0544-4019-80D5-5282696E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7C306-C501-48DF-82A7-D9185770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B6B7B-E7CD-412D-8C59-EF0A654F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FF1BB-1960-48F3-A739-5FBD569F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7A2AB-19AC-4CE4-B214-63DD6323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CD7DA-2653-4EDC-881A-95ABABAE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A5387-19D1-4768-9913-DE69C8B1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C4738-F7ED-44C3-9C70-1E7BE1F4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F4662-8642-44FE-83D5-A16F18FC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15318-69B7-4A69-A97D-E3960CAE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793-A290-497D-B9C9-1A952EFD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DA76F-CAB9-46B4-AB20-6B893BD5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00A6B-A79F-48DB-9A9A-2A3BB7BC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DF55E-714C-4BDA-BBDA-DFD95995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424E8-CAA1-4616-94A4-E1B03B29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BA7B8-CA09-42CD-A58A-ACB7A91D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4019A-F4B5-4E98-A11D-F7A6D3C3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E2885-2461-4455-96BE-CCC621C1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BA04E-8BED-480F-BE57-0404EFF3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A82D5-EA0E-4D99-8E59-D836DA67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BB2C1-9F4F-47B2-9CA8-56213C94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D2C-6D70-4704-AECE-B1D83877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EA2A8-DA6F-488F-8B22-30444F92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C21E9-2B85-42D7-847F-74F3C37C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2E92E-151F-420F-9A01-8A196DC7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75AAB-7533-4B89-B51D-2008A88F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64827-03CC-4CBF-9119-AC7EFE60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71DF9-ECDB-4629-A848-1FF7D163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F976B-DFAB-408E-B1A8-E94C7D32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D0384-C4D1-42BA-9F56-58784EA1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ED1DC-9483-49C5-9411-F88EA204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59EFD-B4AC-433E-8ADC-ADDB922B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4AF0-89DD-4ACC-9A0A-311E931C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F8825-BB89-400D-A81F-7DB897CB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DF1CD-213E-4CC7-890E-9C21F71A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C29B7-0DEB-4150-AEF8-A08AA4A6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3DE08-2C60-41FD-B697-43DF4B4F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0EDBF-EA45-4662-AA68-66FE720C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1E639-7380-4471-9C2C-A4C94BF9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8E9B9-519D-44D5-B65C-73CEDBA8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6FA33-0AFC-4903-B3CF-9A0CB5E6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63ED4-1415-4AEA-8D52-C346C7C0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41703-8E26-497E-82BA-ED3F31C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C16B-1E3B-445D-BE9B-0C615E5A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BF4EA-9C38-4142-AF6B-D0B5F8AA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F1805-D235-4A18-96E8-020C9BF3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0E650-4F71-4632-B8E1-996BD26E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742E3-0F48-48EE-9A88-FC99FAE0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B6F3D-7A4C-4F6F-94AC-AF9D5B45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7945-2E1C-4EB6-BE49-A125E3E6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322B-B973-4CE5-939F-D071D50B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87C2-38C1-43C9-8DD3-6176870F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1B96-4C95-4447-B491-47F575F1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0495-49CD-4F1A-B94B-0560D4D6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1DB-B978-4597-A151-06B1376D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0D94-9F19-47D0-A560-B306C2FC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CBDA-9228-479C-AF71-76ED97B6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D340-9FD2-47E2-94E8-40014D02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3528-C8C2-49B9-B333-F798C7CE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8E54-69C5-4543-B10B-A0477B3F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193B-8F73-45A7-983E-1E453A9F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6FF5-EB48-412B-A536-BCBF4654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51B6-B485-4453-8ABE-6773EDC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94FAA-EC11-457C-83E1-40EC055E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66CFF-F8FF-496F-88EB-9111CDB9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71D-4274-4276-956C-1D45D434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68861-1383-45E0-9815-F09156C2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3A36-5352-46AD-B6C9-FCC12E77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8A7D5-CFE2-469C-BC75-D54CAF5C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D4E5-4EE3-4A43-AAC6-2666B17F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72D9F-F7D6-49B5-A23D-9CA01AD4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B45CE-5FCB-4EF9-95D1-F54BCAED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AD51-694D-4FE4-AB16-84E12B5E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A628C-3421-4C3F-ACB9-0055D4CA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1D3C-BF84-49DA-BE83-D99E799F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3FD4-A255-4CCF-BC35-7183B3B5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3B1-9780-4CB0-B6C4-00508A1C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1A25-B244-47C1-BE80-AA8C693F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EE2CE-0FC1-4FF0-BB09-5A18CD6B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FC165-C9DB-48AB-BCD8-C830ED86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E4A1-6FB7-4A7C-BD29-54F4B7B0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6CA3A-03B6-4F89-AC0A-4365E8C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E701D-4C94-491E-B7BC-8A318570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8EFCA-5E34-41F6-861E-5F33ADF6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EF0D-D0DE-4BF0-858D-9CCDC3F2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8C6E7-E0C7-4270-A7E7-3AFC0D66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7362D-1D7D-4168-8066-1ADB0AD1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613-0808-4859-85E3-2940E26C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6D39B-697B-4A0A-8C44-DD8C2985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5B8BB-9C22-4B3F-ACE9-3DA35031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42248-AA9A-4ECF-A822-1FFF9690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E0A21-CB40-4C98-87F9-FCD9C576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4E34-CE04-419E-B222-DEA1FAB3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32489-474A-449F-9F16-E708B04F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2E8D9-A786-493F-A85D-975ECD2A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97522-9E4A-405F-919D-941E7503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B457B-5BB1-481B-8658-49334A02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413B9-F02D-4B5C-80F8-B1AAD099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EC3-89DB-423C-BDF7-08E5F27A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0D2DB-1D6C-48A6-8D38-8BD41F56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811B8-3B00-44FC-AEC2-DCAAFD0C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BD921-32C1-4154-8C6D-6272424E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C40D9-58AD-4E28-B9DE-70904716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B7E46-26F4-4B51-B7FA-92E26026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5B78F-E9DC-436E-B5D4-E74694FA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4C16E-A387-47F6-9E77-888B1FAB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132A1-6DA0-4C25-89F4-2621B947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411E4-C88B-4290-A30B-7D8E1226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7319-71E3-4BC0-A066-BF491D98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71B-AE6D-46AF-B70D-141F19B6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2BAE9-BFED-4EC9-8DEB-0C5C59E9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55C8A-6CD2-4D92-9529-48051785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38516-D77D-4F9E-9A44-8FE4C96C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C689C-4E92-4DFE-B4E5-261835F9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B24A6-8963-46A7-8CC4-16E54A24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08F26-8BA7-4370-ACF9-50E6E77E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5BE04-A67B-4F61-BB4A-2CEC0E13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EC860-AF18-45E9-B5AF-ADF44494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D59B0-80B6-48F0-B694-59A24E04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CED3B-CA21-4563-B2EF-70D92801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09D-9EBC-4001-A605-4FDE22B6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86BD6-AD64-472A-8456-952AC0B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07458-1E61-445C-BA91-A983B47E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1AD22-7B23-45BE-AE48-E98481F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39F76-CBCA-4B6C-B9BD-8EF16B17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9B146-8C63-4BA1-B424-882ED78F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522E4-BEDB-4A4F-B3B7-53C8DADF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9D5E-C822-4AE4-9FA8-4DF4F93D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7EE35-5003-48B7-9C29-C43A2A2B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A273B-32EA-4EEE-837B-76904F5C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2DF67-717F-4CBD-A279-73EA7BC4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E42-D6FF-4B9D-B1B4-27BAF47B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7E67D-6702-4548-9882-E81F4378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917F5-9F46-420B-95BE-548871F3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76339-73CF-495A-B19D-DFA0A663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2C52C-F5DE-4B43-80BE-1A8792FA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1D576-BC57-4BD9-92BD-7EB9E5C2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AD059-76B9-42C4-8534-FFE22E74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6EB84-49BB-4435-A202-7BA1C978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5A925-6BFF-44D4-8027-C4E84969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D1ED0-5245-42EF-A0A7-A6A2F76B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D803F-42CE-43CD-AC94-38769C27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03F9-980A-4DA5-910A-D071B2D912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1D04-BC63-4B26-A0D7-7E960C05C5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3E56-9ADA-43AF-B5A4-8B591653C3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10B8-CCCE-481C-BA2F-645C5039F2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2D35-772A-4E3B-AC6E-16C62BF1F7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60C7-99A3-4B62-8B3B-00CA59904D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2E93-96A2-4D1A-B45C-38BA733B33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B090-F927-423C-A8E2-5F1DF53915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C506-1E1B-4042-951E-77CE6A9F2E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6227-74F8-4BF5-85A0-22AE7A5273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3FBD-A3EF-41AC-9E1F-1C989B593D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5CD5-5ED7-4CC7-B182-5026F79EA6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59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Экономика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и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государство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 flipH="1">
            <a:off x="1619280" y="1125360"/>
            <a:ext cx="28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0" y="1773360"/>
            <a:ext cx="2556000" cy="863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рон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392436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2484360" y="1916280"/>
            <a:ext cx="3024360" cy="1441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лат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5076720" y="1413000"/>
            <a:ext cx="2880000" cy="100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иклини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7093080" y="2492280"/>
            <a:ext cx="2050920" cy="79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8028000" y="1197000"/>
            <a:ext cx="289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6372360" y="112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пример на стр. 81 учеб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H="1">
            <a:off x="2484360" y="1197000"/>
            <a:ext cx="72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796000" y="1197000"/>
            <a:ext cx="649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79280" y="2349360"/>
            <a:ext cx="388800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держек у други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, в результат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ства и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требления товар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5003640" y="2349360"/>
            <a:ext cx="396108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ОЖИТЕЛЬНЫ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у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их лиц выгоды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торая н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пенсируется 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ителя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вар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Государственная экономическая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Oval 6"/>
          <p:cNvSpPr/>
          <p:nvPr/>
        </p:nvSpPr>
        <p:spPr>
          <a:xfrm>
            <a:off x="179280" y="1916280"/>
            <a:ext cx="4321440" cy="19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билизацион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4716360" y="1773360"/>
            <a:ext cx="442764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3851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4859280" y="4653000"/>
            <a:ext cx="428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а на обеспечение её сбалансированного развит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2"/>
          <p:cNvSpPr/>
          <p:nvPr/>
        </p:nvSpPr>
        <p:spPr>
          <a:xfrm flipH="1">
            <a:off x="3779640" y="1484280"/>
            <a:ext cx="647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4427640" y="1484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>
            <a:off x="1835280" y="3860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702000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 flipH="1">
            <a:off x="2339640" y="1413000"/>
            <a:ext cx="576360" cy="122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5940360" y="1413000"/>
            <a:ext cx="719280" cy="107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0" y="2637000"/>
            <a:ext cx="4572000" cy="187308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4788000" y="2492280"/>
            <a:ext cx="4356000" cy="208764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вен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2268360" y="450864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6732720" y="4581360"/>
            <a:ext cx="0" cy="9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6"/>
          <p:cNvSpPr/>
          <p:nvPr/>
        </p:nvSpPr>
        <p:spPr>
          <a:xfrm flipH="1">
            <a:off x="0" y="5445000"/>
            <a:ext cx="435600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дминистративны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5148360" y="5516640"/>
            <a:ext cx="399564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экономически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0" name="Oval 13"/>
          <p:cNvSpPr/>
          <p:nvPr/>
        </p:nvSpPr>
        <p:spPr>
          <a:xfrm>
            <a:off x="1763640" y="4724280"/>
            <a:ext cx="5184720" cy="19447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скаль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14"/>
          <p:cNvSpPr/>
          <p:nvPr/>
        </p:nvSpPr>
        <p:spPr>
          <a:xfrm>
            <a:off x="0" y="2205000"/>
            <a:ext cx="414036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нетар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Oval 15"/>
          <p:cNvSpPr/>
          <p:nvPr/>
        </p:nvSpPr>
        <p:spPr>
          <a:xfrm>
            <a:off x="4932360" y="2133720"/>
            <a:ext cx="421164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вое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0"/>
          <p:cNvSpPr/>
          <p:nvPr/>
        </p:nvSpPr>
        <p:spPr>
          <a:xfrm flipH="1">
            <a:off x="3419640" y="1484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4427640" y="141300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4427640" y="148428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48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4572000" y="3789360"/>
            <a:ext cx="71280" cy="863640"/>
          </a:xfrm>
          <a:prstGeom prst="downArrow">
            <a:avLst>
              <a:gd name="adj1" fmla="val 50000"/>
              <a:gd name="adj2" fmla="val 30290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7"/>
          <p:cNvSpPr/>
          <p:nvPr/>
        </p:nvSpPr>
        <p:spPr>
          <a:xfrm>
            <a:off x="4067280" y="3357720"/>
            <a:ext cx="990360" cy="1439640"/>
          </a:xfrm>
          <a:prstGeom prst="downArrow">
            <a:avLst>
              <a:gd name="adj1" fmla="val 50000"/>
              <a:gd name="adj2" fmla="val 3634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Банки            кредит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3635280" y="7650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>
            <a:off x="1115640" y="1197000"/>
            <a:ext cx="57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>
            <a:off x="7093080" y="1197000"/>
            <a:ext cx="576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4716360" y="12682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179280" y="2781360"/>
            <a:ext cx="2808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Учетная ставка процента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– норма процента, под который центральный банк дает кредиты коммерческим банка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564000" y="2852640"/>
            <a:ext cx="230328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нфляция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озникает, когда объем денежной массы превышает количество производимых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6443640" y="2781360"/>
            <a:ext cx="248436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орма обязательных резервов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– оказание влияния на возможность банков предоставлять кредиты, изменяя тем самым общее количество денег в оборот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кономические функции государ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нежно-кредитная (монетар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юджетно-налоговая (фиксаль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ФИСКАЛЬНОЙ ПОЛИТ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79280" y="558972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6878520" y="5972040"/>
            <a:ext cx="18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лог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H="1">
            <a:off x="2987280" y="4581360"/>
            <a:ext cx="165564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4643280" y="4581360"/>
            <a:ext cx="24498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логовые дох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                 </a:t>
            </a:r>
            <a:r>
              <a:rPr b="1" lang="ru-RU" sz="66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добор налогов приводит к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 flipH="1">
            <a:off x="2700000" y="1125360"/>
            <a:ext cx="1081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5219640" y="1197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5280" y="2060640"/>
            <a:ext cx="352908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еш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284720" y="2060640"/>
            <a:ext cx="431964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утрен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5400"/>
            </a:b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4572000" y="148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 flipV="1">
            <a:off x="4572000" y="141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0" y="1916280"/>
            <a:ext cx="9144000" cy="72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Обеспечить экономический рос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0" y="2852640"/>
            <a:ext cx="9144000" cy="936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здать условия экономической свобод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0" y="422100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Обеспечивать экономическую безопас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0" y="558972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Обеспечивать экономическую эффектив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2205000"/>
            <a:ext cx="9144000" cy="15620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Заботится об обеспечении полной занят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аждый, кто может и хочет работать,долже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ть работу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4724280"/>
            <a:ext cx="9144000" cy="1584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. Оказывать помощь тем, кто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может себя обеспечи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экономической политик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539640" y="1773360"/>
            <a:ext cx="3961080" cy="4176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спектив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социальн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но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чного вариант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4716360" y="1773360"/>
            <a:ext cx="3888000" cy="424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кущ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 гос. долга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рьба с бедностью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нижение налогов на бизне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708360" y="119700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716360" y="1197000"/>
            <a:ext cx="935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4"/>
          <p:cNvSpPr/>
          <p:nvPr/>
        </p:nvSpPr>
        <p:spPr>
          <a:xfrm>
            <a:off x="0" y="2133720"/>
            <a:ext cx="349236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ансов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5"/>
          <p:cNvSpPr/>
          <p:nvPr/>
        </p:nvSpPr>
        <p:spPr>
          <a:xfrm>
            <a:off x="2340000" y="5516640"/>
            <a:ext cx="5146560" cy="115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вестицион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6"/>
          <p:cNvSpPr/>
          <p:nvPr/>
        </p:nvSpPr>
        <p:spPr>
          <a:xfrm>
            <a:off x="5003640" y="1916280"/>
            <a:ext cx="4140360" cy="93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грар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4859280" y="3500280"/>
            <a:ext cx="4284720" cy="1657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е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0" y="3573360"/>
            <a:ext cx="4140360" cy="14907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учно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ическ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3492000" y="1628640"/>
            <a:ext cx="863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4356000" y="155736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4356000" y="1557360"/>
            <a:ext cx="71640" cy="395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 flipH="1">
            <a:off x="3492000" y="1628640"/>
            <a:ext cx="8636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>
            <a:off x="4356000" y="1628640"/>
            <a:ext cx="93672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>
            <a:off x="0" y="1844640"/>
            <a:ext cx="3851280" cy="1849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билизац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5"/>
          <p:cNvSpPr/>
          <p:nvPr/>
        </p:nvSpPr>
        <p:spPr>
          <a:xfrm>
            <a:off x="4716360" y="1628640"/>
            <a:ext cx="4427640" cy="208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распреде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ход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6"/>
          <p:cNvSpPr/>
          <p:nvPr/>
        </p:nvSpPr>
        <p:spPr>
          <a:xfrm>
            <a:off x="0" y="4076640"/>
            <a:ext cx="8964720" cy="201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нежног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щ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 flipH="1">
            <a:off x="3708360" y="1557360"/>
            <a:ext cx="50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4211640" y="1628640"/>
            <a:ext cx="57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 flipH="1">
            <a:off x="4140360" y="1628640"/>
            <a:ext cx="71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179280" y="1773360"/>
            <a:ext cx="4105440" cy="244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ственны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859280" y="1700280"/>
            <a:ext cx="4284720" cy="2305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на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щнеэкономическо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ятельность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826920" y="4149720"/>
            <a:ext cx="7705800" cy="2708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ношений между работодателя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наемными работника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7"/>
          <p:cNvSpPr/>
          <p:nvPr/>
        </p:nvSpPr>
        <p:spPr>
          <a:xfrm flipH="1">
            <a:off x="3924000" y="1484280"/>
            <a:ext cx="57636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4500720" y="1484280"/>
            <a:ext cx="647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4500720" y="1484280"/>
            <a:ext cx="0" cy="26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8:08:11Z</dcterms:created>
  <dc:creator>Acer</dc:creator>
  <dc:description/>
  <dc:language>en-US</dc:language>
  <cp:lastModifiedBy>LEGION</cp:lastModifiedBy>
  <dcterms:modified xsi:type="dcterms:W3CDTF">2015-01-05T09:59:32Z</dcterms:modified>
  <cp:revision>26</cp:revision>
  <dc:subject/>
  <dc:title>Слайд 1</dc:title>
</cp:coreProperties>
</file>