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C2A17-C602-4C0E-B8CF-2FBB674A083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86A99-36B6-47E8-A60E-7D1A700CFC3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номика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осудар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49939-1899-4393-AB4A-A620719BDD1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Общественные бла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200" spc="-1" strike="noStrike">
                <a:solidFill>
                  <a:srgbClr val="003300"/>
                </a:solidFill>
                <a:latin typeface="Arial"/>
              </a:rPr>
              <a:t>Товары и услуги предоставляемые государством его гражданам на равных началах. Для производства общественных благ необходимы значительные финансовые средства, и государство получает их, собирая налог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39AD0-C010-4014-896A-2DA733ED439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ff00"/>
                </a:solidFill>
                <a:latin typeface="Arial"/>
              </a:rPr>
              <a:t>Внешние эффек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00"/>
                </a:solidFill>
                <a:latin typeface="Arial"/>
              </a:rPr>
              <a:t>Внешние эффекты связаны с производством или потреблением благ. Издержки и выгоды для третьих лиц не участвующих в производств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00"/>
                </a:solidFill>
                <a:latin typeface="Arial"/>
              </a:rPr>
              <a:t>Компенсация внешних эффектов – важная функция государства в рыночной экономик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11B84-C131-4650-B54B-5AFE3B1268E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00"/>
                </a:solidFill>
                <a:latin typeface="Arial"/>
              </a:rPr>
              <a:t>Внешние эффек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смотрим пример на стр. 81 учебн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10B3D-0893-4920-AFA0-604978EB09B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осударственная экономическая полит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правлена преимущественно на оздоровление «заболевшей» экономи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0CF8B-3348-47D9-96B3-8761736B1A3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00"/>
                </a:solidFill>
                <a:latin typeface="Arial"/>
              </a:rPr>
              <a:t>Воздействия государства на рыночный механиз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23EFD-0F77-4C50-9FF7-BA6EB016538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3300"/>
                </a:solidFill>
                <a:latin typeface="Arial"/>
              </a:rPr>
              <a:t>Механизмы регулирования    рыночн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8BBBF-E118-4009-82BF-75921B273AE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3300"/>
                </a:solidFill>
                <a:uFillTx/>
                <a:latin typeface="Arial"/>
              </a:rPr>
              <a:t>Позиция</a:t>
            </a:r>
            <a:r>
              <a:rPr b="1" lang="ru-RU" sz="1600" spc="-1" strike="noStrike" u="sng">
                <a:solidFill>
                  <a:srgbClr val="00ff00"/>
                </a:solidFill>
                <a:uFillTx/>
                <a:latin typeface="Arial"/>
              </a:rPr>
              <a:t> </a:t>
            </a:r>
            <a:r>
              <a:rPr b="1" lang="ru-RU" sz="1600" spc="-1" strike="noStrike" u="sng">
                <a:solidFill>
                  <a:srgbClr val="003300"/>
                </a:solidFill>
                <a:uFillTx/>
                <a:latin typeface="Arial"/>
              </a:rPr>
              <a:t>монетаристов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Как можно больше освободить экономику от опеки государства, сократить налоги и государственные расходы, давая возможность рыночному механизму самому обеспечивать устойчивую экономическую систем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43DBF-D556-4F95-B412-B03EE6455FB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3300"/>
                </a:solidFill>
                <a:uFillTx/>
                <a:latin typeface="Arial"/>
              </a:rPr>
              <a:t>Позиция кейнсианского направ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Представители данного направления считают, что один только рыночный механизм не в состоянии решать многообразные проблемы в экономике. Кейнс пришел к выводу, что только активная финансовая политика государства, стимулирующая спрос, способна справиться с массовой безработицей. Для удовлетворения современных экономических потребностей общества необходимы и неизбежны правительственные мер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04F5A-BC6B-469A-BC38-C60CA3A39B1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Денежно-кредитная (монетарная) полит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Монетарная политика означает контроль над денежной массой в экономике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Её цель – поддержка стабильного развития в экономик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A22B5-4396-48CB-8624-2141DE4BA3B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анки            креди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F955F-BD61-48F1-A768-4600093707E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номические функции государ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ой инструмент регулирования экономики выбрать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нежно-кредитная (монетарная) полити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юджетно-налоговая (фиксальная) полити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ужна ли рынку помощь государств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B488A-17E3-4857-8769-258E32FB72F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Arial"/>
              </a:rPr>
              <a:t>Бюджетно-налоговая (фискальная) полит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ятельность государства в области налогооблажения, регулирования государственных расходов и государственного бюджета называется </a:t>
            </a: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ФИСКАЛЬНОЙ ПОЛИТИК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1DC29-CE34-4D13-BB7C-0266BB16607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Государственный бюдж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Arial"/>
              </a:rPr>
              <a:t>Государственный бюджет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это сводный план доходов государства и использование полученных средств на покрытие всех видов государственных расходов. Бюджет утверждается парламентом страны, а правительство отвечает за его исполне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Arial"/>
              </a:rPr>
              <a:t>Главные источники доходов государств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налоговые доход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5EA17-0954-44D4-B0C3-FEA99A5B4A0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Налоги</a:t>
            </a:r>
            <a:r>
              <a:rPr b="1" lang="ru-RU" sz="1200" spc="-1" strike="noStrike">
                <a:solidFill>
                  <a:srgbClr val="00ff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логи являются основным источником доходов государственного бюдже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Если экономика страдает от высокой инфляции, государство увеличивает налоги, снижая тем самым экономическую активность фирм и насе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едобор налогов приводит к </a:t>
            </a:r>
            <a:r>
              <a:rPr b="1" i="1" lang="ru-RU" sz="1200" spc="-1" strike="noStrike">
                <a:solidFill>
                  <a:srgbClr val="ffff00"/>
                </a:solidFill>
                <a:latin typeface="Arial"/>
              </a:rPr>
              <a:t>дефициту бюджета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– одному из негативных экономических показател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3D2B3-A5C6-4B51-ACD0-9A774E12011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20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3300"/>
                </a:solidFill>
                <a:latin typeface="Arial"/>
              </a:rPr>
              <a:t>Государственный долг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Государственный долг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– это сумма задолженности государства внешним и внутренним кредитор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ефицит бюджета и величина государственного долга – важнейшие показатели состояния экономи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3300"/>
                </a:solidFill>
                <a:latin typeface="Arial"/>
              </a:rPr>
              <a:t>Нужна ли рынку помощь государств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CE377-4A45-4FEF-A2FA-DACDDF15B22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DFE2D-8D3A-4664-B810-4C1639CC6EA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3300"/>
                </a:solidFill>
                <a:latin typeface="Arial"/>
              </a:rPr>
              <a:t>Нужна ли рынку помощь государства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Государственное регулирование рыночной экономики проявляется в виде поддержки предпринимательств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Помощь предпринимательству имеет такие формы, как льготное налогооблажение в первые годы работы фирм, упрощение правил их регистрации, предоставление субсидий предприятиям малого бизнес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Приоритет в рыночной экономике принадлежит косвенным методам государственного воздействия, не разрушающим систему рыночных отношений и не противоречащим и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4454E-33FB-4144-8B3A-2AAFDA50702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ff00"/>
                </a:solidFill>
                <a:latin typeface="Arial"/>
              </a:rPr>
              <a:t>Экономическая политика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Экономическая политика государства представляет собой процесс реализации его экономических функций путем разнообразных государственных мер воздействия на экономические процессы для достижения определенных цел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5DE84-4CA4-42C9-9A85-0D5ABA97C59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Цели государ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Цели государ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06946-961D-4182-BB03-8E0956FB670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и экономической полит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3F2D9-762F-48C6-90B5-490E05137C7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00"/>
                </a:solidFill>
                <a:latin typeface="Arial"/>
              </a:rPr>
              <a:t>Основные направления </a:t>
            </a:r>
            <a:br>
              <a:rPr sz="1200"/>
            </a:br>
            <a:r>
              <a:rPr b="1" lang="ru-RU" sz="1200" spc="-1" strike="noStrike">
                <a:solidFill>
                  <a:srgbClr val="003300"/>
                </a:solidFill>
                <a:latin typeface="Arial"/>
              </a:rPr>
              <a:t>экономической полит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7ED24-EE92-40F5-91B4-767FF89CC5C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00"/>
                </a:solidFill>
                <a:latin typeface="Arial"/>
              </a:rPr>
              <a:t>Экономические функции гос-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11042-2495-4FEF-8674-A1A6A33A74B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00"/>
                </a:solidFill>
                <a:latin typeface="Arial"/>
              </a:rPr>
              <a:t>Экономические функции гос-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D8237-F9E3-409B-93AC-FCDD4E3EB65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E7234-7ACF-4B6C-B3A5-D3B49FB68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08AEB-10B4-4171-ABCF-275594F38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7A231C-1B24-46CA-AF30-362777325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756835-014C-4F50-A869-8BC3A16BF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95D9F2-2B5B-446B-A788-BDA6E1318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3F78B6-DF83-471A-A6E5-B8C404ADE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B46FC0-AAA7-4091-955C-D7791A9D5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4FA7B0-300A-4A60-8310-16DBEBA3E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78BFC1-A189-4BF9-98AE-37083854B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9C84B6-46C1-43EC-ADF0-97C4936DD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EB3A4E-0B7D-45C7-A714-43917278F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FC9A88-5DA8-4612-A7A2-990BE298D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5BFC7-B975-49E4-A7FF-E74A41B01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4E7076-D5BE-467F-BA8B-402B41272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80E0EB-F421-4A54-869B-D33D7B138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D2AA8B-1D0C-43C4-B442-30BA6BDB3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718AE2-06FB-47A7-B509-DDFF50AC2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AD9542-60D1-424E-80E2-5DB47B3E7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2F62EB-58BA-4824-B277-9971E2F79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DC32AD-A5EA-4115-93C2-5EAA5C03D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8142BB-E696-4833-A626-5D30526EE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423FC0-8479-458C-9720-B1DED8A46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605C06-82FB-42B1-9AF2-CB4BE58B9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ED112-DFFB-4625-AA64-785E11547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AC862F-1D5A-42F0-8578-F8AFB06A4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7E3451-63C0-4DF3-ACE5-DBBE3E985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9841BF-5376-41B5-B045-A6230163B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9A7F8F-28FE-4C32-99D7-66F47D895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8EB6BB-6045-43A4-9677-3AC95F708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5A8D48-985D-443C-B253-A6EFB5087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A80F3A-672F-43E4-A761-CB822D755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797946-7311-42B4-886D-6AC760AFC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E5C4DF-BA09-4F90-BBC1-6D2F62F2B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5ADEDC-3FFF-4708-8EB1-680E4BC1F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105F5-217A-4CB7-A33B-7B7D083BB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BDDB1F-68B6-458D-926D-EBB106578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30BFC7-AD5E-4305-A0F6-1E15714FC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8DE502-9E88-488A-9096-B391A0440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535CCC-9F21-48C2-97CA-53434F22C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551680-6180-444E-8643-A221CB0FF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32EDC5-9F7D-437C-9895-D88434FB2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252540-FA21-4CF0-8086-490F9F617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61C8AF-8BC5-4AA4-87E0-1C523C757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F9BCF5-5FD5-43F1-B39D-3A2ABE731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EAE602-E0F2-4589-B58B-DC7B92777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B5DD7-CFCB-4AC7-8F2E-E81D3EDAD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C50860-6B22-4323-BA14-C2B022B1C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C6219C-29EE-4BEF-A858-2349B66B9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FAB311-3C5F-4487-B422-1C56DF382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F1C41E-EC5C-4771-A5D3-ACA9C6E9B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0D253E-D786-49EF-A88A-2B2F61693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5FA98-74DA-4240-B3F3-8A6BAC68B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77D24-2B61-4CD4-941A-1A7CE5854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05E57-4438-4835-B758-12A074F92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6D9EC-5F54-4EB6-B081-9C1F50C71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0C5AF-3FB5-44F5-AED0-49DEA6DF7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51574-F8D2-4F8A-ACEC-FBB358189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AA37A-EFEE-4382-99A2-58EA2EE13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80710-2944-43CD-994F-A662E2D16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F722F-4772-4008-98D0-9073B864B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F4FF8-D24B-46EE-A106-B888A83F5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968EA-8B64-4174-9CDB-7EF540D4B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B46FA5-15FC-47D7-B578-FD287F1E9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CDBE33-3E34-4BF5-9334-1AE0460F3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CD2332-8786-4CB6-83C0-FCF124AB0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A91832-566D-4445-A3FB-91FD05277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6BECF9-BAE7-44E9-A30E-01A846195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4FD72-134B-45DB-A9E3-D53253915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79864C-948E-46D9-AEBE-D61CA2461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0D4636-9FD0-4033-97E5-87149BA1B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78469E-1050-42CD-8A4A-7B42C9CE2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E74293-24C1-4AB2-81E5-E9C9C9DAA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AABA8A-56F9-4AC3-BD3E-05735D289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C13FA7-D89B-43CF-8C91-7F8B37BEB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B2F900-FB41-466D-8E8B-A43C0F0C4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5DF30F-CFA7-4E3C-8CB8-464A048E4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70688E-F9FB-42C9-9F29-06902DE3B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FC5104-4C01-4140-A733-F4439EC4E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34820-0D62-4228-B560-8D011B747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F20094-65B0-410D-85AD-ED5577900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B13BF0-D806-4F29-A0AA-F964BB38D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3C5C4B-BFF2-4B33-9606-122396AD8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0B0248-0CED-43B8-83CF-909E50418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635FC4-1449-44A8-B0D8-2488C0F63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99C678-AA73-48B8-A0B2-743BDB389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894C34-2B99-48AD-A3ED-7D0B7CAA5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919B50-397E-43EC-9156-0985647F0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21202B-5981-4EB4-A48C-5F85E58CE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450226-AB0D-49EE-A4D4-CBBDF3626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1ACB2-0D09-4289-8FF9-5A98670C1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0A1966-CFF2-4AA8-91A7-0A95242E5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A54566-7489-4C57-9892-E69D6294F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FE39EA-681B-480C-8A1F-9526D9CF5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08A469-568A-40B9-9E88-2DF40D78E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8472E8-8793-41AC-BAFE-69F18AB36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2133E5-EF1C-4333-9966-ACC8212A7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7412B1-7B3D-4E40-B381-87413E2E5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ED4B8B-AC2C-4564-9A07-4608CC3A0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26EEFE-1C81-4289-A3E4-6D84F1230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D2377D-A912-43A4-967A-AA803C1C1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B569D-C1F4-46A3-9BE4-38CFAD1AC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AD846A-BB8D-4738-B2B3-06BB91CE4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3F75C4-191E-4C12-8E3E-741E1D62E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C66598-2EBE-4AEA-A640-F27978231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BE9BA0-D509-4D46-8F99-8C1200F2C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F94BEE-D9D6-4B37-8232-53AD26A1E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217A9C-F9B2-413D-A473-0C3EEFC52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251721-26A6-4941-9967-ACA402130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637000-7833-4193-9160-BF255F925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02923E-5AD6-4D99-BB4D-3EDD55258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58DED9-66C1-480E-9476-5D668D9DC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F45BB-D197-4747-B979-457055002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54F2D1-5C29-4C3F-A23F-0FC11BD14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097245-6376-4AF8-863B-246462F1D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391F14-29CE-4D75-A495-B3142045E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F5B7CD-B5DF-48AB-A146-9DE81F5DC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B3AB5F-D628-44FE-913A-D6E405787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6A1909-8299-499D-A684-AD442C463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CD9E8F-7903-4262-A986-86E18E041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352B26-AD5F-4031-852B-520774E39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EB5947-3C03-4ABC-B329-E9410AC4B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FF9702-625D-45A7-9A75-6B9441F45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DE2A4-0D43-4A4B-BA84-69DC07989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DD121B-800E-4528-872E-1ABCA5134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A83993-DCE8-40DB-97B2-0542D8D56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85335E-2C41-45CD-B8EF-C9838E0F1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E21081-FCB7-40CF-8DF2-07AF6E3B7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9273EC-B201-4A1B-98D2-F770CED55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D1ECA4-9FF4-40FC-BC05-5A6A7DAFB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387002-8E64-4642-B97B-DB6A9398B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98C010-E9B6-4F0F-BC44-5AED78ED9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0C4824-1E09-47BA-9EB1-03C92E710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BF5428-4CAC-4601-8D41-8862F1C7E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51514-6127-45F5-A316-0A3584629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592F05-B28D-4F17-817C-B5101E588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E2D231-4B8E-484B-8689-F7CBCF30E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8A7F67-BAA3-49C5-849D-8F978468E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C0DF52-D262-4E16-B9AF-61A7113A4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84C2CD-C2F0-4043-B090-D5D7C21D3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89B76E-928D-49D1-8E04-D480C7C2B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3F8BBA-7A6A-49C7-81EA-87486835D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5694FF-3F2F-40AA-A797-DFB90C419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5CD788-E760-4370-8593-06C16B5BE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85A0F3-1673-414F-B9C8-824F24BC6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862BE-AD38-40D5-8756-4084B3A7FD01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484FD-E4CF-467F-A1E8-74668701DFFB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C6D25-0F04-4BF6-A832-45E93CF04C17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98622-DEF7-4054-ADE1-10506780B71D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CB2F5-3255-4F90-B41D-E73A750A3C64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612A7-CB4D-4EE0-A52C-9FC545E76052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522C0-9016-4C66-8588-23AE3282A0AC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75F5D-D52E-4DB7-8F47-F9F684FF20D9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54291-2A6D-4462-88FD-E171104D9192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2DBCC-AF72-43B3-9255-95C72C59E46B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7F1FA-C553-4B7D-A806-94494C877267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56546-1342-480B-90AF-A1B796ACDADE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250560" y="189000"/>
            <a:ext cx="8675640" cy="5976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dfd293"/>
                </a:solidFill>
                <a:latin typeface="Arial"/>
              </a:rPr>
              <a:t>Экономика </a:t>
            </a:r>
            <a:br>
              <a:rPr sz="9600"/>
            </a:br>
            <a:r>
              <a:rPr b="0" lang="ru-RU" sz="9600" spc="-1" strike="noStrike">
                <a:solidFill>
                  <a:srgbClr val="dfd293"/>
                </a:solidFill>
                <a:latin typeface="Arial"/>
              </a:rPr>
              <a:t>и </a:t>
            </a:r>
            <a:br>
              <a:rPr sz="9600"/>
            </a:br>
            <a:r>
              <a:rPr b="0" lang="ru-RU" sz="9600" spc="-1" strike="noStrike">
                <a:solidFill>
                  <a:srgbClr val="dfd293"/>
                </a:solidFill>
                <a:latin typeface="Arial"/>
              </a:rPr>
              <a:t>государство</a:t>
            </a:r>
            <a:endParaRPr b="0" lang="en-US" sz="96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49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3300"/>
                </a:solidFill>
                <a:latin typeface="Arial"/>
              </a:rPr>
              <a:t>Общественные блага</a:t>
            </a:r>
            <a:endParaRPr b="0" lang="en-US" sz="5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3499920"/>
            <a:ext cx="8229600" cy="3357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Товары и услуги предоставляемые государством его гражданам на равных началах. Для производства общественных благ необходимы значительные финансовые средства, и государство получает их, собирая налог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Line 4"/>
          <p:cNvSpPr/>
          <p:nvPr/>
        </p:nvSpPr>
        <p:spPr>
          <a:xfrm flipH="1">
            <a:off x="1619280" y="1125360"/>
            <a:ext cx="288720" cy="719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Oval 6"/>
          <p:cNvSpPr/>
          <p:nvPr/>
        </p:nvSpPr>
        <p:spPr>
          <a:xfrm>
            <a:off x="0" y="1773360"/>
            <a:ext cx="2556000" cy="863640"/>
          </a:xfrm>
          <a:prstGeom prst="ellipse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борона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Line 7"/>
          <p:cNvSpPr/>
          <p:nvPr/>
        </p:nvSpPr>
        <p:spPr>
          <a:xfrm>
            <a:off x="3924360" y="1125360"/>
            <a:ext cx="0" cy="719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Oval 8"/>
          <p:cNvSpPr/>
          <p:nvPr/>
        </p:nvSpPr>
        <p:spPr>
          <a:xfrm>
            <a:off x="2484360" y="1916280"/>
            <a:ext cx="3024360" cy="1441440"/>
          </a:xfrm>
          <a:prstGeom prst="ellipse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Бесплатное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бразование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Oval 10"/>
          <p:cNvSpPr/>
          <p:nvPr/>
        </p:nvSpPr>
        <p:spPr>
          <a:xfrm>
            <a:off x="5076720" y="1413000"/>
            <a:ext cx="2880000" cy="1008000"/>
          </a:xfrm>
          <a:prstGeom prst="ellipse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оликлиники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Oval 12"/>
          <p:cNvSpPr/>
          <p:nvPr/>
        </p:nvSpPr>
        <p:spPr>
          <a:xfrm>
            <a:off x="7093080" y="2492280"/>
            <a:ext cx="2050920" cy="792360"/>
          </a:xfrm>
          <a:prstGeom prst="ellipse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арки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Line 13"/>
          <p:cNvSpPr/>
          <p:nvPr/>
        </p:nvSpPr>
        <p:spPr>
          <a:xfrm>
            <a:off x="8028000" y="1197000"/>
            <a:ext cx="289080" cy="1295280"/>
          </a:xfrm>
          <a:prstGeom prst="line">
            <a:avLst/>
          </a:prstGeom>
          <a:ln w="9360">
            <a:solidFill>
              <a:srgbClr val="ff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Line 14"/>
          <p:cNvSpPr/>
          <p:nvPr/>
        </p:nvSpPr>
        <p:spPr>
          <a:xfrm>
            <a:off x="6372360" y="1125360"/>
            <a:ext cx="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ff00"/>
                </a:solidFill>
                <a:latin typeface="Arial"/>
              </a:rPr>
              <a:t>Внешние эффекты</a:t>
            </a:r>
            <a:endParaRPr b="0" lang="en-US" sz="66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Внешние эффекты связаны с производством или потреблением благ. Издержки и выгоды для третьих лиц не участвующих в производств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Компенсация внешних эффектов – важная функция государства в рыночной экономик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3300"/>
                </a:solidFill>
                <a:latin typeface="Arial"/>
              </a:rPr>
              <a:t>Внешние эффекты</a:t>
            </a:r>
            <a:endParaRPr b="0" lang="en-US" sz="66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914400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ссмотрим пример на стр. 81 учебни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Line 5"/>
          <p:cNvSpPr/>
          <p:nvPr/>
        </p:nvSpPr>
        <p:spPr>
          <a:xfrm flipH="1">
            <a:off x="2484360" y="1197000"/>
            <a:ext cx="720720" cy="792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Line 7"/>
          <p:cNvSpPr/>
          <p:nvPr/>
        </p:nvSpPr>
        <p:spPr>
          <a:xfrm>
            <a:off x="5796000" y="1197000"/>
            <a:ext cx="649080" cy="792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Rectangle 8"/>
          <p:cNvSpPr/>
          <p:nvPr/>
        </p:nvSpPr>
        <p:spPr>
          <a:xfrm>
            <a:off x="179280" y="2349360"/>
            <a:ext cx="3888000" cy="4508640"/>
          </a:xfrm>
          <a:prstGeom prst="rect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ОТРИЦАТЕЛЬНЫЕ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возникают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в случае появления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издержек у других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лиц, в результате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производства или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потребления товара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Rectangle 9"/>
          <p:cNvSpPr/>
          <p:nvPr/>
        </p:nvSpPr>
        <p:spPr>
          <a:xfrm>
            <a:off x="5003640" y="2349360"/>
            <a:ext cx="3961080" cy="4508640"/>
          </a:xfrm>
          <a:prstGeom prst="rect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ОЛОЖИТЕЛЬНЫЕ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возникают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в случае появления у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этих лиц выгоды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которая не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компенсируется ими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производителям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товара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fd293"/>
                </a:solidFill>
                <a:latin typeface="Arial"/>
              </a:rPr>
              <a:t>Государственная экономическая политика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80" name="Oval 6"/>
          <p:cNvSpPr/>
          <p:nvPr/>
        </p:nvSpPr>
        <p:spPr>
          <a:xfrm>
            <a:off x="179280" y="1916280"/>
            <a:ext cx="4321440" cy="1944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табилизационная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Oval 8"/>
          <p:cNvSpPr/>
          <p:nvPr/>
        </p:nvSpPr>
        <p:spPr>
          <a:xfrm>
            <a:off x="4716360" y="1773360"/>
            <a:ext cx="4427640" cy="2160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труктурная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0" y="4724280"/>
            <a:ext cx="385128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аправлена преимущественно на оздоровление «заболевшей» экономик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Rectangle 10"/>
          <p:cNvSpPr/>
          <p:nvPr/>
        </p:nvSpPr>
        <p:spPr>
          <a:xfrm>
            <a:off x="4859280" y="4653000"/>
            <a:ext cx="428472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правлена на обеспечение её сбалансированного развития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Line 12"/>
          <p:cNvSpPr/>
          <p:nvPr/>
        </p:nvSpPr>
        <p:spPr>
          <a:xfrm flipH="1">
            <a:off x="3779640" y="1484280"/>
            <a:ext cx="647640" cy="649440"/>
          </a:xfrm>
          <a:prstGeom prst="line">
            <a:avLst/>
          </a:prstGeom>
          <a:ln w="9360">
            <a:solidFill>
              <a:srgbClr val="ff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Line 13"/>
          <p:cNvSpPr/>
          <p:nvPr/>
        </p:nvSpPr>
        <p:spPr>
          <a:xfrm>
            <a:off x="4427640" y="1484280"/>
            <a:ext cx="720720" cy="649440"/>
          </a:xfrm>
          <a:prstGeom prst="line">
            <a:avLst/>
          </a:prstGeom>
          <a:ln w="9360">
            <a:solidFill>
              <a:srgbClr val="ff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Line 14"/>
          <p:cNvSpPr/>
          <p:nvPr/>
        </p:nvSpPr>
        <p:spPr>
          <a:xfrm>
            <a:off x="1835280" y="3860640"/>
            <a:ext cx="0" cy="792360"/>
          </a:xfrm>
          <a:prstGeom prst="line">
            <a:avLst/>
          </a:prstGeom>
          <a:ln w="9360">
            <a:solidFill>
              <a:srgbClr val="ff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Line 15"/>
          <p:cNvSpPr/>
          <p:nvPr/>
        </p:nvSpPr>
        <p:spPr>
          <a:xfrm>
            <a:off x="7020000" y="3933720"/>
            <a:ext cx="0" cy="719280"/>
          </a:xfrm>
          <a:prstGeom prst="line">
            <a:avLst/>
          </a:prstGeom>
          <a:ln w="9360">
            <a:solidFill>
              <a:srgbClr val="ff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00"/>
                </a:solidFill>
                <a:latin typeface="Arial"/>
              </a:rPr>
              <a:t>Воздействия государства на рыночный механизм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90" name="Line 4"/>
          <p:cNvSpPr/>
          <p:nvPr/>
        </p:nvSpPr>
        <p:spPr>
          <a:xfrm flipH="1">
            <a:off x="2339640" y="1413000"/>
            <a:ext cx="576360" cy="1222200"/>
          </a:xfrm>
          <a:prstGeom prst="line">
            <a:avLst/>
          </a:prstGeom>
          <a:ln w="3168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Line 6"/>
          <p:cNvSpPr/>
          <p:nvPr/>
        </p:nvSpPr>
        <p:spPr>
          <a:xfrm>
            <a:off x="5940360" y="1413000"/>
            <a:ext cx="719280" cy="1079280"/>
          </a:xfrm>
          <a:prstGeom prst="line">
            <a:avLst/>
          </a:prstGeom>
          <a:ln w="3168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AutoShape 8"/>
          <p:cNvSpPr/>
          <p:nvPr/>
        </p:nvSpPr>
        <p:spPr>
          <a:xfrm>
            <a:off x="0" y="2637000"/>
            <a:ext cx="4572000" cy="1873080"/>
          </a:xfrm>
          <a:prstGeom prst="diamond">
            <a:avLst/>
          </a:prstGeom>
          <a:solidFill>
            <a:srgbClr val="5c1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ямое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регулирование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AutoShape 10"/>
          <p:cNvSpPr/>
          <p:nvPr/>
        </p:nvSpPr>
        <p:spPr>
          <a:xfrm>
            <a:off x="4788000" y="2492280"/>
            <a:ext cx="4356000" cy="2087640"/>
          </a:xfrm>
          <a:prstGeom prst="diamond">
            <a:avLst/>
          </a:prstGeom>
          <a:solidFill>
            <a:srgbClr val="5c1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освенное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регулирование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Line 11"/>
          <p:cNvSpPr/>
          <p:nvPr/>
        </p:nvSpPr>
        <p:spPr>
          <a:xfrm>
            <a:off x="2268360" y="4508640"/>
            <a:ext cx="0" cy="936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Line 12"/>
          <p:cNvSpPr/>
          <p:nvPr/>
        </p:nvSpPr>
        <p:spPr>
          <a:xfrm>
            <a:off x="6732720" y="4581360"/>
            <a:ext cx="0" cy="935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Rectangle 16"/>
          <p:cNvSpPr/>
          <p:nvPr/>
        </p:nvSpPr>
        <p:spPr>
          <a:xfrm flipH="1">
            <a:off x="0" y="5445000"/>
            <a:ext cx="4356000" cy="1268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Arial"/>
              </a:rPr>
              <a:t>Использование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Arial"/>
              </a:rPr>
              <a:t>административных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Arial"/>
              </a:rPr>
              <a:t>методов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Rectangle 18"/>
          <p:cNvSpPr/>
          <p:nvPr/>
        </p:nvSpPr>
        <p:spPr>
          <a:xfrm>
            <a:off x="5148360" y="5516640"/>
            <a:ext cx="3995640" cy="1209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Arial"/>
              </a:rPr>
              <a:t>Использование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Arial"/>
              </a:rPr>
              <a:t>экономических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Arial"/>
              </a:rPr>
              <a:t>методов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fd293"/>
                </a:solidFill>
                <a:latin typeface="Arial"/>
              </a:rPr>
              <a:t>   </a:t>
            </a:r>
            <a:r>
              <a:rPr b="1" lang="ru-RU" sz="4000" spc="-1" strike="noStrike">
                <a:solidFill>
                  <a:srgbClr val="003300"/>
                </a:solidFill>
                <a:latin typeface="Arial"/>
              </a:rPr>
              <a:t>Механизмы регулирования    рыночной экономики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00" name="Oval 13"/>
          <p:cNvSpPr/>
          <p:nvPr/>
        </p:nvSpPr>
        <p:spPr>
          <a:xfrm>
            <a:off x="1763640" y="4724280"/>
            <a:ext cx="5184720" cy="1944720"/>
          </a:xfrm>
          <a:prstGeom prst="ellipse">
            <a:avLst/>
          </a:prstGeom>
          <a:gradFill rotWithShape="0">
            <a:gsLst>
              <a:gs pos="0">
                <a:srgbClr val="767676"/>
              </a:gs>
              <a:gs pos="50000">
                <a:srgbClr val="ffffff"/>
              </a:gs>
              <a:gs pos="100000">
                <a:srgbClr val="76767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Фискальная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олитика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Oval 14"/>
          <p:cNvSpPr/>
          <p:nvPr/>
        </p:nvSpPr>
        <p:spPr>
          <a:xfrm>
            <a:off x="0" y="2205000"/>
            <a:ext cx="4140360" cy="2305080"/>
          </a:xfrm>
          <a:prstGeom prst="ellipse">
            <a:avLst/>
          </a:prstGeom>
          <a:gradFill rotWithShape="0">
            <a:gsLst>
              <a:gs pos="0">
                <a:srgbClr val="767676"/>
              </a:gs>
              <a:gs pos="50000">
                <a:srgbClr val="ffffff"/>
              </a:gs>
              <a:gs pos="100000">
                <a:srgbClr val="76767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Монетарная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олитика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Oval 15"/>
          <p:cNvSpPr/>
          <p:nvPr/>
        </p:nvSpPr>
        <p:spPr>
          <a:xfrm>
            <a:off x="4932360" y="2133720"/>
            <a:ext cx="4211640" cy="2305080"/>
          </a:xfrm>
          <a:prstGeom prst="ellipse">
            <a:avLst/>
          </a:prstGeom>
          <a:gradFill rotWithShape="0">
            <a:gsLst>
              <a:gs pos="0">
                <a:srgbClr val="767676"/>
              </a:gs>
              <a:gs pos="50000">
                <a:srgbClr val="ffffff"/>
              </a:gs>
              <a:gs pos="100000">
                <a:srgbClr val="76767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равовое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регулирование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Line 10"/>
          <p:cNvSpPr/>
          <p:nvPr/>
        </p:nvSpPr>
        <p:spPr>
          <a:xfrm flipH="1">
            <a:off x="3419640" y="1484280"/>
            <a:ext cx="1008000" cy="936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Line 11"/>
          <p:cNvSpPr/>
          <p:nvPr/>
        </p:nvSpPr>
        <p:spPr>
          <a:xfrm>
            <a:off x="4427640" y="1413000"/>
            <a:ext cx="1008000" cy="1152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Line 12"/>
          <p:cNvSpPr/>
          <p:nvPr/>
        </p:nvSpPr>
        <p:spPr>
          <a:xfrm>
            <a:off x="4427640" y="1484280"/>
            <a:ext cx="0" cy="3168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003300"/>
                </a:solidFill>
                <a:uFillTx/>
                <a:latin typeface="Arial"/>
              </a:rPr>
              <a:t>Позиция</a:t>
            </a:r>
            <a:r>
              <a:rPr b="1" lang="ru-RU" sz="4800" spc="-1" strike="noStrike" u="sng">
                <a:solidFill>
                  <a:srgbClr val="00ff00"/>
                </a:solidFill>
                <a:uFillTx/>
                <a:latin typeface="Arial"/>
              </a:rPr>
              <a:t> </a:t>
            </a:r>
            <a:r>
              <a:rPr b="1" lang="ru-RU" sz="4800" spc="-1" strike="noStrike" u="sng">
                <a:solidFill>
                  <a:srgbClr val="003300"/>
                </a:solidFill>
                <a:uFillTx/>
                <a:latin typeface="Arial"/>
              </a:rPr>
              <a:t>монетаристов:</a:t>
            </a:r>
            <a:endParaRPr b="0" lang="en-US" sz="48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Arial"/>
              </a:rPr>
              <a:t>Как можно больше освободить экономику от опеки государства, сократить налоги и государственные расходы, давая возможность рыночному механизму самому обеспечивать устойчивую экономическую систему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3300"/>
                </a:solidFill>
                <a:uFillTx/>
                <a:latin typeface="Arial"/>
              </a:rPr>
              <a:t>Позиция кейнсианского направления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Представители данного направления считают, что один только рыночный механизм не в состоянии решать многообразные проблемы в экономике. Кейнс пришел к выводу, что только активная финансовая политика государства, стимулирующая спрос, способна справиться с массовой безработицей. Для удовлетворения современных экономических потребностей общества необходимы и неизбежны правительственные мер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00"/>
                </a:solidFill>
                <a:latin typeface="Arial"/>
              </a:rPr>
              <a:t>Денежно-кредитная (монетарная) политика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Монетарная политика означает контроль над денежной массой в экономике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Её цель – поддержка стабильного развития в экономике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AutoShape 6"/>
          <p:cNvSpPr/>
          <p:nvPr/>
        </p:nvSpPr>
        <p:spPr>
          <a:xfrm>
            <a:off x="4572000" y="3789360"/>
            <a:ext cx="71280" cy="863640"/>
          </a:xfrm>
          <a:prstGeom prst="downArrow">
            <a:avLst>
              <a:gd name="adj1" fmla="val 50000"/>
              <a:gd name="adj2" fmla="val 302904"/>
            </a:avLst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AutoShape 7"/>
          <p:cNvSpPr/>
          <p:nvPr/>
        </p:nvSpPr>
        <p:spPr>
          <a:xfrm>
            <a:off x="4067280" y="3357720"/>
            <a:ext cx="990360" cy="1439640"/>
          </a:xfrm>
          <a:prstGeom prst="downArrow">
            <a:avLst>
              <a:gd name="adj1" fmla="val 50000"/>
              <a:gd name="adj2" fmla="val 36341"/>
            </a:avLst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fd293"/>
                </a:solidFill>
                <a:latin typeface="Arial"/>
              </a:rPr>
              <a:t>       </a:t>
            </a:r>
            <a:r>
              <a:rPr b="0" lang="ru-RU" sz="4400" spc="-1" strike="noStrike">
                <a:solidFill>
                  <a:srgbClr val="dfd293"/>
                </a:solidFill>
                <a:latin typeface="Arial"/>
              </a:rPr>
              <a:t>Банки            кредиты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19" name="AutoShape 5"/>
          <p:cNvSpPr/>
          <p:nvPr/>
        </p:nvSpPr>
        <p:spPr>
          <a:xfrm>
            <a:off x="3635280" y="765000"/>
            <a:ext cx="1008000" cy="289080"/>
          </a:xfrm>
          <a:prstGeom prst="rightArrow">
            <a:avLst>
              <a:gd name="adj1" fmla="val 50000"/>
              <a:gd name="adj2" fmla="val 87173"/>
            </a:avLst>
          </a:prstGeom>
          <a:solidFill>
            <a:srgbClr val="ffffff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Line 6"/>
          <p:cNvSpPr/>
          <p:nvPr/>
        </p:nvSpPr>
        <p:spPr>
          <a:xfrm flipH="1">
            <a:off x="1115640" y="1197000"/>
            <a:ext cx="576360" cy="1512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Line 8"/>
          <p:cNvSpPr/>
          <p:nvPr/>
        </p:nvSpPr>
        <p:spPr>
          <a:xfrm>
            <a:off x="7093080" y="1197000"/>
            <a:ext cx="576000" cy="1440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Line 9"/>
          <p:cNvSpPr/>
          <p:nvPr/>
        </p:nvSpPr>
        <p:spPr>
          <a:xfrm>
            <a:off x="4716360" y="1268280"/>
            <a:ext cx="0" cy="1511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Text Box 10"/>
          <p:cNvSpPr/>
          <p:nvPr/>
        </p:nvSpPr>
        <p:spPr>
          <a:xfrm>
            <a:off x="179280" y="2781360"/>
            <a:ext cx="2808360" cy="33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00"/>
                </a:solidFill>
                <a:latin typeface="Arial"/>
              </a:rPr>
              <a:t>Учетная ставка процента</a:t>
            </a: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 – норма процента, под который центральный банк дает кредиты коммерческим банкам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Text Box 11"/>
          <p:cNvSpPr/>
          <p:nvPr/>
        </p:nvSpPr>
        <p:spPr>
          <a:xfrm>
            <a:off x="3564000" y="2852640"/>
            <a:ext cx="2303280" cy="3751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00"/>
                </a:solidFill>
                <a:latin typeface="Arial"/>
              </a:rPr>
              <a:t>Инфляция</a:t>
            </a: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возникает, когда объем денежной массы превышает количество производимых товаров и услуг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Text Box 12"/>
          <p:cNvSpPr/>
          <p:nvPr/>
        </p:nvSpPr>
        <p:spPr>
          <a:xfrm>
            <a:off x="6443640" y="2781360"/>
            <a:ext cx="2484360" cy="344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00"/>
                </a:solidFill>
                <a:latin typeface="Arial"/>
              </a:rPr>
              <a:t>Норма обязательных резервов</a:t>
            </a:r>
            <a:r>
              <a:rPr b="1" lang="ru-RU" sz="2000" spc="-1" strike="noStrike">
                <a:solidFill>
                  <a:srgbClr val="003300"/>
                </a:solidFill>
                <a:latin typeface="Arial"/>
              </a:rPr>
              <a:t> – оказание влияния на возможность банков предоставлять кредиты, изменяя тем самым общее количество денег в обороте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/>
          </p:nvPr>
        </p:nvSpPr>
        <p:spPr>
          <a:xfrm>
            <a:off x="468360" y="259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Экономические функции государства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Какой инструмент регулирования экономики выбрать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Денежно-кредитная (монетарная) политика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Бюджетно-налоговая (фиксальная) политика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Нужна ли рынку помощь государства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07280" cy="1430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3300"/>
                </a:solidFill>
                <a:latin typeface="Arial"/>
              </a:rPr>
              <a:t>Бюджетно-налоговая (фискальная) политика</a:t>
            </a:r>
            <a:endParaRPr b="0" lang="en-US" sz="48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53964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еятельность государства в области налогооблажения, регулирования государственных расходов и государственного бюджета называется </a:t>
            </a:r>
            <a:r>
              <a:rPr b="1" i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ФИСКАЛЬНОЙ ПОЛИТИКО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Text Box 6"/>
          <p:cNvSpPr/>
          <p:nvPr/>
        </p:nvSpPr>
        <p:spPr>
          <a:xfrm>
            <a:off x="179280" y="5589720"/>
            <a:ext cx="4537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Государственный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бюджет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Text Box 7"/>
          <p:cNvSpPr/>
          <p:nvPr/>
        </p:nvSpPr>
        <p:spPr>
          <a:xfrm>
            <a:off x="6878520" y="5972040"/>
            <a:ext cx="185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Налоги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Line 9"/>
          <p:cNvSpPr/>
          <p:nvPr/>
        </p:nvSpPr>
        <p:spPr>
          <a:xfrm flipH="1">
            <a:off x="2987280" y="4581360"/>
            <a:ext cx="1655640" cy="935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Line 10"/>
          <p:cNvSpPr/>
          <p:nvPr/>
        </p:nvSpPr>
        <p:spPr>
          <a:xfrm>
            <a:off x="4643280" y="4581360"/>
            <a:ext cx="2449800" cy="129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3300"/>
                </a:solidFill>
                <a:latin typeface="Arial"/>
              </a:rPr>
              <a:t>Государственный бюджет</a:t>
            </a:r>
            <a:endParaRPr b="0" lang="en-US" sz="48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91440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Государственный бюджет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i="1" lang="ru-RU" sz="3600" spc="-1" strike="noStrike">
                <a:solidFill>
                  <a:srgbClr val="ffffff"/>
                </a:solidFill>
                <a:latin typeface="Arial"/>
              </a:rPr>
              <a:t>это сводный план доходов государства и использование полученных средств на покрытие всех видов государственных расходов. Бюджет утверждается парламентом страны, а правительство отвечает за его исполнение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Главные источники доходов государства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i="1" lang="ru-RU" sz="3600" spc="-1" strike="noStrike">
                <a:solidFill>
                  <a:srgbClr val="ffffff"/>
                </a:solidFill>
                <a:latin typeface="Arial"/>
              </a:rPr>
              <a:t>налоговые доходы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ff00"/>
                </a:solidFill>
                <a:latin typeface="Arial"/>
              </a:rPr>
              <a:t>                  </a:t>
            </a:r>
            <a:r>
              <a:rPr b="1" lang="ru-RU" sz="6600" spc="-1" strike="noStrike">
                <a:solidFill>
                  <a:srgbClr val="003300"/>
                </a:solidFill>
                <a:latin typeface="Arial"/>
              </a:rPr>
              <a:t>Налоги</a:t>
            </a:r>
            <a:r>
              <a:rPr b="1" lang="ru-RU" sz="4400" spc="-1" strike="noStrike">
                <a:solidFill>
                  <a:srgbClr val="00ff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68000" y="1341360"/>
            <a:ext cx="82184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алоги являются основным источником доходов государственного бюджет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Если экономика страдает от высокой инфляции, государство увеличивает налоги, снижая тем самым экономическую активность фирм и населени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едобор налогов приводит к </a:t>
            </a:r>
            <a:r>
              <a:rPr b="1" i="1" lang="ru-RU" sz="3200" spc="-1" strike="noStrike">
                <a:solidFill>
                  <a:srgbClr val="ffff00"/>
                </a:solidFill>
                <a:latin typeface="Arial"/>
              </a:rPr>
              <a:t>дефициту бюджета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– одному из негативных экономических показателе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3300"/>
                </a:solidFill>
                <a:latin typeface="Arial"/>
              </a:rPr>
              <a:t>Государственный долг</a:t>
            </a:r>
            <a:endParaRPr b="0" lang="en-US" sz="5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0" y="3212640"/>
            <a:ext cx="9144000" cy="39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Государственный долг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– это сумма задолженности государства внешним и внутренним кредитора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ефицит бюджета и величина государственного долга – важнейшие показатели состояния экономик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Line 4"/>
          <p:cNvSpPr/>
          <p:nvPr/>
        </p:nvSpPr>
        <p:spPr>
          <a:xfrm flipH="1">
            <a:off x="2700000" y="1125360"/>
            <a:ext cx="1081080" cy="863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Line 5"/>
          <p:cNvSpPr/>
          <p:nvPr/>
        </p:nvSpPr>
        <p:spPr>
          <a:xfrm>
            <a:off x="5219640" y="1197000"/>
            <a:ext cx="1008000" cy="79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95280" y="2060640"/>
            <a:ext cx="3529080" cy="1008000"/>
          </a:xfrm>
          <a:prstGeom prst="rect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внешний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Rectangle 7"/>
          <p:cNvSpPr/>
          <p:nvPr/>
        </p:nvSpPr>
        <p:spPr>
          <a:xfrm>
            <a:off x="4284720" y="2060640"/>
            <a:ext cx="4319640" cy="1008000"/>
          </a:xfrm>
          <a:prstGeom prst="rect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внутренний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24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003300"/>
                </a:solidFill>
                <a:latin typeface="Arial"/>
              </a:rPr>
              <a:t>Нужна ли рынку помощь государства?</a:t>
            </a:r>
            <a:endParaRPr b="0" lang="en-US" sz="7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4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3300"/>
                </a:solidFill>
                <a:latin typeface="Arial"/>
              </a:rPr>
              <a:t>Нужна ли рынку помощь государства?</a:t>
            </a:r>
            <a:endParaRPr b="0" lang="en-US" sz="36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518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00"/>
                </a:solidFill>
                <a:latin typeface="Arial"/>
              </a:rPr>
              <a:t>Государственное регулирование рыночной экономики проявляется в виде поддержки предпринимательства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00"/>
                </a:solidFill>
                <a:latin typeface="Arial"/>
              </a:rPr>
              <a:t>Помощь предпринимательству имеет такие формы, как льготное налогооблажение в первые годы работы фирм, упрощение правил их регистрации, предоставление субсидий предприятиям малого бизнеса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00"/>
                </a:solidFill>
                <a:latin typeface="Arial"/>
              </a:rPr>
              <a:t>Приоритет в рыночной экономике принадлежит косвенным методам государственного воздействия, не разрушающим систему рыночных отношений и не противоречащим и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324000" y="404640"/>
            <a:ext cx="84960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ff00"/>
                </a:solidFill>
                <a:latin typeface="Arial"/>
              </a:rPr>
              <a:t>Экономическая политика</a:t>
            </a:r>
            <a:br>
              <a:rPr sz="5400"/>
            </a:br>
            <a:endParaRPr b="0" lang="en-US" sz="5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229600" cy="5661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Экономическая политика государства представляет собой процесс реализации его экономических функций путем разнообразных государственных мер воздействия на экономические процессы для достижения определенных целей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Цели государства</a:t>
            </a:r>
            <a:endParaRPr b="0" lang="en-US" sz="6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323640" y="1773000"/>
            <a:ext cx="85690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Line 7"/>
          <p:cNvSpPr/>
          <p:nvPr/>
        </p:nvSpPr>
        <p:spPr>
          <a:xfrm>
            <a:off x="4572000" y="148428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Line 13"/>
          <p:cNvSpPr/>
          <p:nvPr/>
        </p:nvSpPr>
        <p:spPr>
          <a:xfrm flipV="1">
            <a:off x="4572000" y="1413000"/>
            <a:ext cx="0" cy="71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Rectangle 13"/>
          <p:cNvSpPr/>
          <p:nvPr/>
        </p:nvSpPr>
        <p:spPr>
          <a:xfrm>
            <a:off x="0" y="1916280"/>
            <a:ext cx="9144000" cy="720720"/>
          </a:xfrm>
          <a:prstGeom prst="rect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1.Обеспечить экономический рост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Rectangle 14"/>
          <p:cNvSpPr/>
          <p:nvPr/>
        </p:nvSpPr>
        <p:spPr>
          <a:xfrm>
            <a:off x="0" y="2852640"/>
            <a:ext cx="9144000" cy="936720"/>
          </a:xfrm>
          <a:prstGeom prst="rect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2.Создать условия экономической свободы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Rectangle 15"/>
          <p:cNvSpPr/>
          <p:nvPr/>
        </p:nvSpPr>
        <p:spPr>
          <a:xfrm>
            <a:off x="0" y="4221000"/>
            <a:ext cx="9144000" cy="914400"/>
          </a:xfrm>
          <a:prstGeom prst="rect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3.Обеспечивать экономическую безопасность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Rectangle 16"/>
          <p:cNvSpPr/>
          <p:nvPr/>
        </p:nvSpPr>
        <p:spPr>
          <a:xfrm>
            <a:off x="0" y="5589720"/>
            <a:ext cx="9144000" cy="914400"/>
          </a:xfrm>
          <a:prstGeom prst="rect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4. Обеспечивать экономическую эффективность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Цели государства</a:t>
            </a:r>
            <a:endParaRPr b="0" lang="en-US" sz="6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Rectangle 4"/>
          <p:cNvSpPr/>
          <p:nvPr/>
        </p:nvSpPr>
        <p:spPr>
          <a:xfrm>
            <a:off x="0" y="2205000"/>
            <a:ext cx="9144000" cy="1562040"/>
          </a:xfrm>
          <a:prstGeom prst="rect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5.Заботится об обеспечении полной занятости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(каждый, кто может и хочет работать,должен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меть работу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0" y="4724280"/>
            <a:ext cx="9144000" cy="1584360"/>
          </a:xfrm>
          <a:prstGeom prst="rect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6. Оказывать помощь тем, кто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не может себя обеспечить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Цели экономической политики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Oval 4"/>
          <p:cNvSpPr/>
          <p:nvPr/>
        </p:nvSpPr>
        <p:spPr>
          <a:xfrm>
            <a:off x="539640" y="1773360"/>
            <a:ext cx="3961080" cy="4176720"/>
          </a:xfrm>
          <a:prstGeom prst="ellipse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ерспективные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Формирование социально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риентированного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ыночного варианта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экономики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Oval 5"/>
          <p:cNvSpPr/>
          <p:nvPr/>
        </p:nvSpPr>
        <p:spPr>
          <a:xfrm>
            <a:off x="4716360" y="1773360"/>
            <a:ext cx="3888000" cy="4248000"/>
          </a:xfrm>
          <a:prstGeom prst="ellipse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екущие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ешение проблем гос. долга,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борьба с бедностью,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нижение налогов на бизнес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Line 6"/>
          <p:cNvSpPr/>
          <p:nvPr/>
        </p:nvSpPr>
        <p:spPr>
          <a:xfrm flipH="1">
            <a:off x="3708360" y="1197000"/>
            <a:ext cx="1008000" cy="936720"/>
          </a:xfrm>
          <a:prstGeom prst="line">
            <a:avLst/>
          </a:prstGeom>
          <a:ln w="9360">
            <a:solidFill>
              <a:srgbClr val="ff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Line 7"/>
          <p:cNvSpPr/>
          <p:nvPr/>
        </p:nvSpPr>
        <p:spPr>
          <a:xfrm>
            <a:off x="4716360" y="1197000"/>
            <a:ext cx="935280" cy="863640"/>
          </a:xfrm>
          <a:prstGeom prst="line">
            <a:avLst/>
          </a:prstGeom>
          <a:ln w="9360">
            <a:solidFill>
              <a:srgbClr val="ff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00"/>
                </a:solidFill>
                <a:latin typeface="Arial"/>
              </a:rPr>
              <a:t>Основные направления </a:t>
            </a:r>
            <a:br>
              <a:rPr sz="4000"/>
            </a:br>
            <a:r>
              <a:rPr b="1" lang="ru-RU" sz="4000" spc="-1" strike="noStrike">
                <a:solidFill>
                  <a:srgbClr val="003300"/>
                </a:solidFill>
                <a:latin typeface="Arial"/>
              </a:rPr>
              <a:t>экономической политики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Oval 4"/>
          <p:cNvSpPr/>
          <p:nvPr/>
        </p:nvSpPr>
        <p:spPr>
          <a:xfrm>
            <a:off x="0" y="2133720"/>
            <a:ext cx="3492360" cy="914400"/>
          </a:xfrm>
          <a:prstGeom prst="ellipse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Финансовая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Oval 5"/>
          <p:cNvSpPr/>
          <p:nvPr/>
        </p:nvSpPr>
        <p:spPr>
          <a:xfrm>
            <a:off x="2340000" y="5516640"/>
            <a:ext cx="5146560" cy="1152360"/>
          </a:xfrm>
          <a:prstGeom prst="ellipse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Инвестиционная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Oval 6"/>
          <p:cNvSpPr/>
          <p:nvPr/>
        </p:nvSpPr>
        <p:spPr>
          <a:xfrm>
            <a:off x="5003640" y="1916280"/>
            <a:ext cx="4140360" cy="936360"/>
          </a:xfrm>
          <a:prstGeom prst="ellipse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Аграрная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Oval 8"/>
          <p:cNvSpPr/>
          <p:nvPr/>
        </p:nvSpPr>
        <p:spPr>
          <a:xfrm>
            <a:off x="4859280" y="3500280"/>
            <a:ext cx="4284720" cy="1657440"/>
          </a:xfrm>
          <a:prstGeom prst="ellipse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Внешне-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экономическая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Oval 9"/>
          <p:cNvSpPr/>
          <p:nvPr/>
        </p:nvSpPr>
        <p:spPr>
          <a:xfrm>
            <a:off x="0" y="3573360"/>
            <a:ext cx="4140360" cy="1490760"/>
          </a:xfrm>
          <a:prstGeom prst="ellipse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Научно-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техническя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Line 10"/>
          <p:cNvSpPr/>
          <p:nvPr/>
        </p:nvSpPr>
        <p:spPr>
          <a:xfrm flipH="1">
            <a:off x="3492000" y="1628640"/>
            <a:ext cx="863640" cy="936720"/>
          </a:xfrm>
          <a:prstGeom prst="line">
            <a:avLst/>
          </a:prstGeom>
          <a:ln w="9360">
            <a:solidFill>
              <a:srgbClr val="ff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Line 11"/>
          <p:cNvSpPr/>
          <p:nvPr/>
        </p:nvSpPr>
        <p:spPr>
          <a:xfrm>
            <a:off x="4356000" y="1557360"/>
            <a:ext cx="720720" cy="79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Line 12"/>
          <p:cNvSpPr/>
          <p:nvPr/>
        </p:nvSpPr>
        <p:spPr>
          <a:xfrm>
            <a:off x="4356000" y="1557360"/>
            <a:ext cx="71640" cy="3959280"/>
          </a:xfrm>
          <a:prstGeom prst="line">
            <a:avLst/>
          </a:prstGeom>
          <a:ln w="9360">
            <a:solidFill>
              <a:srgbClr val="ff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Line 13"/>
          <p:cNvSpPr/>
          <p:nvPr/>
        </p:nvSpPr>
        <p:spPr>
          <a:xfrm flipH="1">
            <a:off x="3492000" y="1628640"/>
            <a:ext cx="863640" cy="2087640"/>
          </a:xfrm>
          <a:prstGeom prst="line">
            <a:avLst/>
          </a:prstGeom>
          <a:ln w="9360">
            <a:solidFill>
              <a:srgbClr val="ff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Line 14"/>
          <p:cNvSpPr/>
          <p:nvPr/>
        </p:nvSpPr>
        <p:spPr>
          <a:xfrm>
            <a:off x="4356000" y="1628640"/>
            <a:ext cx="936720" cy="216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00"/>
                </a:solidFill>
                <a:latin typeface="Arial"/>
              </a:rPr>
              <a:t>Экономические функции гос-ва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Oval 4"/>
          <p:cNvSpPr/>
          <p:nvPr/>
        </p:nvSpPr>
        <p:spPr>
          <a:xfrm>
            <a:off x="0" y="1844640"/>
            <a:ext cx="3851280" cy="1849320"/>
          </a:xfrm>
          <a:prstGeom prst="ellipse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табилизация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экономики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Oval 5"/>
          <p:cNvSpPr/>
          <p:nvPr/>
        </p:nvSpPr>
        <p:spPr>
          <a:xfrm>
            <a:off x="4716360" y="1628640"/>
            <a:ext cx="4427640" cy="2087640"/>
          </a:xfrm>
          <a:prstGeom prst="ellipse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ерераспределение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оходов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Oval 6"/>
          <p:cNvSpPr/>
          <p:nvPr/>
        </p:nvSpPr>
        <p:spPr>
          <a:xfrm>
            <a:off x="0" y="4076640"/>
            <a:ext cx="8964720" cy="2016360"/>
          </a:xfrm>
          <a:prstGeom prst="ellipse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Регулирование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енежного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бращения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Line 8"/>
          <p:cNvSpPr/>
          <p:nvPr/>
        </p:nvSpPr>
        <p:spPr>
          <a:xfrm flipH="1">
            <a:off x="3708360" y="1557360"/>
            <a:ext cx="503280" cy="863640"/>
          </a:xfrm>
          <a:prstGeom prst="line">
            <a:avLst/>
          </a:prstGeom>
          <a:ln w="9360">
            <a:solidFill>
              <a:srgbClr val="ff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Line 9"/>
          <p:cNvSpPr/>
          <p:nvPr/>
        </p:nvSpPr>
        <p:spPr>
          <a:xfrm>
            <a:off x="4211640" y="1628640"/>
            <a:ext cx="57636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Line 10"/>
          <p:cNvSpPr/>
          <p:nvPr/>
        </p:nvSpPr>
        <p:spPr>
          <a:xfrm flipH="1">
            <a:off x="4140360" y="1628640"/>
            <a:ext cx="71280" cy="2448000"/>
          </a:xfrm>
          <a:prstGeom prst="line">
            <a:avLst/>
          </a:prstGeom>
          <a:ln w="9360">
            <a:solidFill>
              <a:srgbClr val="ff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00"/>
                </a:solidFill>
                <a:latin typeface="Arial"/>
              </a:rPr>
              <a:t>Экономические функции гос-ва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964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Oval 4"/>
          <p:cNvSpPr/>
          <p:nvPr/>
        </p:nvSpPr>
        <p:spPr>
          <a:xfrm>
            <a:off x="179280" y="1773360"/>
            <a:ext cx="4105440" cy="2447640"/>
          </a:xfrm>
          <a:prstGeom prst="ellipse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роизводство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бщественных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благ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Oval 5"/>
          <p:cNvSpPr/>
          <p:nvPr/>
        </p:nvSpPr>
        <p:spPr>
          <a:xfrm>
            <a:off x="4859280" y="1700280"/>
            <a:ext cx="4284720" cy="2305080"/>
          </a:xfrm>
          <a:prstGeom prst="ellipse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онтроль над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нещнеэкономической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деятельностью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Oval 6"/>
          <p:cNvSpPr/>
          <p:nvPr/>
        </p:nvSpPr>
        <p:spPr>
          <a:xfrm>
            <a:off x="826920" y="4149720"/>
            <a:ext cx="7705800" cy="2708280"/>
          </a:xfrm>
          <a:prstGeom prst="ellipse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Регулирование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тношений между работодателями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 наемными работниками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Line 7"/>
          <p:cNvSpPr/>
          <p:nvPr/>
        </p:nvSpPr>
        <p:spPr>
          <a:xfrm flipH="1">
            <a:off x="3924000" y="1484280"/>
            <a:ext cx="576360" cy="792360"/>
          </a:xfrm>
          <a:prstGeom prst="line">
            <a:avLst/>
          </a:prstGeom>
          <a:ln w="9360">
            <a:solidFill>
              <a:srgbClr val="ff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Line 8"/>
          <p:cNvSpPr/>
          <p:nvPr/>
        </p:nvSpPr>
        <p:spPr>
          <a:xfrm>
            <a:off x="4500720" y="1484280"/>
            <a:ext cx="647640" cy="792360"/>
          </a:xfrm>
          <a:prstGeom prst="line">
            <a:avLst/>
          </a:prstGeom>
          <a:ln w="9360">
            <a:solidFill>
              <a:srgbClr val="ff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Line 9"/>
          <p:cNvSpPr/>
          <p:nvPr/>
        </p:nvSpPr>
        <p:spPr>
          <a:xfrm>
            <a:off x="4500720" y="1484280"/>
            <a:ext cx="0" cy="2665440"/>
          </a:xfrm>
          <a:prstGeom prst="line">
            <a:avLst/>
          </a:prstGeom>
          <a:ln w="9360">
            <a:solidFill>
              <a:srgbClr val="ff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4T18:08:11Z</dcterms:created>
  <dc:creator>Acer</dc:creator>
  <dc:description/>
  <dc:language>en-US</dc:language>
  <cp:lastModifiedBy>LEGION</cp:lastModifiedBy>
  <dcterms:modified xsi:type="dcterms:W3CDTF">2015-01-05T09:59:32Z</dcterms:modified>
  <cp:revision>26</cp:revision>
  <dc:subject/>
  <dc:title>Слайд 1</dc:title>
</cp:coreProperties>
</file>