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4520-27C3-4843-A6E6-E6662D8BF0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3A94-C78C-41C5-8A5F-68851646C0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898F-487C-4F01-8298-9162E0729C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Общественные бла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Товары и услуги предоставляемые государством его гражданам на равных началах. Для производства общественных благ необходимы значительные финансовые средства, и государство получает их, собирая нало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4331-35F8-406B-9102-47D9F12F39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Внешние эфф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Внешние эффекты связаны с производством или потреблением благ. Издержки и выгоды для третьих лиц не участвующих в производ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Компенсация внешних эффектов – важная функция государства в рыночной эконом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5C32-4F29-4C58-9485-ABDEDFD0CA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нешние эфф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пример на стр. 81 учеб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796F-3537-4D4E-945E-602FD94276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ая экономическая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правлена преимущественно на оздоровление «заболевшей»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C827-3226-454E-AAC0-F2AF775A22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Воздействия государства на рыночный меха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610E-6482-4B6D-9C33-EA2E663411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Механизмы регулирования   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39AF-03FC-4F8F-B457-E3A1620DE4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00"/>
                </a:solidFill>
                <a:uFillTx/>
                <a:latin typeface="Arial"/>
              </a:rPr>
              <a:t>Позиция</a:t>
            </a:r>
            <a:r>
              <a:rPr b="1" lang="ru-RU" sz="16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3300"/>
                </a:solidFill>
                <a:uFillTx/>
                <a:latin typeface="Arial"/>
              </a:rPr>
              <a:t>монетарист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к можно больше освободить экономику от опеки государства, сократить налоги и государственные расходы, давая возможность рыночному механизму самому обеспечивать устойчивую экономическую сист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7259-87CA-4AFE-8016-565AA94A2C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3300"/>
                </a:solidFill>
                <a:uFillTx/>
                <a:latin typeface="Arial"/>
              </a:rPr>
              <a:t>Позиция кейнсианского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едставители данного направления считают, что один только рыночный механизм не в состоянии решать многообразные проблемы в экономике. Кейнс пришел к выводу, что только активная финансовая политика государства, стимулирующая спрос, способна справиться с массовой безработицей. Для удовлетворения современных экономических потребностей общества необходимы и неизбежны правительственные м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E124-3B4E-4970-AD64-E1BE6197AD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Денежно-кредитная (монетарная) по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онетарная политика означает контроль над денежной массой в экономик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ё цель – поддержка стабильного развития в эконом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D6B0-3CD5-4327-A7F3-51E4D24814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и            кред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40F0-B3D7-433B-8637-A1F1A9EB1E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функции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инструмент регулирования экономики выбр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о-кредитная (монетарная)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о-налоговая (фиксальная)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а ли рынку помощь государ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CD2E-FC4D-418D-A5A2-53D08B4E33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Бюджетно-налоговая (фискальная) поли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государства в области налогооблажения, регулирования государственных расходов и государственного бюджета называется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ФИСКАЛЬНОЙ ПОЛИТИ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B6ED-94FC-4B4A-BC50-024B93F604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Государствен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Государственный бюдже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сводный план доходов государства и использование полученных средств на покрытие всех видов государственных расходов. Бюджет утверждается парламентом страны, а правительство отвечает за его испол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Главные источники доходов государ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логовые до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B213-6381-4E06-AB2C-B3D0DC3F47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Налоги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логи являются основным источником доходов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экономика страдает от высокой инфляции, государство увеличивает налоги, снижая тем самым экономическую активность фирм и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добор налогов приводит к </a:t>
            </a:r>
            <a:r>
              <a:rPr b="1" i="1" lang="ru-RU" sz="1200" spc="-1" strike="noStrike">
                <a:solidFill>
                  <a:srgbClr val="ffff00"/>
                </a:solidFill>
                <a:latin typeface="Arial"/>
              </a:rPr>
              <a:t>дефициту бюдже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одному из негативных экономических показ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AB24-6889-4AD9-BBDD-8BD3257065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Государственный дол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сударственный дол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это сумма задолженности государства внешним и внутренним кредитор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фицит бюджета и величина государственного долга – важнейшие показатели состояния эконом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27CD-76C8-4427-A7F9-39C651311D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0D04-9E91-4BAD-A235-114FFD02CA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осударственное регулирование рыночной экономики проявляется в виде поддержки предприниматель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омощь предпринимательству имеет такие формы, как льготное налогооблажение в первые годы работы фирм, упрощение правил их регистрации, предоставление субсидий предприятиям малого бизне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риоритет в рыночной экономике принадлежит косвенным методам государственного воздействия, не разрушающим систему рыночных отношений и не противоречащим 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C5EF-4B75-467B-A337-EC12EDD754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Arial"/>
              </a:rPr>
              <a:t>Экономическая политик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номическая политика государства представляет собой процесс реализации его экономических функций путем разнообразных государственных мер воздействия на экономические процессы для достижения определенных ц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CED5-7168-46C2-8C8F-FB20337FF0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99BA-8288-4AF0-8032-2301FC68B4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6318-1C26-4F0B-BD86-79F4BF9C01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Основные направления </a:t>
            </a:r>
            <a:br>
              <a:rPr sz="1200"/>
            </a:b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61B6-37E7-4090-85C4-4F96624735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A20E-EBB6-44B2-A822-8933236825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E330-186E-4958-8626-9AEC54FB65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47DE-4B90-41EC-BDA2-C7F055BE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E7E6-CF84-465C-9A06-76C177E6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3EFEA-5ACA-4A35-AAEE-745CC027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6FE04-F1CC-4EC5-94A8-409B8E91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8E610-3BE0-46E9-88B5-6D4F927E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9439B-58DC-4D08-A753-5C6D1472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592F6-5ACB-4043-AD26-57A57276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1EC58-E786-403B-AB73-0A03B071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9A921-C313-4788-9847-A5E8E545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13C2C-08BD-4E84-9A68-CC77C32F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511F0-EF02-4340-8BA9-2AC6D214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3FEFA-9FB7-468C-8D83-F9F670D6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E2D-5184-42FE-BFD7-7E64581D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21614-20AC-4B2A-9C87-6EB0F949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CC095-7D95-4ACC-96E6-78F4EC2F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42ACE-51A2-4681-841D-1CCE7DF7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39B73-E955-40ED-BA11-6E009346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797E1-D2C5-419E-9BE1-25F8F6E1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A9B31-62E3-45ED-95D6-70BD4825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F0984-450E-48E2-90DC-0132BA23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53BEC-80BC-4111-874B-FB020EBF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B8657-AE2D-4942-8222-04F5E2AE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DF5D6-E96E-47D3-93BA-CFD98D47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D89-CDDF-4675-90E3-A19A9AEA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04208-5343-45B7-93FC-BDFAC1EE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86C35-F4AF-446D-9EE4-36C8631B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CC0FA-0A35-43DD-B2AA-6A53ED2D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85D5A-7B00-4CC3-9012-8B0F4C81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6EA07-AF4F-45D0-A09E-4C70CF66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77AFC-15CE-43F8-92AD-47C0EF26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4A06B-4276-4689-A384-0BB0770B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74CFC-35AE-4B2B-B323-F8B4B4E6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4F336-5206-45E6-858A-BE9585B7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33928-735C-42D9-85CC-A20FD406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FE84-1FA8-455A-B2F3-CD5DB484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94E3D-A07F-4633-95A6-77D3F786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3321C-FE31-4E8F-B4E4-037A4FDC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A52DB-BD1E-4241-83FE-134BF39E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C1D18-698D-4B11-915B-1DEF9274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73B44-BA62-4F9D-B35B-798B4F3B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D0D3D-2380-4D49-A3A5-F229FF59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29B65-BB30-41B5-991D-14998020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3CCD1-B243-4E52-BA9C-9A68F4D1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81C74-1FD9-49C0-BAA7-23F1066A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8E8AD-4375-41AD-9047-E06599DC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D405-BAF7-4602-9B3E-C662473F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147134-3A1F-44C9-B431-33BC0FDD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939E0-3A9B-41C8-A788-AD6BDB94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1C384-EFC5-486E-8184-26D90549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A0C35-2569-4985-B8B2-424F5103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A84FD-BC37-4BAC-A262-071A3DFF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F848-1C79-494B-AB13-FD73CD15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1FA0-BAC3-40C1-AFC4-F111581C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2BC4-1102-44D2-AE73-D731A346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9880-0CA0-4909-893A-68363099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0B4C-8B02-4AD8-978A-708BB817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20BA-83B7-481F-A8D2-9C2A89B5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D3D0-E7A3-4672-B962-1C4F7419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95D1-8B77-457E-A748-387C0DF4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197F-1F0C-417E-BF9C-1D0487BC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D5FE-753A-41C7-8A23-E491DE22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1174-A866-4CEB-9DCA-17A03F0F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6B502-94A3-4C56-841F-8ADCC380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750E4-4ECA-4A18-B90B-8EC77CCF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17402-A5CF-481D-9CF3-040B9CF6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2BCD4-A79C-4B96-975E-58AC9FD6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42CAA-72F9-49E5-9E9A-07A15DB8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9770-99B2-4764-A824-EAC5DA83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AB7F4-30EA-49F6-87ED-3D0835A6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FC4BA-9769-41C5-BB4D-A6531ABE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37A2E-6E70-4C55-BD0D-80AA57C1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EF54F-CAEC-4877-B827-C1E7610A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82C07-A274-4DDD-BD83-257E4014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452CC-B350-400E-830B-D562279A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92D4A-962D-4AB8-A9D2-4FB4509C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CEFD1-CEF4-450F-8913-1E04883A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E6F0B-0350-40A1-8B86-8767D2C5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8FC1B-3F4A-4DE0-BD2C-9179A974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C53A-FA71-4418-9457-FB4B7882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D83B3-0CB9-44B4-8371-B893AC4F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A5685-9EA8-496E-8769-65AFD2F0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7C066-691C-4A54-90F0-2EE3B8AD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046C4-04BE-422F-AB93-1D897F61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5AA48-B5B9-4F91-89E1-1CC0C7B4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F446E-0004-4BCB-8205-98E70868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9D610-8351-4502-BC2F-D782506C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BD559-F9D3-410F-957A-10415D97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1CA17-690B-4372-B969-423FDA59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65066-60C9-4DD4-9A18-1EC6CCA1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0E1F-A667-4A54-A245-5429A964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7C9E3-DF21-4FAB-944F-36F65062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69C30-E2CD-4652-8F92-379391D1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B7A9A-F918-4CAD-B4CA-2AD09D49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361B0-51F8-409C-B00B-F177B24D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F46AC-0AF2-452B-89F9-03721664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54027-A25C-4F57-A189-D8529B65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A20E3-637A-4D69-AA21-F963E5CD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D87EB-9565-48CA-84F0-672C2D47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700FB-6E20-4DE0-9694-6807B485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AA4DA-A291-408C-87A8-4F449974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3493-4EE8-4F8A-A4B3-C0F80AD1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83853-907E-406D-B83B-5FD4E0DF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D117C-757E-444B-BE1E-8B255BEFA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1DC33-9A99-4223-91EB-CB699432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E4F35-5686-4F85-A390-810CE267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8D9D0-7CF3-4CC1-9D27-25D88F9A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35048-A17B-422E-A07E-7C32BCBC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EFE87-1DB6-4DDF-9599-1D40EC92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D30AC-3BA1-4CAF-89DB-245E6E20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8CD14-4F7B-4016-B7D9-BCA5F70A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A8BEE-63C0-4314-B088-0FF96F28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37D1-8914-451C-A2E5-77BB1AA3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1C10B-9CDB-4CF4-98A6-8958E1E9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E23C5-770C-42B0-A8ED-B187EE5F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C4D51-F4CE-4249-A263-D4D5348C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85EC1-8A94-4ACA-930B-A1725735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E2FA2-B039-4B1F-B5F1-8C10C792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57BBF-0A1E-49EB-B6F9-09F677D3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1C728-DCCF-4ADA-A346-FFB7261B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B4C8B-F2EB-45BD-8EFD-AF96B830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3A28F-FC8B-4008-9CB8-102C9AC5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67A09-0749-446B-B4D8-01E990B7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9554-3D2D-4AE0-8766-8DBFEBDC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61871-FD30-4667-BA6D-4607F394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66935-CD44-4BDE-8E89-C1CCAD5C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5DA94-028C-4AE9-953C-E7B8E923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E4F8A-13C3-4C59-9014-7B0C10B8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D07FB-491F-491C-98D0-6657C5E4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99DCF-670B-489C-A14E-5A02B2EB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76DD6-2420-4FB1-A5D7-35ACFB3A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B28BB-A02F-4356-B5DF-7BA3F9AA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B2425-E721-43F0-90F5-A10C65C1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B5928-26AE-4C59-8B17-170F2CFB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D969-8BE7-4A66-85E2-C91A018A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E942A-618C-4931-B721-13CC7B80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8870C-643D-421A-BCAE-8C8E451A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C2842-E4CC-46CD-9123-43520D9A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19DB6-0471-4EAE-9AD5-1843C25D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FEDAC-EA07-4C7E-B46C-F96D4208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ABCC5-6581-4DB4-B67B-AD7C0848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03445-A81B-4F33-AB50-A7CFF5CC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C568D-1059-44E7-AFB0-CB79B434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743B6-A570-4DDB-973A-53FB197B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F15DC-F18E-4D33-9D50-54FDE87E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BB87-7933-4A2A-B699-28E4145227D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13C3-81CE-4EB0-86AB-291288C570F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43EC-1210-4BB9-AE31-B92FB1F191A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3BBD-EB93-45EA-939E-7D1668796A7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7448-68D9-4B03-9F82-98A8FE4F87C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CFD0-DC42-4ACD-A618-53ED556E777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1325-8ADD-414A-B1F5-DDDA447E980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F30D-6ABA-4E96-AC7C-59588A2E22D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7686-DE3F-4EB9-B5D2-0F27BEC0D53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48B3-B7BC-499F-9EB8-9F8B028F1EC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DBB5-A1A6-4D6B-ADD2-5FC1927B2F1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9C0B-A4AB-42E9-8966-5CF0C22495C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675640" cy="597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dfd293"/>
                </a:solidFill>
                <a:latin typeface="Arial"/>
              </a:rPr>
              <a:t>Экономика </a:t>
            </a:r>
            <a:br>
              <a:rPr sz="9600"/>
            </a:br>
            <a:r>
              <a:rPr b="0" lang="ru-RU" sz="9600" spc="-1" strike="noStrike">
                <a:solidFill>
                  <a:srgbClr val="dfd293"/>
                </a:solidFill>
                <a:latin typeface="Arial"/>
              </a:rPr>
              <a:t>и </a:t>
            </a:r>
            <a:br>
              <a:rPr sz="9600"/>
            </a:br>
            <a:r>
              <a:rPr b="0" lang="ru-RU" sz="9600" spc="-1" strike="noStrike">
                <a:solidFill>
                  <a:srgbClr val="dfd293"/>
                </a:solidFill>
                <a:latin typeface="Arial"/>
              </a:rPr>
              <a:t>государство</a:t>
            </a:r>
            <a:endParaRPr b="0" lang="en-US" sz="9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00"/>
                </a:solidFill>
                <a:latin typeface="Arial"/>
              </a:rPr>
              <a:t>Общественные блага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3499920"/>
            <a:ext cx="8229600" cy="33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Товары и услуги предоставляемые государством его гражданам на равных началах. Для производства общественных благ необходимы значительные финансовые средства, и государство получает их, собирая нало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4"/>
          <p:cNvSpPr/>
          <p:nvPr/>
        </p:nvSpPr>
        <p:spPr>
          <a:xfrm flipH="1">
            <a:off x="1619280" y="1125360"/>
            <a:ext cx="288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Oval 6"/>
          <p:cNvSpPr/>
          <p:nvPr/>
        </p:nvSpPr>
        <p:spPr>
          <a:xfrm>
            <a:off x="0" y="1773360"/>
            <a:ext cx="2556000" cy="863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рон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7"/>
          <p:cNvSpPr/>
          <p:nvPr/>
        </p:nvSpPr>
        <p:spPr>
          <a:xfrm>
            <a:off x="3924360" y="112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Oval 8"/>
          <p:cNvSpPr/>
          <p:nvPr/>
        </p:nvSpPr>
        <p:spPr>
          <a:xfrm>
            <a:off x="2484360" y="1916280"/>
            <a:ext cx="3024360" cy="14414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сплатно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раз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Oval 10"/>
          <p:cNvSpPr/>
          <p:nvPr/>
        </p:nvSpPr>
        <p:spPr>
          <a:xfrm>
            <a:off x="5076720" y="1413000"/>
            <a:ext cx="2880000" cy="1008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ликлиник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Oval 12"/>
          <p:cNvSpPr/>
          <p:nvPr/>
        </p:nvSpPr>
        <p:spPr>
          <a:xfrm>
            <a:off x="7093080" y="2492280"/>
            <a:ext cx="2050920" cy="792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к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Line 13"/>
          <p:cNvSpPr/>
          <p:nvPr/>
        </p:nvSpPr>
        <p:spPr>
          <a:xfrm>
            <a:off x="8028000" y="1197000"/>
            <a:ext cx="2890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14"/>
          <p:cNvSpPr/>
          <p:nvPr/>
        </p:nvSpPr>
        <p:spPr>
          <a:xfrm>
            <a:off x="6372360" y="1125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00"/>
                </a:solidFill>
                <a:latin typeface="Arial"/>
              </a:rPr>
              <a:t>Внешние эффекты</a:t>
            </a:r>
            <a:endParaRPr b="0" lang="en-US" sz="6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Внешние эффекты связаны с производством или потреблением благ. Издержки и выгоды для третьих лиц не участвующих в производст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омпенсация внешних эффектов – важная функция государства в рыночной эконом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3300"/>
                </a:solidFill>
                <a:latin typeface="Arial"/>
              </a:rPr>
              <a:t>Внешние эффекты</a:t>
            </a:r>
            <a:endParaRPr b="0" lang="en-US" sz="6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им пример на стр. 81 учеб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5"/>
          <p:cNvSpPr/>
          <p:nvPr/>
        </p:nvSpPr>
        <p:spPr>
          <a:xfrm flipH="1">
            <a:off x="2484360" y="1197000"/>
            <a:ext cx="72072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Line 7"/>
          <p:cNvSpPr/>
          <p:nvPr/>
        </p:nvSpPr>
        <p:spPr>
          <a:xfrm>
            <a:off x="5796000" y="1197000"/>
            <a:ext cx="64908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179280" y="2349360"/>
            <a:ext cx="3888000" cy="45086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ИЦАТЕЛЬНЫ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зникаю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случае появления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здержек у других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иц, в результате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изводства ил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требления товара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5003640" y="2349360"/>
            <a:ext cx="3961080" cy="45086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ЛОЖИТЕЛЬНЫ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зникаю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случае появления у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этих лиц выгоды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торая не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мпенсируется им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изводителям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овар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Государственная экономическая политик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0" name="Oval 6"/>
          <p:cNvSpPr/>
          <p:nvPr/>
        </p:nvSpPr>
        <p:spPr>
          <a:xfrm>
            <a:off x="179280" y="1916280"/>
            <a:ext cx="4321440" cy="19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билизационна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8"/>
          <p:cNvSpPr/>
          <p:nvPr/>
        </p:nvSpPr>
        <p:spPr>
          <a:xfrm>
            <a:off x="4716360" y="1773360"/>
            <a:ext cx="4427640" cy="21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на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0" y="4724280"/>
            <a:ext cx="38512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правлена преимущественно на оздоровление «заболевшей» эконом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10"/>
          <p:cNvSpPr/>
          <p:nvPr/>
        </p:nvSpPr>
        <p:spPr>
          <a:xfrm>
            <a:off x="4859280" y="4653000"/>
            <a:ext cx="4284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а на обеспечение её сбалансированного развития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Line 12"/>
          <p:cNvSpPr/>
          <p:nvPr/>
        </p:nvSpPr>
        <p:spPr>
          <a:xfrm flipH="1">
            <a:off x="3779640" y="1484280"/>
            <a:ext cx="64764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Line 13"/>
          <p:cNvSpPr/>
          <p:nvPr/>
        </p:nvSpPr>
        <p:spPr>
          <a:xfrm>
            <a:off x="4427640" y="1484280"/>
            <a:ext cx="72072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14"/>
          <p:cNvSpPr/>
          <p:nvPr/>
        </p:nvSpPr>
        <p:spPr>
          <a:xfrm>
            <a:off x="1835280" y="386064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15"/>
          <p:cNvSpPr/>
          <p:nvPr/>
        </p:nvSpPr>
        <p:spPr>
          <a:xfrm>
            <a:off x="7020000" y="393372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Воздействия государства на рыночный механизм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0" name="Line 4"/>
          <p:cNvSpPr/>
          <p:nvPr/>
        </p:nvSpPr>
        <p:spPr>
          <a:xfrm flipH="1">
            <a:off x="2339640" y="1413000"/>
            <a:ext cx="576360" cy="1222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6"/>
          <p:cNvSpPr/>
          <p:nvPr/>
        </p:nvSpPr>
        <p:spPr>
          <a:xfrm>
            <a:off x="5940360" y="1413000"/>
            <a:ext cx="719280" cy="1079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AutoShape 8"/>
          <p:cNvSpPr/>
          <p:nvPr/>
        </p:nvSpPr>
        <p:spPr>
          <a:xfrm>
            <a:off x="0" y="2637000"/>
            <a:ext cx="4572000" cy="1873080"/>
          </a:xfrm>
          <a:prstGeom prst="diamond">
            <a:avLst/>
          </a:prstGeom>
          <a:solidFill>
            <a:srgbClr val="5c1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о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AutoShape 10"/>
          <p:cNvSpPr/>
          <p:nvPr/>
        </p:nvSpPr>
        <p:spPr>
          <a:xfrm>
            <a:off x="4788000" y="2492280"/>
            <a:ext cx="4356000" cy="2087640"/>
          </a:xfrm>
          <a:prstGeom prst="diamond">
            <a:avLst/>
          </a:prstGeom>
          <a:solidFill>
            <a:srgbClr val="5c1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свенно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11"/>
          <p:cNvSpPr/>
          <p:nvPr/>
        </p:nvSpPr>
        <p:spPr>
          <a:xfrm>
            <a:off x="2268360" y="4508640"/>
            <a:ext cx="0" cy="93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2"/>
          <p:cNvSpPr/>
          <p:nvPr/>
        </p:nvSpPr>
        <p:spPr>
          <a:xfrm>
            <a:off x="6732720" y="4581360"/>
            <a:ext cx="0" cy="93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16"/>
          <p:cNvSpPr/>
          <p:nvPr/>
        </p:nvSpPr>
        <p:spPr>
          <a:xfrm flipH="1">
            <a:off x="0" y="5445000"/>
            <a:ext cx="4356000" cy="12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спольз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административны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метод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18"/>
          <p:cNvSpPr/>
          <p:nvPr/>
        </p:nvSpPr>
        <p:spPr>
          <a:xfrm>
            <a:off x="5148360" y="5516640"/>
            <a:ext cx="3995640" cy="12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спольз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экономически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метод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Механизмы регулирования    рыночной экономики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0" name="Oval 13"/>
          <p:cNvSpPr/>
          <p:nvPr/>
        </p:nvSpPr>
        <p:spPr>
          <a:xfrm>
            <a:off x="1763640" y="4724280"/>
            <a:ext cx="5184720" cy="194472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скальная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14"/>
          <p:cNvSpPr/>
          <p:nvPr/>
        </p:nvSpPr>
        <p:spPr>
          <a:xfrm>
            <a:off x="0" y="2205000"/>
            <a:ext cx="4140360" cy="230508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нетарная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Oval 15"/>
          <p:cNvSpPr/>
          <p:nvPr/>
        </p:nvSpPr>
        <p:spPr>
          <a:xfrm>
            <a:off x="4932360" y="2133720"/>
            <a:ext cx="4211640" cy="230508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овое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гулировани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10"/>
          <p:cNvSpPr/>
          <p:nvPr/>
        </p:nvSpPr>
        <p:spPr>
          <a:xfrm flipH="1">
            <a:off x="3419640" y="1484280"/>
            <a:ext cx="100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11"/>
          <p:cNvSpPr/>
          <p:nvPr/>
        </p:nvSpPr>
        <p:spPr>
          <a:xfrm>
            <a:off x="4427640" y="1413000"/>
            <a:ext cx="100800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12"/>
          <p:cNvSpPr/>
          <p:nvPr/>
        </p:nvSpPr>
        <p:spPr>
          <a:xfrm>
            <a:off x="4427640" y="1484280"/>
            <a:ext cx="0" cy="31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3300"/>
                </a:solidFill>
                <a:uFillTx/>
                <a:latin typeface="Arial"/>
              </a:rPr>
              <a:t>Позиция</a:t>
            </a:r>
            <a:r>
              <a:rPr b="1" lang="ru-RU" sz="48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1" lang="ru-RU" sz="4800" spc="-1" strike="noStrike" u="sng">
                <a:solidFill>
                  <a:srgbClr val="003300"/>
                </a:solidFill>
                <a:uFillTx/>
                <a:latin typeface="Arial"/>
              </a:rPr>
              <a:t>монетаристов: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ак можно больше освободить экономику от опеки государства, сократить налоги и государственные расходы, давая возможность рыночному механизму самому обеспечивать устойчивую экономическую систем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00"/>
                </a:solidFill>
                <a:uFillTx/>
                <a:latin typeface="Arial"/>
              </a:rPr>
              <a:t>Позиция кейнсианского направления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едставители данного направления считают, что один только рыночный механизм не в состоянии решать многообразные проблемы в экономике. Кейнс пришел к выводу, что только активная финансовая политика государства, стимулирующая спрос, способна справиться с массовой безработицей. Для удовлетворения современных экономических потребностей общества необходимы и неизбежны правительственные ме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Денежно-кредитная (монетарная) политик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нетарная политика означает контроль над денежной массой в экономик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Её цель – поддержка стабильного развития в экономик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AutoShape 6"/>
          <p:cNvSpPr/>
          <p:nvPr/>
        </p:nvSpPr>
        <p:spPr>
          <a:xfrm>
            <a:off x="4572000" y="3789360"/>
            <a:ext cx="71280" cy="863640"/>
          </a:xfrm>
          <a:prstGeom prst="downArrow">
            <a:avLst>
              <a:gd name="adj1" fmla="val 50000"/>
              <a:gd name="adj2" fmla="val 302904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AutoShape 7"/>
          <p:cNvSpPr/>
          <p:nvPr/>
        </p:nvSpPr>
        <p:spPr>
          <a:xfrm>
            <a:off x="4067280" y="3357720"/>
            <a:ext cx="990360" cy="1439640"/>
          </a:xfrm>
          <a:prstGeom prst="downArrow">
            <a:avLst>
              <a:gd name="adj1" fmla="val 50000"/>
              <a:gd name="adj2" fmla="val 36341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Банки            кредиты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9" name="AutoShape 5"/>
          <p:cNvSpPr/>
          <p:nvPr/>
        </p:nvSpPr>
        <p:spPr>
          <a:xfrm>
            <a:off x="3635280" y="765000"/>
            <a:ext cx="1008000" cy="289080"/>
          </a:xfrm>
          <a:prstGeom prst="rightArrow">
            <a:avLst>
              <a:gd name="adj1" fmla="val 50000"/>
              <a:gd name="adj2" fmla="val 87173"/>
            </a:avLst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Line 6"/>
          <p:cNvSpPr/>
          <p:nvPr/>
        </p:nvSpPr>
        <p:spPr>
          <a:xfrm flipH="1">
            <a:off x="1115640" y="1197000"/>
            <a:ext cx="57636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Line 8"/>
          <p:cNvSpPr/>
          <p:nvPr/>
        </p:nvSpPr>
        <p:spPr>
          <a:xfrm>
            <a:off x="7093080" y="1197000"/>
            <a:ext cx="576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Line 9"/>
          <p:cNvSpPr/>
          <p:nvPr/>
        </p:nvSpPr>
        <p:spPr>
          <a:xfrm>
            <a:off x="4716360" y="126828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179280" y="2781360"/>
            <a:ext cx="280836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Учетная ставка процента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– норма процента, под который центральный банк дает кредиты коммерческим банка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3564000" y="2852640"/>
            <a:ext cx="230328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Инфляция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озникает, когда объем денежной массы превышает количество производимых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12"/>
          <p:cNvSpPr/>
          <p:nvPr/>
        </p:nvSpPr>
        <p:spPr>
          <a:xfrm>
            <a:off x="6443640" y="2781360"/>
            <a:ext cx="2484360" cy="344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Норма обязательных резервов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– оказание влияния на возможность банков предоставлять кредиты, изменяя тем самым общее количество денег в обороте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кономические функции государст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ой инструмент регулирования экономики выбрат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енежно-кредитная (монетарная) полити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юджетно-налоговая (фиксальная) полити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ужна ли рынку помощь государств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43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Бюджетно-налоговая (фискальная) политика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ятельность государства в области налогооблажения, регулирования государственных расходов и государственного бюджета называется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ФИСКАЛЬНОЙ ПОЛИТИ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179280" y="558972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сударственн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юдже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6878520" y="5972040"/>
            <a:ext cx="185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алог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9"/>
          <p:cNvSpPr/>
          <p:nvPr/>
        </p:nvSpPr>
        <p:spPr>
          <a:xfrm flipH="1">
            <a:off x="2987280" y="4581360"/>
            <a:ext cx="165564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10"/>
          <p:cNvSpPr/>
          <p:nvPr/>
        </p:nvSpPr>
        <p:spPr>
          <a:xfrm>
            <a:off x="4643280" y="4581360"/>
            <a:ext cx="24498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Государственный бюджет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Государственный бюджет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это сводный план доходов государства и использование полученных средств на покрытие всех видов государственных расходов. Бюджет утверждается парламентом страны, а правительство отвечает за его исполн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Главные источники доходов государств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налоговые дохо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                  </a:t>
            </a:r>
            <a:r>
              <a:rPr b="1" lang="ru-RU" sz="6600" spc="-1" strike="noStrike">
                <a:solidFill>
                  <a:srgbClr val="003300"/>
                </a:solidFill>
                <a:latin typeface="Arial"/>
              </a:rPr>
              <a:t>Налоги</a:t>
            </a: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логи являются основным источником доходов государственного бюдж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ли экономика страдает от высокой инфляции, государство увеличивает налоги, снижая тем самым экономическую активность фирм и насе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добор налогов приводит к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дефициту бюджет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одному из негативных экономических показате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Государственный долг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91440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сударственный долг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это сумма задолженности государства внешним и внутренним кредитор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фицит бюджета и величина государственного долга – важнейшие показатели состояния эконом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Line 4"/>
          <p:cNvSpPr/>
          <p:nvPr/>
        </p:nvSpPr>
        <p:spPr>
          <a:xfrm flipH="1">
            <a:off x="2700000" y="1125360"/>
            <a:ext cx="10810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5"/>
          <p:cNvSpPr/>
          <p:nvPr/>
        </p:nvSpPr>
        <p:spPr>
          <a:xfrm>
            <a:off x="5219640" y="1197000"/>
            <a:ext cx="100800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95280" y="2060640"/>
            <a:ext cx="3529080" cy="10080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нешний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4284720" y="2060640"/>
            <a:ext cx="4319640" cy="10080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нутренний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7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Государственное регулирование рыночной экономики проявляется в виде поддержки предприниматель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омощь предпринимательству имеет такие формы, как льготное налогооблажение в первые годы работы фирм, упрощение правил их регистрации, предоставление субсидий предприятиям малого бизнес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риоритет в рыночной экономике принадлежит косвенным методам государственного воздействия, не разрушающим систему рыночных отношений и не противоречащим 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00"/>
                </a:solidFill>
                <a:latin typeface="Arial"/>
              </a:rPr>
              <a:t>Экономическая политика</a:t>
            </a:r>
            <a:br>
              <a:rPr sz="5400"/>
            </a:b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Экономическая политика государства представляет собой процесс реализации его экономических функций путем разнообразных государственных мер воздействия на экономические процессы для достижения определенных цел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Line 7"/>
          <p:cNvSpPr/>
          <p:nvPr/>
        </p:nvSpPr>
        <p:spPr>
          <a:xfrm>
            <a:off x="4572000" y="1484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13"/>
          <p:cNvSpPr/>
          <p:nvPr/>
        </p:nvSpPr>
        <p:spPr>
          <a:xfrm flipV="1">
            <a:off x="4572000" y="141300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0" y="1916280"/>
            <a:ext cx="9144000" cy="7207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.Обеспечить экономический рос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>
            <a:off x="0" y="2852640"/>
            <a:ext cx="9144000" cy="9367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Создать условия экономической свобод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0" y="4221000"/>
            <a:ext cx="9144000" cy="9144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Обеспечивать экономическую безопасност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16"/>
          <p:cNvSpPr/>
          <p:nvPr/>
        </p:nvSpPr>
        <p:spPr>
          <a:xfrm>
            <a:off x="0" y="5589720"/>
            <a:ext cx="9144000" cy="9144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Обеспечивать экономическую эффективност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0" y="2205000"/>
            <a:ext cx="9144000" cy="15620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Заботится об обеспечении полной занят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каждый, кто может и хочет работать,долже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меть работу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0" y="4724280"/>
            <a:ext cx="9144000" cy="15843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6. Оказывать помощь тем, кто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 может себя обеспечить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ли экономической политик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4"/>
          <p:cNvSpPr/>
          <p:nvPr/>
        </p:nvSpPr>
        <p:spPr>
          <a:xfrm>
            <a:off x="539640" y="1773360"/>
            <a:ext cx="3961080" cy="41767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спективны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ирование социальн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иентированног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ыночного варианта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ономик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Oval 5"/>
          <p:cNvSpPr/>
          <p:nvPr/>
        </p:nvSpPr>
        <p:spPr>
          <a:xfrm>
            <a:off x="4716360" y="1773360"/>
            <a:ext cx="3888000" cy="4248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кущ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шение проблем гос. долга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рьба с бедностью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нижение налогов на бизнес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Line 6"/>
          <p:cNvSpPr/>
          <p:nvPr/>
        </p:nvSpPr>
        <p:spPr>
          <a:xfrm flipH="1">
            <a:off x="3708360" y="1197000"/>
            <a:ext cx="100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7"/>
          <p:cNvSpPr/>
          <p:nvPr/>
        </p:nvSpPr>
        <p:spPr>
          <a:xfrm>
            <a:off x="4716360" y="1197000"/>
            <a:ext cx="9352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Основные направления </a:t>
            </a:r>
            <a:br>
              <a:rPr sz="4000"/>
            </a:b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экономической политики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4"/>
          <p:cNvSpPr/>
          <p:nvPr/>
        </p:nvSpPr>
        <p:spPr>
          <a:xfrm>
            <a:off x="0" y="2133720"/>
            <a:ext cx="3492360" cy="9144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нансов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Oval 5"/>
          <p:cNvSpPr/>
          <p:nvPr/>
        </p:nvSpPr>
        <p:spPr>
          <a:xfrm>
            <a:off x="2340000" y="5516640"/>
            <a:ext cx="5146560" cy="1152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нвестиционн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6"/>
          <p:cNvSpPr/>
          <p:nvPr/>
        </p:nvSpPr>
        <p:spPr>
          <a:xfrm>
            <a:off x="5003640" y="1916280"/>
            <a:ext cx="4140360" cy="936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грарн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8"/>
          <p:cNvSpPr/>
          <p:nvPr/>
        </p:nvSpPr>
        <p:spPr>
          <a:xfrm>
            <a:off x="4859280" y="3500280"/>
            <a:ext cx="4284720" cy="16574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нешне-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кономическ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Oval 9"/>
          <p:cNvSpPr/>
          <p:nvPr/>
        </p:nvSpPr>
        <p:spPr>
          <a:xfrm>
            <a:off x="0" y="3573360"/>
            <a:ext cx="4140360" cy="14907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учно-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хническ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 flipH="1">
            <a:off x="3492000" y="1628640"/>
            <a:ext cx="8636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11"/>
          <p:cNvSpPr/>
          <p:nvPr/>
        </p:nvSpPr>
        <p:spPr>
          <a:xfrm>
            <a:off x="4356000" y="155736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Line 12"/>
          <p:cNvSpPr/>
          <p:nvPr/>
        </p:nvSpPr>
        <p:spPr>
          <a:xfrm>
            <a:off x="4356000" y="1557360"/>
            <a:ext cx="71640" cy="395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13"/>
          <p:cNvSpPr/>
          <p:nvPr/>
        </p:nvSpPr>
        <p:spPr>
          <a:xfrm flipH="1">
            <a:off x="3492000" y="1628640"/>
            <a:ext cx="863640" cy="20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14"/>
          <p:cNvSpPr/>
          <p:nvPr/>
        </p:nvSpPr>
        <p:spPr>
          <a:xfrm>
            <a:off x="4356000" y="1628640"/>
            <a:ext cx="93672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Oval 4"/>
          <p:cNvSpPr/>
          <p:nvPr/>
        </p:nvSpPr>
        <p:spPr>
          <a:xfrm>
            <a:off x="0" y="1844640"/>
            <a:ext cx="3851280" cy="1849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абилизац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кономик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Oval 5"/>
          <p:cNvSpPr/>
          <p:nvPr/>
        </p:nvSpPr>
        <p:spPr>
          <a:xfrm>
            <a:off x="4716360" y="1628640"/>
            <a:ext cx="4427640" cy="2087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распределе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ходо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Oval 6"/>
          <p:cNvSpPr/>
          <p:nvPr/>
        </p:nvSpPr>
        <p:spPr>
          <a:xfrm>
            <a:off x="0" y="4076640"/>
            <a:ext cx="8964720" cy="2016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нежног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ращен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Line 8"/>
          <p:cNvSpPr/>
          <p:nvPr/>
        </p:nvSpPr>
        <p:spPr>
          <a:xfrm flipH="1">
            <a:off x="3708360" y="1557360"/>
            <a:ext cx="5032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Line 9"/>
          <p:cNvSpPr/>
          <p:nvPr/>
        </p:nvSpPr>
        <p:spPr>
          <a:xfrm>
            <a:off x="4211640" y="1628640"/>
            <a:ext cx="576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10"/>
          <p:cNvSpPr/>
          <p:nvPr/>
        </p:nvSpPr>
        <p:spPr>
          <a:xfrm flipH="1">
            <a:off x="4140360" y="1628640"/>
            <a:ext cx="71280" cy="24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179280" y="1773360"/>
            <a:ext cx="4105440" cy="2447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ественны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ла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859280" y="1700280"/>
            <a:ext cx="4284720" cy="23050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троль над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ещнеэкономическо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ятельность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826920" y="4149720"/>
            <a:ext cx="7705800" cy="2708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гулирование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ношений между работодателям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наемными работникам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7"/>
          <p:cNvSpPr/>
          <p:nvPr/>
        </p:nvSpPr>
        <p:spPr>
          <a:xfrm flipH="1">
            <a:off x="3924000" y="1484280"/>
            <a:ext cx="57636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Line 8"/>
          <p:cNvSpPr/>
          <p:nvPr/>
        </p:nvSpPr>
        <p:spPr>
          <a:xfrm>
            <a:off x="4500720" y="1484280"/>
            <a:ext cx="64764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>
            <a:off x="4500720" y="1484280"/>
            <a:ext cx="0" cy="26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8:08:11Z</dcterms:created>
  <dc:creator>Acer</dc:creator>
  <dc:description/>
  <dc:language>en-US</dc:language>
  <cp:lastModifiedBy>LEGION</cp:lastModifiedBy>
  <dcterms:modified xsi:type="dcterms:W3CDTF">2015-01-05T09:59:32Z</dcterms:modified>
  <cp:revision>26</cp:revision>
  <dc:subject/>
  <dc:title>Слайд 1</dc:title>
</cp:coreProperties>
</file>