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EE2F-9D6B-4760-AD22-F6B7AE5FDE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8301-A6E2-4473-9F2B-B718C3D4F2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C3BF-6768-4290-867D-D81C73D83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8B3C-3000-484B-B4D0-66AA5760F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8933-0398-4097-8C50-33D0883FB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F70F-DECC-414E-AE29-5BB093607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74BE-BB1E-4206-99C9-2C46B0EBC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D24-FD63-418C-9C90-A02AA43B4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9C0F-7A61-4F18-B9E8-CBBFBB777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A627-D5BB-4893-8511-7879F1BCF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7BA8-507A-4B4F-B084-27970F6887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C4A2-7814-44AB-BD9B-51267B854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148B-85B1-4CF7-A424-675FC375C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6034-83E0-4E00-A94C-D37665A25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66CE-5CDF-42E3-99D1-F0B218FD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C4E6-4A53-4772-A5C7-95EFB34B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106C-396A-46B8-BFB9-522A577F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3D73-3226-4EBF-B8D3-5A2A7EE5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EBD5-7FA6-4CEF-BED8-9622657C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B4E1-8C0F-4193-95C5-32F02B78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93EA-4056-4FF5-9926-5CC9982F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93CB-1AE9-412A-8E0B-46556AF4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8074-9249-41DA-BFDB-8BFA8B8D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D3A5-E1AB-44E3-875A-2F500781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EE73-4B5C-4704-9D1B-82863816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3695-BC1E-4C37-935C-4BDE61DC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1A7-561A-4CD9-9380-00EE516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7E53-AF5E-4A8B-AF70-E7ADE3C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B622-D4D1-42E1-B047-4DCACE7C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CAD1-1389-43BC-A79A-A008991A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0C8C-0F0C-42D6-BF5C-42067D27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CD20-3B9F-49E5-A7BA-0BD499EE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1651-DCCA-46AF-99EF-B4178F64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326C-1B87-4EBB-A7D8-D09EEA40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1E6B-DD70-478E-92C2-764A3AF0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8566-2631-42ED-92E7-D5FBBC7A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6827-A343-45FD-8DEE-178E902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8188-DE3C-426C-896B-376612B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8985-3ECA-4564-BEC6-121C6D5F0A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C64A-5732-4576-9941-CD2337712E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07320" cy="107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14200" y="1285920"/>
            <a:ext cx="84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6"/>
          <p:cNvGraphicFramePr/>
          <p:nvPr/>
        </p:nvGraphicFramePr>
        <p:xfrm>
          <a:off x="2643120" y="207180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07180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10"/>
          <p:cNvGrpSpPr/>
          <p:nvPr/>
        </p:nvGrpSpPr>
        <p:grpSpPr>
          <a:xfrm>
            <a:off x="4786200" y="4357800"/>
            <a:ext cx="3959640" cy="1794240"/>
            <a:chOff x="4786200" y="4357800"/>
            <a:chExt cx="3959640" cy="1794240"/>
          </a:xfrm>
        </p:grpSpPr>
        <p:grpSp>
          <p:nvGrpSpPr>
            <p:cNvPr id="526" name="Group 11"/>
            <p:cNvGrpSpPr/>
            <p:nvPr/>
          </p:nvGrpSpPr>
          <p:grpSpPr>
            <a:xfrm>
              <a:off x="4786200" y="4357800"/>
              <a:ext cx="3959640" cy="1794240"/>
              <a:chOff x="4786200" y="4357800"/>
              <a:chExt cx="3959640" cy="1794240"/>
            </a:xfrm>
          </p:grpSpPr>
          <p:sp>
            <p:nvSpPr>
              <p:cNvPr id="527" name="Freeform 12"/>
              <p:cNvSpPr/>
              <p:nvPr/>
            </p:nvSpPr>
            <p:spPr>
              <a:xfrm>
                <a:off x="4845960" y="490932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"/>
              <p:cNvSpPr/>
              <p:nvPr/>
            </p:nvSpPr>
            <p:spPr>
              <a:xfrm>
                <a:off x="4836600" y="4805640"/>
                <a:ext cx="3685320" cy="120708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"/>
              <p:cNvSpPr/>
              <p:nvPr/>
            </p:nvSpPr>
            <p:spPr>
              <a:xfrm>
                <a:off x="4856400" y="4704840"/>
                <a:ext cx="3684600" cy="12038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4786200" y="4601160"/>
                <a:ext cx="3873600" cy="124560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6"/>
              <p:cNvSpPr/>
              <p:nvPr/>
            </p:nvSpPr>
            <p:spPr>
              <a:xfrm>
                <a:off x="4817880" y="4511520"/>
                <a:ext cx="3684600" cy="120456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4875120" y="435780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6127560" y="4547520"/>
              <a:ext cx="1234800" cy="1040760"/>
              <a:chOff x="6127560" y="4547520"/>
              <a:chExt cx="1234800" cy="1040760"/>
            </a:xfrm>
          </p:grpSpPr>
          <p:sp>
            <p:nvSpPr>
              <p:cNvPr id="534" name="Freeform 19"/>
              <p:cNvSpPr/>
              <p:nvPr/>
            </p:nvSpPr>
            <p:spPr>
              <a:xfrm>
                <a:off x="6127560" y="454752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"/>
              <p:cNvSpPr/>
              <p:nvPr/>
            </p:nvSpPr>
            <p:spPr>
              <a:xfrm>
                <a:off x="7065720" y="497448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8"/>
          <p:cNvGraphicFramePr/>
          <p:nvPr/>
        </p:nvGraphicFramePr>
        <p:xfrm>
          <a:off x="395280" y="206064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0"/>
          <p:cNvGrpSpPr/>
          <p:nvPr/>
        </p:nvGrpSpPr>
        <p:grpSpPr>
          <a:xfrm>
            <a:off x="1258920" y="4724280"/>
            <a:ext cx="3959280" cy="1794600"/>
            <a:chOff x="1258920" y="4724280"/>
            <a:chExt cx="3959280" cy="1794600"/>
          </a:xfrm>
        </p:grpSpPr>
        <p:grpSp>
          <p:nvGrpSpPr>
            <p:cNvPr id="546" name="Group 11"/>
            <p:cNvGrpSpPr/>
            <p:nvPr/>
          </p:nvGrpSpPr>
          <p:grpSpPr>
            <a:xfrm>
              <a:off x="1258920" y="4724280"/>
              <a:ext cx="3959280" cy="1794600"/>
              <a:chOff x="1258920" y="4724280"/>
              <a:chExt cx="3959280" cy="1794600"/>
            </a:xfrm>
          </p:grpSpPr>
          <p:sp>
            <p:nvSpPr>
              <p:cNvPr id="547" name="Freeform 12"/>
              <p:cNvSpPr/>
              <p:nvPr/>
            </p:nvSpPr>
            <p:spPr>
              <a:xfrm>
                <a:off x="1318680" y="527580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>
                <a:off x="1309320" y="5172120"/>
                <a:ext cx="3684960" cy="12074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>
                <a:off x="1329120" y="5071320"/>
                <a:ext cx="3684240" cy="120420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>
                <a:off x="1258920" y="4967640"/>
                <a:ext cx="3873240" cy="124596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>
                <a:off x="1290600" y="4878000"/>
                <a:ext cx="3684240" cy="120492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>
                <a:off x="1347840" y="472428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8"/>
            <p:cNvGrpSpPr/>
            <p:nvPr/>
          </p:nvGrpSpPr>
          <p:grpSpPr>
            <a:xfrm>
              <a:off x="2600280" y="4914000"/>
              <a:ext cx="1234800" cy="1040760"/>
              <a:chOff x="2600280" y="4914000"/>
              <a:chExt cx="1234800" cy="1040760"/>
            </a:xfrm>
          </p:grpSpPr>
          <p:sp>
            <p:nvSpPr>
              <p:cNvPr id="554" name="Freeform 19"/>
              <p:cNvSpPr/>
              <p:nvPr/>
            </p:nvSpPr>
            <p:spPr>
              <a:xfrm>
                <a:off x="2600280" y="491400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>
                <a:off x="3538440" y="534096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411280" y="3573360"/>
            <a:ext cx="39610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5280" y="5013360"/>
            <a:ext cx="35272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4572000" y="5013360"/>
            <a:ext cx="4248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финансово-креди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 flipH="1">
            <a:off x="2050920" y="4292640"/>
            <a:ext cx="23767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4356000" y="4292640"/>
            <a:ext cx="2232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44:14Z</dcterms:created>
  <dc:creator>lubasha</dc:creator>
  <dc:description/>
  <dc:language>en-US</dc:language>
  <cp:lastModifiedBy>LEGION</cp:lastModifiedBy>
  <dcterms:modified xsi:type="dcterms:W3CDTF">2015-01-05T09:58:46Z</dcterms:modified>
  <cp:revision>8</cp:revision>
  <dc:subject/>
  <dc:title>Слайд 1</dc:title>
</cp:coreProperties>
</file>