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6D11-93FF-4BDA-8167-6D517CD19B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../slides/slide2.xml"/><Relationship Id="rId7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в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1B75-FF31-45CC-B85F-CF90D0292A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обесценивания денег, который проявляется в виде долговременного повышения цен на товары и услуги (объем денежной массы значительно возрастает – количество товаров и услуг не увеличивае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ы инфля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лзучая 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ляция, при которой темпы роста цен на товары и услуги не превышает 10-15% в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алопирующая 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качкообразный рост ц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ипер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ляция с очень высоким темпом роста цен (более 50% в месяц), наиболее тяжелая форма экономическог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A9DB-94B0-44B0-BD67-0FC5CE5914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Причины инфля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ляция спрос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, когда спрос превышает предложение, что ведет к росту цен (доходы населения  предприятий растут быстрее реального объема товаров и услу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ляция издерже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 как следствие повышения издержек на единицу продукции. На уровень издержек производства могут влиять изменение величины налогов на производителя, увеличение з/п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A20A-7128-4C88-A9C1-4D94F01E9B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Антиинфляционная политика государ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госрочная денежная политика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ние жестких ограничений на ежегодные приросты денежной м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кращение государственного бюдже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увеличения доходов и уменьшения расходов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инфляционные мероприят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табилизация и стимул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вершенствование налогов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р по регулированию цен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5F1D-D897-4C99-B11B-694E4CF8FF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играют огромную роль в структуре рыночных отношений и механизме их государственного рег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9028-CAC1-4BEC-8EAE-85D908FF9E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7111-A3BA-420F-95FC-492108B572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Финанс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вокупность экономических отношений в процессе использования денежны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A33C-8A59-4AEF-90C7-E46181A234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Банковская система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действующих в стране банков и других кредитных учреждений и организ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6B61-4C00-453A-BE9E-E0D8F0D944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Основные функции Центрального бан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уществление денежно- кредитной политик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едитование коммерческих ба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еспечение стабильной деятельности банковской и финансовой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держание устойчивости национальной денежной един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ранение запасов денежных средств и зо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E83C-BE56-4E50-8AD0-68CB0DA075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Типы коммерческих банк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раслевые ба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определенные отрасли эконом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отраслев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все отрасли эконом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гиональные ба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определенные регионы стра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2A23-1DB9-427D-989E-93D00A3CBF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Операции коммерческого бан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сси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ерации по мобилизации денежных ресурсов: прием вкладов (депозитов); получение кредитов от других банков и центрального банка; выпуск соб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кти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ерации по размещению средств: предоставление различных по срокам и размерам креди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6399-36FB-4041-8409-C26A3EFBEE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Финансово- кредитные учрежд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пливают свободные денежные средства и предоставляют их тем, кто нуждается в дополнительном капитале или финансо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Пенсионный фон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, создаваемый частными и государственными компаниями, предприятиями для выплаты пенсий и пособий лицам, вносящим пенсионные взносы в этот фо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Инвестиционные комп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о- кредитный институт, собирающий денежные средства частных инвесторов через продажу им соб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573B-247F-4603-96FC-CB3D083CF6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Страховые комп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, оказывающие страховые услуги, предназначены для возмещения ущерба, потерь несчастными случа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Фондовые бирж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уются на продаже и покупке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ежгосударственные финансово-кредитные институ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ировой банк, Международный валютный фонд, Европейский банк реконструкции и развития и др.). Они занимаются финансированием и кредитованием разных стран, содействуют мировой торговле, оказывают помощь в стабилизации финансов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DB47-1F91-44DA-8513-87F68117E5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8F42-44A3-47A1-8175-AD833E84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50A0-C081-4480-A62C-DDD8CA3E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D1F1-02A1-49A9-A5DB-E28CD5E8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BF4F-C6B5-46F2-B808-D4F22FEA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F5D3-E033-4FF5-B460-A6398260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4CAD-FA57-486A-A8D1-25F5DB09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34B4-9E67-438E-80BE-E6B731B7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A7A9-AE12-4228-B1C0-940925DB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B9B1-753E-4A95-9A7C-81BEFE03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B130-2B8B-46D4-BB15-10DBAAF1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873A-95CD-4EFC-BC1D-E91677EA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CF19-F8ED-40EE-A380-51A07060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4CD6-AC15-454F-8F08-36F792E8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E32C-EA80-402B-9250-20EEA988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BAB8-2920-47AC-9959-E710BC01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959E-7CE3-4195-AE35-22751298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CD86-5B10-448A-B7AF-F2EE274B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155E-2326-4D26-8245-6D8088BE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319D-84FE-483E-B2F9-3D660E11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A696-2F19-4E96-953F-E2FA932E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5654-BC47-4DB0-9E54-D8639147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03C84-FCEC-455E-B55E-6B76AD78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F905F-BDF6-430F-9742-8CB030A9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34B4-F847-412F-AAF9-560AD408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4A48-2AD4-4BA7-AFFF-E779BDE85E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6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4CEA-67E9-44D8-B1C6-67ECE7BED4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7807320" cy="107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214200" y="1285920"/>
            <a:ext cx="849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инансы в экономи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Object 6"/>
          <p:cNvGraphicFramePr/>
          <p:nvPr/>
        </p:nvGraphicFramePr>
        <p:xfrm>
          <a:off x="2643120" y="2071800"/>
          <a:ext cx="3240000" cy="36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3120" y="2071800"/>
                    <a:ext cx="3240000" cy="36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5" name="Group 10"/>
          <p:cNvGrpSpPr/>
          <p:nvPr/>
        </p:nvGrpSpPr>
        <p:grpSpPr>
          <a:xfrm>
            <a:off x="4786200" y="4357800"/>
            <a:ext cx="3959640" cy="1794240"/>
            <a:chOff x="4786200" y="4357800"/>
            <a:chExt cx="3959640" cy="1794240"/>
          </a:xfrm>
        </p:grpSpPr>
        <p:grpSp>
          <p:nvGrpSpPr>
            <p:cNvPr id="526" name="Group 11"/>
            <p:cNvGrpSpPr/>
            <p:nvPr/>
          </p:nvGrpSpPr>
          <p:grpSpPr>
            <a:xfrm>
              <a:off x="4786200" y="4357800"/>
              <a:ext cx="3959640" cy="1794240"/>
              <a:chOff x="4786200" y="4357800"/>
              <a:chExt cx="3959640" cy="1794240"/>
            </a:xfrm>
          </p:grpSpPr>
          <p:sp>
            <p:nvSpPr>
              <p:cNvPr id="527" name="Freeform 12"/>
              <p:cNvSpPr/>
              <p:nvPr/>
            </p:nvSpPr>
            <p:spPr>
              <a:xfrm>
                <a:off x="4845960" y="4909320"/>
                <a:ext cx="3870720" cy="1242720"/>
              </a:xfrm>
              <a:custGeom>
                <a:avLst/>
                <a:gdLst/>
                <a:ahLst/>
                <a:rect l="l" t="t" r="r" b="b"/>
                <a:pathLst>
                  <a:path w="3638" h="1257">
                    <a:moveTo>
                      <a:pt x="241" y="570"/>
                    </a:moveTo>
                    <a:lnTo>
                      <a:pt x="0" y="623"/>
                    </a:lnTo>
                    <a:lnTo>
                      <a:pt x="213" y="713"/>
                    </a:lnTo>
                    <a:lnTo>
                      <a:pt x="427" y="776"/>
                    </a:lnTo>
                    <a:lnTo>
                      <a:pt x="614" y="817"/>
                    </a:lnTo>
                    <a:lnTo>
                      <a:pt x="734" y="883"/>
                    </a:lnTo>
                    <a:lnTo>
                      <a:pt x="903" y="999"/>
                    </a:lnTo>
                    <a:lnTo>
                      <a:pt x="1052" y="1153"/>
                    </a:lnTo>
                    <a:lnTo>
                      <a:pt x="1210" y="1233"/>
                    </a:lnTo>
                    <a:lnTo>
                      <a:pt x="1313" y="1257"/>
                    </a:lnTo>
                    <a:lnTo>
                      <a:pt x="1453" y="1141"/>
                    </a:lnTo>
                    <a:lnTo>
                      <a:pt x="1591" y="1025"/>
                    </a:lnTo>
                    <a:lnTo>
                      <a:pt x="1871" y="883"/>
                    </a:lnTo>
                    <a:lnTo>
                      <a:pt x="2103" y="790"/>
                    </a:lnTo>
                    <a:lnTo>
                      <a:pt x="2474" y="623"/>
                    </a:lnTo>
                    <a:lnTo>
                      <a:pt x="3053" y="415"/>
                    </a:lnTo>
                    <a:lnTo>
                      <a:pt x="3238" y="350"/>
                    </a:lnTo>
                    <a:lnTo>
                      <a:pt x="3424" y="324"/>
                    </a:lnTo>
                    <a:lnTo>
                      <a:pt x="3638" y="350"/>
                    </a:lnTo>
                    <a:lnTo>
                      <a:pt x="3220" y="246"/>
                    </a:lnTo>
                    <a:lnTo>
                      <a:pt x="2922" y="260"/>
                    </a:lnTo>
                    <a:lnTo>
                      <a:pt x="2502" y="182"/>
                    </a:lnTo>
                    <a:lnTo>
                      <a:pt x="2195" y="65"/>
                    </a:lnTo>
                    <a:lnTo>
                      <a:pt x="1963" y="0"/>
                    </a:lnTo>
                    <a:lnTo>
                      <a:pt x="1684" y="182"/>
                    </a:lnTo>
                    <a:lnTo>
                      <a:pt x="1173" y="389"/>
                    </a:lnTo>
                    <a:lnTo>
                      <a:pt x="698" y="518"/>
                    </a:lnTo>
                    <a:lnTo>
                      <a:pt x="241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3"/>
              <p:cNvSpPr/>
              <p:nvPr/>
            </p:nvSpPr>
            <p:spPr>
              <a:xfrm>
                <a:off x="4836600" y="4805640"/>
                <a:ext cx="3685320" cy="120708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6" y="545"/>
                    </a:lnTo>
                    <a:lnTo>
                      <a:pt x="809" y="506"/>
                    </a:lnTo>
                    <a:lnTo>
                      <a:pt x="1135" y="403"/>
                    </a:lnTo>
                    <a:lnTo>
                      <a:pt x="1442" y="272"/>
                    </a:lnTo>
                    <a:lnTo>
                      <a:pt x="1675" y="182"/>
                    </a:lnTo>
                    <a:lnTo>
                      <a:pt x="1814" y="104"/>
                    </a:lnTo>
                    <a:lnTo>
                      <a:pt x="1908" y="0"/>
                    </a:lnTo>
                    <a:lnTo>
                      <a:pt x="2103" y="90"/>
                    </a:lnTo>
                    <a:lnTo>
                      <a:pt x="2316" y="130"/>
                    </a:lnTo>
                    <a:lnTo>
                      <a:pt x="2642" y="232"/>
                    </a:lnTo>
                    <a:lnTo>
                      <a:pt x="2969" y="272"/>
                    </a:lnTo>
                    <a:lnTo>
                      <a:pt x="3248" y="232"/>
                    </a:lnTo>
                    <a:lnTo>
                      <a:pt x="3461" y="208"/>
                    </a:lnTo>
                    <a:lnTo>
                      <a:pt x="3238" y="350"/>
                    </a:lnTo>
                    <a:lnTo>
                      <a:pt x="3071" y="414"/>
                    </a:lnTo>
                    <a:lnTo>
                      <a:pt x="2875" y="519"/>
                    </a:lnTo>
                    <a:lnTo>
                      <a:pt x="2447" y="648"/>
                    </a:lnTo>
                    <a:lnTo>
                      <a:pt x="2112" y="752"/>
                    </a:lnTo>
                    <a:lnTo>
                      <a:pt x="1842" y="907"/>
                    </a:lnTo>
                    <a:lnTo>
                      <a:pt x="1562" y="1024"/>
                    </a:lnTo>
                    <a:lnTo>
                      <a:pt x="1266" y="1155"/>
                    </a:lnTo>
                    <a:lnTo>
                      <a:pt x="1182" y="1219"/>
                    </a:lnTo>
                    <a:lnTo>
                      <a:pt x="1005" y="1063"/>
                    </a:lnTo>
                    <a:lnTo>
                      <a:pt x="772" y="880"/>
                    </a:lnTo>
                    <a:lnTo>
                      <a:pt x="576" y="817"/>
                    </a:lnTo>
                    <a:lnTo>
                      <a:pt x="335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4"/>
              <p:cNvSpPr/>
              <p:nvPr/>
            </p:nvSpPr>
            <p:spPr>
              <a:xfrm>
                <a:off x="4856400" y="4704840"/>
                <a:ext cx="3684600" cy="120384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4" y="544"/>
                    </a:lnTo>
                    <a:lnTo>
                      <a:pt x="808" y="507"/>
                    </a:lnTo>
                    <a:lnTo>
                      <a:pt x="1136" y="402"/>
                    </a:lnTo>
                    <a:lnTo>
                      <a:pt x="1443" y="273"/>
                    </a:lnTo>
                    <a:lnTo>
                      <a:pt x="1675" y="183"/>
                    </a:lnTo>
                    <a:lnTo>
                      <a:pt x="1814" y="104"/>
                    </a:lnTo>
                    <a:lnTo>
                      <a:pt x="1907" y="0"/>
                    </a:lnTo>
                    <a:lnTo>
                      <a:pt x="2102" y="92"/>
                    </a:lnTo>
                    <a:lnTo>
                      <a:pt x="2317" y="130"/>
                    </a:lnTo>
                    <a:lnTo>
                      <a:pt x="2642" y="234"/>
                    </a:lnTo>
                    <a:lnTo>
                      <a:pt x="2968" y="273"/>
                    </a:lnTo>
                    <a:lnTo>
                      <a:pt x="3247" y="234"/>
                    </a:lnTo>
                    <a:lnTo>
                      <a:pt x="3461" y="208"/>
                    </a:lnTo>
                    <a:lnTo>
                      <a:pt x="3237" y="350"/>
                    </a:lnTo>
                    <a:lnTo>
                      <a:pt x="3070" y="416"/>
                    </a:lnTo>
                    <a:lnTo>
                      <a:pt x="2875" y="518"/>
                    </a:lnTo>
                    <a:lnTo>
                      <a:pt x="2447" y="649"/>
                    </a:lnTo>
                    <a:lnTo>
                      <a:pt x="2113" y="752"/>
                    </a:lnTo>
                    <a:lnTo>
                      <a:pt x="1842" y="908"/>
                    </a:lnTo>
                    <a:lnTo>
                      <a:pt x="1563" y="1025"/>
                    </a:lnTo>
                    <a:lnTo>
                      <a:pt x="1265" y="1156"/>
                    </a:lnTo>
                    <a:lnTo>
                      <a:pt x="1182" y="1219"/>
                    </a:lnTo>
                    <a:lnTo>
                      <a:pt x="1005" y="1065"/>
                    </a:lnTo>
                    <a:lnTo>
                      <a:pt x="772" y="882"/>
                    </a:lnTo>
                    <a:lnTo>
                      <a:pt x="577" y="816"/>
                    </a:lnTo>
                    <a:lnTo>
                      <a:pt x="334" y="765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5"/>
              <p:cNvSpPr/>
              <p:nvPr/>
            </p:nvSpPr>
            <p:spPr>
              <a:xfrm>
                <a:off x="4786200" y="4601160"/>
                <a:ext cx="3873600" cy="1245600"/>
              </a:xfrm>
              <a:custGeom>
                <a:avLst/>
                <a:gdLst/>
                <a:ahLst/>
                <a:rect l="l" t="t" r="r" b="b"/>
                <a:pathLst>
                  <a:path w="3637" h="1261">
                    <a:moveTo>
                      <a:pt x="241" y="573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8" y="779"/>
                    </a:lnTo>
                    <a:lnTo>
                      <a:pt x="613" y="819"/>
                    </a:lnTo>
                    <a:lnTo>
                      <a:pt x="733" y="883"/>
                    </a:lnTo>
                    <a:lnTo>
                      <a:pt x="902" y="999"/>
                    </a:lnTo>
                    <a:lnTo>
                      <a:pt x="1051" y="1156"/>
                    </a:lnTo>
                    <a:lnTo>
                      <a:pt x="1209" y="1233"/>
                    </a:lnTo>
                    <a:lnTo>
                      <a:pt x="1312" y="1261"/>
                    </a:lnTo>
                    <a:lnTo>
                      <a:pt x="1451" y="1144"/>
                    </a:lnTo>
                    <a:lnTo>
                      <a:pt x="1591" y="1026"/>
                    </a:lnTo>
                    <a:lnTo>
                      <a:pt x="1869" y="883"/>
                    </a:lnTo>
                    <a:lnTo>
                      <a:pt x="2102" y="791"/>
                    </a:lnTo>
                    <a:lnTo>
                      <a:pt x="2473" y="623"/>
                    </a:lnTo>
                    <a:lnTo>
                      <a:pt x="3051" y="417"/>
                    </a:lnTo>
                    <a:lnTo>
                      <a:pt x="3238" y="352"/>
                    </a:lnTo>
                    <a:lnTo>
                      <a:pt x="3422" y="325"/>
                    </a:lnTo>
                    <a:lnTo>
                      <a:pt x="3637" y="352"/>
                    </a:lnTo>
                    <a:lnTo>
                      <a:pt x="3219" y="249"/>
                    </a:lnTo>
                    <a:lnTo>
                      <a:pt x="2921" y="262"/>
                    </a:lnTo>
                    <a:lnTo>
                      <a:pt x="2502" y="183"/>
                    </a:lnTo>
                    <a:lnTo>
                      <a:pt x="2195" y="65"/>
                    </a:lnTo>
                    <a:lnTo>
                      <a:pt x="1962" y="0"/>
                    </a:lnTo>
                    <a:lnTo>
                      <a:pt x="1684" y="183"/>
                    </a:lnTo>
                    <a:lnTo>
                      <a:pt x="1172" y="391"/>
                    </a:lnTo>
                    <a:lnTo>
                      <a:pt x="697" y="521"/>
                    </a:lnTo>
                    <a:lnTo>
                      <a:pt x="241" y="573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6"/>
              <p:cNvSpPr/>
              <p:nvPr/>
            </p:nvSpPr>
            <p:spPr>
              <a:xfrm>
                <a:off x="4817880" y="4511520"/>
                <a:ext cx="3684600" cy="120456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4" y="570"/>
                    </a:lnTo>
                    <a:lnTo>
                      <a:pt x="594" y="544"/>
                    </a:lnTo>
                    <a:lnTo>
                      <a:pt x="809" y="506"/>
                    </a:lnTo>
                    <a:lnTo>
                      <a:pt x="1135" y="402"/>
                    </a:lnTo>
                    <a:lnTo>
                      <a:pt x="1442" y="272"/>
                    </a:lnTo>
                    <a:lnTo>
                      <a:pt x="1674" y="180"/>
                    </a:lnTo>
                    <a:lnTo>
                      <a:pt x="1814" y="103"/>
                    </a:lnTo>
                    <a:lnTo>
                      <a:pt x="1907" y="0"/>
                    </a:lnTo>
                    <a:lnTo>
                      <a:pt x="2103" y="89"/>
                    </a:lnTo>
                    <a:lnTo>
                      <a:pt x="2317" y="128"/>
                    </a:lnTo>
                    <a:lnTo>
                      <a:pt x="2641" y="235"/>
                    </a:lnTo>
                    <a:lnTo>
                      <a:pt x="2969" y="272"/>
                    </a:lnTo>
                    <a:lnTo>
                      <a:pt x="3247" y="235"/>
                    </a:lnTo>
                    <a:lnTo>
                      <a:pt x="3461" y="205"/>
                    </a:lnTo>
                    <a:lnTo>
                      <a:pt x="3238" y="351"/>
                    </a:lnTo>
                    <a:lnTo>
                      <a:pt x="3071" y="414"/>
                    </a:lnTo>
                    <a:lnTo>
                      <a:pt x="2876" y="519"/>
                    </a:lnTo>
                    <a:lnTo>
                      <a:pt x="2445" y="648"/>
                    </a:lnTo>
                    <a:lnTo>
                      <a:pt x="2111" y="752"/>
                    </a:lnTo>
                    <a:lnTo>
                      <a:pt x="1843" y="908"/>
                    </a:lnTo>
                    <a:lnTo>
                      <a:pt x="1563" y="1025"/>
                    </a:lnTo>
                    <a:lnTo>
                      <a:pt x="1266" y="1154"/>
                    </a:lnTo>
                    <a:lnTo>
                      <a:pt x="1182" y="1219"/>
                    </a:lnTo>
                    <a:lnTo>
                      <a:pt x="1006" y="1062"/>
                    </a:lnTo>
                    <a:lnTo>
                      <a:pt x="771" y="880"/>
                    </a:lnTo>
                    <a:lnTo>
                      <a:pt x="576" y="817"/>
                    </a:lnTo>
                    <a:lnTo>
                      <a:pt x="334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7"/>
              <p:cNvSpPr/>
              <p:nvPr/>
            </p:nvSpPr>
            <p:spPr>
              <a:xfrm>
                <a:off x="4875120" y="4357800"/>
                <a:ext cx="3870720" cy="1242720"/>
              </a:xfrm>
              <a:custGeom>
                <a:avLst/>
                <a:gdLst/>
                <a:ahLst/>
                <a:rect l="l" t="t" r="r" b="b"/>
                <a:pathLst>
                  <a:path w="3636" h="1258">
                    <a:moveTo>
                      <a:pt x="240" y="570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7" y="778"/>
                    </a:lnTo>
                    <a:lnTo>
                      <a:pt x="613" y="818"/>
                    </a:lnTo>
                    <a:lnTo>
                      <a:pt x="734" y="882"/>
                    </a:lnTo>
                    <a:lnTo>
                      <a:pt x="902" y="999"/>
                    </a:lnTo>
                    <a:lnTo>
                      <a:pt x="1050" y="1152"/>
                    </a:lnTo>
                    <a:lnTo>
                      <a:pt x="1209" y="1232"/>
                    </a:lnTo>
                    <a:lnTo>
                      <a:pt x="1311" y="1258"/>
                    </a:lnTo>
                    <a:lnTo>
                      <a:pt x="1451" y="1141"/>
                    </a:lnTo>
                    <a:lnTo>
                      <a:pt x="1591" y="1024"/>
                    </a:lnTo>
                    <a:lnTo>
                      <a:pt x="1869" y="882"/>
                    </a:lnTo>
                    <a:lnTo>
                      <a:pt x="2102" y="792"/>
                    </a:lnTo>
                    <a:lnTo>
                      <a:pt x="2473" y="623"/>
                    </a:lnTo>
                    <a:lnTo>
                      <a:pt x="3051" y="416"/>
                    </a:lnTo>
                    <a:lnTo>
                      <a:pt x="3238" y="350"/>
                    </a:lnTo>
                    <a:lnTo>
                      <a:pt x="3422" y="324"/>
                    </a:lnTo>
                    <a:lnTo>
                      <a:pt x="3636" y="350"/>
                    </a:lnTo>
                    <a:lnTo>
                      <a:pt x="3218" y="245"/>
                    </a:lnTo>
                    <a:lnTo>
                      <a:pt x="2920" y="259"/>
                    </a:lnTo>
                    <a:lnTo>
                      <a:pt x="2501" y="182"/>
                    </a:lnTo>
                    <a:lnTo>
                      <a:pt x="2194" y="66"/>
                    </a:lnTo>
                    <a:lnTo>
                      <a:pt x="1962" y="0"/>
                    </a:lnTo>
                    <a:lnTo>
                      <a:pt x="1684" y="182"/>
                    </a:lnTo>
                    <a:lnTo>
                      <a:pt x="1173" y="391"/>
                    </a:lnTo>
                    <a:lnTo>
                      <a:pt x="696" y="518"/>
                    </a:lnTo>
                    <a:lnTo>
                      <a:pt x="24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18"/>
            <p:cNvGrpSpPr/>
            <p:nvPr/>
          </p:nvGrpSpPr>
          <p:grpSpPr>
            <a:xfrm>
              <a:off x="6127560" y="4547520"/>
              <a:ext cx="1234800" cy="1040760"/>
              <a:chOff x="6127560" y="4547520"/>
              <a:chExt cx="1234800" cy="1040760"/>
            </a:xfrm>
          </p:grpSpPr>
          <p:sp>
            <p:nvSpPr>
              <p:cNvPr id="534" name="Freeform 19"/>
              <p:cNvSpPr/>
              <p:nvPr/>
            </p:nvSpPr>
            <p:spPr>
              <a:xfrm>
                <a:off x="6127560" y="4547520"/>
                <a:ext cx="1216080" cy="554760"/>
              </a:xfrm>
              <a:custGeom>
                <a:avLst/>
                <a:gdLst/>
                <a:ahLst/>
                <a:rect l="l" t="t" r="r" b="b"/>
                <a:pathLst>
                  <a:path w="1143" h="559">
                    <a:moveTo>
                      <a:pt x="0" y="131"/>
                    </a:moveTo>
                    <a:lnTo>
                      <a:pt x="874" y="559"/>
                    </a:lnTo>
                    <a:lnTo>
                      <a:pt x="1143" y="443"/>
                    </a:lnTo>
                    <a:lnTo>
                      <a:pt x="2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bf5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0"/>
              <p:cNvSpPr/>
              <p:nvPr/>
            </p:nvSpPr>
            <p:spPr>
              <a:xfrm>
                <a:off x="7065720" y="4974480"/>
                <a:ext cx="296640" cy="613800"/>
              </a:xfrm>
              <a:custGeom>
                <a:avLst/>
                <a:gdLst/>
                <a:ahLst/>
                <a:rect l="l" t="t" r="r" b="b"/>
                <a:pathLst>
                  <a:path w="279" h="621">
                    <a:moveTo>
                      <a:pt x="0" y="129"/>
                    </a:moveTo>
                    <a:lnTo>
                      <a:pt x="270" y="0"/>
                    </a:lnTo>
                    <a:lnTo>
                      <a:pt x="279" y="492"/>
                    </a:lnTo>
                    <a:lnTo>
                      <a:pt x="0" y="621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7f3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218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нфля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обесценивания денег, который проявляется в виде долговременного повышения цен на товары и услуги (объем денежной массы значительно возрастает – количество товаров и услуг не увеличивает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ы инфля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лзучая 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фляция, при которой темпы роста цен на товары и услуги не превышает 10-15% в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алопирующая 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качкообразный рост 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ипер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фляция с очень высоким темпом роста цен (более 50% в месяц), наиболее тяжелая форма экономического криз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ричины инфля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ляция спро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яется, когда спрос превышает предложение, что ведет к росту цен (доходы населения  предприятий растут быстрее реального объема товаров и услу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ляция издерж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ет как следствие повышения издержек на единицу продукции. На уровень издержек производства могут влиять изменение величины налогов на производителя, увеличение з/п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84358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Антиинфляционная политика государ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осрочная денежная политик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ение жестких ограничений на ежегодные приросты денежной м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щение государственного бюдже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мощи увеличения доходов и уменьшения расходов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инфляционные мероприя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абилизация и стимулирование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вершенствование налог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ведение мер по регулированию цен и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ы играют огромную роль в структуре рыночных отношений и механизме их государственного регулир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Финан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вокупность экономических отношений в процессе использования денеж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8"/>
          <p:cNvGraphicFramePr/>
          <p:nvPr/>
        </p:nvGraphicFramePr>
        <p:xfrm>
          <a:off x="395280" y="2060640"/>
          <a:ext cx="3240000" cy="36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60640"/>
                    <a:ext cx="3240000" cy="36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5" name="Group 10"/>
          <p:cNvGrpSpPr/>
          <p:nvPr/>
        </p:nvGrpSpPr>
        <p:grpSpPr>
          <a:xfrm>
            <a:off x="1258920" y="4724280"/>
            <a:ext cx="3959280" cy="1794600"/>
            <a:chOff x="1258920" y="4724280"/>
            <a:chExt cx="3959280" cy="1794600"/>
          </a:xfrm>
        </p:grpSpPr>
        <p:grpSp>
          <p:nvGrpSpPr>
            <p:cNvPr id="546" name="Group 11"/>
            <p:cNvGrpSpPr/>
            <p:nvPr/>
          </p:nvGrpSpPr>
          <p:grpSpPr>
            <a:xfrm>
              <a:off x="1258920" y="4724280"/>
              <a:ext cx="3959280" cy="1794600"/>
              <a:chOff x="1258920" y="4724280"/>
              <a:chExt cx="3959280" cy="1794600"/>
            </a:xfrm>
          </p:grpSpPr>
          <p:sp>
            <p:nvSpPr>
              <p:cNvPr id="547" name="Freeform 12"/>
              <p:cNvSpPr/>
              <p:nvPr/>
            </p:nvSpPr>
            <p:spPr>
              <a:xfrm>
                <a:off x="1318680" y="5275800"/>
                <a:ext cx="3870360" cy="1243080"/>
              </a:xfrm>
              <a:custGeom>
                <a:avLst/>
                <a:gdLst/>
                <a:ahLst/>
                <a:rect l="l" t="t" r="r" b="b"/>
                <a:pathLst>
                  <a:path w="3638" h="1257">
                    <a:moveTo>
                      <a:pt x="241" y="570"/>
                    </a:moveTo>
                    <a:lnTo>
                      <a:pt x="0" y="623"/>
                    </a:lnTo>
                    <a:lnTo>
                      <a:pt x="213" y="713"/>
                    </a:lnTo>
                    <a:lnTo>
                      <a:pt x="427" y="776"/>
                    </a:lnTo>
                    <a:lnTo>
                      <a:pt x="614" y="817"/>
                    </a:lnTo>
                    <a:lnTo>
                      <a:pt x="734" y="883"/>
                    </a:lnTo>
                    <a:lnTo>
                      <a:pt x="903" y="999"/>
                    </a:lnTo>
                    <a:lnTo>
                      <a:pt x="1052" y="1153"/>
                    </a:lnTo>
                    <a:lnTo>
                      <a:pt x="1210" y="1233"/>
                    </a:lnTo>
                    <a:lnTo>
                      <a:pt x="1313" y="1257"/>
                    </a:lnTo>
                    <a:lnTo>
                      <a:pt x="1453" y="1141"/>
                    </a:lnTo>
                    <a:lnTo>
                      <a:pt x="1591" y="1025"/>
                    </a:lnTo>
                    <a:lnTo>
                      <a:pt x="1871" y="883"/>
                    </a:lnTo>
                    <a:lnTo>
                      <a:pt x="2103" y="790"/>
                    </a:lnTo>
                    <a:lnTo>
                      <a:pt x="2474" y="623"/>
                    </a:lnTo>
                    <a:lnTo>
                      <a:pt x="3053" y="415"/>
                    </a:lnTo>
                    <a:lnTo>
                      <a:pt x="3238" y="350"/>
                    </a:lnTo>
                    <a:lnTo>
                      <a:pt x="3424" y="324"/>
                    </a:lnTo>
                    <a:lnTo>
                      <a:pt x="3638" y="350"/>
                    </a:lnTo>
                    <a:lnTo>
                      <a:pt x="3220" y="246"/>
                    </a:lnTo>
                    <a:lnTo>
                      <a:pt x="2922" y="260"/>
                    </a:lnTo>
                    <a:lnTo>
                      <a:pt x="2502" y="182"/>
                    </a:lnTo>
                    <a:lnTo>
                      <a:pt x="2195" y="65"/>
                    </a:lnTo>
                    <a:lnTo>
                      <a:pt x="1963" y="0"/>
                    </a:lnTo>
                    <a:lnTo>
                      <a:pt x="1684" y="182"/>
                    </a:lnTo>
                    <a:lnTo>
                      <a:pt x="1173" y="389"/>
                    </a:lnTo>
                    <a:lnTo>
                      <a:pt x="698" y="518"/>
                    </a:lnTo>
                    <a:lnTo>
                      <a:pt x="241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3"/>
              <p:cNvSpPr/>
              <p:nvPr/>
            </p:nvSpPr>
            <p:spPr>
              <a:xfrm>
                <a:off x="1309320" y="5172120"/>
                <a:ext cx="3684960" cy="120744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6" y="545"/>
                    </a:lnTo>
                    <a:lnTo>
                      <a:pt x="809" y="506"/>
                    </a:lnTo>
                    <a:lnTo>
                      <a:pt x="1135" y="403"/>
                    </a:lnTo>
                    <a:lnTo>
                      <a:pt x="1442" y="272"/>
                    </a:lnTo>
                    <a:lnTo>
                      <a:pt x="1675" y="182"/>
                    </a:lnTo>
                    <a:lnTo>
                      <a:pt x="1814" y="104"/>
                    </a:lnTo>
                    <a:lnTo>
                      <a:pt x="1908" y="0"/>
                    </a:lnTo>
                    <a:lnTo>
                      <a:pt x="2103" y="90"/>
                    </a:lnTo>
                    <a:lnTo>
                      <a:pt x="2316" y="130"/>
                    </a:lnTo>
                    <a:lnTo>
                      <a:pt x="2642" y="232"/>
                    </a:lnTo>
                    <a:lnTo>
                      <a:pt x="2969" y="272"/>
                    </a:lnTo>
                    <a:lnTo>
                      <a:pt x="3248" y="232"/>
                    </a:lnTo>
                    <a:lnTo>
                      <a:pt x="3461" y="208"/>
                    </a:lnTo>
                    <a:lnTo>
                      <a:pt x="3238" y="350"/>
                    </a:lnTo>
                    <a:lnTo>
                      <a:pt x="3071" y="414"/>
                    </a:lnTo>
                    <a:lnTo>
                      <a:pt x="2875" y="519"/>
                    </a:lnTo>
                    <a:lnTo>
                      <a:pt x="2447" y="648"/>
                    </a:lnTo>
                    <a:lnTo>
                      <a:pt x="2112" y="752"/>
                    </a:lnTo>
                    <a:lnTo>
                      <a:pt x="1842" y="907"/>
                    </a:lnTo>
                    <a:lnTo>
                      <a:pt x="1562" y="1024"/>
                    </a:lnTo>
                    <a:lnTo>
                      <a:pt x="1266" y="1155"/>
                    </a:lnTo>
                    <a:lnTo>
                      <a:pt x="1182" y="1219"/>
                    </a:lnTo>
                    <a:lnTo>
                      <a:pt x="1005" y="1063"/>
                    </a:lnTo>
                    <a:lnTo>
                      <a:pt x="772" y="880"/>
                    </a:lnTo>
                    <a:lnTo>
                      <a:pt x="576" y="817"/>
                    </a:lnTo>
                    <a:lnTo>
                      <a:pt x="335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4"/>
              <p:cNvSpPr/>
              <p:nvPr/>
            </p:nvSpPr>
            <p:spPr>
              <a:xfrm>
                <a:off x="1329120" y="5071320"/>
                <a:ext cx="3684240" cy="120420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4" y="544"/>
                    </a:lnTo>
                    <a:lnTo>
                      <a:pt x="808" y="507"/>
                    </a:lnTo>
                    <a:lnTo>
                      <a:pt x="1136" y="402"/>
                    </a:lnTo>
                    <a:lnTo>
                      <a:pt x="1443" y="273"/>
                    </a:lnTo>
                    <a:lnTo>
                      <a:pt x="1675" y="183"/>
                    </a:lnTo>
                    <a:lnTo>
                      <a:pt x="1814" y="104"/>
                    </a:lnTo>
                    <a:lnTo>
                      <a:pt x="1907" y="0"/>
                    </a:lnTo>
                    <a:lnTo>
                      <a:pt x="2102" y="92"/>
                    </a:lnTo>
                    <a:lnTo>
                      <a:pt x="2317" y="130"/>
                    </a:lnTo>
                    <a:lnTo>
                      <a:pt x="2642" y="234"/>
                    </a:lnTo>
                    <a:lnTo>
                      <a:pt x="2968" y="273"/>
                    </a:lnTo>
                    <a:lnTo>
                      <a:pt x="3247" y="234"/>
                    </a:lnTo>
                    <a:lnTo>
                      <a:pt x="3461" y="208"/>
                    </a:lnTo>
                    <a:lnTo>
                      <a:pt x="3237" y="350"/>
                    </a:lnTo>
                    <a:lnTo>
                      <a:pt x="3070" y="416"/>
                    </a:lnTo>
                    <a:lnTo>
                      <a:pt x="2875" y="518"/>
                    </a:lnTo>
                    <a:lnTo>
                      <a:pt x="2447" y="649"/>
                    </a:lnTo>
                    <a:lnTo>
                      <a:pt x="2113" y="752"/>
                    </a:lnTo>
                    <a:lnTo>
                      <a:pt x="1842" y="908"/>
                    </a:lnTo>
                    <a:lnTo>
                      <a:pt x="1563" y="1025"/>
                    </a:lnTo>
                    <a:lnTo>
                      <a:pt x="1265" y="1156"/>
                    </a:lnTo>
                    <a:lnTo>
                      <a:pt x="1182" y="1219"/>
                    </a:lnTo>
                    <a:lnTo>
                      <a:pt x="1005" y="1065"/>
                    </a:lnTo>
                    <a:lnTo>
                      <a:pt x="772" y="882"/>
                    </a:lnTo>
                    <a:lnTo>
                      <a:pt x="577" y="816"/>
                    </a:lnTo>
                    <a:lnTo>
                      <a:pt x="334" y="765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5"/>
              <p:cNvSpPr/>
              <p:nvPr/>
            </p:nvSpPr>
            <p:spPr>
              <a:xfrm>
                <a:off x="1258920" y="4967640"/>
                <a:ext cx="3873240" cy="1245960"/>
              </a:xfrm>
              <a:custGeom>
                <a:avLst/>
                <a:gdLst/>
                <a:ahLst/>
                <a:rect l="l" t="t" r="r" b="b"/>
                <a:pathLst>
                  <a:path w="3637" h="1261">
                    <a:moveTo>
                      <a:pt x="241" y="573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8" y="779"/>
                    </a:lnTo>
                    <a:lnTo>
                      <a:pt x="613" y="819"/>
                    </a:lnTo>
                    <a:lnTo>
                      <a:pt x="733" y="883"/>
                    </a:lnTo>
                    <a:lnTo>
                      <a:pt x="902" y="999"/>
                    </a:lnTo>
                    <a:lnTo>
                      <a:pt x="1051" y="1156"/>
                    </a:lnTo>
                    <a:lnTo>
                      <a:pt x="1209" y="1233"/>
                    </a:lnTo>
                    <a:lnTo>
                      <a:pt x="1312" y="1261"/>
                    </a:lnTo>
                    <a:lnTo>
                      <a:pt x="1451" y="1144"/>
                    </a:lnTo>
                    <a:lnTo>
                      <a:pt x="1591" y="1026"/>
                    </a:lnTo>
                    <a:lnTo>
                      <a:pt x="1869" y="883"/>
                    </a:lnTo>
                    <a:lnTo>
                      <a:pt x="2102" y="791"/>
                    </a:lnTo>
                    <a:lnTo>
                      <a:pt x="2473" y="623"/>
                    </a:lnTo>
                    <a:lnTo>
                      <a:pt x="3051" y="417"/>
                    </a:lnTo>
                    <a:lnTo>
                      <a:pt x="3238" y="352"/>
                    </a:lnTo>
                    <a:lnTo>
                      <a:pt x="3422" y="325"/>
                    </a:lnTo>
                    <a:lnTo>
                      <a:pt x="3637" y="352"/>
                    </a:lnTo>
                    <a:lnTo>
                      <a:pt x="3219" y="249"/>
                    </a:lnTo>
                    <a:lnTo>
                      <a:pt x="2921" y="262"/>
                    </a:lnTo>
                    <a:lnTo>
                      <a:pt x="2502" y="183"/>
                    </a:lnTo>
                    <a:lnTo>
                      <a:pt x="2195" y="65"/>
                    </a:lnTo>
                    <a:lnTo>
                      <a:pt x="1962" y="0"/>
                    </a:lnTo>
                    <a:lnTo>
                      <a:pt x="1684" y="183"/>
                    </a:lnTo>
                    <a:lnTo>
                      <a:pt x="1172" y="391"/>
                    </a:lnTo>
                    <a:lnTo>
                      <a:pt x="697" y="521"/>
                    </a:lnTo>
                    <a:lnTo>
                      <a:pt x="241" y="573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6"/>
              <p:cNvSpPr/>
              <p:nvPr/>
            </p:nvSpPr>
            <p:spPr>
              <a:xfrm>
                <a:off x="1290600" y="4878000"/>
                <a:ext cx="3684240" cy="120492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4" y="570"/>
                    </a:lnTo>
                    <a:lnTo>
                      <a:pt x="594" y="544"/>
                    </a:lnTo>
                    <a:lnTo>
                      <a:pt x="809" y="506"/>
                    </a:lnTo>
                    <a:lnTo>
                      <a:pt x="1135" y="402"/>
                    </a:lnTo>
                    <a:lnTo>
                      <a:pt x="1442" y="272"/>
                    </a:lnTo>
                    <a:lnTo>
                      <a:pt x="1674" y="180"/>
                    </a:lnTo>
                    <a:lnTo>
                      <a:pt x="1814" y="103"/>
                    </a:lnTo>
                    <a:lnTo>
                      <a:pt x="1907" y="0"/>
                    </a:lnTo>
                    <a:lnTo>
                      <a:pt x="2103" y="89"/>
                    </a:lnTo>
                    <a:lnTo>
                      <a:pt x="2317" y="128"/>
                    </a:lnTo>
                    <a:lnTo>
                      <a:pt x="2641" y="235"/>
                    </a:lnTo>
                    <a:lnTo>
                      <a:pt x="2969" y="272"/>
                    </a:lnTo>
                    <a:lnTo>
                      <a:pt x="3247" y="235"/>
                    </a:lnTo>
                    <a:lnTo>
                      <a:pt x="3461" y="205"/>
                    </a:lnTo>
                    <a:lnTo>
                      <a:pt x="3238" y="351"/>
                    </a:lnTo>
                    <a:lnTo>
                      <a:pt x="3071" y="414"/>
                    </a:lnTo>
                    <a:lnTo>
                      <a:pt x="2876" y="519"/>
                    </a:lnTo>
                    <a:lnTo>
                      <a:pt x="2445" y="648"/>
                    </a:lnTo>
                    <a:lnTo>
                      <a:pt x="2111" y="752"/>
                    </a:lnTo>
                    <a:lnTo>
                      <a:pt x="1843" y="908"/>
                    </a:lnTo>
                    <a:lnTo>
                      <a:pt x="1563" y="1025"/>
                    </a:lnTo>
                    <a:lnTo>
                      <a:pt x="1266" y="1154"/>
                    </a:lnTo>
                    <a:lnTo>
                      <a:pt x="1182" y="1219"/>
                    </a:lnTo>
                    <a:lnTo>
                      <a:pt x="1006" y="1062"/>
                    </a:lnTo>
                    <a:lnTo>
                      <a:pt x="771" y="880"/>
                    </a:lnTo>
                    <a:lnTo>
                      <a:pt x="576" y="817"/>
                    </a:lnTo>
                    <a:lnTo>
                      <a:pt x="334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7"/>
              <p:cNvSpPr/>
              <p:nvPr/>
            </p:nvSpPr>
            <p:spPr>
              <a:xfrm>
                <a:off x="1347840" y="4724280"/>
                <a:ext cx="3870360" cy="1243080"/>
              </a:xfrm>
              <a:custGeom>
                <a:avLst/>
                <a:gdLst/>
                <a:ahLst/>
                <a:rect l="l" t="t" r="r" b="b"/>
                <a:pathLst>
                  <a:path w="3636" h="1258">
                    <a:moveTo>
                      <a:pt x="240" y="570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7" y="778"/>
                    </a:lnTo>
                    <a:lnTo>
                      <a:pt x="613" y="818"/>
                    </a:lnTo>
                    <a:lnTo>
                      <a:pt x="734" y="882"/>
                    </a:lnTo>
                    <a:lnTo>
                      <a:pt x="902" y="999"/>
                    </a:lnTo>
                    <a:lnTo>
                      <a:pt x="1050" y="1152"/>
                    </a:lnTo>
                    <a:lnTo>
                      <a:pt x="1209" y="1232"/>
                    </a:lnTo>
                    <a:lnTo>
                      <a:pt x="1311" y="1258"/>
                    </a:lnTo>
                    <a:lnTo>
                      <a:pt x="1451" y="1141"/>
                    </a:lnTo>
                    <a:lnTo>
                      <a:pt x="1591" y="1024"/>
                    </a:lnTo>
                    <a:lnTo>
                      <a:pt x="1869" y="882"/>
                    </a:lnTo>
                    <a:lnTo>
                      <a:pt x="2102" y="792"/>
                    </a:lnTo>
                    <a:lnTo>
                      <a:pt x="2473" y="623"/>
                    </a:lnTo>
                    <a:lnTo>
                      <a:pt x="3051" y="416"/>
                    </a:lnTo>
                    <a:lnTo>
                      <a:pt x="3238" y="350"/>
                    </a:lnTo>
                    <a:lnTo>
                      <a:pt x="3422" y="324"/>
                    </a:lnTo>
                    <a:lnTo>
                      <a:pt x="3636" y="350"/>
                    </a:lnTo>
                    <a:lnTo>
                      <a:pt x="3218" y="245"/>
                    </a:lnTo>
                    <a:lnTo>
                      <a:pt x="2920" y="259"/>
                    </a:lnTo>
                    <a:lnTo>
                      <a:pt x="2501" y="182"/>
                    </a:lnTo>
                    <a:lnTo>
                      <a:pt x="2194" y="66"/>
                    </a:lnTo>
                    <a:lnTo>
                      <a:pt x="1962" y="0"/>
                    </a:lnTo>
                    <a:lnTo>
                      <a:pt x="1684" y="182"/>
                    </a:lnTo>
                    <a:lnTo>
                      <a:pt x="1173" y="391"/>
                    </a:lnTo>
                    <a:lnTo>
                      <a:pt x="696" y="518"/>
                    </a:lnTo>
                    <a:lnTo>
                      <a:pt x="24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18"/>
            <p:cNvGrpSpPr/>
            <p:nvPr/>
          </p:nvGrpSpPr>
          <p:grpSpPr>
            <a:xfrm>
              <a:off x="2600280" y="4914000"/>
              <a:ext cx="1234800" cy="1040760"/>
              <a:chOff x="2600280" y="4914000"/>
              <a:chExt cx="1234800" cy="1040760"/>
            </a:xfrm>
          </p:grpSpPr>
          <p:sp>
            <p:nvSpPr>
              <p:cNvPr id="554" name="Freeform 19"/>
              <p:cNvSpPr/>
              <p:nvPr/>
            </p:nvSpPr>
            <p:spPr>
              <a:xfrm>
                <a:off x="2600280" y="4914000"/>
                <a:ext cx="1216080" cy="554760"/>
              </a:xfrm>
              <a:custGeom>
                <a:avLst/>
                <a:gdLst/>
                <a:ahLst/>
                <a:rect l="l" t="t" r="r" b="b"/>
                <a:pathLst>
                  <a:path w="1143" h="559">
                    <a:moveTo>
                      <a:pt x="0" y="131"/>
                    </a:moveTo>
                    <a:lnTo>
                      <a:pt x="874" y="559"/>
                    </a:lnTo>
                    <a:lnTo>
                      <a:pt x="1143" y="443"/>
                    </a:lnTo>
                    <a:lnTo>
                      <a:pt x="2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bf5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0"/>
              <p:cNvSpPr/>
              <p:nvPr/>
            </p:nvSpPr>
            <p:spPr>
              <a:xfrm>
                <a:off x="3538440" y="5340960"/>
                <a:ext cx="296640" cy="613800"/>
              </a:xfrm>
              <a:custGeom>
                <a:avLst/>
                <a:gdLst/>
                <a:ahLst/>
                <a:rect l="l" t="t" r="r" b="b"/>
                <a:pathLst>
                  <a:path w="279" h="621">
                    <a:moveTo>
                      <a:pt x="0" y="129"/>
                    </a:moveTo>
                    <a:lnTo>
                      <a:pt x="270" y="0"/>
                    </a:lnTo>
                    <a:lnTo>
                      <a:pt x="279" y="492"/>
                    </a:lnTo>
                    <a:lnTo>
                      <a:pt x="0" y="621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7f3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Банковская система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действующих в стране банков и других кредитных учреждений и организ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6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2411280" y="3573360"/>
            <a:ext cx="396108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АЛЬНЫЙ БА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395280" y="5013360"/>
            <a:ext cx="352728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мерческие ба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2"/>
          <p:cNvSpPr/>
          <p:nvPr/>
        </p:nvSpPr>
        <p:spPr>
          <a:xfrm>
            <a:off x="4572000" y="5013360"/>
            <a:ext cx="424800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угие финансово-креди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4"/>
          <p:cNvSpPr/>
          <p:nvPr/>
        </p:nvSpPr>
        <p:spPr>
          <a:xfrm flipH="1">
            <a:off x="2050920" y="4292640"/>
            <a:ext cx="2376720" cy="722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5"/>
          <p:cNvSpPr/>
          <p:nvPr/>
        </p:nvSpPr>
        <p:spPr>
          <a:xfrm>
            <a:off x="4356000" y="4292640"/>
            <a:ext cx="223200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сновные функции Центрального ба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ение денежно- кредитной политики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дитование коммерческих ба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спечение стабильной деятельности банковской и финансовой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держание устойчивости национальной денежной еди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анение запасов денежных средств и зо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Типы коммерческих банк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аслевые ба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определенные отрасли эконом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отраслев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все отрасли эконом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иональные ба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определенные регионы стра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перации коммерческого бан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сив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и по мобилизации денежных ресурсов: прием вкладов (депозитов); получение кредитов от других банков и центрального банка; выпуск собственных ценных бум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ив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и по размещению средств: предоставление различных по срокам и размерам креди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Финансово- кредитные учреж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пливают свободные денежные средства и предоставляют их тем, кто нуждается в дополнительном капитале или финансов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енсионный фон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д, создаваемый частными и государственными компаниями, предприятиями для выплаты пенсий и пособий лицам, вносящим пенсионные взносы в этот фо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нвестиционные компа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о- кредитный институт, собирающий денежные средства частных инвесторов через продажу им собственных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Страховые компа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и, оказывающие страховые услуги, предназначены для возмещения ущерба, потерь несчастными случа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Фондовые бирж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зируются на продаже и покупке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Межгосударственные финансово-кредитные институ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Мировой банк, Международный валютный фонд, Европейский банк реконструкции и развития и др.). Они занимаются финансированием и кредитованием разных стран, содействуют мировой торговле, оказывают помощь в стабилизации финанс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5:44:14Z</dcterms:created>
  <dc:creator>lubasha</dc:creator>
  <dc:description/>
  <dc:language>en-US</dc:language>
  <cp:lastModifiedBy>LEGION</cp:lastModifiedBy>
  <dcterms:modified xsi:type="dcterms:W3CDTF">2015-01-05T09:58:46Z</dcterms:modified>
  <cp:revision>8</cp:revision>
  <dc:subject/>
  <dc:title>Слайд 1</dc:title>
</cp:coreProperties>
</file>