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5DE2-3B6A-4E83-B9D0-B1868B0C136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" Target="../slides/slide2.xml"/><Relationship Id="rId7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ы в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F768-20A2-486F-A0A1-3029CD194E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Инфля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обесценивания денег, который проявляется в виде долговременного повышения цен на товары и услуги (объем денежной массы значительно возрастает – количество товаров и услуг не увеличиваетс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рмы инфля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лзучая инфля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инфляция, при которой темпы роста цен на товары и услуги не превышает 10-15% в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Галопирующая инфля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качкообразный рост ц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Гиперинфля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инфляция с очень высоким темпом роста цен (более 50% в месяц), наиболее тяжелая форма экономического кризи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ED17-461B-49DA-919B-48BF940BA1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Причины инфля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фляция спрос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, когда спрос превышает предложение, что ведет к росту цен (доходы населения  предприятий растут быстрее реального объема товаров и услуг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фляция издержек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ает как следствие повышения издержек на единицу продукции. На уровень издержек производства могут влиять изменение величины налогов на производителя, увеличение з/п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3817-CF49-422F-A0C7-58785FAC5E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Антиинфляционная политика государ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лгосрочная денежная политика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ение жестких ограничений на ежегодные приросты денежной мас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кращение государственного бюджет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мощи увеличения доходов и уменьшения расходов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иинфляционные мероприят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табилизация и стимулирование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вершенствование налогов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ведение мер по регулированию цен и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95ED-3731-4189-98B1-EFE65C6E1F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ы играют огромную роль в структуре рыночных отношений и механизме их государственного регул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9F63-8548-4FC7-BBC9-43B70F17F4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лан уро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е институ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ляция: виды, причины и послед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F86B-E30F-4DBF-A933-4ABBC059D9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Финанс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овокупность экономических отношений в процессе использования денежных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3E08-AF7E-4E3A-8B13-931508A015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00"/>
                </a:solidFill>
                <a:latin typeface="Arial"/>
              </a:rPr>
              <a:t>Банковская система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действующих в стране банков и других кредитных учреждений и организ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F702-E784-46E3-832E-934A479C5C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Основные функции Центрального банк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уществление денежно- кредитной политики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едитование коммерческих бан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еспечение стабильной деятельности банковской и финансовой сис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держание устойчивости национальной денежной един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ранение запасов денежных средств и зол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ECA6-6145-445C-8F2C-977F7D38D5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Типы коммерческих банк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раслевые бан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обслуживают определенные отрасли экономи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жотраслевы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обслуживают все отрасли экономи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гиональные бан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обслуживают определенные регионы стран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4698-7759-4986-B8D8-C4CB0844C6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Операции коммерческого бан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ссивны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перации по мобилизации денежных ресурсов: прием вкладов (депозитов); получение кредитов от других банков и центрального банка; выпуск собственных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ктивны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перации по размещению средств: предоставление различных по срокам и размерам креди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9DFF-9D54-4544-A189-D13C9CEF5E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Финансово- кредитные учрежден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пливают свободные денежные средства и предоставляют их тем, кто нуждается в дополнительном капитале или финансо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Пенсионный фонд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д, создаваемый частными и государственными компаниями, предприятиями для выплаты пенсий и пособий лицам, вносящим пенсионные взносы в этот фон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Инвестиционные компан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о- кредитный институт, собирающий денежные средства частных инвесторов через продажу им собственных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023D-8781-4AC7-BBF0-034A5B3DFA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Страховые компан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и, оказывающие страховые услуги, предназначены для возмещения ущерба, потерь несчастными случа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Фондовые бирж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зируются на продаже и покупке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Межгосударственные финансово-кредитные институт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Мировой банк, Международный валютный фонд, Европейский банк реконструкции и развития и др.). Они занимаются финансированием и кредитованием разных стран, содействуют мировой торговле, оказывают помощь в стабилизации финансов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F8C3-409C-4CF0-831E-CAE2059750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461EC-E853-45F3-BC90-DAC2E1274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AE5F0-FDB9-4A2F-8F8E-2A3A575C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FA134-A0DE-45A1-81BE-050AF7AEB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02B5D-DFD0-48CD-90E2-5579BE057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606DE-17B4-445F-AC52-5D08762DE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0991-BA0B-4B67-86D9-C655B91C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DFB7-3B2B-4A88-9759-E27C74FB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08DD-9E23-4151-B959-0D0D0930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B5FA-2831-4A1A-B609-50CF15C8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0DD7-CA65-445B-8173-0400C636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83CF-BA38-4CA0-B375-6D1826E7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E4667-9D8A-4D6D-A60C-E3FDBD38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FB289-4B4E-4BF7-BDEC-A72470F8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4ABF-006B-4B2A-8002-E7068A19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CE5EB-95DA-4355-889B-E2EA40EB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8B09-6039-4E0D-B915-6E87BB291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149A-B2D6-4C3B-93F4-0C4765237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DF24F-3BB3-4192-ABCC-B7AE4530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FE8D2-C2E7-4741-B9D5-1CA502A5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50BC4-F4E7-4B45-8B8F-D1ADE031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3F635-DBF9-46E8-85CB-673F02C7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8DB66-7C63-4F8B-8C94-7E3B5489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059D5-CAD4-4B42-AA20-BFC7E68C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5540E-7DF0-4349-8166-E7006E71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A9B2-1BC4-4FB0-A8BF-67F203F3A7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624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868F-0781-4BF9-9A81-00110358BD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7807320" cy="1074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5"/>
          <p:cNvSpPr/>
          <p:nvPr/>
        </p:nvSpPr>
        <p:spPr>
          <a:xfrm>
            <a:off x="214200" y="1285920"/>
            <a:ext cx="849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Финансы в экономик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3" name="Object 6"/>
          <p:cNvGraphicFramePr/>
          <p:nvPr/>
        </p:nvGraphicFramePr>
        <p:xfrm>
          <a:off x="2643120" y="2071800"/>
          <a:ext cx="3240000" cy="368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3120" y="2071800"/>
                    <a:ext cx="3240000" cy="36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5" name="Group 10"/>
          <p:cNvGrpSpPr/>
          <p:nvPr/>
        </p:nvGrpSpPr>
        <p:grpSpPr>
          <a:xfrm>
            <a:off x="4786200" y="4357800"/>
            <a:ext cx="3959640" cy="1794240"/>
            <a:chOff x="4786200" y="4357800"/>
            <a:chExt cx="3959640" cy="1794240"/>
          </a:xfrm>
        </p:grpSpPr>
        <p:grpSp>
          <p:nvGrpSpPr>
            <p:cNvPr id="526" name="Group 11"/>
            <p:cNvGrpSpPr/>
            <p:nvPr/>
          </p:nvGrpSpPr>
          <p:grpSpPr>
            <a:xfrm>
              <a:off x="4786200" y="4357800"/>
              <a:ext cx="3959640" cy="1794240"/>
              <a:chOff x="4786200" y="4357800"/>
              <a:chExt cx="3959640" cy="1794240"/>
            </a:xfrm>
          </p:grpSpPr>
          <p:sp>
            <p:nvSpPr>
              <p:cNvPr id="527" name="Freeform 12"/>
              <p:cNvSpPr/>
              <p:nvPr/>
            </p:nvSpPr>
            <p:spPr>
              <a:xfrm>
                <a:off x="4845960" y="4909320"/>
                <a:ext cx="3870720" cy="1242720"/>
              </a:xfrm>
              <a:custGeom>
                <a:avLst/>
                <a:gdLst/>
                <a:ahLst/>
                <a:rect l="l" t="t" r="r" b="b"/>
                <a:pathLst>
                  <a:path w="3638" h="1257">
                    <a:moveTo>
                      <a:pt x="241" y="570"/>
                    </a:moveTo>
                    <a:lnTo>
                      <a:pt x="0" y="623"/>
                    </a:lnTo>
                    <a:lnTo>
                      <a:pt x="213" y="713"/>
                    </a:lnTo>
                    <a:lnTo>
                      <a:pt x="427" y="776"/>
                    </a:lnTo>
                    <a:lnTo>
                      <a:pt x="614" y="817"/>
                    </a:lnTo>
                    <a:lnTo>
                      <a:pt x="734" y="883"/>
                    </a:lnTo>
                    <a:lnTo>
                      <a:pt x="903" y="999"/>
                    </a:lnTo>
                    <a:lnTo>
                      <a:pt x="1052" y="1153"/>
                    </a:lnTo>
                    <a:lnTo>
                      <a:pt x="1210" y="1233"/>
                    </a:lnTo>
                    <a:lnTo>
                      <a:pt x="1313" y="1257"/>
                    </a:lnTo>
                    <a:lnTo>
                      <a:pt x="1453" y="1141"/>
                    </a:lnTo>
                    <a:lnTo>
                      <a:pt x="1591" y="1025"/>
                    </a:lnTo>
                    <a:lnTo>
                      <a:pt x="1871" y="883"/>
                    </a:lnTo>
                    <a:lnTo>
                      <a:pt x="2103" y="790"/>
                    </a:lnTo>
                    <a:lnTo>
                      <a:pt x="2474" y="623"/>
                    </a:lnTo>
                    <a:lnTo>
                      <a:pt x="3053" y="415"/>
                    </a:lnTo>
                    <a:lnTo>
                      <a:pt x="3238" y="350"/>
                    </a:lnTo>
                    <a:lnTo>
                      <a:pt x="3424" y="324"/>
                    </a:lnTo>
                    <a:lnTo>
                      <a:pt x="3638" y="350"/>
                    </a:lnTo>
                    <a:lnTo>
                      <a:pt x="3220" y="246"/>
                    </a:lnTo>
                    <a:lnTo>
                      <a:pt x="2922" y="260"/>
                    </a:lnTo>
                    <a:lnTo>
                      <a:pt x="2502" y="182"/>
                    </a:lnTo>
                    <a:lnTo>
                      <a:pt x="2195" y="65"/>
                    </a:lnTo>
                    <a:lnTo>
                      <a:pt x="1963" y="0"/>
                    </a:lnTo>
                    <a:lnTo>
                      <a:pt x="1684" y="182"/>
                    </a:lnTo>
                    <a:lnTo>
                      <a:pt x="1173" y="389"/>
                    </a:lnTo>
                    <a:lnTo>
                      <a:pt x="698" y="518"/>
                    </a:lnTo>
                    <a:lnTo>
                      <a:pt x="241" y="570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13"/>
              <p:cNvSpPr/>
              <p:nvPr/>
            </p:nvSpPr>
            <p:spPr>
              <a:xfrm>
                <a:off x="4836600" y="4805640"/>
                <a:ext cx="3685320" cy="1207080"/>
              </a:xfrm>
              <a:custGeom>
                <a:avLst/>
                <a:gdLst/>
                <a:ahLst/>
                <a:rect l="l" t="t" r="r" b="b"/>
                <a:pathLst>
                  <a:path w="3461" h="1219">
                    <a:moveTo>
                      <a:pt x="0" y="570"/>
                    </a:moveTo>
                    <a:lnTo>
                      <a:pt x="326" y="570"/>
                    </a:lnTo>
                    <a:lnTo>
                      <a:pt x="596" y="545"/>
                    </a:lnTo>
                    <a:lnTo>
                      <a:pt x="809" y="506"/>
                    </a:lnTo>
                    <a:lnTo>
                      <a:pt x="1135" y="403"/>
                    </a:lnTo>
                    <a:lnTo>
                      <a:pt x="1442" y="272"/>
                    </a:lnTo>
                    <a:lnTo>
                      <a:pt x="1675" y="182"/>
                    </a:lnTo>
                    <a:lnTo>
                      <a:pt x="1814" y="104"/>
                    </a:lnTo>
                    <a:lnTo>
                      <a:pt x="1908" y="0"/>
                    </a:lnTo>
                    <a:lnTo>
                      <a:pt x="2103" y="90"/>
                    </a:lnTo>
                    <a:lnTo>
                      <a:pt x="2316" y="130"/>
                    </a:lnTo>
                    <a:lnTo>
                      <a:pt x="2642" y="232"/>
                    </a:lnTo>
                    <a:lnTo>
                      <a:pt x="2969" y="272"/>
                    </a:lnTo>
                    <a:lnTo>
                      <a:pt x="3248" y="232"/>
                    </a:lnTo>
                    <a:lnTo>
                      <a:pt x="3461" y="208"/>
                    </a:lnTo>
                    <a:lnTo>
                      <a:pt x="3238" y="350"/>
                    </a:lnTo>
                    <a:lnTo>
                      <a:pt x="3071" y="414"/>
                    </a:lnTo>
                    <a:lnTo>
                      <a:pt x="2875" y="519"/>
                    </a:lnTo>
                    <a:lnTo>
                      <a:pt x="2447" y="648"/>
                    </a:lnTo>
                    <a:lnTo>
                      <a:pt x="2112" y="752"/>
                    </a:lnTo>
                    <a:lnTo>
                      <a:pt x="1842" y="907"/>
                    </a:lnTo>
                    <a:lnTo>
                      <a:pt x="1562" y="1024"/>
                    </a:lnTo>
                    <a:lnTo>
                      <a:pt x="1266" y="1155"/>
                    </a:lnTo>
                    <a:lnTo>
                      <a:pt x="1182" y="1219"/>
                    </a:lnTo>
                    <a:lnTo>
                      <a:pt x="1005" y="1063"/>
                    </a:lnTo>
                    <a:lnTo>
                      <a:pt x="772" y="880"/>
                    </a:lnTo>
                    <a:lnTo>
                      <a:pt x="576" y="817"/>
                    </a:lnTo>
                    <a:lnTo>
                      <a:pt x="335" y="764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14"/>
              <p:cNvSpPr/>
              <p:nvPr/>
            </p:nvSpPr>
            <p:spPr>
              <a:xfrm>
                <a:off x="4856400" y="4704840"/>
                <a:ext cx="3684600" cy="1203840"/>
              </a:xfrm>
              <a:custGeom>
                <a:avLst/>
                <a:gdLst/>
                <a:ahLst/>
                <a:rect l="l" t="t" r="r" b="b"/>
                <a:pathLst>
                  <a:path w="3461" h="1219">
                    <a:moveTo>
                      <a:pt x="0" y="570"/>
                    </a:moveTo>
                    <a:lnTo>
                      <a:pt x="326" y="570"/>
                    </a:lnTo>
                    <a:lnTo>
                      <a:pt x="594" y="544"/>
                    </a:lnTo>
                    <a:lnTo>
                      <a:pt x="808" y="507"/>
                    </a:lnTo>
                    <a:lnTo>
                      <a:pt x="1136" y="402"/>
                    </a:lnTo>
                    <a:lnTo>
                      <a:pt x="1443" y="273"/>
                    </a:lnTo>
                    <a:lnTo>
                      <a:pt x="1675" y="183"/>
                    </a:lnTo>
                    <a:lnTo>
                      <a:pt x="1814" y="104"/>
                    </a:lnTo>
                    <a:lnTo>
                      <a:pt x="1907" y="0"/>
                    </a:lnTo>
                    <a:lnTo>
                      <a:pt x="2102" y="92"/>
                    </a:lnTo>
                    <a:lnTo>
                      <a:pt x="2317" y="130"/>
                    </a:lnTo>
                    <a:lnTo>
                      <a:pt x="2642" y="234"/>
                    </a:lnTo>
                    <a:lnTo>
                      <a:pt x="2968" y="273"/>
                    </a:lnTo>
                    <a:lnTo>
                      <a:pt x="3247" y="234"/>
                    </a:lnTo>
                    <a:lnTo>
                      <a:pt x="3461" y="208"/>
                    </a:lnTo>
                    <a:lnTo>
                      <a:pt x="3237" y="350"/>
                    </a:lnTo>
                    <a:lnTo>
                      <a:pt x="3070" y="416"/>
                    </a:lnTo>
                    <a:lnTo>
                      <a:pt x="2875" y="518"/>
                    </a:lnTo>
                    <a:lnTo>
                      <a:pt x="2447" y="649"/>
                    </a:lnTo>
                    <a:lnTo>
                      <a:pt x="2113" y="752"/>
                    </a:lnTo>
                    <a:lnTo>
                      <a:pt x="1842" y="908"/>
                    </a:lnTo>
                    <a:lnTo>
                      <a:pt x="1563" y="1025"/>
                    </a:lnTo>
                    <a:lnTo>
                      <a:pt x="1265" y="1156"/>
                    </a:lnTo>
                    <a:lnTo>
                      <a:pt x="1182" y="1219"/>
                    </a:lnTo>
                    <a:lnTo>
                      <a:pt x="1005" y="1065"/>
                    </a:lnTo>
                    <a:lnTo>
                      <a:pt x="772" y="882"/>
                    </a:lnTo>
                    <a:lnTo>
                      <a:pt x="577" y="816"/>
                    </a:lnTo>
                    <a:lnTo>
                      <a:pt x="334" y="765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f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5"/>
              <p:cNvSpPr/>
              <p:nvPr/>
            </p:nvSpPr>
            <p:spPr>
              <a:xfrm>
                <a:off x="4786200" y="4601160"/>
                <a:ext cx="3873600" cy="1245600"/>
              </a:xfrm>
              <a:custGeom>
                <a:avLst/>
                <a:gdLst/>
                <a:ahLst/>
                <a:rect l="l" t="t" r="r" b="b"/>
                <a:pathLst>
                  <a:path w="3637" h="1261">
                    <a:moveTo>
                      <a:pt x="241" y="573"/>
                    </a:moveTo>
                    <a:lnTo>
                      <a:pt x="0" y="623"/>
                    </a:lnTo>
                    <a:lnTo>
                      <a:pt x="212" y="715"/>
                    </a:lnTo>
                    <a:lnTo>
                      <a:pt x="428" y="779"/>
                    </a:lnTo>
                    <a:lnTo>
                      <a:pt x="613" y="819"/>
                    </a:lnTo>
                    <a:lnTo>
                      <a:pt x="733" y="883"/>
                    </a:lnTo>
                    <a:lnTo>
                      <a:pt x="902" y="999"/>
                    </a:lnTo>
                    <a:lnTo>
                      <a:pt x="1051" y="1156"/>
                    </a:lnTo>
                    <a:lnTo>
                      <a:pt x="1209" y="1233"/>
                    </a:lnTo>
                    <a:lnTo>
                      <a:pt x="1312" y="1261"/>
                    </a:lnTo>
                    <a:lnTo>
                      <a:pt x="1451" y="1144"/>
                    </a:lnTo>
                    <a:lnTo>
                      <a:pt x="1591" y="1026"/>
                    </a:lnTo>
                    <a:lnTo>
                      <a:pt x="1869" y="883"/>
                    </a:lnTo>
                    <a:lnTo>
                      <a:pt x="2102" y="791"/>
                    </a:lnTo>
                    <a:lnTo>
                      <a:pt x="2473" y="623"/>
                    </a:lnTo>
                    <a:lnTo>
                      <a:pt x="3051" y="417"/>
                    </a:lnTo>
                    <a:lnTo>
                      <a:pt x="3238" y="352"/>
                    </a:lnTo>
                    <a:lnTo>
                      <a:pt x="3422" y="325"/>
                    </a:lnTo>
                    <a:lnTo>
                      <a:pt x="3637" y="352"/>
                    </a:lnTo>
                    <a:lnTo>
                      <a:pt x="3219" y="249"/>
                    </a:lnTo>
                    <a:lnTo>
                      <a:pt x="2921" y="262"/>
                    </a:lnTo>
                    <a:lnTo>
                      <a:pt x="2502" y="183"/>
                    </a:lnTo>
                    <a:lnTo>
                      <a:pt x="2195" y="65"/>
                    </a:lnTo>
                    <a:lnTo>
                      <a:pt x="1962" y="0"/>
                    </a:lnTo>
                    <a:lnTo>
                      <a:pt x="1684" y="183"/>
                    </a:lnTo>
                    <a:lnTo>
                      <a:pt x="1172" y="391"/>
                    </a:lnTo>
                    <a:lnTo>
                      <a:pt x="697" y="521"/>
                    </a:lnTo>
                    <a:lnTo>
                      <a:pt x="241" y="573"/>
                    </a:lnTo>
                    <a:close/>
                  </a:path>
                </a:pathLst>
              </a:custGeom>
              <a:solidFill>
                <a:srgbClr val="0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6"/>
              <p:cNvSpPr/>
              <p:nvPr/>
            </p:nvSpPr>
            <p:spPr>
              <a:xfrm>
                <a:off x="4817880" y="4511520"/>
                <a:ext cx="3684600" cy="1204560"/>
              </a:xfrm>
              <a:custGeom>
                <a:avLst/>
                <a:gdLst/>
                <a:ahLst/>
                <a:rect l="l" t="t" r="r" b="b"/>
                <a:pathLst>
                  <a:path w="3461" h="1219">
                    <a:moveTo>
                      <a:pt x="0" y="570"/>
                    </a:moveTo>
                    <a:lnTo>
                      <a:pt x="324" y="570"/>
                    </a:lnTo>
                    <a:lnTo>
                      <a:pt x="594" y="544"/>
                    </a:lnTo>
                    <a:lnTo>
                      <a:pt x="809" y="506"/>
                    </a:lnTo>
                    <a:lnTo>
                      <a:pt x="1135" y="402"/>
                    </a:lnTo>
                    <a:lnTo>
                      <a:pt x="1442" y="272"/>
                    </a:lnTo>
                    <a:lnTo>
                      <a:pt x="1674" y="180"/>
                    </a:lnTo>
                    <a:lnTo>
                      <a:pt x="1814" y="103"/>
                    </a:lnTo>
                    <a:lnTo>
                      <a:pt x="1907" y="0"/>
                    </a:lnTo>
                    <a:lnTo>
                      <a:pt x="2103" y="89"/>
                    </a:lnTo>
                    <a:lnTo>
                      <a:pt x="2317" y="128"/>
                    </a:lnTo>
                    <a:lnTo>
                      <a:pt x="2641" y="235"/>
                    </a:lnTo>
                    <a:lnTo>
                      <a:pt x="2969" y="272"/>
                    </a:lnTo>
                    <a:lnTo>
                      <a:pt x="3247" y="235"/>
                    </a:lnTo>
                    <a:lnTo>
                      <a:pt x="3461" y="205"/>
                    </a:lnTo>
                    <a:lnTo>
                      <a:pt x="3238" y="351"/>
                    </a:lnTo>
                    <a:lnTo>
                      <a:pt x="3071" y="414"/>
                    </a:lnTo>
                    <a:lnTo>
                      <a:pt x="2876" y="519"/>
                    </a:lnTo>
                    <a:lnTo>
                      <a:pt x="2445" y="648"/>
                    </a:lnTo>
                    <a:lnTo>
                      <a:pt x="2111" y="752"/>
                    </a:lnTo>
                    <a:lnTo>
                      <a:pt x="1843" y="908"/>
                    </a:lnTo>
                    <a:lnTo>
                      <a:pt x="1563" y="1025"/>
                    </a:lnTo>
                    <a:lnTo>
                      <a:pt x="1266" y="1154"/>
                    </a:lnTo>
                    <a:lnTo>
                      <a:pt x="1182" y="1219"/>
                    </a:lnTo>
                    <a:lnTo>
                      <a:pt x="1006" y="1062"/>
                    </a:lnTo>
                    <a:lnTo>
                      <a:pt x="771" y="880"/>
                    </a:lnTo>
                    <a:lnTo>
                      <a:pt x="576" y="817"/>
                    </a:lnTo>
                    <a:lnTo>
                      <a:pt x="334" y="764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f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17"/>
              <p:cNvSpPr/>
              <p:nvPr/>
            </p:nvSpPr>
            <p:spPr>
              <a:xfrm>
                <a:off x="4875120" y="4357800"/>
                <a:ext cx="3870720" cy="1242720"/>
              </a:xfrm>
              <a:custGeom>
                <a:avLst/>
                <a:gdLst/>
                <a:ahLst/>
                <a:rect l="l" t="t" r="r" b="b"/>
                <a:pathLst>
                  <a:path w="3636" h="1258">
                    <a:moveTo>
                      <a:pt x="240" y="570"/>
                    </a:moveTo>
                    <a:lnTo>
                      <a:pt x="0" y="623"/>
                    </a:lnTo>
                    <a:lnTo>
                      <a:pt x="212" y="715"/>
                    </a:lnTo>
                    <a:lnTo>
                      <a:pt x="427" y="778"/>
                    </a:lnTo>
                    <a:lnTo>
                      <a:pt x="613" y="818"/>
                    </a:lnTo>
                    <a:lnTo>
                      <a:pt x="734" y="882"/>
                    </a:lnTo>
                    <a:lnTo>
                      <a:pt x="902" y="999"/>
                    </a:lnTo>
                    <a:lnTo>
                      <a:pt x="1050" y="1152"/>
                    </a:lnTo>
                    <a:lnTo>
                      <a:pt x="1209" y="1232"/>
                    </a:lnTo>
                    <a:lnTo>
                      <a:pt x="1311" y="1258"/>
                    </a:lnTo>
                    <a:lnTo>
                      <a:pt x="1451" y="1141"/>
                    </a:lnTo>
                    <a:lnTo>
                      <a:pt x="1591" y="1024"/>
                    </a:lnTo>
                    <a:lnTo>
                      <a:pt x="1869" y="882"/>
                    </a:lnTo>
                    <a:lnTo>
                      <a:pt x="2102" y="792"/>
                    </a:lnTo>
                    <a:lnTo>
                      <a:pt x="2473" y="623"/>
                    </a:lnTo>
                    <a:lnTo>
                      <a:pt x="3051" y="416"/>
                    </a:lnTo>
                    <a:lnTo>
                      <a:pt x="3238" y="350"/>
                    </a:lnTo>
                    <a:lnTo>
                      <a:pt x="3422" y="324"/>
                    </a:lnTo>
                    <a:lnTo>
                      <a:pt x="3636" y="350"/>
                    </a:lnTo>
                    <a:lnTo>
                      <a:pt x="3218" y="245"/>
                    </a:lnTo>
                    <a:lnTo>
                      <a:pt x="2920" y="259"/>
                    </a:lnTo>
                    <a:lnTo>
                      <a:pt x="2501" y="182"/>
                    </a:lnTo>
                    <a:lnTo>
                      <a:pt x="2194" y="66"/>
                    </a:lnTo>
                    <a:lnTo>
                      <a:pt x="1962" y="0"/>
                    </a:lnTo>
                    <a:lnTo>
                      <a:pt x="1684" y="182"/>
                    </a:lnTo>
                    <a:lnTo>
                      <a:pt x="1173" y="391"/>
                    </a:lnTo>
                    <a:lnTo>
                      <a:pt x="696" y="518"/>
                    </a:lnTo>
                    <a:lnTo>
                      <a:pt x="240" y="570"/>
                    </a:lnTo>
                    <a:close/>
                  </a:path>
                </a:pathLst>
              </a:custGeom>
              <a:solidFill>
                <a:srgbClr val="0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3" name="Group 18"/>
            <p:cNvGrpSpPr/>
            <p:nvPr/>
          </p:nvGrpSpPr>
          <p:grpSpPr>
            <a:xfrm>
              <a:off x="6127560" y="4547520"/>
              <a:ext cx="1234800" cy="1040760"/>
              <a:chOff x="6127560" y="4547520"/>
              <a:chExt cx="1234800" cy="1040760"/>
            </a:xfrm>
          </p:grpSpPr>
          <p:sp>
            <p:nvSpPr>
              <p:cNvPr id="534" name="Freeform 19"/>
              <p:cNvSpPr/>
              <p:nvPr/>
            </p:nvSpPr>
            <p:spPr>
              <a:xfrm>
                <a:off x="6127560" y="4547520"/>
                <a:ext cx="1216080" cy="554760"/>
              </a:xfrm>
              <a:custGeom>
                <a:avLst/>
                <a:gdLst/>
                <a:ahLst/>
                <a:rect l="l" t="t" r="r" b="b"/>
                <a:pathLst>
                  <a:path w="1143" h="559">
                    <a:moveTo>
                      <a:pt x="0" y="131"/>
                    </a:moveTo>
                    <a:lnTo>
                      <a:pt x="874" y="559"/>
                    </a:lnTo>
                    <a:lnTo>
                      <a:pt x="1143" y="443"/>
                    </a:lnTo>
                    <a:lnTo>
                      <a:pt x="268" y="0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fbf5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20"/>
              <p:cNvSpPr/>
              <p:nvPr/>
            </p:nvSpPr>
            <p:spPr>
              <a:xfrm>
                <a:off x="7065720" y="4974480"/>
                <a:ext cx="296640" cy="613800"/>
              </a:xfrm>
              <a:custGeom>
                <a:avLst/>
                <a:gdLst/>
                <a:ahLst/>
                <a:rect l="l" t="t" r="r" b="b"/>
                <a:pathLst>
                  <a:path w="279" h="621">
                    <a:moveTo>
                      <a:pt x="0" y="129"/>
                    </a:moveTo>
                    <a:lnTo>
                      <a:pt x="270" y="0"/>
                    </a:lnTo>
                    <a:lnTo>
                      <a:pt x="279" y="492"/>
                    </a:lnTo>
                    <a:lnTo>
                      <a:pt x="0" y="621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7f3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218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Инфля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сс обесценивания денег, который проявляется в виде долговременного повышения цен на товары и услуги (объем денежной массы значительно возрастает – количество товаров и услуг не увеличиваетс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ы инфля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лзучая инфля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инфляция, при которой темпы роста цен на товары и услуги не превышает 10-15% в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алопирующая инфля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качкообразный рост ц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иперинфля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инфляция с очень высоким темпом роста цен (более 50% в месяц), наиболее тяжелая форма экономического криз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4"/>
          <p:cNvSpPr/>
          <p:nvPr/>
        </p:nvSpPr>
        <p:spPr>
          <a:xfrm>
            <a:off x="250920" y="260280"/>
            <a:ext cx="6408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ляция: виды, причины и послед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Причины инфля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фляция спрос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является, когда спрос превышает предложение, что ведет к росту цен (доходы населения  предприятий растут быстрее реального объема товаров и услу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фляция издержек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никает как следствие повышения издержек на единицу продукции. На уровень издержек производства могут влиять изменение величины налогов на производителя, увеличение з/п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4"/>
          <p:cNvSpPr/>
          <p:nvPr/>
        </p:nvSpPr>
        <p:spPr>
          <a:xfrm>
            <a:off x="250920" y="260280"/>
            <a:ext cx="6408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ляция: виды, причины и послед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843588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Антиинфляционная политика государст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лгосрочная денежная политика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дение жестких ограничений на ежегодные приросты денежной мас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кращение государственного бюдже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помощи увеличения доходов и уменьшения расходов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тиинфляционные мероприят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табилизация и стимулирование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овершенствование налогов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оведение мер по регулированию цен и до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4"/>
          <p:cNvSpPr/>
          <p:nvPr/>
        </p:nvSpPr>
        <p:spPr>
          <a:xfrm>
            <a:off x="250920" y="260280"/>
            <a:ext cx="6408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ляция: виды, причины и послед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инансы играют огромную роль в структуре рыночных отношений и механизме их государственного регулиров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4"/>
          <p:cNvSpPr/>
          <p:nvPr/>
        </p:nvSpPr>
        <p:spPr>
          <a:xfrm>
            <a:off x="250920" y="260280"/>
            <a:ext cx="6408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лан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нансовые институ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ляция: виды, причины и послед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3708360" cy="3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0" y="148428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Финанс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совокупность экономических отношений в процессе использования денежных сред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4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3" name="Object 8"/>
          <p:cNvGraphicFramePr/>
          <p:nvPr/>
        </p:nvGraphicFramePr>
        <p:xfrm>
          <a:off x="395280" y="2060640"/>
          <a:ext cx="3240000" cy="368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060640"/>
                    <a:ext cx="3240000" cy="36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5" name="Group 10"/>
          <p:cNvGrpSpPr/>
          <p:nvPr/>
        </p:nvGrpSpPr>
        <p:grpSpPr>
          <a:xfrm>
            <a:off x="1258920" y="4724280"/>
            <a:ext cx="3959280" cy="1794600"/>
            <a:chOff x="1258920" y="4724280"/>
            <a:chExt cx="3959280" cy="1794600"/>
          </a:xfrm>
        </p:grpSpPr>
        <p:grpSp>
          <p:nvGrpSpPr>
            <p:cNvPr id="546" name="Group 11"/>
            <p:cNvGrpSpPr/>
            <p:nvPr/>
          </p:nvGrpSpPr>
          <p:grpSpPr>
            <a:xfrm>
              <a:off x="1258920" y="4724280"/>
              <a:ext cx="3959280" cy="1794600"/>
              <a:chOff x="1258920" y="4724280"/>
              <a:chExt cx="3959280" cy="1794600"/>
            </a:xfrm>
          </p:grpSpPr>
          <p:sp>
            <p:nvSpPr>
              <p:cNvPr id="547" name="Freeform 12"/>
              <p:cNvSpPr/>
              <p:nvPr/>
            </p:nvSpPr>
            <p:spPr>
              <a:xfrm>
                <a:off x="1318680" y="5275800"/>
                <a:ext cx="3870360" cy="1243080"/>
              </a:xfrm>
              <a:custGeom>
                <a:avLst/>
                <a:gdLst/>
                <a:ahLst/>
                <a:rect l="l" t="t" r="r" b="b"/>
                <a:pathLst>
                  <a:path w="3638" h="1257">
                    <a:moveTo>
                      <a:pt x="241" y="570"/>
                    </a:moveTo>
                    <a:lnTo>
                      <a:pt x="0" y="623"/>
                    </a:lnTo>
                    <a:lnTo>
                      <a:pt x="213" y="713"/>
                    </a:lnTo>
                    <a:lnTo>
                      <a:pt x="427" y="776"/>
                    </a:lnTo>
                    <a:lnTo>
                      <a:pt x="614" y="817"/>
                    </a:lnTo>
                    <a:lnTo>
                      <a:pt x="734" y="883"/>
                    </a:lnTo>
                    <a:lnTo>
                      <a:pt x="903" y="999"/>
                    </a:lnTo>
                    <a:lnTo>
                      <a:pt x="1052" y="1153"/>
                    </a:lnTo>
                    <a:lnTo>
                      <a:pt x="1210" y="1233"/>
                    </a:lnTo>
                    <a:lnTo>
                      <a:pt x="1313" y="1257"/>
                    </a:lnTo>
                    <a:lnTo>
                      <a:pt x="1453" y="1141"/>
                    </a:lnTo>
                    <a:lnTo>
                      <a:pt x="1591" y="1025"/>
                    </a:lnTo>
                    <a:lnTo>
                      <a:pt x="1871" y="883"/>
                    </a:lnTo>
                    <a:lnTo>
                      <a:pt x="2103" y="790"/>
                    </a:lnTo>
                    <a:lnTo>
                      <a:pt x="2474" y="623"/>
                    </a:lnTo>
                    <a:lnTo>
                      <a:pt x="3053" y="415"/>
                    </a:lnTo>
                    <a:lnTo>
                      <a:pt x="3238" y="350"/>
                    </a:lnTo>
                    <a:lnTo>
                      <a:pt x="3424" y="324"/>
                    </a:lnTo>
                    <a:lnTo>
                      <a:pt x="3638" y="350"/>
                    </a:lnTo>
                    <a:lnTo>
                      <a:pt x="3220" y="246"/>
                    </a:lnTo>
                    <a:lnTo>
                      <a:pt x="2922" y="260"/>
                    </a:lnTo>
                    <a:lnTo>
                      <a:pt x="2502" y="182"/>
                    </a:lnTo>
                    <a:lnTo>
                      <a:pt x="2195" y="65"/>
                    </a:lnTo>
                    <a:lnTo>
                      <a:pt x="1963" y="0"/>
                    </a:lnTo>
                    <a:lnTo>
                      <a:pt x="1684" y="182"/>
                    </a:lnTo>
                    <a:lnTo>
                      <a:pt x="1173" y="389"/>
                    </a:lnTo>
                    <a:lnTo>
                      <a:pt x="698" y="518"/>
                    </a:lnTo>
                    <a:lnTo>
                      <a:pt x="241" y="570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13"/>
              <p:cNvSpPr/>
              <p:nvPr/>
            </p:nvSpPr>
            <p:spPr>
              <a:xfrm>
                <a:off x="1309320" y="5172120"/>
                <a:ext cx="3684960" cy="1207440"/>
              </a:xfrm>
              <a:custGeom>
                <a:avLst/>
                <a:gdLst/>
                <a:ahLst/>
                <a:rect l="l" t="t" r="r" b="b"/>
                <a:pathLst>
                  <a:path w="3461" h="1219">
                    <a:moveTo>
                      <a:pt x="0" y="570"/>
                    </a:moveTo>
                    <a:lnTo>
                      <a:pt x="326" y="570"/>
                    </a:lnTo>
                    <a:lnTo>
                      <a:pt x="596" y="545"/>
                    </a:lnTo>
                    <a:lnTo>
                      <a:pt x="809" y="506"/>
                    </a:lnTo>
                    <a:lnTo>
                      <a:pt x="1135" y="403"/>
                    </a:lnTo>
                    <a:lnTo>
                      <a:pt x="1442" y="272"/>
                    </a:lnTo>
                    <a:lnTo>
                      <a:pt x="1675" y="182"/>
                    </a:lnTo>
                    <a:lnTo>
                      <a:pt x="1814" y="104"/>
                    </a:lnTo>
                    <a:lnTo>
                      <a:pt x="1908" y="0"/>
                    </a:lnTo>
                    <a:lnTo>
                      <a:pt x="2103" y="90"/>
                    </a:lnTo>
                    <a:lnTo>
                      <a:pt x="2316" y="130"/>
                    </a:lnTo>
                    <a:lnTo>
                      <a:pt x="2642" y="232"/>
                    </a:lnTo>
                    <a:lnTo>
                      <a:pt x="2969" y="272"/>
                    </a:lnTo>
                    <a:lnTo>
                      <a:pt x="3248" y="232"/>
                    </a:lnTo>
                    <a:lnTo>
                      <a:pt x="3461" y="208"/>
                    </a:lnTo>
                    <a:lnTo>
                      <a:pt x="3238" y="350"/>
                    </a:lnTo>
                    <a:lnTo>
                      <a:pt x="3071" y="414"/>
                    </a:lnTo>
                    <a:lnTo>
                      <a:pt x="2875" y="519"/>
                    </a:lnTo>
                    <a:lnTo>
                      <a:pt x="2447" y="648"/>
                    </a:lnTo>
                    <a:lnTo>
                      <a:pt x="2112" y="752"/>
                    </a:lnTo>
                    <a:lnTo>
                      <a:pt x="1842" y="907"/>
                    </a:lnTo>
                    <a:lnTo>
                      <a:pt x="1562" y="1024"/>
                    </a:lnTo>
                    <a:lnTo>
                      <a:pt x="1266" y="1155"/>
                    </a:lnTo>
                    <a:lnTo>
                      <a:pt x="1182" y="1219"/>
                    </a:lnTo>
                    <a:lnTo>
                      <a:pt x="1005" y="1063"/>
                    </a:lnTo>
                    <a:lnTo>
                      <a:pt x="772" y="880"/>
                    </a:lnTo>
                    <a:lnTo>
                      <a:pt x="576" y="817"/>
                    </a:lnTo>
                    <a:lnTo>
                      <a:pt x="335" y="764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14"/>
              <p:cNvSpPr/>
              <p:nvPr/>
            </p:nvSpPr>
            <p:spPr>
              <a:xfrm>
                <a:off x="1329120" y="5071320"/>
                <a:ext cx="3684240" cy="1204200"/>
              </a:xfrm>
              <a:custGeom>
                <a:avLst/>
                <a:gdLst/>
                <a:ahLst/>
                <a:rect l="l" t="t" r="r" b="b"/>
                <a:pathLst>
                  <a:path w="3461" h="1219">
                    <a:moveTo>
                      <a:pt x="0" y="570"/>
                    </a:moveTo>
                    <a:lnTo>
                      <a:pt x="326" y="570"/>
                    </a:lnTo>
                    <a:lnTo>
                      <a:pt x="594" y="544"/>
                    </a:lnTo>
                    <a:lnTo>
                      <a:pt x="808" y="507"/>
                    </a:lnTo>
                    <a:lnTo>
                      <a:pt x="1136" y="402"/>
                    </a:lnTo>
                    <a:lnTo>
                      <a:pt x="1443" y="273"/>
                    </a:lnTo>
                    <a:lnTo>
                      <a:pt x="1675" y="183"/>
                    </a:lnTo>
                    <a:lnTo>
                      <a:pt x="1814" y="104"/>
                    </a:lnTo>
                    <a:lnTo>
                      <a:pt x="1907" y="0"/>
                    </a:lnTo>
                    <a:lnTo>
                      <a:pt x="2102" y="92"/>
                    </a:lnTo>
                    <a:lnTo>
                      <a:pt x="2317" y="130"/>
                    </a:lnTo>
                    <a:lnTo>
                      <a:pt x="2642" y="234"/>
                    </a:lnTo>
                    <a:lnTo>
                      <a:pt x="2968" y="273"/>
                    </a:lnTo>
                    <a:lnTo>
                      <a:pt x="3247" y="234"/>
                    </a:lnTo>
                    <a:lnTo>
                      <a:pt x="3461" y="208"/>
                    </a:lnTo>
                    <a:lnTo>
                      <a:pt x="3237" y="350"/>
                    </a:lnTo>
                    <a:lnTo>
                      <a:pt x="3070" y="416"/>
                    </a:lnTo>
                    <a:lnTo>
                      <a:pt x="2875" y="518"/>
                    </a:lnTo>
                    <a:lnTo>
                      <a:pt x="2447" y="649"/>
                    </a:lnTo>
                    <a:lnTo>
                      <a:pt x="2113" y="752"/>
                    </a:lnTo>
                    <a:lnTo>
                      <a:pt x="1842" y="908"/>
                    </a:lnTo>
                    <a:lnTo>
                      <a:pt x="1563" y="1025"/>
                    </a:lnTo>
                    <a:lnTo>
                      <a:pt x="1265" y="1156"/>
                    </a:lnTo>
                    <a:lnTo>
                      <a:pt x="1182" y="1219"/>
                    </a:lnTo>
                    <a:lnTo>
                      <a:pt x="1005" y="1065"/>
                    </a:lnTo>
                    <a:lnTo>
                      <a:pt x="772" y="882"/>
                    </a:lnTo>
                    <a:lnTo>
                      <a:pt x="577" y="816"/>
                    </a:lnTo>
                    <a:lnTo>
                      <a:pt x="334" y="765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f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15"/>
              <p:cNvSpPr/>
              <p:nvPr/>
            </p:nvSpPr>
            <p:spPr>
              <a:xfrm>
                <a:off x="1258920" y="4967640"/>
                <a:ext cx="3873240" cy="1245960"/>
              </a:xfrm>
              <a:custGeom>
                <a:avLst/>
                <a:gdLst/>
                <a:ahLst/>
                <a:rect l="l" t="t" r="r" b="b"/>
                <a:pathLst>
                  <a:path w="3637" h="1261">
                    <a:moveTo>
                      <a:pt x="241" y="573"/>
                    </a:moveTo>
                    <a:lnTo>
                      <a:pt x="0" y="623"/>
                    </a:lnTo>
                    <a:lnTo>
                      <a:pt x="212" y="715"/>
                    </a:lnTo>
                    <a:lnTo>
                      <a:pt x="428" y="779"/>
                    </a:lnTo>
                    <a:lnTo>
                      <a:pt x="613" y="819"/>
                    </a:lnTo>
                    <a:lnTo>
                      <a:pt x="733" y="883"/>
                    </a:lnTo>
                    <a:lnTo>
                      <a:pt x="902" y="999"/>
                    </a:lnTo>
                    <a:lnTo>
                      <a:pt x="1051" y="1156"/>
                    </a:lnTo>
                    <a:lnTo>
                      <a:pt x="1209" y="1233"/>
                    </a:lnTo>
                    <a:lnTo>
                      <a:pt x="1312" y="1261"/>
                    </a:lnTo>
                    <a:lnTo>
                      <a:pt x="1451" y="1144"/>
                    </a:lnTo>
                    <a:lnTo>
                      <a:pt x="1591" y="1026"/>
                    </a:lnTo>
                    <a:lnTo>
                      <a:pt x="1869" y="883"/>
                    </a:lnTo>
                    <a:lnTo>
                      <a:pt x="2102" y="791"/>
                    </a:lnTo>
                    <a:lnTo>
                      <a:pt x="2473" y="623"/>
                    </a:lnTo>
                    <a:lnTo>
                      <a:pt x="3051" y="417"/>
                    </a:lnTo>
                    <a:lnTo>
                      <a:pt x="3238" y="352"/>
                    </a:lnTo>
                    <a:lnTo>
                      <a:pt x="3422" y="325"/>
                    </a:lnTo>
                    <a:lnTo>
                      <a:pt x="3637" y="352"/>
                    </a:lnTo>
                    <a:lnTo>
                      <a:pt x="3219" y="249"/>
                    </a:lnTo>
                    <a:lnTo>
                      <a:pt x="2921" y="262"/>
                    </a:lnTo>
                    <a:lnTo>
                      <a:pt x="2502" y="183"/>
                    </a:lnTo>
                    <a:lnTo>
                      <a:pt x="2195" y="65"/>
                    </a:lnTo>
                    <a:lnTo>
                      <a:pt x="1962" y="0"/>
                    </a:lnTo>
                    <a:lnTo>
                      <a:pt x="1684" y="183"/>
                    </a:lnTo>
                    <a:lnTo>
                      <a:pt x="1172" y="391"/>
                    </a:lnTo>
                    <a:lnTo>
                      <a:pt x="697" y="521"/>
                    </a:lnTo>
                    <a:lnTo>
                      <a:pt x="241" y="573"/>
                    </a:lnTo>
                    <a:close/>
                  </a:path>
                </a:pathLst>
              </a:custGeom>
              <a:solidFill>
                <a:srgbClr val="0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16"/>
              <p:cNvSpPr/>
              <p:nvPr/>
            </p:nvSpPr>
            <p:spPr>
              <a:xfrm>
                <a:off x="1290600" y="4878000"/>
                <a:ext cx="3684240" cy="1204920"/>
              </a:xfrm>
              <a:custGeom>
                <a:avLst/>
                <a:gdLst/>
                <a:ahLst/>
                <a:rect l="l" t="t" r="r" b="b"/>
                <a:pathLst>
                  <a:path w="3461" h="1219">
                    <a:moveTo>
                      <a:pt x="0" y="570"/>
                    </a:moveTo>
                    <a:lnTo>
                      <a:pt x="324" y="570"/>
                    </a:lnTo>
                    <a:lnTo>
                      <a:pt x="594" y="544"/>
                    </a:lnTo>
                    <a:lnTo>
                      <a:pt x="809" y="506"/>
                    </a:lnTo>
                    <a:lnTo>
                      <a:pt x="1135" y="402"/>
                    </a:lnTo>
                    <a:lnTo>
                      <a:pt x="1442" y="272"/>
                    </a:lnTo>
                    <a:lnTo>
                      <a:pt x="1674" y="180"/>
                    </a:lnTo>
                    <a:lnTo>
                      <a:pt x="1814" y="103"/>
                    </a:lnTo>
                    <a:lnTo>
                      <a:pt x="1907" y="0"/>
                    </a:lnTo>
                    <a:lnTo>
                      <a:pt x="2103" y="89"/>
                    </a:lnTo>
                    <a:lnTo>
                      <a:pt x="2317" y="128"/>
                    </a:lnTo>
                    <a:lnTo>
                      <a:pt x="2641" y="235"/>
                    </a:lnTo>
                    <a:lnTo>
                      <a:pt x="2969" y="272"/>
                    </a:lnTo>
                    <a:lnTo>
                      <a:pt x="3247" y="235"/>
                    </a:lnTo>
                    <a:lnTo>
                      <a:pt x="3461" y="205"/>
                    </a:lnTo>
                    <a:lnTo>
                      <a:pt x="3238" y="351"/>
                    </a:lnTo>
                    <a:lnTo>
                      <a:pt x="3071" y="414"/>
                    </a:lnTo>
                    <a:lnTo>
                      <a:pt x="2876" y="519"/>
                    </a:lnTo>
                    <a:lnTo>
                      <a:pt x="2445" y="648"/>
                    </a:lnTo>
                    <a:lnTo>
                      <a:pt x="2111" y="752"/>
                    </a:lnTo>
                    <a:lnTo>
                      <a:pt x="1843" y="908"/>
                    </a:lnTo>
                    <a:lnTo>
                      <a:pt x="1563" y="1025"/>
                    </a:lnTo>
                    <a:lnTo>
                      <a:pt x="1266" y="1154"/>
                    </a:lnTo>
                    <a:lnTo>
                      <a:pt x="1182" y="1219"/>
                    </a:lnTo>
                    <a:lnTo>
                      <a:pt x="1006" y="1062"/>
                    </a:lnTo>
                    <a:lnTo>
                      <a:pt x="771" y="880"/>
                    </a:lnTo>
                    <a:lnTo>
                      <a:pt x="576" y="817"/>
                    </a:lnTo>
                    <a:lnTo>
                      <a:pt x="334" y="764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f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17"/>
              <p:cNvSpPr/>
              <p:nvPr/>
            </p:nvSpPr>
            <p:spPr>
              <a:xfrm>
                <a:off x="1347840" y="4724280"/>
                <a:ext cx="3870360" cy="1243080"/>
              </a:xfrm>
              <a:custGeom>
                <a:avLst/>
                <a:gdLst/>
                <a:ahLst/>
                <a:rect l="l" t="t" r="r" b="b"/>
                <a:pathLst>
                  <a:path w="3636" h="1258">
                    <a:moveTo>
                      <a:pt x="240" y="570"/>
                    </a:moveTo>
                    <a:lnTo>
                      <a:pt x="0" y="623"/>
                    </a:lnTo>
                    <a:lnTo>
                      <a:pt x="212" y="715"/>
                    </a:lnTo>
                    <a:lnTo>
                      <a:pt x="427" y="778"/>
                    </a:lnTo>
                    <a:lnTo>
                      <a:pt x="613" y="818"/>
                    </a:lnTo>
                    <a:lnTo>
                      <a:pt x="734" y="882"/>
                    </a:lnTo>
                    <a:lnTo>
                      <a:pt x="902" y="999"/>
                    </a:lnTo>
                    <a:lnTo>
                      <a:pt x="1050" y="1152"/>
                    </a:lnTo>
                    <a:lnTo>
                      <a:pt x="1209" y="1232"/>
                    </a:lnTo>
                    <a:lnTo>
                      <a:pt x="1311" y="1258"/>
                    </a:lnTo>
                    <a:lnTo>
                      <a:pt x="1451" y="1141"/>
                    </a:lnTo>
                    <a:lnTo>
                      <a:pt x="1591" y="1024"/>
                    </a:lnTo>
                    <a:lnTo>
                      <a:pt x="1869" y="882"/>
                    </a:lnTo>
                    <a:lnTo>
                      <a:pt x="2102" y="792"/>
                    </a:lnTo>
                    <a:lnTo>
                      <a:pt x="2473" y="623"/>
                    </a:lnTo>
                    <a:lnTo>
                      <a:pt x="3051" y="416"/>
                    </a:lnTo>
                    <a:lnTo>
                      <a:pt x="3238" y="350"/>
                    </a:lnTo>
                    <a:lnTo>
                      <a:pt x="3422" y="324"/>
                    </a:lnTo>
                    <a:lnTo>
                      <a:pt x="3636" y="350"/>
                    </a:lnTo>
                    <a:lnTo>
                      <a:pt x="3218" y="245"/>
                    </a:lnTo>
                    <a:lnTo>
                      <a:pt x="2920" y="259"/>
                    </a:lnTo>
                    <a:lnTo>
                      <a:pt x="2501" y="182"/>
                    </a:lnTo>
                    <a:lnTo>
                      <a:pt x="2194" y="66"/>
                    </a:lnTo>
                    <a:lnTo>
                      <a:pt x="1962" y="0"/>
                    </a:lnTo>
                    <a:lnTo>
                      <a:pt x="1684" y="182"/>
                    </a:lnTo>
                    <a:lnTo>
                      <a:pt x="1173" y="391"/>
                    </a:lnTo>
                    <a:lnTo>
                      <a:pt x="696" y="518"/>
                    </a:lnTo>
                    <a:lnTo>
                      <a:pt x="240" y="570"/>
                    </a:lnTo>
                    <a:close/>
                  </a:path>
                </a:pathLst>
              </a:custGeom>
              <a:solidFill>
                <a:srgbClr val="0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3" name="Group 18"/>
            <p:cNvGrpSpPr/>
            <p:nvPr/>
          </p:nvGrpSpPr>
          <p:grpSpPr>
            <a:xfrm>
              <a:off x="2600280" y="4914000"/>
              <a:ext cx="1234800" cy="1040760"/>
              <a:chOff x="2600280" y="4914000"/>
              <a:chExt cx="1234800" cy="1040760"/>
            </a:xfrm>
          </p:grpSpPr>
          <p:sp>
            <p:nvSpPr>
              <p:cNvPr id="554" name="Freeform 19"/>
              <p:cNvSpPr/>
              <p:nvPr/>
            </p:nvSpPr>
            <p:spPr>
              <a:xfrm>
                <a:off x="2600280" y="4914000"/>
                <a:ext cx="1216080" cy="554760"/>
              </a:xfrm>
              <a:custGeom>
                <a:avLst/>
                <a:gdLst/>
                <a:ahLst/>
                <a:rect l="l" t="t" r="r" b="b"/>
                <a:pathLst>
                  <a:path w="1143" h="559">
                    <a:moveTo>
                      <a:pt x="0" y="131"/>
                    </a:moveTo>
                    <a:lnTo>
                      <a:pt x="874" y="559"/>
                    </a:lnTo>
                    <a:lnTo>
                      <a:pt x="1143" y="443"/>
                    </a:lnTo>
                    <a:lnTo>
                      <a:pt x="268" y="0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fbf5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20"/>
              <p:cNvSpPr/>
              <p:nvPr/>
            </p:nvSpPr>
            <p:spPr>
              <a:xfrm>
                <a:off x="3538440" y="5340960"/>
                <a:ext cx="296640" cy="613800"/>
              </a:xfrm>
              <a:custGeom>
                <a:avLst/>
                <a:gdLst/>
                <a:ahLst/>
                <a:rect l="l" t="t" r="r" b="b"/>
                <a:pathLst>
                  <a:path w="279" h="621">
                    <a:moveTo>
                      <a:pt x="0" y="129"/>
                    </a:moveTo>
                    <a:lnTo>
                      <a:pt x="270" y="0"/>
                    </a:lnTo>
                    <a:lnTo>
                      <a:pt x="279" y="492"/>
                    </a:lnTo>
                    <a:lnTo>
                      <a:pt x="0" y="621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7f3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Банковская система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окупность действующих в стране банков и других кредитных учреждений и организ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250560" y="260280"/>
            <a:ext cx="3708360" cy="3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6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9"/>
          <p:cNvSpPr/>
          <p:nvPr/>
        </p:nvSpPr>
        <p:spPr>
          <a:xfrm>
            <a:off x="2411280" y="3573360"/>
            <a:ext cx="3961080" cy="719280"/>
          </a:xfrm>
          <a:prstGeom prst="rect">
            <a:avLst/>
          </a:prstGeom>
          <a:solidFill>
            <a:srgbClr val="eaeaea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НТРАЛЬНЫЙ БА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1"/>
          <p:cNvSpPr/>
          <p:nvPr/>
        </p:nvSpPr>
        <p:spPr>
          <a:xfrm>
            <a:off x="395280" y="5013360"/>
            <a:ext cx="3527280" cy="719280"/>
          </a:xfrm>
          <a:prstGeom prst="rect">
            <a:avLst/>
          </a:prstGeom>
          <a:solidFill>
            <a:srgbClr val="eaeaea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мерческие ба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2"/>
          <p:cNvSpPr/>
          <p:nvPr/>
        </p:nvSpPr>
        <p:spPr>
          <a:xfrm>
            <a:off x="4572000" y="5013360"/>
            <a:ext cx="4248000" cy="719280"/>
          </a:xfrm>
          <a:prstGeom prst="rect">
            <a:avLst/>
          </a:prstGeom>
          <a:solidFill>
            <a:srgbClr val="eaeaea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ругие финансово-кредитные учре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4"/>
          <p:cNvSpPr/>
          <p:nvPr/>
        </p:nvSpPr>
        <p:spPr>
          <a:xfrm flipH="1">
            <a:off x="2050920" y="4292640"/>
            <a:ext cx="2376720" cy="722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5"/>
          <p:cNvSpPr/>
          <p:nvPr/>
        </p:nvSpPr>
        <p:spPr>
          <a:xfrm>
            <a:off x="4356000" y="4292640"/>
            <a:ext cx="2232000" cy="72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Основные функции Центрального бан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уществление денежно- кредитной политики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едитование коммерческих бан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еспечение стабильной деятельности банковской и финансовой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держание устойчивости национальной денежной еди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ранение запасов денежных средств и зол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title"/>
          </p:nvPr>
        </p:nvSpPr>
        <p:spPr>
          <a:xfrm>
            <a:off x="250560" y="260280"/>
            <a:ext cx="3708360" cy="3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Типы коммерческих банк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раслевые бан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бслуживают определенные отрасли экономи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жотраслев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бслуживают все отрасли экономи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гиональные бан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бслуживают определенные регионы стран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4"/>
          <p:cNvSpPr/>
          <p:nvPr/>
        </p:nvSpPr>
        <p:spPr>
          <a:xfrm>
            <a:off x="250920" y="260280"/>
            <a:ext cx="3708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Операции коммерческого бан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ссив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перации по мобилизации денежных ресурсов: прием вкладов (депозитов); получение кредитов от других банков и центрального банка; выпуск собственных ценных бума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ктив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перации по размещению средств: предоставление различных по срокам и размерам креди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4"/>
          <p:cNvSpPr/>
          <p:nvPr/>
        </p:nvSpPr>
        <p:spPr>
          <a:xfrm>
            <a:off x="250920" y="260280"/>
            <a:ext cx="3708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Финансово- кредитные учрежд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апливают свободные денежные средства и предоставляют их тем, кто нуждается в дополнительном капитале или финансовой пом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Пенсионный фон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нд, создаваемый частными и государственными компаниями, предприятиями для выплаты пенсий и пособий лицам, вносящим пенсионные взносы в этот фо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Инвестиционные компан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о- кредитный институт, собирающий денежные средства частных инвесторов через продажу им собственных ценных бум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4"/>
          <p:cNvSpPr/>
          <p:nvPr/>
        </p:nvSpPr>
        <p:spPr>
          <a:xfrm>
            <a:off x="250920" y="260280"/>
            <a:ext cx="3708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ые институ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Страховые компан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и, оказывающие страховые услуги, предназначены для возмещения ущерба, потерь несчастными случа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Фондовые бирж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ециализируются на продаже и покупке ценных бум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Межгосударственные финансово-кредитные институ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Мировой банк, Международный валютный фонд, Европейский банк реконструкции и развития и др.). Они занимаются финансированием и кредитованием разных стран, содействуют мировой торговле, оказывают помощь в стабилизации финансов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4"/>
          <p:cNvSpPr/>
          <p:nvPr/>
        </p:nvSpPr>
        <p:spPr>
          <a:xfrm>
            <a:off x="250920" y="260280"/>
            <a:ext cx="3708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ые институ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15:44:14Z</dcterms:created>
  <dc:creator>lubasha</dc:creator>
  <dc:description/>
  <dc:language>en-US</dc:language>
  <cp:lastModifiedBy>LEGION</cp:lastModifiedBy>
  <dcterms:modified xsi:type="dcterms:W3CDTF">2015-01-05T09:58:46Z</dcterms:modified>
  <cp:revision>8</cp:revision>
  <dc:subject/>
  <dc:title>Слайд 1</dc:title>
</cp:coreProperties>
</file>