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961A-95E3-4FA9-843E-0BE66B1CB0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590F-C46E-4153-9B64-1A9CBBE19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981A-832A-4576-8FC4-978AD2E57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C77E-89AE-4E48-A6E4-C7B77B408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D959-D9ED-4347-A540-9DE7867BFD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AEE6-BE3F-4948-AF59-C502B7AC3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40C9-EF34-493A-9D2D-7F87807C4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50AB-83D8-4ED6-98CB-2904BCA8E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7281-F662-4CFA-B4DC-982285FE1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8105-9A0D-4C57-9FB8-B02994706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4DE2-303E-49EF-8495-CB8FE3938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4537-3086-4F63-9A91-F5A5354C6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74E9-8F31-48DF-A80F-440FBC626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BD38-AB96-4DE6-B891-D3E2C4663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30F6-0194-46AA-97CF-C9D08835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C7FB-0D33-4E99-843B-C28DAB6A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9242-1005-4349-9932-AFF78514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0A26-3EE4-4DCD-8EDC-AC995FAA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E5D1-87E5-4317-A528-2E515946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8C81-7578-4A3E-A5DA-F20AD0B8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9CF6-9EAB-46EC-83A3-D3C76A4A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AC7D-9E0C-4EA3-BCAE-6FE89678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7849-63E3-4794-98EA-9061123F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4AE5-02CF-4368-9EF8-B079BEF3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15D0-F9B6-4688-AB9A-058A4C7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DB2D-DC6E-4726-8071-A361C417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CEA3-2FF7-4F64-AEB2-24F2DFA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5448-CD3B-4380-8A23-B755604B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0D1F-786D-47DF-B59A-C99E9D46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3846-0DB4-4ED6-BEB0-0D8F9CA0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62EE-B9E4-4C77-9E20-002DCA78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964F-83FB-4E2D-9E0E-448ABE52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927C-307B-4F2D-84A8-795A63F1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18AF-3F74-44EE-9BE1-BD1C1AC5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83E5-924A-42FE-90B5-402237D3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F743-90B1-472E-AEAE-7C80260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104A-C35E-4CD3-9543-20A23F9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3A12-EEEF-4D83-9D04-94329D7B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1BA-7455-4689-BEEA-2C088BBCB3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3828-1A7E-42B9-B2DF-1813808802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07320" cy="107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14200" y="1285920"/>
            <a:ext cx="84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6"/>
          <p:cNvGraphicFramePr/>
          <p:nvPr/>
        </p:nvGraphicFramePr>
        <p:xfrm>
          <a:off x="2643120" y="207180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07180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10"/>
          <p:cNvGrpSpPr/>
          <p:nvPr/>
        </p:nvGrpSpPr>
        <p:grpSpPr>
          <a:xfrm>
            <a:off x="4786200" y="4357800"/>
            <a:ext cx="3959640" cy="1794240"/>
            <a:chOff x="4786200" y="4357800"/>
            <a:chExt cx="3959640" cy="1794240"/>
          </a:xfrm>
        </p:grpSpPr>
        <p:grpSp>
          <p:nvGrpSpPr>
            <p:cNvPr id="526" name="Group 11"/>
            <p:cNvGrpSpPr/>
            <p:nvPr/>
          </p:nvGrpSpPr>
          <p:grpSpPr>
            <a:xfrm>
              <a:off x="4786200" y="4357800"/>
              <a:ext cx="3959640" cy="1794240"/>
              <a:chOff x="4786200" y="4357800"/>
              <a:chExt cx="3959640" cy="1794240"/>
            </a:xfrm>
          </p:grpSpPr>
          <p:sp>
            <p:nvSpPr>
              <p:cNvPr id="527" name="Freeform 12"/>
              <p:cNvSpPr/>
              <p:nvPr/>
            </p:nvSpPr>
            <p:spPr>
              <a:xfrm>
                <a:off x="4845960" y="490932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"/>
              <p:cNvSpPr/>
              <p:nvPr/>
            </p:nvSpPr>
            <p:spPr>
              <a:xfrm>
                <a:off x="4836600" y="4805640"/>
                <a:ext cx="3685320" cy="120708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"/>
              <p:cNvSpPr/>
              <p:nvPr/>
            </p:nvSpPr>
            <p:spPr>
              <a:xfrm>
                <a:off x="4856400" y="4704840"/>
                <a:ext cx="3684600" cy="12038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4786200" y="4601160"/>
                <a:ext cx="3873600" cy="124560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6"/>
              <p:cNvSpPr/>
              <p:nvPr/>
            </p:nvSpPr>
            <p:spPr>
              <a:xfrm>
                <a:off x="4817880" y="4511520"/>
                <a:ext cx="3684600" cy="120456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4875120" y="435780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6127560" y="4547520"/>
              <a:ext cx="1234800" cy="1040760"/>
              <a:chOff x="6127560" y="4547520"/>
              <a:chExt cx="1234800" cy="1040760"/>
            </a:xfrm>
          </p:grpSpPr>
          <p:sp>
            <p:nvSpPr>
              <p:cNvPr id="534" name="Freeform 19"/>
              <p:cNvSpPr/>
              <p:nvPr/>
            </p:nvSpPr>
            <p:spPr>
              <a:xfrm>
                <a:off x="6127560" y="454752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"/>
              <p:cNvSpPr/>
              <p:nvPr/>
            </p:nvSpPr>
            <p:spPr>
              <a:xfrm>
                <a:off x="7065720" y="497448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8"/>
          <p:cNvGraphicFramePr/>
          <p:nvPr/>
        </p:nvGraphicFramePr>
        <p:xfrm>
          <a:off x="395280" y="206064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0"/>
          <p:cNvGrpSpPr/>
          <p:nvPr/>
        </p:nvGrpSpPr>
        <p:grpSpPr>
          <a:xfrm>
            <a:off x="1258920" y="4724280"/>
            <a:ext cx="3959280" cy="1794600"/>
            <a:chOff x="1258920" y="4724280"/>
            <a:chExt cx="3959280" cy="1794600"/>
          </a:xfrm>
        </p:grpSpPr>
        <p:grpSp>
          <p:nvGrpSpPr>
            <p:cNvPr id="546" name="Group 11"/>
            <p:cNvGrpSpPr/>
            <p:nvPr/>
          </p:nvGrpSpPr>
          <p:grpSpPr>
            <a:xfrm>
              <a:off x="1258920" y="4724280"/>
              <a:ext cx="3959280" cy="1794600"/>
              <a:chOff x="1258920" y="4724280"/>
              <a:chExt cx="3959280" cy="1794600"/>
            </a:xfrm>
          </p:grpSpPr>
          <p:sp>
            <p:nvSpPr>
              <p:cNvPr id="547" name="Freeform 12"/>
              <p:cNvSpPr/>
              <p:nvPr/>
            </p:nvSpPr>
            <p:spPr>
              <a:xfrm>
                <a:off x="1318680" y="527580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>
                <a:off x="1309320" y="5172120"/>
                <a:ext cx="3684960" cy="12074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>
                <a:off x="1329120" y="5071320"/>
                <a:ext cx="3684240" cy="120420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>
                <a:off x="1258920" y="4967640"/>
                <a:ext cx="3873240" cy="124596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>
                <a:off x="1290600" y="4878000"/>
                <a:ext cx="3684240" cy="120492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>
                <a:off x="1347840" y="472428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8"/>
            <p:cNvGrpSpPr/>
            <p:nvPr/>
          </p:nvGrpSpPr>
          <p:grpSpPr>
            <a:xfrm>
              <a:off x="2600280" y="4914000"/>
              <a:ext cx="1234800" cy="1040760"/>
              <a:chOff x="2600280" y="4914000"/>
              <a:chExt cx="1234800" cy="1040760"/>
            </a:xfrm>
          </p:grpSpPr>
          <p:sp>
            <p:nvSpPr>
              <p:cNvPr id="554" name="Freeform 19"/>
              <p:cNvSpPr/>
              <p:nvPr/>
            </p:nvSpPr>
            <p:spPr>
              <a:xfrm>
                <a:off x="2600280" y="491400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>
                <a:off x="3538440" y="534096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411280" y="3573360"/>
            <a:ext cx="39610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5280" y="5013360"/>
            <a:ext cx="35272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4572000" y="5013360"/>
            <a:ext cx="4248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финансово-креди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 flipH="1">
            <a:off x="2050920" y="4292640"/>
            <a:ext cx="23767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4356000" y="4292640"/>
            <a:ext cx="2232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44:14Z</dcterms:created>
  <dc:creator>lubasha</dc:creator>
  <dc:description/>
  <dc:language>en-US</dc:language>
  <cp:lastModifiedBy>LEGION</cp:lastModifiedBy>
  <dcterms:modified xsi:type="dcterms:W3CDTF">2015-01-05T09:58:46Z</dcterms:modified>
  <cp:revision>8</cp:revision>
  <dc:subject/>
  <dc:title>Слайд 1</dc:title>
</cp:coreProperties>
</file>