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C1F8-7863-40A1-9989-C98C05D6C5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" Target="../slides/slide2.xml"/><Relationship Id="rId7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 в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0074-7BC9-436B-AF43-A5888958CC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Инфля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обесценивания денег, который проявляется в виде долговременного повышения цен на товары и услуги (объем денежной массы значительно возрастает – количество товаров и услуг не увеличиваетс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ы инфля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лзучая инфля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инфляция, при которой темпы роста цен на товары и услуги не превышает 10-15% в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Галопирующая инфля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качкообразный рост ц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Гиперинфля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инфляция с очень высоким темпом роста цен (более 50% в месяц), наиболее тяжелая форма экономического криз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5BA1-96DA-4591-8DF7-5E5C904312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Причины инфля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фляция спрос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, когда спрос превышает предложение, что ведет к росту цен (доходы населения  предприятий растут быстрее реального объема товаров и услу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фляция издержек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ет как следствие повышения издержек на единицу продукции. На уровень издержек производства могут влиять изменение величины налогов на производителя, увеличение з/п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2202-725E-4316-B7B3-CB216F0AF6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Антиинфляционная политика государ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госрочная денежная политика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ение жестких ограничений на ежегодные приросты денежной ма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кращение государственного бюджет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мощи увеличения доходов и уменьшения расходов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инфляционные мероприят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табилизация и стимулирование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вершенствование налогов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ведение мер по регулированию цен и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5A3E-2E60-4D00-86DE-2A272F6499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ы играют огромную роль в структуре рыночных отношений и механизме их государственного регул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8931-3405-4C50-A5B0-B2B7722E9C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е институ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ляция: виды, причины и послед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1726-C8AD-4241-ADBB-B20A8B4702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Финанс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овокупность экономических отношений в процессе использования денежных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F173-FC7E-461D-BCF4-0BF3AE2629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Банковская система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действующих в стране банков и других кредитных учреждений и организ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33B5-7330-4F79-9FA6-C053F36C0F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Основные функции Центрального бан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уществление денежно- кредитной политики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едитование коммерческих бан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еспечение стабильной деятельности банковской и финансовой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держание устойчивости национальной денежной един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ранение запасов денежных средств и зол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D6E2-B2BC-4751-A8EE-6B4148AB5B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Типы коммерческих банк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раслевые бан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бслуживают определенные отрасли экономи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жотраслев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бслуживают все отрасли экономи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гиональные бан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бслуживают определенные регионы стра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F509-D2CF-4DA5-A70A-C045F5E9E7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Операции коммерческого бан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ссивн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перации по мобилизации денежных ресурсов: прием вкладов (депозитов); получение кредитов от других банков и центрального банка; выпуск собственны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ктивн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перации по размещению средств: предоставление различных по срокам и размерам креди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3CC0-10E9-41BC-8A84-A2F287BB43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Финансово- кредитные учрежден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пливают свободные денежные средства и предоставляют их тем, кто нуждается в дополнительном капитале или финансо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Пенсионный фонд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, создаваемый частными и государственными компаниями, предприятиями для выплаты пенсий и пособий лицам, вносящим пенсионные взносы в этот фо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Инвестиционные компан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о- кредитный институт, собирающий денежные средства частных инвесторов через продажу им собственны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87DF-485A-474A-94CF-CED8587CA4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Страховые компан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и, оказывающие страховые услуги, предназначены для возмещения ущерба, потерь несчастными случа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Фондовые бирж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ируются на продаже и покупке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Межгосударственные финансово-кредитные институ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ировой банк, Международный валютный фонд, Европейский банк реконструкции и развития и др.). Они занимаются финансированием и кредитованием разных стран, содействуют мировой торговле, оказывают помощь в стабилизации финансов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CC9C-8042-4009-A384-C8ED89CE49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DBA7C-9FD6-4F7A-8D44-15689635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BF102-412B-4C5D-9635-DC001E91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C6753-0B42-477B-9437-EA5E44DCC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2400A-7A33-4508-8D43-EB9A104B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23F4-C065-42B3-8638-0CA085D3D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272D-00DB-4273-8A84-FEE06D7D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FFF5-B8EC-4D50-9E8F-254D10C5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7D72-EB19-4447-911F-62D9268B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4D76-2E10-48BE-9BDD-A648A2EB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EEB6-0903-4BEF-B57B-0D9B02F9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9EF6-7DAC-4934-990F-6E9927FE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9FA39-810F-47A6-BF45-EB30E891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ECE7-C0D6-4C1C-A64E-86336154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364E-6935-4F9E-97B6-F3DD8C2E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6FC7-D654-4776-8A17-030011B9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748C-BEB7-4C06-BA0A-5CAC95E13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4C74-B287-426B-B411-FC291E6F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2C15D-CFEC-461D-8CAF-FEC29357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34496-5E09-425A-BE81-372A54ED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D7363-3981-4978-8F6F-FF02E75E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F359B-CA53-4F9D-9EA5-6E371EA9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E9AA3-F740-4E47-99C6-756E1F96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DE7FA-F24D-4E08-918B-9F913E38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8D8CC-AB33-4D5F-B5DF-7C95B3F7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ECB5-0C02-4069-80DF-584F927D77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624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6973-CFE3-4A83-B632-55AD3E347D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7807320" cy="107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214200" y="1285920"/>
            <a:ext cx="849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Финансы в экономик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3" name="Object 6"/>
          <p:cNvGraphicFramePr/>
          <p:nvPr/>
        </p:nvGraphicFramePr>
        <p:xfrm>
          <a:off x="2643120" y="2071800"/>
          <a:ext cx="3240000" cy="36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3120" y="2071800"/>
                    <a:ext cx="3240000" cy="36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5" name="Group 10"/>
          <p:cNvGrpSpPr/>
          <p:nvPr/>
        </p:nvGrpSpPr>
        <p:grpSpPr>
          <a:xfrm>
            <a:off x="4786200" y="4357800"/>
            <a:ext cx="3959640" cy="1794240"/>
            <a:chOff x="4786200" y="4357800"/>
            <a:chExt cx="3959640" cy="1794240"/>
          </a:xfrm>
        </p:grpSpPr>
        <p:grpSp>
          <p:nvGrpSpPr>
            <p:cNvPr id="526" name="Group 11"/>
            <p:cNvGrpSpPr/>
            <p:nvPr/>
          </p:nvGrpSpPr>
          <p:grpSpPr>
            <a:xfrm>
              <a:off x="4786200" y="4357800"/>
              <a:ext cx="3959640" cy="1794240"/>
              <a:chOff x="4786200" y="4357800"/>
              <a:chExt cx="3959640" cy="1794240"/>
            </a:xfrm>
          </p:grpSpPr>
          <p:sp>
            <p:nvSpPr>
              <p:cNvPr id="527" name="Freeform 12"/>
              <p:cNvSpPr/>
              <p:nvPr/>
            </p:nvSpPr>
            <p:spPr>
              <a:xfrm>
                <a:off x="4845960" y="4909320"/>
                <a:ext cx="3870720" cy="1242720"/>
              </a:xfrm>
              <a:custGeom>
                <a:avLst/>
                <a:gdLst/>
                <a:ahLst/>
                <a:rect l="l" t="t" r="r" b="b"/>
                <a:pathLst>
                  <a:path w="3638" h="1257">
                    <a:moveTo>
                      <a:pt x="241" y="570"/>
                    </a:moveTo>
                    <a:lnTo>
                      <a:pt x="0" y="623"/>
                    </a:lnTo>
                    <a:lnTo>
                      <a:pt x="213" y="713"/>
                    </a:lnTo>
                    <a:lnTo>
                      <a:pt x="427" y="776"/>
                    </a:lnTo>
                    <a:lnTo>
                      <a:pt x="614" y="817"/>
                    </a:lnTo>
                    <a:lnTo>
                      <a:pt x="734" y="883"/>
                    </a:lnTo>
                    <a:lnTo>
                      <a:pt x="903" y="999"/>
                    </a:lnTo>
                    <a:lnTo>
                      <a:pt x="1052" y="1153"/>
                    </a:lnTo>
                    <a:lnTo>
                      <a:pt x="1210" y="1233"/>
                    </a:lnTo>
                    <a:lnTo>
                      <a:pt x="1313" y="1257"/>
                    </a:lnTo>
                    <a:lnTo>
                      <a:pt x="1453" y="1141"/>
                    </a:lnTo>
                    <a:lnTo>
                      <a:pt x="1591" y="1025"/>
                    </a:lnTo>
                    <a:lnTo>
                      <a:pt x="1871" y="883"/>
                    </a:lnTo>
                    <a:lnTo>
                      <a:pt x="2103" y="790"/>
                    </a:lnTo>
                    <a:lnTo>
                      <a:pt x="2474" y="623"/>
                    </a:lnTo>
                    <a:lnTo>
                      <a:pt x="3053" y="415"/>
                    </a:lnTo>
                    <a:lnTo>
                      <a:pt x="3238" y="350"/>
                    </a:lnTo>
                    <a:lnTo>
                      <a:pt x="3424" y="324"/>
                    </a:lnTo>
                    <a:lnTo>
                      <a:pt x="3638" y="350"/>
                    </a:lnTo>
                    <a:lnTo>
                      <a:pt x="3220" y="246"/>
                    </a:lnTo>
                    <a:lnTo>
                      <a:pt x="2922" y="260"/>
                    </a:lnTo>
                    <a:lnTo>
                      <a:pt x="2502" y="182"/>
                    </a:lnTo>
                    <a:lnTo>
                      <a:pt x="2195" y="65"/>
                    </a:lnTo>
                    <a:lnTo>
                      <a:pt x="1963" y="0"/>
                    </a:lnTo>
                    <a:lnTo>
                      <a:pt x="1684" y="182"/>
                    </a:lnTo>
                    <a:lnTo>
                      <a:pt x="1173" y="389"/>
                    </a:lnTo>
                    <a:lnTo>
                      <a:pt x="698" y="518"/>
                    </a:lnTo>
                    <a:lnTo>
                      <a:pt x="241" y="570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3"/>
              <p:cNvSpPr/>
              <p:nvPr/>
            </p:nvSpPr>
            <p:spPr>
              <a:xfrm>
                <a:off x="4836600" y="4805640"/>
                <a:ext cx="3685320" cy="120708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6" y="570"/>
                    </a:lnTo>
                    <a:lnTo>
                      <a:pt x="596" y="545"/>
                    </a:lnTo>
                    <a:lnTo>
                      <a:pt x="809" y="506"/>
                    </a:lnTo>
                    <a:lnTo>
                      <a:pt x="1135" y="403"/>
                    </a:lnTo>
                    <a:lnTo>
                      <a:pt x="1442" y="272"/>
                    </a:lnTo>
                    <a:lnTo>
                      <a:pt x="1675" y="182"/>
                    </a:lnTo>
                    <a:lnTo>
                      <a:pt x="1814" y="104"/>
                    </a:lnTo>
                    <a:lnTo>
                      <a:pt x="1908" y="0"/>
                    </a:lnTo>
                    <a:lnTo>
                      <a:pt x="2103" y="90"/>
                    </a:lnTo>
                    <a:lnTo>
                      <a:pt x="2316" y="130"/>
                    </a:lnTo>
                    <a:lnTo>
                      <a:pt x="2642" y="232"/>
                    </a:lnTo>
                    <a:lnTo>
                      <a:pt x="2969" y="272"/>
                    </a:lnTo>
                    <a:lnTo>
                      <a:pt x="3248" y="232"/>
                    </a:lnTo>
                    <a:lnTo>
                      <a:pt x="3461" y="208"/>
                    </a:lnTo>
                    <a:lnTo>
                      <a:pt x="3238" y="350"/>
                    </a:lnTo>
                    <a:lnTo>
                      <a:pt x="3071" y="414"/>
                    </a:lnTo>
                    <a:lnTo>
                      <a:pt x="2875" y="519"/>
                    </a:lnTo>
                    <a:lnTo>
                      <a:pt x="2447" y="648"/>
                    </a:lnTo>
                    <a:lnTo>
                      <a:pt x="2112" y="752"/>
                    </a:lnTo>
                    <a:lnTo>
                      <a:pt x="1842" y="907"/>
                    </a:lnTo>
                    <a:lnTo>
                      <a:pt x="1562" y="1024"/>
                    </a:lnTo>
                    <a:lnTo>
                      <a:pt x="1266" y="1155"/>
                    </a:lnTo>
                    <a:lnTo>
                      <a:pt x="1182" y="1219"/>
                    </a:lnTo>
                    <a:lnTo>
                      <a:pt x="1005" y="1063"/>
                    </a:lnTo>
                    <a:lnTo>
                      <a:pt x="772" y="880"/>
                    </a:lnTo>
                    <a:lnTo>
                      <a:pt x="576" y="817"/>
                    </a:lnTo>
                    <a:lnTo>
                      <a:pt x="335" y="764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4"/>
              <p:cNvSpPr/>
              <p:nvPr/>
            </p:nvSpPr>
            <p:spPr>
              <a:xfrm>
                <a:off x="4856400" y="4704840"/>
                <a:ext cx="3684600" cy="120384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6" y="570"/>
                    </a:lnTo>
                    <a:lnTo>
                      <a:pt x="594" y="544"/>
                    </a:lnTo>
                    <a:lnTo>
                      <a:pt x="808" y="507"/>
                    </a:lnTo>
                    <a:lnTo>
                      <a:pt x="1136" y="402"/>
                    </a:lnTo>
                    <a:lnTo>
                      <a:pt x="1443" y="273"/>
                    </a:lnTo>
                    <a:lnTo>
                      <a:pt x="1675" y="183"/>
                    </a:lnTo>
                    <a:lnTo>
                      <a:pt x="1814" y="104"/>
                    </a:lnTo>
                    <a:lnTo>
                      <a:pt x="1907" y="0"/>
                    </a:lnTo>
                    <a:lnTo>
                      <a:pt x="2102" y="92"/>
                    </a:lnTo>
                    <a:lnTo>
                      <a:pt x="2317" y="130"/>
                    </a:lnTo>
                    <a:lnTo>
                      <a:pt x="2642" y="234"/>
                    </a:lnTo>
                    <a:lnTo>
                      <a:pt x="2968" y="273"/>
                    </a:lnTo>
                    <a:lnTo>
                      <a:pt x="3247" y="234"/>
                    </a:lnTo>
                    <a:lnTo>
                      <a:pt x="3461" y="208"/>
                    </a:lnTo>
                    <a:lnTo>
                      <a:pt x="3237" y="350"/>
                    </a:lnTo>
                    <a:lnTo>
                      <a:pt x="3070" y="416"/>
                    </a:lnTo>
                    <a:lnTo>
                      <a:pt x="2875" y="518"/>
                    </a:lnTo>
                    <a:lnTo>
                      <a:pt x="2447" y="649"/>
                    </a:lnTo>
                    <a:lnTo>
                      <a:pt x="2113" y="752"/>
                    </a:lnTo>
                    <a:lnTo>
                      <a:pt x="1842" y="908"/>
                    </a:lnTo>
                    <a:lnTo>
                      <a:pt x="1563" y="1025"/>
                    </a:lnTo>
                    <a:lnTo>
                      <a:pt x="1265" y="1156"/>
                    </a:lnTo>
                    <a:lnTo>
                      <a:pt x="1182" y="1219"/>
                    </a:lnTo>
                    <a:lnTo>
                      <a:pt x="1005" y="1065"/>
                    </a:lnTo>
                    <a:lnTo>
                      <a:pt x="772" y="882"/>
                    </a:lnTo>
                    <a:lnTo>
                      <a:pt x="577" y="816"/>
                    </a:lnTo>
                    <a:lnTo>
                      <a:pt x="334" y="765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f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5"/>
              <p:cNvSpPr/>
              <p:nvPr/>
            </p:nvSpPr>
            <p:spPr>
              <a:xfrm>
                <a:off x="4786200" y="4601160"/>
                <a:ext cx="3873600" cy="1245600"/>
              </a:xfrm>
              <a:custGeom>
                <a:avLst/>
                <a:gdLst/>
                <a:ahLst/>
                <a:rect l="l" t="t" r="r" b="b"/>
                <a:pathLst>
                  <a:path w="3637" h="1261">
                    <a:moveTo>
                      <a:pt x="241" y="573"/>
                    </a:moveTo>
                    <a:lnTo>
                      <a:pt x="0" y="623"/>
                    </a:lnTo>
                    <a:lnTo>
                      <a:pt x="212" y="715"/>
                    </a:lnTo>
                    <a:lnTo>
                      <a:pt x="428" y="779"/>
                    </a:lnTo>
                    <a:lnTo>
                      <a:pt x="613" y="819"/>
                    </a:lnTo>
                    <a:lnTo>
                      <a:pt x="733" y="883"/>
                    </a:lnTo>
                    <a:lnTo>
                      <a:pt x="902" y="999"/>
                    </a:lnTo>
                    <a:lnTo>
                      <a:pt x="1051" y="1156"/>
                    </a:lnTo>
                    <a:lnTo>
                      <a:pt x="1209" y="1233"/>
                    </a:lnTo>
                    <a:lnTo>
                      <a:pt x="1312" y="1261"/>
                    </a:lnTo>
                    <a:lnTo>
                      <a:pt x="1451" y="1144"/>
                    </a:lnTo>
                    <a:lnTo>
                      <a:pt x="1591" y="1026"/>
                    </a:lnTo>
                    <a:lnTo>
                      <a:pt x="1869" y="883"/>
                    </a:lnTo>
                    <a:lnTo>
                      <a:pt x="2102" y="791"/>
                    </a:lnTo>
                    <a:lnTo>
                      <a:pt x="2473" y="623"/>
                    </a:lnTo>
                    <a:lnTo>
                      <a:pt x="3051" y="417"/>
                    </a:lnTo>
                    <a:lnTo>
                      <a:pt x="3238" y="352"/>
                    </a:lnTo>
                    <a:lnTo>
                      <a:pt x="3422" y="325"/>
                    </a:lnTo>
                    <a:lnTo>
                      <a:pt x="3637" y="352"/>
                    </a:lnTo>
                    <a:lnTo>
                      <a:pt x="3219" y="249"/>
                    </a:lnTo>
                    <a:lnTo>
                      <a:pt x="2921" y="262"/>
                    </a:lnTo>
                    <a:lnTo>
                      <a:pt x="2502" y="183"/>
                    </a:lnTo>
                    <a:lnTo>
                      <a:pt x="2195" y="65"/>
                    </a:lnTo>
                    <a:lnTo>
                      <a:pt x="1962" y="0"/>
                    </a:lnTo>
                    <a:lnTo>
                      <a:pt x="1684" y="183"/>
                    </a:lnTo>
                    <a:lnTo>
                      <a:pt x="1172" y="391"/>
                    </a:lnTo>
                    <a:lnTo>
                      <a:pt x="697" y="521"/>
                    </a:lnTo>
                    <a:lnTo>
                      <a:pt x="241" y="573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6"/>
              <p:cNvSpPr/>
              <p:nvPr/>
            </p:nvSpPr>
            <p:spPr>
              <a:xfrm>
                <a:off x="4817880" y="4511520"/>
                <a:ext cx="3684600" cy="120456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4" y="570"/>
                    </a:lnTo>
                    <a:lnTo>
                      <a:pt x="594" y="544"/>
                    </a:lnTo>
                    <a:lnTo>
                      <a:pt x="809" y="506"/>
                    </a:lnTo>
                    <a:lnTo>
                      <a:pt x="1135" y="402"/>
                    </a:lnTo>
                    <a:lnTo>
                      <a:pt x="1442" y="272"/>
                    </a:lnTo>
                    <a:lnTo>
                      <a:pt x="1674" y="180"/>
                    </a:lnTo>
                    <a:lnTo>
                      <a:pt x="1814" y="103"/>
                    </a:lnTo>
                    <a:lnTo>
                      <a:pt x="1907" y="0"/>
                    </a:lnTo>
                    <a:lnTo>
                      <a:pt x="2103" y="89"/>
                    </a:lnTo>
                    <a:lnTo>
                      <a:pt x="2317" y="128"/>
                    </a:lnTo>
                    <a:lnTo>
                      <a:pt x="2641" y="235"/>
                    </a:lnTo>
                    <a:lnTo>
                      <a:pt x="2969" y="272"/>
                    </a:lnTo>
                    <a:lnTo>
                      <a:pt x="3247" y="235"/>
                    </a:lnTo>
                    <a:lnTo>
                      <a:pt x="3461" y="205"/>
                    </a:lnTo>
                    <a:lnTo>
                      <a:pt x="3238" y="351"/>
                    </a:lnTo>
                    <a:lnTo>
                      <a:pt x="3071" y="414"/>
                    </a:lnTo>
                    <a:lnTo>
                      <a:pt x="2876" y="519"/>
                    </a:lnTo>
                    <a:lnTo>
                      <a:pt x="2445" y="648"/>
                    </a:lnTo>
                    <a:lnTo>
                      <a:pt x="2111" y="752"/>
                    </a:lnTo>
                    <a:lnTo>
                      <a:pt x="1843" y="908"/>
                    </a:lnTo>
                    <a:lnTo>
                      <a:pt x="1563" y="1025"/>
                    </a:lnTo>
                    <a:lnTo>
                      <a:pt x="1266" y="1154"/>
                    </a:lnTo>
                    <a:lnTo>
                      <a:pt x="1182" y="1219"/>
                    </a:lnTo>
                    <a:lnTo>
                      <a:pt x="1006" y="1062"/>
                    </a:lnTo>
                    <a:lnTo>
                      <a:pt x="771" y="880"/>
                    </a:lnTo>
                    <a:lnTo>
                      <a:pt x="576" y="817"/>
                    </a:lnTo>
                    <a:lnTo>
                      <a:pt x="334" y="764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f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17"/>
              <p:cNvSpPr/>
              <p:nvPr/>
            </p:nvSpPr>
            <p:spPr>
              <a:xfrm>
                <a:off x="4875120" y="4357800"/>
                <a:ext cx="3870720" cy="1242720"/>
              </a:xfrm>
              <a:custGeom>
                <a:avLst/>
                <a:gdLst/>
                <a:ahLst/>
                <a:rect l="l" t="t" r="r" b="b"/>
                <a:pathLst>
                  <a:path w="3636" h="1258">
                    <a:moveTo>
                      <a:pt x="240" y="570"/>
                    </a:moveTo>
                    <a:lnTo>
                      <a:pt x="0" y="623"/>
                    </a:lnTo>
                    <a:lnTo>
                      <a:pt x="212" y="715"/>
                    </a:lnTo>
                    <a:lnTo>
                      <a:pt x="427" y="778"/>
                    </a:lnTo>
                    <a:lnTo>
                      <a:pt x="613" y="818"/>
                    </a:lnTo>
                    <a:lnTo>
                      <a:pt x="734" y="882"/>
                    </a:lnTo>
                    <a:lnTo>
                      <a:pt x="902" y="999"/>
                    </a:lnTo>
                    <a:lnTo>
                      <a:pt x="1050" y="1152"/>
                    </a:lnTo>
                    <a:lnTo>
                      <a:pt x="1209" y="1232"/>
                    </a:lnTo>
                    <a:lnTo>
                      <a:pt x="1311" y="1258"/>
                    </a:lnTo>
                    <a:lnTo>
                      <a:pt x="1451" y="1141"/>
                    </a:lnTo>
                    <a:lnTo>
                      <a:pt x="1591" y="1024"/>
                    </a:lnTo>
                    <a:lnTo>
                      <a:pt x="1869" y="882"/>
                    </a:lnTo>
                    <a:lnTo>
                      <a:pt x="2102" y="792"/>
                    </a:lnTo>
                    <a:lnTo>
                      <a:pt x="2473" y="623"/>
                    </a:lnTo>
                    <a:lnTo>
                      <a:pt x="3051" y="416"/>
                    </a:lnTo>
                    <a:lnTo>
                      <a:pt x="3238" y="350"/>
                    </a:lnTo>
                    <a:lnTo>
                      <a:pt x="3422" y="324"/>
                    </a:lnTo>
                    <a:lnTo>
                      <a:pt x="3636" y="350"/>
                    </a:lnTo>
                    <a:lnTo>
                      <a:pt x="3218" y="245"/>
                    </a:lnTo>
                    <a:lnTo>
                      <a:pt x="2920" y="259"/>
                    </a:lnTo>
                    <a:lnTo>
                      <a:pt x="2501" y="182"/>
                    </a:lnTo>
                    <a:lnTo>
                      <a:pt x="2194" y="66"/>
                    </a:lnTo>
                    <a:lnTo>
                      <a:pt x="1962" y="0"/>
                    </a:lnTo>
                    <a:lnTo>
                      <a:pt x="1684" y="182"/>
                    </a:lnTo>
                    <a:lnTo>
                      <a:pt x="1173" y="391"/>
                    </a:lnTo>
                    <a:lnTo>
                      <a:pt x="696" y="518"/>
                    </a:lnTo>
                    <a:lnTo>
                      <a:pt x="240" y="570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Group 18"/>
            <p:cNvGrpSpPr/>
            <p:nvPr/>
          </p:nvGrpSpPr>
          <p:grpSpPr>
            <a:xfrm>
              <a:off x="6127560" y="4547520"/>
              <a:ext cx="1234800" cy="1040760"/>
              <a:chOff x="6127560" y="4547520"/>
              <a:chExt cx="1234800" cy="1040760"/>
            </a:xfrm>
          </p:grpSpPr>
          <p:sp>
            <p:nvSpPr>
              <p:cNvPr id="534" name="Freeform 19"/>
              <p:cNvSpPr/>
              <p:nvPr/>
            </p:nvSpPr>
            <p:spPr>
              <a:xfrm>
                <a:off x="6127560" y="4547520"/>
                <a:ext cx="1216080" cy="554760"/>
              </a:xfrm>
              <a:custGeom>
                <a:avLst/>
                <a:gdLst/>
                <a:ahLst/>
                <a:rect l="l" t="t" r="r" b="b"/>
                <a:pathLst>
                  <a:path w="1143" h="559">
                    <a:moveTo>
                      <a:pt x="0" y="131"/>
                    </a:moveTo>
                    <a:lnTo>
                      <a:pt x="874" y="559"/>
                    </a:lnTo>
                    <a:lnTo>
                      <a:pt x="1143" y="443"/>
                    </a:lnTo>
                    <a:lnTo>
                      <a:pt x="268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fbf5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20"/>
              <p:cNvSpPr/>
              <p:nvPr/>
            </p:nvSpPr>
            <p:spPr>
              <a:xfrm>
                <a:off x="7065720" y="4974480"/>
                <a:ext cx="296640" cy="613800"/>
              </a:xfrm>
              <a:custGeom>
                <a:avLst/>
                <a:gdLst/>
                <a:ahLst/>
                <a:rect l="l" t="t" r="r" b="b"/>
                <a:pathLst>
                  <a:path w="279" h="621">
                    <a:moveTo>
                      <a:pt x="0" y="129"/>
                    </a:moveTo>
                    <a:lnTo>
                      <a:pt x="270" y="0"/>
                    </a:lnTo>
                    <a:lnTo>
                      <a:pt x="279" y="492"/>
                    </a:lnTo>
                    <a:lnTo>
                      <a:pt x="0" y="621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7f3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218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Инфля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обесценивания денег, который проявляется в виде долговременного повышения цен на товары и услуги (объем денежной массы значительно возрастает – количество товаров и услуг не увеличиваетс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ы инфля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лзучая инф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инфляция, при которой темпы роста цен на товары и услуги не превышает 10-15% в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алопирующая инф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качкообразный рост ц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иперинф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инфляция с очень высоким темпом роста цен (более 50% в месяц), наиболее тяжелая форма экономического криз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4"/>
          <p:cNvSpPr/>
          <p:nvPr/>
        </p:nvSpPr>
        <p:spPr>
          <a:xfrm>
            <a:off x="250920" y="260280"/>
            <a:ext cx="6408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ляция: виды, причины и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Причины инфля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ляция спрос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является, когда спрос превышает предложение, что ведет к росту цен (доходы населения  предприятий растут быстрее реального объема товаров и услу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ляция издерже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никает как следствие повышения издержек на единицу продукции. На уровень издержек производства могут влиять изменение величины налогов на производителя, увеличение з/п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"/>
          <p:cNvSpPr/>
          <p:nvPr/>
        </p:nvSpPr>
        <p:spPr>
          <a:xfrm>
            <a:off x="250920" y="260280"/>
            <a:ext cx="6408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ляция: виды, причины и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843588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Антиинфляционная политика государ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госрочная денежная политика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ение жестких ограничений на ежегодные приросты денежной ма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кращение государственного бюдже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омощи увеличения доходов и уменьшения расходов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иинфляционные мероприя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табилизация и стимулирование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овершенствование налогов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оведение мер по регулированию цен и до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250920" y="260280"/>
            <a:ext cx="6408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ляция: виды, причины и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нансы играют огромную роль в структуре рыночных отношений и механизме их государственного регулиро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250920" y="260280"/>
            <a:ext cx="6408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овые институ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ляция: виды, причины и послед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Финан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овокупность экономических отношений в процессе использования денежных сред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4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8"/>
          <p:cNvGraphicFramePr/>
          <p:nvPr/>
        </p:nvGraphicFramePr>
        <p:xfrm>
          <a:off x="395280" y="2060640"/>
          <a:ext cx="3240000" cy="36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060640"/>
                    <a:ext cx="3240000" cy="36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5" name="Group 10"/>
          <p:cNvGrpSpPr/>
          <p:nvPr/>
        </p:nvGrpSpPr>
        <p:grpSpPr>
          <a:xfrm>
            <a:off x="1258920" y="4724280"/>
            <a:ext cx="3959280" cy="1794600"/>
            <a:chOff x="1258920" y="4724280"/>
            <a:chExt cx="3959280" cy="1794600"/>
          </a:xfrm>
        </p:grpSpPr>
        <p:grpSp>
          <p:nvGrpSpPr>
            <p:cNvPr id="546" name="Group 11"/>
            <p:cNvGrpSpPr/>
            <p:nvPr/>
          </p:nvGrpSpPr>
          <p:grpSpPr>
            <a:xfrm>
              <a:off x="1258920" y="4724280"/>
              <a:ext cx="3959280" cy="1794600"/>
              <a:chOff x="1258920" y="4724280"/>
              <a:chExt cx="3959280" cy="1794600"/>
            </a:xfrm>
          </p:grpSpPr>
          <p:sp>
            <p:nvSpPr>
              <p:cNvPr id="547" name="Freeform 12"/>
              <p:cNvSpPr/>
              <p:nvPr/>
            </p:nvSpPr>
            <p:spPr>
              <a:xfrm>
                <a:off x="1318680" y="5275800"/>
                <a:ext cx="3870360" cy="1243080"/>
              </a:xfrm>
              <a:custGeom>
                <a:avLst/>
                <a:gdLst/>
                <a:ahLst/>
                <a:rect l="l" t="t" r="r" b="b"/>
                <a:pathLst>
                  <a:path w="3638" h="1257">
                    <a:moveTo>
                      <a:pt x="241" y="570"/>
                    </a:moveTo>
                    <a:lnTo>
                      <a:pt x="0" y="623"/>
                    </a:lnTo>
                    <a:lnTo>
                      <a:pt x="213" y="713"/>
                    </a:lnTo>
                    <a:lnTo>
                      <a:pt x="427" y="776"/>
                    </a:lnTo>
                    <a:lnTo>
                      <a:pt x="614" y="817"/>
                    </a:lnTo>
                    <a:lnTo>
                      <a:pt x="734" y="883"/>
                    </a:lnTo>
                    <a:lnTo>
                      <a:pt x="903" y="999"/>
                    </a:lnTo>
                    <a:lnTo>
                      <a:pt x="1052" y="1153"/>
                    </a:lnTo>
                    <a:lnTo>
                      <a:pt x="1210" y="1233"/>
                    </a:lnTo>
                    <a:lnTo>
                      <a:pt x="1313" y="1257"/>
                    </a:lnTo>
                    <a:lnTo>
                      <a:pt x="1453" y="1141"/>
                    </a:lnTo>
                    <a:lnTo>
                      <a:pt x="1591" y="1025"/>
                    </a:lnTo>
                    <a:lnTo>
                      <a:pt x="1871" y="883"/>
                    </a:lnTo>
                    <a:lnTo>
                      <a:pt x="2103" y="790"/>
                    </a:lnTo>
                    <a:lnTo>
                      <a:pt x="2474" y="623"/>
                    </a:lnTo>
                    <a:lnTo>
                      <a:pt x="3053" y="415"/>
                    </a:lnTo>
                    <a:lnTo>
                      <a:pt x="3238" y="350"/>
                    </a:lnTo>
                    <a:lnTo>
                      <a:pt x="3424" y="324"/>
                    </a:lnTo>
                    <a:lnTo>
                      <a:pt x="3638" y="350"/>
                    </a:lnTo>
                    <a:lnTo>
                      <a:pt x="3220" y="246"/>
                    </a:lnTo>
                    <a:lnTo>
                      <a:pt x="2922" y="260"/>
                    </a:lnTo>
                    <a:lnTo>
                      <a:pt x="2502" y="182"/>
                    </a:lnTo>
                    <a:lnTo>
                      <a:pt x="2195" y="65"/>
                    </a:lnTo>
                    <a:lnTo>
                      <a:pt x="1963" y="0"/>
                    </a:lnTo>
                    <a:lnTo>
                      <a:pt x="1684" y="182"/>
                    </a:lnTo>
                    <a:lnTo>
                      <a:pt x="1173" y="389"/>
                    </a:lnTo>
                    <a:lnTo>
                      <a:pt x="698" y="518"/>
                    </a:lnTo>
                    <a:lnTo>
                      <a:pt x="241" y="570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13"/>
              <p:cNvSpPr/>
              <p:nvPr/>
            </p:nvSpPr>
            <p:spPr>
              <a:xfrm>
                <a:off x="1309320" y="5172120"/>
                <a:ext cx="3684960" cy="120744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6" y="570"/>
                    </a:lnTo>
                    <a:lnTo>
                      <a:pt x="596" y="545"/>
                    </a:lnTo>
                    <a:lnTo>
                      <a:pt x="809" y="506"/>
                    </a:lnTo>
                    <a:lnTo>
                      <a:pt x="1135" y="403"/>
                    </a:lnTo>
                    <a:lnTo>
                      <a:pt x="1442" y="272"/>
                    </a:lnTo>
                    <a:lnTo>
                      <a:pt x="1675" y="182"/>
                    </a:lnTo>
                    <a:lnTo>
                      <a:pt x="1814" y="104"/>
                    </a:lnTo>
                    <a:lnTo>
                      <a:pt x="1908" y="0"/>
                    </a:lnTo>
                    <a:lnTo>
                      <a:pt x="2103" y="90"/>
                    </a:lnTo>
                    <a:lnTo>
                      <a:pt x="2316" y="130"/>
                    </a:lnTo>
                    <a:lnTo>
                      <a:pt x="2642" y="232"/>
                    </a:lnTo>
                    <a:lnTo>
                      <a:pt x="2969" y="272"/>
                    </a:lnTo>
                    <a:lnTo>
                      <a:pt x="3248" y="232"/>
                    </a:lnTo>
                    <a:lnTo>
                      <a:pt x="3461" y="208"/>
                    </a:lnTo>
                    <a:lnTo>
                      <a:pt x="3238" y="350"/>
                    </a:lnTo>
                    <a:lnTo>
                      <a:pt x="3071" y="414"/>
                    </a:lnTo>
                    <a:lnTo>
                      <a:pt x="2875" y="519"/>
                    </a:lnTo>
                    <a:lnTo>
                      <a:pt x="2447" y="648"/>
                    </a:lnTo>
                    <a:lnTo>
                      <a:pt x="2112" y="752"/>
                    </a:lnTo>
                    <a:lnTo>
                      <a:pt x="1842" y="907"/>
                    </a:lnTo>
                    <a:lnTo>
                      <a:pt x="1562" y="1024"/>
                    </a:lnTo>
                    <a:lnTo>
                      <a:pt x="1266" y="1155"/>
                    </a:lnTo>
                    <a:lnTo>
                      <a:pt x="1182" y="1219"/>
                    </a:lnTo>
                    <a:lnTo>
                      <a:pt x="1005" y="1063"/>
                    </a:lnTo>
                    <a:lnTo>
                      <a:pt x="772" y="880"/>
                    </a:lnTo>
                    <a:lnTo>
                      <a:pt x="576" y="817"/>
                    </a:lnTo>
                    <a:lnTo>
                      <a:pt x="335" y="764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14"/>
              <p:cNvSpPr/>
              <p:nvPr/>
            </p:nvSpPr>
            <p:spPr>
              <a:xfrm>
                <a:off x="1329120" y="5071320"/>
                <a:ext cx="3684240" cy="120420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6" y="570"/>
                    </a:lnTo>
                    <a:lnTo>
                      <a:pt x="594" y="544"/>
                    </a:lnTo>
                    <a:lnTo>
                      <a:pt x="808" y="507"/>
                    </a:lnTo>
                    <a:lnTo>
                      <a:pt x="1136" y="402"/>
                    </a:lnTo>
                    <a:lnTo>
                      <a:pt x="1443" y="273"/>
                    </a:lnTo>
                    <a:lnTo>
                      <a:pt x="1675" y="183"/>
                    </a:lnTo>
                    <a:lnTo>
                      <a:pt x="1814" y="104"/>
                    </a:lnTo>
                    <a:lnTo>
                      <a:pt x="1907" y="0"/>
                    </a:lnTo>
                    <a:lnTo>
                      <a:pt x="2102" y="92"/>
                    </a:lnTo>
                    <a:lnTo>
                      <a:pt x="2317" y="130"/>
                    </a:lnTo>
                    <a:lnTo>
                      <a:pt x="2642" y="234"/>
                    </a:lnTo>
                    <a:lnTo>
                      <a:pt x="2968" y="273"/>
                    </a:lnTo>
                    <a:lnTo>
                      <a:pt x="3247" y="234"/>
                    </a:lnTo>
                    <a:lnTo>
                      <a:pt x="3461" y="208"/>
                    </a:lnTo>
                    <a:lnTo>
                      <a:pt x="3237" y="350"/>
                    </a:lnTo>
                    <a:lnTo>
                      <a:pt x="3070" y="416"/>
                    </a:lnTo>
                    <a:lnTo>
                      <a:pt x="2875" y="518"/>
                    </a:lnTo>
                    <a:lnTo>
                      <a:pt x="2447" y="649"/>
                    </a:lnTo>
                    <a:lnTo>
                      <a:pt x="2113" y="752"/>
                    </a:lnTo>
                    <a:lnTo>
                      <a:pt x="1842" y="908"/>
                    </a:lnTo>
                    <a:lnTo>
                      <a:pt x="1563" y="1025"/>
                    </a:lnTo>
                    <a:lnTo>
                      <a:pt x="1265" y="1156"/>
                    </a:lnTo>
                    <a:lnTo>
                      <a:pt x="1182" y="1219"/>
                    </a:lnTo>
                    <a:lnTo>
                      <a:pt x="1005" y="1065"/>
                    </a:lnTo>
                    <a:lnTo>
                      <a:pt x="772" y="882"/>
                    </a:lnTo>
                    <a:lnTo>
                      <a:pt x="577" y="816"/>
                    </a:lnTo>
                    <a:lnTo>
                      <a:pt x="334" y="765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f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15"/>
              <p:cNvSpPr/>
              <p:nvPr/>
            </p:nvSpPr>
            <p:spPr>
              <a:xfrm>
                <a:off x="1258920" y="4967640"/>
                <a:ext cx="3873240" cy="1245960"/>
              </a:xfrm>
              <a:custGeom>
                <a:avLst/>
                <a:gdLst/>
                <a:ahLst/>
                <a:rect l="l" t="t" r="r" b="b"/>
                <a:pathLst>
                  <a:path w="3637" h="1261">
                    <a:moveTo>
                      <a:pt x="241" y="573"/>
                    </a:moveTo>
                    <a:lnTo>
                      <a:pt x="0" y="623"/>
                    </a:lnTo>
                    <a:lnTo>
                      <a:pt x="212" y="715"/>
                    </a:lnTo>
                    <a:lnTo>
                      <a:pt x="428" y="779"/>
                    </a:lnTo>
                    <a:lnTo>
                      <a:pt x="613" y="819"/>
                    </a:lnTo>
                    <a:lnTo>
                      <a:pt x="733" y="883"/>
                    </a:lnTo>
                    <a:lnTo>
                      <a:pt x="902" y="999"/>
                    </a:lnTo>
                    <a:lnTo>
                      <a:pt x="1051" y="1156"/>
                    </a:lnTo>
                    <a:lnTo>
                      <a:pt x="1209" y="1233"/>
                    </a:lnTo>
                    <a:lnTo>
                      <a:pt x="1312" y="1261"/>
                    </a:lnTo>
                    <a:lnTo>
                      <a:pt x="1451" y="1144"/>
                    </a:lnTo>
                    <a:lnTo>
                      <a:pt x="1591" y="1026"/>
                    </a:lnTo>
                    <a:lnTo>
                      <a:pt x="1869" y="883"/>
                    </a:lnTo>
                    <a:lnTo>
                      <a:pt x="2102" y="791"/>
                    </a:lnTo>
                    <a:lnTo>
                      <a:pt x="2473" y="623"/>
                    </a:lnTo>
                    <a:lnTo>
                      <a:pt x="3051" y="417"/>
                    </a:lnTo>
                    <a:lnTo>
                      <a:pt x="3238" y="352"/>
                    </a:lnTo>
                    <a:lnTo>
                      <a:pt x="3422" y="325"/>
                    </a:lnTo>
                    <a:lnTo>
                      <a:pt x="3637" y="352"/>
                    </a:lnTo>
                    <a:lnTo>
                      <a:pt x="3219" y="249"/>
                    </a:lnTo>
                    <a:lnTo>
                      <a:pt x="2921" y="262"/>
                    </a:lnTo>
                    <a:lnTo>
                      <a:pt x="2502" y="183"/>
                    </a:lnTo>
                    <a:lnTo>
                      <a:pt x="2195" y="65"/>
                    </a:lnTo>
                    <a:lnTo>
                      <a:pt x="1962" y="0"/>
                    </a:lnTo>
                    <a:lnTo>
                      <a:pt x="1684" y="183"/>
                    </a:lnTo>
                    <a:lnTo>
                      <a:pt x="1172" y="391"/>
                    </a:lnTo>
                    <a:lnTo>
                      <a:pt x="697" y="521"/>
                    </a:lnTo>
                    <a:lnTo>
                      <a:pt x="241" y="573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16"/>
              <p:cNvSpPr/>
              <p:nvPr/>
            </p:nvSpPr>
            <p:spPr>
              <a:xfrm>
                <a:off x="1290600" y="4878000"/>
                <a:ext cx="3684240" cy="120492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4" y="570"/>
                    </a:lnTo>
                    <a:lnTo>
                      <a:pt x="594" y="544"/>
                    </a:lnTo>
                    <a:lnTo>
                      <a:pt x="809" y="506"/>
                    </a:lnTo>
                    <a:lnTo>
                      <a:pt x="1135" y="402"/>
                    </a:lnTo>
                    <a:lnTo>
                      <a:pt x="1442" y="272"/>
                    </a:lnTo>
                    <a:lnTo>
                      <a:pt x="1674" y="180"/>
                    </a:lnTo>
                    <a:lnTo>
                      <a:pt x="1814" y="103"/>
                    </a:lnTo>
                    <a:lnTo>
                      <a:pt x="1907" y="0"/>
                    </a:lnTo>
                    <a:lnTo>
                      <a:pt x="2103" y="89"/>
                    </a:lnTo>
                    <a:lnTo>
                      <a:pt x="2317" y="128"/>
                    </a:lnTo>
                    <a:lnTo>
                      <a:pt x="2641" y="235"/>
                    </a:lnTo>
                    <a:lnTo>
                      <a:pt x="2969" y="272"/>
                    </a:lnTo>
                    <a:lnTo>
                      <a:pt x="3247" y="235"/>
                    </a:lnTo>
                    <a:lnTo>
                      <a:pt x="3461" y="205"/>
                    </a:lnTo>
                    <a:lnTo>
                      <a:pt x="3238" y="351"/>
                    </a:lnTo>
                    <a:lnTo>
                      <a:pt x="3071" y="414"/>
                    </a:lnTo>
                    <a:lnTo>
                      <a:pt x="2876" y="519"/>
                    </a:lnTo>
                    <a:lnTo>
                      <a:pt x="2445" y="648"/>
                    </a:lnTo>
                    <a:lnTo>
                      <a:pt x="2111" y="752"/>
                    </a:lnTo>
                    <a:lnTo>
                      <a:pt x="1843" y="908"/>
                    </a:lnTo>
                    <a:lnTo>
                      <a:pt x="1563" y="1025"/>
                    </a:lnTo>
                    <a:lnTo>
                      <a:pt x="1266" y="1154"/>
                    </a:lnTo>
                    <a:lnTo>
                      <a:pt x="1182" y="1219"/>
                    </a:lnTo>
                    <a:lnTo>
                      <a:pt x="1006" y="1062"/>
                    </a:lnTo>
                    <a:lnTo>
                      <a:pt x="771" y="880"/>
                    </a:lnTo>
                    <a:lnTo>
                      <a:pt x="576" y="817"/>
                    </a:lnTo>
                    <a:lnTo>
                      <a:pt x="334" y="764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f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17"/>
              <p:cNvSpPr/>
              <p:nvPr/>
            </p:nvSpPr>
            <p:spPr>
              <a:xfrm>
                <a:off x="1347840" y="4724280"/>
                <a:ext cx="3870360" cy="1243080"/>
              </a:xfrm>
              <a:custGeom>
                <a:avLst/>
                <a:gdLst/>
                <a:ahLst/>
                <a:rect l="l" t="t" r="r" b="b"/>
                <a:pathLst>
                  <a:path w="3636" h="1258">
                    <a:moveTo>
                      <a:pt x="240" y="570"/>
                    </a:moveTo>
                    <a:lnTo>
                      <a:pt x="0" y="623"/>
                    </a:lnTo>
                    <a:lnTo>
                      <a:pt x="212" y="715"/>
                    </a:lnTo>
                    <a:lnTo>
                      <a:pt x="427" y="778"/>
                    </a:lnTo>
                    <a:lnTo>
                      <a:pt x="613" y="818"/>
                    </a:lnTo>
                    <a:lnTo>
                      <a:pt x="734" y="882"/>
                    </a:lnTo>
                    <a:lnTo>
                      <a:pt x="902" y="999"/>
                    </a:lnTo>
                    <a:lnTo>
                      <a:pt x="1050" y="1152"/>
                    </a:lnTo>
                    <a:lnTo>
                      <a:pt x="1209" y="1232"/>
                    </a:lnTo>
                    <a:lnTo>
                      <a:pt x="1311" y="1258"/>
                    </a:lnTo>
                    <a:lnTo>
                      <a:pt x="1451" y="1141"/>
                    </a:lnTo>
                    <a:lnTo>
                      <a:pt x="1591" y="1024"/>
                    </a:lnTo>
                    <a:lnTo>
                      <a:pt x="1869" y="882"/>
                    </a:lnTo>
                    <a:lnTo>
                      <a:pt x="2102" y="792"/>
                    </a:lnTo>
                    <a:lnTo>
                      <a:pt x="2473" y="623"/>
                    </a:lnTo>
                    <a:lnTo>
                      <a:pt x="3051" y="416"/>
                    </a:lnTo>
                    <a:lnTo>
                      <a:pt x="3238" y="350"/>
                    </a:lnTo>
                    <a:lnTo>
                      <a:pt x="3422" y="324"/>
                    </a:lnTo>
                    <a:lnTo>
                      <a:pt x="3636" y="350"/>
                    </a:lnTo>
                    <a:lnTo>
                      <a:pt x="3218" y="245"/>
                    </a:lnTo>
                    <a:lnTo>
                      <a:pt x="2920" y="259"/>
                    </a:lnTo>
                    <a:lnTo>
                      <a:pt x="2501" y="182"/>
                    </a:lnTo>
                    <a:lnTo>
                      <a:pt x="2194" y="66"/>
                    </a:lnTo>
                    <a:lnTo>
                      <a:pt x="1962" y="0"/>
                    </a:lnTo>
                    <a:lnTo>
                      <a:pt x="1684" y="182"/>
                    </a:lnTo>
                    <a:lnTo>
                      <a:pt x="1173" y="391"/>
                    </a:lnTo>
                    <a:lnTo>
                      <a:pt x="696" y="518"/>
                    </a:lnTo>
                    <a:lnTo>
                      <a:pt x="240" y="570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Group 18"/>
            <p:cNvGrpSpPr/>
            <p:nvPr/>
          </p:nvGrpSpPr>
          <p:grpSpPr>
            <a:xfrm>
              <a:off x="2600280" y="4914000"/>
              <a:ext cx="1234800" cy="1040760"/>
              <a:chOff x="2600280" y="4914000"/>
              <a:chExt cx="1234800" cy="1040760"/>
            </a:xfrm>
          </p:grpSpPr>
          <p:sp>
            <p:nvSpPr>
              <p:cNvPr id="554" name="Freeform 19"/>
              <p:cNvSpPr/>
              <p:nvPr/>
            </p:nvSpPr>
            <p:spPr>
              <a:xfrm>
                <a:off x="2600280" y="4914000"/>
                <a:ext cx="1216080" cy="554760"/>
              </a:xfrm>
              <a:custGeom>
                <a:avLst/>
                <a:gdLst/>
                <a:ahLst/>
                <a:rect l="l" t="t" r="r" b="b"/>
                <a:pathLst>
                  <a:path w="1143" h="559">
                    <a:moveTo>
                      <a:pt x="0" y="131"/>
                    </a:moveTo>
                    <a:lnTo>
                      <a:pt x="874" y="559"/>
                    </a:lnTo>
                    <a:lnTo>
                      <a:pt x="1143" y="443"/>
                    </a:lnTo>
                    <a:lnTo>
                      <a:pt x="268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fbf5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20"/>
              <p:cNvSpPr/>
              <p:nvPr/>
            </p:nvSpPr>
            <p:spPr>
              <a:xfrm>
                <a:off x="3538440" y="5340960"/>
                <a:ext cx="296640" cy="613800"/>
              </a:xfrm>
              <a:custGeom>
                <a:avLst/>
                <a:gdLst/>
                <a:ahLst/>
                <a:rect l="l" t="t" r="r" b="b"/>
                <a:pathLst>
                  <a:path w="279" h="621">
                    <a:moveTo>
                      <a:pt x="0" y="129"/>
                    </a:moveTo>
                    <a:lnTo>
                      <a:pt x="270" y="0"/>
                    </a:lnTo>
                    <a:lnTo>
                      <a:pt x="279" y="492"/>
                    </a:lnTo>
                    <a:lnTo>
                      <a:pt x="0" y="621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7f3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Банковская система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окупность действующих в стране банков и других кредитных учреждений и организ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25056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6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9"/>
          <p:cNvSpPr/>
          <p:nvPr/>
        </p:nvSpPr>
        <p:spPr>
          <a:xfrm>
            <a:off x="2411280" y="3573360"/>
            <a:ext cx="3961080" cy="719280"/>
          </a:xfrm>
          <a:prstGeom prst="rect">
            <a:avLst/>
          </a:prstGeom>
          <a:solidFill>
            <a:srgbClr val="eaeaea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ТРАЛЬНЫЙ БА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1"/>
          <p:cNvSpPr/>
          <p:nvPr/>
        </p:nvSpPr>
        <p:spPr>
          <a:xfrm>
            <a:off x="395280" y="5013360"/>
            <a:ext cx="3527280" cy="719280"/>
          </a:xfrm>
          <a:prstGeom prst="rect">
            <a:avLst/>
          </a:prstGeom>
          <a:solidFill>
            <a:srgbClr val="eaeaea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мерческие ба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2"/>
          <p:cNvSpPr/>
          <p:nvPr/>
        </p:nvSpPr>
        <p:spPr>
          <a:xfrm>
            <a:off x="4572000" y="5013360"/>
            <a:ext cx="4248000" cy="719280"/>
          </a:xfrm>
          <a:prstGeom prst="rect">
            <a:avLst/>
          </a:prstGeom>
          <a:solidFill>
            <a:srgbClr val="eaeaea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ругие финансово-кредитные учре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4"/>
          <p:cNvSpPr/>
          <p:nvPr/>
        </p:nvSpPr>
        <p:spPr>
          <a:xfrm flipH="1">
            <a:off x="2050920" y="4292640"/>
            <a:ext cx="2376720" cy="722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5"/>
          <p:cNvSpPr/>
          <p:nvPr/>
        </p:nvSpPr>
        <p:spPr>
          <a:xfrm>
            <a:off x="4356000" y="4292640"/>
            <a:ext cx="2232000" cy="72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Основные функции Центрального бан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уществление денежно- кредитной политики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едитование коммерческих бан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еспечение стабильной деятельности банковской и финансовой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держание устойчивости национальной денежной еди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ранение запасов денежных средств и зо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title"/>
          </p:nvPr>
        </p:nvSpPr>
        <p:spPr>
          <a:xfrm>
            <a:off x="25056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Типы коммерческих банк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раслевые бан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бслуживают определенные отрасли экономи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отраслев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бслуживают все отрасли экономи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гиональные бан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бслуживают определенные регионы стран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25092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Операции коммерческого бан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ссив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перации по мобилизации денежных ресурсов: прием вкладов (депозитов); получение кредитов от других банков и центрального банка; выпуск собственных ценных бум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тив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перации по размещению средств: предоставление различных по срокам и размерам креди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25092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Финансово- кредитные учрежд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апливают свободные денежные средства и предоставляют их тем, кто нуждается в дополнительном капитале или финансов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Пенсионный фон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нд, создаваемый частными и государственными компаниями, предприятиями для выплаты пенсий и пособий лицам, вносящим пенсионные взносы в этот фо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Инвестиционные компан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о- кредитный институт, собирающий денежные средства частных инвесторов через продажу им собственных ценных бум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25092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ые институ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Страховые компан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и, оказывающие страховые услуги, предназначены для возмещения ущерба, потерь несчастными случа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Фондовые бирж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изируются на продаже и покупке ценных бум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Межгосударственные финансово-кредитные институ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Мировой банк, Международный валютный фонд, Европейский банк реконструкции и развития и др.). Они занимаются финансированием и кредитованием разных стран, содействуют мировой торговле, оказывают помощь в стабилизации финансов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25092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ые институ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5:44:14Z</dcterms:created>
  <dc:creator>lubasha</dc:creator>
  <dc:description/>
  <dc:language>en-US</dc:language>
  <cp:lastModifiedBy>LEGION</cp:lastModifiedBy>
  <dcterms:modified xsi:type="dcterms:W3CDTF">2015-01-05T09:58:46Z</dcterms:modified>
  <cp:revision>8</cp:revision>
  <dc:subject/>
  <dc:title>Слайд 1</dc:title>
</cp:coreProperties>
</file>