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6D34-5ACA-412C-8156-AA9CDD2061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A759-FF54-48A4-9E9F-B036A605E2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DFBA-FCDF-4166-A5DB-B8AACC2D4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51D-3601-42E3-8945-0E806CC3D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CB22-3E45-40C2-8E7F-4FA3E0B1F8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95AC-D69E-4E82-B5FD-F98D2432E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770A-58C7-498B-ACF4-022CDB246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EBCD-FE64-4094-A013-E0493C695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5E4F-BE11-4C97-BBDB-20FB3373C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1C29-F4ED-4CE5-B3EB-B2F2170B2B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A20A-796D-42F4-9560-8B5829E5F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C7D7-A560-427B-86C4-922C0D7F4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6E62-51F5-44CB-A1A8-D8599AB55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BDD9-B26B-4853-BA58-BBC9CDB10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9B89-3B3A-4D53-AF9A-27D0E006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4B4E-9D7B-45B1-83CB-4C5C3E3D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DF08-452E-4B0F-A354-C0F6D293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5A1D-7DC8-4BB1-85E6-3EBDA4DA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9A27-55AE-4992-9F8D-F303AFF6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96A9-681F-4FA7-B7F6-B446A5EA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93E9-909D-4FC3-A9F9-382BB601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3AD-FC29-4983-979E-D2A1A30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D45D-675F-4B61-8EF1-5EDD4454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B915-7687-4423-8587-34CCE11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C74B-0065-407A-AC4C-17162AA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B36B-5D11-4D8B-A3C5-F326A994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EEC2-CF84-4C3F-B6CE-468DA09E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F6AB-588F-4760-958A-C09E431E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2AB8-22B8-470D-9F02-FD03D981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B0FF-6245-4C74-971E-7C89CC2A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8555-FC40-419C-AF78-72FD9016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E8E8-C649-45D3-BAC9-21E18B9B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6900-5DB6-46C9-92B5-1026D070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6891-743B-44FA-8E44-A33875A8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FB51-C3D1-41CB-8151-D04C949E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EAEE-2DD0-4BB3-AF15-7A86CDC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055B-13E2-45B2-9986-58FF58B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5AAD-403F-4231-8425-ED5D867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FFCE-697F-4680-9AB4-BB09D64ADA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02B9-5301-4C2B-9EDB-1408C6373E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07320" cy="107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14200" y="1285920"/>
            <a:ext cx="84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6"/>
          <p:cNvGraphicFramePr/>
          <p:nvPr/>
        </p:nvGraphicFramePr>
        <p:xfrm>
          <a:off x="2643120" y="207180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07180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10"/>
          <p:cNvGrpSpPr/>
          <p:nvPr/>
        </p:nvGrpSpPr>
        <p:grpSpPr>
          <a:xfrm>
            <a:off x="4786200" y="4357800"/>
            <a:ext cx="3959640" cy="1794240"/>
            <a:chOff x="4786200" y="4357800"/>
            <a:chExt cx="3959640" cy="1794240"/>
          </a:xfrm>
        </p:grpSpPr>
        <p:grpSp>
          <p:nvGrpSpPr>
            <p:cNvPr id="526" name="Group 11"/>
            <p:cNvGrpSpPr/>
            <p:nvPr/>
          </p:nvGrpSpPr>
          <p:grpSpPr>
            <a:xfrm>
              <a:off x="4786200" y="4357800"/>
              <a:ext cx="3959640" cy="1794240"/>
              <a:chOff x="4786200" y="4357800"/>
              <a:chExt cx="3959640" cy="1794240"/>
            </a:xfrm>
          </p:grpSpPr>
          <p:sp>
            <p:nvSpPr>
              <p:cNvPr id="527" name="Freeform 12"/>
              <p:cNvSpPr/>
              <p:nvPr/>
            </p:nvSpPr>
            <p:spPr>
              <a:xfrm>
                <a:off x="4845960" y="490932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"/>
              <p:cNvSpPr/>
              <p:nvPr/>
            </p:nvSpPr>
            <p:spPr>
              <a:xfrm>
                <a:off x="4836600" y="4805640"/>
                <a:ext cx="3685320" cy="120708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"/>
              <p:cNvSpPr/>
              <p:nvPr/>
            </p:nvSpPr>
            <p:spPr>
              <a:xfrm>
                <a:off x="4856400" y="4704840"/>
                <a:ext cx="3684600" cy="12038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4786200" y="4601160"/>
                <a:ext cx="3873600" cy="124560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6"/>
              <p:cNvSpPr/>
              <p:nvPr/>
            </p:nvSpPr>
            <p:spPr>
              <a:xfrm>
                <a:off x="4817880" y="4511520"/>
                <a:ext cx="3684600" cy="120456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4875120" y="435780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6127560" y="4547520"/>
              <a:ext cx="1234800" cy="1040760"/>
              <a:chOff x="6127560" y="4547520"/>
              <a:chExt cx="1234800" cy="1040760"/>
            </a:xfrm>
          </p:grpSpPr>
          <p:sp>
            <p:nvSpPr>
              <p:cNvPr id="534" name="Freeform 19"/>
              <p:cNvSpPr/>
              <p:nvPr/>
            </p:nvSpPr>
            <p:spPr>
              <a:xfrm>
                <a:off x="6127560" y="454752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"/>
              <p:cNvSpPr/>
              <p:nvPr/>
            </p:nvSpPr>
            <p:spPr>
              <a:xfrm>
                <a:off x="7065720" y="497448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8"/>
          <p:cNvGraphicFramePr/>
          <p:nvPr/>
        </p:nvGraphicFramePr>
        <p:xfrm>
          <a:off x="395280" y="206064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0"/>
          <p:cNvGrpSpPr/>
          <p:nvPr/>
        </p:nvGrpSpPr>
        <p:grpSpPr>
          <a:xfrm>
            <a:off x="1258920" y="4724280"/>
            <a:ext cx="3959280" cy="1794600"/>
            <a:chOff x="1258920" y="4724280"/>
            <a:chExt cx="3959280" cy="1794600"/>
          </a:xfrm>
        </p:grpSpPr>
        <p:grpSp>
          <p:nvGrpSpPr>
            <p:cNvPr id="546" name="Group 11"/>
            <p:cNvGrpSpPr/>
            <p:nvPr/>
          </p:nvGrpSpPr>
          <p:grpSpPr>
            <a:xfrm>
              <a:off x="1258920" y="4724280"/>
              <a:ext cx="3959280" cy="1794600"/>
              <a:chOff x="1258920" y="4724280"/>
              <a:chExt cx="3959280" cy="1794600"/>
            </a:xfrm>
          </p:grpSpPr>
          <p:sp>
            <p:nvSpPr>
              <p:cNvPr id="547" name="Freeform 12"/>
              <p:cNvSpPr/>
              <p:nvPr/>
            </p:nvSpPr>
            <p:spPr>
              <a:xfrm>
                <a:off x="1318680" y="527580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>
                <a:off x="1309320" y="5172120"/>
                <a:ext cx="3684960" cy="12074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>
                <a:off x="1329120" y="5071320"/>
                <a:ext cx="3684240" cy="120420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>
                <a:off x="1258920" y="4967640"/>
                <a:ext cx="3873240" cy="124596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>
                <a:off x="1290600" y="4878000"/>
                <a:ext cx="3684240" cy="120492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>
                <a:off x="1347840" y="472428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8"/>
            <p:cNvGrpSpPr/>
            <p:nvPr/>
          </p:nvGrpSpPr>
          <p:grpSpPr>
            <a:xfrm>
              <a:off x="2600280" y="4914000"/>
              <a:ext cx="1234800" cy="1040760"/>
              <a:chOff x="2600280" y="4914000"/>
              <a:chExt cx="1234800" cy="1040760"/>
            </a:xfrm>
          </p:grpSpPr>
          <p:sp>
            <p:nvSpPr>
              <p:cNvPr id="554" name="Freeform 19"/>
              <p:cNvSpPr/>
              <p:nvPr/>
            </p:nvSpPr>
            <p:spPr>
              <a:xfrm>
                <a:off x="2600280" y="491400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>
                <a:off x="3538440" y="534096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411280" y="3573360"/>
            <a:ext cx="39610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5280" y="5013360"/>
            <a:ext cx="35272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4572000" y="5013360"/>
            <a:ext cx="4248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финансово-креди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 flipH="1">
            <a:off x="2050920" y="4292640"/>
            <a:ext cx="23767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4356000" y="4292640"/>
            <a:ext cx="2232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44:14Z</dcterms:created>
  <dc:creator>lubasha</dc:creator>
  <dc:description/>
  <dc:language>en-US</dc:language>
  <cp:lastModifiedBy>LEGION</cp:lastModifiedBy>
  <dcterms:modified xsi:type="dcterms:W3CDTF">2015-01-05T09:58:46Z</dcterms:modified>
  <cp:revision>8</cp:revision>
  <dc:subject/>
  <dc:title>Слайд 1</dc:title>
</cp:coreProperties>
</file>