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6366-6799-410A-8C37-EC183D4B09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7F31-9734-433B-BF22-78607BF0BD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длежат облож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овочные расходы и суточные в предела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0575-FB05-43E6-8290-37897740E0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и отчетный пери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м периодом     признается календар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ным периодом признается квар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0029-D1AC-4368-8A69-3FBE1167FB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и нало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29C-21BD-434A-B54B-64F5106FB0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4B2D-3776-4DB5-B30C-7C63F0FEEC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регрессивной шк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лог уплачивается по максимальной став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фактической величины налоговой базы на каждое физическ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7C67-A049-47C8-B6CE-94D45456A7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с 1 января 200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  0,3%  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ж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ставка  ЕСН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сляемая  в  ФСС  РФ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0,3%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а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а  ЕСН,  зачисляемая  в  ФФОМС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8EF-46F9-4C75-824F-9D5BA0CE5A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и уплата нало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жемесячные авансовые плате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уплачивают их не позднее 15 числа следующего месяца (общий поряд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8756-B905-4ACD-98CE-2369F47C1C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на доходы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4C90-4BC3-49C0-A5CF-D83F11F470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ельщики на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осс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е граждан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без гражда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ыделяют лиц, являющих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оговыми резид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E7CE-6480-4051-BE39-6B1477FBC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граждан не резидентов только доходы, полученные от источников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66D-34A5-46D4-A829-B12132DD7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гулируется НК, а именно 24 главо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Н  введен в действие с 1 января 200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ил отчисления в государственные социальные внебюджетные фон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я зачисляются в Федеральный бюджет, ПФ РФ, ФСС  и в ФОМ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C2C9-DE78-4058-9E6D-02B1FE7B9E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база включает в себя доходы в различной форм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уральн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иде материальной вы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897C-DA4F-48CE-BF58-1CAE815A03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доходам в натуральной  форме относя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в натураль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логоплательщиком товары, услуги на 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оды в натуральной форме оцениваются в рыночных ценах, включающих НДС, акци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B437-341B-4874-863B-DAE8D0D265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14EA-0046-4C5D-8F0D-5D66BC22D5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сост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ыгода от приобретени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5734-F8BA-43CD-9491-73E64548F1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года от экономии на процентах: расч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C058-2178-4004-899A-5F4E4505C9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 выгода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0т.р.*3/4*0,13 - 150 т.р.*0,0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625 р . – 7,5 тыс.руб. = 7125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64C3-BF17-4C4C-A64B-8729EE5A23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года, полученная от приобретения товаров (работ, услуг) у взаимозависимых лиц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9831-095F-48EC-A7EE-12C8AF5F46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0C02-59C9-4F2B-ADA1-4A46E937F6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а от приобретен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481D-3C03-466F-83E4-5AB8A1A62E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за исключением пособий по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енсии, стипенд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именты, полученные налогоплательщ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командировкам и суточные в пределах нор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F225-76A5-4170-B2A7-318578E973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плательщ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483-8061-45FD-93CF-972BF431BA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полученные от физических лиц в порядке наследования,  да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4D9-1CDC-40E5-BC0F-A42181DE75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именяется четыре вида выч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E5E2-777D-4A40-B552-8A288ADD87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необлагаемый минимум дох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397A-33D5-4F63-B41F-8D2048F132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ычеты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6D44-12FE-4ABD-81D4-34A2ECA847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 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при наличии расходов на определенные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благотворительность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е более 25% дохода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бу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е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CE66-E7EB-456E-A9DC-F5B05F0548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ущественные налоговые выч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669E-5CAA-4DC0-B6EE-39D0E065FC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ессиональные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м предприним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занимающимся частной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  получающим    доходы   по   договорам    гражданско -  правового характе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ские вознагра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D36-7CC2-4BB4-9767-691A4F5F19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период -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68B4-B5F9-4E4F-842E-286C55EC9A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A852-C8AF-4E4F-BF0C-493C4BC0B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чета налога составим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56E-0FF7-4B39-8E6F-061D06C94A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, начисленные в пользу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индивидуальных предпринимате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платы в пользу физических лиц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3F45-9A91-4C95-89C9-011812A631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(в руб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EACD-B1E5-4FF9-99D9-FE7E2C0EBB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относят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 объекту н/о выпл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 по договорам, предметом которых является переход права собственности или иных вещных прав на имущ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по договорам, связанных с передачей в пользование имущества (имущественных пра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9041-A4BF-4EBC-B574-D633F132EB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торые не уменьшают налоговую базу у ИП по НДФЛ в текущем отчетном (налоговом)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несены на расходы, уменьшающие налоговую базу по налогу на прибыль у организаци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-р: питание работников, служебный автотранспорт, форменная одежда и т.п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162-A9EC-48CE-A94E-FD978301ED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ыплат, начисленных за налоговый период в пользу физических лиц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5D0-95C2-4066-B5F9-D6DFBD8F53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12D5-BD88-4C43-8626-0BAFF76508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ат обложению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установленные Законодательством, в т.ч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ной нетруд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уходу за ребенком, по безработице,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вы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941B-EE7E-4F9E-B4EC-FF5CA836DE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EA0-4AB4-49C7-A3FF-7DBB76F6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28C-3EB3-47E1-B2A3-805179C4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32C-4912-4B6C-BE8F-0FE4B240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C0B-4903-44F7-BD69-3BBCC254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B308-658A-475B-9D01-546E0C16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1E4-1654-424C-9BB0-07982A8B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3941-625B-49D7-9F5C-C2D0706E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E491-A04A-4682-9BD7-7B7C7221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60BE-CBEC-4634-8141-5577ECC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2A8A-9A13-4720-A327-504C2FF2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4227-C5F4-4D69-9F68-B5205DF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E48-72CC-4AF9-B098-0CB470E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72AE-B801-4D76-94EB-907D0AE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8DA0-412B-4572-9FF4-4C03A71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FFCB-A616-4BD5-91CF-429653A8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80F6-50DE-4B19-AD0A-A344AB94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B2DD-D857-4668-8BA2-B3CEB8D4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ACD-C15A-4D1C-B719-BEB77CDF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96B-0647-40AD-B686-85D04E62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6AE-6BBB-4B9F-9F79-44E9D5A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5DB-8B94-4CC3-A41B-E1FE03A6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86E-AF77-4E5F-96C3-FE8F9004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4EF-3272-4DEB-9E21-F9E55FE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40D-B18D-4C16-A236-DABE3D29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097A-7F60-4592-A923-4EBEC5EB6D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. 3"/>
          <p:cNvSpPr/>
          <p:nvPr/>
        </p:nvSpPr>
        <p:spPr>
          <a:xfrm>
            <a:off x="385920" y="297000"/>
            <a:ext cx="591840" cy="35971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Группа 15"/>
          <p:cNvGrpSpPr/>
          <p:nvPr/>
        </p:nvGrpSpPr>
        <p:grpSpPr>
          <a:xfrm>
            <a:off x="826920" y="907920"/>
            <a:ext cx="8066160" cy="133200"/>
            <a:chOff x="826920" y="907920"/>
            <a:chExt cx="8066160" cy="133200"/>
          </a:xfrm>
        </p:grpSpPr>
        <p:sp>
          <p:nvSpPr>
            <p:cNvPr id="7" name="Прямоуг. 5"/>
            <p:cNvSpPr/>
            <p:nvPr/>
          </p:nvSpPr>
          <p:spPr>
            <a:xfrm>
              <a:off x="7116480" y="907920"/>
              <a:ext cx="1776600" cy="133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Линия 6"/>
            <p:cNvSpPr/>
            <p:nvPr/>
          </p:nvSpPr>
          <p:spPr>
            <a:xfrm>
              <a:off x="826920" y="963360"/>
              <a:ext cx="806616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Линия 12"/>
          <p:cNvSpPr/>
          <p:nvPr/>
        </p:nvSpPr>
        <p:spPr>
          <a:xfrm>
            <a:off x="324000" y="4130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.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Прямоуг.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Линия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D8E8-2394-4C8A-912F-2AE1200F6F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Единый социальный налог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овочные расходы и суточные в предела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й и отчетный период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м периодом     признается календарный г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четным периодом признается квар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тав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125360"/>
          <a:ext cx="8050320" cy="5107320"/>
        </p:xfrm>
        <a:graphic>
          <a:graphicData uri="http://schemas.openxmlformats.org/drawingml/2006/table">
            <a:tbl>
              <a:tblPr/>
              <a:tblGrid>
                <a:gridCol w="1281240"/>
                <a:gridCol w="1368360"/>
                <a:gridCol w="1368360"/>
                <a:gridCol w="1224000"/>
                <a:gridCol w="122400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 на 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т.р. + 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0 р. +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00 р. + 10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80р. + 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2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00 р. + 10%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ндивидуальные предпринимател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125360"/>
          <a:ext cx="8050320" cy="5070600"/>
        </p:xfrm>
        <a:graphic>
          <a:graphicData uri="http://schemas.openxmlformats.org/drawingml/2006/table">
            <a:tbl>
              <a:tblPr/>
              <a:tblGrid>
                <a:gridCol w="1609560"/>
                <a:gridCol w="1609920"/>
                <a:gridCol w="1611360"/>
                <a:gridCol w="1609560"/>
                <a:gridCol w="16099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0 р. + 2,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 р. + 0,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 р. + 0,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т.р. + 36%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80 р. +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0 р. + 2%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нение регрессивной шкал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налог уплачивается по максимальной став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фактической величины налоговой базы на каждое физическое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зменения с 1 января 2006 г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  0,3%  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иж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тавка  ЕС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исляемая  в  ФСС  РФ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0,3%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а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  ЕСН,  зачисляемая  в  ФФОМ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асчет и уплата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жемесячные авансовые плате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 уплачивают их не позднее 15 числа следующего месяца (общий порядо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 на доходы физических лиц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851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лательщи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ные гражда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 без гражд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выделяют лиц, являющих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ми резиден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ждан не резидентов только доходы, полученные от источников на территор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егулируется НК, а именно 24 главой.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Н  введен в действие с 1 января 2001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нил отчисления в государственные социальные внебюджетные фон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упления зачисляются в Федеральный бюджет, ПФ РФ, ФСС  и в ФОМ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оговая база включает в себя доходы в различной форм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еж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турально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иде материальной вы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К доходам в натуральной  форме относятся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труда в натур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налогоплательщиком товары, услуги на безвозмезд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ы в натуральной форме оцениваются в рыночных ценах, включающих НДС, акци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определение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состав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выгода от приобретения ценных бума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ыгода от экономии на процентах: расчет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Например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050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риальная выгода соста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50т.р.*3/4*0,13 - 150 т.р.*0,05 =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4625 р . – 7,5 тыс.руб. = 7125 руб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ыгода, полученная от приобретения товаров (работ, услуг) у взаимозависимых лиц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Выгода от приобретения ценных бумаг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особия, за исключением пособий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енсии, стипе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енты, полученные налогоплательщ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по командировкам и суточные в предела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Налогоплательщики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предпринимат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вок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052640"/>
            <a:ext cx="79786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полученные от физических лиц в порядке наследования,  да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применяется четыре вида выч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необлагаемый минимум дох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 </a:t>
            </a:r>
            <a:r>
              <a:rPr b="0" lang="ru-RU" sz="1400" spc="-1" strike="noStrike">
                <a:solidFill>
                  <a:srgbClr val="660033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оциаль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при наличии расходов на определенны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благотворительность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более 25% дохода)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ле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муществен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8050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Профессиональные вычеты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м предпринима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занимающимся частной прак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  получающим    доходы   по   договорам    гражданско -  правов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вознагр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й период -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ставк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1052640"/>
          <a:ext cx="7643880" cy="4390920"/>
        </p:xfrm>
        <a:graphic>
          <a:graphicData uri="http://schemas.openxmlformats.org/drawingml/2006/table">
            <a:tbl>
              <a:tblPr/>
              <a:tblGrid>
                <a:gridCol w="5400720"/>
                <a:gridCol w="2243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о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игрыши и призы при рекламе товаро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ая выгода по заемным средствам, % по вклад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ид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виды доходов граждан-нерезид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налога составим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латы, начисленные в пользу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индивидуальных предприним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выплаты в пользу физических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ешение (в руб.)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981000"/>
          <a:ext cx="7921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  <a:gridCol w="1943280"/>
                <a:gridCol w="172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а зарплата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+6000-2000=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нарастающим итогом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*2 =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2=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3=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ая база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с начала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за 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относя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объекту н/о выпл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говорам, предметом которых является переход права собственности или иных вещных прав на иму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договорам, связанных с передачей в пользование имущества (имущественных прав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не уменьшают налоговую базу у ИП по НДФЛ в текущем отчетном (налоговом) пери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несены на расходы, уменьшающие налоговую базу по налогу на прибыль у организац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-р: питание работников, служебный автотранспорт, форменная одежд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выплат, начисленных за налоговый период в пользу физических лиц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 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пособия, установленные Законодательством, в т.ч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временной нетру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уходу за ребенком, по безработице, по беременности и 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нсационные выпла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5:45:25Z</dcterms:created>
  <dc:creator>Riabova Elena</dc:creator>
  <dc:description/>
  <dc:language>en-US</dc:language>
  <cp:lastModifiedBy>LEGION</cp:lastModifiedBy>
  <dcterms:modified xsi:type="dcterms:W3CDTF">2015-01-05T10:01:05Z</dcterms:modified>
  <cp:revision>52</cp:revision>
  <dc:subject/>
  <dc:title>Единый социальный налог</dc:title>
</cp:coreProperties>
</file>