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5FEE-4B6B-4907-812F-2E4BCFD19D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инансы населения или финансы домохозяй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1B8D-BDB3-4C33-99DC-DAFFA59201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0F26-6A44-48B7-AD32-519E2B4525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FC11-417B-4BE8-90F6-7BCC233016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инансовые отношения, в результате которых образуются доходы населения и формируются направления их расхо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0F75-675F-465E-A73D-52DBB33156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ое назначение личных финансов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FC79-AEAA-4A16-ADA7-F30E5B3689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E60D-F9B2-419E-8ABE-BFC17AA829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1E44-65A6-49E4-8A4C-E920CF6C64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тношения с государств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 иной организацией по поводу выплаты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ые отношения с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е отношения со страхов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0C6C-F133-4373-9D96-B66E8E8547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ормирования личных финан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D3E5-D188-45B5-BBC7-9C70114852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населения и доходы, соответствующие их месту в процессе вос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95AE-D5E9-429B-902F-1D4DDBBD18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ТЬ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, которые живут на доходы от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F74C-3B87-47A5-B07F-A9E6378B95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E68-88C8-4CE5-A713-664A0DDF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421-19B2-4D1A-85F6-5A17840F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A58-FC82-4466-8362-837D0D81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BDB-DC16-427D-B2FE-2CB7C3D6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C680-827A-4871-9A07-CE8678DE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709A-6A55-4A72-938C-66B25227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534D-0AF1-4D01-85BF-A152A13F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A951-7089-41B0-8AF6-BF2E368E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84A1-7FD5-4CD5-806A-9D8EFCCC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5724-B671-4660-9D8A-B79A3C21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A147-4C64-4093-8476-121EEB6C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D33-65F5-4D4E-97FE-4369C776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D6AA-55AF-476B-8C97-CDF093F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4FE5-5DA7-4FC4-88D8-BF5FBB13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1D1C-752B-42D2-8D67-E6C2B6AC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B48D-0A17-4C44-8E4B-D9E99E2C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DE74-50FC-44D5-9B42-3BCDC58D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E98-2B42-4D31-8BC1-A91AF64D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A69-68BB-4DDB-98F3-DC7CFCD6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D6D-FA6C-4111-B542-5428105C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33B-4465-46AD-80D5-B5E218DB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3D4-35DA-448D-BB65-02416B0A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ABF-827B-4927-93EF-0FC84BC1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C4C-B8A5-489C-B951-EDD692F3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E536-B34D-4FEC-9AE5-2586665892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BF7F-71B8-4BF0-92CF-24B7D45C2C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Личные финанс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инансы населения или финансы домохозяй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рас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чные финансы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о финансовые отношения, в результате которых образуются доходы населения и формируются направления их расходов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Основное назначение личных финансов-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48880" y="2714400"/>
            <a:ext cx="62485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1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0066"/>
                </a:solidFill>
                <a:latin typeface="Arial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494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оговые отношения с государством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ношения с иной организацией по поводу выплаты заработной пл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говые отношения с бан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аховые отношения со страховыми организац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Основные источники формирования личных финанс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5" name="Organization Chart 7"/>
          <p:cNvGrpSpPr/>
          <p:nvPr/>
        </p:nvGrpSpPr>
        <p:grpSpPr>
          <a:xfrm>
            <a:off x="431640" y="1585800"/>
            <a:ext cx="8208000" cy="4463280"/>
            <a:chOff x="431640" y="1585800"/>
            <a:chExt cx="8208000" cy="4463280"/>
          </a:xfrm>
        </p:grpSpPr>
        <p:cxnSp>
          <p:nvCxnSpPr>
            <p:cNvPr id="176" name="_s1028"/>
            <p:cNvCxnSpPr>
              <a:stCxn id="177" idx="1"/>
              <a:endCxn id="178" idx="2"/>
            </p:cNvCxnSpPr>
            <p:nvPr/>
          </p:nvCxnSpPr>
          <p:spPr>
            <a:xfrm rot="10800000">
              <a:off x="2893320" y="2396520"/>
              <a:ext cx="8215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29"/>
            <p:cNvCxnSpPr>
              <a:stCxn id="180" idx="1"/>
              <a:endCxn id="178" idx="2"/>
            </p:cNvCxnSpPr>
            <p:nvPr/>
          </p:nvCxnSpPr>
          <p:spPr>
            <a:xfrm rot="10800000">
              <a:off x="2893320" y="2396520"/>
              <a:ext cx="8215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30"/>
            <p:cNvCxnSpPr>
              <a:stCxn id="182" idx="1"/>
              <a:endCxn id="178" idx="2"/>
            </p:cNvCxnSpPr>
            <p:nvPr/>
          </p:nvCxnSpPr>
          <p:spPr>
            <a:xfrm rot="10800000">
              <a:off x="2893320" y="2396520"/>
              <a:ext cx="8215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1031"/>
            <p:cNvSpPr/>
            <p:nvPr/>
          </p:nvSpPr>
          <p:spPr>
            <a:xfrm>
              <a:off x="431640" y="158580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ЛИЧНЫЕ ФИНАН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2"/>
            <p:cNvSpPr/>
            <p:nvPr/>
          </p:nvSpPr>
          <p:spPr>
            <a:xfrm>
              <a:off x="3714840" y="280296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рплата, премии и другие выпла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3714840" y="402048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енсии, стипендии, зарплат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4"/>
            <p:cNvSpPr/>
            <p:nvPr/>
          </p:nvSpPr>
          <p:spPr>
            <a:xfrm>
              <a:off x="3714840" y="523764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ходы от ценных бумаг, вклад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Группы населения и доходы, соответствующие их месту в процессе воспроизводства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941480"/>
          <a:ext cx="7696080" cy="46972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ГРУППЫ НАСЕ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дпринимате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нимательский доход ( прибыль плюс зар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ёмные работни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нть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капитала (проценты, дивиденды, арендная 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работающие л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мощь(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НТЬЕ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раждане, которые живут на доходы от собственного капит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32:27Z</dcterms:created>
  <dc:creator>User</dc:creator>
  <dc:description/>
  <dc:language>en-US</dc:language>
  <cp:lastModifiedBy>LEGION</cp:lastModifiedBy>
  <dcterms:modified xsi:type="dcterms:W3CDTF">2015-01-05T10:01:40Z</dcterms:modified>
  <cp:revision>11</cp:revision>
  <dc:subject/>
  <dc:title>Личные финансы</dc:title>
</cp:coreProperties>
</file>