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67CF-0A77-4053-9DE0-563A1CA67E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инансы населения или финансы домохозяй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C09F-5112-440F-96EE-A205CBF19E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FD16-5E72-4277-9EFF-7BE1B7C75E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AB65-41AD-471C-8F44-0999CBB3C8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инансовые отношения, в результате которых образуются доходы населения и формируются направления их расхо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B37F-7AC7-46D6-9515-C0CADD868B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е назначение личных финансов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60F5-322A-4638-9A8D-719D0530F8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6D32-0BC0-4C00-AAFD-FFE1DB131D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0DED-A18F-4AD5-9C97-D7702F4D3A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тношения с государств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 иной организацией по поводу выплаты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ые отношения с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е отношения со страхов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01AC-88E2-491D-8A8A-5E36B8F1EC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ормирования личных финан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D90E-5CFE-44FD-91E2-1723426212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населения и доходы, соответствующие их месту в процессе вос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875D-7919-49AB-B428-3A52F81A20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ТЬ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, которые живут на доходы от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8F91-4A25-42B0-ABDC-B3D93ED571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619-FDFB-49C5-BBDA-0301C5C0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525-2446-4646-8624-0DB32948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9D1-9EEC-409C-922B-04555853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688-1DB2-4D72-9FBD-85ECA353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CBA1-F16C-4A29-9DC1-9F8E4116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1E13-F66A-4463-BA6E-DB091463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FCAC-14DB-4CBF-8479-F31AB790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46F3-6BD5-43D5-AEA2-7C4EF1FA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5C0D-A662-4A96-85BA-AA42591E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7FA8-7300-4186-81AA-1CEFCA6A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0F01-5F4E-4EFC-8093-E87AA86F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58E-F5F6-4A80-A5C6-614AAB22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D578-8A89-4D8D-A2E9-DD084A0A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380B-A219-4C41-9974-D2A454BB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684D-BFD7-4CFA-9F89-964BFDBA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BDAE-4F88-4724-9EB6-EF65C6AC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AA38-C7D1-4AFE-B6D6-440F7FC7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2A2-0893-420D-B25A-264A1019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E8B-4808-4273-B5F5-9DBE3249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19E-206E-42E2-8663-C47E2FC5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51E-7852-48A9-9EDB-64D7B3B2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C06-4923-4AAF-9CE3-CEB55DA1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CA3-7113-4D84-A24A-B816771E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606-A297-4F8F-A511-2FC2EC02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178C-E630-4CD2-98B9-34C42228F9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2B9D-5A52-400F-B32B-FFFF9339DC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Личные финанс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инансы населения или финансы домохозяй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рас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чные финансы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о финансовые отношения, в результате которых образуются доходы населения и формируются направления их расходов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Основное назначение личных финансов-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48880" y="2714400"/>
            <a:ext cx="62485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0066"/>
                </a:solidFill>
                <a:latin typeface="Arial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494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оговые отношения с государств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шения с иной организацией по поводу выплаты заработной пл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говые отношения с бан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аховые отношения со страховыми организац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Основные источники формирования личных финанс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5" name="Organization Chart 7"/>
          <p:cNvGrpSpPr/>
          <p:nvPr/>
        </p:nvGrpSpPr>
        <p:grpSpPr>
          <a:xfrm>
            <a:off x="431640" y="1585800"/>
            <a:ext cx="8208000" cy="4463280"/>
            <a:chOff x="431640" y="1585800"/>
            <a:chExt cx="8208000" cy="4463280"/>
          </a:xfrm>
        </p:grpSpPr>
        <p:cxnSp>
          <p:nvCxnSpPr>
            <p:cNvPr id="176" name="_s1028"/>
            <p:cNvCxnSpPr>
              <a:stCxn id="177" idx="1"/>
              <a:endCxn id="178" idx="2"/>
            </p:cNvCxnSpPr>
            <p:nvPr/>
          </p:nvCxnSpPr>
          <p:spPr>
            <a:xfrm rot="10800000">
              <a:off x="2893320" y="2396520"/>
              <a:ext cx="8215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29"/>
            <p:cNvCxnSpPr>
              <a:stCxn id="180" idx="1"/>
              <a:endCxn id="178" idx="2"/>
            </p:cNvCxnSpPr>
            <p:nvPr/>
          </p:nvCxnSpPr>
          <p:spPr>
            <a:xfrm rot="10800000">
              <a:off x="2893320" y="2396520"/>
              <a:ext cx="8215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30"/>
            <p:cNvCxnSpPr>
              <a:stCxn id="182" idx="1"/>
              <a:endCxn id="178" idx="2"/>
            </p:cNvCxnSpPr>
            <p:nvPr/>
          </p:nvCxnSpPr>
          <p:spPr>
            <a:xfrm rot="10800000">
              <a:off x="2893320" y="2396520"/>
              <a:ext cx="8215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1031"/>
            <p:cNvSpPr/>
            <p:nvPr/>
          </p:nvSpPr>
          <p:spPr>
            <a:xfrm>
              <a:off x="431640" y="158580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ЛИЧНЫЕ ФИНАН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2"/>
            <p:cNvSpPr/>
            <p:nvPr/>
          </p:nvSpPr>
          <p:spPr>
            <a:xfrm>
              <a:off x="3714840" y="280296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рплата, премии и другие выпла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3714840" y="402048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нсии, стипендии, зарпла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3714840" y="523764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ходы от ценных бумаг, вклад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Группы населения и доходы, соответствующие их месту в процессе воспроизводства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941480"/>
          <a:ext cx="7696080" cy="46972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ГРУППЫ НАСЕ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дпринимате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нимательский доход ( прибыль плюс зар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ёмные работни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нть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капитала (проценты, дивиденды, арендная 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работающие л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мощь(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НТЬЕ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раждане, которые живут на доходы от собственного капит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32:27Z</dcterms:created>
  <dc:creator>User</dc:creator>
  <dc:description/>
  <dc:language>en-US</dc:language>
  <cp:lastModifiedBy>LEGION</cp:lastModifiedBy>
  <dcterms:modified xsi:type="dcterms:W3CDTF">2015-01-05T10:01:40Z</dcterms:modified>
  <cp:revision>11</cp:revision>
  <dc:subject/>
  <dc:title>Личные финансы</dc:title>
</cp:coreProperties>
</file>