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D70E-4C98-4FC9-B98D-50BBC8C0E71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../slides/slide10.xml"/><Relationship Id="rId3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" Target="../slides/slide6.xml"/><Relationship Id="rId6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финан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инансы населения или финансы домохозяйст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E256-642C-4CDF-97C1-7ADDF801A5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денежных доходов и расходов населен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вод денежных доходов и расходов населения по видам и на условиях обеспечения их равенства за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F808-39DB-416D-A325-46FAA7824F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денежных доходов и расходов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0F5D-1675-4283-BD4F-92B49CF10E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финансы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финансовые отношения, в результате которых образуются доходы населения и формируются направления их расхо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9DDA-9C18-41DE-A370-09C458F30E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ое назначение личных финансов-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роцессов потребления, поскольку потребление есть результат процесса производства, постольку личные финансы являются производными корпоративных и государственных финан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59E3-573C-4319-ABC8-3D175AD945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финансы находятся в неразрывной связи с финансами государства и корпоративными финанс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29FF-4E73-466A-B99A-188AFD2322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авляющая часть личных доходов населения ведёт своё происхождение от корпоративных  и государственных финан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чные финансы направлены на потребление, а не употребление в качестве капитала, т.е. источника чистого дохо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4320-36D5-4034-AFAE-02AC629E97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Личные финансы- это все типы финансовых отношений, стороной которых может стать отдельный челове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отношения с государств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с иной организацией по поводу выплаты заработной пл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вые отношения с ба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ые отношения со страховыми организа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24C2-990A-4F82-AABA-6E1517D60F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сточники формирования личных финан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FACE-2020-46CA-AB46-7F056EAAE5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ы населения и доходы, соответствующие их месту в процессе вос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9B54-6321-4A07-BF8B-34D0487A0D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ТЬ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ждане, которые живут на доходы от собственного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B73A-B76F-424D-A01C-7A79BD68CF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5DC2-C7F4-4007-8142-832E983F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3B30-F2F1-4FB5-B963-DB128A53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C783-ED67-4377-8DBB-1B9C2B4C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8A2F-28F0-42E0-9E58-752AB8D6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F8F0-1ACD-4E18-AE12-7182CF7A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CAE5-EB43-4F43-B9A4-224EAA49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D79F-0296-4720-B73F-2AC3E60A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6BC0-7983-4032-8844-9AD52517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9268-5546-4A43-9B1C-8333BA03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43AE-6E42-46A0-9113-4844E495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C357-98E5-48A4-9FDA-E89AC401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BBED-4E51-4226-B8E1-99229248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402B-9520-4427-BA8E-719FA9B1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01A1-80CB-4737-A803-99D79961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927D-E16D-4500-A047-86F4DB6B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790C-6922-4EAA-B121-EE1C623E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37CB-CD33-4DA7-83BA-F77E97C6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BD0-DF43-4F64-81EA-F49B5076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FCC1-97E5-4594-86CF-A587454D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1A26-5726-44C9-B2A7-821CDE93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0912-48B3-45FC-9539-C2175A4A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FCCA-229A-4DEA-96DD-97D1704E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38D7-1D26-4E9A-ABDE-FDA239D4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4704-76AA-4571-BA0C-A56894BC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DF8A-5796-4712-A3BC-980D23262B7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DCCF-F861-45EA-BD2C-D18EF3ABC49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Личные финансы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Финансы населения или финансы домохозяйст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аланс денежных доходов и расходов населения-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Это свод денежных доходов и расходов населения по видам и на условиях обеспечения их равенства за го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аланс денежных доходов и расходов насел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719360"/>
          <a:ext cx="8229600" cy="441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доход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расход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Личные финансы-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это финансовые отношения, в результате которых образуются доходы населения и формируются направления их расходован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13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Основное назначение личных финансов-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48880" y="2714400"/>
            <a:ext cx="62485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ение процессов потребления, поскольку потребление есть результат процесса производства, постольку личные финансы являются производными корпоративных и государственных финанс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680" y="1600200"/>
            <a:ext cx="76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Личные финансы находятся в неразрывной связи с финансами государства и корпоративными финансам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21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Подавляющая часть личных доходов населения ведёт своё происхождение от корпоративных  и государственных финансов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35728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ые финансы направлены на потребление, а не употребление в качестве капитала, т.е. источника чистого до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0066"/>
                </a:solidFill>
                <a:latin typeface="Arial"/>
              </a:rPr>
              <a:t>Личные финансы- это все типы финансовых отношений, стороной которых может стать отдельный человек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44944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логовые отношения с государством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ношения с иной организацией по поводу выплаты заработной пл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лговые отношения с банк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аховые отношения со страховыми организаци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Основные источники формирования личных финансов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75" name="Organization Chart 7"/>
          <p:cNvGrpSpPr/>
          <p:nvPr/>
        </p:nvGrpSpPr>
        <p:grpSpPr>
          <a:xfrm>
            <a:off x="431640" y="1585800"/>
            <a:ext cx="8208000" cy="4463280"/>
            <a:chOff x="431640" y="1585800"/>
            <a:chExt cx="8208000" cy="4463280"/>
          </a:xfrm>
        </p:grpSpPr>
        <p:cxnSp>
          <p:nvCxnSpPr>
            <p:cNvPr id="176" name="_s1028"/>
            <p:cNvCxnSpPr>
              <a:stCxn id="177" idx="1"/>
              <a:endCxn id="178" idx="2"/>
            </p:cNvCxnSpPr>
            <p:nvPr/>
          </p:nvCxnSpPr>
          <p:spPr>
            <a:xfrm rot="10800000">
              <a:off x="2893320" y="2396520"/>
              <a:ext cx="821520" cy="324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029"/>
            <p:cNvCxnSpPr>
              <a:stCxn id="180" idx="1"/>
              <a:endCxn id="178" idx="2"/>
            </p:cNvCxnSpPr>
            <p:nvPr/>
          </p:nvCxnSpPr>
          <p:spPr>
            <a:xfrm rot="10800000">
              <a:off x="2893320" y="2396520"/>
              <a:ext cx="821520" cy="202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1030"/>
            <p:cNvCxnSpPr>
              <a:stCxn id="182" idx="1"/>
              <a:endCxn id="178" idx="2"/>
            </p:cNvCxnSpPr>
            <p:nvPr/>
          </p:nvCxnSpPr>
          <p:spPr>
            <a:xfrm rot="10800000">
              <a:off x="2893320" y="2396520"/>
              <a:ext cx="821520" cy="812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8" name="_s1031"/>
            <p:cNvSpPr/>
            <p:nvPr/>
          </p:nvSpPr>
          <p:spPr>
            <a:xfrm>
              <a:off x="431640" y="158580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ЛИЧНЫЕ ФИНАН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032"/>
            <p:cNvSpPr/>
            <p:nvPr/>
          </p:nvSpPr>
          <p:spPr>
            <a:xfrm>
              <a:off x="3714840" y="280296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Зарплата, премии и другие выплат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033"/>
            <p:cNvSpPr/>
            <p:nvPr/>
          </p:nvSpPr>
          <p:spPr>
            <a:xfrm>
              <a:off x="3714840" y="402048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енсии, стипендии, зарплат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034"/>
            <p:cNvSpPr/>
            <p:nvPr/>
          </p:nvSpPr>
          <p:spPr>
            <a:xfrm>
              <a:off x="3714840" y="523764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оходы от ценных бумаг, вкладо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0066"/>
                </a:solidFill>
                <a:latin typeface="Arial"/>
              </a:rPr>
              <a:t>Группы населения и доходы, соответствующие их месту в процессе воспроизводства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5800" y="1941480"/>
          <a:ext cx="7696080" cy="469728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712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ГРУППЫ НАСЕЛЕ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едпринимател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ринимательский доход ( прибыль плюс зарплата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ёмные работни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аботная плат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нть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капитала (проценты, дивиденды, арендная плата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работающие лиц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ая помощь(?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АНТЬЕ-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Граждане, которые живут на доходы от собственного капитал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0:32:27Z</dcterms:created>
  <dc:creator>User</dc:creator>
  <dc:description/>
  <dc:language>en-US</dc:language>
  <cp:lastModifiedBy>LEGION</cp:lastModifiedBy>
  <dcterms:modified xsi:type="dcterms:W3CDTF">2015-01-05T10:01:40Z</dcterms:modified>
  <cp:revision>11</cp:revision>
  <dc:subject/>
  <dc:title>Личные финансы</dc:title>
</cp:coreProperties>
</file>