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B25-583A-49EC-B321-35F20FF9F7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инансы населения или финансы домохозяй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D618-C677-4CE4-8818-436FC866B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64E7-9704-4BE6-A081-09AE486A5B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D605-CF66-4408-B54B-2D76DD5310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инансовые отношения, в результате которых образуются доходы населения и формируются направления их расхо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E5D7-78CE-45AA-A7BD-5724F1AA9B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е назначение личных финансов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FB31-10A9-4C98-9063-0DC88FEDE7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85CC-15BC-4CFA-B6DA-9F5C798C09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7FDA-5003-4F28-9DB2-3278C3A432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тношения с государств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 иной организацией по поводу выплаты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ые отношения с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е отношения со страхов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97CC-E06F-405E-BC28-742F407BAE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ормирования личных финан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7BB0-79C9-48B7-BC19-A573BF23AD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населения и доходы, соответствующие их месту в процессе вос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D980-9868-418E-B3E2-A1864F58F9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ТЬ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, которые живут на доходы от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96E3-2C8B-48B5-A88A-ED573CF9DF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F5D-D3F0-469B-BE08-DB4A2CBA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7C3-3832-49DB-ABC8-FE0F9A55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0CC-9565-425C-935D-ADA1DDDC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6CC-15B5-4E53-A5E3-1536E887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4C69-BB1E-4C96-8081-80545127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D3DA-67D0-4441-BEA0-8756649B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B847-137E-41AE-94A2-02866FD3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991A-6A48-44E6-9D1E-4A77D148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E30B-EF38-4941-B481-A28542CA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1E4C-AFAA-4D29-AE0B-1B7B60B2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D41C-D7AD-46F1-B5AF-3F98F3F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F6C-65E5-47E7-95D5-B2478371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4DEE-059B-48B0-9FD3-511E49C8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3993-53C1-4903-ADFD-9AC9DBE8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51E5-0A6B-474C-A8B8-AE3F9880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6808-957B-4351-A95B-5D6886D3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B9F2-B666-4263-BC2D-38AC5619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A4E-6E74-432A-8A39-B6AC88A5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7FB-0635-4113-B1CE-703EC17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191-5462-467B-99CE-6EAA91B0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E94-65D8-43F4-A27F-F99E8BF4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C34-7A15-4592-8551-ADDEA752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898-A73B-47E4-AABF-4632C10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A2E-A682-4CDD-B8C5-F3A653F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2DE7-EC13-497E-808D-42D80089E1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E93-F362-4AB8-B1A1-0EF2AE92B1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Личные финанс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нансы населения или финансы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рас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чные финансы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финансовые отношения, в результате которых образуются доходы населения и формируются направления их расход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Основное назначение личных финансов-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48880" y="2714400"/>
            <a:ext cx="62485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0066"/>
                </a:solidFill>
                <a:latin typeface="Arial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оговые отношения с государств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 с иной организацией по поводу выплаты заработной пл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говые отношения с ба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ховые отношения со страховыми организац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Основные источники формирования личных финанс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Organization Chart 7"/>
          <p:cNvGrpSpPr/>
          <p:nvPr/>
        </p:nvGrpSpPr>
        <p:grpSpPr>
          <a:xfrm>
            <a:off x="431640" y="1585800"/>
            <a:ext cx="8208000" cy="4463280"/>
            <a:chOff x="431640" y="1585800"/>
            <a:chExt cx="8208000" cy="4463280"/>
          </a:xfrm>
        </p:grpSpPr>
        <p:cxnSp>
          <p:nvCxnSpPr>
            <p:cNvPr id="176" name="_s1028"/>
            <p:cNvCxnSpPr>
              <a:stCxn id="177" idx="1"/>
              <a:endCxn id="178" idx="2"/>
            </p:cNvCxnSpPr>
            <p:nvPr/>
          </p:nvCxnSpPr>
          <p:spPr>
            <a:xfrm rot="10800000">
              <a:off x="2893320" y="2396520"/>
              <a:ext cx="8215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29"/>
            <p:cNvCxnSpPr>
              <a:stCxn id="180" idx="1"/>
              <a:endCxn id="178" idx="2"/>
            </p:cNvCxnSpPr>
            <p:nvPr/>
          </p:nvCxnSpPr>
          <p:spPr>
            <a:xfrm rot="10800000">
              <a:off x="2893320" y="2396520"/>
              <a:ext cx="8215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30"/>
            <p:cNvCxnSpPr>
              <a:stCxn id="182" idx="1"/>
              <a:endCxn id="178" idx="2"/>
            </p:cNvCxnSpPr>
            <p:nvPr/>
          </p:nvCxnSpPr>
          <p:spPr>
            <a:xfrm rot="10800000">
              <a:off x="2893320" y="2396520"/>
              <a:ext cx="8215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031"/>
            <p:cNvSpPr/>
            <p:nvPr/>
          </p:nvSpPr>
          <p:spPr>
            <a:xfrm>
              <a:off x="431640" y="158580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ЛИЧНЫЕ ФИНАН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2"/>
            <p:cNvSpPr/>
            <p:nvPr/>
          </p:nvSpPr>
          <p:spPr>
            <a:xfrm>
              <a:off x="3714840" y="280296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рплата, премии и другие выпла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3714840" y="402048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нсии, стипендии, зарпла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3714840" y="523764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ходы от ценных бумаг, вклад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Группы населения и доходы, соответствующие их месту в процессе воспроизводств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41480"/>
          <a:ext cx="7696080" cy="46972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принимате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имательский доход ( прибыль плюс зар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ёмные работни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нт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капитала (проценты, дивиденды, арендная 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работающие л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мощь(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НТЬЕ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раждане, которые живут на доходы от собственного капит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2:27Z</dcterms:created>
  <dc:creator>User</dc:creator>
  <dc:description/>
  <dc:language>en-US</dc:language>
  <cp:lastModifiedBy>LEGION</cp:lastModifiedBy>
  <dcterms:modified xsi:type="dcterms:W3CDTF">2015-01-05T10:01:40Z</dcterms:modified>
  <cp:revision>11</cp:revision>
  <dc:subject/>
  <dc:title>Личные финансы</dc:title>
</cp:coreProperties>
</file>