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1.wmf" ContentType="image/x-wmf"/>
  <Override PartName="/ppt/media/projctor.wav" ContentType="audio/x-wav"/>
  <Override PartName="/ppt/media/image8.wmf" ContentType="image/x-wmf"/>
  <Override PartName="/ppt/media/chimes.wav" ContentType="audio/x-wav"/>
  <Override PartName="/ppt/media/image2.wmf" ContentType="image/x-wmf"/>
  <Override PartName="/ppt/media/cashreg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60C4-B5BC-4CA0-9E5A-5ECF7DEF783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стовская средняя  шко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стовского  райо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спублики Татарст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Урок  по  обществознанию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Tahoma"/>
              </a:rPr>
              <a:t>Налоги  и  бюдж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асибулл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льнур Хайда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F8BF-B5B4-4CE0-B456-EDFA8215BD9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гиональные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имущество 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ой  на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 с  юридических лиц  на  нужды  образовательных 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FFEF-C246-49CB-AFFC-48FE87926B1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р – Насибулли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ульнур Хайдаро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 истории  и  обществознания высшей  квалификационной категории Апастовской  средней школы Апастовского  рай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спублики Татарст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пастово, 2003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65C3-369E-4ADC-BCC8-E991D42D84E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и  как  источник  доходов государ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 можешь  и   не заметить, что  у тебя  всё  идёт хорошо, но  налоговая  служба напомн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ьер  Дани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D0CD-D27F-4B8F-8376-F91CD887CB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лог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– совокупность  налогов, форм  и  методов  их  построения  и  взимания, определяемая  законодательством 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9FA6-D9FD-4CAA-B800-1743F6F839F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ff00"/>
                </a:solidFill>
                <a:uFillTx/>
                <a:latin typeface="Calibri"/>
              </a:rPr>
              <a:t>Экономическая сущность  налога</a:t>
            </a: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валового  внутренне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 себестоимости 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личного  дохода  работ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етоды  налогооб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осве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й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декла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0924-E243-4E41-B962-B5692C9448B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нал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ск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998F-BE8C-4E4F-A3E1-620F0DB5D8A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ucida Console"/>
              </a:rPr>
              <a:t>Прям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ит  сам налогоплательщик  из  своей  прибыли  независимо  от  статуса  его  лица ( юридического  или  физическог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прибы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 на 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 на 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ные  плате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4780-988B-4074-9F0B-7F805578D4E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SLCourier New Cyr"/>
              </a:rPr>
              <a:t>Косвенн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Платит  потребитель  продукции,  выпускаемой  и  продаваемой  на  рынке  товаров,  работ  и 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SL Academy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лог  на  добавленную 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кци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Таможенные  пош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лог  на  операции с  ценными  бума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3D4E-C307-4D9C-8008-4000766760D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6600"/>
                </a:solidFill>
                <a:uFillTx/>
                <a:latin typeface="SL Broadway"/>
              </a:rPr>
              <a:t>Виды налогов</a:t>
            </a:r>
            <a:r>
              <a:rPr b="0" lang="ru-RU" sz="1200" spc="-1" strike="noStrike">
                <a:solidFill>
                  <a:srgbClr val="006600"/>
                </a:solidFill>
                <a:latin typeface="SLCourier New Cyr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Федеральные  нал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Региональные 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Местные  налоги</a:t>
            </a:r>
            <a:r>
              <a:rPr b="0" lang="ru-RU" sz="11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6462-7DAF-445F-A996-CA9054BF5A9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добавленную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зы  на  отдельные  группы и  виды 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ходный  на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ая  пошл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бовый  сб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наследуемое  и  даримое 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5612-8866-45F4-96B8-1ECB1A6AF69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6017-769E-44B6-AE87-0AD007F0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3B47-C9B3-4E06-8E0E-D60485F8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6DF-8478-4158-9903-B78FC0EA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295A-81A3-407B-9CB4-4155E606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DC02-2E5A-448F-92FF-B17A5A84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4CDA-59E8-45E9-BF80-83532F52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0939-8762-42DA-9922-F1778978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9692-247F-47CC-A976-27C18939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302A-1D0A-4229-B24D-297AB460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2DEA-8F3B-4880-96E3-92B658A6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8F64-9022-471E-A01C-4430188B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3F9-59FE-40B5-B384-07FED7DF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5CB6-F4C5-487B-9530-21414906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D8DD-8964-4A9C-B60C-E9AC0BE6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1A79-BFB9-42D7-94A2-009F2E74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DE27-1953-4373-A3A0-B5808519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F4E4-40D6-4FAB-815C-05386FD1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E0F4-0716-41BC-99A8-E23D3F43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3F8-DC6A-48A7-A543-26DD154C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193-FB45-4FC5-BC17-0D25361A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AA2-F74E-48F9-84BE-A5B12764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F6F-3D8E-4548-8FF3-95A77F22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5D3-71B1-4191-89C7-A4FF97C7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0A4-0BA2-406B-AA2D-564135E8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DDCF-5F72-49E0-8920-58349ED8963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D657-8DE4-4A2C-B40C-A691E5F8A6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астовская средняя  школ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астовского  райо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еспублики Татарстан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Урок  по  обществознан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66"/>
                </a:solidFill>
                <a:latin typeface="Tahoma"/>
              </a:rPr>
              <a:t>Налоги  и  бюджет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Учител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 Насибуллин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ульнур Хайдаро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Региональные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г  на  имущество  предприят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сной  нало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бор  с  юридических лиц  на  нужды  образовательных  учрежд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PE03254_"/>
          <p:cNvPicPr/>
          <p:nvPr/>
        </p:nvPicPr>
        <p:blipFill>
          <a:blip r:embed="rId1"/>
          <a:stretch/>
        </p:blipFill>
        <p:spPr>
          <a:xfrm>
            <a:off x="5105520" y="1600200"/>
            <a:ext cx="3657600" cy="4191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BD21308_"/>
          <p:cNvPicPr/>
          <p:nvPr/>
        </p:nvPicPr>
        <p:blipFill>
          <a:blip r:embed="rId2"/>
          <a:stretch/>
        </p:blipFill>
        <p:spPr>
          <a:xfrm>
            <a:off x="815328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809880" y="685800"/>
            <a:ext cx="1828800" cy="21337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Элемен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налог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3200400" y="1676520"/>
            <a:ext cx="609480" cy="4572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867280" y="1066680"/>
            <a:ext cx="3048120" cy="152424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Носитель налога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лицо, с котор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удерживается налог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4952880" y="3886200"/>
            <a:ext cx="3733920" cy="220968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Источник  налог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доход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из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котор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уплач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налог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04920" y="1295280"/>
            <a:ext cx="3276360" cy="129564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плательщ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457200" y="3886200"/>
            <a:ext cx="3124080" cy="220968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ъект  налог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ход, имуществ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ова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527400" y="1862280"/>
            <a:ext cx="2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24"/>
          <p:cNvSpPr/>
          <p:nvPr/>
        </p:nvSpPr>
        <p:spPr>
          <a:xfrm flipH="1">
            <a:off x="3352680" y="2743200"/>
            <a:ext cx="4572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25"/>
          <p:cNvSpPr/>
          <p:nvPr/>
        </p:nvSpPr>
        <p:spPr>
          <a:xfrm>
            <a:off x="5638680" y="2819520"/>
            <a:ext cx="533520" cy="106668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26"/>
          <p:cNvSpPr/>
          <p:nvPr/>
        </p:nvSpPr>
        <p:spPr>
          <a:xfrm flipV="1">
            <a:off x="5638680" y="2133360"/>
            <a:ext cx="228600" cy="7596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7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286000" y="838080"/>
            <a:ext cx="4648320" cy="14479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Налоговые  системы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4"/>
          <p:cNvSpPr/>
          <p:nvPr/>
        </p:nvSpPr>
        <p:spPr>
          <a:xfrm flipH="1">
            <a:off x="1447560" y="2286000"/>
            <a:ext cx="99036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4419720" y="2286000"/>
            <a:ext cx="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6934320" y="2286000"/>
            <a:ext cx="838080" cy="1447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09480" y="3886200"/>
            <a:ext cx="1828800" cy="23623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Пропор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циональ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3657600" y="3962520"/>
            <a:ext cx="190512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Прогрес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6934320" y="4038480"/>
            <a:ext cx="182880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Регрес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2"/>
          <p:cNvSpPr/>
          <p:nvPr/>
        </p:nvSpPr>
        <p:spPr>
          <a:xfrm>
            <a:off x="2666880" y="609480"/>
            <a:ext cx="3581640" cy="16002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ahoma"/>
              </a:rPr>
              <a:t>Бюдже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1066680" y="3200400"/>
            <a:ext cx="266724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Дохо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налоги, сбо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562720" y="3200400"/>
            <a:ext cx="243828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Расхо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социаль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выпл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14"/>
          <p:cNvSpPr/>
          <p:nvPr/>
        </p:nvSpPr>
        <p:spPr>
          <a:xfrm flipH="1">
            <a:off x="2286000" y="2057400"/>
            <a:ext cx="9144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5791320" y="2057400"/>
            <a:ext cx="1143000" cy="11430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1024" descr="J0237202"/>
          <p:cNvPicPr/>
          <p:nvPr/>
        </p:nvPicPr>
        <p:blipFill>
          <a:blip r:embed="rId1"/>
          <a:stretch/>
        </p:blipFill>
        <p:spPr>
          <a:xfrm>
            <a:off x="3492360" y="2276640"/>
            <a:ext cx="2283120" cy="22478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Автор – Насибуллина </a:t>
            </a:r>
            <a:br>
              <a:rPr sz="4000"/>
            </a:b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Гульнур Хайдаров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Учитель  истории  и  обществознания высшей  квалификационной категории Апастовской  средней школы Апастовского  райо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Республики Татарст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Апастово, 2003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Налоги  как  источник  доходов государства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ы  можешь  и   не заметить, что  у тебя  всё  идёт хорошо, но  налоговая  служба напомни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ьер  Данино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6" descr="PE01460_"/>
          <p:cNvPicPr/>
          <p:nvPr/>
        </p:nvPicPr>
        <p:blipFill>
          <a:blip r:embed="rId1"/>
          <a:stretch/>
        </p:blipFill>
        <p:spPr>
          <a:xfrm>
            <a:off x="4761000" y="1641600"/>
            <a:ext cx="3584520" cy="4454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</a:rPr>
              <a:t>Налоговая система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                                 – совокупность  налогов, форм  и  методов  их  построения  и  взимания, определяемая  законодательством  государства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Line 6"/>
          <p:cNvSpPr/>
          <p:nvPr/>
        </p:nvSpPr>
        <p:spPr>
          <a:xfrm flipH="1">
            <a:off x="1904760" y="3505320"/>
            <a:ext cx="16002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5562720" y="3505320"/>
            <a:ext cx="152388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762120" y="4114800"/>
            <a:ext cx="228600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6172200" y="4114800"/>
            <a:ext cx="213372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14400" y="42242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Налог  как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финансов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систе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6461280" y="4495680"/>
            <a:ext cx="1672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Элемент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4568"/>
                </a:solidFill>
                <a:uFillTx/>
                <a:latin typeface="Tahoma"/>
                <a:hlinkClick r:id="rId1" action="ppaction://hlinksldjump"/>
              </a:rPr>
              <a:t>налога</a:t>
            </a: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4568"/>
                </a:solidFill>
                <a:uFillTx/>
                <a:latin typeface="Times New Roman"/>
                <a:hlinkClick r:id="rId1" action="ppaction://hlinksldjump"/>
              </a:rPr>
              <a:t>Экономическая</a:t>
            </a:r>
            <a:r>
              <a:rPr b="0" i="1" lang="ru-RU" sz="4000" spc="-1" strike="noStrike" u="sng">
                <a:solidFill>
                  <a:srgbClr val="00ff00"/>
                </a:solidFill>
                <a:uFillTx/>
                <a:latin typeface="Times New Roman"/>
              </a:rPr>
              <a:t> сущность  налога</a:t>
            </a:r>
            <a:r>
              <a:rPr b="0" lang="ru-RU" sz="40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валового  внутреннего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 себестоимости 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прибы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личного  дохода  работни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Методы  налогообложения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ям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Косвен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ой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говая деклара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4">
            <a:hlinkClick r:id="rId2" action="ppaction://hlinksldjump"/>
          </p:cNvPr>
          <p:cNvSpPr/>
          <p:nvPr/>
        </p:nvSpPr>
        <p:spPr>
          <a:xfrm>
            <a:off x="7696080" y="6019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Функции налогов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ск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гулирующ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ро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PE01561_"/>
          <p:cNvPicPr/>
          <p:nvPr/>
        </p:nvPicPr>
        <p:blipFill>
          <a:blip r:embed="rId1"/>
          <a:stretch/>
        </p:blipFill>
        <p:spPr>
          <a:xfrm>
            <a:off x="4114800" y="3048120"/>
            <a:ext cx="4583160" cy="30416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5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Lucida Console"/>
              </a:rPr>
              <a:t>Прям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атит  сам налогоплательщик  из  своей  прибыли  независимо  от  статуса  его  лица ( юридического  или  физического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Вид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  на  прибы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и  на  имуществ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и  на  дохо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сурсные  платеж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4" descr="BD06455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48520" y="3886200"/>
            <a:ext cx="1888920" cy="18748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SLCourier New Cyr"/>
              </a:rPr>
              <a:t>Косвен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Платит  потребитель  продукции,  выпускаемой  и  продаваемой  на  рынке  товаров,  работ  и  услу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SL Academy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Налог  на  добавленную  стоим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Акциз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Таможенные  пошли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Налог  на  операции с  ценными  бумаг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PE01616_"/>
          <p:cNvPicPr/>
          <p:nvPr/>
        </p:nvPicPr>
        <p:blipFill>
          <a:blip r:embed="rId1"/>
          <a:stretch/>
        </p:blipFill>
        <p:spPr>
          <a:xfrm>
            <a:off x="6818400" y="2590920"/>
            <a:ext cx="1944720" cy="23619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6600"/>
                </a:solidFill>
                <a:uFillTx/>
                <a:latin typeface="SL Broadway"/>
              </a:rPr>
              <a:t>Виды налогов</a:t>
            </a:r>
            <a:r>
              <a:rPr b="0" lang="ru-RU" sz="4400" spc="-1" strike="noStrike">
                <a:solidFill>
                  <a:srgbClr val="006600"/>
                </a:solidFill>
                <a:latin typeface="SLCourier New Cyr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Федеральные  налог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Региональные  налог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Местные  налоги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BD05515_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8080" y="1295280"/>
            <a:ext cx="2590920" cy="2971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5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Федераль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Налог  на  добавленную стоим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Акцизы  на  отдельные  группы и  виды  товар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Подоходный  нало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Таможенная  пошл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Гербовый  сб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Налог  на  наследуемое  и  даримое  имущество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4">
            <a:hlinkClick r:id="" action="ppaction://hlinkshowjump?jump=previousslide"/>
          </p:cNvPr>
          <p:cNvSpPr/>
          <p:nvPr/>
        </p:nvSpPr>
        <p:spPr>
          <a:xfrm>
            <a:off x="7696080" y="53341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9:36:13Z</dcterms:created>
  <dc:creator>User</dc:creator>
  <dc:description/>
  <dc:language>en-US</dc:language>
  <cp:lastModifiedBy>LEGION</cp:lastModifiedBy>
  <dcterms:modified xsi:type="dcterms:W3CDTF">2015-01-05T10:02:53Z</dcterms:modified>
  <cp:revision>12</cp:revision>
  <dc:subject/>
  <dc:title>Апастовская средняя  школа.</dc:title>
</cp:coreProperties>
</file>