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524D-E96D-405B-A163-E63C2553B2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Копер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94F5-D7BE-4B6F-99F1-216D3B012A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жущиеся прямые и попятные движения планет, обусловлены не их движениями, а движением Земли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овательно, одного лишь движения самой Земли достаточно для объяснения многих кажущихся неравномерностей на н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D8AD-B2DD-41E5-A3AA-FAA229D414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елиоцентрическая систем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одновременно движется и вокруг своей оси, и вокруг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038A-69F2-4119-8404-7C4B1A190A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Копер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73 – 1543гг. Великий польский астроном, создатель гелиоцентрической системы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511D-71E7-4C87-81A8-C6789720A7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Копер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воспринимает движение небесных тел так же, как и перемещение различных предметов на Земле, когда он сам находится в движен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317D-DE92-4D49-8313-0B4F0005D5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е существует единого центра для всех небесных орбит или сф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BC75-567C-4FE0-8F84-6F6C2660E7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нтр Земли является не центром мира, а лишь центром тяготения Земли и лунной орб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0EB0-CF7A-47D2-9CBF-8D42D56168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се сферы движутся вокруг Солнца, как вокруг своего центра, вследствие чего Солнце является центром вс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7735-05F3-4BFD-BC1A-430591F94C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тношение расстояния от Земли до Солнца к высоте небесной тверди меньше отношения радиуса Земли к расстоянию от нее до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EA6E-6892-4282-9C02-7DC3B7CFF8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Всякое движение, замечаемое у небесной тверди, связано не с каким- либо движением самой тверди, а самой Земл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я же совершает в течение суток полный оборот вокруг своих неизменных полюсов, в то время, как твердь небесная и расположенное на ней небо, остаются неподвиж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D8B4-7945-4B5E-9476-7F64B549E1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То, что кажется нам движением Солнца, на самом деле связано с движениями Земли и нашей сферы, вместе с которой мы обращаемся вокруг Солнца, как всякая другая план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037D-75B2-4293-896C-A8FC82CA55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A04-2630-4D88-8DF0-F2EFCD0C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56B-ECEE-4EB4-BEFE-3BB0574C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5E7-9227-4BDD-BCF0-0B845979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81D-1674-4BDF-A684-2B3B1906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3C40-CBDB-40CB-A9DB-E0EC5FDF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4146-211B-4777-8916-F24430F6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163B-EA38-41EC-A4A2-0A551571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9642-09AE-4214-A4F2-D05852B5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07CC-3E14-45D5-B22D-C24B40EF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888D-7B9F-4823-9411-312AC1FC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EA50-2B51-4F64-A09F-B517A5C2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D141-4DE5-4386-B736-82C393F7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2755-53C5-4730-B773-CFE58C0B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E3FF-1CB1-401D-8962-4E517469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621E-27A4-4843-81C1-3D86A75D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BB24-C2BC-45C6-B407-5807FDFF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D2E9-242C-4A79-8DC2-FDC46E09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4E9-8A8C-4131-8F6E-286D9863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9E81-3908-4FA1-92D2-55243082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7384-232D-405A-AF44-552B408E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9DB-056E-4A83-87A9-9DCE4FA7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582-B1FB-4425-A7B2-5B2DD778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84E-4257-4549-B237-4CE36CFB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395-45CD-4D5B-9B0F-F403DD2D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254A-678A-46E9-8D46-1CB4B99C846B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49CA-9728-43E3-821A-31A4AF82F3F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0BFE-0405-4E6D-ACB2-4F87E8EDB377}" type="datetime">
              <a:rPr b="0" lang="ru-RU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1CC0-D07F-43A8-BDD6-E5AB8EBD667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Verdana"/>
              </a:rPr>
              <a:t>Теории Коперника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ажущиеся прямые и попятные движения планет, обусловлены не их движениями, а движением Земли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Следовательно, одного лишь движения самой Земли достаточно для объяснения многих кажущихся неравномерностей на небе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елиоцентрическая система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емля одновременно движется и вокруг своей оси, и вокруг Солнц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7" descr="систума тел"/>
          <p:cNvPicPr/>
          <p:nvPr/>
        </p:nvPicPr>
        <p:blipFill>
          <a:blip r:embed="rId1"/>
          <a:stretch/>
        </p:blipFill>
        <p:spPr>
          <a:xfrm>
            <a:off x="758880" y="2028960"/>
            <a:ext cx="3541680" cy="371448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3n00-008"/>
          <p:cNvPicPr/>
          <p:nvPr/>
        </p:nvPicPr>
        <p:blipFill>
          <a:blip r:embed="rId1"/>
          <a:stretch/>
        </p:blipFill>
        <p:spPr>
          <a:xfrm>
            <a:off x="1038240" y="1022400"/>
            <a:ext cx="7143840" cy="42958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сисетма миар н к"/>
          <p:cNvPicPr/>
          <p:nvPr/>
        </p:nvPicPr>
        <p:blipFill>
          <a:blip r:embed="rId1"/>
          <a:stretch/>
        </p:blipFill>
        <p:spPr>
          <a:xfrm>
            <a:off x="1752480" y="760320"/>
            <a:ext cx="5715000" cy="48196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иколай Коперник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473 – 1543гг. Великий польский астроном, создатель гелиоцентрической системы мир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1" descr="PH03181"/>
          <p:cNvPicPr/>
          <p:nvPr/>
        </p:nvPicPr>
        <p:blipFill>
          <a:blip r:embed="rId1"/>
          <a:stretch/>
        </p:blipFill>
        <p:spPr>
          <a:xfrm>
            <a:off x="1127160" y="1773360"/>
            <a:ext cx="2805120" cy="42256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еория Копер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Человек воспринимает движение небесных тел так же, как и перемещение различных предметов на Земле, когда он сам находится в движении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4" descr="8"/>
          <p:cNvPicPr/>
          <p:nvPr/>
        </p:nvPicPr>
        <p:blipFill>
          <a:blip r:embed="rId1"/>
          <a:stretch/>
        </p:blipFill>
        <p:spPr>
          <a:xfrm>
            <a:off x="4641840" y="2301840"/>
            <a:ext cx="3925800" cy="3168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590920"/>
            <a:ext cx="6781680" cy="255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1. Не существует единого центра для всех небесных орбит или сфер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24379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2. Центр Земли является не центром мира, а лишь центром тяготения Земли и лунной орбит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2743200"/>
            <a:ext cx="6782040" cy="255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3. Все сферы движутся вокруг Солнца, как вокруг своего центра, вследствие чего Солнце является центром всего мир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1905120"/>
            <a:ext cx="6781680" cy="3854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4. Отношение расстояния от Земли до Солнца к высоте небесной тверди меньше отношения радиуса Земли к расстоянию от нее до Солнц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Всякое движение, замечаемое у небесной тверди, связано не с каким- либо движением самой тверди, а самой Земл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емля же совершает в течение суток полный оборот вокруг своих неизменных полюсов, в то время, как твердь небесная и расположенное на ней небо, остаются неподвижным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6. То, что кажется нам движением Солнца, на самом деле связано с движениями Земли и нашей сферы, вместе с которой мы обращаемся вокруг Солнца, как всякая другая планета.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2T09:38:3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