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675E-6566-4F24-A343-6B0B341243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" Target="../slides/slide19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ffff"/>
                </a:solidFill>
                <a:latin typeface="Calibri"/>
              </a:rPr>
              <a:t>Тема урока: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Законы Кеплера – законы движения небесных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1DDB-FF06-4C32-8430-385E73A0D1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ольшая полуось орбиты планеты – это ее среднее расстояние от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реднее расстояние Земли от Солнца принято в астрономии за единицу расстояния и называется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астрономической единицей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1 а.е. = 149 600 000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лижайшую к Солнцу точку орбиты называю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игели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пери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– возле, около;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Гелиос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– Солнце),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а наиболее удаленную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фели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апо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– вдал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023B-C116-4F88-9E46-454BD03F70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 эллипсам движутся не только плане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и их естественные и искусственные спут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лижайшая к Земле точка орбиты Луны или искусственного спутника Земли называется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иге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Гея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или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 Ге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– Земля),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а наиболее удаленная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погеем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0BC4-0B8D-42A1-A77F-8CBB35FA69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диус-вектор планеты за равные промежутки времен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писывает равные площад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8FFB-F13A-42F5-A9F7-5A1C477DEC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ланеты движутся вокруг Солнца неравномер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линейная скорость планет вблизи перигелия больше, чем вблизи афел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У Марса вблизи перигелия скорость равна 26,5 км/с, а около афелия - 22 км/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У некоторых комет орбиты настолько вытянуты, что вблизи Солнца 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скорость доходит до 500 км/с, а в афелии снижается до 1 см/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DCAB-4EC8-457F-8357-EE84A7817D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C37F-EA62-4051-BFEB-0643BDD776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корости близких к Солнцу планет значительно больше, чем скорости дале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7E56-6492-4748-AB56-BF9EDC02FD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0BF9-EDF4-496B-B459-668F5AEB30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ое расстояние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строномической единицей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реднее расстояние Земли от Солнца называется астрономической един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Чему равн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дна астрономическая единица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 а.е. = 149 600 000 к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ccffff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054D-0C66-4DAF-9782-ADCC96A533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23CC-9884-467B-BEF3-04F5309D54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мечено, что противостояния некоторой              планеты повторяются через 2 год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ему равна большая полуось ее орб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rezentaci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AA35-B898-47FF-BF93-34056EBB85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древнейших времен считалось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то небесные тела движутся по «идеальным кривым» - окружностя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725F-6AF9-427B-AA4D-C3A371331B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теории Николая Коперника, создателя гелиоцентрической системы мира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уговое движение также не подвергалось сом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4DE7-0304-4EF8-AB4D-BD9E578022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блюдаемое положение планет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е соответствовал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едвычисленному в соответствии с теорией кругового движени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ланет вокруг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BAEB-8C6E-4885-BB1B-E8A5E35347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оганн Кепл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учал движение Марса по результатам многолетних наблюдений датского астронома Тихо Браг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EF74-85AE-4D1F-8D3E-4DE8E645EF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Эллипс 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ределяется как геометрическое место точек, для которых сумма расстояний от двух заданных точек (фокусов F1 и F2)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сть величина постоянная и равная длине большой оси.</a:t>
            </a:r>
            <a:br>
              <a:rPr sz="1200"/>
            </a:br>
            <a:br>
              <a:rPr sz="5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Линия, соединяющая любую точку эллипса с одним из его фокусов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зывается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радиусом-векторо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этой точ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F8CF-C01A-4E22-96CD-BBAF8E2424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коны Кеплера применимы не только к движению планет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и к движению их естественных и искусственных спу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0E9C-2C77-40DF-B3CF-3CB6405D87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ждая планета движется по эллипсу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дном из фокусов которого находится Солнц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0E17-7E2B-4DE8-A225-EB020FAC1F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рбиты планет – эллипсы, мало отличающиеся от окружностей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ак как их эксцентриситеты м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023D-B20A-4D9F-AA0B-EF2A495919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AD2-24BC-48EF-9FCB-43B03D40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3C2-2550-4FF6-A4C4-58E1D55F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5B7-011C-4314-A7F8-45141E29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95F-90CB-4A07-8661-34663391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A5A8-F19F-4900-B199-DA98694D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562-65CA-40B4-B098-AD1FACC5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A4D-AB66-452B-B49C-628DDD80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BE3-2941-4299-BA8A-48AACEC9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E02-07B9-4F7C-8D7D-CCDB6514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5F1-69FF-4760-BF5C-FCC8544B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D1E6-AE8F-4802-AFDF-D75AF341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A9B-D8CD-49F6-ABB3-B59E4836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1CCD-D7C5-418B-8667-03636AE0EE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Тема урока: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коны Кеплера – законы движения небесных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lide0001_image002"/>
          <p:cNvPicPr/>
          <p:nvPr/>
        </p:nvPicPr>
        <p:blipFill>
          <a:blip r:embed="rId1"/>
          <a:stretch/>
        </p:blipFill>
        <p:spPr>
          <a:xfrm>
            <a:off x="1763640" y="1628640"/>
            <a:ext cx="5780160" cy="46245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0" y="260280"/>
            <a:ext cx="914400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ая полуось орбиты планеты – это ее среднее расстояние от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Земли от Солнца принято в астрономии за единицу расстояния и 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астрономической единиц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 а.е. = 149 600 00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айшую к Солнцу точку орбиты называют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игел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пери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возле, около;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Гелиос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– Солнце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 наиболее удаленную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фел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апо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– вда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slide0008_image033"/>
          <p:cNvPicPr/>
          <p:nvPr/>
        </p:nvPicPr>
        <p:blipFill>
          <a:blip r:embed="rId1"/>
          <a:stretch/>
        </p:blipFill>
        <p:spPr>
          <a:xfrm>
            <a:off x="1979640" y="2924280"/>
            <a:ext cx="5059440" cy="3359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260280"/>
            <a:ext cx="914400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эллипсам движутся не только план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и их естественные и искусственные спут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айшая к Земле точка орбиты Луны или искусственного спутника Земли называетс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иге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Гея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или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 Ге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Земля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 наиболее удаленная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погеем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Рисунок3"/>
          <p:cNvPicPr/>
          <p:nvPr/>
        </p:nvPicPr>
        <p:blipFill>
          <a:blip r:embed="rId1"/>
          <a:stretch/>
        </p:blipFill>
        <p:spPr>
          <a:xfrm>
            <a:off x="2411280" y="2349360"/>
            <a:ext cx="4386240" cy="2971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2"/>
          <p:cNvSpPr/>
          <p:nvPr/>
        </p:nvSpPr>
        <p:spPr>
          <a:xfrm>
            <a:off x="1763640" y="3716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иг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300720" y="3789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пог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закон равных площад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344"/>
          <p:cNvPicPr/>
          <p:nvPr/>
        </p:nvPicPr>
        <p:blipFill>
          <a:blip r:embed="rId1"/>
          <a:stretch/>
        </p:blipFill>
        <p:spPr>
          <a:xfrm>
            <a:off x="1619280" y="1844640"/>
            <a:ext cx="5759280" cy="3166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619280" y="4869000"/>
            <a:ext cx="583236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692360" y="4941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второ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а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Рисунок1"/>
          <p:cNvPicPr/>
          <p:nvPr/>
        </p:nvPicPr>
        <p:blipFill>
          <a:blip r:embed="rId1"/>
          <a:srcRect l="2071" t="1959" r="0" b="1959"/>
          <a:stretch/>
        </p:blipFill>
        <p:spPr>
          <a:xfrm>
            <a:off x="2627280" y="1341360"/>
            <a:ext cx="4753080" cy="3095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2195640" y="2997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ериг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877080" y="292428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ф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627280" y="256536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851280" y="126828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6659640" y="2060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6877080" y="2637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468360" y="260280"/>
            <a:ext cx="849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еты движутся вокруг Солнца неравномер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линейная скорость планет вблизи перигелия больше, чем вблизи афел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826920" y="5157720"/>
            <a:ext cx="806616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У Марса вблизи перигелия скорость равна 26,5 км/с, а около афелия - 22 км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У некоторых комет орбиты настолько вытянуты, что вблизи Солнца 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скорость доходит до 500 км/с, а в афелии снижается до 1 см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708360" y="285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>
            <a:off x="3708360" y="2852640"/>
            <a:ext cx="71640" cy="716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276720" y="260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343"/>
          <p:cNvPicPr/>
          <p:nvPr/>
        </p:nvPicPr>
        <p:blipFill>
          <a:blip r:embed="rId1"/>
          <a:stretch/>
        </p:blipFill>
        <p:spPr>
          <a:xfrm>
            <a:off x="7596360" y="1125360"/>
            <a:ext cx="1331640" cy="1000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345"/>
          <p:cNvPicPr/>
          <p:nvPr/>
        </p:nvPicPr>
        <p:blipFill>
          <a:blip r:embed="rId2"/>
          <a:stretch/>
        </p:blipFill>
        <p:spPr>
          <a:xfrm>
            <a:off x="2050920" y="2133720"/>
            <a:ext cx="5256360" cy="3465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050920" y="5516640"/>
            <a:ext cx="56167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835280" y="5589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третье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ов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050920" y="5516640"/>
            <a:ext cx="56167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0" y="333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рости близких к Солнцу планет значительно больше, чем скорости далек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03010301"/>
          <p:cNvPicPr/>
          <p:nvPr/>
        </p:nvPicPr>
        <p:blipFill>
          <a:blip r:embed="rId1"/>
          <a:stretch/>
        </p:blipFill>
        <p:spPr>
          <a:xfrm>
            <a:off x="971640" y="83664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132000" y="38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1343"/>
          <p:cNvPicPr/>
          <p:nvPr/>
        </p:nvPicPr>
        <p:blipFill>
          <a:blip r:embed="rId1"/>
          <a:stretch/>
        </p:blipFill>
        <p:spPr>
          <a:xfrm>
            <a:off x="3780000" y="5013360"/>
            <a:ext cx="1331640" cy="10000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184464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059280" y="1268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13200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0" y="314172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0" y="33336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плер исследовал движения всех известных в то время план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эмпиричес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ывел три закона движения планет относительно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755640" y="83664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акое расстояние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строномической единиц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162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Земли от Солнца называется астрономической единиц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684360" y="270828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Чему рав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на астрономическая единиц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0" y="3429000"/>
            <a:ext cx="9144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а.е. = 149 600 000 к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132000" y="38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1343"/>
          <p:cNvPicPr/>
          <p:nvPr/>
        </p:nvPicPr>
        <p:blipFill>
          <a:blip r:embed="rId1"/>
          <a:stretch/>
        </p:blipFill>
        <p:spPr>
          <a:xfrm>
            <a:off x="3780000" y="5013360"/>
            <a:ext cx="1331640" cy="1000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0" y="907920"/>
            <a:ext cx="914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132000" y="33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132000" y="2133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270828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979640" y="0"/>
            <a:ext cx="7164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чено, что противостояния некоторой              планеты повторяются через 2 год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у равна большая полуось ее орби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6948360" y="2133720"/>
            <a:ext cx="2195640" cy="2057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2089080" cy="2076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3"/>
          <a:stretch/>
        </p:blipFill>
        <p:spPr>
          <a:xfrm>
            <a:off x="0" y="2205000"/>
            <a:ext cx="2195640" cy="2151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4"/>
          <a:stretch/>
        </p:blipFill>
        <p:spPr>
          <a:xfrm>
            <a:off x="2340000" y="2133720"/>
            <a:ext cx="2211480" cy="22399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0" y="45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5092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ffff"/>
                </a:solidFill>
                <a:latin typeface="Arial"/>
              </a:rPr>
              <a:t>За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395280" y="2276640"/>
            <a:ext cx="1297080" cy="2016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2268360" y="3141720"/>
            <a:ext cx="2376720" cy="3585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4643280" y="3213000"/>
            <a:ext cx="2376720" cy="14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7596360" y="2133720"/>
            <a:ext cx="792000" cy="20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492360" y="6458040"/>
            <a:ext cx="27352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rezentacii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0301 L -0.37986 0.12277 E">
                                      <p:cBhvr>
                                        <p:cTn id="11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древнейших времен считалось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ебесные тела движутся по «идеальным кривым» - окружност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4716360" y="5516640"/>
            <a:ext cx="38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Геоцентрическая система Птолем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1191"/>
          <p:cNvPicPr/>
          <p:nvPr/>
        </p:nvPicPr>
        <p:blipFill>
          <a:blip r:embed="rId1"/>
          <a:stretch/>
        </p:blipFill>
        <p:spPr>
          <a:xfrm>
            <a:off x="4859280" y="170028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250920" y="5516640"/>
            <a:ext cx="392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Клавдий Птолем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(ок. 90 – ок. 1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slide0016_image006"/>
          <p:cNvPicPr/>
          <p:nvPr/>
        </p:nvPicPr>
        <p:blipFill>
          <a:blip r:embed="rId2"/>
          <a:stretch/>
        </p:blipFill>
        <p:spPr>
          <a:xfrm>
            <a:off x="826920" y="1700280"/>
            <a:ext cx="3054600" cy="37098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еории Николая Коперника, создателя гелиоцентрической системы мир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уговое движение также не подвергалось сом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00000" y="573408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Николай Копер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473–1543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0040301"/>
          <p:cNvPicPr/>
          <p:nvPr/>
        </p:nvPicPr>
        <p:blipFill>
          <a:blip r:embed="rId1"/>
          <a:stretch/>
        </p:blipFill>
        <p:spPr>
          <a:xfrm>
            <a:off x="826920" y="1844640"/>
            <a:ext cx="2862360" cy="381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199"/>
          <p:cNvPicPr/>
          <p:nvPr/>
        </p:nvPicPr>
        <p:blipFill>
          <a:blip r:embed="rId2"/>
          <a:stretch/>
        </p:blipFill>
        <p:spPr>
          <a:xfrm>
            <a:off x="4643280" y="1844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4211640" y="57340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Гелиоцентрическая система мира Копер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5796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аемое положение план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е соответствовало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вычисленному в соответствии с теорией кругового движени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ланет вокруг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0" y="19890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0" y="321300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ке ответ на этот вопрос искал немецкий астроном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оганн Кепле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00040601"/>
          <p:cNvPicPr/>
          <p:nvPr/>
        </p:nvPicPr>
        <p:blipFill>
          <a:blip r:embed="rId1"/>
          <a:stretch/>
        </p:blipFill>
        <p:spPr>
          <a:xfrm>
            <a:off x="5867280" y="1341360"/>
            <a:ext cx="302580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5867280" y="5445000"/>
            <a:ext cx="288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оганн Кепл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571–163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00040401"/>
          <p:cNvPicPr/>
          <p:nvPr/>
        </p:nvPicPr>
        <p:blipFill>
          <a:blip r:embed="rId1"/>
          <a:stretch/>
        </p:blipFill>
        <p:spPr>
          <a:xfrm>
            <a:off x="684360" y="1628640"/>
            <a:ext cx="3078000" cy="4104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5"/>
          <p:cNvSpPr/>
          <p:nvPr/>
        </p:nvSpPr>
        <p:spPr>
          <a:xfrm>
            <a:off x="684360" y="5950080"/>
            <a:ext cx="28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Тихо Браг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546-16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ал движение Марса по результатам многолетних наблюдений датского астронома Тихо Браг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2" descr="5"/>
          <p:cNvPicPr/>
          <p:nvPr/>
        </p:nvPicPr>
        <p:blipFill>
          <a:blip r:embed="rId2"/>
          <a:stretch/>
        </p:blipFill>
        <p:spPr>
          <a:xfrm>
            <a:off x="4788000" y="1197000"/>
            <a:ext cx="3898800" cy="50799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ллипс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ется как геометрическое место точек, для которых сумма расстояний от двух заданных точек (фокусов F1 и F2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ть величина постоянная и равная длине большой оси.</a:t>
            </a:r>
            <a:br>
              <a:rPr sz="1800"/>
            </a:br>
            <a:br>
              <a:rPr sz="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иния, соединяющая любую точку эллипса с одним из его фокусов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радиусом-вектор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й точк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205"/>
          <p:cNvPicPr/>
          <p:nvPr/>
        </p:nvPicPr>
        <p:blipFill>
          <a:blip r:embed="rId1"/>
          <a:stretch/>
        </p:blipFill>
        <p:spPr>
          <a:xfrm>
            <a:off x="4211640" y="2781360"/>
            <a:ext cx="4753080" cy="3565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8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ганн Кеплер обнаружил, ч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рбита Марса не окружность, а эллип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95280" y="2924280"/>
            <a:ext cx="3780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пень отличия эллипса от окружности характеризует его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ксцентрисит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ра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ношению расстояний между фокусами к большой оси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е 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F1F2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/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A1A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 совпадении фокусов (е = 0) эллипс превращаетс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 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круж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8"/>
          <p:cNvSpPr/>
          <p:nvPr/>
        </p:nvSpPr>
        <p:spPr>
          <a:xfrm>
            <a:off x="0" y="18900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ы Кеплера применимы не только к движению планет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и к движению их естественных и искусственных спу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slide0025_image019"/>
          <p:cNvPicPr/>
          <p:nvPr/>
        </p:nvPicPr>
        <p:blipFill>
          <a:blip r:embed="rId1"/>
          <a:stretch/>
        </p:blipFill>
        <p:spPr>
          <a:xfrm>
            <a:off x="0" y="1074600"/>
            <a:ext cx="6877080" cy="4291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2"/>
          <a:srcRect l="2104" t="2954" r="0" b="0"/>
          <a:stretch/>
        </p:blipFill>
        <p:spPr>
          <a:xfrm>
            <a:off x="5183280" y="3573360"/>
            <a:ext cx="3960720" cy="27972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345"/>
          <p:cNvPicPr/>
          <p:nvPr/>
        </p:nvPicPr>
        <p:blipFill>
          <a:blip r:embed="rId1"/>
          <a:stretch/>
        </p:blipFill>
        <p:spPr>
          <a:xfrm>
            <a:off x="2050920" y="2060640"/>
            <a:ext cx="5256360" cy="3465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050920" y="5445000"/>
            <a:ext cx="56167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835280" y="5589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перво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ов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биты планет – эллипсы, мало отличающиеся от окружностей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как их эксцентриситеты м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981000"/>
            <a:ext cx="3132000" cy="2782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403"/>
          <p:cNvPicPr/>
          <p:nvPr/>
        </p:nvPicPr>
        <p:blipFill>
          <a:blip r:embed="rId2"/>
          <a:srcRect l="50601" t="0" r="0" b="0"/>
          <a:stretch/>
        </p:blipFill>
        <p:spPr>
          <a:xfrm>
            <a:off x="2625840" y="3933720"/>
            <a:ext cx="2595600" cy="262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5219640" y="3048120"/>
            <a:ext cx="3924360" cy="380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2403"/>
          <p:cNvPicPr/>
          <p:nvPr/>
        </p:nvPicPr>
        <p:blipFill>
          <a:blip r:embed="rId4"/>
          <a:srcRect l="0" t="0" r="49989" b="0"/>
          <a:stretch/>
        </p:blipFill>
        <p:spPr>
          <a:xfrm>
            <a:off x="3203640" y="907920"/>
            <a:ext cx="2560680" cy="2592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33:46Z</dcterms:created>
  <dc:creator>Victor</dc:creator>
  <dc:description/>
  <dc:language>en-US</dc:language>
  <cp:lastModifiedBy>LEGION</cp:lastModifiedBy>
  <dcterms:modified xsi:type="dcterms:W3CDTF">2015-01-12T09:12:44Z</dcterms:modified>
  <cp:revision>58</cp:revision>
  <dc:subject/>
  <dc:title>Законы Кеплера - законы движения небесных тел</dc:title>
</cp:coreProperties>
</file>