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C119-5953-4E2C-B796-1A13938F06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Calibri"/>
              </a:rPr>
              <a:t>Тема урока: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Законы Кеплера – законы движения небесных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468B-9299-426D-BE1A-5AD4452151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ольшая полуось орбиты планеты – это ее среднее расстояние от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 а.е. = 149 600 000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ую к Солнцу точку орбиты назыв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пери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возле, около;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лиос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Солнце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ую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ф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апо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вда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F3D5-00F7-4BE7-8036-FB5A89D39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 эллипсам движутся не только плане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их естественные и искусственные спут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я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или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 Ге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Земля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ая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погеем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D408-09B7-4247-A409-22511D7F01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диус-вектор планеты за равные промежутки време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писывает равные площад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8B98-50C9-4027-92A0-AE4D00E4F9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еты движутся вокруг Солнца неравномер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линейная скорость планет вблизи перигелия больше, чем вблизи афе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Марса вблизи перигелия скорость равна 26,5 км/с, а около афелия - 22 к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некоторых комет орбиты настолько вытянуты, что вблизи Солнца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скорость доходит до 500 км/с, а в афелии снижается до 1 с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6CBC-BC80-417D-89CD-E181C5E0AF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B5AD-3B36-47F4-B686-343FEE6DD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корости близких к Солнцу планет значительно больше, чем скорости дале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CC85-7C5D-44ED-9935-209116B4DD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A78D-8A99-4701-9580-01412C784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ое расстоя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называется астрономической един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Чему рав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а астрономическая единица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 а.е. = 149 600 000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cc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480A-1311-454B-BC05-DABB06A071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2CC-B119-4545-852B-F8F600C228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CE83-B505-4534-98B3-0CF3EABB50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древнейших времен считалось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то небесные тела движутся по «идеальным кривым» - окружностя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F671-FD5D-4AC6-B7B3-2D555EFD7F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еории Николая Коперника, создателя гелиоцентрической системы мира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е движение также не подвергалось сом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A03-FA76-43B4-88D8-837778417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блюдаемое положение плане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 соответ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вычисленному в соответствии с теорией кругового движен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ланет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FC5A-DF92-4154-8765-BD53A652E1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оганн Кепл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9629-D7FB-486C-BAE6-49C0FF11E7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Эллипс 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сть величина постоянная и равная длине большой оси.</a:t>
            </a:r>
            <a:br>
              <a:rPr sz="1200"/>
            </a:br>
            <a:br>
              <a:rPr sz="5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Линия, соединяющая любую точку эллипса с одним из его фокусов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радиусом-векторо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той то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BA59-4F73-4E0B-9DA4-E4BF57E3F6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оны Кеплера применимы не только к движению планет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к движению их естественных и искусственных спу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040F-66CB-4C0A-871A-C4890E279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ая планета движется по эллипсу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ном из фокусов которого находится Солн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9E6B-5382-4F15-9078-07AA082B5D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рбиты планет – эллипсы, мало отличающиеся от окружностей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 как их эксцентриситеты м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C1C6-8C3B-4EC1-AE79-45F3E9C578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4DA-AE30-46CC-8366-C9347923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347-32E3-430A-8FDA-39DCF87B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37F-CD40-4947-91BC-641F6238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FA8-C359-4048-9C04-1AD41D62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1A5-584F-4E54-8635-C2BA6E77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A27-4092-4C49-A058-BFC30D3D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1F8-4096-469A-8A7D-6FE59F3D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821-148C-42A6-996F-565F749C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556-24ED-4C60-9A09-290A5297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72F-2F23-4BB9-9459-F5F09DE5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871-FD4D-40E9-BF7B-5B5518BC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A53-3BF4-4C5C-A856-FFC1BCFA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184-B6D1-4ABA-8FEA-E8F186B0A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55640" y="83664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ое расстоя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называется астрономической еди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270828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ему рав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а астрономическая едини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0" y="3429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а.е. = 149 600 00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13200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132000" y="213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70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979640" y="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21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0" y="2205000"/>
            <a:ext cx="2195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2211480" cy="2239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0" y="45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5092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395280" y="2276640"/>
            <a:ext cx="1297080" cy="20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2268360" y="3141720"/>
            <a:ext cx="2376720" cy="358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643280" y="3213000"/>
            <a:ext cx="237672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7596360" y="2133720"/>
            <a:ext cx="792000" cy="20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301 L -0.37986 0.12277 E">
                                      <p:cBhvr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LEGION</cp:lastModifiedBy>
  <dcterms:modified xsi:type="dcterms:W3CDTF">2015-01-12T09:12:44Z</dcterms:modified>
  <cp:revision>58</cp:revision>
  <dc:subject/>
  <dc:title>Законы Кеплера - законы движения небесных тел</dc:title>
</cp:coreProperties>
</file>