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5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24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8.gif" ContentType="image/gif"/>
  <Override PartName="/ppt/media/image23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4.jpeg" ContentType="image/jpe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FB343-F95D-44EF-9C22-15B5F44BB3F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hyperlink" Target="http://prezentacii.com/" TargetMode="External"/><Relationship Id="rId2" Type="http://schemas.openxmlformats.org/officeDocument/2006/relationships/slide" Target="../slides/slide19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cffff"/>
                </a:solidFill>
                <a:latin typeface="Calibri"/>
              </a:rPr>
              <a:t>Тема урока: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Законы Кеплера – законы движения небесных т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9B4DB-6A92-432B-B26A-62FD21ADC2A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Большая полуось орбиты планеты – это ее среднее расстояние от Солн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реднее расстояние Земли от Солнца принято в астрономии за единицу расстояния и называется </a:t>
            </a:r>
            <a:r>
              <a:rPr b="0" i="1" lang="ru-RU" sz="1200" spc="-1" strike="noStrike">
                <a:solidFill>
                  <a:srgbClr val="ffff00"/>
                </a:solidFill>
                <a:latin typeface="Calibri"/>
              </a:rPr>
              <a:t>астрономической единицей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1 а.е. = 149 600 000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к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Ближайшую к Солнцу точку орбиты называют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перигелием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(греч. </a:t>
            </a:r>
            <a:r>
              <a:rPr b="0" i="1" lang="ru-RU" sz="1200" spc="-1" strike="noStrike">
                <a:solidFill>
                  <a:srgbClr val="ccffff"/>
                </a:solidFill>
                <a:latin typeface="Calibri"/>
              </a:rPr>
              <a:t>пери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 – возле, около; </a:t>
            </a:r>
            <a:r>
              <a:rPr b="0" i="1" lang="ru-RU" sz="1200" spc="-1" strike="noStrike">
                <a:solidFill>
                  <a:srgbClr val="ccffff"/>
                </a:solidFill>
                <a:latin typeface="Calibri"/>
              </a:rPr>
              <a:t>Гелиос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– Солнце),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а наиболее удаленную –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афелием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(греч. </a:t>
            </a:r>
            <a:r>
              <a:rPr b="0" i="1" lang="ru-RU" sz="1200" spc="-1" strike="noStrike">
                <a:solidFill>
                  <a:srgbClr val="ccffff"/>
                </a:solidFill>
                <a:latin typeface="Calibri"/>
              </a:rPr>
              <a:t>апо</a:t>
            </a:r>
            <a:r>
              <a:rPr b="0" i="1" lang="ru-RU" sz="1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– вдал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4883C-08E9-472D-9C9A-FFBAAE5AFC2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о эллипсам движутся не только планет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о и их естественные и искусственные спутн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Ближайшая к Земле точка орбиты Луны или искусственного спутника Земли называется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перигеем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(греч. </a:t>
            </a:r>
            <a:r>
              <a:rPr b="0" i="1" lang="ru-RU" sz="1200" spc="-1" strike="noStrike">
                <a:solidFill>
                  <a:srgbClr val="ccffff"/>
                </a:solidFill>
                <a:latin typeface="Calibri"/>
              </a:rPr>
              <a:t>Гея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 или</a:t>
            </a:r>
            <a:r>
              <a:rPr b="0" i="1" lang="ru-RU" sz="1200" spc="-1" strike="noStrike">
                <a:solidFill>
                  <a:srgbClr val="ccffff"/>
                </a:solidFill>
                <a:latin typeface="Calibri"/>
              </a:rPr>
              <a:t> Ге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 – Земля),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а наиболее удаленная –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апогеем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65D66-AA0C-4EF2-87D0-18B4C6D59DB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Радиус-вектор планеты за равные промежутки времен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описывает равные площад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7CCF4-A264-4E55-98CA-BCEE806A283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ланеты движутся вокруг Солнца неравномер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00"/>
                </a:solidFill>
                <a:latin typeface="Calibri"/>
              </a:rPr>
              <a:t>линейная скорость планет вблизи перигелия больше, чем вблизи афелия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ffff"/>
                </a:solidFill>
                <a:latin typeface="Calibri"/>
              </a:rPr>
              <a:t>У Марса вблизи перигелия скорость равна 26,5 км/с, а около афелия - 22 км/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ffff"/>
                </a:solidFill>
                <a:latin typeface="Calibri"/>
              </a:rPr>
              <a:t>У некоторых комет орбиты настолько вытянуты, что вблизи Солнца и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cffff"/>
                </a:solidFill>
                <a:latin typeface="Calibri"/>
              </a:rPr>
              <a:t>скорость доходит до 500 км/с, а в афелии снижается до 1 см/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00F24-133B-4499-A7B2-786683716D2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вадраты сидерических периодов обращений двух планет относятся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как кубы больших полуосей их орби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99A60-365C-4E98-ABE7-04F88DBEDB1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корости близких к Солнцу планет значительно больше, чем скорости далек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FA58B-3A85-41F9-88DD-49EC45EEAAD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вадраты сидерических периодов обращений двух планет относятся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как кубы больших полуосей их орби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A5573-9063-4B3D-B406-47ED86B5EA2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Какое расстояние называется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астрономической единицей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реднее расстояние Земли от Солнца называется астрономической единиц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Чему равна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дна астрономическая единица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 а.е. = 149 600 000 к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ccffff"/>
                </a:solidFill>
                <a:latin typeface="Calibri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81C7F-3B5C-4084-9802-A6F55BE1B80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вадраты сидерических периодов обращений двух планет относятся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как кубы больших полуосей их орби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8E5FA-0838-46D8-988D-15BFC0A17ED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Замечено, что противостояния некоторой              планеты повторяются через 2 года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Чему равна большая полуось ее орбиты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Prezentacii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0395-C658-4EB1-9015-5758747AE26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 древнейших времен считалось,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что небесные тела движутся по «идеальным кривым» - окружностям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F6789-108A-4789-9072-D391310BCC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теории Николая Коперника, создателя гелиоцентрической системы мира,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руговое движение также не подвергалось сомн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5ED98-AE8A-410F-BB35-B3FEA42D1D9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аблюдаемое положение планет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не соответствовало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едвычисленному в соответствии с теорией кругового движения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планет вокруг Солн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C40B6-4692-4482-9DE0-A200CDD5893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оганн Кепле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зучал движение Марса по результатам многолетних наблюдений датского астронома Тихо Браг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1E5C5-FF9F-4FF5-8B7B-BE92E5EA51C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Эллипс 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пределяется как геометрическое место точек, для которых сумма расстояний от двух заданных точек (фокусов F1 и F2)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есть величина постоянная и равная длине большой оси.</a:t>
            </a:r>
            <a:br>
              <a:rPr sz="1200"/>
            </a:br>
            <a:br>
              <a:rPr sz="5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Линия, соединяющая любую точку эллипса с одним из его фокусов,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азывается </a:t>
            </a:r>
            <a:r>
              <a:rPr b="0" i="1" lang="ru-RU" sz="1200" spc="-1" strike="noStrike">
                <a:solidFill>
                  <a:srgbClr val="ffff00"/>
                </a:solidFill>
                <a:latin typeface="Calibri"/>
              </a:rPr>
              <a:t>радиусом-вектором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этой точк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6CB57-B2D2-41DF-9F64-2F3A5908895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Законы Кеплера применимы не только к движению планет,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о и к движению их естественных и искусственных спут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88D69-BEEB-4AD0-A7C0-F6F0E758227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аждая планета движется по эллипсу,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одном из фокусов которого находится Солнце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16A07-5CCF-48FC-8237-25AFABD5845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рбиты планет – эллипсы, мало отличающиеся от окружностей,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так как их эксцентриситеты ма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538FE-F715-4D5A-B0A7-4C0E5F004EE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8037-94CE-49F0-9914-BEAD15E5B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E597-A0D7-41B1-9887-BA8AE52B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CA1E-C4EF-4F7E-9F9E-373A274F6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2C07-F034-4899-A37E-130786CC1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D9F3-1DF0-4CBD-A064-3FDF32311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E1D9-FD35-4166-AB19-C67FC2470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00A0-ED98-4391-840E-2A43427A4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C0B0-55A5-4670-B406-B57D16E6B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FE2D-F5E2-45A3-A6C3-875163143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88F9-D5BE-4751-848B-041443F8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0376-1F86-4F90-B0F7-3BA09F88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D601-FA2D-4BBA-9E7D-6DA01C0E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414D0-3DD4-4A35-8A94-2384A7D355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hyperlink" Target="http://prezentacii.com/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Тема урока: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Законы Кеплера – законы движения небесных т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slide0001_image002"/>
          <p:cNvPicPr/>
          <p:nvPr/>
        </p:nvPicPr>
        <p:blipFill>
          <a:blip r:embed="rId1"/>
          <a:stretch/>
        </p:blipFill>
        <p:spPr>
          <a:xfrm>
            <a:off x="1763640" y="1628640"/>
            <a:ext cx="5780160" cy="462456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6"/>
          <p:cNvSpPr/>
          <p:nvPr/>
        </p:nvSpPr>
        <p:spPr>
          <a:xfrm>
            <a:off x="0" y="260280"/>
            <a:ext cx="9144000" cy="24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льшая полуось орбиты планеты – это ее среднее расстояние от Солн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реднее расстояние Земли от Солнца принято в астрономии за единицу расстояния и называется 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астрономической единицей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 а.е. = 149 600 000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лижайшую к Солнцу точку орбиты называют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еригелие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(греч. </a:t>
            </a:r>
            <a:r>
              <a:rPr b="0" i="1" lang="ru-RU" sz="1800" spc="-1" strike="noStrike">
                <a:solidFill>
                  <a:srgbClr val="ccffff"/>
                </a:solidFill>
                <a:latin typeface="Arial"/>
              </a:rPr>
              <a:t>пери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– возле, около; </a:t>
            </a:r>
            <a:r>
              <a:rPr b="0" i="1" lang="ru-RU" sz="1800" spc="-1" strike="noStrike">
                <a:solidFill>
                  <a:srgbClr val="ccffff"/>
                </a:solidFill>
                <a:latin typeface="Arial"/>
              </a:rPr>
              <a:t>Гелиос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– Солнце)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 наиболее удаленную –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афелие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(греч. </a:t>
            </a:r>
            <a:r>
              <a:rPr b="0" i="1" lang="ru-RU" sz="1800" spc="-1" strike="noStrike">
                <a:solidFill>
                  <a:srgbClr val="ccffff"/>
                </a:solidFill>
                <a:latin typeface="Arial"/>
              </a:rPr>
              <a:t>апо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– вдал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7" descr="slide0008_image033"/>
          <p:cNvPicPr/>
          <p:nvPr/>
        </p:nvPicPr>
        <p:blipFill>
          <a:blip r:embed="rId1"/>
          <a:stretch/>
        </p:blipFill>
        <p:spPr>
          <a:xfrm>
            <a:off x="1979640" y="2924280"/>
            <a:ext cx="5059440" cy="335916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0" y="260280"/>
            <a:ext cx="914400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эллипсам движутся не только планет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 и их естественные и искусственные спутн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лижайшая к Земле точка орбиты Луны или искусственного спутника Земли называется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еригее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(греч. </a:t>
            </a:r>
            <a:r>
              <a:rPr b="0" i="1" lang="ru-RU" sz="1800" spc="-1" strike="noStrike">
                <a:solidFill>
                  <a:srgbClr val="ccffff"/>
                </a:solidFill>
                <a:latin typeface="Arial"/>
              </a:rPr>
              <a:t>Гея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или</a:t>
            </a:r>
            <a:r>
              <a:rPr b="0" i="1" lang="ru-RU" sz="1800" spc="-1" strike="noStrike">
                <a:solidFill>
                  <a:srgbClr val="ccffff"/>
                </a:solidFill>
                <a:latin typeface="Arial"/>
              </a:rPr>
              <a:t> Ге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– Земля)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 наиболее удаленная –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апогеем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1" descr="Рисунок3"/>
          <p:cNvPicPr/>
          <p:nvPr/>
        </p:nvPicPr>
        <p:blipFill>
          <a:blip r:embed="rId1"/>
          <a:stretch/>
        </p:blipFill>
        <p:spPr>
          <a:xfrm>
            <a:off x="2411280" y="2349360"/>
            <a:ext cx="4386240" cy="29718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2"/>
          <p:cNvSpPr/>
          <p:nvPr/>
        </p:nvSpPr>
        <p:spPr>
          <a:xfrm>
            <a:off x="1763640" y="371628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ериг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6300720" y="378936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пог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907560"/>
            <a:ext cx="91440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диус-вектор планеты за равные промежутки времени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описывает равные площади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0" y="260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Второй закон Кеплера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закон равных площадей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1344"/>
          <p:cNvPicPr/>
          <p:nvPr/>
        </p:nvPicPr>
        <p:blipFill>
          <a:blip r:embed="rId1"/>
          <a:stretch/>
        </p:blipFill>
        <p:spPr>
          <a:xfrm>
            <a:off x="1619280" y="1844640"/>
            <a:ext cx="5759280" cy="31669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6"/>
          <p:cNvSpPr/>
          <p:nvPr/>
        </p:nvSpPr>
        <p:spPr>
          <a:xfrm>
            <a:off x="1619280" y="4869000"/>
            <a:ext cx="5832360" cy="36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1692360" y="4941720"/>
            <a:ext cx="56894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Иллюстрация второго закона Кепле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ccffff"/>
                </a:solidFill>
                <a:latin typeface="Arial"/>
              </a:rPr>
              <a:t>на примере движения спутника Земл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9" descr="Рисунок1"/>
          <p:cNvPicPr/>
          <p:nvPr/>
        </p:nvPicPr>
        <p:blipFill>
          <a:blip r:embed="rId1"/>
          <a:srcRect l="2071" t="1959" r="0" b="1959"/>
          <a:stretch/>
        </p:blipFill>
        <p:spPr>
          <a:xfrm>
            <a:off x="2627280" y="1341360"/>
            <a:ext cx="4753080" cy="3095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0"/>
          <p:cNvSpPr/>
          <p:nvPr/>
        </p:nvSpPr>
        <p:spPr>
          <a:xfrm>
            <a:off x="2195640" y="299736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Перигели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6877080" y="2924280"/>
            <a:ext cx="11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фели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2627280" y="2565360"/>
            <a:ext cx="503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ffff"/>
                </a:solidFill>
                <a:latin typeface="Arial"/>
              </a:rPr>
              <a:t>М</a:t>
            </a:r>
            <a:r>
              <a:rPr b="0" lang="ru-RU" sz="1400" spc="-1" strike="noStrike" baseline="-25000">
                <a:solidFill>
                  <a:srgbClr val="cc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3851280" y="1268280"/>
            <a:ext cx="503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ffff"/>
                </a:solidFill>
                <a:latin typeface="Arial"/>
              </a:rPr>
              <a:t>М</a:t>
            </a:r>
            <a:r>
              <a:rPr b="0" lang="ru-RU" sz="1400" spc="-1" strike="noStrike" baseline="-25000">
                <a:solidFill>
                  <a:srgbClr val="cc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4"/>
          <p:cNvSpPr/>
          <p:nvPr/>
        </p:nvSpPr>
        <p:spPr>
          <a:xfrm>
            <a:off x="6659640" y="2060640"/>
            <a:ext cx="503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ffff"/>
                </a:solidFill>
                <a:latin typeface="Arial"/>
              </a:rPr>
              <a:t>М</a:t>
            </a:r>
            <a:r>
              <a:rPr b="0" lang="ru-RU" sz="1400" spc="-1" strike="noStrike" baseline="-25000">
                <a:solidFill>
                  <a:srgbClr val="cc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5"/>
          <p:cNvSpPr/>
          <p:nvPr/>
        </p:nvSpPr>
        <p:spPr>
          <a:xfrm>
            <a:off x="6877080" y="2637000"/>
            <a:ext cx="503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ffff"/>
                </a:solidFill>
                <a:latin typeface="Arial"/>
              </a:rPr>
              <a:t>М</a:t>
            </a:r>
            <a:r>
              <a:rPr b="0" lang="ru-RU" sz="1400" spc="-1" strike="noStrike" baseline="-25000">
                <a:solidFill>
                  <a:srgbClr val="ccff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6"/>
          <p:cNvSpPr/>
          <p:nvPr/>
        </p:nvSpPr>
        <p:spPr>
          <a:xfrm>
            <a:off x="468360" y="260280"/>
            <a:ext cx="849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ланеты движутся вокруг Солнца неравномер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линейная скорость планет вблизи перигелия больше, чем вблизи афел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826920" y="5157720"/>
            <a:ext cx="8066160" cy="9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У Марса вблизи перигелия скорость равна 26,5 км/с, а около афелия - 22 км/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У некоторых комет орбиты настолько вытянуты, что вблизи Солнца и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скорость доходит до 500 км/с, а в афелии снижается до 1 см/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9"/>
          <p:cNvSpPr/>
          <p:nvPr/>
        </p:nvSpPr>
        <p:spPr>
          <a:xfrm>
            <a:off x="3708360" y="285264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20"/>
          <p:cNvSpPr/>
          <p:nvPr/>
        </p:nvSpPr>
        <p:spPr>
          <a:xfrm>
            <a:off x="3708360" y="2852640"/>
            <a:ext cx="71640" cy="7164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вадраты сидерических периодов обращений двух планет относятся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как кубы больших полуосей их орби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3276720" y="26028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Третий закон Кеплер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1343"/>
          <p:cNvPicPr/>
          <p:nvPr/>
        </p:nvPicPr>
        <p:blipFill>
          <a:blip r:embed="rId1"/>
          <a:stretch/>
        </p:blipFill>
        <p:spPr>
          <a:xfrm>
            <a:off x="7596360" y="1125360"/>
            <a:ext cx="1331640" cy="1000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1345"/>
          <p:cNvPicPr/>
          <p:nvPr/>
        </p:nvPicPr>
        <p:blipFill>
          <a:blip r:embed="rId2"/>
          <a:stretch/>
        </p:blipFill>
        <p:spPr>
          <a:xfrm>
            <a:off x="2050920" y="2133720"/>
            <a:ext cx="5256360" cy="34653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1835280" y="2133720"/>
            <a:ext cx="433080" cy="370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2050920" y="5516640"/>
            <a:ext cx="5616720" cy="36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1835280" y="5589720"/>
            <a:ext cx="56894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Иллюстрация третьего закона Кепле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ccffff"/>
                </a:solidFill>
                <a:latin typeface="Arial"/>
              </a:rPr>
              <a:t>на примере движения спутников Земл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6"/>
          <p:cNvSpPr/>
          <p:nvPr/>
        </p:nvSpPr>
        <p:spPr>
          <a:xfrm>
            <a:off x="1835280" y="2133720"/>
            <a:ext cx="433080" cy="370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2050920" y="5516640"/>
            <a:ext cx="5616720" cy="36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0" y="3333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корости близких к Солнцу планет значительно больше, чем скорости далеки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0" descr="03010301"/>
          <p:cNvPicPr/>
          <p:nvPr/>
        </p:nvPicPr>
        <p:blipFill>
          <a:blip r:embed="rId1"/>
          <a:stretch/>
        </p:blipFill>
        <p:spPr>
          <a:xfrm>
            <a:off x="971640" y="836640"/>
            <a:ext cx="7272360" cy="545472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436572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вадраты сидерических периодов обращений двух планет относятся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как кубы больших полуосей их орб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3132000" y="386064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Третий закон Кепл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1343"/>
          <p:cNvPicPr/>
          <p:nvPr/>
        </p:nvPicPr>
        <p:blipFill>
          <a:blip r:embed="rId1"/>
          <a:stretch/>
        </p:blipFill>
        <p:spPr>
          <a:xfrm>
            <a:off x="3780000" y="5013360"/>
            <a:ext cx="1331640" cy="10000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9"/>
          <p:cNvSpPr/>
          <p:nvPr/>
        </p:nvSpPr>
        <p:spPr>
          <a:xfrm>
            <a:off x="0" y="1844640"/>
            <a:ext cx="9144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ждая планета движется по эллипсу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одном из фокусов которого находится Солнц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3059280" y="126828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ервый закон Кепл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313200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Второй закон Кепл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0" y="3141720"/>
            <a:ext cx="9144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диус-вектор планеты за равные промежутки времени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описывает равные площади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0" y="333360"/>
            <a:ext cx="9144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еплер исследовал движения всех известных в то время планет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эмпирическ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вывел три закона движения планет относительно Солн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755640" y="836640"/>
            <a:ext cx="7777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Какое расстояние называетс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строномической единицей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0" y="1628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реднее расстояние Земли от Солнца называется астрономической единиц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684360" y="2708280"/>
            <a:ext cx="7777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Чему равна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дна астрономическая единица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0" y="3429000"/>
            <a:ext cx="914400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 а.е. = 149 600 000 к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c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436572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вадраты сидерических периодов обращений двух планет относятся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как кубы больших полуосей их орб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3132000" y="386064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Третий закон Кепл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1343"/>
          <p:cNvPicPr/>
          <p:nvPr/>
        </p:nvPicPr>
        <p:blipFill>
          <a:blip r:embed="rId1"/>
          <a:stretch/>
        </p:blipFill>
        <p:spPr>
          <a:xfrm>
            <a:off x="3780000" y="5013360"/>
            <a:ext cx="1331640" cy="10000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5"/>
          <p:cNvSpPr/>
          <p:nvPr/>
        </p:nvSpPr>
        <p:spPr>
          <a:xfrm>
            <a:off x="0" y="907920"/>
            <a:ext cx="9144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ждая планета движется по эллипсу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одном из фокусов которого находится Солнц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3132000" y="333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ервый закон Кепл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3132000" y="2133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Второй закон Кепл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0" y="2708280"/>
            <a:ext cx="9144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диус-вектор планеты за равные промежутки времени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описывает равные площади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1979640" y="0"/>
            <a:ext cx="716436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мечено, что противостояния некоторой              планеты повторяются через 2 года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му равна большая полуось ее орбит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1"/>
          <a:stretch/>
        </p:blipFill>
        <p:spPr>
          <a:xfrm>
            <a:off x="6948360" y="2133720"/>
            <a:ext cx="2195640" cy="2057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"/>
          <p:cNvPicPr/>
          <p:nvPr/>
        </p:nvPicPr>
        <p:blipFill>
          <a:blip r:embed="rId2"/>
          <a:stretch/>
        </p:blipFill>
        <p:spPr>
          <a:xfrm>
            <a:off x="4788000" y="2205000"/>
            <a:ext cx="2089080" cy="20764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"/>
          <p:cNvPicPr/>
          <p:nvPr/>
        </p:nvPicPr>
        <p:blipFill>
          <a:blip r:embed="rId3"/>
          <a:stretch/>
        </p:blipFill>
        <p:spPr>
          <a:xfrm>
            <a:off x="0" y="2205000"/>
            <a:ext cx="2195640" cy="2151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"/>
          <p:cNvPicPr/>
          <p:nvPr/>
        </p:nvPicPr>
        <p:blipFill>
          <a:blip r:embed="rId4"/>
          <a:stretch/>
        </p:blipFill>
        <p:spPr>
          <a:xfrm>
            <a:off x="2340000" y="2133720"/>
            <a:ext cx="2211480" cy="22399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1"/>
          <p:cNvSpPr/>
          <p:nvPr/>
        </p:nvSpPr>
        <p:spPr>
          <a:xfrm>
            <a:off x="0" y="4508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3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3"/>
          <p:cNvSpPr/>
          <p:nvPr/>
        </p:nvSpPr>
        <p:spPr>
          <a:xfrm>
            <a:off x="250920" y="1890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ffff"/>
                </a:solidFill>
                <a:latin typeface="Arial"/>
              </a:rPr>
              <a:t>Задач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4"/>
          <p:cNvSpPr/>
          <p:nvPr/>
        </p:nvSpPr>
        <p:spPr>
          <a:xfrm flipV="1">
            <a:off x="395280" y="2276640"/>
            <a:ext cx="1297080" cy="2016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5"/>
          <p:cNvSpPr/>
          <p:nvPr/>
        </p:nvSpPr>
        <p:spPr>
          <a:xfrm>
            <a:off x="2268360" y="3141720"/>
            <a:ext cx="2376720" cy="3585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6"/>
          <p:cNvSpPr/>
          <p:nvPr/>
        </p:nvSpPr>
        <p:spPr>
          <a:xfrm>
            <a:off x="4643280" y="3213000"/>
            <a:ext cx="2376720" cy="1447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7"/>
          <p:cNvSpPr/>
          <p:nvPr/>
        </p:nvSpPr>
        <p:spPr>
          <a:xfrm>
            <a:off x="7596360" y="2133720"/>
            <a:ext cx="792000" cy="20872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3492360" y="6458040"/>
            <a:ext cx="2735280" cy="40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rezentacii.c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91 -0.00301 L -0.37986 0.12277 E">
                                      <p:cBhvr>
                                        <p:cTn id="112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" dur="2000" fill="hold"/>
                                        <p:tgtEl>
                                          <p:spTgt spid="1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древнейших времен считалось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 небесные тела движутся по «идеальным кривым» - окружностя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4716360" y="5516640"/>
            <a:ext cx="388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Геоцентрическая система Птолеме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1" descr="1191"/>
          <p:cNvPicPr/>
          <p:nvPr/>
        </p:nvPicPr>
        <p:blipFill>
          <a:blip r:embed="rId1"/>
          <a:stretch/>
        </p:blipFill>
        <p:spPr>
          <a:xfrm>
            <a:off x="4859280" y="1700280"/>
            <a:ext cx="3598920" cy="35989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3"/>
          <p:cNvSpPr/>
          <p:nvPr/>
        </p:nvSpPr>
        <p:spPr>
          <a:xfrm>
            <a:off x="250920" y="5516640"/>
            <a:ext cx="3924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Клавдий Птолем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(ок. 90 – ок. 16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4" descr="slide0016_image006"/>
          <p:cNvPicPr/>
          <p:nvPr/>
        </p:nvPicPr>
        <p:blipFill>
          <a:blip r:embed="rId2"/>
          <a:stretch/>
        </p:blipFill>
        <p:spPr>
          <a:xfrm>
            <a:off x="826920" y="1700280"/>
            <a:ext cx="3054600" cy="370980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теории Николая Коперника, создателя гелиоцентрической системы мира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руговое движение также не подвергалось сомн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900000" y="5734080"/>
            <a:ext cx="230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Николай Коперни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(1473–1543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00040301"/>
          <p:cNvPicPr/>
          <p:nvPr/>
        </p:nvPicPr>
        <p:blipFill>
          <a:blip r:embed="rId1"/>
          <a:stretch/>
        </p:blipFill>
        <p:spPr>
          <a:xfrm>
            <a:off x="826920" y="1844640"/>
            <a:ext cx="2862360" cy="3816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1199"/>
          <p:cNvPicPr/>
          <p:nvPr/>
        </p:nvPicPr>
        <p:blipFill>
          <a:blip r:embed="rId2"/>
          <a:stretch/>
        </p:blipFill>
        <p:spPr>
          <a:xfrm>
            <a:off x="4643280" y="1844640"/>
            <a:ext cx="3816360" cy="38163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4211640" y="5734080"/>
            <a:ext cx="46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Гелиоцентрическая система мира Коперн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57960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блюдаемое положение планет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не соответствовало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двычисленному в соответствии с теорией кругового движения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планет вокруг Солн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0" y="1989000"/>
            <a:ext cx="58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Поч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0" y="3213000"/>
            <a:ext cx="57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V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ке ответ на этот вопрос искал немецкий астроном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Иоганн Кеплер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6" descr="00040601"/>
          <p:cNvPicPr/>
          <p:nvPr/>
        </p:nvPicPr>
        <p:blipFill>
          <a:blip r:embed="rId1"/>
          <a:stretch/>
        </p:blipFill>
        <p:spPr>
          <a:xfrm>
            <a:off x="5867280" y="1341360"/>
            <a:ext cx="3025800" cy="40323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7"/>
          <p:cNvSpPr/>
          <p:nvPr/>
        </p:nvSpPr>
        <p:spPr>
          <a:xfrm>
            <a:off x="5867280" y="5445000"/>
            <a:ext cx="2881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Иоганн Кепле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(1571–163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4" descr="00040401"/>
          <p:cNvPicPr/>
          <p:nvPr/>
        </p:nvPicPr>
        <p:blipFill>
          <a:blip r:embed="rId1"/>
          <a:stretch/>
        </p:blipFill>
        <p:spPr>
          <a:xfrm>
            <a:off x="684360" y="1628640"/>
            <a:ext cx="3078000" cy="4104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25"/>
          <p:cNvSpPr/>
          <p:nvPr/>
        </p:nvSpPr>
        <p:spPr>
          <a:xfrm>
            <a:off x="684360" y="5950080"/>
            <a:ext cx="28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Тихо Браг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(1546-160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6"/>
          <p:cNvSpPr/>
          <p:nvPr/>
        </p:nvSpPr>
        <p:spPr>
          <a:xfrm>
            <a:off x="0" y="26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оганн Кепле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учал движение Марса по результатам многолетних наблюдений датского астронома Тихо Браг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2" descr="5"/>
          <p:cNvPicPr/>
          <p:nvPr/>
        </p:nvPicPr>
        <p:blipFill>
          <a:blip r:embed="rId2"/>
          <a:stretch/>
        </p:blipFill>
        <p:spPr>
          <a:xfrm>
            <a:off x="4788000" y="1197000"/>
            <a:ext cx="3898800" cy="5079960"/>
          </a:xfrm>
          <a:prstGeom prst="rect">
            <a:avLst/>
          </a:prstGeom>
          <a:ln w="9360">
            <a:solidFill>
              <a:srgbClr val="333333"/>
            </a:solidFill>
            <a:miter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22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Эллипс 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ределяется как геометрическое место точек, для которых сумма расстояний от двух заданных точек (фокусов F1 и F2)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ть величина постоянная и равная длине большой оси.</a:t>
            </a:r>
            <a:br>
              <a:rPr sz="1800"/>
            </a:br>
            <a:br>
              <a:rPr sz="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Линия, соединяющая любую точку эллипса с одним из его фокусов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зывается 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радиусом-векторо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этой точки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1205"/>
          <p:cNvPicPr/>
          <p:nvPr/>
        </p:nvPicPr>
        <p:blipFill>
          <a:blip r:embed="rId1"/>
          <a:stretch/>
        </p:blipFill>
        <p:spPr>
          <a:xfrm>
            <a:off x="4211640" y="2781360"/>
            <a:ext cx="4753080" cy="356544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8"/>
          <p:cNvSpPr/>
          <p:nvPr/>
        </p:nvSpPr>
        <p:spPr>
          <a:xfrm>
            <a:off x="0" y="260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оганн Кеплер обнаружил, чт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орбита Марса не окружность, а эллипс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395280" y="2924280"/>
            <a:ext cx="378000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епень отличия эллипса от окружности характеризует его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эксцентриситет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рав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ношению расстояний между фокусами к большой оси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е =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F1F2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 /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A1A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 совпадении фокусов (е = 0) эллипс превращается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 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окружност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8"/>
          <p:cNvSpPr/>
          <p:nvPr/>
        </p:nvSpPr>
        <p:spPr>
          <a:xfrm>
            <a:off x="0" y="189000"/>
            <a:ext cx="91440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коны Кеплера применимы не только к движению планет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 и к движению их естественных и искусственных спут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4" descr="slide0025_image019"/>
          <p:cNvPicPr/>
          <p:nvPr/>
        </p:nvPicPr>
        <p:blipFill>
          <a:blip r:embed="rId1"/>
          <a:stretch/>
        </p:blipFill>
        <p:spPr>
          <a:xfrm>
            <a:off x="0" y="1074600"/>
            <a:ext cx="6877080" cy="42912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5" descr=""/>
          <p:cNvPicPr/>
          <p:nvPr/>
        </p:nvPicPr>
        <p:blipFill>
          <a:blip r:embed="rId2"/>
          <a:srcRect l="2104" t="2954" r="0" b="0"/>
          <a:stretch/>
        </p:blipFill>
        <p:spPr>
          <a:xfrm>
            <a:off x="5183280" y="3573360"/>
            <a:ext cx="3960720" cy="279720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907560"/>
            <a:ext cx="91440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ждая планета движется по эллипсу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одном из фокусов которого находится Солнц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0" y="260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ервый закон Кеплер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1345"/>
          <p:cNvPicPr/>
          <p:nvPr/>
        </p:nvPicPr>
        <p:blipFill>
          <a:blip r:embed="rId1"/>
          <a:stretch/>
        </p:blipFill>
        <p:spPr>
          <a:xfrm>
            <a:off x="2050920" y="2060640"/>
            <a:ext cx="5256360" cy="34653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1835280" y="2133720"/>
            <a:ext cx="433080" cy="370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2050920" y="5445000"/>
            <a:ext cx="561672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1835280" y="5589720"/>
            <a:ext cx="56894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Иллюстрация первого закона Кепле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ccffff"/>
                </a:solidFill>
                <a:latin typeface="Arial"/>
              </a:rPr>
              <a:t>на примере движения спутников Земл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рбиты планет – эллипсы, мало отличающиеся от окружностей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ак как их эксцентриситеты ма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0" y="981000"/>
            <a:ext cx="3132000" cy="2782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2403"/>
          <p:cNvPicPr/>
          <p:nvPr/>
        </p:nvPicPr>
        <p:blipFill>
          <a:blip r:embed="rId2"/>
          <a:srcRect l="50601" t="0" r="0" b="0"/>
          <a:stretch/>
        </p:blipFill>
        <p:spPr>
          <a:xfrm>
            <a:off x="2625840" y="3933720"/>
            <a:ext cx="2595600" cy="2627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3"/>
          <a:stretch/>
        </p:blipFill>
        <p:spPr>
          <a:xfrm>
            <a:off x="5219640" y="3048120"/>
            <a:ext cx="3924360" cy="3809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2403"/>
          <p:cNvPicPr/>
          <p:nvPr/>
        </p:nvPicPr>
        <p:blipFill>
          <a:blip r:embed="rId4"/>
          <a:srcRect l="0" t="0" r="49989" b="0"/>
          <a:stretch/>
        </p:blipFill>
        <p:spPr>
          <a:xfrm>
            <a:off x="3203640" y="907920"/>
            <a:ext cx="2560680" cy="259236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0T13:33:46Z</dcterms:created>
  <dc:creator>Victor</dc:creator>
  <dc:description/>
  <dc:language>en-US</dc:language>
  <cp:lastModifiedBy>LEGION</cp:lastModifiedBy>
  <dcterms:modified xsi:type="dcterms:W3CDTF">2015-01-12T09:12:44Z</dcterms:modified>
  <cp:revision>58</cp:revision>
  <dc:subject/>
  <dc:title>Законы Кеплера - законы движения небесных тел</dc:title>
</cp:coreProperties>
</file>