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A0B0-340C-4753-9D54-B8F7BE68A6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9083-FDB3-4CD9-B55C-806F0B51AB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аметр 3476 к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са Луны в 81 раз меньше массы Зем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нее расстояние до Земли 3844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ература поверхности от –170 лунной ночью до +160 лунным днем, но лунный грунт плохо проводит тепло и поэтому уже на глубине около 10 см эти колебания выравниваютс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тки длятся 708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ледняя экспедиция на Луне побывала в 1972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еориты перестали бомбордировать Луну примерно 4 миллиарда лет наза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движется по орбите против часовой стрелки со скоростью 1 км/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сама не светится, а лишь отражает солнечные луч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ные моря носят такие названия (Ясности, Нежности и пр.) поскольку люди считали, что Луна управляет погодой и чувств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емля всегда видна над Лунным горизон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в 400 раз меньше Солнца, но примерно в 400 раз ближе к Земле. Поэтому видимые размеры Солнца и Луны примерно одинако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южном полюсе Луны мог сохраниться ле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темная, никогда не видимая с Земли сторона Лу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юди впервые увидели темную сторону Луны только в 1959 году, когда станция «Луна 3» сделала ее сним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отя Луна и вращается вокруг своей собственной оси, но делает это очень медленно - 27.3 суток. Почти за это же время она оборачивается вокруг Земли. И поскольку направления вращения совпадают, то получается так, что к Земле она всегда повернута только одной стороно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4EAF-9710-462D-B624-147BA26CC2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унные затм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огда мы можем наблюдать явление, которое называется лунное затмение. Оно происходит тогда, когда Солнце, Земля и Луна оказываются на одной прямой и Земля закрывает Луну от Солнца своей тен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мение может быть не только полным, но и частичным. В этом случае тень Земли попадает не всю Луну, а только на ее кусочек. Лунное затмение может продолжаться до 1 ча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36C1-E66C-4ED3-8CF8-FF37C85D61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Фазы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ы будешь внимательно наблюдать за Луной в течении месяца, то заметишь, что Луна всегда видна по-разному – то тоненький серп, то круглый блин. Иногда ее «концы» направлены в одну сторону, а иногда в другую. Эти изменения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фазами Луны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BB1A-4CF0-4407-8B0E-0DD2CF327A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а этой фотографии очень хорошо видна Луна в новолу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D301-51CA-4666-B86E-8DA289B00E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А тут - полнолу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1D25-A472-462F-8EDE-D29757C8EC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труктура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0652-7E2C-4133-A521-E24D1C816E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Луна это единственный спутник нашей плане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Луна вращается вокруг Земли по</a:t>
            </a:r>
            <a:r>
              <a:rPr b="1" lang="en-IE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воей собственной </a:t>
            </a:r>
            <a:r>
              <a:rPr b="1" lang="ru-RU" sz="800" spc="-1" strike="noStrike">
                <a:solidFill>
                  <a:srgbClr val="ffffff"/>
                </a:solidFill>
                <a:latin typeface="Verdana"/>
              </a:rPr>
              <a:t>(эллипсовидной)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орбите. Полный круг вокруг Земли Луна делает за 29,5 дне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160E-DAC6-4895-B2E9-14D66D5513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евние греки называли Луну Селе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название «Луна» пришло к нам от древних римля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CD11-7101-4D6E-AB17-F33D3B367D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аметр Луны почти в 4 раза меньше диаметра Зем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20E6-F52D-4A41-A000-429F02E18F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смотреть на Луну с Земли, то она выглядит небольшим пятнистым шаром, но в телескоп, или даже в хороший бинокль, видно, что это не так – на Луне есть горы и много крате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5ED8-2E82-4B2C-9CC8-CEA0D19089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убления в поверхности Луны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ерам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 лет назад ученый Галилео Галилей назвал их морями. Теперь мы уже знаем, что никаких морей на луне нет, но по традиции кратеры сохранили свои названия. У многих из них необычны для Земли – Море Изобилия, Море Холода, Море Дождей, Море Ясности, Море П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атеры поменьше носят имена знаменитых людей – Тихо Браге, Коперника, Птоломея, Юрия Гагари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4828-BF23-40BE-A82E-377F3C7BFF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это Лунные горы. Их названия вполне земные – Кавказ, Алтай, Карпаты, Альпы, Апенины, Перинеи, Тенерифе. Высота гор может доходить до 8 км, но обычно она составляет 3-5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453A-4034-4EFF-B1A5-BB52A8EBF8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мотри, как, по предположению ученых много лет назад образовались лунные кратеры. В наши времена новые кратеры уже не образуются, потому что в космосе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чти не осталось крупных метеори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E124-78A0-4073-B89C-380B2275D3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небольшой осколок одного из метеори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1805-6895-458D-8A65-B1A1AEAF6E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DBA-4B25-4E6A-95C3-E5BDC842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E9E-46DF-4EAC-92C6-1CA6388D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B9C-9A1C-4961-A1A6-8202827B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52F-9EB9-4134-AC0C-4EF708DA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7C4-5CDB-4B1C-BA36-842956DC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78B-51A6-450C-9A88-3F82552B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FDC-30F0-4BFC-A459-ACEB20D9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9D3-8060-4B07-BAA0-C666A56A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973-7755-43C1-9BE0-CD36AC7B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AFB-CB62-406E-B49B-C6B79C35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576-814F-4A4D-8382-E1CBEA74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9D6-1968-4DDB-9B87-02B25001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6F1E-B3AD-47CE-B022-3586333122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91440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6600"/>
                </a:solidFill>
                <a:latin typeface="Tahoma"/>
              </a:rPr>
              <a:t>ЛУ</a:t>
            </a:r>
            <a:r>
              <a:rPr b="1" lang="ru-RU" sz="8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Documents and Settings\witaly\My Documents\Lena\Prezentacii\Moi\Luna\Luna i Zemla.jpg"/>
          <p:cNvPicPr/>
          <p:nvPr/>
        </p:nvPicPr>
        <p:blipFill>
          <a:blip r:embed="rId1"/>
          <a:stretch/>
        </p:blipFill>
        <p:spPr>
          <a:xfrm>
            <a:off x="0" y="3638520"/>
            <a:ext cx="4476600" cy="3219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5334120" y="634032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 сноске первого слайда – дополнительная информация о Лу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D:\Documents and Settings\witaly\My Documents\Lena\Prezentacii\Moi\Luna\Luna2_new.jpg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0" y="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cc"/>
                </a:solidFill>
                <a:latin typeface="Times New Roman"/>
              </a:rPr>
              <a:t>Елена Ленн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0" y="4952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тя Луна и вращается вокруг своей собственной оси, но делает это очень медленно - 27.3 суток. Почти за это же время она оборачивается вокруг Земли. И поскольку направления вращения совпадают, то получается так, что к Земле она всегда повернута только одной стороной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495680" y="304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темная, никогда не видимая с Земли сторона Лу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5680" y="167652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ди впервые увидели темную сторону Луны только в 1959 году, когда станция «Луна 3» сделала ее сним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D:\Documents and Settings\witaly\My Documents\Lena\Prezentacii\Moi\Luna\Temnaja storona Luni_new.jpg"/>
          <p:cNvPicPr/>
          <p:nvPr/>
        </p:nvPicPr>
        <p:blipFill>
          <a:blip r:embed="rId1"/>
          <a:stretch/>
        </p:blipFill>
        <p:spPr>
          <a:xfrm>
            <a:off x="228600" y="228600"/>
            <a:ext cx="4162320" cy="42670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4343400"/>
            <a:ext cx="914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огда мы можем наблюдать явление, которое называется лунное затмение. Оно происходит тогда, когда Солнце, Земля и Луна оказываются на одной прямой и Земля закрывает Луну от Солнца своей тень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тмение может быть не только полным, но и частичным. В этом случае тень Земли попадает не всю Луну, а только на ее кусочек. Лунное затмение может продолжаться до 1 час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F:\jpeg\solar system\Lunar eclipse.jpg"/>
          <p:cNvPicPr/>
          <p:nvPr/>
        </p:nvPicPr>
        <p:blipFill>
          <a:blip r:embed="rId1"/>
          <a:stretch/>
        </p:blipFill>
        <p:spPr>
          <a:xfrm>
            <a:off x="1066680" y="762120"/>
            <a:ext cx="6661440" cy="2977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752480" y="15228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Лунные затм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jpeg\solar system\Moon phases.jpg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4335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762120" y="228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азы Лу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49528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ты будешь внимательно наблюдать за Луной в течении месяца, то заметишь, что Луна всегда видна по-разному – то тоненький серп, то круглый блин. Иногда ее «концы» направлены в одну сторону, а иногда в другую. Эти изменения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азами Лун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:\ELENA\PowerPoint\Materiali dla prezentacij\KOSMOS\Luna\20050411-ar2.jpg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этой фотографии очень хорошо видна Луна в новолуни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33520" y="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 тут - полнолу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F:\ELENA\PowerPoint\Materiali dla prezentacij\KOSMOS\Luna\full moon.jpg"/>
          <p:cNvPicPr/>
          <p:nvPr/>
        </p:nvPicPr>
        <p:blipFill>
          <a:blip r:embed="rId1"/>
          <a:stretch/>
        </p:blipFill>
        <p:spPr>
          <a:xfrm>
            <a:off x="0" y="91440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95280" y="17524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486400" y="167652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 корой находится мантия и малое ядро. Его радиус около 340 км, а масса примерно 2 </a:t>
            </a: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т массы всей  Луны. Мантия Луны не расплавлена полностью, как мантия Земли. Поэтому на Луне нет вулка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F:\jpeg\space factfile\Moon cutaway.jpg"/>
          <p:cNvPicPr/>
          <p:nvPr/>
        </p:nvPicPr>
        <p:blipFill>
          <a:blip r:embed="rId1"/>
          <a:stretch/>
        </p:blipFill>
        <p:spPr>
          <a:xfrm>
            <a:off x="3048120" y="1066680"/>
            <a:ext cx="2342880" cy="3810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F:\jpeg\space factfile\Earth cutaway.jpg"/>
          <p:cNvPicPr/>
          <p:nvPr/>
        </p:nvPicPr>
        <p:blipFill>
          <a:blip r:embed="rId2"/>
          <a:stretch/>
        </p:blipFill>
        <p:spPr>
          <a:xfrm>
            <a:off x="0" y="2057400"/>
            <a:ext cx="843120" cy="137160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 flipV="1">
            <a:off x="3809880" y="2971440"/>
            <a:ext cx="182880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456840" y="2743200"/>
            <a:ext cx="6858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3505320"/>
            <a:ext cx="297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выглядит структура Земли. Желтое - это раплавленная магма внутри земного шара. Иногда она вырывается на поверхность. Люди называют это извержением вулкан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4191120" y="228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лщина лунной коры около 60 к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 flipH="1">
            <a:off x="4876560" y="838080"/>
            <a:ext cx="1143000" cy="106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0" y="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Лу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533520" y="198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9"/>
          <p:cNvGrpSpPr/>
          <p:nvPr/>
        </p:nvGrpSpPr>
        <p:grpSpPr>
          <a:xfrm>
            <a:off x="5638680" y="1981080"/>
            <a:ext cx="3352680" cy="3047760"/>
            <a:chOff x="5638680" y="1981080"/>
            <a:chExt cx="3352680" cy="3047760"/>
          </a:xfrm>
        </p:grpSpPr>
        <p:sp>
          <p:nvSpPr>
            <p:cNvPr id="121" name="Line 16"/>
            <p:cNvSpPr/>
            <p:nvPr/>
          </p:nvSpPr>
          <p:spPr>
            <a:xfrm>
              <a:off x="5638680" y="5028840"/>
              <a:ext cx="3352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7"/>
            <p:cNvSpPr/>
            <p:nvPr/>
          </p:nvSpPr>
          <p:spPr>
            <a:xfrm flipV="1">
              <a:off x="8991360" y="1981080"/>
              <a:ext cx="0" cy="3047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8"/>
            <p:cNvSpPr/>
            <p:nvPr/>
          </p:nvSpPr>
          <p:spPr>
            <a:xfrm>
              <a:off x="8601840" y="1981080"/>
              <a:ext cx="389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80880" y="3808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на это единственный спутник нашей планет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57150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на вращается вокруг Земли по</a:t>
            </a:r>
            <a:r>
              <a:rPr b="1" lang="en-IE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воей собственной </a:t>
            </a:r>
            <a:r>
              <a:rPr b="1" lang="ru-RU" sz="900" spc="-1" strike="noStrike">
                <a:solidFill>
                  <a:srgbClr val="ffffff"/>
                </a:solidFill>
                <a:latin typeface="Verdana"/>
              </a:rPr>
              <a:t>(эллипсовидной)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орбите. Полный круг вокруг Земли Луна делает за 29,5 дней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D:\Documents and Settings\witaly\My Documents\Lena\Prezentacii\Moi\Luna\Zemlja s Lunoi_new.jpg"/>
          <p:cNvPicPr/>
          <p:nvPr/>
        </p:nvPicPr>
        <p:blipFill>
          <a:blip r:embed="rId1"/>
          <a:stretch/>
        </p:blipFill>
        <p:spPr>
          <a:xfrm>
            <a:off x="2514600" y="1219320"/>
            <a:ext cx="4191120" cy="3840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57200" y="42670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название «Луна» пришло к нам от древних римля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5812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ревние греки называли Луну Селен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F:\ELENA\PowerPoint\Materiali dla prezentacij\KOSMOS\Luna\RomaColosseo.jpg"/>
          <p:cNvPicPr/>
          <p:nvPr/>
        </p:nvPicPr>
        <p:blipFill>
          <a:blip r:embed="rId1"/>
          <a:stretch/>
        </p:blipFill>
        <p:spPr>
          <a:xfrm>
            <a:off x="4800600" y="3384720"/>
            <a:ext cx="4343400" cy="347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F:\ELENA\PowerPoint\Materiali dla prezentacij\KOSMOS\Luna\Fotos\Poverhnost\Luna1_new.jpg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97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F:\ELENA\PowerPoint\Materiali dla prezentacij\KOSMOS\Luna\Dr_grecija.jpg"/>
          <p:cNvPicPr/>
          <p:nvPr/>
        </p:nvPicPr>
        <p:blipFill>
          <a:blip r:embed="rId3"/>
          <a:stretch/>
        </p:blipFill>
        <p:spPr>
          <a:xfrm>
            <a:off x="0" y="0"/>
            <a:ext cx="3581280" cy="26827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jpeg\space factfile\Earth Moon.jpg"/>
          <p:cNvPicPr/>
          <p:nvPr/>
        </p:nvPicPr>
        <p:blipFill>
          <a:blip r:embed="rId1"/>
          <a:stretch/>
        </p:blipFill>
        <p:spPr>
          <a:xfrm>
            <a:off x="2209680" y="380880"/>
            <a:ext cx="4876920" cy="4711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80880" y="54864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аметр Луны почти в 4 раза меньше диаметра Зем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0" y="54100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смотреть на Луну с Земли, то она выглядит небольшим пятнистым шаром, но в телескоп, или даже в хороший бинокль, видно, что это не так – на Луне есть горы и много кратер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Documents and Settings\witaly\My Documents\Lena\Prezentacii\Moi\Luna\Luna1_new.jpg"/>
          <p:cNvPicPr/>
          <p:nvPr/>
        </p:nvPicPr>
        <p:blipFill>
          <a:blip r:embed="rId1"/>
          <a:stretch/>
        </p:blipFill>
        <p:spPr>
          <a:xfrm>
            <a:off x="2286000" y="457200"/>
            <a:ext cx="4724280" cy="4365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0" y="457200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ного лет назад ученый Галилео Галилей назвал их морями. Теперь мы уже знаем, что никаких морей на луне нет, но по традиции кратеры сохранили свои названия. У многих из них необычны для Земли – Море Изобилия, Море Холода, Море Дождей, Море Ясности, Море Па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атеры поменьше носят имена знаменитых людей – Тихо Браге, Коперника, Птоломея, Юрия Гагари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495680" y="2971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лубления в поверхности Луны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ерам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D:\Documents and Settings\witaly\My Documents\Lena\Prezentacii\Moi\Luna\Krateri_new.jpg"/>
          <p:cNvPicPr/>
          <p:nvPr/>
        </p:nvPicPr>
        <p:blipFill>
          <a:blip r:embed="rId1"/>
          <a:stretch/>
        </p:blipFill>
        <p:spPr>
          <a:xfrm>
            <a:off x="0" y="0"/>
            <a:ext cx="4572000" cy="40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D:\Documents and Settings\witaly\My Documents\Lena\Prezentacii\Moi\Luna\Krateri3_new.jpg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26798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541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это Лунные горы. Их названия вполне земные – Кавказ, Алтай, Карпаты, Альпы, Апенины, Перинеи, Тенерифе. Высота гор может доходить до 8 км, но обычно она составляет 3-5 к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D:\Documents and Settings\witaly\My Documents\Lena\Prezentacii\Moi\Luna\Krateri2_new.jpg"/>
          <p:cNvPicPr/>
          <p:nvPr/>
        </p:nvPicPr>
        <p:blipFill>
          <a:blip r:embed="rId1"/>
          <a:stretch/>
        </p:blipFill>
        <p:spPr>
          <a:xfrm>
            <a:off x="2133720" y="380880"/>
            <a:ext cx="4952880" cy="444024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F:\jpeg\space factfile\Crater forms.jpg"/>
          <p:cNvPicPr/>
          <p:nvPr/>
        </p:nvPicPr>
        <p:blipFill>
          <a:blip r:embed="rId1"/>
          <a:stretch/>
        </p:blipFill>
        <p:spPr>
          <a:xfrm>
            <a:off x="152280" y="2362320"/>
            <a:ext cx="8686800" cy="3475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28600" y="228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мотри, как, по предположению ученых много лет назад образовались лунные кратеры. В наши времена новые кратеры уже не образуются, потому что в космос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ти не осталось крупных метеори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629400" y="1600200"/>
            <a:ext cx="251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риближается метеори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 flipH="1">
            <a:off x="7772400" y="2209680"/>
            <a:ext cx="763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095880" y="411480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н сталкивается с поверхностью и образует столп пы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 flipH="1" flipV="1">
            <a:off x="6324480" y="3352320"/>
            <a:ext cx="91440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7200" y="21337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ле того, как пыль осядет, становится видно, что на поверхности образовалась вмятина, а в ее центре -  возвышен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04920" y="56386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кольку в то время на Луне еще были вулканы, то потоки лавы во время извержений заполнили кратеры и они стали менее глубоки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Documents and Settings\witaly\My Documents\Lena\Prezentacii\Moi\Luna\Meteorit na Lune_new.jpg"/>
          <p:cNvPicPr/>
          <p:nvPr/>
        </p:nvPicPr>
        <p:blipFill>
          <a:blip r:embed="rId1"/>
          <a:stretch/>
        </p:blipFill>
        <p:spPr>
          <a:xfrm>
            <a:off x="1219320" y="1295280"/>
            <a:ext cx="6476760" cy="4927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914400" y="380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небольшой осколок одного из метеорит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6:33:26Z</dcterms:created>
  <dc:creator>wl</dc:creator>
  <dc:description/>
  <dc:language>en-US</dc:language>
  <cp:lastModifiedBy>LEGION</cp:lastModifiedBy>
  <dcterms:modified xsi:type="dcterms:W3CDTF">2015-01-12T09:14:00Z</dcterms:modified>
  <cp:revision>27</cp:revision>
  <dc:subject/>
  <dc:title>PowerPoint Presentation</dc:title>
</cp:coreProperties>
</file>