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0759-1AE8-4D54-AB0E-BFA7684BDE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06E9-1EBB-42CA-89C1-60368039C0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аметр 3476 к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сса Луны в 81 раз меньше массы Зем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нее расстояние до Земли 384400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пература поверхности от –170 лунной ночью до +160 лунным днем, но лунный грунт плохо проводит тепло и поэтому уже на глубине около 10 см эти колебания выравниваются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тки длятся 708 ч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следняя экспедиция на Луне побывала в 1972 г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еориты перестали бомбордировать Луну примерно 4 миллиарда лет наза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на движется по орбите против часовой стрелки со скоростью 1 км/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на сама не светится, а лишь отражает солнечные луч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нные моря носят такие названия (Ясности, Нежности и пр.) поскольку люди считали, что Луна управляет погодой и чувств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емля всегда видна над Лунным горизонт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на в 400 раз меньше Солнца, но примерно в 400 раз ближе к Земле. Поэтому видимые размеры Солнца и Луны примерно одинако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южном полюсе Луны мог сохраниться ле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темная, никогда не видимая с Земли сторона Лу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юди впервые увидели темную сторону Луны только в 1959 году, когда станция «Луна 3» сделала ее сним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отя Луна и вращается вокруг своей собственной оси, но делает это очень медленно - 27.3 суток. Почти за это же время она оборачивается вокруг Земли. И поскольку направления вращения совпадают, то получается так, что к Земле она всегда повернута только одной стороной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C9D4-C0A6-468D-9C75-7F956AB1DE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унные затм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огда мы можем наблюдать явление, которое называется лунное затмение. Оно происходит тогда, когда Солнце, Земля и Луна оказываются на одной прямой и Земля закрывает Луну от Солнца своей тень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тмение может быть не только полным, но и частичным. В этом случае тень Земли попадает не всю Луну, а только на ее кусочек. Лунное затмение может продолжаться до 1 ча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B36C-9FFA-4C22-8296-BBA2CEC5D1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Фазы Лу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ты будешь внимательно наблюдать за Луной в течении месяца, то заметишь, что Луна всегда видна по-разному – то тоненький серп, то круглый блин. Иногда ее «концы» направлены в одну сторону, а иногда в другую. Эти изменения называю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фазами Луны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84CE-AAAA-4A67-A8E6-14B7B1ACD7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На этой фотографии очень хорошо видна Луна в новолу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56B4-F941-4917-9AF8-D38850E5B4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А тут - полнолу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A311-693E-4865-8975-88ACA7BFD4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труктура Лу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5931-4690-4D93-8173-811A211A65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Луна это единственный спутник нашей планет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Луна вращается вокруг Земли по</a:t>
            </a:r>
            <a:r>
              <a:rPr b="1" lang="en-IE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своей собственной </a:t>
            </a:r>
            <a:r>
              <a:rPr b="1" lang="ru-RU" sz="800" spc="-1" strike="noStrike">
                <a:solidFill>
                  <a:srgbClr val="ffffff"/>
                </a:solidFill>
                <a:latin typeface="Verdana"/>
              </a:rPr>
              <a:t>(эллипсовидной)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орбите. Полный круг вокруг Земли Луна делает за 29,5 дней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D50F-DC73-4904-8ED3-7FE0634B87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ревние греки называли Луну Селе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 название «Луна» пришло к нам от древних римля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9E66-8ED5-4008-A98B-E917D9795D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аметр Луны почти в 4 раза меньше диаметра Зем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73C5-E42E-483B-A2A4-0AC918D938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смотреть на Луну с Земли, то она выглядит небольшим пятнистым шаром, но в телескоп, или даже в хороший бинокль, видно, что это не так – на Луне есть горы и много крате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30B9-4CBD-4DC2-B099-7FE50519DD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глубления в поверхности Луны называю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ратерам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ного лет назад ученый Галилео Галилей назвал их морями. Теперь мы уже знаем, что никаких морей на луне нет, но по традиции кратеры сохранили свои названия. У многих из них необычны для Земли – Море Изобилия, Море Холода, Море Дождей, Море Ясности, Море Па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атеры поменьше носят имена знаменитых людей – Тихо Браге, Коперника, Птоломея, Юрия Гагари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7CE7-B965-4B1F-BB21-B9678FE5CF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 это Лунные горы. Их названия вполне земные – Кавказ, Алтай, Карпаты, Альпы, Апенины, Перинеи, Тенерифе. Высота гор может доходить до 8 км, но обычно она составляет 3-5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D696-B5C2-4944-BC9D-2CFC7C8A77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мотри, как, по предположению ученых много лет назад образовались лунные кратеры. В наши времена новые кратеры уже не образуются, потому что в космосе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чти не осталось крупных метеори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8B82-C236-46D6-BEFF-91B4740FB7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небольшой осколок одного из метеори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E7E1-2125-4337-9516-40F9F32973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57A5-6C07-4F94-B8CF-CA3B92D1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4732-4251-46C6-AC76-059292A3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989D-CD74-4F32-84A7-98CD71C3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5372-C885-4678-87F2-7A9AE3A7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6D81-4BFB-4F45-87D3-061D6D78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196C-2D4A-4F10-A88D-E11A9035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A78D-D7C1-419B-8D2E-F687EADF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B877-F565-4ECA-8DB1-10B56E96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4603-9BEB-4F20-A364-8CAD6443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E062-2AD9-48CD-A2BD-06FF65D0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A3DB-BB29-447E-8852-76C64DEB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9DDC-E231-4BD2-8424-AB1776C5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9BEC-B891-4AAC-9770-D046D485FD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914400"/>
            <a:ext cx="556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6600"/>
                </a:solidFill>
                <a:latin typeface="Tahoma"/>
              </a:rPr>
              <a:t>ЛУ</a:t>
            </a:r>
            <a:r>
              <a:rPr b="1" lang="ru-RU" sz="8800" spc="-1" strike="noStrike">
                <a:solidFill>
                  <a:srgbClr val="000000"/>
                </a:solidFill>
                <a:latin typeface="Tahoma"/>
              </a:rPr>
              <a:t>Н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C:\Documents and Settings\witaly\My Documents\Lena\Prezentacii\Moi\Luna\Luna i Zemla.jpg"/>
          <p:cNvPicPr/>
          <p:nvPr/>
        </p:nvPicPr>
        <p:blipFill>
          <a:blip r:embed="rId1"/>
          <a:stretch/>
        </p:blipFill>
        <p:spPr>
          <a:xfrm>
            <a:off x="0" y="3638520"/>
            <a:ext cx="4476600" cy="3219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5334120" y="634032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 сноске первого слайда – дополнительная информация о Лун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D:\Documents and Settings\witaly\My Documents\Lena\Prezentacii\Moi\Luna\Luna2_new.jpg"/>
          <p:cNvPicPr/>
          <p:nvPr/>
        </p:nvPicPr>
        <p:blipFill>
          <a:blip r:embed="rId2"/>
          <a:stretch/>
        </p:blipFill>
        <p:spPr>
          <a:xfrm>
            <a:off x="5969160" y="0"/>
            <a:ext cx="3174840" cy="3048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0" y="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cc"/>
                </a:solidFill>
                <a:latin typeface="Times New Roman"/>
              </a:rPr>
              <a:t>Елена Ленн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0" y="4952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отя Луна и вращается вокруг своей собственной оси, но делает это очень медленно - 27.3 суток. Почти за это же время она оборачивается вокруг Земли. И поскольку направления вращения совпадают, то получается так, что к Земле она всегда повернута только одной стороной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495680" y="3049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темная, никогда не видимая с Земли сторона Лу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495680" y="167652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юди впервые увидели темную сторону Луны только в 1959 году, когда станция «Луна 3» сделала ее сним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8" descr="D:\Documents and Settings\witaly\My Documents\Lena\Prezentacii\Moi\Luna\Temnaja storona Luni_new.jpg"/>
          <p:cNvPicPr/>
          <p:nvPr/>
        </p:nvPicPr>
        <p:blipFill>
          <a:blip r:embed="rId1"/>
          <a:stretch/>
        </p:blipFill>
        <p:spPr>
          <a:xfrm>
            <a:off x="228600" y="228600"/>
            <a:ext cx="4162320" cy="42670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4343400"/>
            <a:ext cx="9144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огда мы можем наблюдать явление, которое называется лунное затмение. Оно происходит тогда, когда Солнце, Земля и Луна оказываются на одной прямой и Земля закрывает Луну от Солнца своей тенью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тмение может быть не только полным, но и частичным. В этом случае тень Земли попадает не всю Луну, а только на ее кусочек. Лунное затмение может продолжаться до 1 час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F:\jpeg\solar system\Lunar eclipse.jpg"/>
          <p:cNvPicPr/>
          <p:nvPr/>
        </p:nvPicPr>
        <p:blipFill>
          <a:blip r:embed="rId1"/>
          <a:stretch/>
        </p:blipFill>
        <p:spPr>
          <a:xfrm>
            <a:off x="1066680" y="762120"/>
            <a:ext cx="6661440" cy="29779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1752480" y="152280"/>
            <a:ext cx="541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Лунные затм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E:\jpeg\solar system\Moon phases.jpg"/>
          <p:cNvPicPr/>
          <p:nvPr/>
        </p:nvPicPr>
        <p:blipFill>
          <a:blip r:embed="rId1"/>
          <a:stretch/>
        </p:blipFill>
        <p:spPr>
          <a:xfrm>
            <a:off x="304920" y="0"/>
            <a:ext cx="8610480" cy="43354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762120" y="228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азы Лу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85800" y="495288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ли ты будешь внимательно наблюдать за Луной в течении месяца, то заметишь, что Луна всегда видна по-разному – то тоненький серп, то круглый блин. Иногда ее «концы» направлены в одну сторону, а иногда в другую. Эти изменения называются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азами Луны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F:\ELENA\PowerPoint\Materiali dla prezentacij\KOSMOS\Luna\20050411-ar2.jpg"/>
          <p:cNvPicPr/>
          <p:nvPr/>
        </p:nvPicPr>
        <p:blipFill>
          <a:blip r:embed="rId1"/>
          <a:stretch/>
        </p:blipFill>
        <p:spPr>
          <a:xfrm>
            <a:off x="1905120" y="1219320"/>
            <a:ext cx="5410080" cy="54100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0" y="228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а этой фотографии очень хорошо видна Луна в новолуни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533520" y="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 тут - полнолу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F:\ELENA\PowerPoint\Materiali dla prezentacij\KOSMOS\Luna\full moon.jpg"/>
          <p:cNvPicPr/>
          <p:nvPr/>
        </p:nvPicPr>
        <p:blipFill>
          <a:blip r:embed="rId1"/>
          <a:stretch/>
        </p:blipFill>
        <p:spPr>
          <a:xfrm>
            <a:off x="0" y="91440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295280" y="175248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486400" y="1676520"/>
            <a:ext cx="342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 корой находится мантия и малое ядро. Его радиус около 340 км, а масса примерно 2 </a:t>
            </a: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%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от массы всей  Луны. Мантия Луны не расплавлена полностью, как мантия Земли. Поэтому на Луне нет вулкан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F:\jpeg\space factfile\Moon cutaway.jpg"/>
          <p:cNvPicPr/>
          <p:nvPr/>
        </p:nvPicPr>
        <p:blipFill>
          <a:blip r:embed="rId1"/>
          <a:stretch/>
        </p:blipFill>
        <p:spPr>
          <a:xfrm>
            <a:off x="3048120" y="1066680"/>
            <a:ext cx="2342880" cy="3810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F:\jpeg\space factfile\Earth cutaway.jpg"/>
          <p:cNvPicPr/>
          <p:nvPr/>
        </p:nvPicPr>
        <p:blipFill>
          <a:blip r:embed="rId2"/>
          <a:stretch/>
        </p:blipFill>
        <p:spPr>
          <a:xfrm>
            <a:off x="0" y="2057400"/>
            <a:ext cx="843120" cy="137160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H="1" flipV="1">
            <a:off x="3809880" y="2971440"/>
            <a:ext cx="1828800" cy="2057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 flipH="1" flipV="1">
            <a:off x="456840" y="2743200"/>
            <a:ext cx="6858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0" y="3505320"/>
            <a:ext cx="297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 выглядит структура Земли. Желтое - это раплавленная магма внутри земного шара. Иногда она вырывается на поверхность. Люди называют это извержением вулкан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4191120" y="2286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лщина лунной коры около 60 к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 flipH="1">
            <a:off x="4876560" y="838080"/>
            <a:ext cx="1143000" cy="1067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0" y="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уктура Лу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533520" y="1981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ем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9"/>
          <p:cNvGrpSpPr/>
          <p:nvPr/>
        </p:nvGrpSpPr>
        <p:grpSpPr>
          <a:xfrm>
            <a:off x="5638680" y="1981080"/>
            <a:ext cx="3352680" cy="3047760"/>
            <a:chOff x="5638680" y="1981080"/>
            <a:chExt cx="3352680" cy="3047760"/>
          </a:xfrm>
        </p:grpSpPr>
        <p:sp>
          <p:nvSpPr>
            <p:cNvPr id="121" name="Line 16"/>
            <p:cNvSpPr/>
            <p:nvPr/>
          </p:nvSpPr>
          <p:spPr>
            <a:xfrm>
              <a:off x="5638680" y="5028840"/>
              <a:ext cx="33526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7"/>
            <p:cNvSpPr/>
            <p:nvPr/>
          </p:nvSpPr>
          <p:spPr>
            <a:xfrm flipV="1">
              <a:off x="8991360" y="1981080"/>
              <a:ext cx="0" cy="3047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8"/>
            <p:cNvSpPr/>
            <p:nvPr/>
          </p:nvSpPr>
          <p:spPr>
            <a:xfrm>
              <a:off x="8601840" y="1981080"/>
              <a:ext cx="3895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380880" y="3808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уна это единственный спутник нашей планет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920" y="57150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уна вращается вокруг Земли по</a:t>
            </a:r>
            <a:r>
              <a:rPr b="1" lang="en-IE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воей собственной </a:t>
            </a:r>
            <a:r>
              <a:rPr b="1" lang="ru-RU" sz="900" spc="-1" strike="noStrike">
                <a:solidFill>
                  <a:srgbClr val="ffffff"/>
                </a:solidFill>
                <a:latin typeface="Verdana"/>
              </a:rPr>
              <a:t>(эллипсовидной)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орбите. Полный круг вокруг Земли Луна делает за 29,5 дней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D:\Documents and Settings\witaly\My Documents\Lena\Prezentacii\Moi\Luna\Zemlja s Lunoi_new.jpg"/>
          <p:cNvPicPr/>
          <p:nvPr/>
        </p:nvPicPr>
        <p:blipFill>
          <a:blip r:embed="rId1"/>
          <a:stretch/>
        </p:blipFill>
        <p:spPr>
          <a:xfrm>
            <a:off x="2514600" y="1219320"/>
            <a:ext cx="4191120" cy="38401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457200" y="42670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 название «Луна» пришло к нам от древних римля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581280" y="380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ревние греки называли Луну Селен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F:\ELENA\PowerPoint\Materiali dla prezentacij\KOSMOS\Luna\RomaColosseo.jpg"/>
          <p:cNvPicPr/>
          <p:nvPr/>
        </p:nvPicPr>
        <p:blipFill>
          <a:blip r:embed="rId1"/>
          <a:stretch/>
        </p:blipFill>
        <p:spPr>
          <a:xfrm>
            <a:off x="4800600" y="3384720"/>
            <a:ext cx="4343400" cy="347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F:\ELENA\PowerPoint\Materiali dla prezentacij\KOSMOS\Luna\Fotos\Poverhnost\Luna1_new.jpg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1971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F:\ELENA\PowerPoint\Materiali dla prezentacij\KOSMOS\Luna\Dr_grecija.jpg"/>
          <p:cNvPicPr/>
          <p:nvPr/>
        </p:nvPicPr>
        <p:blipFill>
          <a:blip r:embed="rId3"/>
          <a:stretch/>
        </p:blipFill>
        <p:spPr>
          <a:xfrm>
            <a:off x="0" y="0"/>
            <a:ext cx="3581280" cy="268272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F:\jpeg\space factfile\Earth Moon.jpg"/>
          <p:cNvPicPr/>
          <p:nvPr/>
        </p:nvPicPr>
        <p:blipFill>
          <a:blip r:embed="rId1"/>
          <a:stretch/>
        </p:blipFill>
        <p:spPr>
          <a:xfrm>
            <a:off x="2209680" y="380880"/>
            <a:ext cx="4876920" cy="47116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380880" y="54864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иаметр Луны почти в 4 раза меньше диаметра Земл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0" y="541008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ли смотреть на Луну с Земли, то она выглядит небольшим пятнистым шаром, но в телескоп, или даже в хороший бинокль, видно, что это не так – на Луне есть горы и много кратер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D:\Documents and Settings\witaly\My Documents\Lena\Prezentacii\Moi\Luna\Luna1_new.jpg"/>
          <p:cNvPicPr/>
          <p:nvPr/>
        </p:nvPicPr>
        <p:blipFill>
          <a:blip r:embed="rId1"/>
          <a:stretch/>
        </p:blipFill>
        <p:spPr>
          <a:xfrm>
            <a:off x="2286000" y="457200"/>
            <a:ext cx="4724280" cy="43657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0" y="457200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ного лет назад ученый Галилео Галилей назвал их морями. Теперь мы уже знаем, что никаких морей на луне нет, но по традиции кратеры сохранили свои названия. У многих из них необычны для Земли – Море Изобилия, Море Холода, Море Дождей, Море Ясности, Море Пар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ратеры поменьше носят имена знаменитых людей – Тихо Браге, Коперника, Птоломея, Юрия Гагарин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495680" y="29718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глубления в поверхности Луны называются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атерам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D:\Documents and Settings\witaly\My Documents\Lena\Prezentacii\Moi\Luna\Krateri_new.jpg"/>
          <p:cNvPicPr/>
          <p:nvPr/>
        </p:nvPicPr>
        <p:blipFill>
          <a:blip r:embed="rId1"/>
          <a:stretch/>
        </p:blipFill>
        <p:spPr>
          <a:xfrm>
            <a:off x="0" y="0"/>
            <a:ext cx="4572000" cy="40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D:\Documents and Settings\witaly\My Documents\Lena\Prezentacii\Moi\Luna\Krateri3_new.jpg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26798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0" y="5410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 это Лунные горы. Их названия вполне земные – Кавказ, Алтай, Карпаты, Альпы, Апенины, Перинеи, Тенерифе. Высота гор может доходить до 8 км, но обычно она составляет 3-5 к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D:\Documents and Settings\witaly\My Documents\Lena\Prezentacii\Moi\Luna\Krateri2_new.jpg"/>
          <p:cNvPicPr/>
          <p:nvPr/>
        </p:nvPicPr>
        <p:blipFill>
          <a:blip r:embed="rId1"/>
          <a:stretch/>
        </p:blipFill>
        <p:spPr>
          <a:xfrm>
            <a:off x="2133720" y="380880"/>
            <a:ext cx="4952880" cy="444024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F:\jpeg\space factfile\Crater forms.jpg"/>
          <p:cNvPicPr/>
          <p:nvPr/>
        </p:nvPicPr>
        <p:blipFill>
          <a:blip r:embed="rId1"/>
          <a:stretch/>
        </p:blipFill>
        <p:spPr>
          <a:xfrm>
            <a:off x="152280" y="2362320"/>
            <a:ext cx="8686800" cy="34750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228600" y="228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мотри, как, по предположению ученых много лет назад образовались лунные кратеры. В наши времена новые кратеры уже не образуются, потому что в космосе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ти не осталось крупных метеори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629400" y="1600200"/>
            <a:ext cx="2514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1</a:t>
            </a:r>
            <a:r>
              <a:rPr b="1" lang="ru-RU" sz="1800" spc="-1" strike="noStrike">
                <a:solidFill>
                  <a:srgbClr val="cc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риближается метеори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 flipH="1">
            <a:off x="7772400" y="2209680"/>
            <a:ext cx="763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6095880" y="411480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cc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Он сталкивается с поверхностью и образует столп пыл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8"/>
          <p:cNvSpPr/>
          <p:nvPr/>
        </p:nvSpPr>
        <p:spPr>
          <a:xfrm flipH="1" flipV="1">
            <a:off x="6324480" y="3352320"/>
            <a:ext cx="91440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7200" y="21337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cc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осле того, как пыль осядет, становится видно, что на поверхности образовалась вмятина, а в ее центре -  возвышен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304920" y="563868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4</a:t>
            </a:r>
            <a:r>
              <a:rPr b="1" lang="ru-RU" sz="1800" spc="-1" strike="noStrike">
                <a:solidFill>
                  <a:srgbClr val="cc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оскольку в то время на Луне еще были вулканы, то потоки лавы во время извержений заполнили кратеры и они стали менее глубоки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D:\Documents and Settings\witaly\My Documents\Lena\Prezentacii\Moi\Luna\Meteorit na Lune_new.jpg"/>
          <p:cNvPicPr/>
          <p:nvPr/>
        </p:nvPicPr>
        <p:blipFill>
          <a:blip r:embed="rId1"/>
          <a:stretch/>
        </p:blipFill>
        <p:spPr>
          <a:xfrm>
            <a:off x="1219320" y="1295280"/>
            <a:ext cx="6476760" cy="4927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914400" y="3808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небольшой осколок одного из метеорит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16:33:26Z</dcterms:created>
  <dc:creator>wl</dc:creator>
  <dc:description/>
  <dc:language>en-US</dc:language>
  <cp:lastModifiedBy>LEGION</cp:lastModifiedBy>
  <dcterms:modified xsi:type="dcterms:W3CDTF">2015-01-12T09:14:00Z</dcterms:modified>
  <cp:revision>27</cp:revision>
  <dc:subject/>
  <dc:title>PowerPoint Presentation</dc:title>
</cp:coreProperties>
</file>