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DAE7-F16F-40C8-87A2-689752C007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B50F-04C8-48C7-BE9D-90B85E8048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ждение Вселен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л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ряева Со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Б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3477-6EC3-4F02-8D0E-5EBF188168E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ория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биения сосудов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ю «разбиения сосудов», в чём-то подобную теории Большого Взрыва в современной физике, сформулировал средневековый кабаллист Ицхак Лури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чалось не с того, что всемогущий Бог создал бытие из ничего, а процесс создания — это результат коллапса и кризиса в самом всемогущем Боге. И цель создания — это способ исправить его. По Лурианскому сценарию, когда Бог работал над созданием бытия, произошла катастрофа. Божественные лучи, которые были основными компонентами создания, были разбиты. В результате этой катастрофы все лучи рассеялись и ушли в хаос. Этим Лурианская Каббала отличается от библейской версии создания мира и напоминает теорию «Большого Взрыв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BD3F-1935-4E5C-ACDC-73E4272AB2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22-1924 гг. советским математиком А.А. Фридманом были предложены общие уравнения для описания всей Вселенной, меняющейся с течением времени. Звездные системы не могут находиться  в среднем на неизменных расстояниях друг от друга. Они должны либо удаляться, либо сближаться. Такой результат – неизбежное следствие наличия сил тяготения, которые главенствуют в космических масштабах. Вывод Фридмана означал, что Вселенная должна либо расширятся, либо сжиматься. Отсюда следовал пересмотр общих представлений о Вселенной. В 1929 г. американский астроном Э. Хаббл (1889-1953) с помощью астрофизических наблюдений открыл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асширение Вселен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одтверждающее правильность выводов Фридм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3B97-D7CC-458A-BF76-9D11272D010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нейшая эволюция Вселенно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теории Большого взрыва, дальнейшая эволюция зависит от экспериментально измеримого параметра — средней плотности вещества в современной Вселенной. Если плотность не превосходит некоторого (известного из теории) критического значения, Вселенная будет расширяться вечно, если же плотность больше критической, то процесс расширения когда-нибудь остановится и начнётся обратная фаза сжатия, возвращающая к исходному сингулярному состоянию. Современные экспериментальные данные относительно величины средней плотности ещё недостаточно надёжны, чтобы сделать однозначный выбор между двумя вариантами будущего Вселен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ряд вопросов, на которые теория Большого взрыва ответить пока не может, однако основные её положения обоснованы надёжными экспериментальными данными, а современный уровень теоретической физики позволяет вполне достоверно описать эволюцию такой системы во времени, за исключением самого начального этапа — порядка сотой доли секунды от «начала мира». Для теории важно, что эта неопределённость на начальном этапе фактически оказывается несущественной, поскольку образующееся после прохождения данного этапа состояние Вселенной и его последующую эволюцию можно описать вполне достовер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5A7F-A40E-4D00-BD87-37EFFB93CE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лен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лен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весь существующий материальный мир, безграничный во времени и пространстве и бесконечно разнообразный по формам, которые принимает материя в процессе своего развития. Часть Вселенной, охваченная астрономическими наблюдениями, называе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тагалактик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или нашей Вселенной. Размеры метагалактики очень велики: радиус космологического горизонта составляет 15-20 млрд. световых л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C05A-62D6-412C-BBD7-F2AF4C8880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эволюцией структуры Вселенной связано возникновение скоплений галактик, обособление и формирование звезд и галактик, образование планет и их спутников. Сама Вселенная возникла примерно 20 млрд. лет назад из некоего плотного и горячего протовещества. Существует точка зрения, что с самого начала протовещество с гигантской скоростью начало расширятся. На начальной стадии это плотное вещество разлеталось во всех направлениях и представляло собой однородную бурлящую смесь неустойчивых, постоянно распадающихся при столкновении частиц. Остывая и взаимодействуя на протяжении миллионов лет, вся эта масса  рассеянного в пространстве вещества  концентрировалась в большие и малые газовые образования, которые в течение сотен миллионов лет, сближаясь и сливаясь, превращались в громадные комплексы. В этих комплексах, в свою очередь возникали более плотные участки – там впоследствии и образовались звезды и даже целые галак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3275-88DD-416E-9308-CEA472A4E74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ждение Вселен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а или бесконечна Вселенная, какая у нее геометрия – эти и многие другие вопросы связаны с эволюцией Вселенной, в частности с наблюдаемым расширением. Если скорость «разлета» галактик увеличится на 75 км/с на каждый миллион парсек, то экстраполяция к прошлому приводит к удивительному результату: примерно 10-20 млрд. лет назад вся Вселенная была сосредоточена в очень маленькой области. Многие ученые считают, что в то время плотность Вселенной была такая же, как у атомного ядра: Вселенная представляла собой одну гигантскую «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ядерную капл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По каким-то причинам эта «капля» пришла в неустойчивое состояние и взорвалась. Последствия этого взрыва мы наблюдаем сейчас как системы галакт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7BB0-FC36-4E63-8B8F-A73BC06F2F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и Происхождения Всел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Большого взры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: «Бесконечно пульсирующая Вселенна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ацио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«Разбиение сосудо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702E-BFA1-4E06-80BD-357C5BA79C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большого взры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овременным представлениям, наблюдаемая нами сейчас Вселенная возникла 13,7 ± 0,13 млрд лет назад из некоторого начального сингулярного состояния с гигантскими температурой и плотностью и с тех пор непрерывно расширяется и охлаждается. В последнее время ученым удалось определить, что скорость расширения Вселенной, начиная с определённого момента в прошлом, постоянно увеличивается, что уточняет некоторые концепции теории Большого взры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9506-FCA4-44EB-8ACC-055F8277452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взрыва образовалось два вида материи: вещество и поле. Первые химические элемент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тали образовывать сгущения и из них образовались звез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тяжелые металлы образовались  в недрах звезд в результате звездного нуклеосинтеза. Элементы более тяжелые че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разуются при взрыве новых и сверх новых звез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месте остатка взрыва сверхновых формируются новые звезды и их планетные системы. Более плотные вещества всегда образуют внутренние планеты карлики, менее плотные – планеты гиганты на периферии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Земля выросла до современной массы, она нагрелась за счет распада изотопов и путем улавливания кинетической энергии от столкновения крупных облом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нагрев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сплавившись погрузились в центр планеты и образовали ядро. Остальной материал образовал мант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енее раскаленный). Остывший – земную ко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9E33-8159-449A-9906-24A58D19348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сконечно пульсирующая Вселенна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одной из альтернативных теорий (так называемой «бесконечно пульсирующей Вселенной»), мир никогда не возникал и никогда не исчезнет (или по другому рождается и умирает бесконечное количество раз), но обладает периодичностью, при этом под сотворением мира понимается точка отсчета после которой мир строится зано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2C5C-5621-40E8-BED1-AFC0BDDACD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аци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креационисты считают, что нет такого фундаментального противоречия между научными и религиозными концепциями, как кажется на первый взгляд. Считается, что многие термины, используемые в древних религиозных текстах, не следует понимать буквально и необходимо делать скидку на время и язык, использовавшийся в древности, и рассматривать их комплексно. К примеру, известный библейский сюжет о 6 днях творения следует понимать метафорично, хотя бы только потому, что, согласно тому же тексту, Солнце и Луна появились только на четвертый день, что ясно говорит о том, что как минимум все предыдущие «дни»(а, возможно, и последующие) не являются днями в общепринятом понимании этого слова и не тождественны сутк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B9950-7258-4C56-8736-2EBF0548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15F96-5A04-4C29-AE7F-B83C7A39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B9315-90E1-4FBA-AFDA-7630BFAB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256ED-9DB2-40BA-9BD1-2F377FBC3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42F2-AD4F-46DF-AE40-76EAC3239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EBCD-DC24-4998-834C-3DEDC53A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F698-8848-4628-94C0-C21F933A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6A6F-3132-4685-AD30-6D06EFC1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BD7E-7EC9-4522-A239-25CE2153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CAD3-148B-4D6E-8B05-F78380A9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93AC-A3A8-4B0B-A743-CBA23FD4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077DB-0E0F-4D1B-BC08-947C8836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8568-5626-4F26-A775-0CEFC98B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BB27-65F3-42A0-B303-FF41227D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3E9D-C213-4028-B7B5-CCC16DFD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A4ED-DF70-4597-80B9-1ED485C0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A0F3-993D-4D40-8D14-7AC65C3A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A78B1-E351-41B9-A65D-2DA097B0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C7633-A973-4364-8243-DC4064CF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E983F-8B73-4585-B629-6CF70C0D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B36AC-113B-42EC-AE85-99650392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70280-AB82-4E14-A7DC-30B1B855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D2A36-215A-4F72-8F92-FD79808E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1B058-84DE-4B13-A34A-FC077F4B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2E16-808C-41F1-B0C7-CE261DA704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D252-7A9C-48D8-AA20-E9EA7A2B00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13.xml"/><Relationship Id="rId2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Происхождение Вселенной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348000" y="4797360"/>
            <a:ext cx="561672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полнил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Ширяева Соф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ХБ-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468360" y="5734080"/>
          <a:ext cx="43164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34080"/>
                    <a:ext cx="4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5"/>
          <p:cNvGraphicFramePr/>
          <p:nvPr/>
        </p:nvGraphicFramePr>
        <p:xfrm>
          <a:off x="8388360" y="3141720"/>
          <a:ext cx="217440" cy="21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8360" y="3141720"/>
                    <a:ext cx="217440" cy="2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1403280" y="3933720"/>
          <a:ext cx="1263600" cy="103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3933720"/>
                    <a:ext cx="126360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7885080" y="6093000"/>
          <a:ext cx="704880" cy="56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85080" y="6093000"/>
                    <a:ext cx="70488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8"/>
          <p:cNvGraphicFramePr/>
          <p:nvPr/>
        </p:nvGraphicFramePr>
        <p:xfrm>
          <a:off x="539640" y="189000"/>
          <a:ext cx="509760" cy="398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8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189000"/>
                    <a:ext cx="50976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9"/>
          <p:cNvGraphicFramePr/>
          <p:nvPr/>
        </p:nvGraphicFramePr>
        <p:xfrm>
          <a:off x="5940360" y="0"/>
          <a:ext cx="503280" cy="393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0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40360" y="0"/>
                    <a:ext cx="5032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10"/>
          <p:cNvGraphicFramePr/>
          <p:nvPr/>
        </p:nvGraphicFramePr>
        <p:xfrm>
          <a:off x="7380360" y="189000"/>
          <a:ext cx="164880" cy="203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2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80360" y="189000"/>
                    <a:ext cx="16488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1"/>
          <p:cNvGraphicFramePr/>
          <p:nvPr/>
        </p:nvGraphicFramePr>
        <p:xfrm>
          <a:off x="7596360" y="0"/>
          <a:ext cx="223560" cy="274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4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96360" y="0"/>
                    <a:ext cx="22356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2"/>
          <p:cNvGraphicFramePr/>
          <p:nvPr/>
        </p:nvGraphicFramePr>
        <p:xfrm>
          <a:off x="7740720" y="404640"/>
          <a:ext cx="164880" cy="203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6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740720" y="404640"/>
                    <a:ext cx="164880" cy="2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395280" y="1125360"/>
            <a:ext cx="830268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37620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Теорию «разбиения сосудов», в чём-то подобную теории Большого Взрыва в современной физике, сформулировал средневековый кабаллист Ицхак Луриа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376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Создание началось не с того, что всемогущий Бог создал бытие из ничего, а процесс создания — это результат коллапса и кризиса в самом всемогущем Боге. И цель создания — это способ исправить его. По Лурианскому сценарию, когда Бог работал над созданием бытия, произошла катастрофа. Божественные лучи, которые были основными компонентами создания, были разбиты. В результате этой катастрофы все лучи рассеялись и ушли в хаос. Этим Лурианская Каббала отличается от библейской версии создания мира и напоминает теорию «Большого Взрыва»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763640" y="26028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Теория 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“</a:t>
            </a: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разбиения сосудов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1922-1924 гг. советским математиком А.А. Фридманом были предложены общие уравнения для описания всей Вселенной, меняющейся с течением времени. Звездные системы не могут находиться  в среднем на неизменных расстояниях друг от друга. Они должны либо удаляться, либо сближаться. Такой результат – неизбежное следствие наличия сил тяготения, которые главенствуют в космических масштабах. Вывод Фридмана означал, что Вселенная должна либо расширятся, либо сжиматься. Отсюда следовал пересмотр общих представлений о Вселенной. В 1929 г. американский астроном Э. Хаббл (1889-1953) с помощью астрофизических наблюдений открыл 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расширение Вселенной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подтверждающее правильность выводов Фридма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Дальнейшая эволюция Вселенной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огласно теории Большого взрыва, дальнейшая эволюция зависит от экспериментально измеримого параметра — средней плотности вещества в современной Вселенной. Если плотность не превосходит некоторого (известного из теории) критического значения, Вселенная будет расширяться вечно, если же плотность больше критической, то процесс расширения когда-нибудь остановится и начнётся обратная фаза сжатия, возвращающая к исходному сингулярному состоянию. Современные экспериментальные данные относительно величины средней плотности ещё недостаточно надёжны, чтобы сделать однозначный выбор между двумя вариантами будущего Вселенно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Есть ряд вопросов, на которые теория Большого взрыва ответить пока не может, однако основные её положения обоснованы надёжными экспериментальными данными, а современный уровень теоретической физики позволяет вполне достоверно описать эволюцию такой системы во времени, за исключением самого начального этапа — порядка сотой доли секунды от «начала мира». Для теории важно, что эта неопределённость на начальном этапе фактически оказывается несущественной, поскольку образующееся после прохождения данного этапа состояние Вселенной и его последующую эволюцию можно описать вполне достоверн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селенна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987640" y="1844280"/>
            <a:ext cx="5554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селенная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– это весь существующий материальный мир, безграничный во времени и пространстве и бесконечно разнообразный по формам, которые принимает материя в процессе своего развития. Часть Вселенной, охваченная астрономическими наблюдениями, называется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Метагалактикой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 или нашей Вселенной. Размеры метагалактики очень велики: радиус космологического горизонта составляет 15-20 млрд. световых лет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4" descr="universe"/>
          <p:cNvPicPr/>
          <p:nvPr/>
        </p:nvPicPr>
        <p:blipFill>
          <a:blip r:embed="rId1"/>
          <a:stretch/>
        </p:blipFill>
        <p:spPr>
          <a:xfrm>
            <a:off x="324000" y="1989000"/>
            <a:ext cx="2881080" cy="207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Object 12"/>
          <p:cNvGraphicFramePr/>
          <p:nvPr/>
        </p:nvGraphicFramePr>
        <p:xfrm>
          <a:off x="0" y="0"/>
          <a:ext cx="271440" cy="3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714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15"/>
          <p:cNvGraphicFramePr/>
          <p:nvPr/>
        </p:nvGraphicFramePr>
        <p:xfrm>
          <a:off x="1258920" y="5157720"/>
          <a:ext cx="431640" cy="43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4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58920" y="5157720"/>
                    <a:ext cx="4316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16"/>
          <p:cNvGraphicFramePr/>
          <p:nvPr/>
        </p:nvGraphicFramePr>
        <p:xfrm>
          <a:off x="2195640" y="6021360"/>
          <a:ext cx="215640" cy="21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6" name="Object 1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95640" y="6021360"/>
                    <a:ext cx="21564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17"/>
          <p:cNvGraphicFramePr/>
          <p:nvPr/>
        </p:nvGraphicFramePr>
        <p:xfrm>
          <a:off x="179280" y="6381720"/>
          <a:ext cx="216000" cy="216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8" name="Object 1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9280" y="6381720"/>
                    <a:ext cx="2160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907640" y="1268280"/>
            <a:ext cx="70059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 эволюцией структуры Вселенной связано возникновение скоплений галактик, обособление и формирование звезд и галактик, образование планет и их спутников. Сама Вселенная возникла примерно 20 млрд. лет назад из некоего плотного и горячего протовещества. Существует точка зрения, что с самого начала протовещество с гигантской скоростью начало расширятся. На начальной стадии это плотное вещество разлеталось во всех направлениях и представляло собой однородную бурлящую смесь неустойчивых, постоянно распадающихся при столкновении частиц. Остывая и взаимодействуя на протяжении миллионов лет, вся эта масса  рассеянного в пространстве вещества  концентрировалась в большие и малые газовые образования, которые в течение сотен миллионов лет, сближаясь и сливаясь, превращались в громадные комплексы. В этих комплексах, в свою очередь возникали более плотные участки – там впоследствии и образовались звезды и даже целые галактик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7" descr="0007q8z3"/>
          <p:cNvPicPr/>
          <p:nvPr/>
        </p:nvPicPr>
        <p:blipFill>
          <a:blip r:embed="rId1"/>
          <a:stretch/>
        </p:blipFill>
        <p:spPr>
          <a:xfrm>
            <a:off x="179280" y="1241280"/>
            <a:ext cx="1943280" cy="1457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m46n2438_ritter"/>
          <p:cNvPicPr/>
          <p:nvPr/>
        </p:nvPicPr>
        <p:blipFill>
          <a:blip r:embed="rId2"/>
          <a:stretch/>
        </p:blipFill>
        <p:spPr>
          <a:xfrm>
            <a:off x="179280" y="2808360"/>
            <a:ext cx="1944720" cy="1368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74773"/>
          <p:cNvPicPr/>
          <p:nvPr/>
        </p:nvPicPr>
        <p:blipFill>
          <a:blip r:embed="rId3"/>
          <a:stretch/>
        </p:blipFill>
        <p:spPr>
          <a:xfrm>
            <a:off x="179280" y="4292640"/>
            <a:ext cx="1944720" cy="16574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оисхождение Вселенно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онечна или бесконечна Вселенная, какая у нее геометрия – эти и многие другие вопросы связаны с эволюцией Вселенной, в частности с наблюдаемым расширением. Если скорость «разлета» галактик увеличится на 75 км/с на каждый миллион парсек, то экстраполяция к прошлому приводит к удивительному результату: примерно 10-20 млрд. лет назад вся Вселенная была сосредоточена в очень маленькой области. Многие ученые считают, что в то время плотность Вселенной была такая же, как у атомного ядра: Вселенная представляла собой одну гигантскую «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ядерную каплю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». По каким-то причинам эта «капля» пришла в неустойчивое состояние и взорвалась. Последствия этого взрыва мы наблюдаем сейчас как системы галактик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еории Происхождения Вселенно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6912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ория Большого взры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ория: «Бесконечно пульсирующая Вселенная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реациониз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ория «Разбиение сосудов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3708360" y="4221000"/>
          <a:ext cx="21600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4221000"/>
                    <a:ext cx="2160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2" name="Group 13"/>
          <p:cNvGrpSpPr/>
          <p:nvPr/>
        </p:nvGrpSpPr>
        <p:grpSpPr>
          <a:xfrm>
            <a:off x="5796000" y="5445000"/>
            <a:ext cx="2302920" cy="1057320"/>
            <a:chOff x="5796000" y="5445000"/>
            <a:chExt cx="2302920" cy="1057320"/>
          </a:xfrm>
        </p:grpSpPr>
        <p:graphicFrame>
          <p:nvGraphicFramePr>
            <p:cNvPr id="153" name="Object 5"/>
            <p:cNvGraphicFramePr/>
            <p:nvPr/>
          </p:nvGraphicFramePr>
          <p:xfrm>
            <a:off x="7162560" y="6286320"/>
            <a:ext cx="215640" cy="21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4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162560" y="6286320"/>
                      <a:ext cx="21564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" name="Object 6"/>
            <p:cNvGraphicFramePr/>
            <p:nvPr/>
          </p:nvGraphicFramePr>
          <p:xfrm>
            <a:off x="7738920" y="6286320"/>
            <a:ext cx="215280" cy="216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6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738920" y="6286320"/>
                      <a:ext cx="21528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7" name="Object 7"/>
            <p:cNvGraphicFramePr/>
            <p:nvPr/>
          </p:nvGraphicFramePr>
          <p:xfrm>
            <a:off x="7162560" y="5927400"/>
            <a:ext cx="215640" cy="216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8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162560" y="5927400"/>
                      <a:ext cx="21564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Object 8"/>
            <p:cNvGraphicFramePr/>
            <p:nvPr/>
          </p:nvGraphicFramePr>
          <p:xfrm>
            <a:off x="7883280" y="5927400"/>
            <a:ext cx="215640" cy="216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0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883280" y="5927400"/>
                      <a:ext cx="21564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1" name="Object 9"/>
            <p:cNvGraphicFramePr/>
            <p:nvPr/>
          </p:nvGraphicFramePr>
          <p:xfrm>
            <a:off x="6875280" y="5783040"/>
            <a:ext cx="144000" cy="144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2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875280" y="5783040"/>
                      <a:ext cx="14400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3" name="Object 10"/>
            <p:cNvGraphicFramePr/>
            <p:nvPr/>
          </p:nvGraphicFramePr>
          <p:xfrm>
            <a:off x="6587640" y="5600520"/>
            <a:ext cx="142560" cy="142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64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587640" y="5600520"/>
                      <a:ext cx="142560" cy="1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5" name="Object 11"/>
            <p:cNvGraphicFramePr/>
            <p:nvPr/>
          </p:nvGraphicFramePr>
          <p:xfrm>
            <a:off x="6227280" y="5445000"/>
            <a:ext cx="142560" cy="142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66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227280" y="5445000"/>
                      <a:ext cx="142560" cy="1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7" name="Object 12"/>
            <p:cNvGraphicFramePr/>
            <p:nvPr/>
          </p:nvGraphicFramePr>
          <p:xfrm>
            <a:off x="5796000" y="5638680"/>
            <a:ext cx="144000" cy="144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68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796000" y="5638680"/>
                      <a:ext cx="14400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ория большого взры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484360" y="1699920"/>
            <a:ext cx="6120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о современным представлениям, наблюдаемая нами сейчас Вселенная возникла 13,7 ± 0,13 млрд лет назад из некоторого начального сингулярного состояния с гигантскими температурой и плотностью и с тех пор непрерывно расширяется и охлаждается. В последнее время ученым удалось определить, что скорость расширения Вселенной, начиная с определённого момента в прошлом, постоянно увеличивается, что уточняет некоторые концепции теории Большого взрыва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5" descr="240px-Universe_expansion_rus"/>
          <p:cNvPicPr/>
          <p:nvPr/>
        </p:nvPicPr>
        <p:blipFill>
          <a:blip r:embed="rId1"/>
          <a:stretch/>
        </p:blipFill>
        <p:spPr>
          <a:xfrm>
            <a:off x="324000" y="1844640"/>
            <a:ext cx="2171520" cy="27367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22960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осле взрыва образовалось два вида материи: вещество и поле. Первые химические элементы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e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e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стали образовывать сгущения и из них образовались звезды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Более тяжелые металлы образовались  в недрах звезд в результате звездного нуклеосинтеза. Элементы более тяжелые чем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e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образуются при взрыве новых и сверх новых звезд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На месте остатка взрыва сверхновых формируются новые звезды и их планетные системы. Более плотные вещества всегда образуют внутренние планеты карлики, менее плотные – планеты гиганты на периферии системы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Когда Земля выросла до современной массы, она нагрелась за счет распада изотопов и путем улавливания кинетической энергии от столкновения крупных обломков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В результате нагрева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e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Ni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расплавившись погрузились в центр планеты и образовали ядро. Остальной материал образовал мантию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(менее раскаленный). Остывший – земную кору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“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Бесконечно пульсирующая Вселенная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гласно одной из альтернативных теорий (так называемой «бесконечно пульсирующей Вселенной»), мир никогда не возникал и никогда не исчезнет (или по другому рождается и умирает бесконечное количество раз), но обладает периодичностью, при этом под сотворением мира понимается точка отсчета после которой мир строится заново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Креациониз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Многие креационисты считают, что нет такого фундаментального противоречия между научными и религиозными концепциями, как кажется на первый взгляд. Считается, что многие термины, используемые в древних религиозных текстах, не следует понимать буквально и необходимо делать скидку на время и язык, использовавшийся в древности, и рассматривать их комплексно. К примеру, известный библейский сюжет о 6 днях творения следует понимать метафорично, хотя бы только потому, что, согласно тому же тексту, Солнце и Луна появились только на четвертый день, что ясно говорит о том, что как минимум все предыдущие «дни»(а, возможно, и последующие) не являются днями в общепринятом понимании этого слова и не тождественны суткам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-1044720" y="2421000"/>
            <a:ext cx="799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08:00:09Z</dcterms:created>
  <dc:creator>home</dc:creator>
  <dc:description/>
  <dc:language>en-US</dc:language>
  <cp:lastModifiedBy>LEGION</cp:lastModifiedBy>
  <dcterms:modified xsi:type="dcterms:W3CDTF">2015-01-12T09:20:33Z</dcterms:modified>
  <cp:revision>11</cp:revision>
  <dc:subject/>
  <dc:title>Слайд 1</dc:title>
</cp:coreProperties>
</file>