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A175-4BBF-4C70-A5D5-27B67490F8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8B9C-5AF6-4CFF-9DEA-4CD95FE1F7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Вселе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яева 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Б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0123-FFDD-4976-9F1D-1D6B1F2E6F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ори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биения сосудо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ю «разбиения сосудов», в чём-то подобную теории Большого Взрыва в современной физике, сформулировал средневековый кабаллист Ицхак Лури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чалось не с того, что всемогущий Бог создал бытие из ничего, а процесс создания — это результат коллапса и кризиса в самом всемогущем Боге. И цель создания — это способ исправить его. По Лурианскому сценарию, когда Бог работал над созданием бытия, произошла катастрофа. Божественные лучи, которые были основными компонентами создания, были разбиты. В результате этой катастрофы все лучи рассеялись и ушли в хаос. Этим Лурианская Каббала отличается от библейской версии создания мира и напоминает теорию «Большого Взры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230B-55B0-49A3-8B5D-134EC43EBC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2-1924 гг. советским математиком А.А. Фридманом были предложены общие уравнения для описания всей Вселенной, меняющейся с течением времени. Звездные системы не могут находиться  в среднем на неизменных расстояниях друг от друга. Они должны либо удаляться, либо сближаться. Такой результат – неизбежное следствие наличия сил тяготения, которые главенствуют в космических масштабах. Вывод Фридмана означал, что Вселенная должна либо расширятся, либо сжиматься. Отсюда следовал пересмотр общих представлений о Вселенной. В 1929 г. американский астроном Э. Хаббл (1889-1953) с помощью астрофизических наблюдений открыл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сширение Вселе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одтверждающее правильность выводов Фридм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EE07-79AB-4073-9058-F4694EC76F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нейшая эволюция Вселенно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Большого взрыва, дальнейшая эволюция зависит от экспериментально измеримого параметра — средней плотности вещества в современной Вселенной. Если плотность не превосходит некоторого (известного из теории) критического значения, Вселенная будет расширяться вечно, если же плотность больше критической, то процесс расширения когда-нибудь остановится и начнётся обратная фаза сжатия, возвращающая к исходному сингулярному состоянию. Современные экспериментальные данные относительно величины средней плотности ещё недостаточно надёжны, чтобы сделать однозначный выбор между двумя вариантами будущего Вселен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ряд вопросов, на которые теория Большого взрыва ответить пока не может, однако основные её положения обоснованы надёжными экспериментальными данными, а современный уровень теоретической физики позволяет вполне достоверно описать эволюцию такой системы во времени, за исключением самого начального этапа — порядка сотой доли секунды от «начала мира». Для теории важно, что эта неопределённость на начальном этапе фактически оказывается несущественной, поскольку образующееся после прохождения данного этапа состояние Вселенной и его последующую эволюцию можно описать вполне достовер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9F15-1A15-4CB9-8C0E-2F12E89747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лен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весь существующий материальный мир, безграничный во времени и пространстве и бесконечно разнообразный по формам, которые принимает материя в процессе своего развития. Часть Вселенной, охваченная астрономическими наблюдениями,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агалактик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или нашей Вселенной. Размеры метагалактики очень велики: радиус космологического горизонта составляет 15-20 млрд. световых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20BC-FAA8-4CDA-8428-0455FA7D4C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эволюцией структуры Вселенной связано возникновение скоплений галактик, обособление и формирование звезд и галактик, образование планет и их спутников. Сама Вселенная возникла примерно 20 млрд. лет назад из некоего плотного и горячего протовещества. Существует точка зрения, что с самого начала протовещество с гигантской скоростью начало расширятся. На начальной стадии это плотное вещество разлеталось во всех направлениях и представляло собой однородную бурлящую смесь неустойчивых, постоянно распадающихся при столкновении частиц. Остывая и взаимодействуя на протяжении миллионов лет, вся эта масса  рассеянного в пространстве вещества  концентрировалась в большие и малые газовые образования, которые в течение сотен миллионов лет, сближаясь и сливаясь, превращались в громадные комплексы. В этих комплексах, в свою очередь возникали более плотные участки – там впоследствии и образовались звезды и даже целые гала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9E0D-E7BF-4ED5-9FCA-3E37136707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Вселе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а или бесконечна Вселенная, какая у нее геометрия – эти и многие другие вопросы связаны с эволюцией Вселенной, в частности с наблюдаемым расширением. Если скорость «разлета» галактик увеличится на 75 км/с на каждый миллион парсек, то экстраполяция к прошлому приводит к удивительному результату: примерно 10-20 млрд. лет назад вся Вселенная была сосредоточена в очень маленькой области. Многие ученые считают, что в то время плотность Вселенной была такая же, как у атомного ядра: Вселенная представляла собой одну гигантскую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ядерную капл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По каким-то причинам эта «капля» пришла в неустойчивое состояние и взорвалась. Последствия этого взрыва мы наблюдаем сейчас как системы галакт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33EA-9D78-4E04-BF32-619DAA7578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и Происхождения Вс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: «Бесконечно пульсирующ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ацио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«Разбиение сосуд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D446-8B87-4FE9-829B-1CDBFAB1B6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временным представлениям, наблюдаемая нами сейчас Вселенная возникла 13,7 ± 0,13 млрд лет назад из некоторого начального сингулярного состояния с гигантскими температурой и плотностью и с тех пор непрерывно расширяется и охлаждается. В последнее время ученым удалось определить, что скорость расширения Вселенной, начиная с определённого момента в прошлом, постоянно увеличивается, что уточняет некоторые концепции теории Большого взры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C7F2-434E-4460-9715-43628BCECD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взрыва образовалось два вида материи: вещество и поле. Первые химические элемент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али образовывать сгущения и из них образовались звез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тяжелые металлы образовались  в недрах звезд в результате звездного нуклеосинтеза. Элементы более тяжелые че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зуются при взрыве новых и сверх новых звез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есте остатка взрыва сверхновых формируются новые звезды и их планетные системы. Более плотные вещества всегда образуют внутренние планеты карлики, менее плотные – планеты гиганты на периферии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Земля выросла до современной массы, она нагрелась за счет распада изотопов и путем улавливания кинетической энергии от столкновения крупных облом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нагрев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сплавившись погрузились в центр планеты и образовали ядро. Остальной материал образовал мант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енее раскаленный). Остывший – земную к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A63C-3729-47DE-8DA2-D14EFF4B7C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конечно пульсирующая Вселенн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одной из альтернативных теорий (так называемой «бесконечно пульсирующей Вселенной»), мир никогда не возникал и никогда не исчезнет (или по другому рождается и умирает бесконечное количество раз), но обладает периодичностью, при этом под сотворением мира понимается точка отсчета после которой мир строится зано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6360-228E-4D29-9C0B-00529357A6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аци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креационисты считают, что нет такого фундаментального противоречия между научными и религиозными концепциями, как кажется на первый взгляд. Считается, что многие термины, используемые в древних религиозных текстах, не следует понимать буквально и необходимо делать скидку на время и язык, использовавшийся в древности, и рассматривать их комплексно. К примеру, известный библейский сюжет о 6 днях творения следует понимать метафорично, хотя бы только потому, что, согласно тому же тексту, Солнце и Луна появились только на четвертый день, что ясно говорит о том, что как минимум все предыдущие «дни»(а, возможно, и последующие) не являются днями в общепринятом понимании этого слова и не тождественны сутк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14D6A-CB51-4559-BB96-2C6FCE76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97099-E4BA-41A9-A884-E6F3CBCA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918D3-6FDF-4BD8-AAAA-AF566E3A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D551-2D8F-4A43-897C-2846B3A0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3169-EAAE-4E25-A11D-293355CB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4E5B-26D3-43D8-A9C7-22D4F050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DCAD-7770-4969-A9F6-9E2C3299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B3A0-81AD-4435-8BCC-4F9AC532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F7D4-DA63-4A65-82FD-CA560261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5DEA-C401-4005-A817-0353A5CB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F2CA-6D76-44D8-BDBD-1124D2D9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5E379-46F4-4C31-BD95-46C92EFF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7FF3-6531-4D66-8BAA-382D7B5F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0CC4-623C-4974-8708-230F71AC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226A-B525-4825-A32D-9EEA1FE8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D000-A335-4F11-88D9-0B55D678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97E4-14C6-453C-8F07-41EA4B99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DCDDB-F48A-4B3F-B849-7732DDEB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8FA6F-98F1-47BE-BCCD-97CD8356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F18D5-E746-4687-8EDF-4CDFE2B6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8F182-5FBD-4E4D-ADC0-2CA33310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1468D-8E76-4150-A8BD-A9A32439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64F4C-21CD-4503-A0BC-2875E8F5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EC234-71BF-4854-A7CB-B2397B19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C4CD-00BB-499D-9425-4D418F7EA7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4ECB-A45C-4300-843B-DF41AF1834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3.xml"/><Relationship Id="rId2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Происхождение Вселенной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348000" y="4797360"/>
            <a:ext cx="561672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полнил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Ширяева Соф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Б-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468360" y="5734080"/>
          <a:ext cx="43164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34080"/>
                    <a:ext cx="4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5"/>
          <p:cNvGraphicFramePr/>
          <p:nvPr/>
        </p:nvGraphicFramePr>
        <p:xfrm>
          <a:off x="8388360" y="3141720"/>
          <a:ext cx="217440" cy="21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8360" y="3141720"/>
                    <a:ext cx="21744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1403280" y="3933720"/>
          <a:ext cx="1263600" cy="10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3933720"/>
                    <a:ext cx="12636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7885080" y="6093000"/>
          <a:ext cx="704880" cy="56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85080" y="6093000"/>
                    <a:ext cx="7048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8"/>
          <p:cNvGraphicFramePr/>
          <p:nvPr/>
        </p:nvGraphicFramePr>
        <p:xfrm>
          <a:off x="539640" y="189000"/>
          <a:ext cx="509760" cy="398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189000"/>
                    <a:ext cx="5097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9"/>
          <p:cNvGraphicFramePr/>
          <p:nvPr/>
        </p:nvGraphicFramePr>
        <p:xfrm>
          <a:off x="5940360" y="0"/>
          <a:ext cx="503280" cy="39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0360" y="0"/>
                    <a:ext cx="5032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0"/>
          <p:cNvGraphicFramePr/>
          <p:nvPr/>
        </p:nvGraphicFramePr>
        <p:xfrm>
          <a:off x="7380360" y="189000"/>
          <a:ext cx="164880" cy="20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2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80360" y="189000"/>
                    <a:ext cx="16488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1"/>
          <p:cNvGraphicFramePr/>
          <p:nvPr/>
        </p:nvGraphicFramePr>
        <p:xfrm>
          <a:off x="7596360" y="0"/>
          <a:ext cx="223560" cy="274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96360" y="0"/>
                    <a:ext cx="2235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7740720" y="404640"/>
          <a:ext cx="164880" cy="20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40720" y="404640"/>
                    <a:ext cx="16488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395280" y="1125360"/>
            <a:ext cx="830268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37620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Теорию «разбиения сосудов», в чём-то подобную теории Большого Взрыва в современной физике, сформулировал средневековый кабаллист Ицхак Луриа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376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оздание началось не с того, что всемогущий Бог создал бытие из ничего, а процесс создания — это результат коллапса и кризиса в самом всемогущем Боге. И цель создания — это способ исправить его. По Лурианскому сценарию, когда Бог работал над созданием бытия, произошла катастрофа. Божественные лучи, которые были основными компонентами создания, были разбиты. В результате этой катастрофы все лучи рассеялись и ушли в хаос. Этим Лурианская Каббала отличается от библейской версии создания мира и напоминает теорию «Большого Взрыва»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763640" y="26028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Теория 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разбиения сосудов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1922-1924 гг. советским математиком А.А. Фридманом были предложены общие уравнения для описания всей Вселенной, меняющейся с течением времени. Звездные системы не могут находиться  в среднем на неизменных расстояниях друг от друга. Они должны либо удаляться, либо сближаться. Такой результат – неизбежное следствие наличия сил тяготения, которые главенствуют в космических масштабах. Вывод Фридмана означал, что Вселенная должна либо расширятся, либо сжиматься. Отсюда следовал пересмотр общих представлений о Вселенной. В 1929 г. американский астроном Э. Хаббл (1889-1953) с помощью астрофизических наблюдений открыл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расширение Вселенно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одтверждающее правильность выводов Фридма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Дальнейшая эволюция Вселенной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гласно теории Большого взрыва, дальнейшая эволюция зависит от экспериментально измеримого параметра — средней плотности вещества в современной Вселенной. Если плотность не превосходит некоторого (известного из теории) критического значения, Вселенная будет расширяться вечно, если же плотность больше критической, то процесс расширения когда-нибудь остановится и начнётся обратная фаза сжатия, возвращающая к исходному сингулярному состоянию. Современные экспериментальные данные относительно величины средней плотности ещё недостаточно надёжны, чтобы сделать однозначный выбор между двумя вариантами будущего Вселенно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сть ряд вопросов, на которые теория Большого взрыва ответить пока не может, однако основные её положения обоснованы надёжными экспериментальными данными, а современный уровень теоретической физики позволяет вполне достоверно описать эволюцию такой системы во времени, за исключением самого начального этапа — порядка сотой доли секунды от «начала мира». Для теории важно, что эта неопределённость на начальном этапе фактически оказывается несущественной, поскольку образующееся после прохождения данного этапа состояние Вселенной и его последующую эволюцию можно описать вполне достоверн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селенна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87640" y="1844280"/>
            <a:ext cx="5554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селенная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это весь существующий материальный мир, безграничный во времени и пространстве и бесконечно разнообразный по формам, которые принимает материя в процессе своего развития. Часть Вселенной, охваченная астрономическими наблюдениями, называется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Метагалактикой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 или нашей Вселенной. Размеры метагалактики очень велики: радиус космологического горизонта составляет 15-20 млрд. световых лет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4" descr="universe"/>
          <p:cNvPicPr/>
          <p:nvPr/>
        </p:nvPicPr>
        <p:blipFill>
          <a:blip r:embed="rId1"/>
          <a:stretch/>
        </p:blipFill>
        <p:spPr>
          <a:xfrm>
            <a:off x="324000" y="1989000"/>
            <a:ext cx="2881080" cy="207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Object 12"/>
          <p:cNvGraphicFramePr/>
          <p:nvPr/>
        </p:nvGraphicFramePr>
        <p:xfrm>
          <a:off x="0" y="0"/>
          <a:ext cx="271440" cy="3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714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5"/>
          <p:cNvGraphicFramePr/>
          <p:nvPr/>
        </p:nvGraphicFramePr>
        <p:xfrm>
          <a:off x="1258920" y="5157720"/>
          <a:ext cx="431640" cy="43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8920" y="5157720"/>
                    <a:ext cx="431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6"/>
          <p:cNvGraphicFramePr/>
          <p:nvPr/>
        </p:nvGraphicFramePr>
        <p:xfrm>
          <a:off x="2195640" y="6021360"/>
          <a:ext cx="215640" cy="21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5640" y="6021360"/>
                    <a:ext cx="2156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7"/>
          <p:cNvGraphicFramePr/>
          <p:nvPr/>
        </p:nvGraphicFramePr>
        <p:xfrm>
          <a:off x="179280" y="6381720"/>
          <a:ext cx="216000" cy="21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8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6381720"/>
                    <a:ext cx="2160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907640" y="1268280"/>
            <a:ext cx="70059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 эволюцией структуры Вселенной связано возникновение скоплений галактик, обособление и формирование звезд и галактик, образование планет и их спутников. Сама Вселенная возникла примерно 20 млрд. лет назад из некоего плотного и горячего протовещества. Существует точка зрения, что с самого начала протовещество с гигантской скоростью начало расширятся. На начальной стадии это плотное вещество разлеталось во всех направлениях и представляло собой однородную бурлящую смесь неустойчивых, постоянно распадающихся при столкновении частиц. Остывая и взаимодействуя на протяжении миллионов лет, вся эта масса  рассеянного в пространстве вещества  концентрировалась в большие и малые газовые образования, которые в течение сотен миллионов лет, сближаясь и сливаясь, превращались в громадные комплексы. В этих комплексах, в свою очередь возникали более плотные участки – там впоследствии и образовались звезды и даже целые галакти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7" descr="0007q8z3"/>
          <p:cNvPicPr/>
          <p:nvPr/>
        </p:nvPicPr>
        <p:blipFill>
          <a:blip r:embed="rId1"/>
          <a:stretch/>
        </p:blipFill>
        <p:spPr>
          <a:xfrm>
            <a:off x="179280" y="1241280"/>
            <a:ext cx="1943280" cy="145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m46n2438_ritter"/>
          <p:cNvPicPr/>
          <p:nvPr/>
        </p:nvPicPr>
        <p:blipFill>
          <a:blip r:embed="rId2"/>
          <a:stretch/>
        </p:blipFill>
        <p:spPr>
          <a:xfrm>
            <a:off x="179280" y="280836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74773"/>
          <p:cNvPicPr/>
          <p:nvPr/>
        </p:nvPicPr>
        <p:blipFill>
          <a:blip r:embed="rId3"/>
          <a:stretch/>
        </p:blipFill>
        <p:spPr>
          <a:xfrm>
            <a:off x="179280" y="4292640"/>
            <a:ext cx="1944720" cy="16574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оисхождение Вселенно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онечна или бесконечна Вселенная, какая у нее геометрия – эти и многие другие вопросы связаны с эволюцией Вселенной, в частности с наблюдаемым расширением. Если скорость «разлета» галактик увеличится на 75 км/с на каждый миллион парсек, то экстраполяция к прошлому приводит к удивительному результату: примерно 10-20 млрд. лет назад вся Вселенная была сосредоточена в очень маленькой области. Многие ученые считают, что в то время плотность Вселенной была такая же, как у атомного ядра: Вселенная представляла собой одну гигантскую «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ядерную каплю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 По каким-то причинам эта «капля» пришла в неустойчивое состояние и взорвалась. Последствия этого взрыва мы наблюдаем сейчас как системы галакти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еории Происхождения Вселенно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691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 Большого взры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: «Бесконечно пульсирующая Вселенна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реацион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 «Разбиение сосудов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3708360" y="4221000"/>
          <a:ext cx="21600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4221000"/>
                    <a:ext cx="2160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" name="Group 13"/>
          <p:cNvGrpSpPr/>
          <p:nvPr/>
        </p:nvGrpSpPr>
        <p:grpSpPr>
          <a:xfrm>
            <a:off x="5796000" y="5445000"/>
            <a:ext cx="2302920" cy="1057320"/>
            <a:chOff x="5796000" y="5445000"/>
            <a:chExt cx="2302920" cy="1057320"/>
          </a:xfrm>
        </p:grpSpPr>
        <p:graphicFrame>
          <p:nvGraphicFramePr>
            <p:cNvPr id="153" name="Object 5"/>
            <p:cNvGraphicFramePr/>
            <p:nvPr/>
          </p:nvGraphicFramePr>
          <p:xfrm>
            <a:off x="7162560" y="6286320"/>
            <a:ext cx="215640" cy="21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62560" y="628632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Object 6"/>
            <p:cNvGraphicFramePr/>
            <p:nvPr/>
          </p:nvGraphicFramePr>
          <p:xfrm>
            <a:off x="7738920" y="6286320"/>
            <a:ext cx="215280" cy="21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38920" y="6286320"/>
                      <a:ext cx="21528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Object 7"/>
            <p:cNvGraphicFramePr/>
            <p:nvPr/>
          </p:nvGraphicFramePr>
          <p:xfrm>
            <a:off x="7162560" y="5927400"/>
            <a:ext cx="215640" cy="216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62560" y="592740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8"/>
            <p:cNvGraphicFramePr/>
            <p:nvPr/>
          </p:nvGraphicFramePr>
          <p:xfrm>
            <a:off x="7883280" y="5927400"/>
            <a:ext cx="215640" cy="216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0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883280" y="592740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Object 9"/>
            <p:cNvGraphicFramePr/>
            <p:nvPr/>
          </p:nvGraphicFramePr>
          <p:xfrm>
            <a:off x="6875280" y="5783040"/>
            <a:ext cx="144000" cy="144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2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75280" y="5783040"/>
                      <a:ext cx="144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Object 10"/>
            <p:cNvGraphicFramePr/>
            <p:nvPr/>
          </p:nvGraphicFramePr>
          <p:xfrm>
            <a:off x="6587640" y="5600520"/>
            <a:ext cx="142560" cy="142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4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87640" y="5600520"/>
                      <a:ext cx="14256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Object 11"/>
            <p:cNvGraphicFramePr/>
            <p:nvPr/>
          </p:nvGraphicFramePr>
          <p:xfrm>
            <a:off x="6227280" y="5445000"/>
            <a:ext cx="142560" cy="142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6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227280" y="5445000"/>
                      <a:ext cx="14256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Object 12"/>
            <p:cNvGraphicFramePr/>
            <p:nvPr/>
          </p:nvGraphicFramePr>
          <p:xfrm>
            <a:off x="5796000" y="5638680"/>
            <a:ext cx="144000" cy="14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68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796000" y="5638680"/>
                      <a:ext cx="144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большого взры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84360" y="1699920"/>
            <a:ext cx="612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 современным представлениям, наблюдаемая нами сейчас Вселенная возникла 13,7 ± 0,13 млрд лет назад из некоторого начального сингулярного состояния с гигантскими температурой и плотностью и с тех пор непрерывно расширяется и охлаждается. В последнее время ученым удалось определить, что скорость расширения Вселенной, начиная с определённого момента в прошлом, постоянно увеличивается, что уточняет некоторые концепции теории Большого взрыва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5" descr="240px-Universe_expansion_rus"/>
          <p:cNvPicPr/>
          <p:nvPr/>
        </p:nvPicPr>
        <p:blipFill>
          <a:blip r:embed="rId1"/>
          <a:stretch/>
        </p:blipFill>
        <p:spPr>
          <a:xfrm>
            <a:off x="324000" y="1844640"/>
            <a:ext cx="2171520" cy="27367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сле взрыва образовалось два вида материи: вещество и поле. Первые химические элементы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стали образовывать сгущения и из них образовались звезды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Более тяжелые металлы образовались  в недрах звезд в результате звездного нуклеосинтеза. Элементы более тяжелые чем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образуются при взрыве новых и сверх новых звезд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На месте остатка взрыва сверхновых формируются новые звезды и их планетные системы. Более плотные вещества всегда образуют внутренние планеты карлики, менее плотные – планеты гиганты на периферии системы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Когда Земля выросла до современной массы, она нагрелась за счет распада изотопов и путем улавливания кинетической энергии от столкновения крупных обломков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 результате нагрева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Ni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расплавившись погрузились в центр планеты и образовали ядро. Остальной материал образовал мантию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(менее раскаленный). Остывший – земную кор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Бесконечно пульсирующая Вселенна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гласно одной из альтернативных теорий (так называемой «бесконечно пульсирующей Вселенной»), мир никогда не возникал и никогда не исчезнет (или по другому рождается и умирает бесконечное количество раз), но обладает периодичностью, при этом под сотворением мира понимается точка отсчета после которой мир строится заново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реациониз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Многие креационисты считают, что нет такого фундаментального противоречия между научными и религиозными концепциями, как кажется на первый взгляд. Считается, что многие термины, используемые в древних религиозных текстах, не следует понимать буквально и необходимо делать скидку на время и язык, использовавшийся в древности, и рассматривать их комплексно. К примеру, известный библейский сюжет о 6 днях творения следует понимать метафорично, хотя бы только потому, что, согласно тому же тексту, Солнце и Луна появились только на четвертый день, что ясно говорит о том, что как минимум все предыдущие «дни»(а, возможно, и последующие) не являются днями в общепринятом понимании этого слова и не тождественны суткам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-1044720" y="2421000"/>
            <a:ext cx="799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8:00:09Z</dcterms:created>
  <dc:creator>home</dc:creator>
  <dc:description/>
  <dc:language>en-US</dc:language>
  <cp:lastModifiedBy>LEGION</cp:lastModifiedBy>
  <dcterms:modified xsi:type="dcterms:W3CDTF">2015-01-12T09:20:33Z</dcterms:modified>
  <cp:revision>11</cp:revision>
  <dc:subject/>
  <dc:title>Слайд 1</dc:title>
</cp:coreProperties>
</file>