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7FD1-02FD-4CCD-BD98-895F399BD6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2208-ECCB-4AD3-8C7E-0AF0830CF0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Вселе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яева 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Б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0FFA-83C5-4C62-BB4C-110B3E082E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и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биения сосудо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ю «разбиения сосудов», в чём-то подобную теории Большого Взрыва в современной физике, сформулировал средневековый кабаллист Ицхак Лури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чалось не с того, что всемогущий Бог создал бытие из ничего, а процесс создания — это результат коллапса и кризиса в самом всемогущем Боге. И цель создания — это способ исправить его. По Лурианскому сценарию, когда Бог работал над созданием бытия, произошла катастрофа. Божественные лучи, которые были основными компонентами создания, были разбиты. В результате этой катастрофы все лучи рассеялись и ушли в хаос. Этим Лурианская Каббала отличается от библейской версии создания мира и напоминает теорию «Большого Взры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5A21-2F49-4915-AC78-DB38232FD6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2-1924 гг. советским математиком А.А. Фридманом были предложены общие уравнения для описания всей Вселенной, меняющейся с течением времени. Звездные системы не могут находиться  в среднем на неизменных расстояниях друг от друга. Они должны либо удаляться, либо сближаться. Такой результат – неизбежное следствие наличия сил тяготения, которые главенствуют в космических масштабах. Вывод Фридмана означал, что Вселенная должна либо расширятся, либо сжиматься. Отсюда следовал пересмотр общих представлений о Вселенной. В 1929 г. американский астроном Э. Хаббл (1889-1953) с помощью астрофизических наблюдений открыл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сширение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одтверждающее правильность выводов Фридм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BCCA-E17D-4F6E-AEFB-DE73EA3989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нейшая эволюция Вселенно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Большого взрыва, дальнейшая эволюция зависит от экспериментально измеримого параметра — средней плотности вещества в современной Вселенной. Если плотность не превосходит некоторого (известного из теории) критического значения, Вселенная будет расширяться вечно, если же плотность больше критической, то процесс расширения когда-нибудь остановится и начнётся обратная фаза сжатия, возвращающая к исходному сингулярному состоянию. Современные экспериментальные данные относительно величины средней плотности ещё недостаточно надёжны, чтобы сделать однозначный выбор между двумя вариантами будущего Вселен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ряд вопросов, на которые теория Большого взрыва ответить пока не может, однако основные её положения обоснованы надёжными экспериментальными данными, а современный уровень теоретической физики позволяет вполне достоверно описать эволюцию такой системы во времени, за исключением самого начального этапа — порядка сотой доли секунды от «начала мира». Для теории важно, что эта неопределённость на начальном этапе фактически оказывается несущественной, поскольку образующееся после прохождения данного этапа состояние Вселенной и его последующую эволюцию можно описать вполне достовер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1B20-BF00-4409-A021-780BCA8DA5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весь существующий материальный мир, безграничный во времени и пространстве и бесконечно разнообразный по формам, которые принимает материя в процессе своего развития. Часть Вселенной, охваченная астрономическими наблюдениями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агалактик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или нашей Вселенной. Размеры метагалактики очень велики: радиус космологического горизонта составляет 15-20 млрд. световых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BD26-9FC4-46AD-ABA2-A63C1CBB3E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эволюцией структуры Вселенной связано возникновение скоплений галактик, обособление и формирование звезд и галактик, образование планет и их спутников. Сама Вселенная возникла примерно 20 млрд. лет назад из некоего плотного и горячего протовещества. Существует точка зрения, что с самого начала протовещество с гигантской скоростью начало расширятся. На начальной стадии это плотное вещество разлеталось во всех направлениях и представляло собой однородную бурлящую смесь неустойчивых, постоянно распадающихся при столкновении частиц. Остывая и взаимодействуя на протяжении миллионов лет, вся эта масса  рассеянного в пространстве вещества  концентрировалась в большие и малые газовые образования, которые в течение сотен миллионов лет, сближаясь и сливаясь, превращались в громадные комплексы. В этих комплексах, в свою очередь возникали более плотные участки – там впоследствии и образовались звезды и даже целые гала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28E9-99E0-49A2-9954-A2B1FC35AB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Вселе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а или бесконечна Вселенная, какая у нее геометрия – эти и многие другие вопросы связаны с эволюцией Вселенной, в частности с наблюдаемым расширением. Если скорость «разлета» галактик увеличится на 75 км/с на каждый миллион парсек, то экстраполяция к прошлому приводит к удивительному результату: примерно 10-20 млрд. лет назад вся Вселенная была сосредоточена в очень маленькой области. Многие ученые считают, что в то время плотность Вселенной была такая же, как у атомного ядра: Вселенная представляла собой одну гигантскую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ядерную капл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По каким-то причинам эта «капля» пришла в неустойчивое состояние и взорвалась. Последствия этого взрыва мы наблюдаем сейчас как системы галакт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6EB7-538F-4242-B8EB-F4B968B037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и Происхождения Вс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: «Бесконечно пульсирующ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ац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«Разбиение сосуд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47E1-48A8-4215-8052-4C91CA9E2C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временным представлениям, наблюдаемая нами сейчас Вселенная возникла 13,7 ± 0,13 млрд лет назад из некоторого начального сингулярного состояния с гигантскими температурой и плотностью и с тех пор непрерывно расширяется и охлаждается. В последнее время ученым удалось определить, что скорость расширения Вселенной, начиная с определённого момента в прошлом, постоянно увеличивается, что уточняет некоторые концепции теории Большого взры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D45C-D83D-46EB-A9E8-C530AD3BF6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взрыва образовалось два вида материи: вещество и поле. Первые химические элемент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али образовывать сгущения и из них образовались звез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тяжелые металлы образовались  в недрах звезд в результате звездного нуклеосинтеза. Элементы более тяжелые че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при взрыве новых и сверх новых звез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есте остатка взрыва сверхновых формируются новые звезды и их планетные системы. Более плотные вещества всегда образуют внутренние планеты карлики, менее плотные – планеты гиганты на периферии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Земля выросла до современной массы, она нагрелась за счет распада изотопов и путем улавливания кинетической энергии от столкновения крупных облом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нагрев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сплавившись погрузились в центр планеты и образовали ядро. Остальной материал образовал мант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енее раскаленный). Остывший – земную к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2472-BAF9-4BC2-9179-FF112F4B09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конечно пульсирующая Вселенн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одной из альтернативных теорий (так называемой «бесконечно пульсирующей Вселенной»), мир никогда не возникал и никогда не исчезнет (или по другому рождается и умирает бесконечное количество раз), но обладает периодичностью, при этом под сотворением мира понимается точка отсчета после которой мир строится зано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9C2B-31B4-4870-A7C3-8FA8A9A3C6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ац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креационисты считают, что нет такого фундаментального противоречия между научными и религиозными концепциями, как кажется на первый взгляд. Считается, что многие термины, используемые в древних религиозных текстах, не следует понимать буквально и необходимо делать скидку на время и язык, использовавшийся в древности, и рассматривать их комплексно. К примеру, известный библейский сюжет о 6 днях творения следует понимать метафорично, хотя бы только потому, что, согласно тому же тексту, Солнце и Луна появились только на четвертый день, что ясно говорит о том, что как минимум все предыдущие «дни»(а, возможно, и последующие) не являются днями в общепринятом понимании этого слова и не тождественны сутк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50D50-AF76-44E2-8EC7-BE93E654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4769D-FAC6-4328-8DDE-F0F3F44B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D05B0-82EB-4045-94CB-B85A9A93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FE93E-0E63-4043-8D64-9A9151FF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AF85-D53F-4777-AB9A-98588501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2810-E23C-4505-9E71-8459C284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D628-A742-4E14-A51E-86A5AB56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F9C2-4EC9-468D-824A-FA908A49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CCED-81C4-43ED-85BC-4D1FBE72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0804-1760-416A-9190-A76D7153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2535-10E0-4DDF-A1DB-BCC4BAE3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3E343-3D49-4252-A6AE-E48B3196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4CDE-8493-497C-937A-E49E59FA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E159-8906-4EBA-8998-CC95A2BF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6E2C-A4D6-46DE-AFB4-43658239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A026-FC2A-4BF6-8F69-253ED86B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475E-996A-45AA-AC1A-AD7256E2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1B45A-AC37-456E-8FDC-BBC936DB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90271-DAD7-4B68-9DBD-0210C230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47A25-672B-4BBD-A035-93919B5F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1F6AE-F228-4061-9486-9BB5C600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7DA46-DBAB-4E91-BD19-9170280C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B7447-12E5-418D-991E-7C66796E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B9BBD-61D8-4B6B-A3BB-3158543D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F533-D526-4F5B-9E29-5DF97B90C9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3E28-C7BE-4353-A584-0317E6E6FF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3.xml"/><Relationship Id="rId2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Происхождение Вселенной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348000" y="4797360"/>
            <a:ext cx="561672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полнил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Ширяева Соф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Б-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468360" y="5734080"/>
          <a:ext cx="43164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34080"/>
                    <a:ext cx="4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5"/>
          <p:cNvGraphicFramePr/>
          <p:nvPr/>
        </p:nvGraphicFramePr>
        <p:xfrm>
          <a:off x="8388360" y="3141720"/>
          <a:ext cx="217440" cy="21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8360" y="3141720"/>
                    <a:ext cx="21744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1403280" y="3933720"/>
          <a:ext cx="1263600" cy="10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933720"/>
                    <a:ext cx="12636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7885080" y="6093000"/>
          <a:ext cx="704880" cy="56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85080" y="6093000"/>
                    <a:ext cx="7048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8"/>
          <p:cNvGraphicFramePr/>
          <p:nvPr/>
        </p:nvGraphicFramePr>
        <p:xfrm>
          <a:off x="539640" y="189000"/>
          <a:ext cx="509760" cy="398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189000"/>
                    <a:ext cx="5097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9"/>
          <p:cNvGraphicFramePr/>
          <p:nvPr/>
        </p:nvGraphicFramePr>
        <p:xfrm>
          <a:off x="5940360" y="0"/>
          <a:ext cx="503280" cy="39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0"/>
                    <a:ext cx="5032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0"/>
          <p:cNvGraphicFramePr/>
          <p:nvPr/>
        </p:nvGraphicFramePr>
        <p:xfrm>
          <a:off x="7380360" y="189000"/>
          <a:ext cx="164880" cy="20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2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80360" y="189000"/>
                    <a:ext cx="16488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1"/>
          <p:cNvGraphicFramePr/>
          <p:nvPr/>
        </p:nvGraphicFramePr>
        <p:xfrm>
          <a:off x="7596360" y="0"/>
          <a:ext cx="223560" cy="274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96360" y="0"/>
                    <a:ext cx="2235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7740720" y="404640"/>
          <a:ext cx="164880" cy="20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0720" y="404640"/>
                    <a:ext cx="16488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395280" y="1125360"/>
            <a:ext cx="830268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7620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еорию «разбиения сосудов», в чём-то подобную теории Большого Взрыва в современной физике, сформулировал средневековый кабаллист Ицхак Луриа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376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здание началось не с того, что всемогущий Бог создал бытие из ничего, а процесс создания — это результат коллапса и кризиса в самом всемогущем Боге. И цель создания — это способ исправить его. По Лурианскому сценарию, когда Бог работал над созданием бытия, произошла катастрофа. Божественные лучи, которые были основными компонентами создания, были разбиты. В результате этой катастрофы все лучи рассеялись и ушли в хаос. Этим Лурианская Каббала отличается от библейской версии создания мира и напоминает теорию «Большого Взрыва»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763640" y="26028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Теория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разбиения сосудов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1922-1924 гг. советским математиком А.А. Фридманом были предложены общие уравнения для описания всей Вселенной, меняющейся с течением времени. Звездные системы не могут находиться  в среднем на неизменных расстояниях друг от друга. Они должны либо удаляться, либо сближаться. Такой результат – неизбежное следствие наличия сил тяготения, которые главенствуют в космических масштабах. Вывод Фридмана означал, что Вселенная должна либо расширятся, либо сжиматься. Отсюда следовал пересмотр общих представлений о Вселенной. В 1929 г. американский астроном Э. Хаббл (1889-1953) с помощью астрофизических наблюдений открыл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расширение Вселенно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одтверждающее правильность выводов Фридм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Дальнейшая эволюция Вселенной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гласно теории Большого взрыва, дальнейшая эволюция зависит от экспериментально измеримого параметра — средней плотности вещества в современной Вселенной. Если плотность не превосходит некоторого (известного из теории) критического значения, Вселенная будет расширяться вечно, если же плотность больше критической, то процесс расширения когда-нибудь остановится и начнётся обратная фаза сжатия, возвращающая к исходному сингулярному состоянию. Современные экспериментальные данные относительно величины средней плотности ещё недостаточно надёжны, чтобы сделать однозначный выбор между двумя вариантами будущего Вселенн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сть ряд вопросов, на которые теория Большого взрыва ответить пока не может, однако основные её положения обоснованы надёжными экспериментальными данными, а современный уровень теоретической физики позволяет вполне достоверно описать эволюцию такой системы во времени, за исключением самого начального этапа — порядка сотой доли секунды от «начала мира». Для теории важно, что эта неопределённость на начальном этапе фактически оказывается несущественной, поскольку образующееся после прохождения данного этапа состояние Вселенной и его последующую эволюцию можно описать вполне достоверн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селенна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87640" y="1844280"/>
            <a:ext cx="5554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селенная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это весь существующий материальный мир, безграничный во времени и пространстве и бесконечно разнообразный по формам, которые принимает материя в процессе своего развития. Часть Вселенной, охваченная астрономическими наблюдениями, называется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Метагалактикой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 или нашей Вселенной. Размеры метагалактики очень велики: радиус космологического горизонта составляет 15-20 млрд. световых лет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4" descr="universe"/>
          <p:cNvPicPr/>
          <p:nvPr/>
        </p:nvPicPr>
        <p:blipFill>
          <a:blip r:embed="rId1"/>
          <a:stretch/>
        </p:blipFill>
        <p:spPr>
          <a:xfrm>
            <a:off x="324000" y="1989000"/>
            <a:ext cx="2881080" cy="207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Object 12"/>
          <p:cNvGraphicFramePr/>
          <p:nvPr/>
        </p:nvGraphicFramePr>
        <p:xfrm>
          <a:off x="0" y="0"/>
          <a:ext cx="271440" cy="3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714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5"/>
          <p:cNvGraphicFramePr/>
          <p:nvPr/>
        </p:nvGraphicFramePr>
        <p:xfrm>
          <a:off x="1258920" y="5157720"/>
          <a:ext cx="431640" cy="43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5157720"/>
                    <a:ext cx="431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6"/>
          <p:cNvGraphicFramePr/>
          <p:nvPr/>
        </p:nvGraphicFramePr>
        <p:xfrm>
          <a:off x="2195640" y="6021360"/>
          <a:ext cx="215640" cy="21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5640" y="6021360"/>
                    <a:ext cx="2156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179280" y="6381720"/>
          <a:ext cx="216000" cy="21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6381720"/>
                    <a:ext cx="216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907640" y="1268280"/>
            <a:ext cx="70059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 эволюцией структуры Вселенной связано возникновение скоплений галактик, обособление и формирование звезд и галактик, образование планет и их спутников. Сама Вселенная возникла примерно 20 млрд. лет назад из некоего плотного и горячего протовещества. Существует точка зрения, что с самого начала протовещество с гигантской скоростью начало расширятся. На начальной стадии это плотное вещество разлеталось во всех направлениях и представляло собой однородную бурлящую смесь неустойчивых, постоянно распадающихся при столкновении частиц. Остывая и взаимодействуя на протяжении миллионов лет, вся эта масса  рассеянного в пространстве вещества  концентрировалась в большие и малые газовые образования, которые в течение сотен миллионов лет, сближаясь и сливаясь, превращались в громадные комплексы. В этих комплексах, в свою очередь возникали более плотные участки – там впоследствии и образовались звезды и даже целые галакти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7" descr="0007q8z3"/>
          <p:cNvPicPr/>
          <p:nvPr/>
        </p:nvPicPr>
        <p:blipFill>
          <a:blip r:embed="rId1"/>
          <a:stretch/>
        </p:blipFill>
        <p:spPr>
          <a:xfrm>
            <a:off x="179280" y="1241280"/>
            <a:ext cx="1943280" cy="145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m46n2438_ritter"/>
          <p:cNvPicPr/>
          <p:nvPr/>
        </p:nvPicPr>
        <p:blipFill>
          <a:blip r:embed="rId2"/>
          <a:stretch/>
        </p:blipFill>
        <p:spPr>
          <a:xfrm>
            <a:off x="179280" y="280836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74773"/>
          <p:cNvPicPr/>
          <p:nvPr/>
        </p:nvPicPr>
        <p:blipFill>
          <a:blip r:embed="rId3"/>
          <a:stretch/>
        </p:blipFill>
        <p:spPr>
          <a:xfrm>
            <a:off x="179280" y="4292640"/>
            <a:ext cx="1944720" cy="16574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исхождение Вселенно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онечна или бесконечна Вселенная, какая у нее геометрия – эти и многие другие вопросы связаны с эволюцией Вселенной, в частности с наблюдаемым расширением. Если скорость «разлета» галактик увеличится на 75 км/с на каждый миллион парсек, то экстраполяция к прошлому приводит к удивительному результату: примерно 10-20 млрд. лет назад вся Вселенная была сосредоточена в очень маленькой области. Многие ученые считают, что в то время плотность Вселенной была такая же, как у атомного ядра: Вселенная представляла собой одну гигантскую «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дерную каплю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 По каким-то причинам эта «капля» пришла в неустойчивое состояние и взорвалась. Последствия этого взрыва мы наблюдаем сейчас как системы галакти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еории Происхождения Вселенно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691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 Большого взры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: «Бесконечно пульсирующая Вселенна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реацион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 «Разбиение сосудов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3708360" y="4221000"/>
          <a:ext cx="21600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4221000"/>
                    <a:ext cx="216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" name="Group 13"/>
          <p:cNvGrpSpPr/>
          <p:nvPr/>
        </p:nvGrpSpPr>
        <p:grpSpPr>
          <a:xfrm>
            <a:off x="5796000" y="5445000"/>
            <a:ext cx="2302920" cy="1057320"/>
            <a:chOff x="5796000" y="5445000"/>
            <a:chExt cx="2302920" cy="1057320"/>
          </a:xfrm>
        </p:grpSpPr>
        <p:graphicFrame>
          <p:nvGraphicFramePr>
            <p:cNvPr id="153" name="Object 5"/>
            <p:cNvGraphicFramePr/>
            <p:nvPr/>
          </p:nvGraphicFramePr>
          <p:xfrm>
            <a:off x="7162560" y="6286320"/>
            <a:ext cx="215640" cy="21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62560" y="628632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Object 6"/>
            <p:cNvGraphicFramePr/>
            <p:nvPr/>
          </p:nvGraphicFramePr>
          <p:xfrm>
            <a:off x="7738920" y="6286320"/>
            <a:ext cx="215280" cy="21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38920" y="6286320"/>
                      <a:ext cx="21528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Object 7"/>
            <p:cNvGraphicFramePr/>
            <p:nvPr/>
          </p:nvGraphicFramePr>
          <p:xfrm>
            <a:off x="7162560" y="5927400"/>
            <a:ext cx="215640" cy="216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62560" y="592740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8"/>
            <p:cNvGraphicFramePr/>
            <p:nvPr/>
          </p:nvGraphicFramePr>
          <p:xfrm>
            <a:off x="7883280" y="5927400"/>
            <a:ext cx="215640" cy="216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0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883280" y="592740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9"/>
            <p:cNvGraphicFramePr/>
            <p:nvPr/>
          </p:nvGraphicFramePr>
          <p:xfrm>
            <a:off x="6875280" y="5783040"/>
            <a:ext cx="144000" cy="144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2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75280" y="5783040"/>
                      <a:ext cx="144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Object 10"/>
            <p:cNvGraphicFramePr/>
            <p:nvPr/>
          </p:nvGraphicFramePr>
          <p:xfrm>
            <a:off x="6587640" y="5600520"/>
            <a:ext cx="142560" cy="142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4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87640" y="5600520"/>
                      <a:ext cx="142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Object 11"/>
            <p:cNvGraphicFramePr/>
            <p:nvPr/>
          </p:nvGraphicFramePr>
          <p:xfrm>
            <a:off x="6227280" y="5445000"/>
            <a:ext cx="142560" cy="142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6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27280" y="5445000"/>
                      <a:ext cx="142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Object 12"/>
            <p:cNvGraphicFramePr/>
            <p:nvPr/>
          </p:nvGraphicFramePr>
          <p:xfrm>
            <a:off x="5796000" y="5638680"/>
            <a:ext cx="144000" cy="14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8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796000" y="5638680"/>
                      <a:ext cx="144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большого взры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84360" y="1699920"/>
            <a:ext cx="612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 современным представлениям, наблюдаемая нами сейчас Вселенная возникла 13,7 ± 0,13 млрд лет назад из некоторого начального сингулярного состояния с гигантскими температурой и плотностью и с тех пор непрерывно расширяется и охлаждается. В последнее время ученым удалось определить, что скорость расширения Вселенной, начиная с определённого момента в прошлом, постоянно увеличивается, что уточняет некоторые концепции теории Большого взрыва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5" descr="240px-Universe_expansion_rus"/>
          <p:cNvPicPr/>
          <p:nvPr/>
        </p:nvPicPr>
        <p:blipFill>
          <a:blip r:embed="rId1"/>
          <a:stretch/>
        </p:blipFill>
        <p:spPr>
          <a:xfrm>
            <a:off x="324000" y="1844640"/>
            <a:ext cx="2171520" cy="27367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сле взрыва образовалось два вида материи: вещество и поле. Первые химические элементы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стали образовывать сгущения и из них образовались звезды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Более тяжелые металлы образовались  в недрах звезд в результате звездного нуклеосинтеза. Элементы более тяжелые чем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образуются при взрыве новых и сверх новых звезд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На месте остатка взрыва сверхновых формируются новые звезды и их планетные системы. Более плотные вещества всегда образуют внутренние планеты карлики, менее плотные – планеты гиганты на периферии системы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Когда Земля выросла до современной массы, она нагрелась за счет распада изотопов и путем улавливания кинетической энергии от столкновения крупных обломков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 результате нагрева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Ni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расплавившись погрузились в центр планеты и образовали ядро. Остальной материал образовал мантию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(менее раскаленный). Остывший – земную кор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Бесконечно пульсирующая Вселенна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гласно одной из альтернативных теорий (так называемой «бесконечно пульсирующей Вселенной»), мир никогда не возникал и никогда не исчезнет (или по другому рождается и умирает бесконечное количество раз), но обладает периодичностью, при этом под сотворением мира понимается точка отсчета после которой мир строится заново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реациониз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Многие креационисты считают, что нет такого фундаментального противоречия между научными и религиозными концепциями, как кажется на первый взгляд. Считается, что многие термины, используемые в древних религиозных текстах, не следует понимать буквально и необходимо делать скидку на время и язык, использовавшийся в древности, и рассматривать их комплексно. К примеру, известный библейский сюжет о 6 днях творения следует понимать метафорично, хотя бы только потому, что, согласно тому же тексту, Солнце и Луна появились только на четвертый день, что ясно говорит о том, что как минимум все предыдущие «дни»(а, возможно, и последующие) не являются днями в общепринятом понимании этого слова и не тождественны суткам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-1044720" y="2421000"/>
            <a:ext cx="799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8:00:09Z</dcterms:created>
  <dc:creator>home</dc:creator>
  <dc:description/>
  <dc:language>en-US</dc:language>
  <cp:lastModifiedBy>LEGION</cp:lastModifiedBy>
  <dcterms:modified xsi:type="dcterms:W3CDTF">2015-01-12T09:20:33Z</dcterms:modified>
  <cp:revision>11</cp:revision>
  <dc:subject/>
  <dc:title>Слайд 1</dc:title>
</cp:coreProperties>
</file>