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7350-8F10-44DD-BBEE-444ADAD30E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1856-91C1-4FF8-9CB6-58269DF1A5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яева 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Б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7079-BAB6-452F-BEEA-4CB8B3825E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ори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биения сосудо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1C71-70FD-4AE8-83EF-8B6CC760A3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ширение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дтверждающее правильность выводов Фридм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4873-E9D0-40A1-B349-84205784BE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нейшая эволюция Вселенн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79A5-8999-46DA-8B49-6D0BACDEC3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агалакти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D4D4-AE90-4045-817F-AC3270A04F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0102-A8E8-46DC-8BD4-AD94EDADC6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Всел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ядерную капл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0996-8183-45F0-B4F7-4AFB21175D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и Происхождения Вс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: «Бесконечно пульсирующ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«Разбиение сосуд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5D03-C2D8-43CA-B130-B59A73B294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6DEF-367D-4B2A-9445-59BECF3A3B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али образовывать сгущения и из них образовались звез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при взрыве новых и сверх новых зве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нагре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енее раскаленный). Остывший – земную к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4673-AD6E-4338-BB01-70888779ED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конечно пульсирующая Вселен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12DC-DE53-4C29-97CD-8642DAE816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ац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F2B8-1C11-4371-9A49-8A33EE4C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F8B9-07E3-4F7F-ACE5-EF1CC8EA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8E782-CB0B-47F2-9C5B-E669F8E9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A3771-8F2C-4BE0-830F-691FF9E1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9BBD-E31D-459A-8198-D08B216C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219A-22DF-4E0C-9FA1-79113A1A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9548-5D6B-4F12-88CB-A216CCDC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EC43-A73A-4887-AC06-B3E78E71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8BAA-1F9E-4713-8D37-68A4C54E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AB9C-00C3-4B01-B74E-650507CB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ABF2-B294-46EA-B75F-7EB39C59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DBD50-101E-4B8E-81CE-8A81BD57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7F56-4AF5-41FC-B51B-E25C2D32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0A8F-E43D-48A0-BCD3-290EDA38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543B-D568-4ACA-98C7-90D1C501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2309-80DC-4323-AC66-439F7AC9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11BB-165B-4468-B916-B94509B8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D17F6-93C0-458F-95A4-857A1284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8D5C-E4A4-4230-8C43-A828397F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8EBF2-BE1E-4488-A359-167E94E8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D68E9-C940-4C63-AABD-B4584B13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0467B-0636-4C36-9E0F-A5C1AF8D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0266-CEED-4825-83F2-F1853CD0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37A6-E553-4C7F-B46F-45A5E179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473B-977E-418A-B586-916E23DAAD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E1AC-C031-442C-9EA2-17714C272C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348000" y="4797360"/>
            <a:ext cx="561672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полнил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иряева Соф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Б-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468360" y="5734080"/>
          <a:ext cx="4316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8388360" y="3141720"/>
          <a:ext cx="217440" cy="2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8360" y="3141720"/>
                    <a:ext cx="21744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1403280" y="3933720"/>
          <a:ext cx="126360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933720"/>
                    <a:ext cx="12636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7885080" y="6093000"/>
          <a:ext cx="704880" cy="56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85080" y="6093000"/>
                    <a:ext cx="7048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8"/>
          <p:cNvGraphicFramePr/>
          <p:nvPr/>
        </p:nvGraphicFramePr>
        <p:xfrm>
          <a:off x="539640" y="189000"/>
          <a:ext cx="509760" cy="39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189000"/>
                    <a:ext cx="5097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"/>
          <p:cNvGraphicFramePr/>
          <p:nvPr/>
        </p:nvGraphicFramePr>
        <p:xfrm>
          <a:off x="5940360" y="0"/>
          <a:ext cx="50328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0"/>
                    <a:ext cx="503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7380360" y="189000"/>
          <a:ext cx="164880" cy="20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80360" y="189000"/>
                    <a:ext cx="1648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7596360" y="0"/>
          <a:ext cx="223560" cy="274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96360" y="0"/>
                    <a:ext cx="2235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7740720" y="404640"/>
          <a:ext cx="164880" cy="20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04640"/>
                    <a:ext cx="1648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395280" y="1125360"/>
            <a:ext cx="830268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7620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ию «разбиения сосудов», в чём-то подобную теории Большого Взрыва в современной физике, сформулировал средневековый кабаллист Ицхак Лури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376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здание началось не с того, что всемогущий Бог создал бытие из ничего, а процесс создания — это результат коллапса и кризиса в самом всемогущем Боге. И цель создания — это способ исправить его. По Лурианскому сценарию, когда Бог работал над созданием бытия, произошла катастрофа. Божественные лучи, которые были основными компонентами создания, были разбиты. В результате этой катастрофы все лучи рассеялись и ушли в хаос. Этим Лурианская Каббала отличается от библейской версии создания мира и напоминает теорию «Большого Взрыва»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763640" y="2602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Теория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разбиения сосудов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1922-1924 гг. советским математиком А.А. Фридманом были предложены общие уравнения для описания всей Вселенной, меняющейся с течением времени. Звездные системы не могут находиться  в среднем на неизменных расстояниях друг от друга. Они должны либо удаляться, либо сближаться. Такой результат – неизбежное следствие наличия сил тяготения, которые главенствуют в космических масштабах. Вывод Фридмана означал, что Вселенная должна либо расширятся, либо сжиматься. Отсюда следовал пересмотр общих представлений о Вселенной. В 1929 г. американский астроном Э. Хаббл (1889-1953) с помощью астрофизических наблюдений открыл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асширение Вселенно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одтверждающее правильность выводов Фридм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Дальнейшая эволюция Вселенной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гласно теории Большого взрыва, дальнейшая эволюция зависит от экспериментально измеримого параметра — средней плотности вещества в современной Вселенной. Если плотность не превосходит некоторого (известного из теории) критического значения, Вселенная будет расширяться вечно, если же плотность больше критической, то процесс расширения когда-нибудь остановится и начнётся обратная фаза сжатия, возвращающая к исходному сингулярному состоянию. Современные экспериментальные данные относительно величины средней плотности ещё недостаточно надёжны, чтобы сделать однозначный выбор между двумя вариантами будущего Вселенн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сть ряд вопросов, на которые теория Большого взрыва ответить пока не может, однако основные её положения обоснованы надёжными экспериментальными данными, а современный уровень теоретической физики позволяет вполне достоверно описать эволюцию такой системы во времени, за исключением самого начального этапа — порядка сотой доли секунды от «начала мира». Для теории важно, что эта неопределённость на начальном этапе фактически оказывается несущественной, поскольку образующееся после прохождения данного этапа состояние Вселенной и его последующую эволюцию можно описать вполне достовер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селенна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87640" y="1844280"/>
            <a:ext cx="5554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селенна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это весь существующий материальный мир, безграничный во времени и пространстве и бесконечно разнообразный по формам, которые принимает материя в процессе своего развития. Часть Вселенной, охваченная астрономическими наблюдениями, называется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Метагалактикой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или нашей Вселенной. Размеры метагалактики очень велики: радиус космологического горизонта составляет 15-20 млрд. световых лет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universe"/>
          <p:cNvPicPr/>
          <p:nvPr/>
        </p:nvPicPr>
        <p:blipFill>
          <a:blip r:embed="rId1"/>
          <a:stretch/>
        </p:blipFill>
        <p:spPr>
          <a:xfrm>
            <a:off x="324000" y="1989000"/>
            <a:ext cx="2881080" cy="207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12"/>
          <p:cNvGraphicFramePr/>
          <p:nvPr/>
        </p:nvGraphicFramePr>
        <p:xfrm>
          <a:off x="0" y="0"/>
          <a:ext cx="271440" cy="3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71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1258920" y="5157720"/>
          <a:ext cx="431640" cy="4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5157720"/>
                    <a:ext cx="431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6"/>
          <p:cNvGraphicFramePr/>
          <p:nvPr/>
        </p:nvGraphicFramePr>
        <p:xfrm>
          <a:off x="2195640" y="6021360"/>
          <a:ext cx="215640" cy="21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5640" y="6021360"/>
                    <a:ext cx="2156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179280" y="6381720"/>
          <a:ext cx="216000" cy="21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638172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907640" y="1268280"/>
            <a:ext cx="70059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 эволюцией структуры Вселенной связано возникновение скоплений галактик, обособление и формирование звезд и галактик, образование планет и их спутников. Сама Вселенная возникла примерно 20 млрд. лет назад из некоего плотного и горячего протовещества. Существует точка зрения, что с самого начала протовещество с гигантской скоростью начало расширятся. На начальной стадии это плотное вещество разлеталось во всех направлениях и представляло собой однородную бурлящую смесь неустойчивых, постоянно распадающихся при столкновении частиц. Остывая и взаимодействуя на протяжении миллионов лет, вся эта масса  рассеянного в пространстве вещества  концентрировалась в большие и малые газовые образования, которые в течение сотен миллионов лет, сближаясь и сливаясь, превращались в громадные комплексы. В этих комплексах, в свою очередь возникали более плотные участки – там впоследствии и образовались звезды и даже целые галакт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7" descr="0007q8z3"/>
          <p:cNvPicPr/>
          <p:nvPr/>
        </p:nvPicPr>
        <p:blipFill>
          <a:blip r:embed="rId1"/>
          <a:stretch/>
        </p:blipFill>
        <p:spPr>
          <a:xfrm>
            <a:off x="179280" y="1241280"/>
            <a:ext cx="1943280" cy="14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m46n2438_ritter"/>
          <p:cNvPicPr/>
          <p:nvPr/>
        </p:nvPicPr>
        <p:blipFill>
          <a:blip r:embed="rId2"/>
          <a:stretch/>
        </p:blipFill>
        <p:spPr>
          <a:xfrm>
            <a:off x="179280" y="280836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74773"/>
          <p:cNvPicPr/>
          <p:nvPr/>
        </p:nvPicPr>
        <p:blipFill>
          <a:blip r:embed="rId3"/>
          <a:stretch/>
        </p:blipFill>
        <p:spPr>
          <a:xfrm>
            <a:off x="179280" y="4292640"/>
            <a:ext cx="1944720" cy="16574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исхождение Вселенно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нечна или бесконечна Вселенная, какая у нее геометрия – эти и многие другие вопросы связаны с эволюцией Вселенной, в частности с наблюдаемым расширением. Если скорость «разлета» галактик увеличится на 75 км/с на каждый миллион парсек, то экстраполяция к прошлому приводит к удивительному результату: примерно 10-20 млрд. лет назад вся Вселенная была сосредоточена в очень маленькой области. Многие ученые считают, что в то время плотность Вселенной была такая же, как у атомного ядра: Вселенная представляла собой одну гигантскую «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дерную каплю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 По каким-то причинам эта «капля» пришла в неустойчивое состояние и взорвалась. Последствия этого взрыва мы наблюдаем сейчас как системы галакти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еории Происхождения Вселенно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69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Большого взры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: «Бесконечно пульсирующая Вселенна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реацион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ория «Разбиение сосудов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3708360" y="4221000"/>
          <a:ext cx="2160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422100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Group 13"/>
          <p:cNvGrpSpPr/>
          <p:nvPr/>
        </p:nvGrpSpPr>
        <p:grpSpPr>
          <a:xfrm>
            <a:off x="5796000" y="5445000"/>
            <a:ext cx="2302920" cy="1057320"/>
            <a:chOff x="5796000" y="5445000"/>
            <a:chExt cx="2302920" cy="1057320"/>
          </a:xfrm>
        </p:grpSpPr>
        <p:graphicFrame>
          <p:nvGraphicFramePr>
            <p:cNvPr id="153" name="Object 5"/>
            <p:cNvGraphicFramePr/>
            <p:nvPr/>
          </p:nvGraphicFramePr>
          <p:xfrm>
            <a:off x="7162560" y="6286320"/>
            <a:ext cx="215640" cy="21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2560" y="628632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6"/>
            <p:cNvGraphicFramePr/>
            <p:nvPr/>
          </p:nvGraphicFramePr>
          <p:xfrm>
            <a:off x="7738920" y="6286320"/>
            <a:ext cx="215280" cy="21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38920" y="6286320"/>
                      <a:ext cx="21528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7"/>
            <p:cNvGraphicFramePr/>
            <p:nvPr/>
          </p:nvGraphicFramePr>
          <p:xfrm>
            <a:off x="7162560" y="5927400"/>
            <a:ext cx="215640" cy="216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6256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8"/>
            <p:cNvGraphicFramePr/>
            <p:nvPr/>
          </p:nvGraphicFramePr>
          <p:xfrm>
            <a:off x="7883280" y="5927400"/>
            <a:ext cx="215640" cy="216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83280" y="5927400"/>
                      <a:ext cx="21564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9"/>
            <p:cNvGraphicFramePr/>
            <p:nvPr/>
          </p:nvGraphicFramePr>
          <p:xfrm>
            <a:off x="6875280" y="5783040"/>
            <a:ext cx="14400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2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75280" y="578304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10"/>
            <p:cNvGraphicFramePr/>
            <p:nvPr/>
          </p:nvGraphicFramePr>
          <p:xfrm>
            <a:off x="6587640" y="5600520"/>
            <a:ext cx="142560" cy="142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4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87640" y="560052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Object 11"/>
            <p:cNvGraphicFramePr/>
            <p:nvPr/>
          </p:nvGraphicFramePr>
          <p:xfrm>
            <a:off x="6227280" y="5445000"/>
            <a:ext cx="142560" cy="142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27280" y="5445000"/>
                      <a:ext cx="142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Object 12"/>
            <p:cNvGraphicFramePr/>
            <p:nvPr/>
          </p:nvGraphicFramePr>
          <p:xfrm>
            <a:off x="5796000" y="5638680"/>
            <a:ext cx="144000" cy="14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8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96000" y="5638680"/>
                      <a:ext cx="144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большого взры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84360" y="1699920"/>
            <a:ext cx="612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 современным представлениям, наблюдаемая нами сейчас Вселенная возникла 13,7 ± 0,13 млрд лет назад из некоторого начального сингулярного состояния с гигантскими температурой и плотностью и с тех пор непрерывно расширяется и охлаждается. В последнее время ученым удалось определить, что скорость расширения Вселенной, начиная с определённого момента в прошлом, постоянно увеличивается, что уточняет некоторые концепции теории Большого взрыва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240px-Universe_expansion_rus"/>
          <p:cNvPicPr/>
          <p:nvPr/>
        </p:nvPicPr>
        <p:blipFill>
          <a:blip r:embed="rId1"/>
          <a:stretch/>
        </p:blipFill>
        <p:spPr>
          <a:xfrm>
            <a:off x="324000" y="1844640"/>
            <a:ext cx="2171520" cy="2736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сле взрыва образовалось два вида материи: вещество и поле. Первые химические элементы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стали образовывать сгущения и из них образовались звезд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Более тяжелые металлы образовались  в недрах звезд в результате звездного нуклеосинтеза. Элементы более тяжелые чем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образуются при взрыве новых и сверх новых звезд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На месте остатка взрыва сверхновых формируются новые звезды и их планетные системы. Более плотные вещества всегда образуют внутренние планеты карлики, менее плотные – планеты гиганты на периферии системы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Когда Земля выросла до современной массы, она нагрелась за счет распада изотопов и путем улавливания кинетической энергии от столкновения крупных обломков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результате нагрева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e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i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расплавившись погрузились в центр планеты и образовали ядро. Остальной материал образовал мантию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(менее раскаленный). Остывший – земную кору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Бесконечно пульсирующая Вселенна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гласно одной из альтернативных теорий (так называемой «бесконечно пульсирующей Вселенной»), мир никогда не возникал и никогда не исчезнет (или по другому рождается и умирает бесконечное количество раз), но обладает периодичностью, при этом под сотворением мира понимается точка отсчета после которой мир строится занов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ацио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Многие креационисты считают, что нет такого фундаментального противоречия между научными и религиозными концепциями, как кажется на первый взгляд. Считается, что многие термины, используемые в древних религиозных текстах, не следует понимать буквально и необходимо делать скидку на время и язык, использовавшийся в древности, и рассматривать их комплексно. К примеру, известный библейский сюжет о 6 днях творения следует понимать метафорично, хотя бы только потому, что, согласно тому же тексту, Солнце и Луна появились только на четвертый день, что ясно говорит о том, что как минимум все предыдущие «дни»(а, возможно, и последующие) не являются днями в общепринятом понимании этого слова и не тождественны сутка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-1044720" y="2421000"/>
            <a:ext cx="79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8:00:09Z</dcterms:created>
  <dc:creator>home</dc:creator>
  <dc:description/>
  <dc:language>en-US</dc:language>
  <cp:lastModifiedBy>LEGION</cp:lastModifiedBy>
  <dcterms:modified xsi:type="dcterms:W3CDTF">2015-01-12T09:20:33Z</dcterms:modified>
  <cp:revision>11</cp:revision>
  <dc:subject/>
  <dc:title>Слайд 1</dc:title>
</cp:coreProperties>
</file>