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9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1142640" y="447840"/>
            <a:ext cx="4568760" cy="390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9E61E-5981-403E-BD2C-B316DDB0FF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F2BC1-B00A-4964-AD20-6CEFD2CAEE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AA9AD-5BF7-426A-ADC1-186B190A9A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Алкогольная 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звана употреблением этилового спирта и его суррогатов (денатураты,одеколоны,лосьоны, морилка,метиловый спирт, этиленклико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 развивается при концентрации этанола в крови около 3 г/л, летальный исход - выше 5 г/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E1CE6-2E90-4C3B-9F06-D4985B1254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53548a"/>
                </a:solidFill>
                <a:latin typeface="Calibri"/>
                <a:ea typeface="Times New Roman"/>
              </a:rPr>
              <a:t>Механизм токсического действия и патогенез интоксикации этанолом</a:t>
            </a:r>
            <a:r>
              <a:rPr b="1" lang="ru-RU" sz="1600" spc="-1" strike="noStrike">
                <a:solidFill>
                  <a:srgbClr val="53548a"/>
                </a:solidFill>
                <a:latin typeface="Calibri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Этиловый спирт относится к депрессантам ЦНС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Этанол воздействует на рецепторы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гамма-аминомаслянной кислоты (ГАМК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, одного из нейромедиаторов в центральной нервной системе и вызывает успокаивающий и снижающий тревогу эффек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160" indent="-244440">
              <a:lnSpc>
                <a:spcPct val="7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Отсюда следует, что совместное использование алкоголя и бензодиазепинов может привести к тяжелым последствиям в виде передозировки и излишнего подавления деятельности мозговых цент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Этанол блокирует действие нейротрансмиттера глютамата , который, как считается, обладает стимулирующим действие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Алкогол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способствует действию основного «успокаивающего» нейротрансмиттера мозга (ГАМК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подавляет действие основного «возбуждающего» нейротрансмиттера (глютамата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В результате, общее действие этанола определяется его успокаивающим и, в какой-то степени, снотворным действием. Подавление активности многочисленных центров центральной нервной системы приводит к снижению чувствительности к боли, или, как говорят, к анальгезирующему эффекту этанол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1E024-DAE7-4F10-B371-DB03A5C6F6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DAE83-D6D3-48EE-A32A-2950D9DE2E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токсикогенной стадии — алкогольная кома, нарушения внешнего дыхания, нарушения гемодинам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матогенной стадии — психоневрологические расстройства, воспалительные поражения органов дыхания, миоренальный синд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Токсикогенная ста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когольная 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пецифична и не зависит от концентр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лечение алкогольной комы не приводит к положительной динамики в состоянии больного в течение 3 часов, то, либо имеются нераспознанные осложнения (например, черепно-мозговая травма), либо причиной комы послужило не алкогольное отравл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рушения внешнего дых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условлены обтурационно-аспирационными осложнениями вследствие гиперсаливации, бронхореи, ларинго-бронхоспазма, аспирации рвотных мас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ение по центральному типу — причина смерти на догоспитальном этап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гемодинам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зможны стойкие нарушения ритма и проводимости серд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!  нарушение регуляции сосудистого тонуса и гиповолемией, которые наиболее выражены при глубокой алкогольной ком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Соматогенная стад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дорожный синд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оренальный синд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7FE02-9BDE-4D0E-9B29-BCA72A012F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3 стадии алкогольной ко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дии наблюдается гипертонус мышц конечностей, тризм жевательной мускулатуры, фибрилляции мышц, рефлексы сохранены. Зрачки узкие, глазные яблоки ≪плавают≫, лицо гиперемировано; гиперсаливация, рво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II стадии мышечный тонус и сухожильные рефлексы исчезают, но двигательная реакция на болевые раздражения сохраняется. Артериальное давление снижается, пульс частый, слабый. Дыхание замедляется. Непроизвольные мочеиспускания и дефек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III стадии дыхание становится аритмичным, редким, клокочущим; нарастает цианоз лица и акроцианоз, зрачки расширяются, склеры резко инъецированы. Артериальное давление и ЦВД низкие, пульс нитевидный, часто аритмичный. Чувствительность и рефлексы отсутствуют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1D7FE-86F1-4A07-8E2E-DD4262B6C5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Тактика ведения пациента с острой интоксикац алкоголем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97C19-0151-40D8-8327-E83E9DC7C5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424456"/>
                </a:solidFill>
                <a:latin typeface="Calibri"/>
              </a:rPr>
              <a:t>Наркотическая ком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рко́тики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от греч. narkotikós — приводящий в оцепенение, одурманивающий) — группа веществ вызывающих физическую зависимость, не связанных с нормальной жизнедеятельностью. Как следствие из данного определения: Наркотики — вещества, способные вызвать болезнь наркоманию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читается что термин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ркотик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ναρκωτικός) был впервые употреблен греческим целителем Галеном, в частности для описания веществ, вызывающих потерю чувствительности или паралич. Данный термин также употреблял Гиппократ. В качестве таких веществ Гален, например, упоминал корень мандрагоры, семена эклаты и мака (опиум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Наркотики знакомы людям уже несколько тысяч лет. Их потребляли люди разных культур, в разных целях: во время религиозных обрядов, для восстановления сил, для изменения сознания, для снятия боли и неприятных ощущений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 Уже в дописьменный период мы имеем свидетельства того, что люди знали и использовали психоактивные химические вещества: алкоголь и растения, потребление которых влияет на сознани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Археологические исследования показали, что уже в 6400 г. до н.э. люди знали пиво и некоторые другие алкогольные напитк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Очевидно, процессы брожения были открыты случайно (виноградное вино, между прочим, появилось только в 4-3 вв. до н.э.). Первое письменное свидетельство использования интоксикантов – рассказ о пьянстве Ноя из Книги Бытия. Использовались и различные растения, вызывающие физиологические и психические изменения, обычно в религиозных обрядах или при проведении медицинских процедур. Пример – использование на Ближнем Востоке в 5 тыс. до н.э. "злака радости" (по всей видимости, опиумного мака). Около 2700 г. до н.э. в Китае уже использовали коноплю (в виде настоя, как чай): император Шен Нунг предписывал своим подданным принимать ее в качестве лекарства от подагры и рассеянности. Люди каменного века знали опиум, гашиш и кокаин и использовали эти наркотики для изменения сознания (в ходе религиозных обрядов) и при подготовке к сражению. На стенах погребальных комплексов индейцев Центральной и Южной Америки есть изображения людей, жующих листья коки (один из способов приема кокаина), датируемые серединой 3 тыс. до нашей эры. Нужно иметь в виду, что факт использования наркотика в одной культуре не дает нам права предполагать, что и в других культурах в это же самое время люди знали этот наркотик и употребляли его. Как и сейчас, в употреблении наркотиков людьми разных культур есть и сходства и различ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0798A-CB32-4CEC-9DAB-2FF40B056D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1AD07-31A7-4BE5-A3CF-D16C61771C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Современное представление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перечень наркотических средств, психотропных веществ и их прекурсоров,  подлежащих контролю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3 группы 1  в зависимости от мер контроля…особые,общие ,некоторые ме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ссмотрим таблицу лек препаратов способных вызывать к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8A04A-ABA9-4AC3-B0A5-CBA65895C3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73D02-9A19-4298-AAA5-6802C44CB3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03176-CBF4-4F6D-B66E-AE511A9D11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барбитур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ятся к психотропным снотворным средств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нобарбитал (люминал), барбитал (веронал), барбитал-натрий (мединал), этаминал-натрий (нембутал), гексобарбита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стадии интокс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-засыпа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- поверхностной ко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- глубокой ко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- пробуж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В настоящее время острые отравления снотворными преп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тами занимают одно из ведущих мест среди острых быт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интоксик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Препараты барбитуратовой кислоты (барбиту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ты), наиболее часто применяемые в медицине, следующ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фенобарбитал (люминал), барбитал (веронал), барбитал-н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трий (мединал), этаминал-натрий (нембутал), гексобарбитал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др. Эта группа включает в себя препараты длительного дей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вия (8—12 часов) — барбитал, барбитал-натрий, фенобарб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средней продолжительности действия (6—8 часов) — барбами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этаминал-натрий; короткого действия (4—6 часов) — гексобар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бит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B3ABE-99C5-40E9-9454-044698FF0A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B45C4-6EEE-4601-A234-7CEC2D8EF5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1 Через 30—60 м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бщая слаб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онлив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арушается координация движений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чь становится невнятн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рачки умеренно расширены, реагируют на св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мечается гиперсалив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ункции дыхания и кровообращения не наруш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степенно наступает глубокий сон или потеря со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2 В состоянии п о в е р х н о с т н о 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жение зрачк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ы глотательный и кашлевой рефлек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нус мышц и сухожильные рефлексы снижа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аноз, тахикардия,гипото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 механическая асфиксия (аспирация слюной, рвотными массами, западение языка, спазм гортани) или угнетения дыхательного цент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6B17A-FB5A-4F97-9248-FFB389F149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B10E6-45FB-46BA-B596-8B707E3CB2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Calibri"/>
              </a:rPr>
              <a:t>Интоксикация </a:t>
            </a: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-(от латин. приставки in - «в» и греч. toxikon — я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зогенн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ступление нейротропных экзотоксинов извн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догенн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ри недостаточности функции различных органов и =&gt; накоплении нейротропных эндотоксинов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сины действуют на межнейрональные связи и приводят к стойким нарушениям сознания  вплоть до ко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3A930-1DFF-4F3D-B2C7-219819FAD6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3    Для стадии г л у б о к о й ко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флексы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лабление мускулатуры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рачки сужены (при асфиксии расширены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а гипертермия центрального гене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жа бледная, сух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ыхание учащается или урежается,ритм становится неправильным (типа Чейна-Стокса). Возможны остановка дыхания, отек легки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ается резко гемодинамика (тахикардия, затем брадикардия, гипотония,коллапс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4     В периоде п о с т к о м а т о з н о г о состоя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епенновосстанавливается деятельность ЦНС, исчезает арефлексия. Однако нарушена координация движений. Типичны нарушения психической деятельности (депрессия, двигательное беспокойство, эмоциональная лабильнос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0A6A9-AA9B-4BEE-B14F-B3122E5327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ом опия является опийный мак Papaver somnife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Й-СЫРЕЦ — в свежем виде липкая, смолоподобная пластичная масса, темно-коричневого цвета, с характерным лакричным запахом. По мере старения пластичность исчезает, масса становится твердой и хрупк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АННЫЙ (ЭКСТРАКЦИОННЫЙ) ОПИЙ - продукт, получаемый из опия-сырца путем различной обработки, обычно методом водной экстракции, фильтрования и выпаривания воды. МЕДИЦИНСКИЙ ОПИЙ — тонкий порошок светло-коричневого цвета с содержанием морфина 9,5—10,5%. Включает добавки «разбавителей»: лактозу, крахмал и другие компоненты. Имеет характерный запах оп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ТОПОН (ОМНОПОН) — светло-коричневый порошок легко растворимый в воде, содержит 48—50% морф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УМНЫЕ ШЛАКИ — продукт, остающийся в трубке после курения опия, еще содержит значительные количества морфина. Смешивается с сырцом или обработанным опием для дальнейшего использ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26920" y="447840"/>
            <a:ext cx="5200920" cy="3900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ешн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ологическ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озировка            ко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следовательность лечебных мероприятий при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отравлениях опиатами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) обеспечение адекватной вентиляции легких (туалет дыхательных путей, оксигенация, ИВ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) назначение адреномиметиков при снижении артериального давления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) мероприятия по удалению опиатов - промывание желудка, форсированный диурез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) дегидратационная терапия (маннит, лазикс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) ощелачивание крови (3% раствор гидрокарбоната натрия 200-400 м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) применение медикаментов, улучшающих метаболизм в ЦНС (пирацетам, актовегин и пр.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) профилактика воспалительных осложнений (антибиотики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7AB3A-CBE3-4116-BA55-A490DA3845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26920" y="447840"/>
            <a:ext cx="5200920" cy="3900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ешн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ологическ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озировка            ко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следовательность лечебных мероприятий при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отравлениях опиатами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) обеспечение адекватной вентиляции легких (туалет дыхательных путей, оксигенация, ИВ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) назначение адреномиметиков при снижении артериального давления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) мероприятия по удалению опиатов - промывание желудка, форсированный диурез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) дегидратационная терапия (маннит, лазикс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) ощелачивание крови (3% раствор гидрокарбоната натрия 200-400 м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) применение медикаментов, улучшающих метаболизм в ЦНС (пирацетам, актовегин и пр.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) профилактика воспалительных осложнений (антибиотики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2F0CA-5620-441F-A08C-D12078E741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D48A5-71AF-4AB0-98D0-587301B8DB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Печёночная к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ченочно-клеточная недостаточ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следствие  массивного некроза ,дистрофии гепатоцит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! -Гепатит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цирроз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лияние гепатотропных ядов (дихлорэтан,мышьяк,фосфор,этанол,четырёххлористый углерод,толуо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бочные эффекты приема различных медикаментов (антидепрессантов, сульфаниламидов, туберкулостатиков,фторотана,тетрациклин,левомицети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хронические алкогольные интокс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окавальные шунты(при заболеваниях с портокавальным сбросом крови ,минуя печень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! –цирроз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ромбоз воротной в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пухоли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0739A-4705-42D6-ADA4-9AFFF90EB9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тогенез печеночной ко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Основны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факторы патогенеза печёночных 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 представлены на рисунк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Гипогликемия. Является результатом нарушения гликогенеза и гликогенолиз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Ацидоз (метаболический, на финальных стадиях дополнительно развивается респираторный и выделительный ацидоз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Дисбаланс ионов в клетках, интерстициальной жидкости и в крови (в крови нарастает [К+], в клетках — [Na+], [Ca2+], [Н+]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Интоксикация организма — эндотоксинемия (особенно продуктами белкового и липидного обмена (!гипераммониемия,меркаптанемия,высокая концентрация свободных жирных кислот), а также непрямым билирубином, что обусловлено нарушением его трансформации и конъюгации с глюкуроновой кислотой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Нарушения центральной, органотканевой и микрогемоциркуляции как следствие сердечной недостаточности, нарушения тонуса артериол, развития феномена сладж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Полиорганная недостаточность. Ранее всего и наиболее выраженно нарушается функции сердца, дыхательного и кардиовазомоторного центров. Последнее приводит к смешанной гипоксии, прекращению сердечной деятельности, дыхания и смерти пациен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548A5-BA5F-4720-B951-FB9D0B8635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4073E-3B56-40AE-B03C-AA96C94CB9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ческие особенности печёночн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стадии развития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1- пре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2-угрожающая ко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воеобразный хлопающий тремор пальцев рук,тремор век и гу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3- собственно ко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«печеночный» запах , желтуха ,кожный зуд , расчёсы ,печёночные ладо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еморрагический синдром (язык малиновый , сосочки сглаже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ёчно-асцитический синдром,; олигу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ыхание  типа Куссмау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лихорадка ,пальпация печени болезнен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A05BB-D005-4012-82DB-A1DE28E38C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33128-F139-41D3-BFDD-F7397DA4A1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бораторные 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лейкоцитоз , анем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иперазотемия , ускорение СОЭ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и снижении уровня общего белка и альбуминов ,  высокий уровень гамма-глобулинов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факторов свёртывания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 уровня калия , ↓ холестер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↑↑↑ билируб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 аминотрансфераз и холинэстеразы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ча :темно-желт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a04da3"/>
                </a:solidFill>
                <a:latin typeface="Times New Roman"/>
              </a:rPr>
              <a:t>=&gt; Смерть от остановки дыхания , острого отёка мозга, отёка лёгких ,  почечной недостаточности ,  инфекционно-токсического ш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DF18E-3F1E-4F19-98C3-93FDCCB4AB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Уремическая к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инальная стадия ХП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a04da3"/>
                </a:solidFill>
                <a:latin typeface="Times New Roman"/>
              </a:rPr>
              <a:t>Этиология ХП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гломеруло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иело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стициальный 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иабетический нефроскле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амилоид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ликистоз по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оллагено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миеломная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0E7EB-320D-41AC-A3BF-6D70018A2A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генез уремическ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ическое нарушение функции по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убочковой фильтрации до 10 мл/м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Symbol" charset="2"/>
              <a:buChar char="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↑↑↑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ови мочевины выше 30 ммоль/л,креатинин выше 1000 ммоль /л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ше 150 ммоль/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Symbol" charset="2"/>
              <a:buChar char="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аболический ацидоз.отёк головного мозга,нарушение микроцеркуляции,нарушение мозгового крово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66661-1070-4DF8-88DC-C9EFE95D83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ческие особенности уремическ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ало постепенно,предшествуют головные боли,ухудшение зрения,кожный зуд,тошнота,рвота,судор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смотр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ожные покровы и видимые слизистые бледные сухие, на коже возможна «уремическая пудра»,расчёсы геморра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чечные  отё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рачки узк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ибриллярные подёргивания мышц,судороги.сухожильные рефлексы повышены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ыхание  вначале глубокое шумное (типа Куссмауля ),затем поверхностное,неправильное типа Чейна Сток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зо рта запах амми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оны сердца громкие, можно выслушать шум трения перикар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Характерна олигурия или анур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абораторные 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  мочевина  выше 30 ммоль/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атинин - выше1000 мкмоль/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трии - выше 150 ммоль/л; осмолярность плазмы - выше 330мосм/л.    декомпрессированный метаболический ацидо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АМ     Осмолярность   ниже 500 мосм/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убочковая фильтрация ниже 10 мл/м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8AE2-64DB-44B4-93D0-A03FAF06EF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E951-C0D0-480C-9E6B-35274FC2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31970-D6DB-47B1-86E2-0780AC77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E784-E16C-41AF-A48C-9C902E51E0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993B6-FE65-4CEE-8711-29BC08DA17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B5B67-FD4B-40C5-A91E-68FADCEF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415F3-6AC9-49E2-B32F-FD506DF3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3B281-E577-4B13-A278-D065F547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B41FF-93D8-4477-88AA-A6CB7A71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FF94F-D8C6-4E5D-A1E8-5150A04B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7DB52-FA70-4F0A-A535-D7FEBF96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9BE3-0C18-44D4-833F-16FD826E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53629-87EA-4EA7-AF4A-FAF6FE58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28057-792D-4967-A9D5-18C745AC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329C1-D6E2-4F5C-88D0-BBFB534B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806A7-9D86-4D1B-895C-0C48F023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697D8-557E-4E2B-8677-8C98225A82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B2D3-52AB-4E63-9C86-B8BB31251B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E40B-7D02-4404-B568-999D808B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D837-81C4-4530-B4F6-4FE331AF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53E8-E546-45C1-8261-B5888C24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DA5B-E8D2-4D69-81E0-F4C80B94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E1AF-F196-4FC5-B1E2-35CEA8B8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F05B-C073-4BD2-B3AD-C23E8BC8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27BB-F266-4891-90D5-50DF3490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81C1-236D-4CCB-A0D7-B3CEACFE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A17D-6303-4165-8BAE-02FFC91C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0077-3CC6-4468-8207-0DEC058B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BA1B-AD1D-47B7-8DC2-432E845E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A5A5-6ABA-4AB5-98B7-BA35B2EA8E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99CDA-7AA5-40FD-92E1-B49E7E9BE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E6E4C-07D1-40E5-97AD-A3E4E14E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12217-BE37-4615-9350-F19B10F3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4FDE9-289E-4042-92AA-EF0F29DA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EBD62-16CC-43E4-AF5D-CAE09B26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17611-F734-4ED8-8F82-4FDB52F7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2DF34-EEEE-4D41-A324-89293EBF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54111-FCA3-46FD-AFA9-A09D4AD0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F6D3B-848E-4B13-A9EF-B2D47720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7DFAA-3A6B-4518-B92B-D668BAE5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3752F-2D8D-4681-9483-01795049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DB3AE-2CEE-4CF2-AD7D-16D2BB7C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5EEFA-ADA7-4A29-B444-6FE490AEAD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777F0-715E-4513-8B4B-A985FC68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A3B6-2BD8-4B58-B0B0-58EA846C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7F82C-4EC2-4C12-92FF-2C35DDCD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6208A-6045-4F6E-97BB-752D4B42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5411-30AA-45AD-81D7-002FF722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F69DF-61A7-4D05-8157-AD222E9C220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DD4A6AB-A911-48FF-8312-584F371AA630}" type="slidenum"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550E209-35C6-4BFE-87FC-0796F1DA11D6}" type="slidenum"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7CD789-F4B4-4E1E-A73C-6416428B2272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479080" cy="3949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642960" y="4214880"/>
            <a:ext cx="80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туденческий научный кружок кафедры госпитальной терапии № 2 РГМУ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полнила Рейхтман Т.Б.   Гр. 607 Б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Алкогольная ком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14200" y="1643040"/>
            <a:ext cx="878688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звана употреблением этилового спирта и его суррогатов (денатураты,одеколоны,лосьоны, морилка,метиловый спирт, этиленкликоль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 развивается при концентрации этанола в крови около 3 г/л, летальный исход - выше 5 г/л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85840" y="0"/>
            <a:ext cx="86439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3548a"/>
                </a:solidFill>
                <a:latin typeface="Calibri"/>
                <a:ea typeface="Times New Roman"/>
              </a:rPr>
              <a:t>Механизм токсического действия и патогенез интоксикации этанолом</a:t>
            </a:r>
            <a:r>
              <a:rPr b="1" lang="ru-RU" sz="1800" spc="-1" strike="noStrike">
                <a:solidFill>
                  <a:srgbClr val="53548a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26" name="Group 2"/>
          <p:cNvGrpSpPr/>
          <p:nvPr/>
        </p:nvGrpSpPr>
        <p:grpSpPr>
          <a:xfrm>
            <a:off x="2362320" y="1000080"/>
            <a:ext cx="4417920" cy="5856480"/>
            <a:chOff x="2362320" y="1000080"/>
            <a:chExt cx="4417920" cy="5856480"/>
          </a:xfrm>
        </p:grpSpPr>
        <p:pic>
          <p:nvPicPr>
            <p:cNvPr id="227" name="Picture 3" descr=""/>
            <p:cNvPicPr/>
            <p:nvPr/>
          </p:nvPicPr>
          <p:blipFill>
            <a:blip r:embed="rId1"/>
            <a:stretch/>
          </p:blipFill>
          <p:spPr>
            <a:xfrm>
              <a:off x="2362320" y="1000080"/>
              <a:ext cx="4417920" cy="585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4"/>
            <p:cNvSpPr/>
            <p:nvPr/>
          </p:nvSpPr>
          <p:spPr>
            <a:xfrm>
              <a:off x="2362320" y="1000080"/>
              <a:ext cx="4417920" cy="58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428760" y="212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клиник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57200" y="13572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3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токсикогенной стадии — алкогольная кома, нарушения внешнего дыхания, нарушения гемодинамики;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соматогенной стадии — психоневрологические расстройства, воспалительные поражения органов дыхания, миоренальный синдром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1. Токсикогенная стадия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Алкогольная ком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еспецифична и не зависит от концентрации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сли лечение алкогольной комы не приводит к положительной динамики в состоянии больного в течение 3 часов, то, либо имеются нераспознанные осложнения (например, черепно-мозговая травма), либо причиной комы послужило не алкогольное отравление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Нарушения внешнего дыхания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условлены обтурационно-аспирационными осложнениями вследствие гиперсаливации, бронхореи, ларинго-бронхоспазма, аспирации рвотных масс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рушение по центральному типу — причина смерти на догоспитальном этапе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гемодинамик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зможны стойкие нарушения ритма и проводимости сердца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!  нарушение регуляции сосудистого тонуса и гиповолемией, которые наиболее выражены при глубокой алкогольной ком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Соматогенная стад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дорожный синдро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оренальный синдро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3 стадии алкогольной комы: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адии наблюдается гипертонус мышц конечностей, тризм жевательной мускулатуры, фибрилляции мышц, рефлексы сохранены. Зрачки узкие, глазные яблоки ≪плавают≫, лицо гиперемировано; гиперсаливация, рвот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 II стадии мышечный тонус и сухожильные рефлексы исчезают, но двигательная реакция на болевые раздражения сохраняется. Артериальное давление снижается, пульс частый, слабый. Дыхание замедляется. Непроизвольные мочеиспускания и дефекац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III стадии дыхание становится аритмичным, редким, клокочущим; нарастает цианоз лица и акроцианоз, зрачки расширяются, склеры резко инъецированы. Артериальное давление и ЦВД низкие, пульс нитевидный, часто аритмичный. Чувствительность и рефлексы отсутствуют 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360360" y="2519280"/>
            <a:ext cx="3240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Тактика ведения пациента с острой интоксикац алкоголем</a:t>
            </a: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34" name="Group 2"/>
          <p:cNvGrpSpPr/>
          <p:nvPr/>
        </p:nvGrpSpPr>
        <p:grpSpPr>
          <a:xfrm>
            <a:off x="3357720" y="142920"/>
            <a:ext cx="5279760" cy="6713640"/>
            <a:chOff x="3357720" y="142920"/>
            <a:chExt cx="5279760" cy="6713640"/>
          </a:xfrm>
        </p:grpSpPr>
        <p:pic>
          <p:nvPicPr>
            <p:cNvPr id="235" name="Picture 3" descr=""/>
            <p:cNvPicPr/>
            <p:nvPr/>
          </p:nvPicPr>
          <p:blipFill>
            <a:blip r:embed="rId1"/>
            <a:stretch/>
          </p:blipFill>
          <p:spPr>
            <a:xfrm>
              <a:off x="3357720" y="142920"/>
              <a:ext cx="5279760" cy="671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4"/>
            <p:cNvSpPr/>
            <p:nvPr/>
          </p:nvSpPr>
          <p:spPr>
            <a:xfrm>
              <a:off x="3357720" y="142920"/>
              <a:ext cx="5279760" cy="67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Наркотическая ком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рко́тик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от греч. narkotikós — приводящий в оцепенение, одурманивающий) — группа веществ вызывающих физическую зависимость, не связанных с нормальной жизнедеятельностью. Как следствие из данного определения: Наркотики — вещества, способные вызвать болезнь наркоманию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читается что термин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ркоти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ναρκωτικός) был впервые употреблен греческим целителем Галеном, в частности для описания веществ, вызывающих потерю чувствительности или паралич. Данный термин также употреблял Гиппократ. В качестве таких веществ Гален, например, упоминал корень мандрагоры, семена эклаты и мака (опиум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"/>
          <p:cNvGrpSpPr/>
          <p:nvPr/>
        </p:nvGrpSpPr>
        <p:grpSpPr>
          <a:xfrm>
            <a:off x="0" y="142920"/>
            <a:ext cx="9142560" cy="6213600"/>
            <a:chOff x="0" y="142920"/>
            <a:chExt cx="9142560" cy="6213600"/>
          </a:xfrm>
        </p:grpSpPr>
        <p:pic>
          <p:nvPicPr>
            <p:cNvPr id="240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142920"/>
              <a:ext cx="9142560" cy="621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3"/>
            <p:cNvSpPr/>
            <p:nvPr/>
          </p:nvSpPr>
          <p:spPr>
            <a:xfrm>
              <a:off x="0" y="142920"/>
              <a:ext cx="9142560" cy="62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"/>
          <p:cNvGrpSpPr/>
          <p:nvPr/>
        </p:nvGrpSpPr>
        <p:grpSpPr>
          <a:xfrm>
            <a:off x="214200" y="214200"/>
            <a:ext cx="8642520" cy="6284880"/>
            <a:chOff x="214200" y="214200"/>
            <a:chExt cx="8642520" cy="6284880"/>
          </a:xfrm>
        </p:grpSpPr>
        <p:pic>
          <p:nvPicPr>
            <p:cNvPr id="243" name="Picture 2" descr=""/>
            <p:cNvPicPr/>
            <p:nvPr/>
          </p:nvPicPr>
          <p:blipFill>
            <a:blip r:embed="rId1"/>
            <a:stretch/>
          </p:blipFill>
          <p:spPr>
            <a:xfrm>
              <a:off x="214200" y="214200"/>
              <a:ext cx="8642520" cy="62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3"/>
            <p:cNvSpPr/>
            <p:nvPr/>
          </p:nvSpPr>
          <p:spPr>
            <a:xfrm>
              <a:off x="214200" y="214200"/>
              <a:ext cx="8642520" cy="62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            </a:t>
            </a: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барбитурат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457200" y="1500120"/>
            <a:ext cx="822960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носятся к психотропным снотворным средства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енобарбитал (люминал), барбитал (веронал), барбитал-натрий (мединал), этаминал-натрий (нембутал), гексобарбита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 стадии интоксикаци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-засыпания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- поверхностной комы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- глубокой комы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- пробужд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17146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457200" y="357120"/>
            <a:ext cx="8229600" cy="60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1 Через 30—60 мин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бщая слабость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сонливость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нарушается координация движений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речь становится невнятной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Зрачки умеренно расширены, реагируют на свет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тмечается гиперсаливация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Функции дыхания и кровообращения не нарушен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Постепенно наступает глубокий сон или потеря созна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2 В состоянии п о в е р х н о с т н о й ком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ужение зрачков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хранены глотательный и кашлевой рефлекс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онус мышц и сухожильные рефлексы снижаютс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Цианоз, тахикардия,гипото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можно механическая асфиксия (аспирация слюной, рвотными массами, западение языка, спазм гортани) или угнетения дыхательного центр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457200" y="687240"/>
            <a:ext cx="82296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424456"/>
                </a:solidFill>
                <a:latin typeface="Calibri"/>
              </a:rPr>
              <a:t>Интоксикация </a:t>
            </a:r>
            <a:r>
              <a:rPr b="0" lang="ru-RU" sz="2800" spc="-1" strike="noStrike">
                <a:solidFill>
                  <a:srgbClr val="424456"/>
                </a:solidFill>
                <a:latin typeface="Calibri"/>
              </a:rPr>
              <a:t>-(от латин. приставки in - «в» и греч. toxikon — яд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зоген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оступление нейротропных экзотоксинов извне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ндоген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ри недостаточности функции различных органов и =&gt; накоплении нейротропных эндотоксинов 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" charset="2"/>
              <a:buChar char="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ксины действуют на межнейрональные связи и приводят к стойким нарушениям сознания  вплоть до ком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457200" y="428760"/>
            <a:ext cx="822960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3    Для стадии г л у б о к о й комы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ефлексы отсутствую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слабление мускулатуры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рачки сужены (при асфиксии расширены)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можна гипертермия центрального генез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ожа бледная, суха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ыхание учащается или урежается,ритм становится неправильным (типа Чейна-Стокса). Возможны остановка дыхания, отек легких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рушается резко гемодинамика (тахикардия, затем брадикардия, гипотония,коллапс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4     В периоде п о с т к о м а т о з н о г о состоя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степенновосстанавливается деятельность ЦНС, исчезает арефлексия. Однако нарушена координация движений. Типичны нарушения психической деятельности (депрессия, двигательное беспокойство, эмоциональная лабильность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6215040" y="0"/>
            <a:ext cx="2841480" cy="18572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662400" y="92880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иа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357120" y="1928880"/>
            <a:ext cx="842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сточником опия является опийный мак Papaver somniferu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Прямоугольник 6"/>
          <p:cNvSpPr/>
          <p:nvPr/>
        </p:nvSpPr>
        <p:spPr>
          <a:xfrm>
            <a:off x="428760" y="2214720"/>
            <a:ext cx="814392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ид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ПИЙ-СЫРЕЦ — в свежем виде липкая, смолоподобная пластичная масса, темно-коричневого цвета, с характерным лакричным запахом. По мере старения пластичность исчезает, масса становится твердой и хрупко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БРАБОТАННЫЙ (ЭКСТРАКЦИОННЫЙ) ОПИЙ - продукт, получаемый из опия-сырца путем различной обработки, обычно методом водной экстракции, фильтрования и выпаривания воды. МЕДИЦИНСКИЙ ОПИЙ — тонкий порошок светло-коричневого цвета с содержанием морфина 9,5—10,5%. Включает добавки «разбавителей»: лактозу, крахмал и другие компоненты. Имеет характерный запах оп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АНТОПОН (ОМНОПОН) — светло-коричневый порошок легко растворимый в воде, содержит 48—50% морфин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ПИУМНЫЕ ШЛАКИ — продукт, остающийся в трубке после курения опия, еще содержит значительные количества морфина. Смешивается с сырцом или обработанным опием для дальнейшего использова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28760" y="1214280"/>
            <a:ext cx="82152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Внешние изменения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Физиологические изменения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ередозировка            ко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Стрелка вправо 3"/>
          <p:cNvSpPr/>
          <p:nvPr/>
        </p:nvSpPr>
        <p:spPr>
          <a:xfrm>
            <a:off x="3000240" y="5214960"/>
            <a:ext cx="406440" cy="270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56760" y="999720"/>
            <a:ext cx="822636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ледовательность лечебных мероприятий при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влениях опиатам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) обеспечение адекватной вентиляции легких (туалет дыхательных путей, оксигенация, ИВЛ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) назначение адреномиметиков при снижении артериального давления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) мероприятия по удалению опиатов - промывание желудка, форсированный диурез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) дегидратационная терапия (маннит, лазикс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) ощелачивание крови (3% раствор гидрокарбоната натрия 200-400 мл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) применение медикаментов, улучшающих метаболизм в ЦНС (пирацетам, актовегин и пр.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) профилактика воспалительных осложнений (антибиотики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6840" y="2571840"/>
            <a:ext cx="822636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500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Печёночная кома.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214200" y="1571760"/>
            <a:ext cx="864396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Этиологи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еченочно-клеточная недостаточность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(вследствие  массивного некроза ,дистрофии гепатоцитов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?! -Гепатит В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цирроз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влияние гепатотропных ядов (дихлорэтан,мышьяк,фосфор,этанол,четырёххлористый углерод,толуол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побочные эффекты приема различных медикаментов (антидепрессантов, сульфаниламидов, туберкулостатиков,фторотана,тетрациклин,левомицетин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хронические алкогольные интоксикаци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ртокавальные шунты(при заболеваниях с портокавальным сбросом крови ,минуя печень 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?! –цирроз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тромбоз воротной вены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опухоли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28760" y="121428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3548a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Патогенез печеночной ком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11" name="Group 2"/>
          <p:cNvGrpSpPr/>
          <p:nvPr/>
        </p:nvGrpSpPr>
        <p:grpSpPr>
          <a:xfrm>
            <a:off x="0" y="1857240"/>
            <a:ext cx="8999640" cy="4427640"/>
            <a:chOff x="0" y="1857240"/>
            <a:chExt cx="8999640" cy="4427640"/>
          </a:xfrm>
        </p:grpSpPr>
        <p:pic>
          <p:nvPicPr>
            <p:cNvPr id="21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857240"/>
              <a:ext cx="8999640" cy="44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4"/>
            <p:cNvSpPr/>
            <p:nvPr/>
          </p:nvSpPr>
          <p:spPr>
            <a:xfrm>
              <a:off x="0" y="1857240"/>
              <a:ext cx="8999640" cy="44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581040"/>
            <a:ext cx="822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Клинические особенности печёночной ком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260360" y="20908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 стадии развития 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1- преко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2-угрожающая ком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Своеобразный хлопающий тремор пальцев рук,тремор век и губ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3- собственно ком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«печеночный» запах , желтуха ,кожный зуд , расчёсы ,печёночные ладон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геморрагический синдром (язык малиновый , сосочки сглажены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тёчно-асцитический синдром,; олигур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дыхание  типа Куссмаул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лихорадка ,пальпация печени болезнен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536400"/>
            <a:ext cx="82296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Лабораторные данны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лейкоцитоз , анемия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гиперазотемия , ускорение СОЭ 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при снижении уровня общего белка и альбуминов ,  высокий уровень гамма-глобулинов 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факторов свёртывания 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 уровня калия , ↓ холестерин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↑↑↑ билирубин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 аминотрансфераз и холинэстеразы 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оча :темно-желта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a04da3"/>
                </a:solidFill>
                <a:latin typeface="Constantia"/>
              </a:rPr>
              <a:t>=&gt; Смерть от остановки дыхания , острого отёка мозга, отёка лёгких ,  почечной недостаточности ,  инфекционно-токсического шок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Уремическая кома.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461880" y="18892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финальная стадия ХПН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Wingdings" charset="2"/>
              <a:buChar char="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a04da3"/>
                </a:solidFill>
                <a:latin typeface="Constantia"/>
              </a:rPr>
              <a:t>Этиология ХП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гломеруло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пиело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интерстициальный 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диабетический нефросклероз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амилоидоз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поликистоз поче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коллагеноз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миеломная болезн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buClr>
                <a:srgbClr val="4244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Патогенез уремической ком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итическое нарушение функции поче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лубочковой фильтрации до 10 мл/ми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buClr>
                <a:srgbClr val="a04da3"/>
              </a:buClr>
              <a:buFont typeface="Symbol" charset="2"/>
              <a:buChar char="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↑↑↑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рови мочевины выше 30 ммоль/л,креатинин выше 1000 ммоль /л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 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ше 150 ммоль/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buClr>
                <a:srgbClr val="a04da3"/>
              </a:buClr>
              <a:buFont typeface="Symbol" charset="2"/>
              <a:buChar char="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таболический ацидоз.отёк головного мозга,нарушение микроцеркуляции,нарушение мозгового кровообращ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428760" y="19080"/>
            <a:ext cx="822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Клинические особенности уремической ком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428760" y="1071720"/>
            <a:ext cx="822960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чало постепенно,предшествуют головные боли,ухудшение зрения,кожный зуд,тошнота,рвота,судороги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осмотр 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кожные покровы и видимые слизистые бледные сухие, на коже возможна «уремическая пудра»,расчёсы геморраг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почечные  отёк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зрачки узки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фибриллярные подёргивания мышц,судороги.сухожильные рефлексы повышены 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дыхание  вначале глубокое шумное (типа Куссмауля ),затем поверхностное,неправильное типа Чейна Стокса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Изо рта запах аммиак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Тоны сердца громкие, можно выслушать шум трения перикарда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Характерна олигурия или анурия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Лабораторные данные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  мочевина  выше 30 ммоль/л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реатинин - выше1000 мкмоль/л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трии - выше 150 ммоль/л; осмолярность плазмы - выше 330мосм/л.    декомпрессированный метаболический ацидоз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АМ     Осмолярность   ниже 500 мосм/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лубочковая фильтрация ниже 10 мл/мин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2:07:46Z</dcterms:created>
  <dc:creator>томсон</dc:creator>
  <dc:description/>
  <dc:language>en-US</dc:language>
  <cp:lastModifiedBy>LEGION</cp:lastModifiedBy>
  <dcterms:modified xsi:type="dcterms:W3CDTF">2014-11-07T11:28:34Z</dcterms:modified>
  <cp:revision>91</cp:revision>
  <dc:subject/>
  <dc:title>Комы при интоксикациях алкогольная наркотическая уремическая печеночная</dc:title>
</cp:coreProperties>
</file>