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9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1142640" y="447840"/>
            <a:ext cx="4568760" cy="390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7006C-A957-48C2-80D7-BA7E6E866F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17A9E-4674-4AE4-ABFD-A93B51736B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AF42B-221C-41D3-8B8F-20242DB0CC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Алкогольная 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звана употреблением этилового спирта и его суррогатов (денатураты,одеколоны,лосьоны, морилка,метиловый спирт, этиленклико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 развивается при концентрации этанола в крови около 3 г/л, летальный исход - выше 5 г/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22A05-AF69-4480-AAD2-A20A614D56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53548a"/>
                </a:solidFill>
                <a:latin typeface="Calibri"/>
                <a:ea typeface="Times New Roman"/>
              </a:rPr>
              <a:t>Механизм токсического действия и патогенез интоксикации этанолом</a:t>
            </a:r>
            <a:r>
              <a:rPr b="1" lang="ru-RU" sz="1600" spc="-1" strike="noStrike">
                <a:solidFill>
                  <a:srgbClr val="53548a"/>
                </a:solidFill>
                <a:latin typeface="Calibri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Этиловый спирт относится к депрессантам ЦНС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Этанол воздействует на рецепторы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гамма-аминомаслянной кислоты (ГАМК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, одного из нейромедиаторов в центральной нервной системе и вызывает успокаивающий и снижающий тревогу эффек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160" indent="-244440">
              <a:lnSpc>
                <a:spcPct val="7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Отсюда следует, что совместное использование алкоголя и бензодиазепинов может привести к тяжелым последствиям в виде передозировки и излишнего подавления деятельности мозговых цент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Этанол блокирует действие нейротрансмиттера глютамата , который, как считается, обладает стимулирующим действие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Алкогол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способствует действию основного «успокаивающего» нейротрансмиттера мозга (ГАМК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подавляет действие основного «возбуждающего» нейротрансмиттера (глютамата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В результате, общее действие этанола определяется его успокаивающим и, в какой-то степени, снотворным действием. Подавление активности многочисленных центров центральной нервной системы приводит к снижению чувствительности к боли, или, как говорят, к анальгезирующему эффекту этанол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B1287-D040-4B60-88D1-C85E70967F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ECB39-C36F-4494-887E-77CD4E8B70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токсикогенной стадии — алкогольная кома, нарушения внешнего дыхания, нарушения гемодинам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матогенной стадии — психоневрологические расстройства, воспалительные поражения органов дыхания, миоренальный синд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Токсикогенная ста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когольная 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пецифична и не зависит от концентр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лечение алкогольной комы не приводит к положительной динамики в состоянии больного в течение 3 часов, то, либо имеются нераспознанные осложнения (например, черепно-мозговая травма), либо причиной комы послужило не алкогольное отравл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рушения внешнего дых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условлены обтурационно-аспирационными осложнениями вследствие гиперсаливации, бронхореи, ларинго-бронхоспазма, аспирации рвотных мас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ение по центральному типу — причина смерти на догоспитальном этап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гемодинам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зможны стойкие нарушения ритма и проводимости серд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!  нарушение регуляции сосудистого тонуса и гиповолемией, которые наиболее выражены при глубокой алкогольной ком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Соматогенная стад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дорожный синд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оренальный синд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5DE09-C449-4074-ABB2-00225605F1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3 стадии алкогольной ко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дии наблюдается гипертонус мышц конечностей, тризм жевательной мускулатуры, фибрилляции мышц, рефлексы сохранены. Зрачки узкие, глазные яблоки ≪плавают≫, лицо гиперемировано; гиперсаливация, рво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II стадии мышечный тонус и сухожильные рефлексы исчезают, но двигательная реакция на болевые раздражения сохраняется. Артериальное давление снижается, пульс частый, слабый. Дыхание замедляется. Непроизвольные мочеиспускания и дефек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III стадии дыхание становится аритмичным, редким, клокочущим; нарастает цианоз лица и акроцианоз, зрачки расширяются, склеры резко инъецированы. Артериальное давление и ЦВД низкие, пульс нитевидный, часто аритмичный. Чувствительность и рефлексы отсутствуют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4435A-856C-49F0-A4B2-1346AB883F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Тактика ведения пациента с острой интоксикац алкоголем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FFE4B-9592-4276-900C-C14F7917FA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424456"/>
                </a:solidFill>
                <a:latin typeface="Calibri"/>
              </a:rPr>
              <a:t>Наркотическая ком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рко́тики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от греч. narkotikós — приводящий в оцепенение, одурманивающий) — группа веществ вызывающих физическую зависимость, не связанных с нормальной жизнедеятельностью. Как следствие из данного определения: Наркотики — вещества, способные вызвать болезнь наркоманию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читается что термин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ркотик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ναρκωτικός) был впервые употреблен греческим целителем Галеном, в частности для описания веществ, вызывающих потерю чувствительности или паралич. Данный термин также употреблял Гиппократ. В качестве таких веществ Гален, например, упоминал корень мандрагоры, семена эклаты и мака (опиум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Наркотики знакомы людям уже несколько тысяч лет. Их потребляли люди разных культур, в разных целях: во время религиозных обрядов, для восстановления сил, для изменения сознания, для снятия боли и неприятных ощущений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 Уже в дописьменный период мы имеем свидетельства того, что люди знали и использовали психоактивные химические вещества: алкоголь и растения, потребление которых влияет на сознани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Археологические исследования показали, что уже в 6400 г. до н.э. люди знали пиво и некоторые другие алкогольные напитк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Очевидно, процессы брожения были открыты случайно (виноградное вино, между прочим, появилось только в 4-3 вв. до н.э.). Первое письменное свидетельство использования интоксикантов – рассказ о пьянстве Ноя из Книги Бытия. Использовались и различные растения, вызывающие физиологические и психические изменения, обычно в религиозных обрядах или при проведении медицинских процедур. Пример – использование на Ближнем Востоке в 5 тыс. до н.э. "злака радости" (по всей видимости, опиумного мака). Около 2700 г. до н.э. в Китае уже использовали коноплю (в виде настоя, как чай): император Шен Нунг предписывал своим подданным принимать ее в качестве лекарства от подагры и рассеянности. Люди каменного века знали опиум, гашиш и кокаин и использовали эти наркотики для изменения сознания (в ходе религиозных обрядов) и при подготовке к сражению. На стенах погребальных комплексов индейцев Центральной и Южной Америки есть изображения людей, жующих листья коки (один из способов приема кокаина), датируемые серединой 3 тыс. до нашей эры. Нужно иметь в виду, что факт использования наркотика в одной культуре не дает нам права предполагать, что и в других культурах в это же самое время люди знали этот наркотик и употребляли его. Как и сейчас, в употреблении наркотиков людьми разных культур есть и сходства и различ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5FD4F-EF03-4AA4-949A-CE85B0E56A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405E1-6786-4F57-B786-2D95DDA505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Современное представление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перечень наркотических средств, психотропных веществ и их прекурсоров,  подлежащих контролю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3 группы 1  в зависимости от мер контроля…особые,общие ,некоторые ме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ссмотрим таблицу лек препаратов способных вызывать к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36BD6-1933-4428-AD5D-6915953F93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BC33A-F347-45B0-97E4-686DE6A08E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B4F71-D751-4BF2-AA99-6A5D03404E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барбитур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ятся к психотропным снотворным средств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нобарбитал (люминал), барбитал (веронал), барбитал-натрий (мединал), этаминал-натрий (нембутал), гексобарбита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стадии интокс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-засыпа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- поверхностной ко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- глубокой ко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- пробуж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В настоящее время острые отравления снотворными преп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тами занимают одно из ведущих мест среди острых быт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интоксик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Препараты барбитуратовой кислоты (барбиту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ты), наиболее часто применяемые в медицине, следующ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фенобарбитал (люминал), барбитал (веронал), барбитал-н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трий (мединал), этаминал-натрий (нембутал), гексобарбитал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др. Эта группа включает в себя препараты длительного дей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вия (8—12 часов) — барбитал, барбитал-натрий, фенобарб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средней продолжительности действия (6—8 часов) — барбами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этаминал-натрий; короткого действия (4—6 часов) — гексобар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бит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476BE-A7C4-4F06-8771-585C0AA03E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5CA98-6957-4EB8-A4E3-B2AA90FF5D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1 Через 30—60 м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бщая слаб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онлив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арушается координация движений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чь становится невнятн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рачки умеренно расширены, реагируют на св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мечается гиперсалив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ункции дыхания и кровообращения не наруш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степенно наступает глубокий сон или потеря со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2 В состоянии п о в е р х н о с т н о 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жение зрачк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ы глотательный и кашлевой рефлек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нус мышц и сухожильные рефлексы снижа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аноз, тахикардия,гипото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 механическая асфиксия (аспирация слюной, рвотными массами, западение языка, спазм гортани) или угнетения дыхательного цент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4AD23-1C7A-42F4-8D21-A3E39EB2B5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BBF20-49D1-40EC-8479-1B9FF613EA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Calibri"/>
              </a:rPr>
              <a:t>Интоксикация </a:t>
            </a: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-(от латин. приставки in - «в» и греч. toxikon — я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зогенн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ступление нейротропных экзотоксинов извн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догенн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ри недостаточности функции различных органов и =&gt; накоплении нейротропных эндотоксинов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сины действуют на межнейрональные связи и приводят к стойким нарушениям сознания  вплоть до ко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46692-190B-4F8A-B7AF-EB76457329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3    Для стадии г л у б о к о й ко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флексы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лабление мускулатуры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рачки сужены (при асфиксии расширены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а гипертермия центрального гене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жа бледная, сух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ыхание учащается или урежается,ритм становится неправильным (типа Чейна-Стокса). Возможны остановка дыхания, отек легки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ается резко гемодинамика (тахикардия, затем брадикардия, гипотония,коллапс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4     В периоде п о с т к о м а т о з н о г о состоя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епенновосстанавливается деятельность ЦНС, исчезает арефлексия. Однако нарушена координация движений. Типичны нарушения психической деятельности (депрессия, двигательное беспокойство, эмоциональная лабильнос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F84D3-5F3F-4E4D-84AA-A5686ACAC2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ом опия является опийный мак Papaver somnife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Й-СЫРЕЦ — в свежем виде липкая, смолоподобная пластичная масса, темно-коричневого цвета, с характерным лакричным запахом. По мере старения пластичность исчезает, масса становится твердой и хрупк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АННЫЙ (ЭКСТРАКЦИОННЫЙ) ОПИЙ - продукт, получаемый из опия-сырца путем различной обработки, обычно методом водной экстракции, фильтрования и выпаривания воды. МЕДИЦИНСКИЙ ОПИЙ — тонкий порошок светло-коричневого цвета с содержанием морфина 9,5—10,5%. Включает добавки «разбавителей»: лактозу, крахмал и другие компоненты. Имеет характерный запах оп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ТОПОН (ОМНОПОН) — светло-коричневый порошок легко растворимый в воде, содержит 48—50% морф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УМНЫЕ ШЛАКИ — продукт, остающийся в трубке после курения опия, еще содержит значительные количества морфина. Смешивается с сырцом или обработанным опием для дальнейшего использ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26920" y="447840"/>
            <a:ext cx="5200920" cy="3900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ешн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ологическ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озировка            ко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следовательность лечебных мероприятий при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отравлениях опиатами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) обеспечение адекватной вентиляции легких (туалет дыхательных путей, оксигенация, ИВ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) назначение адреномиметиков при снижении артериального давления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) мероприятия по удалению опиатов - промывание желудка, форсированный диурез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) дегидратационная терапия (маннит, лазикс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) ощелачивание крови (3% раствор гидрокарбоната натрия 200-400 м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) применение медикаментов, улучшающих метаболизм в ЦНС (пирацетам, актовегин и пр.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) профилактика воспалительных осложнений (антибиотики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947C9-5BC7-4CE2-9535-F6BFB256D5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26920" y="447840"/>
            <a:ext cx="5200920" cy="3900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ешн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ологическ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озировка            ко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следовательность лечебных мероприятий при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отравлениях опиатами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) обеспечение адекватной вентиляции легких (туалет дыхательных путей, оксигенация, ИВ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) назначение адреномиметиков при снижении артериального давления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) мероприятия по удалению опиатов - промывание желудка, форсированный диурез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) дегидратационная терапия (маннит, лазикс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) ощелачивание крови (3% раствор гидрокарбоната натрия 200-400 м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) применение медикаментов, улучшающих метаболизм в ЦНС (пирацетам, актовегин и пр.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) профилактика воспалительных осложнений (антибиотики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6CC22-8189-4298-98E6-1354381F09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0E717-4420-414D-A549-752375A90C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Печёночная к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ченочно-клеточная недостаточ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следствие  массивного некроза ,дистрофии гепатоцит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! -Гепатит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цирроз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лияние гепатотропных ядов (дихлорэтан,мышьяк,фосфор,этанол,четырёххлористый углерод,толуо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бочные эффекты приема различных медикаментов (антидепрессантов, сульфаниламидов, туберкулостатиков,фторотана,тетрациклин,левомицети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хронические алкогольные интокс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окавальные шунты(при заболеваниях с портокавальным сбросом крови ,минуя печень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! –цирроз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ромбоз воротной в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пухоли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54354-0453-4D9A-8E9B-FA0C77CF7D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тогенез печеночной ко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Основны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факторы патогенеза печёночных 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 представлены на рисунк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Гипогликемия. Является результатом нарушения гликогенеза и гликогенолиз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Ацидоз (метаболический, на финальных стадиях дополнительно развивается респираторный и выделительный ацидоз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Дисбаланс ионов в клетках, интерстициальной жидкости и в крови (в крови нарастает [К+], в клетках — [Na+], [Ca2+], [Н+]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Интоксикация организма — эндотоксинемия (особенно продуктами белкового и липидного обмена (!гипераммониемия,меркаптанемия,высокая концентрация свободных жирных кислот), а также непрямым билирубином, что обусловлено нарушением его трансформации и конъюгации с глюкуроновой кислотой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Нарушения центральной, органотканевой и микрогемоциркуляции как следствие сердечной недостаточности, нарушения тонуса артериол, развития феномена сладж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Полиорганная недостаточность. Ранее всего и наиболее выраженно нарушается функции сердца, дыхательного и кардиовазомоторного центров. Последнее приводит к смешанной гипоксии, прекращению сердечной деятельности, дыхания и смерти пациен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597B8-6644-4B27-872E-51D9CDD6AE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E078B-CE96-4570-BEF5-2F9BDC5C08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ческие особенности печёночн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стадии развития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1- пре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2-угрожающая ко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воеобразный хлопающий тремор пальцев рук,тремор век и гу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3- собственно ко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«печеночный» запах , желтуха ,кожный зуд , расчёсы ,печёночные ладо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еморрагический синдром (язык малиновый , сосочки сглаже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ёчно-асцитический синдром,; олигу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ыхание  типа Куссмау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лихорадка ,пальпация печени болезнен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C300E-DB83-4DC7-829A-A51477BC7E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640A7-5DF2-4FFD-8645-C074CF8E38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бораторные 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лейкоцитоз , анем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иперазотемия , ускорение СОЭ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и снижении уровня общего белка и альбуминов ,  высокий уровень гамма-глобулинов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факторов свёртывания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 уровня калия , ↓ холестер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↑↑↑ билируб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 аминотрансфераз и холинэстеразы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ча :темно-желт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a04da3"/>
                </a:solidFill>
                <a:latin typeface="Times New Roman"/>
              </a:rPr>
              <a:t>=&gt; Смерть от остановки дыхания , острого отёка мозга, отёка лёгких ,  почечной недостаточности ,  инфекционно-токсического ш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21D2E-63EC-4130-BB30-9FCAD64C1B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Уремическая к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инальная стадия ХП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a04da3"/>
                </a:solidFill>
                <a:latin typeface="Times New Roman"/>
              </a:rPr>
              <a:t>Этиология ХП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гломеруло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иело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стициальный 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иабетический нефроскле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амилоид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ликистоз по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оллагено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миеломная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8F9F9-4BA5-423F-95C9-BD892C2F85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генез уремическ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ическое нарушение функции по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убочковой фильтрации до 10 мл/м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Symbol" charset="2"/>
              <a:buChar char="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↑↑↑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ови мочевины выше 30 ммоль/л,креатинин выше 1000 ммоль /л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ше 150 ммоль/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Symbol" charset="2"/>
              <a:buChar char="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аболический ацидоз.отёк головного мозга,нарушение микроцеркуляции,нарушение мозгового крово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16818-F735-4F38-A3A1-A7E0A4ECE3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ческие особенности уремическ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ало постепенно,предшествуют головные боли,ухудшение зрения,кожный зуд,тошнота,рвота,судор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смотр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ожные покровы и видимые слизистые бледные сухие, на коже возможна «уремическая пудра»,расчёсы геморра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чечные  отё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рачки узк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ибриллярные подёргивания мышц,судороги.сухожильные рефлексы повышены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ыхание  вначале глубокое шумное (типа Куссмауля ),затем поверхностное,неправильное типа Чейна Сток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зо рта запах амми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оны сердца громкие, можно выслушать шум трения перикар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Характерна олигурия или анур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абораторные 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  мочевина  выше 30 ммоль/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атинин - выше1000 мкмоль/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трии - выше 150 ммоль/л; осмолярность плазмы - выше 330мосм/л.    декомпрессированный метаболический ацидо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АМ     Осмолярность   ниже 500 мосм/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убочковая фильтрация ниже 10 мл/м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EEF0-2724-4692-BB4E-68E7D36C15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A834-78E3-4264-9D8B-4517688F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2E44-0CAB-4F39-9027-CD625B8D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B02BC-CFEE-4A52-862A-A2DCF64243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A2041-73B1-4D6C-87DD-035A914A2C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F25E6-3609-4641-A071-EAABA3E6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C2274-FFE7-455D-A012-A33F8082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78267-5B50-4D63-BF99-8E647BF0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D43CD-1166-4C9E-A2FC-73D20E93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8657F-BBBB-4253-B990-D2AB8E37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0431A-896A-4A0C-96F7-DCD20AB8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664F-F25A-49ED-9939-182E3D3B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B5758-4ECD-4646-A809-83C425A9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F21CA-9D43-43A4-93A9-4B6ADEBF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49DF8-22BD-4C11-808B-121088AF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B35BD-624E-417A-9AC7-9121E6E3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105D9-84C1-4B11-B739-E264BCEB7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5750-75B3-4EFE-B7F3-9AD02CE5AB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F979-3CD6-4201-8A35-1FC92606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0265-01B1-4808-B3BE-788D5CC7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F3D0-A59E-4F80-BA92-71F9B747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D7D7-463C-4106-A6CF-31A569BA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06E20-605D-4016-8BDD-63B30994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0787-A9B7-41CB-B038-4CFA6C30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54A9-3BE3-4EB6-8A21-988A9A3B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0052-7623-42C5-885E-4D908EFA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DF9F-E0B7-4E1C-AD2A-F94FE6D1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F49F-AE8F-43E0-91C2-E53EA64E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E5CF-E718-4CBB-B6C0-ABD1A14C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53CF-C841-4B9E-93EF-DBFA2535C1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D449D-9092-4C57-AD28-ADD40FF1ED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C6CB3-9C3E-45D1-8C67-E7FB7218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7125E-A076-4BFD-88A4-C501BCFD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5F33C-FE34-4F26-BB32-45ACAC03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180A0-7076-4D08-98E3-DE3A6E66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2FA9F-EE24-427F-AA5A-5E2D24CA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AE69B-4149-4BAF-85B2-28E4C4BA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954CD-9A68-4EBD-A379-4E91FF99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17BF7-0DE5-41A7-A883-626B8A80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1E8C5-C333-41FB-8F38-B9355F46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9AE3E-BAD9-43E9-97B6-5EA4E558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794CB-749B-402F-A2F2-6F7D2053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F20AB-C4FB-42DA-B271-B6CB50FD32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9D5ED-EFC2-44C1-BC0B-5DBA4180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80636-E256-4F05-BE11-6DE41E22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170E9-DDC9-401D-8FB7-9D6CE52F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29334-095D-4A52-BC10-2B9E5804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1570-9DFE-4BAB-A231-BBEC1A14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AD136-02B3-41AC-851B-A21BA39C769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361AB3B-25F8-400F-9057-DAA4D8E9C2D2}" type="slidenum"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A1A3255-8562-464A-80A3-A47CF2EFA43D}" type="slidenum"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B2351B-E337-41B7-B33C-2EE6FB201617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479080" cy="3949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642960" y="4214880"/>
            <a:ext cx="80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туденческий научный кружок кафедры госпитальной терапии № 2 РГМУ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полнила Рейхтман Т.Б.   Гр. 607 Б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Алкогольная ком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14200" y="1643040"/>
            <a:ext cx="878688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звана употреблением этилового спирта и его суррогатов (денатураты,одеколоны,лосьоны, морилка,метиловый спирт, этиленкликоль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 развивается при концентрации этанола в крови около 3 г/л, летальный исход - выше 5 г/л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85840" y="0"/>
            <a:ext cx="86439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3548a"/>
                </a:solidFill>
                <a:latin typeface="Calibri"/>
                <a:ea typeface="Times New Roman"/>
              </a:rPr>
              <a:t>Механизм токсического действия и патогенез интоксикации этанолом</a:t>
            </a:r>
            <a:r>
              <a:rPr b="1" lang="ru-RU" sz="1800" spc="-1" strike="noStrike">
                <a:solidFill>
                  <a:srgbClr val="53548a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26" name="Group 2"/>
          <p:cNvGrpSpPr/>
          <p:nvPr/>
        </p:nvGrpSpPr>
        <p:grpSpPr>
          <a:xfrm>
            <a:off x="2362320" y="1000080"/>
            <a:ext cx="4417920" cy="5856480"/>
            <a:chOff x="2362320" y="1000080"/>
            <a:chExt cx="4417920" cy="5856480"/>
          </a:xfrm>
        </p:grpSpPr>
        <p:pic>
          <p:nvPicPr>
            <p:cNvPr id="227" name="Picture 3" descr=""/>
            <p:cNvPicPr/>
            <p:nvPr/>
          </p:nvPicPr>
          <p:blipFill>
            <a:blip r:embed="rId1"/>
            <a:stretch/>
          </p:blipFill>
          <p:spPr>
            <a:xfrm>
              <a:off x="2362320" y="1000080"/>
              <a:ext cx="4417920" cy="585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4"/>
            <p:cNvSpPr/>
            <p:nvPr/>
          </p:nvSpPr>
          <p:spPr>
            <a:xfrm>
              <a:off x="2362320" y="1000080"/>
              <a:ext cx="4417920" cy="58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428760" y="212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клиник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57200" y="13572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3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токсикогенной стадии — алкогольная кома, нарушения внешнего дыхания, нарушения гемодинамики;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соматогенной стадии — психоневрологические расстройства, воспалительные поражения органов дыхания, миоренальный синдром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1. Токсикогенная стадия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Алкогольная ком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еспецифична и не зависит от концентрации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сли лечение алкогольной комы не приводит к положительной динамики в состоянии больного в течение 3 часов, то, либо имеются нераспознанные осложнения (например, черепно-мозговая травма), либо причиной комы послужило не алкогольное отравление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Нарушения внешнего дыхания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условлены обтурационно-аспирационными осложнениями вследствие гиперсаливации, бронхореи, ларинго-бронхоспазма, аспирации рвотных масс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рушение по центральному типу — причина смерти на догоспитальном этапе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гемодинамик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зможны стойкие нарушения ритма и проводимости сердца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!  нарушение регуляции сосудистого тонуса и гиповолемией, которые наиболее выражены при глубокой алкогольной ком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Соматогенная стад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дорожный синдро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оренальный синдро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3 стадии алкогольной комы: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адии наблюдается гипертонус мышц конечностей, тризм жевательной мускулатуры, фибрилляции мышц, рефлексы сохранены. Зрачки узкие, глазные яблоки ≪плавают≫, лицо гиперемировано; гиперсаливация, рвот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 II стадии мышечный тонус и сухожильные рефлексы исчезают, но двигательная реакция на болевые раздражения сохраняется. Артериальное давление снижается, пульс частый, слабый. Дыхание замедляется. Непроизвольные мочеиспускания и дефекац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III стадии дыхание становится аритмичным, редким, клокочущим; нарастает цианоз лица и акроцианоз, зрачки расширяются, склеры резко инъецированы. Артериальное давление и ЦВД низкие, пульс нитевидный, часто аритмичный. Чувствительность и рефлексы отсутствуют 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360360" y="2519280"/>
            <a:ext cx="3240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Тактика ведения пациента с острой интоксикац алкоголем</a:t>
            </a: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34" name="Group 2"/>
          <p:cNvGrpSpPr/>
          <p:nvPr/>
        </p:nvGrpSpPr>
        <p:grpSpPr>
          <a:xfrm>
            <a:off x="3357720" y="142920"/>
            <a:ext cx="5279760" cy="6713640"/>
            <a:chOff x="3357720" y="142920"/>
            <a:chExt cx="5279760" cy="6713640"/>
          </a:xfrm>
        </p:grpSpPr>
        <p:pic>
          <p:nvPicPr>
            <p:cNvPr id="235" name="Picture 3" descr=""/>
            <p:cNvPicPr/>
            <p:nvPr/>
          </p:nvPicPr>
          <p:blipFill>
            <a:blip r:embed="rId1"/>
            <a:stretch/>
          </p:blipFill>
          <p:spPr>
            <a:xfrm>
              <a:off x="3357720" y="142920"/>
              <a:ext cx="5279760" cy="671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4"/>
            <p:cNvSpPr/>
            <p:nvPr/>
          </p:nvSpPr>
          <p:spPr>
            <a:xfrm>
              <a:off x="3357720" y="142920"/>
              <a:ext cx="5279760" cy="67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Наркотическая ком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рко́тик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от греч. narkotikós — приводящий в оцепенение, одурманивающий) — группа веществ вызывающих физическую зависимость, не связанных с нормальной жизнедеятельностью. Как следствие из данного определения: Наркотики — вещества, способные вызвать болезнь наркоманию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читается что термин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ркоти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ναρκωτικός) был впервые употреблен греческим целителем Галеном, в частности для описания веществ, вызывающих потерю чувствительности или паралич. Данный термин также употреблял Гиппократ. В качестве таких веществ Гален, например, упоминал корень мандрагоры, семена эклаты и мака (опиум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"/>
          <p:cNvGrpSpPr/>
          <p:nvPr/>
        </p:nvGrpSpPr>
        <p:grpSpPr>
          <a:xfrm>
            <a:off x="0" y="142920"/>
            <a:ext cx="9142560" cy="6213600"/>
            <a:chOff x="0" y="142920"/>
            <a:chExt cx="9142560" cy="6213600"/>
          </a:xfrm>
        </p:grpSpPr>
        <p:pic>
          <p:nvPicPr>
            <p:cNvPr id="240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142920"/>
              <a:ext cx="9142560" cy="621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3"/>
            <p:cNvSpPr/>
            <p:nvPr/>
          </p:nvSpPr>
          <p:spPr>
            <a:xfrm>
              <a:off x="0" y="142920"/>
              <a:ext cx="9142560" cy="62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"/>
          <p:cNvGrpSpPr/>
          <p:nvPr/>
        </p:nvGrpSpPr>
        <p:grpSpPr>
          <a:xfrm>
            <a:off x="214200" y="214200"/>
            <a:ext cx="8642520" cy="6284880"/>
            <a:chOff x="214200" y="214200"/>
            <a:chExt cx="8642520" cy="6284880"/>
          </a:xfrm>
        </p:grpSpPr>
        <p:pic>
          <p:nvPicPr>
            <p:cNvPr id="243" name="Picture 2" descr=""/>
            <p:cNvPicPr/>
            <p:nvPr/>
          </p:nvPicPr>
          <p:blipFill>
            <a:blip r:embed="rId1"/>
            <a:stretch/>
          </p:blipFill>
          <p:spPr>
            <a:xfrm>
              <a:off x="214200" y="214200"/>
              <a:ext cx="8642520" cy="62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3"/>
            <p:cNvSpPr/>
            <p:nvPr/>
          </p:nvSpPr>
          <p:spPr>
            <a:xfrm>
              <a:off x="214200" y="214200"/>
              <a:ext cx="8642520" cy="62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            </a:t>
            </a: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барбитурат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457200" y="1500120"/>
            <a:ext cx="822960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носятся к психотропным снотворным средства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енобарбитал (люминал), барбитал (веронал), барбитал-натрий (мединал), этаминал-натрий (нембутал), гексобарбита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 стадии интоксикаци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-засыпания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- поверхностной комы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- глубокой комы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- пробужд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17146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457200" y="357120"/>
            <a:ext cx="8229600" cy="60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1 Через 30—60 мин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бщая слабость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сонливость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нарушается координация движений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речь становится невнятной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Зрачки умеренно расширены, реагируют на свет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тмечается гиперсаливация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Функции дыхания и кровообращения не нарушен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Постепенно наступает глубокий сон или потеря созна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2 В состоянии п о в е р х н о с т н о й ком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ужение зрачков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хранены глотательный и кашлевой рефлекс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онус мышц и сухожильные рефлексы снижаютс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Цианоз, тахикардия,гипото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можно механическая асфиксия (аспирация слюной, рвотными массами, западение языка, спазм гортани) или угнетения дыхательного центр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457200" y="687240"/>
            <a:ext cx="82296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424456"/>
                </a:solidFill>
                <a:latin typeface="Calibri"/>
              </a:rPr>
              <a:t>Интоксикация </a:t>
            </a:r>
            <a:r>
              <a:rPr b="0" lang="ru-RU" sz="2800" spc="-1" strike="noStrike">
                <a:solidFill>
                  <a:srgbClr val="424456"/>
                </a:solidFill>
                <a:latin typeface="Calibri"/>
              </a:rPr>
              <a:t>-(от латин. приставки in - «в» и греч. toxikon — яд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зоген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оступление нейротропных экзотоксинов извне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ндоген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ри недостаточности функции различных органов и =&gt; накоплении нейротропных эндотоксинов 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" charset="2"/>
              <a:buChar char="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ксины действуют на межнейрональные связи и приводят к стойким нарушениям сознания  вплоть до ком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457200" y="428760"/>
            <a:ext cx="822960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3    Для стадии г л у б о к о й комы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ефлексы отсутствую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слабление мускулатуры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рачки сужены (при асфиксии расширены)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можна гипертермия центрального генез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ожа бледная, суха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ыхание учащается или урежается,ритм становится неправильным (типа Чейна-Стокса). Возможны остановка дыхания, отек легких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рушается резко гемодинамика (тахикардия, затем брадикардия, гипотония,коллапс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4     В периоде п о с т к о м а т о з н о г о состоя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степенновосстанавливается деятельность ЦНС, исчезает арефлексия. Однако нарушена координация движений. Типичны нарушения психической деятельности (депрессия, двигательное беспокойство, эмоциональная лабильность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6215040" y="0"/>
            <a:ext cx="2841480" cy="18572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662400" y="92880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иа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357120" y="1928880"/>
            <a:ext cx="842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сточником опия является опийный мак Papaver somniferu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Прямоугольник 6"/>
          <p:cNvSpPr/>
          <p:nvPr/>
        </p:nvSpPr>
        <p:spPr>
          <a:xfrm>
            <a:off x="428760" y="2214720"/>
            <a:ext cx="814392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ид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ПИЙ-СЫРЕЦ — в свежем виде липкая, смолоподобная пластичная масса, темно-коричневого цвета, с характерным лакричным запахом. По мере старения пластичность исчезает, масса становится твердой и хрупко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БРАБОТАННЫЙ (ЭКСТРАКЦИОННЫЙ) ОПИЙ - продукт, получаемый из опия-сырца путем различной обработки, обычно методом водной экстракции, фильтрования и выпаривания воды. МЕДИЦИНСКИЙ ОПИЙ — тонкий порошок светло-коричневого цвета с содержанием морфина 9,5—10,5%. Включает добавки «разбавителей»: лактозу, крахмал и другие компоненты. Имеет характерный запах оп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АНТОПОН (ОМНОПОН) — светло-коричневый порошок легко растворимый в воде, содержит 48—50% морфин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ПИУМНЫЕ ШЛАКИ — продукт, остающийся в трубке после курения опия, еще содержит значительные количества морфина. Смешивается с сырцом или обработанным опием для дальнейшего использова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28760" y="1214280"/>
            <a:ext cx="82152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Внешние изменения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Физиологические изменения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ередозировка            ко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Стрелка вправо 3"/>
          <p:cNvSpPr/>
          <p:nvPr/>
        </p:nvSpPr>
        <p:spPr>
          <a:xfrm>
            <a:off x="3000240" y="5214960"/>
            <a:ext cx="406440" cy="270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56760" y="999720"/>
            <a:ext cx="822636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ледовательность лечебных мероприятий при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влениях опиатам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) обеспечение адекватной вентиляции легких (туалет дыхательных путей, оксигенация, ИВЛ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) назначение адреномиметиков при снижении артериального давления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) мероприятия по удалению опиатов - промывание желудка, форсированный диурез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) дегидратационная терапия (маннит, лазикс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) ощелачивание крови (3% раствор гидрокарбоната натрия 200-400 мл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) применение медикаментов, улучшающих метаболизм в ЦНС (пирацетам, актовегин и пр.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) профилактика воспалительных осложнений (антибиотики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6840" y="2571840"/>
            <a:ext cx="822636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500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Печёночная кома.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214200" y="1571760"/>
            <a:ext cx="864396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Этиологи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еченочно-клеточная недостаточность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(вследствие  массивного некроза ,дистрофии гепатоцитов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?! -Гепатит В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цирроз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влияние гепатотропных ядов (дихлорэтан,мышьяк,фосфор,этанол,четырёххлористый углерод,толуол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побочные эффекты приема различных медикаментов (антидепрессантов, сульфаниламидов, туберкулостатиков,фторотана,тетрациклин,левомицетин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хронические алкогольные интоксикаци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ртокавальные шунты(при заболеваниях с портокавальным сбросом крови ,минуя печень 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?! –цирроз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тромбоз воротной вены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опухоли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28760" y="121428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3548a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Патогенез печеночной ком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11" name="Group 2"/>
          <p:cNvGrpSpPr/>
          <p:nvPr/>
        </p:nvGrpSpPr>
        <p:grpSpPr>
          <a:xfrm>
            <a:off x="0" y="1857240"/>
            <a:ext cx="8999640" cy="4427640"/>
            <a:chOff x="0" y="1857240"/>
            <a:chExt cx="8999640" cy="4427640"/>
          </a:xfrm>
        </p:grpSpPr>
        <p:pic>
          <p:nvPicPr>
            <p:cNvPr id="21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857240"/>
              <a:ext cx="8999640" cy="44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4"/>
            <p:cNvSpPr/>
            <p:nvPr/>
          </p:nvSpPr>
          <p:spPr>
            <a:xfrm>
              <a:off x="0" y="1857240"/>
              <a:ext cx="8999640" cy="44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581040"/>
            <a:ext cx="822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Клинические особенности печёночной ком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260360" y="20908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 стадии развития 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1- преко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2-угрожающая ком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Своеобразный хлопающий тремор пальцев рук,тремор век и губ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3- собственно ком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«печеночный» запах , желтуха ,кожный зуд , расчёсы ,печёночные ладон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геморрагический синдром (язык малиновый , сосочки сглажены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тёчно-асцитический синдром,; олигур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дыхание  типа Куссмаул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лихорадка ,пальпация печени болезнен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536400"/>
            <a:ext cx="82296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Лабораторные данны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лейкоцитоз , анемия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гиперазотемия , ускорение СОЭ 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при снижении уровня общего белка и альбуминов ,  высокий уровень гамма-глобулинов 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факторов свёртывания 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 уровня калия , ↓ холестерин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↑↑↑ билирубин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 аминотрансфераз и холинэстеразы 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оча :темно-желта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a04da3"/>
                </a:solidFill>
                <a:latin typeface="Constantia"/>
              </a:rPr>
              <a:t>=&gt; Смерть от остановки дыхания , острого отёка мозга, отёка лёгких ,  почечной недостаточности ,  инфекционно-токсического шок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Уремическая кома.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461880" y="18892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финальная стадия ХПН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Wingdings" charset="2"/>
              <a:buChar char="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a04da3"/>
                </a:solidFill>
                <a:latin typeface="Constantia"/>
              </a:rPr>
              <a:t>Этиология ХП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гломеруло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пиело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интерстициальный 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диабетический нефросклероз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амилоидоз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поликистоз поче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коллагеноз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миеломная болезн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buClr>
                <a:srgbClr val="4244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Патогенез уремической ком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итическое нарушение функции поче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лубочковой фильтрации до 10 мл/ми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buClr>
                <a:srgbClr val="a04da3"/>
              </a:buClr>
              <a:buFont typeface="Symbol" charset="2"/>
              <a:buChar char="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↑↑↑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рови мочевины выше 30 ммоль/л,креатинин выше 1000 ммоль /л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 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ше 150 ммоль/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buClr>
                <a:srgbClr val="a04da3"/>
              </a:buClr>
              <a:buFont typeface="Symbol" charset="2"/>
              <a:buChar char="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таболический ацидоз.отёк головного мозга,нарушение микроцеркуляции,нарушение мозгового кровообращ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428760" y="19080"/>
            <a:ext cx="822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Клинические особенности уремической ком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428760" y="1071720"/>
            <a:ext cx="822960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чало постепенно,предшествуют головные боли,ухудшение зрения,кожный зуд,тошнота,рвота,судороги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осмотр 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кожные покровы и видимые слизистые бледные сухие, на коже возможна «уремическая пудра»,расчёсы геморраг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почечные  отёк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зрачки узки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фибриллярные подёргивания мышц,судороги.сухожильные рефлексы повышены 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дыхание  вначале глубокое шумное (типа Куссмауля ),затем поверхностное,неправильное типа Чейна Стокса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Изо рта запах аммиак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Тоны сердца громкие, можно выслушать шум трения перикарда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Характерна олигурия или анурия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Лабораторные данные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  мочевина  выше 30 ммоль/л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реатинин - выше1000 мкмоль/л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трии - выше 150 ммоль/л; осмолярность плазмы - выше 330мосм/л.    декомпрессированный метаболический ацидоз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АМ     Осмолярность   ниже 500 мосм/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лубочковая фильтрация ниже 10 мл/мин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2:07:46Z</dcterms:created>
  <dc:creator>томсон</dc:creator>
  <dc:description/>
  <dc:language>en-US</dc:language>
  <cp:lastModifiedBy>LEGION</cp:lastModifiedBy>
  <dcterms:modified xsi:type="dcterms:W3CDTF">2014-11-07T11:28:34Z</dcterms:modified>
  <cp:revision>91</cp:revision>
  <dc:subject/>
  <dc:title>Комы при интоксикациях алкогольная наркотическая уремическая печеночная</dc:title>
</cp:coreProperties>
</file>