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dt" idx="9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Img"/>
          </p:nvPr>
        </p:nvSpPr>
        <p:spPr>
          <a:xfrm>
            <a:off x="1142640" y="447840"/>
            <a:ext cx="4568760" cy="390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D1B79-F08D-4631-A683-63223B08F1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B3D11-8907-4AF1-8B1A-FC39BCC9FC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30F6B-47EA-4E5B-8F81-EAB668C3F6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Алкогольная 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звана употреблением этилового спирта и его суррогатов (денатураты,одеколоны,лосьоны, морилка,метиловый спирт, этиленклико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 развивается при концентрации этанола в крови около 3 г/л, летальный исход - выше 5 г/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1615E-5951-4E4A-B1CF-2F7BCFC232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53548a"/>
                </a:solidFill>
                <a:latin typeface="Calibri"/>
                <a:ea typeface="Times New Roman"/>
              </a:rPr>
              <a:t>Механизм токсического действия и патогенез интоксикации этанолом</a:t>
            </a:r>
            <a:r>
              <a:rPr b="1" lang="ru-RU" sz="1600" spc="-1" strike="noStrike">
                <a:solidFill>
                  <a:srgbClr val="53548a"/>
                </a:solidFill>
                <a:latin typeface="Calibri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Этиловый спирт относится к депрессантам ЦНС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Этанол воздействует на рецепторы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гамма-аминомаслянной кислоты (ГАМК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, одного из нейромедиаторов в центральной нервной системе и вызывает успокаивающий и снижающий тревогу эффек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160" indent="-244440">
              <a:lnSpc>
                <a:spcPct val="7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Отсюда следует, что совместное использование алкоголя и бензодиазепинов может привести к тяжелым последствиям в виде передозировки и излишнего подавления деятельности мозговых цент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Этанол блокирует действие нейротрансмиттера глютамата , который, как считается, обладает стимулирующим действие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Алкогол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способствует действию основного «успокаивающего» нейротрансмиттера мозга (ГАМК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подавляет действие основного «возбуждающего» нейротрансмиттера (глютамата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В результате, общее действие этанола определяется его успокаивающим и, в какой-то степени, снотворным действием. Подавление активности многочисленных центров центральной нервной системы приводит к снижению чувствительности к боли, или, как говорят, к анальгезирующему эффекту этанол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4FB05-0CA4-4B2A-93DD-9C25007737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F36CD-32A3-4118-B56D-588D9D465A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токсикогенной стадии — алкогольная кома, нарушения внешнего дыхания, нарушения гемодинам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матогенной стадии — психоневрологические расстройства, воспалительные поражения органов дыхания, миоренальный синд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Токсикогенная стад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когольная 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пецифична и не зависит от концентр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лечение алкогольной комы не приводит к положительной динамики в состоянии больного в течение 3 часов, то, либо имеются нераспознанные осложнения (например, черепно-мозговая травма), либо причиной комы послужило не алкогольное отравл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рушения внешнего дых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условлены обтурационно-аспирационными осложнениями вследствие гиперсаливации, бронхореи, ларинго-бронхоспазма, аспирации рвотных мас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ушение по центральному типу — причина смерти на догоспитальном этап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гемодинам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зможны стойкие нарушения ритма и проводимости серд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!  нарушение регуляции сосудистого тонуса и гиповолемией, которые наиболее выражены при глубокой алкогольной ком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Соматогенная стад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дорожный синд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оренальный синд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C3C19-E0CF-4FED-A22C-0DE142ADBE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3 стадии алкогольной ко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дии наблюдается гипертонус мышц конечностей, тризм жевательной мускулатуры, фибрилляции мышц, рефлексы сохранены. Зрачки узкие, глазные яблоки ≪плавают≫, лицо гиперемировано; гиперсаливация, рво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II стадии мышечный тонус и сухожильные рефлексы исчезают, но двигательная реакция на болевые раздражения сохраняется. Артериальное давление снижается, пульс частый, слабый. Дыхание замедляется. Непроизвольные мочеиспускания и дефек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III стадии дыхание становится аритмичным, редким, клокочущим; нарастает цианоз лица и акроцианоз, зрачки расширяются, склеры резко инъецированы. Артериальное давление и ЦВД низкие, пульс нитевидный, часто аритмичный. Чувствительность и рефлексы отсутствуют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460E2-CA1E-4635-AC87-CE56B6D40F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Тактика ведения пациента с острой интоксикац алкоголем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78C74-BC45-4EF9-8C4C-5DD167C13A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424456"/>
                </a:solidFill>
                <a:latin typeface="Calibri"/>
              </a:rPr>
              <a:t>Наркотическая ком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рко́тики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(от греч. narkotikós — приводящий в оцепенение, одурманивающий) — группа веществ вызывающих физическую зависимость, не связанных с нормальной жизнедеятельностью. Как следствие из данного определения: Наркотики — вещества, способные вызвать болезнь наркоманию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читается что термин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ркотик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(ναρκωτικός) был впервые употреблен греческим целителем Галеном, в частности для описания веществ, вызывающих потерю чувствительности или паралич. Данный термин также употреблял Гиппократ. В качестве таких веществ Гален, например, упоминал корень мандрагоры, семена эклаты и мака (опиум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Наркотики знакомы людям уже несколько тысяч лет. Их потребляли люди разных культур, в разных целях: во время религиозных обрядов, для восстановления сил, для изменения сознания, для снятия боли и неприятных ощущений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 Уже в дописьменный период мы имеем свидетельства того, что люди знали и использовали психоактивные химические вещества: алкоголь и растения, потребление которых влияет на сознание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Археологические исследования показали, что уже в 6400 г. до н.э. люди знали пиво и некоторые другие алкогольные напитк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Очевидно, процессы брожения были открыты случайно (виноградное вино, между прочим, появилось только в 4-3 вв. до н.э.). Первое письменное свидетельство использования интоксикантов – рассказ о пьянстве Ноя из Книги Бытия. Использовались и различные растения, вызывающие физиологические и психические изменения, обычно в религиозных обрядах или при проведении медицинских процедур. Пример – использование на Ближнем Востоке в 5 тыс. до н.э. "злака радости" (по всей видимости, опиумного мака). Около 2700 г. до н.э. в Китае уже использовали коноплю (в виде настоя, как чай): император Шен Нунг предписывал своим подданным принимать ее в качестве лекарства от подагры и рассеянности. Люди каменного века знали опиум, гашиш и кокаин и использовали эти наркотики для изменения сознания (в ходе религиозных обрядов) и при подготовке к сражению. На стенах погребальных комплексов индейцев Центральной и Южной Америки есть изображения людей, жующих листья коки (один из способов приема кокаина), датируемые серединой 3 тыс. до нашей эры. Нужно иметь в виду, что факт использования наркотика в одной культуре не дает нам права предполагать, что и в других культурах в это же самое время люди знали этот наркотик и употребляли его. Как и сейчас, в употреблении наркотиков людьми разных культур есть и сходства и различ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8495A-DF52-4E1B-8AE1-2086CDA9CC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F5500-D0CC-4E09-B262-2AF104B871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Современное представление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перечень наркотических средств, психотропных веществ и их прекурсоров,  подлежащих контролю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3 группы 1  в зависимости от мер контроля…особые,общие ,некоторые ме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ссмотрим таблицу лек препаратов способных вызывать к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0BF3E-D589-40C4-8D04-ADB95FE582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48ECA-64A7-44D9-8AD5-181CE933A3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59EC2-539B-4A76-8FF1-A4CA3B0BB2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барбитур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ятся к психотропным снотворным средств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нобарбитал (люминал), барбитал (веронал), барбитал-натрий (мединал), этаминал-натрий (нембутал), гексобарбита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стадии интоксик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-засыпа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- поверхностной ко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- глубокой ко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- пробуж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В настоящее время острые отравления снотворными преп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тами занимают одно из ведущих мест среди острых бытов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интоксик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Препараты барбитуратовой кислоты (барбиту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ты), наиболее часто применяемые в медицине, следующ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фенобарбитал (люминал), барбитал (веронал), барбитал-н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трий (мединал), этаминал-натрий (нембутал), гексобарбитал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др. Эта группа включает в себя препараты длительного дейст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вия (8—12 часов) — барбитал, барбитал-натрий, фенобарбит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средней продолжительности действия (6—8 часов) — барбами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этаминал-натрий; короткого действия (4—6 часов) — гексобар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бит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13453-DB61-4495-BF96-5BA307C08E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67029-C963-4B5E-8EC6-B73AB8EE92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1 Через 30—60 м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бщая слаб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онлив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арушается координация движений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чь становится невнятн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рачки умеренно расширены, реагируют на св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мечается гиперсалив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ункции дыхания и кровообращения не наруш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степенно наступает глубокий сон или потеря созн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2 В состоянии п о в е р х н о с т н о 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жение зрачк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ы глотательный и кашлевой рефлек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нус мышц и сухожильные рефлексы снижаю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аноз, тахикардия,гипото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 механическая асфиксия (аспирация слюной, рвотными массами, западение языка, спазм гортани) или угнетения дыхательного цент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D3CC5-13AE-4B67-8DED-FCB38B9D9D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36EB4-416B-49FD-ADC5-31C43B6BBF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Calibri"/>
              </a:rPr>
              <a:t>Интоксикация </a:t>
            </a: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-(от латин. приставки in - «в» и греч. toxikon — я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зогенн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ступление нейротропных экзотоксинов извн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догенн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ри недостаточности функции различных органов и =&gt; накоплении нейротропных эндотоксинов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ксины действуют на межнейрональные связи и приводят к стойким нарушениям сознания  вплоть до ко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B89CC-98B1-4E94-A95D-1938F0EF8D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3    Для стадии г л у б о к о й ко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флексы отсутств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лабление мускулатуры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рачки сужены (при асфиксии расширены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а гипертермия центрального гене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жа бледная, сух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ыхание учащается или урежается,ритм становится неправильным (типа Чейна-Стокса). Возможны остановка дыхания, отек легки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ушается резко гемодинамика (тахикардия, затем брадикардия, гипотония,коллапс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4     В периоде п о с т к о м а т о з н о г о состоя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епенновосстанавливается деятельность ЦНС, исчезает арефлексия. Однако нарушена координация движений. Типичны нарушения психической деятельности (депрессия, двигательное беспокойство, эмоциональная лабильност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B7ECF-4AA0-4C02-A88C-C6481E776F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ом опия является опийный мак Papaver somnife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Й-СЫРЕЦ — в свежем виде липкая, смолоподобная пластичная масса, темно-коричневого цвета, с характерным лакричным запахом. По мере старения пластичность исчезает, масса становится твердой и хрупк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АННЫЙ (ЭКСТРАКЦИОННЫЙ) ОПИЙ - продукт, получаемый из опия-сырца путем различной обработки, обычно методом водной экстракции, фильтрования и выпаривания воды. МЕДИЦИНСКИЙ ОПИЙ — тонкий порошок светло-коричневого цвета с содержанием морфина 9,5—10,5%. Включает добавки «разбавителей»: лактозу, крахмал и другие компоненты. Имеет характерный запах оп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ТОПОН (ОМНОПОН) — светло-коричневый порошок легко растворимый в воде, содержит 48—50% морф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УМНЫЕ ШЛАКИ — продукт, остающийся в трубке после курения опия, еще содержит значительные количества морфина. Смешивается с сырцом или обработанным опием для дальнейшего использ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26920" y="447840"/>
            <a:ext cx="5200920" cy="3900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ешн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ологическ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озировка            ко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оследовательность лечебных мероприятий при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отравлениях опиатами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) обеспечение адекватной вентиляции легких (туалет дыхательных путей, оксигенация, ИВ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) назначение адреномиметиков при снижении артериального давления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) мероприятия по удалению опиатов - промывание желудка, форсированный диурез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) дегидратационная терапия (маннит, лазикс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) ощелачивание крови (3% раствор гидрокарбоната натрия 200-400 м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) применение медикаментов, улучшающих метаболизм в ЦНС (пирацетам, актовегин и пр.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) профилактика воспалительных осложнений (антибиотики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FF50B-B1FA-4383-8C33-0648E21549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26920" y="447840"/>
            <a:ext cx="5200920" cy="3900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ешн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ологическ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озировка            ко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оследовательность лечебных мероприятий при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отравлениях опиатами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) обеспечение адекватной вентиляции легких (туалет дыхательных путей, оксигенация, ИВ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) назначение адреномиметиков при снижении артериального давления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) мероприятия по удалению опиатов - промывание желудка, форсированный диурез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) дегидратационная терапия (маннит, лазикс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) ощелачивание крови (3% раствор гидрокарбоната натрия 200-400 м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) применение медикаментов, улучшающих метаболизм в ЦНС (пирацетам, актовегин и пр.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) профилактика воспалительных осложнений (антибиотики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1652F-C432-42A1-BBF3-C5C7903CD2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446F4-5D3F-4869-9497-17CE93AB71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Печёночная к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ченочно-клеточная недостаточ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следствие  массивного некроза ,дистрофии гепатоцит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! -Гепатит 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цирроз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лияние гепатотропных ядов (дихлорэтан,мышьяк,фосфор,этанол,четырёххлористый углерод,толуо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бочные эффекты приема различных медикаментов (антидепрессантов, сульфаниламидов, туберкулостатиков,фторотана,тетрациклин,левомицети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хронические алкогольные интоксик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токавальные шунты(при заболеваниях с портокавальным сбросом крови ,минуя печень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! –цирроз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ромбоз воротной в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пухоли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E94F8-967E-42F9-8FFA-5C45E46B93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тогенез печеночной ко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Основны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факторы патогенеза печёночных 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 представлены на рисунк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Гипогликемия. Является результатом нарушения гликогенеза и гликогенолиз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Ацидоз (метаболический, на финальных стадиях дополнительно развивается респираторный и выделительный ацидоз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Дисбаланс ионов в клетках, интерстициальной жидкости и в крови (в крови нарастает [К+], в клетках — [Na+], [Ca2+], [Н+]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Интоксикация организма — эндотоксинемия (особенно продуктами белкового и липидного обмена (!гипераммониемия,меркаптанемия,высокая концентрация свободных жирных кислот), а также непрямым билирубином, что обусловлено нарушением его трансформации и конъюгации с глюкуроновой кислотой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Нарушения центральной, органотканевой и микрогемоциркуляции как следствие сердечной недостаточности, нарушения тонуса артериол, развития феномена сладж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Полиорганная недостаточность. Ранее всего и наиболее выраженно нарушается функции сердца, дыхательного и кардиовазомоторного центров. Последнее приводит к смешанной гипоксии, прекращению сердечной деятельности, дыхания и смерти пациен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28599-7806-4C02-9E53-C65F42C725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0DBEC-C8E6-48F9-BA48-F059629A94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ческие особенности печёночн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стадии развития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1- пре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2-угрожающая ко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воеобразный хлопающий тремор пальцев рук,тремор век и гу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3- собственно ко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«печеночный» запах , желтуха ,кожный зуд , расчёсы ,печёночные ладо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еморрагический синдром (язык малиновый , сосочки сглажен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ёчно-асцитический синдром,; олигу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ыхание  типа Куссмау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лихорадка ,пальпация печени болезнен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C027B-601F-4349-9EED-4570797646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82E57-B7AF-4CCF-9C2F-CED2C16A71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бораторные 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лейкоцитоз , анем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иперазотемия , ускорение СОЭ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и снижении уровня общего белка и альбуминов ,  высокий уровень гамма-глобулинов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факторов свёртывания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 уровня калия , ↓ холестер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↑↑↑ билируб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 аминотрансфераз и холинэстеразы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ча :темно-желт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a04da3"/>
                </a:solidFill>
                <a:latin typeface="Times New Roman"/>
              </a:rPr>
              <a:t>=&gt; Смерть от остановки дыхания , острого отёка мозга, отёка лёгких ,  почечной недостаточности ,  инфекционно-токсического ш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EE1C1-D3C6-4476-80AF-73CD176F7C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Уремическая к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инальная стадия ХП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a04da3"/>
                </a:solidFill>
                <a:latin typeface="Times New Roman"/>
              </a:rPr>
              <a:t>Этиология ХП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гломеруло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иело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стициальный 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иабетический нефроскле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амилоид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ликистоз по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оллагено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миеломная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A296F-3411-4EFC-83A8-320709F4D9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генез уремическ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ическое нарушение функции по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убочковой фильтрации до 10 мл/м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Symbol" charset="2"/>
              <a:buChar char="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↑↑↑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ови мочевины выше 30 ммоль/л,креатинин выше 1000 ммоль /л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ше 150 ммоль/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Symbol" charset="2"/>
              <a:buChar char="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аболический ацидоз.отёк головного мозга,нарушение микроцеркуляции,нарушение мозгового крово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4FEA9-2C0F-4346-9CF6-595B93DD5A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ческие особенности уремическ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ало постепенно,предшествуют головные боли,ухудшение зрения,кожный зуд,тошнота,рвота,судорог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смотр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ожные покровы и видимые слизистые бледные сухие, на коже возможна «уремическая пудра»,расчёсы геморраг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чечные  отё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рачки узк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ибриллярные подёргивания мышц,судороги.сухожильные рефлексы повышены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ыхание  вначале глубокое шумное (типа Куссмауля ),затем поверхностное,неправильное типа Чейна Сток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зо рта запах амми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оны сердца громкие, можно выслушать шум трения перикар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Характерна олигурия или анур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абораторные 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  мочевина  выше 30 ммоль/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атинин - выше1000 мкмоль/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трии - выше 150 ммоль/л; осмолярность плазмы - выше 330мосм/л.    декомпрессированный метаболический ацидо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АМ     Осмолярность   ниже 500 мосм/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убочковая фильтрация ниже 10 мл/м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35748-DA3D-458D-9561-FC9AF08361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8DDCD-EF08-40BB-AE6A-8926D352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92819-04BD-4377-80D0-A0FFCF7C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92F94-4B4C-4442-AC50-0C573A80C7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180FB-C244-4680-A80A-982853C232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61D45-B91D-42A2-8852-1061A447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CBC1B-26A7-4170-93D0-72E8A46E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0D9D4-8443-4F31-8837-A0383FBA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03DA6-D225-42A9-95FE-6A11EDD6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EB354-57EC-4416-9801-93AC796A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E129F-23B9-4AF9-8A14-273D675B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3BBF7-0ABB-40A7-BA6C-B7078A0B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F41A0-CB5F-48ED-ABDE-4CF81458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95D51-8E97-4011-AAEE-E8FA68A9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82A81-C683-4353-BBE4-BD485F5C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D03F0-8E23-424D-9C08-144E7D89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65D7D-2477-4128-BB6A-26656F84B3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A0C1-4215-45A9-98AC-4BC3447788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262C-8C08-4502-832B-54243743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2CDF-3953-4D91-A3F5-09E7A682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D7ED-4B3D-4395-AE59-50CB6212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5A60-CC62-4C76-85DA-EF5B726E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2D0B-74EB-4FFF-B1F8-13A72C48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8708-3EB4-4A66-9207-20AD4CBD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AA7D-D4F1-4865-AD5D-CDD96B6D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3599-5FBA-44B8-ACB7-55689A2A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CB93-C919-473F-9D16-BF9047C8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F9CF-4538-44A6-A284-1A42142C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2B77-FC7F-4FB4-B898-CB7730B5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D04D-B8A0-4670-9B57-2250B4DBE0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1385D-9851-47D8-9644-70BF5FEEA7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EBECE-6606-4F6E-A971-742927CB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38ED4-5C98-4559-8621-5038352F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111A4-A5C6-4C2E-9062-D7ED6867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D4768-B205-47B7-8B6F-73046AC6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B870D-B388-4FC5-B736-BE2F510B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A9D1E-16B3-4D20-86FA-A2A8B9F0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138A9-7746-4D2D-A68E-5A7876B6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D8222-014F-4C2D-B70B-E16710ED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DE53A-E1E8-4386-BDED-49AC9587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B06E5-D5D4-41E2-ABEF-01C4251E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0E0D1-0C1E-4DC2-81E5-E9235D00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B3A62-9630-4875-BF8F-FA9C5DF7A4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A2B9-B70A-4084-B35D-CBF83160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3A1B0-1D3C-450E-9C5D-809EF2D1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2A8C4-6BA2-4029-9DAE-828E51CF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ED132-E1BE-4896-BED2-EE55F69A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37EF-BE59-4C9A-A1CC-AB05F12A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520BC-F09E-45FD-AB71-ECDF6F1BED2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6F521FA-5E7C-4D16-B85D-4C01E41E666D}" type="slidenum">
              <a:rPr b="0" lang="ru-RU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FCCBE83-F3EF-4CAC-BA72-030D6BB19C76}" type="slidenum">
              <a:rPr b="0" lang="ru-RU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AutoShape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AutoShape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C651F8-6F56-4B17-AC2A-E2CFE0B75C80}" type="slidenum"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479080" cy="3949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642960" y="4214880"/>
            <a:ext cx="80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туденческий научный кружок кафедры госпитальной терапии № 2 РГМУ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ыполнила Рейхтман Т.Б.   Гр. 607 Б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Алкогольная ком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14200" y="1643040"/>
            <a:ext cx="878688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звана употреблением этилового спирта и его суррогатов (денатураты,одеколоны,лосьоны, морилка,метиловый спирт, этиленкликоль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 развивается при концентрации этанола в крови около 3 г/л, летальный исход - выше 5 г/л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85840" y="0"/>
            <a:ext cx="86439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3548a"/>
                </a:solidFill>
                <a:latin typeface="Calibri"/>
                <a:ea typeface="Times New Roman"/>
              </a:rPr>
              <a:t>Механизм токсического действия и патогенез интоксикации этанолом</a:t>
            </a:r>
            <a:r>
              <a:rPr b="1" lang="ru-RU" sz="1800" spc="-1" strike="noStrike">
                <a:solidFill>
                  <a:srgbClr val="53548a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26" name="Group 2"/>
          <p:cNvGrpSpPr/>
          <p:nvPr/>
        </p:nvGrpSpPr>
        <p:grpSpPr>
          <a:xfrm>
            <a:off x="2362320" y="1000080"/>
            <a:ext cx="4417920" cy="5856480"/>
            <a:chOff x="2362320" y="1000080"/>
            <a:chExt cx="4417920" cy="5856480"/>
          </a:xfrm>
        </p:grpSpPr>
        <p:pic>
          <p:nvPicPr>
            <p:cNvPr id="227" name="Picture 3" descr=""/>
            <p:cNvPicPr/>
            <p:nvPr/>
          </p:nvPicPr>
          <p:blipFill>
            <a:blip r:embed="rId1"/>
            <a:stretch/>
          </p:blipFill>
          <p:spPr>
            <a:xfrm>
              <a:off x="2362320" y="1000080"/>
              <a:ext cx="4417920" cy="585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4"/>
            <p:cNvSpPr/>
            <p:nvPr/>
          </p:nvSpPr>
          <p:spPr>
            <a:xfrm>
              <a:off x="2362320" y="1000080"/>
              <a:ext cx="4417920" cy="58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428760" y="212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клиник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57200" y="13572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3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токсикогенной стадии — алкогольная кома, нарушения внешнего дыхания, нарушения гемодинамики;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соматогенной стадии — психоневрологические расстройства, воспалительные поражения органов дыхания, миоренальный синдром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1. Токсикогенная стадия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Алкогольная ком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еспецифична и не зависит от концентрации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сли лечение алкогольной комы не приводит к положительной динамики в состоянии больного в течение 3 часов, то, либо имеются нераспознанные осложнения (например, черепно-мозговая травма), либо причиной комы послужило не алкогольное отравление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Нарушения внешнего дыхания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бусловлены обтурационно-аспирационными осложнениями вследствие гиперсаливации, бронхореи, ларинго-бронхоспазма, аспирации рвотных масс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рушение по центральному типу — причина смерти на догоспитальном этапе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гемодинамики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зможны стойкие нарушения ритма и проводимости сердца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!  нарушение регуляции сосудистого тонуса и гиповолемией, которые наиболее выражены при глубокой алкогольной ком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Соматогенная стади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дорожный синдром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оренальный синдром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3 стадии алкогольной комы: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адии наблюдается гипертонус мышц конечностей, тризм жевательной мускулатуры, фибрилляции мышц, рефлексы сохранены. Зрачки узкие, глазные яблоки ≪плавают≫, лицо гиперемировано; гиперсаливация, рвот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 II стадии мышечный тонус и сухожильные рефлексы исчезают, но двигательная реакция на болевые раздражения сохраняется. Артериальное давление снижается, пульс частый, слабый. Дыхание замедляется. Непроизвольные мочеиспускания и дефекац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III стадии дыхание становится аритмичным, редким, клокочущим; нарастает цианоз лица и акроцианоз, зрачки расширяются, склеры резко инъецированы. Артериальное давление и ЦВД низкие, пульс нитевидный, часто аритмичный. Чувствительность и рефлексы отсутствуют 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360360" y="2519280"/>
            <a:ext cx="3240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Тактика ведения пациента с острой интоксикац алкоголем</a:t>
            </a: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34" name="Group 2"/>
          <p:cNvGrpSpPr/>
          <p:nvPr/>
        </p:nvGrpSpPr>
        <p:grpSpPr>
          <a:xfrm>
            <a:off x="3357720" y="142920"/>
            <a:ext cx="5279760" cy="6713640"/>
            <a:chOff x="3357720" y="142920"/>
            <a:chExt cx="5279760" cy="6713640"/>
          </a:xfrm>
        </p:grpSpPr>
        <p:pic>
          <p:nvPicPr>
            <p:cNvPr id="235" name="Picture 3" descr=""/>
            <p:cNvPicPr/>
            <p:nvPr/>
          </p:nvPicPr>
          <p:blipFill>
            <a:blip r:embed="rId1"/>
            <a:stretch/>
          </p:blipFill>
          <p:spPr>
            <a:xfrm>
              <a:off x="3357720" y="142920"/>
              <a:ext cx="5279760" cy="671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4"/>
            <p:cNvSpPr/>
            <p:nvPr/>
          </p:nvSpPr>
          <p:spPr>
            <a:xfrm>
              <a:off x="3357720" y="142920"/>
              <a:ext cx="5279760" cy="67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Наркотическая ком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рко́тик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от греч. narkotikós — приводящий в оцепенение, одурманивающий) — группа веществ вызывающих физическую зависимость, не связанных с нормальной жизнедеятельностью. Как следствие из данного определения: Наркотики — вещества, способные вызвать болезнь наркоманию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читается что термин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ркотик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ναρκωτικός) был впервые употреблен греческим целителем Галеном, в частности для описания веществ, вызывающих потерю чувствительности или паралич. Данный термин также употреблял Гиппократ. В качестве таких веществ Гален, например, упоминал корень мандрагоры, семена эклаты и мака (опиум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"/>
          <p:cNvGrpSpPr/>
          <p:nvPr/>
        </p:nvGrpSpPr>
        <p:grpSpPr>
          <a:xfrm>
            <a:off x="0" y="142920"/>
            <a:ext cx="9142560" cy="6213600"/>
            <a:chOff x="0" y="142920"/>
            <a:chExt cx="9142560" cy="6213600"/>
          </a:xfrm>
        </p:grpSpPr>
        <p:pic>
          <p:nvPicPr>
            <p:cNvPr id="240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142920"/>
              <a:ext cx="9142560" cy="621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3"/>
            <p:cNvSpPr/>
            <p:nvPr/>
          </p:nvSpPr>
          <p:spPr>
            <a:xfrm>
              <a:off x="0" y="142920"/>
              <a:ext cx="9142560" cy="62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1"/>
          <p:cNvGrpSpPr/>
          <p:nvPr/>
        </p:nvGrpSpPr>
        <p:grpSpPr>
          <a:xfrm>
            <a:off x="214200" y="214200"/>
            <a:ext cx="8642520" cy="6284880"/>
            <a:chOff x="214200" y="214200"/>
            <a:chExt cx="8642520" cy="6284880"/>
          </a:xfrm>
        </p:grpSpPr>
        <p:pic>
          <p:nvPicPr>
            <p:cNvPr id="243" name="Picture 2" descr=""/>
            <p:cNvPicPr/>
            <p:nvPr/>
          </p:nvPicPr>
          <p:blipFill>
            <a:blip r:embed="rId1"/>
            <a:stretch/>
          </p:blipFill>
          <p:spPr>
            <a:xfrm>
              <a:off x="214200" y="214200"/>
              <a:ext cx="8642520" cy="62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3"/>
            <p:cNvSpPr/>
            <p:nvPr/>
          </p:nvSpPr>
          <p:spPr>
            <a:xfrm>
              <a:off x="214200" y="214200"/>
              <a:ext cx="8642520" cy="62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            </a:t>
            </a: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барбитураты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457200" y="1500120"/>
            <a:ext cx="822960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носятся к психотропным снотворным средства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енобарбитал (люминал), барбитал (веронал), барбитал-натрий (мединал), этаминал-натрий (нембутал), гексобарбита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 стадии интоксикаци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-засыпания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- поверхностной комы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- глубокой комы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- пробужд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17146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457200" y="357120"/>
            <a:ext cx="8229600" cy="60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1 Через 30—60 мин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бщая слабость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сонливость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нарушается координация движений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речь становится невнятной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Зрачки умеренно расширены, реагируют на свет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тмечается гиперсаливация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Функции дыхания и кровообращения не нарушен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Постепенно наступает глубокий сон или потеря сознан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2 В состоянии п о в е р х н о с т н о й ком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ужение зрачков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хранены глотательный и кашлевой рефлекс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онус мышц и сухожильные рефлексы снижаютс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Цианоз, тахикардия,гипотон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можно механическая асфиксия (аспирация слюной, рвотными массами, западение языка, спазм гортани) или угнетения дыхательного центр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457200" y="687240"/>
            <a:ext cx="82296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424456"/>
                </a:solidFill>
                <a:latin typeface="Calibri"/>
              </a:rPr>
              <a:t>Интоксикация </a:t>
            </a:r>
            <a:r>
              <a:rPr b="0" lang="ru-RU" sz="2800" spc="-1" strike="noStrike">
                <a:solidFill>
                  <a:srgbClr val="424456"/>
                </a:solidFill>
                <a:latin typeface="Calibri"/>
              </a:rPr>
              <a:t>-(от латин. приставки in - «в» и греч. toxikon — яд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зогенны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поступление нейротропных экзотоксинов извне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ндогенны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при недостаточности функции различных органов и =&gt; накоплении нейротропных эндотоксинов 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" charset="2"/>
              <a:buChar char="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ксины действуют на межнейрональные связи и приводят к стойким нарушениям сознания  вплоть до ком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457200" y="428760"/>
            <a:ext cx="822960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3    Для стадии г л у б о к о й комы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ефлексы отсутствую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слабление мускулатуры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рачки сужены (при асфиксии расширены)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можна гипертермия центрального генез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ожа бледная, суха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ыхание учащается или урежается,ритм становится неправильным (типа Чейна-Стокса). Возможны остановка дыхания, отек легких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рушается резко гемодинамика (тахикардия, затем брадикардия, гипотония,коллапс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4     В периоде п о с т к о м а т о з н о г о состоя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степенновосстанавливается деятельность ЦНС, исчезает арефлексия. Однако нарушена координация движений. Типичны нарушения психической деятельности (депрессия, двигательное беспокойство, эмоциональная лабильность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6215040" y="0"/>
            <a:ext cx="2841480" cy="18572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4"/>
          <p:cNvSpPr/>
          <p:nvPr/>
        </p:nvSpPr>
        <p:spPr>
          <a:xfrm>
            <a:off x="662400" y="92880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иат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Прямоугольник 5"/>
          <p:cNvSpPr/>
          <p:nvPr/>
        </p:nvSpPr>
        <p:spPr>
          <a:xfrm>
            <a:off x="357120" y="1928880"/>
            <a:ext cx="8429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сточником опия является опийный мак Papaver somniferu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Прямоугольник 6"/>
          <p:cNvSpPr/>
          <p:nvPr/>
        </p:nvSpPr>
        <p:spPr>
          <a:xfrm>
            <a:off x="428760" y="2214720"/>
            <a:ext cx="814392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ид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ПИЙ-СЫРЕЦ — в свежем виде липкая, смолоподобная пластичная масса, темно-коричневого цвета, с характерным лакричным запахом. По мере старения пластичность исчезает, масса становится твердой и хрупко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БРАБОТАННЫЙ (ЭКСТРАКЦИОННЫЙ) ОПИЙ - продукт, получаемый из опия-сырца путем различной обработки, обычно методом водной экстракции, фильтрования и выпаривания воды. МЕДИЦИНСКИЙ ОПИЙ — тонкий порошок светло-коричневого цвета с содержанием морфина 9,5—10,5%. Включает добавки «разбавителей»: лактозу, крахмал и другие компоненты. Имеет характерный запах оп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АНТОПОН (ОМНОПОН) — светло-коричневый порошок легко растворимый в воде, содержит 48—50% морфина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ПИУМНЫЕ ШЛАКИ — продукт, остающийся в трубке после курения опия, еще содержит значительные количества морфина. Смешивается с сырцом или обработанным опием для дальнейшего использова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28760" y="1214280"/>
            <a:ext cx="82152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Внешние изменения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Физиологические изменения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ередозировка            ко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Стрелка вправо 3"/>
          <p:cNvSpPr/>
          <p:nvPr/>
        </p:nvSpPr>
        <p:spPr>
          <a:xfrm>
            <a:off x="3000240" y="5214960"/>
            <a:ext cx="406440" cy="270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56760" y="999720"/>
            <a:ext cx="822636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следовательность лечебных мероприятий при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влениях опиатам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) обеспечение адекватной вентиляции легких (туалет дыхательных путей, оксигенация, ИВЛ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) назначение адреномиметиков при снижении артериального давления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) мероприятия по удалению опиатов - промывание желудка, форсированный диурез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) дегидратационная терапия (маннит, лазикс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) ощелачивание крови (3% раствор гидрокарбоната натрия 200-400 мл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) применение медикаментов, улучшающих метаболизм в ЦНС (пирацетам, актовегин и пр.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8) профилактика воспалительных осложнений (антибиотики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6840" y="2571840"/>
            <a:ext cx="822636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50004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Печёночная кома.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214200" y="1571760"/>
            <a:ext cx="864396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Этиологи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еченочно-клеточная недостаточность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(вследствие  массивного некроза ,дистрофии гепатоцитов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?! -Гепатит В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цирроз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влияние гепатотропных ядов (дихлорэтан,мышьяк,фосфор,этанол,четырёххлористый углерод,толуол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побочные эффекты приема различных медикаментов (антидепрессантов, сульфаниламидов, туберкулостатиков,фторотана,тетрациклин,левомицетин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хронические алкогольные интоксикаци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ртокавальные шунты(при заболеваниях с портокавальным сбросом крови ,минуя печень 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?! –цирроз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тромбоз воротной вены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опухоли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28760" y="121428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3548a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Патогенез печеночной ком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11" name="Group 2"/>
          <p:cNvGrpSpPr/>
          <p:nvPr/>
        </p:nvGrpSpPr>
        <p:grpSpPr>
          <a:xfrm>
            <a:off x="0" y="1857240"/>
            <a:ext cx="8999640" cy="4427640"/>
            <a:chOff x="0" y="1857240"/>
            <a:chExt cx="8999640" cy="4427640"/>
          </a:xfrm>
        </p:grpSpPr>
        <p:pic>
          <p:nvPicPr>
            <p:cNvPr id="21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1857240"/>
              <a:ext cx="8999640" cy="44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4"/>
            <p:cNvSpPr/>
            <p:nvPr/>
          </p:nvSpPr>
          <p:spPr>
            <a:xfrm>
              <a:off x="0" y="1857240"/>
              <a:ext cx="8999640" cy="44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581040"/>
            <a:ext cx="822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Клинические особенности печёночной комы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1260360" y="20908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 стадии развития 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1- преко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2-угрожающая ком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Своеобразный хлопающий тремор пальцев рук,тремор век и губ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3- собственно ком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«печеночный» запах , желтуха ,кожный зуд , расчёсы ,печёночные ладон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геморрагический синдром (язык малиновый , сосочки сглажены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тёчно-асцитический синдром,; олигур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дыхание  типа Куссмаул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лихорадка ,пальпация печени болезнен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536400"/>
            <a:ext cx="82296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Лабораторные данны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лейкоцитоз , анемия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гиперазотемия , ускорение СОЭ 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при снижении уровня общего белка и альбуминов ,  высокий уровень гамма-глобулинов 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факторов свёртывания 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 уровня калия , ↓ холестерин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↑↑↑ билирубин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 аминотрансфераз и холинэстеразы 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оча :темно-желта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a04da3"/>
                </a:solidFill>
                <a:latin typeface="Constantia"/>
              </a:rPr>
              <a:t>=&gt; Смерть от остановки дыхания , острого отёка мозга, отёка лёгких ,  почечной недостаточности ,  инфекционно-токсического шок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Уремическая кома.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461880" y="18892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финальная стадия ХПН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Wingdings" charset="2"/>
              <a:buChar char="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a04da3"/>
                </a:solidFill>
                <a:latin typeface="Constantia"/>
              </a:rPr>
              <a:t>Этиология ХПН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гломеруло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пиело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интерстициальный 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диабетический нефросклероз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амилоидоз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поликистоз почек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коллагеноз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миеломная болезн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buClr>
                <a:srgbClr val="4244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Патогенез уремической комы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итическое нарушение функции поче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↓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лубочковой фильтрации до 10 мл/ми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buClr>
                <a:srgbClr val="a04da3"/>
              </a:buClr>
              <a:buFont typeface="Symbol" charset="2"/>
              <a:buChar char="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↑↑↑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рови мочевины выше 30 ммоль/л,креатинин выше 1000 ммоль /л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 –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ше 150 ммоль/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buClr>
                <a:srgbClr val="a04da3"/>
              </a:buClr>
              <a:buFont typeface="Symbol" charset="2"/>
              <a:buChar char="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таболический ацидоз.отёк головного мозга,нарушение микроцеркуляции,нарушение мозгового кровообращ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428760" y="19080"/>
            <a:ext cx="822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Клинические особенности уремической комы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428760" y="1071720"/>
            <a:ext cx="822960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чало постепенно,предшествуют головные боли,ухудшение зрения,кожный зуд,тошнота,рвота,судороги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осмотр 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кожные покровы и видимые слизистые бледные сухие, на коже возможна «уремическая пудра»,расчёсы геморраги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почечные  отёк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зрачки узки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фибриллярные подёргивания мышц,судороги.сухожильные рефлексы повышены 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дыхание  вначале глубокое шумное (типа Куссмауля ),затем поверхностное,неправильное типа Чейна Стокса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Изо рта запах аммиак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Тоны сердца громкие, можно выслушать шум трения перикарда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Характерна олигурия или анурия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Лабораторные данные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:   мочевина  выше 30 ммоль/л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реатинин - выше1000 мкмоль/л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трии - выше 150 ммоль/л; осмолярность плазмы - выше 330мосм/л.    декомпрессированный метаболический ацидоз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АМ     Осмолярность   ниже 500 мосм/л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лубочковая фильтрация ниже 10 мл/мин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2:07:46Z</dcterms:created>
  <dc:creator>томсон</dc:creator>
  <dc:description/>
  <dc:language>en-US</dc:language>
  <cp:lastModifiedBy>LEGION</cp:lastModifiedBy>
  <dcterms:modified xsi:type="dcterms:W3CDTF">2014-11-07T11:28:34Z</dcterms:modified>
  <cp:revision>91</cp:revision>
  <dc:subject/>
  <dc:title>Комы при интоксикациях алкогольная наркотическая уремическая печеночная</dc:title>
</cp:coreProperties>
</file>