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42640" y="447840"/>
            <a:ext cx="4568760" cy="390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D5AC4-18C6-4094-85B8-4321471682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2BFE1-D60E-4675-8501-54BBA32F41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35115-C4A5-432B-AFAB-11BE3BC2BE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D36FF-47BB-4C82-BE44-F586407F98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6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Этиловый спирт относится к депрессантам ЦНС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воздействует на рецепторы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гамма-аминомаслянной кислоты (ГАМ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, одного из нейромедиаторов в центральной нервной системе и вызывает успокаивающий и снижающий тревогу эффек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44440">
              <a:lnSpc>
                <a:spcPct val="7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тсюда следует, что совместное использование алкоголя и бензодиазепинов может привести к тяжелым последствиям в виде передозировки и излишнего подавления деятельности мозговых цен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блокирует действие нейротрансмиттера глютамата , который, как считается, обладает стимулирующим действ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Алкогол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пособствует действию основного «успокаивающего» нейротрансмиттера мозга (ГАМК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подавляет действие основного «возбуждающего» нейротрансмиттера (глютамат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В результате, общее действие этанола определяется его успокаивающим и, в какой-то степени, снотворным действием. Подавление активности многочисленных центров центральной нервной системы приводит к снижению чувствительности к боли, или, как говорят, к анальгезирующему эффекту этанол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A6662-3ED2-4AE7-908A-1A8ABB1C51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24318-6523-4B60-9749-2FE9A63F06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Токсикогенная ста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ушения внешнего дых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DC759-51F7-49DB-93C8-C025207E33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DEE6E-8CCE-4D7A-BCFA-096173E1D3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386BD-62F4-4DD4-95EF-9585D2761D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́тик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читается что термин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т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Наркотики знакомы людям уже несколько тысяч лет. Их потребляли люди разных культур, в разных целях: во время религиозных обрядов, для восстановления сил, для изменения сознания, для снятия боли и неприятных ощущений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 Уже в дописьменный период мы имеем свидетельства того, что люди знали и использовали психоактивные химические вещества: алкоголь и растения, потребление которых влияет на сознани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Археологические исследования показали, что уже в 6400 г. до н.э. люди знали пиво и некоторые другие алкогольные напит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Очевидно, процессы брожения были открыты случайно (виноградное вино, между прочим, появилось только в 4-3 вв. до н.э.). Первое письменное свидетельство использования интоксикантов – рассказ о пьянстве Ноя из Книги Бытия. Использовались и различные растения, вызывающие физиологические и психические изменения, обычно в религиозных обрядах или при проведении медицинских процедур. Пример – использование на Ближнем Востоке в 5 тыс. до н.э. "злака радости" (по всей видимости, опиумного мака). Около 2700 г. до н.э. в Китае уже использовали коноплю (в виде настоя, как чай): император Шен Нунг предписывал своим подданным принимать ее в качестве лекарства от подагры и рассеянности. Люди каменного века знали опиум, гашиш и кокаин и использовали эти наркотики для изменения сознания (в ходе религиозных обрядов) и при подготовке к сражению. На стенах погребальных комплексов индейцев Центральной и Южной Америки есть изображения людей, жующих листья коки (один из способов приема кокаина), датируемые серединой 3 тыс. до нашей эры. Нужно иметь в виду, что факт использования наркотика в одной культуре не дает нам права предполагать, что и в других культурах в это же самое время люди знали этот наркотик и употребляли его. Как и сейчас, в употреблении наркотиков людьми разных культур есть и сходства и различ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87DA6-32C2-458A-93F0-9092608763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CAFF3-427E-495C-971E-A12A87596A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овременное представление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еречень наркотических средств, психотропных веществ и их прекурсоров,  подлежащих контролю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3 группы 1  в зависимости от мер контроля…особые,общие ,некоторые м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ссмотрим таблицу лек препаратов способных вызывать к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ED216-97D8-4A3A-BFAF-57A95D5F57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B2DE7-3FB6-43FF-91C9-A109BED9DA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F5E0B-F3D6-42B4-87BB-7FB29D4742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ятся к психотропным снотворным средств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стадии интокс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засып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- поверхностн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 глубок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 пробу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 настоящее время острые отравления снотворными преп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ами занимают одно из ведущих мест среди острых быт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интоксик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репараты барбитуратовой кислоты (барбиту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ы), наиболее часто применяемые в медицине,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енобарбитал (люминал), барбитал (веронал), барбитал-н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трий (мединал), этаминал-натрий (нембутал), гексобарбитал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др. Эта группа включает в себя препараты длительного дей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ия (8—12 часов) — барбитал, барбитал-натрий, фенобарб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редней продолжительности действия (6—8 часов) — барбами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этаминал-натрий; короткого действия (4—6 часов) — гексобар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бит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20367-C76A-47A1-BD9A-3CCB5ADF9D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0B580-D348-4FAF-8599-8F88F38F28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1 Через 30—60 м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бщая слаб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нлив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арушается координация движени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чь становится невнятн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меренно расширены, реагируют на св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мечается гиперсалив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ункции дыхания и кровообращения не наруш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степенно наступает глубокий сон или потеря с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2 В состоянии п о в е р х н о с т н о 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жение зрачк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ы глотательный и кашлевой рефлек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нус мышц и сухожильные рефлексы снижа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аноз, тахикардия,гипото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28779-0B0E-45A0-AF3D-22202D0993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4CF6C-95EC-41E9-B813-17C351638B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з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ступление нейротропных экзотоксинов извн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д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9F974-B077-4B27-A7CA-1532552729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3    Для стадии г л у б о к о й ко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ы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лабление мускулатуры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рачки сужены (при асфиксии расширены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а гипертермия центрального гене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жа бледная, сух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ается резко гемодинамика (тахикардия, затем брадикардия, гипотония,коллапс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4     В периоде п о с т к о м а т о з н о г о состоя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FF9ED-6445-4747-96E4-B70F6B91D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опия является опийный мак Papaver somnife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FEE2B-01DC-4FB4-8B15-EE95D167D2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B9E3-A1F1-4842-AC8C-267D629207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08840-2520-4008-AFC2-65BF14B2D8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ченочно-клето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следствие  массивного некроза ,дистрофии гепатоцит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-Гепатит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ронические алкогольные интокс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окавальные шунты(при заболеваниях с портокавальным сбросом крови ,минуя печень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–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ромбоз воротной в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пухоли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07F88-D019-40A1-9DF3-26FC625C87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тогенез печеночной ко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снов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акторы патогенеза печёночных 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представлены на рисун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Гипогликемия. Является результатом нарушения гликогенеза и гликогенолиз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Ацидоз (метаболический, на финальных стадиях дополнительно развивается респираторный и выделительный ацидоз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Дисбаланс ионов в клетках, интерстициальной жидкости и в крови (в крови нарастает [К+], в клетках — [Na+], [Ca2+], [Н+]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Интоксикация организма — эндотоксинемия (особенно продуктами белкового и липидного обмена (!гипераммониемия,меркаптанемия,высокая концентрация свободных жирных кислот), а также непрямым билирубином, что обусловлено нарушением его трансформации и конъюгации с глюкуроновой кислотой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Нарушения центральной, органотканевой и микрогемоциркуляции как следствие сердечной недостаточности, нарушения тонуса артериол, развития феномена сладж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Полиорганная недостаточность. Ранее всего и наиболее выраженно нарушается функции сердца, дыхательного и кардиовазомоторного центров. Последнее приводит к смешанной гипоксии, прекращению сердечной деятельности, дыхания и смерти пациен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A200D-34C4-4959-862B-4E9CD2C6B4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08E08-419C-4569-8E2B-212DC9A848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стадии развития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1- пре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2-угрожающая ко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воеобразный хлопающий тремор пальцев рук,тремор век и г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3- собственно ко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«печеночный» запах , желтуха ,кожный зуд , расчёсы ,печёночные ладо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еморрагический синдром (язык малиновый , сосочки сглаже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ёчно-асцитический синдром,; олигу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типа Куссмау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ихорадка ,пальпация печени болезнен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F4F11-1A0D-4A4C-AB34-67ABB65673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4DA9B-21AC-4E6C-8B19-DAC1847DCB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лейкоцитоз , анем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иперазотемия , ускорение СОЭ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и снижении уровня общего белка и альбуминов ,  высокий уровень гамма-глобулинов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факторов свёртыван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уровня калия , ↓ холестер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↑↑↑ билируб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аминотрансфераз и холинэстеразы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ча :темно-желт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a04da3"/>
                </a:solidFill>
                <a:latin typeface="Times New Roman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88800-8892-49FC-897C-8AC498FB1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нальная стадия ХП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a04da3"/>
                </a:solidFill>
                <a:latin typeface="Times New Roman"/>
              </a:rPr>
              <a:t>Этиология ХП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гломеру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ие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стициальный 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иабетический неф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милоид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ликистоз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ллагено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миелом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F44AB-228C-4A48-BE4D-70422495E4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ическое нарушение функции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ой фильтрации до 10 мл/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↑↑↑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ови мочевины выше 30 ммоль/л,креатинин выше 1000 ммоль /л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ше 150 ммоль/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3F0E5-DD7A-4743-A5F5-2A049AB52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смотр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чечные  отё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зк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бриллярные подёргивания мышц,судороги.сухожильные рефлексы повышены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зо рта запах амми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оны сердца громкие, можно выслушать шум трения перика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арактерна олигурия или анур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  мочевина  выше 30 м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атинин - выше1000 мк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АМ     Осмолярность   ниже 500 мосм/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ая фильтрация ниже 10 мл/м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879E-7A23-4E86-BDEC-9C1C82A2D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5BCF-6781-46D8-8421-D4D7834C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5A14E-3BAE-4A29-81E5-FEF5FDC1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C652-9115-4F4D-9F23-836DCA1279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A5999-9C4A-478D-ADBC-641846B5A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6FF90-9E7A-4DBE-A696-73ABB423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01FD2-1D86-4A66-9051-346CCC45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5F743-1A0A-4B47-A872-4B383E5F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D936-B788-4219-AE5A-D0D862C1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453A1-5647-44C3-8C83-0EC4BE85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AA05D-25E9-465C-B370-2BC13C59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D8D8-576B-406A-8125-E242AF32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EEBBB-1C34-499B-8701-117C61E9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0B23A-7F5F-451E-8304-42A62075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741DF-D5F5-493C-8867-B2EF4114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9C6DC-AA99-4E49-8963-6FB39C21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8ABA2-954B-48EA-8B7C-76DC476B96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9901-7035-413F-B5AF-9F9BA1EAE0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B0B6-7E49-47A0-8857-24746943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B2BA-FEC3-4941-9D7A-87C44AE6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470D-1BA8-4CE3-A3FB-F865A30C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3B8B-F95C-492A-BE19-D26FAE86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40CF-8241-4E3B-816E-74FFC15C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E295-3850-466C-8ED0-4AAFED6B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F666-6EF2-4FA5-9726-4BD66850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B65A-E474-43EA-AFE4-38217453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F1D7-EAE4-4513-8EC5-6F211DBB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1D73-5D85-4CCA-B7BC-0F84821A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7B2C-2121-4B41-BB4F-14F47DD9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0D94-3C43-47EA-B0EB-E0CD1A695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EBFB2-1641-40E9-BA36-058134CD74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B5ADD-EDBE-41FC-B938-F5A73A72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621B6-D853-47F0-BA96-5DC6F507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CD21-A194-4DC1-9584-9FCF9BF0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6BD95-442D-4EAF-9DCD-AB417A59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3621D-28EA-470F-A481-8D8174DD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79C20-203C-4F40-934A-9AE497D9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F4FB6-1443-4250-84D3-2ED2D553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D380D-47E3-4423-A1B5-ACB0376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67A80-7792-4743-A585-CE437861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70DC0-5B78-48E0-80B8-54F3C658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D1257-6719-48A4-8BCA-1F34D9AD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4FBAA-0E85-4005-8B59-8115B6D53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23F8-3122-498E-B289-E50DAF24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F4BA-BED9-4C57-BD3A-2724A0BE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AEBB-8F35-47EC-8BDF-DFC41F00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87ED-4FE1-4804-A406-8F9D2BF4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6D2F-D178-46A6-AC16-9857FDA7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95123-1761-4B83-A7C5-EA4F4E70E2F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5C0C7B9-655E-4F35-B675-24B7668008D1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B342E09-6499-4A85-AFCF-29E66503F0CF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0A9410-BF71-4464-8D53-B7980306F13A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79080" cy="3949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642960" y="4214880"/>
            <a:ext cx="80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туденческий научный кружок кафедры госпитальной терапии № 2 РГМ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а Рейхтман Т.Б.   Гр. 607 Б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14200" y="1643040"/>
            <a:ext cx="878688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85840" y="0"/>
            <a:ext cx="86439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8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26" name="Group 2"/>
          <p:cNvGrpSpPr/>
          <p:nvPr/>
        </p:nvGrpSpPr>
        <p:grpSpPr>
          <a:xfrm>
            <a:off x="2362320" y="1000080"/>
            <a:ext cx="4417920" cy="5856480"/>
            <a:chOff x="2362320" y="1000080"/>
            <a:chExt cx="4417920" cy="5856480"/>
          </a:xfrm>
        </p:grpSpPr>
        <p:pic>
          <p:nvPicPr>
            <p:cNvPr id="227" name="Picture 3" descr=""/>
            <p:cNvPicPr/>
            <p:nvPr/>
          </p:nvPicPr>
          <p:blipFill>
            <a:blip r:embed="rId1"/>
            <a:stretch/>
          </p:blipFill>
          <p:spPr>
            <a:xfrm>
              <a:off x="2362320" y="1000080"/>
              <a:ext cx="4417920" cy="58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4"/>
            <p:cNvSpPr/>
            <p:nvPr/>
          </p:nvSpPr>
          <p:spPr>
            <a:xfrm>
              <a:off x="2362320" y="1000080"/>
              <a:ext cx="4417920" cy="58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28760" y="2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57200" y="13572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3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Токсикогенная стад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Алкогольная ком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арушения внешнего дыхан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360360" y="2519280"/>
            <a:ext cx="324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3357720" y="142920"/>
            <a:ext cx="5279760" cy="6713640"/>
            <a:chOff x="3357720" y="142920"/>
            <a:chExt cx="5279760" cy="6713640"/>
          </a:xfrm>
        </p:grpSpPr>
        <p:pic>
          <p:nvPicPr>
            <p:cNvPr id="235" name="Picture 3" descr=""/>
            <p:cNvPicPr/>
            <p:nvPr/>
          </p:nvPicPr>
          <p:blipFill>
            <a:blip r:embed="rId1"/>
            <a:stretch/>
          </p:blipFill>
          <p:spPr>
            <a:xfrm>
              <a:off x="3357720" y="142920"/>
              <a:ext cx="5279760" cy="67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"/>
            <p:cNvSpPr/>
            <p:nvPr/>
          </p:nvSpPr>
          <p:spPr>
            <a:xfrm>
              <a:off x="3357720" y="142920"/>
              <a:ext cx="5279760" cy="67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́т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ется что термин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т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"/>
          <p:cNvGrpSpPr/>
          <p:nvPr/>
        </p:nvGrpSpPr>
        <p:grpSpPr>
          <a:xfrm>
            <a:off x="0" y="142920"/>
            <a:ext cx="9142560" cy="6213600"/>
            <a:chOff x="0" y="142920"/>
            <a:chExt cx="9142560" cy="6213600"/>
          </a:xfrm>
        </p:grpSpPr>
        <p:pic>
          <p:nvPicPr>
            <p:cNvPr id="24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42920"/>
              <a:ext cx="9142560" cy="621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0" y="142920"/>
              <a:ext cx="9142560" cy="62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"/>
          <p:cNvGrpSpPr/>
          <p:nvPr/>
        </p:nvGrpSpPr>
        <p:grpSpPr>
          <a:xfrm>
            <a:off x="214200" y="214200"/>
            <a:ext cx="8642520" cy="6284880"/>
            <a:chOff x="214200" y="214200"/>
            <a:chExt cx="8642520" cy="6284880"/>
          </a:xfrm>
        </p:grpSpPr>
        <p:pic>
          <p:nvPicPr>
            <p:cNvPr id="243" name="Picture 2" descr=""/>
            <p:cNvPicPr/>
            <p:nvPr/>
          </p:nvPicPr>
          <p:blipFill>
            <a:blip r:embed="rId1"/>
            <a:stretch/>
          </p:blipFill>
          <p:spPr>
            <a:xfrm>
              <a:off x="214200" y="214200"/>
              <a:ext cx="8642520" cy="62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3"/>
            <p:cNvSpPr/>
            <p:nvPr/>
          </p:nvSpPr>
          <p:spPr>
            <a:xfrm>
              <a:off x="214200" y="214200"/>
              <a:ext cx="8642520" cy="62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1500120"/>
            <a:ext cx="82296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носятся к психотропным снотворным средства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стадии интоксикаци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-засыпани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- поверхностн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- глубок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- пробужд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1 Через 30—60 м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бщая слаб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онлив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арушается координация движений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речь становится невнятно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Зрачки умеренно расширены, реагируют на све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мечается гиперсаливац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Функции дыхания и кровообращения не наруше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Постепенно наступает глубокий сон или потеря созна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2 В состоянии п о в е р х н о с т н о й ком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ужение зрачк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хранены глотательный и кашлевой рефлекс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онус мышц и сухожильные рефлексы снижают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ианоз, тахикардия,гипото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687240"/>
            <a:ext cx="82296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28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з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ступление нейротропных экзотоксинов извн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нд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" charset="2"/>
              <a:buChar char="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57200" y="428760"/>
            <a:ext cx="82296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3    Для стадии г л у б о к о й ком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флексы отсутствую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слабление мускулатуры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рачки сужены (при асфиксии расширены)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а гипертермия центрального генез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жа бледная, сух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ушается резко гемодинамика (тахикардия, затем брадикардия, гипотония,коллапс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4     В периоде п о с т к о м а т о з н о г о состоя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215040" y="0"/>
            <a:ext cx="284148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662400" y="92880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а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57120" y="1928880"/>
            <a:ext cx="842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сточником опия является опийный мак Papaver somniferu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428760" y="2214720"/>
            <a:ext cx="81439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и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2876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Внешн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Физиологическ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едозировка            к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Стрелка вправо 3"/>
          <p:cNvSpPr/>
          <p:nvPr/>
        </p:nvSpPr>
        <p:spPr>
          <a:xfrm>
            <a:off x="3000240" y="5214960"/>
            <a:ext cx="406440" cy="270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6760" y="999720"/>
            <a:ext cx="822636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ледовательность лечебных мероприятий пр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влениях опиат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обеспечение адекватной вентиляции легких (туалет дыхательных путей, оксигенация, ИВ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) назначение адреномиметиков при снижении артериального давления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) мероприятия по удалению опиатов - промывание желудка, форсированный диурез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) дегидратационная терапия (маннит, лазикс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) ощелачивание крови (3% раствор гидрокарбоната натрия 200-400 м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) применение медикаментов, улучшающих метаболизм в ЦНС (пирацетам, актовегин и пр.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) профилактика воспалительных осложнений (антибиотики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2571840"/>
            <a:ext cx="82263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14200" y="1571760"/>
            <a:ext cx="86439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иолог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ченочно-клеточная недостаточност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вследствие  массивного некроза ,дистрофии гепатоцитов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-Гепатит 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ронические алкогольные интоксикац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ртокавальные шунты(при заболеваниях с портокавальным сбросом крови ,минуя печень 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–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ромбоз воротной вен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пухоли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28760" y="12142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548a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атогенез печеночной ком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0" y="1857240"/>
            <a:ext cx="8999640" cy="4427640"/>
            <a:chOff x="0" y="1857240"/>
            <a:chExt cx="8999640" cy="4427640"/>
          </a:xfrm>
        </p:grpSpPr>
        <p:pic>
          <p:nvPicPr>
            <p:cNvPr id="21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857240"/>
              <a:ext cx="899964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0" y="1857240"/>
              <a:ext cx="899964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58104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260360" y="20908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 стадии развития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1- преко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2-угрожающая ком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воеобразный хлопающий тремор пальцев рук,тремор век и гу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3- собственно ком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«печеночный» запах , желтуха ,кожный зуд , расчёсы ,печёночные ладо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еморрагический синдром (язык малиновый , сосочки сглажены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ёчно-асцитический синдром,; олигу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дыхание  типа Куссмаул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лихорадка ,пальпация печени болезнен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536400"/>
            <a:ext cx="82296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лейкоцитоз , анем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иперазотемия , ускорение СОЭ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ри снижении уровня общего белка и альбуминов ,  высокий уровень гамма-глобулинов 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факторов свёртывания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уровня калия , ↓ холестерин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↑↑↑ билируб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аминотрансфераз и холинэстеразы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ча :темно-желт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a04da3"/>
                </a:solidFill>
                <a:latin typeface="Constantia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61880" y="1889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финальная стадия ХП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04da3"/>
                </a:solidFill>
                <a:latin typeface="Constantia"/>
              </a:rPr>
              <a:t>Этиология ХП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гломеру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ие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интерстициальный 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диабетический нефросклер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амилоид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оликистоз поче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коллагеноз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миеломная болез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buClr>
                <a:srgbClr val="4244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еское нарушение функции поч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убочковой фильтрации до 10 мл/м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↑↑↑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рови мочевины выше 30 ммоль/л,креатинин выше 1000 ммоль /л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ше 150 ммоль/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28760" y="1908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28760" y="107172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смотр 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чечные  отёк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зрачки узк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фибриллярные подёргивания мышц,судороги.сухожильные рефлексы повышены 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Изо рта запах аммиак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оны сердца громкие, можно выслушать шум трения перикард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арактерна олигурия или анурия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  мочевина  выше 30 м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еатинин - выше1000 мк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АМ     Осмолярность   ниже 500 мосм/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лубочковая фильтрация ниже 10 мл/ми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2:07:46Z</dcterms:created>
  <dc:creator>томсон</dc:creator>
  <dc:description/>
  <dc:language>en-US</dc:language>
  <cp:lastModifiedBy>LEGION</cp:lastModifiedBy>
  <dcterms:modified xsi:type="dcterms:W3CDTF">2014-11-07T11:28:34Z</dcterms:modified>
  <cp:revision>91</cp:revision>
  <dc:subject/>
  <dc:title>Комы при интоксикациях алкогольная наркотическая уремическая печеночная</dc:title>
</cp:coreProperties>
</file>