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E2B8-96F3-469A-AAF9-69F77B736F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1. Вселенная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 н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AC7C-E2F6-4AA9-8DAA-EC88E8EA9A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везд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EFBD-AD60-483E-9C2A-8B285C9A89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2E89-A228-40D9-B0A7-AFEB162471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 Большая медвед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FDE2-F6DF-4250-AEBD-D117C05B2E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EFDA-2E76-4916-BA9C-84CBE7E00C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скоп "Хаббл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EFBE-EF92-4DCE-B713-03F55E0F7C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ио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763D-30E7-4FCA-9CF9-EEA29B3E10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ве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звезд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созвездия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B167-787C-447E-89D5-DE4EA86278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по Аристо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384 - 322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E638-1B3A-4ED0-8BB8-87F0883184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Клавдия Птолем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ок. 90 - 160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930A-CF00-4982-82F4-B51E37B14C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Николая Копер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473 – 154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88C7-5FFD-410D-A308-35FF2A9670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троном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аука, изучающая небес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Астро» в переводе с греческого -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E33E-EF0A-4D86-8E52-68AE0AE1A6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096C-CD07-4EC1-B93A-CA4E3BB6A2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B40D-FEB4-4F46-936F-498C52F774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CFE7-E92D-43EB-AB86-2E11CDD827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2E01-57E1-4A4E-8115-FCAB430DEF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FF5-3911-4BE1-918E-CD8F54D1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837-9FE0-48E9-8A33-0B3B1A47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B76-FFA1-4697-B65C-C1E5581F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6B9-0028-400D-AA1F-109869A6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BE1D-FDDE-4169-80A0-981E93A2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39AC-F481-48A0-B90D-E8BCC3C8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4983-FB81-47F0-8B54-F8AE16BC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A722-2C59-48F7-9DE3-BD90139D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DDAB-90A8-4292-B672-6280EAB6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37FD-8DBB-405D-B18E-935E60DE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EB54-E2FF-4FF3-A652-5BE41187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8CA-4138-432E-B058-B3A1F4A1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C264-CFB5-401D-9237-43EAF769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478A-358D-465C-837D-86368BF5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FA4C-E392-465A-B231-4C1AFD15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EE9A-C12D-4DCE-9ED4-EA42C100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22B9-4996-4C60-BA58-5709C8E2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703-AF2B-482F-A126-054A4424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135-0291-423A-A4E8-728BDDCE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4AD-10F4-42AE-8F86-3D44192E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4D5-2219-4C0C-9E53-32402AED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13D-0E9A-444B-B3BC-9B83C5F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506-BD22-4789-BD27-B7F5018A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C79-A676-4359-88B2-C0B1F091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5A63-8314-431F-9C02-1AC205D63F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21DE-44C3-4ACD-9F14-E46BC43B61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84464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Глава 1. Вселенная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Звезды на небе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звезд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4280" y="2274840"/>
            <a:ext cx="726768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4" descr="скорпион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79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Скорп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козерог"/>
          <p:cNvPicPr/>
          <p:nvPr/>
        </p:nvPicPr>
        <p:blipFill>
          <a:blip r:embed="rId1"/>
          <a:stretch/>
        </p:blipFill>
        <p:spPr>
          <a:xfrm>
            <a:off x="250920" y="33480"/>
            <a:ext cx="8496360" cy="6824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Козе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Созвездие Большая медведиц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Картинка 18 из 1493"/>
          <p:cNvPicPr/>
          <p:nvPr/>
        </p:nvPicPr>
        <p:blipFill>
          <a:blip r:embed="rId1"/>
          <a:stretch/>
        </p:blipFill>
        <p:spPr>
          <a:xfrm>
            <a:off x="0" y="178452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Картинка 5 из 121653"/>
          <p:cNvPicPr/>
          <p:nvPr/>
        </p:nvPicPr>
        <p:blipFill>
          <a:blip r:embed="rId1"/>
          <a:stretch/>
        </p:blipFill>
        <p:spPr>
          <a:xfrm>
            <a:off x="2700360" y="1773360"/>
            <a:ext cx="3981600" cy="5084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39640" y="40464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451332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Телескоп "Хаббл".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0" name="Picture 5" descr="Картинка 0 из 121653"/>
          <p:cNvPicPr/>
          <p:nvPr/>
        </p:nvPicPr>
        <p:blipFill>
          <a:blip r:embed="rId1"/>
          <a:stretch/>
        </p:blipFill>
        <p:spPr>
          <a:xfrm>
            <a:off x="1547640" y="1886040"/>
            <a:ext cx="6624720" cy="4971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0896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адиотелескоп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радиотелескопы"/>
          <p:cNvPicPr/>
          <p:nvPr/>
        </p:nvPicPr>
        <p:blipFill>
          <a:blip r:embed="rId1"/>
          <a:stretch/>
        </p:blipFill>
        <p:spPr>
          <a:xfrm>
            <a:off x="1619280" y="1914480"/>
            <a:ext cx="6480000" cy="494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7543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звезд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созвезд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ие созвездия вы знает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Аристотель"/>
          <p:cNvPicPr/>
          <p:nvPr/>
        </p:nvPicPr>
        <p:blipFill>
          <a:blip r:embed="rId1"/>
          <a:stretch/>
        </p:blipFill>
        <p:spPr>
          <a:xfrm>
            <a:off x="2484360" y="1889280"/>
            <a:ext cx="4969080" cy="4968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050920" y="620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332000" y="18900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по Аристотел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384 - 322 до н.э.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Птолемей"/>
          <p:cNvPicPr/>
          <p:nvPr/>
        </p:nvPicPr>
        <p:blipFill>
          <a:blip r:embed="rId1"/>
          <a:stretch/>
        </p:blipFill>
        <p:spPr>
          <a:xfrm>
            <a:off x="2195640" y="1976400"/>
            <a:ext cx="5329080" cy="4881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0" y="333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Клавдия Птолеме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ок. 90 - 160 н.э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Коперник"/>
          <p:cNvPicPr/>
          <p:nvPr/>
        </p:nvPicPr>
        <p:blipFill>
          <a:blip r:embed="rId1"/>
          <a:stretch/>
        </p:blipFill>
        <p:spPr>
          <a:xfrm>
            <a:off x="2411280" y="181764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042920" y="260280"/>
            <a:ext cx="76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Николая Коперни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1473 – 1543 г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строном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наука, изучающая небесные те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Астро» в переводе с греческого - звез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9920" y="2608200"/>
            <a:ext cx="726912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везд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Картинка 9 из 103"/>
          <p:cNvPicPr/>
          <p:nvPr/>
        </p:nvPicPr>
        <p:blipFill>
          <a:blip r:embed="rId1"/>
          <a:stretch/>
        </p:blipFill>
        <p:spPr>
          <a:xfrm>
            <a:off x="971640" y="1571760"/>
            <a:ext cx="7850160" cy="5286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43:51Z</dcterms:created>
  <dc:creator>админ</dc:creator>
  <dc:description/>
  <dc:language>en-US</dc:language>
  <cp:lastModifiedBy>LEGION</cp:lastModifiedBy>
  <dcterms:modified xsi:type="dcterms:W3CDTF">2015-01-12T09:25:27Z</dcterms:modified>
  <cp:revision>17</cp:revision>
  <dc:subject/>
  <dc:title>Глава 1. Вселенная  Звезды на небе</dc:title>
</cp:coreProperties>
</file>