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6640-AA35-44EC-9675-357B35142B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1. Вселенная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 н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0866-B28C-4AE0-83DC-6578061BC7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везд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B693-894A-4466-A3D1-C3EB155A82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86FE-91AB-4D16-A1DA-40D58B359F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 Большая медвед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888-5F48-408B-938C-CA1D04EE45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D06C-FF82-41A6-AD7A-BEE2913311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скоп "Хаббл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1293-1540-4C3F-A2A0-1B0B1A7DA9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ио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C1E6-CC51-4838-B07B-EF846BD9E0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ве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звезд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созвездия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2603-AEF1-43CE-952F-6D649C59C1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по Аристо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384 - 322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B964-1BDE-45F8-A1B0-CB25FEA583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Клавдия Птолем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ок. 90 - 160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C970-D761-4A41-A931-0C4CE19141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Николая Копер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473 – 154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497B-283F-45A0-ABA9-87B42FF0FD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троном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аука, изучающая небес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Астро» в переводе с греческого -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104B-8F68-4AB8-BF1D-9E8D4C5BE5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6390-84F7-4E52-8A93-C59CA8A180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9CBE-D932-406C-ABD6-2D862A1EB1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F9B7-198C-4C6C-9B77-EAA4624663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E79-EFA5-4BB0-9548-62D4EEBC27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5A3-76E3-40EE-BF65-9A9819AD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56E-3AFB-4D29-8F7C-F43C96ED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C01-489A-41B6-83FD-087B53C5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36F-B580-4177-8401-50119A47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6FD6-D66D-4959-9538-1FE0139F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499D-F845-45FA-A11A-E74304FC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F9A8-715E-4B00-890E-269F1AF3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CABD-880D-4187-996A-AD864EDD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3C64-9158-4CD1-A2A1-2B33743F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45E3-0A92-4765-806B-BA32AE65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8AA6-652E-44BF-937F-7399B8A9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36A-679C-449C-AD27-1680FF54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CFE6-73B8-4215-A21D-F67C0EF0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ED6A-8069-4482-90C8-BAF30EC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B287-0063-40F8-960F-C04A5DB4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84F0-0D31-4A11-965F-1FF4FEF1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D47C-EE30-4F8C-8EA9-D75C09BD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10E-B73E-4F53-BFBA-631FE4F7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57A-A0D9-4B64-918E-379501E5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FA4-FC2A-412C-ABCB-7C34A6E6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AA1-AB62-4C89-8220-649A086A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A4A-A7A4-4A79-B97E-1693D3AE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7FA-F20C-4F46-8574-2E5DBB06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BBF-2CED-4986-B0CE-D4401B2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D803-E542-480A-8A31-C57AF93385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7BD0-B86E-43CF-B019-BE2B4D5387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84464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Глава 1. Вселенная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Звезды на небе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звезд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4280" y="2274840"/>
            <a:ext cx="726768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4" descr="скорпион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79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Скорп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козерог"/>
          <p:cNvPicPr/>
          <p:nvPr/>
        </p:nvPicPr>
        <p:blipFill>
          <a:blip r:embed="rId1"/>
          <a:stretch/>
        </p:blipFill>
        <p:spPr>
          <a:xfrm>
            <a:off x="250920" y="33480"/>
            <a:ext cx="8496360" cy="6824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Козе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Созвездие Большая медведиц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Картинка 18 из 1493"/>
          <p:cNvPicPr/>
          <p:nvPr/>
        </p:nvPicPr>
        <p:blipFill>
          <a:blip r:embed="rId1"/>
          <a:stretch/>
        </p:blipFill>
        <p:spPr>
          <a:xfrm>
            <a:off x="0" y="178452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Картинка 5 из 121653"/>
          <p:cNvPicPr/>
          <p:nvPr/>
        </p:nvPicPr>
        <p:blipFill>
          <a:blip r:embed="rId1"/>
          <a:stretch/>
        </p:blipFill>
        <p:spPr>
          <a:xfrm>
            <a:off x="2700360" y="1773360"/>
            <a:ext cx="3981600" cy="5084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39640" y="40464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451332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Телескоп "Хаббл".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0" name="Picture 5" descr="Картинка 0 из 121653"/>
          <p:cNvPicPr/>
          <p:nvPr/>
        </p:nvPicPr>
        <p:blipFill>
          <a:blip r:embed="rId1"/>
          <a:stretch/>
        </p:blipFill>
        <p:spPr>
          <a:xfrm>
            <a:off x="1547640" y="1886040"/>
            <a:ext cx="6624720" cy="4971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0896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адиотелескоп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радиотелескопы"/>
          <p:cNvPicPr/>
          <p:nvPr/>
        </p:nvPicPr>
        <p:blipFill>
          <a:blip r:embed="rId1"/>
          <a:stretch/>
        </p:blipFill>
        <p:spPr>
          <a:xfrm>
            <a:off x="1619280" y="1914480"/>
            <a:ext cx="6480000" cy="494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7543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звезд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созвезд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ие созвездия вы знает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Аристотель"/>
          <p:cNvPicPr/>
          <p:nvPr/>
        </p:nvPicPr>
        <p:blipFill>
          <a:blip r:embed="rId1"/>
          <a:stretch/>
        </p:blipFill>
        <p:spPr>
          <a:xfrm>
            <a:off x="2484360" y="1889280"/>
            <a:ext cx="4969080" cy="4968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050920" y="620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332000" y="18900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по Аристотел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384 - 322 до н.э.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Птолемей"/>
          <p:cNvPicPr/>
          <p:nvPr/>
        </p:nvPicPr>
        <p:blipFill>
          <a:blip r:embed="rId1"/>
          <a:stretch/>
        </p:blipFill>
        <p:spPr>
          <a:xfrm>
            <a:off x="2195640" y="1976400"/>
            <a:ext cx="5329080" cy="4881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0" y="333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Клавдия Птолеме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ок. 90 - 160 н.э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Коперник"/>
          <p:cNvPicPr/>
          <p:nvPr/>
        </p:nvPicPr>
        <p:blipFill>
          <a:blip r:embed="rId1"/>
          <a:stretch/>
        </p:blipFill>
        <p:spPr>
          <a:xfrm>
            <a:off x="2411280" y="181764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042920" y="260280"/>
            <a:ext cx="76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Николая Коперни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1473 – 1543 г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строном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наука, изучающая небесные те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Астро» в переводе с греческого - звез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9920" y="2608200"/>
            <a:ext cx="726912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везд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Картинка 9 из 103"/>
          <p:cNvPicPr/>
          <p:nvPr/>
        </p:nvPicPr>
        <p:blipFill>
          <a:blip r:embed="rId1"/>
          <a:stretch/>
        </p:blipFill>
        <p:spPr>
          <a:xfrm>
            <a:off x="971640" y="1571760"/>
            <a:ext cx="7850160" cy="5286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43:51Z</dcterms:created>
  <dc:creator>админ</dc:creator>
  <dc:description/>
  <dc:language>en-US</dc:language>
  <cp:lastModifiedBy>LEGION</cp:lastModifiedBy>
  <dcterms:modified xsi:type="dcterms:W3CDTF">2015-01-12T09:25:27Z</dcterms:modified>
  <cp:revision>17</cp:revision>
  <dc:subject/>
  <dc:title>Глава 1. Вселенная  Звезды на небе</dc:title>
</cp:coreProperties>
</file>