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8B52-3F37-4611-9DA3-2B5D332EB0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1. Вселенная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 н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6D5B-2D5C-485F-8F9B-F8165BD00F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везд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38F9-91FB-4EA2-AEDE-E18D456DD9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6E1C-6661-41FD-886F-CC4139E4EA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 Большая медвед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84CA-4F95-4E2A-BAE7-4FCDCF20F6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0F59-69BA-4690-BF2B-1E93EFAED9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скоп "Хаббл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6D5F-A7B8-4E5F-8049-C2924D18C9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ио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142C-F343-4EB6-B583-972A357FD0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ве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звезд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созвездия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19E-4560-4827-8DFA-78AFA374BD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по Аристо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384 - 322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2C94-34D2-4A76-870F-2FA6C13EBD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Клавдия Птолем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ок. 90 - 160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0E4C-FC85-48C1-8371-294A2AD21F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Николая Копер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473 – 154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3495-0008-45DB-9E14-E4076CF818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троном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аука, изучающая небес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Астро» в переводе с греческого -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DFB-2446-43E7-8179-86273A8CA4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AC8F-F05D-4913-8F6A-C2C9367E40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AB16-6B8C-4448-B4D7-3E33545ADF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FD56-0274-498A-AF7C-C3C7A1D880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7A33-5A1C-4BFF-AF92-57531F49E5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83B-7475-4125-97D3-8313AE24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C05-553C-415E-BED9-FBD8A4C6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B88-4ECE-4D40-B50D-FCEC6211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B6D-167F-4B1F-B024-8ABCA987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6525-0935-4444-A228-98857D62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62B6-1374-4221-A15D-CA6F00A0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12AF-402F-4E58-ABBB-242B8AC0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ABB5-1490-40BD-8931-A7F45546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C325-F9CF-4AFF-9B8C-3713430D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7353-241B-4EDC-9868-8A448964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0B03-B108-40C0-B704-45CE796A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0B3-A09F-46B6-8216-FA1E6480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E3F1-408D-4AD4-B05C-39C01EDB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7C29-3EC3-4676-9D6A-8E77A046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4C26-A60E-43BC-81D7-D390C104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0DCC-B58B-44A9-A332-D50F15DB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8105-0FCA-4713-9AE0-E522599B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696-1D61-4ADC-836F-AAF0A604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BB9-B976-46C8-8501-E9ADB251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B30-8BB9-45E4-8AE1-6B5882A4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437-D999-4B32-8B6F-3169B3A6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A6D-07E7-484E-98AA-BA75A63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748-7379-4BC0-8938-C6E77A11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F84-94AE-4F2B-A83F-FE000C5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F464-E2C7-4470-84F4-343E1DCA48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4951-4734-4A41-A840-CFC59FB392C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84464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Глава 1. Вселенная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Звезды на небе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звезд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4280" y="2274840"/>
            <a:ext cx="726768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4" descr="скорпион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79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Скорп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козерог"/>
          <p:cNvPicPr/>
          <p:nvPr/>
        </p:nvPicPr>
        <p:blipFill>
          <a:blip r:embed="rId1"/>
          <a:stretch/>
        </p:blipFill>
        <p:spPr>
          <a:xfrm>
            <a:off x="250920" y="33480"/>
            <a:ext cx="8496360" cy="6824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Козе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Созвездие Большая медведиц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Картинка 18 из 1493"/>
          <p:cNvPicPr/>
          <p:nvPr/>
        </p:nvPicPr>
        <p:blipFill>
          <a:blip r:embed="rId1"/>
          <a:stretch/>
        </p:blipFill>
        <p:spPr>
          <a:xfrm>
            <a:off x="0" y="178452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Картинка 5 из 121653"/>
          <p:cNvPicPr/>
          <p:nvPr/>
        </p:nvPicPr>
        <p:blipFill>
          <a:blip r:embed="rId1"/>
          <a:stretch/>
        </p:blipFill>
        <p:spPr>
          <a:xfrm>
            <a:off x="2700360" y="1773360"/>
            <a:ext cx="3981600" cy="5084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39640" y="40464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451332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Телескоп "Хаббл".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0" name="Picture 5" descr="Картинка 0 из 121653"/>
          <p:cNvPicPr/>
          <p:nvPr/>
        </p:nvPicPr>
        <p:blipFill>
          <a:blip r:embed="rId1"/>
          <a:stretch/>
        </p:blipFill>
        <p:spPr>
          <a:xfrm>
            <a:off x="1547640" y="1886040"/>
            <a:ext cx="6624720" cy="4971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0896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адиотелескоп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радиотелескопы"/>
          <p:cNvPicPr/>
          <p:nvPr/>
        </p:nvPicPr>
        <p:blipFill>
          <a:blip r:embed="rId1"/>
          <a:stretch/>
        </p:blipFill>
        <p:spPr>
          <a:xfrm>
            <a:off x="1619280" y="1914480"/>
            <a:ext cx="6480000" cy="494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7543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звезд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созвезд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ие созвездия вы знает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Аристотель"/>
          <p:cNvPicPr/>
          <p:nvPr/>
        </p:nvPicPr>
        <p:blipFill>
          <a:blip r:embed="rId1"/>
          <a:stretch/>
        </p:blipFill>
        <p:spPr>
          <a:xfrm>
            <a:off x="2484360" y="1889280"/>
            <a:ext cx="4969080" cy="4968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050920" y="620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332000" y="18900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по Аристотел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384 - 322 до н.э.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Птолемей"/>
          <p:cNvPicPr/>
          <p:nvPr/>
        </p:nvPicPr>
        <p:blipFill>
          <a:blip r:embed="rId1"/>
          <a:stretch/>
        </p:blipFill>
        <p:spPr>
          <a:xfrm>
            <a:off x="2195640" y="1976400"/>
            <a:ext cx="5329080" cy="4881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0" y="333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Клавдия Птолеме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ок. 90 - 160 н.э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Коперник"/>
          <p:cNvPicPr/>
          <p:nvPr/>
        </p:nvPicPr>
        <p:blipFill>
          <a:blip r:embed="rId1"/>
          <a:stretch/>
        </p:blipFill>
        <p:spPr>
          <a:xfrm>
            <a:off x="2411280" y="181764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042920" y="260280"/>
            <a:ext cx="76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Николая Коперни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1473 – 1543 г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строном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наука, изучающая небесные те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Астро» в переводе с греческого - звез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9920" y="2608200"/>
            <a:ext cx="726912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везд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Картинка 9 из 103"/>
          <p:cNvPicPr/>
          <p:nvPr/>
        </p:nvPicPr>
        <p:blipFill>
          <a:blip r:embed="rId1"/>
          <a:stretch/>
        </p:blipFill>
        <p:spPr>
          <a:xfrm>
            <a:off x="971640" y="1571760"/>
            <a:ext cx="7850160" cy="5286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43:51Z</dcterms:created>
  <dc:creator>админ</dc:creator>
  <dc:description/>
  <dc:language>en-US</dc:language>
  <cp:lastModifiedBy>LEGION</cp:lastModifiedBy>
  <dcterms:modified xsi:type="dcterms:W3CDTF">2015-01-12T09:25:27Z</dcterms:modified>
  <cp:revision>17</cp:revision>
  <dc:subject/>
  <dc:title>Глава 1. Вселенная  Звезды на небе</dc:title>
</cp:coreProperties>
</file>