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BC40-D06C-42A9-866B-B35DD6048B4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а 1. Вселенная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везды на неб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DD4E-E86B-4C69-BFF6-D72475B80CD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звезд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группы звезд, выделенные условно и представляют фигуры животных (Скорпион, Козерог), героев мифологии (Единорог, Кентавр) или какие-либо предметы (Весы, Микроскоп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2ED4-E1D7-4B8A-B87B-644063D1513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настоящее время насчитывают 88 созвезд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0BDC-B7D3-49AC-AC86-6200E53EDCD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вездие Большая медвед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F3EB-C6D3-405C-B53D-CD0F5C32576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везды наблюдают и изучают с помощью телескоп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10E5-1F8E-4CDE-AF75-79D5CCEB503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лескоп "Хаббл"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5D16-8E03-47FC-93A6-BCF4429BE97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диотелеско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55E9-2EA1-4924-8BA2-C3E621928B3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такое звезд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различаются звезды по цвету, ярк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такое созвезд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е созвездия вы зна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помощью каких приборов можно наблюдать и изучать звездное неб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F40A-3104-4EBE-854E-B4C71EA0DE4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ира по Аристотел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384 - 322 до н.э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3C0C-DD3D-41D6-9466-4A249150AF2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ира Клавдия Птолеме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ок. 90 - 160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57C0-FEFB-4D54-9781-A6664C42EFE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ира Николая Коперн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1473 – 1543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DC00-4C2F-477F-BAF6-C647D2464B7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троном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наука, изучающая небесные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Астро» в переводе с греческого - звез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E041-95DD-4F3C-909E-7161BE134CF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везд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раскаленные газовые тела шарообразной 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4C38-DBCD-4213-86A8-1B2775A49A3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имые звёзды делятся по яркости. Для этого используют шкалу от 1 до 6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ые яркие звёзды неба называют «звёздами первой величины», а самые слабые из тех, которые можно видеть, — «шестой величины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5FDB-0322-4344-8956-7FB917D18B8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величине звезды разные. Многие из них гораздо больше Солнца. Это звезды-гиганты. Звезды, которые меньше Солнца называются звезды – карл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5974-DD51-4932-B797-5C42350B034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вёзды гиганты - Арктур, Ригель, Альдебаран, Бетельгейзе и Антарес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4EA1-2319-4A49-92BD-D3130BEDBD0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6628-E52F-49F2-931E-3F3E0DDC5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800C-D61D-40AD-936D-B99C68F6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2DF9-6D5D-408A-98FF-4703217F2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007B-97E1-47A0-B1A4-0ACE20737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A04E-3AA4-4491-9F5B-1A722DC30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CC3E-F959-471E-B001-445F4B01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4A15-18FF-4750-B2C5-4478310B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AB9E-BC55-46F3-A843-87E85004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28BB-565C-466C-9E37-74C53657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48F8-322D-470F-8083-C75686D0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7DE7-7985-43D4-A4FE-FC0F201B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C01E-6E30-4DDE-86DD-5B3DCCCB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4034-BF32-47AC-9FC9-CF927874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EF24-5F9B-4996-BE8A-5BF806BF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9021-25EB-403E-A5B8-692EF860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AF0F-AEAC-41BE-916C-CCF5B184A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B02E1-9544-475C-A718-560289039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F734-FAA4-4194-A5C6-FD311F94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6CE8-94F4-4A8A-997F-CE8996D6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DDA4-B47A-4700-87E8-F3C1DCF5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9C4F-8F1A-4F41-AA5E-D39C4A69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3CAF-994C-4BE4-990F-4DE2CA67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37F9-9EF1-4E00-A221-3F7262B1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D759-4D82-4F8A-9B29-C751B7E9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3A4B-171B-4630-B286-63E85C92727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B9A6-7779-45A4-BEFE-1DF86847955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7280" y="1844640"/>
            <a:ext cx="7772400" cy="22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eaea"/>
                </a:solidFill>
                <a:latin typeface="Times New Roman"/>
              </a:rPr>
              <a:t>Глава 1. Вселенная</a:t>
            </a: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eaeaea"/>
                </a:solidFill>
                <a:latin typeface="Times New Roman"/>
              </a:rPr>
              <a:t>Звезды на небе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11280" y="220500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озвездия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– группы звезд, выделенные условно и представляют фигуры животных (Скорпион, Козерог), героев мифологии (Единорог, Кентавр) или какие-либо предметы (Весы, Микроскоп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214280" y="2274840"/>
            <a:ext cx="7267680" cy="180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 настоящее время насчитывают 88 созвезд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5" name="Picture 4" descr="скорпион"/>
          <p:cNvPicPr/>
          <p:nvPr/>
        </p:nvPicPr>
        <p:blipFill>
          <a:blip r:embed="rId1"/>
          <a:stretch/>
        </p:blipFill>
        <p:spPr>
          <a:xfrm>
            <a:off x="324000" y="0"/>
            <a:ext cx="8424720" cy="67946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179280" y="602136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Созвездие Скорпи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4" descr="козерог"/>
          <p:cNvPicPr/>
          <p:nvPr/>
        </p:nvPicPr>
        <p:blipFill>
          <a:blip r:embed="rId1"/>
          <a:stretch/>
        </p:blipFill>
        <p:spPr>
          <a:xfrm>
            <a:off x="250920" y="33480"/>
            <a:ext cx="8496360" cy="68245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179280" y="602136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Созвездие Козеро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</a:rPr>
              <a:t>Созвездие Большая медведица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5" descr="Картинка 18 из 1493"/>
          <p:cNvPicPr/>
          <p:nvPr/>
        </p:nvPicPr>
        <p:blipFill>
          <a:blip r:embed="rId1"/>
          <a:stretch/>
        </p:blipFill>
        <p:spPr>
          <a:xfrm>
            <a:off x="0" y="1784520"/>
            <a:ext cx="9144000" cy="507348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Картинка 5 из 121653"/>
          <p:cNvPicPr/>
          <p:nvPr/>
        </p:nvPicPr>
        <p:blipFill>
          <a:blip r:embed="rId1"/>
          <a:stretch/>
        </p:blipFill>
        <p:spPr>
          <a:xfrm>
            <a:off x="2700360" y="1773360"/>
            <a:ext cx="3981600" cy="50846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539640" y="404640"/>
            <a:ext cx="82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Звезды наблюдают и изучают с помощью телескоп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626920" y="476280"/>
            <a:ext cx="4513320" cy="8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Телескоп "Хаббл".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0" name="Picture 5" descr="Картинка 0 из 121653"/>
          <p:cNvPicPr/>
          <p:nvPr/>
        </p:nvPicPr>
        <p:blipFill>
          <a:blip r:embed="rId1"/>
          <a:stretch/>
        </p:blipFill>
        <p:spPr>
          <a:xfrm>
            <a:off x="1547640" y="1886040"/>
            <a:ext cx="6624720" cy="497196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8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08000" y="333000"/>
            <a:ext cx="508968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Радиотелескопы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6" descr="радиотелескопы"/>
          <p:cNvPicPr/>
          <p:nvPr/>
        </p:nvPicPr>
        <p:blipFill>
          <a:blip r:embed="rId1"/>
          <a:stretch/>
        </p:blipFill>
        <p:spPr>
          <a:xfrm>
            <a:off x="1619280" y="1914480"/>
            <a:ext cx="6480000" cy="494352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42560" y="1844640"/>
            <a:ext cx="75438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Что такое звезды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ак различаются звезды по цвету, яркости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Что такое созвездие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акие созвездия вы знаете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 помощью каких приборов можно наблюдать и изучать звездное небо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Аристотель"/>
          <p:cNvPicPr/>
          <p:nvPr/>
        </p:nvPicPr>
        <p:blipFill>
          <a:blip r:embed="rId1"/>
          <a:stretch/>
        </p:blipFill>
        <p:spPr>
          <a:xfrm>
            <a:off x="2484360" y="1889280"/>
            <a:ext cx="4969080" cy="4968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2050920" y="620640"/>
            <a:ext cx="59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1332000" y="189000"/>
            <a:ext cx="68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истема мира по Аристотел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(384 - 322 до н.э.)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Птолемей"/>
          <p:cNvPicPr/>
          <p:nvPr/>
        </p:nvPicPr>
        <p:blipFill>
          <a:blip r:embed="rId1"/>
          <a:stretch/>
        </p:blipFill>
        <p:spPr>
          <a:xfrm>
            <a:off x="2195640" y="1976400"/>
            <a:ext cx="5329080" cy="48816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0" y="33336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истема мира Клавдия Птолемея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(ок. 90 - 160 н.э.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Коперник"/>
          <p:cNvPicPr/>
          <p:nvPr/>
        </p:nvPicPr>
        <p:blipFill>
          <a:blip r:embed="rId1"/>
          <a:stretch/>
        </p:blipFill>
        <p:spPr>
          <a:xfrm>
            <a:off x="2411280" y="1817640"/>
            <a:ext cx="5040360" cy="50403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1042920" y="260280"/>
            <a:ext cx="76345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истема мира Николая Коперника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(1473 – 1543 гг.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строномия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– наука, изучающая небесные тел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Астро» в переводе с греческого - звез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339920" y="2608200"/>
            <a:ext cx="7269120" cy="18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Звезды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– раскаленные газовые тела шарообразной форм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813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идимые звёзды делятся по яркости. Для этого используют шкалу от 1 до 6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амые яркие звёзды неба называют «звёздами первой величины», а самые слабые из тех, которые можно видеть, — «шестой величины»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 величине звезды разные. Многие из них гораздо больше Солнца. Это звезды-гиганты. Звезды, которые меньше Солнца называются звезды – карлик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3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Звёзды гиганты - Арктур, Ригель, Альдебаран, Бетельгейзе и Антарес</a:t>
            </a: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5" descr="Картинка 9 из 103"/>
          <p:cNvPicPr/>
          <p:nvPr/>
        </p:nvPicPr>
        <p:blipFill>
          <a:blip r:embed="rId1"/>
          <a:stretch/>
        </p:blipFill>
        <p:spPr>
          <a:xfrm>
            <a:off x="971640" y="1571760"/>
            <a:ext cx="7850160" cy="52862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8:43:51Z</dcterms:created>
  <dc:creator>админ</dc:creator>
  <dc:description/>
  <dc:language>en-US</dc:language>
  <cp:lastModifiedBy>LEGION</cp:lastModifiedBy>
  <dcterms:modified xsi:type="dcterms:W3CDTF">2015-01-12T09:25:27Z</dcterms:modified>
  <cp:revision>17</cp:revision>
  <dc:subject/>
  <dc:title>Глава 1. Вселенная  Звезды на небе</dc:title>
</cp:coreProperties>
</file>