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F34E-CBC9-4655-822C-EE88755B93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80"/>
                </a:solidFill>
                <a:latin typeface="Calibri"/>
              </a:rPr>
              <a:t>Презентация на тем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«Луна - спутница Зем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6314-B11B-4AFF-B89E-BC220C23B9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2FCA-0DB5-441E-BCB1-57CC66ABEC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8D3E-472B-4B7D-BD2B-6F3490A023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7E7B-398A-4A33-948D-76C8328381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Лунный гру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EEFB-08DB-48B6-BE32-80C3746E5A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99"/>
                </a:solidFill>
                <a:latin typeface="Calibri"/>
              </a:rPr>
              <a:t>Битва за Лун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A8DE-E62B-4618-8538-79B6078873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30C2-2A56-40F2-947B-35EDE2A526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Этот экипаж привёз на Землю пробы лунного грунта весом 42 к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DA6C-98E6-4983-B23B-3C9C674619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Рождение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братная сторона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Лунный гру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Битва за Лу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A1C9-E4F8-4C4E-883C-E0CADBE402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C84B-3E86-4F51-930D-F48716E64F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На Луне нет атмосферы, поэтому на поверхности Луны днём жара достигает 13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,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а в тени - -17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4028-9674-4D4C-B682-8B31B8DB61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Calibri"/>
              </a:rPr>
              <a:t>Обратная сторона Лу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67BA-CAAF-4B7D-AC83-4C990812C5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Рождение Лу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е 4,5 миллиарда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E7EB-E4C0-49E9-99D0-F2B1155FDF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Согласно первой теории Земля и Луна родились из одного небесн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636D-10B9-44E1-8FFD-C25C8DA585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C389-59FA-4233-9B66-F0BF290D00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третьей тео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сформировалась в другом месте и впоследствии была захвачена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DF79-EE95-4AD6-B686-54E78E56C2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590-191E-4625-9C6C-AD35D142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833-CF31-4DC9-AA18-9A422348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3A2-C948-405D-8E7A-5D2F3F86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9CB-3663-4912-8735-61E78396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1CF6-53E9-4578-8B77-3B3A74F5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9352-9571-4484-A6B1-DBE755CF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FCBA-F344-4581-9B0B-E72A02F2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61E4-8620-4FE3-A98B-1C6805BA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8075-0C60-4B20-B271-E87AA6C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572B-1E2D-49EA-B686-002D27E1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A813-826B-419A-BB5F-16093F6A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545-0D40-4A56-A09D-FD9C3D3F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D4BB-C800-47C7-8735-DEE04EF5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7122-035A-4C3E-8344-1F79C0C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C07F-4C46-472A-9441-0880A245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67A2-2F3A-4B67-A4F1-685A6B7B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FA97-8C4F-4DC1-90E9-BBA03DD1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B38-636D-4661-B997-9C54F60F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BA8-F822-4790-8FF9-E75484BF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DA6-353D-4CE1-B798-018E3F3D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E83-4ABC-4867-8F1C-62854868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B3B-E551-4BA2-BDDA-534786A4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321-E15D-4665-BF87-D84AE0A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810-F588-4A2A-B9A7-E4A61177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B8F3-0E4F-4F7C-B1EC-25CF76A2F6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59F0-D3A0-48E6-87AA-6DF3BECE0B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Презентация на тему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9930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99"/>
                </a:solidFill>
                <a:latin typeface="Arial"/>
              </a:rPr>
              <a:t>«Луна - спутница Земли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Изменяющийся облик Лу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9" descr="bluemoon_icstars_big"/>
          <p:cNvPicPr/>
          <p:nvPr/>
        </p:nvPicPr>
        <p:blipFill>
          <a:blip r:embed="rId1"/>
          <a:stretch/>
        </p:blipFill>
        <p:spPr>
          <a:xfrm>
            <a:off x="3059280" y="1197000"/>
            <a:ext cx="4537080" cy="340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0" y="4653000"/>
            <a:ext cx="68756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3887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Moon_phases"/>
          <p:cNvPicPr/>
          <p:nvPr/>
        </p:nvPicPr>
        <p:blipFill>
          <a:blip r:embed="rId1"/>
          <a:stretch/>
        </p:blipFill>
        <p:spPr>
          <a:xfrm>
            <a:off x="4211640" y="404640"/>
            <a:ext cx="4465800" cy="6048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moonint"/>
          <p:cNvPicPr/>
          <p:nvPr/>
        </p:nvPicPr>
        <p:blipFill>
          <a:blip r:embed="rId1"/>
          <a:stretch/>
        </p:blipFill>
        <p:spPr>
          <a:xfrm>
            <a:off x="3348000" y="2565360"/>
            <a:ext cx="5291280" cy="396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Лунный грунт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surface"/>
          <p:cNvPicPr/>
          <p:nvPr/>
        </p:nvPicPr>
        <p:blipFill>
          <a:blip r:embed="rId1"/>
          <a:stretch/>
        </p:blipFill>
        <p:spPr>
          <a:xfrm>
            <a:off x="3419640" y="2924280"/>
            <a:ext cx="4967280" cy="3681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28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cc99"/>
                </a:solidFill>
                <a:latin typeface="Arial"/>
              </a:rPr>
              <a:t>Битва за Луну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5370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images1"/>
          <p:cNvPicPr/>
          <p:nvPr/>
        </p:nvPicPr>
        <p:blipFill>
          <a:blip r:embed="rId1"/>
          <a:stretch/>
        </p:blipFill>
        <p:spPr>
          <a:xfrm>
            <a:off x="4643280" y="2060640"/>
            <a:ext cx="423576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42341i"/>
          <p:cNvPicPr/>
          <p:nvPr/>
        </p:nvPicPr>
        <p:blipFill>
          <a:blip r:embed="rId1"/>
          <a:stretch/>
        </p:blipFill>
        <p:spPr>
          <a:xfrm>
            <a:off x="3851280" y="1700280"/>
            <a:ext cx="4321080" cy="48974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Apollo_15_Lunar_Rover_and_Irwin"/>
          <p:cNvPicPr/>
          <p:nvPr/>
        </p:nvPicPr>
        <p:blipFill>
          <a:blip r:embed="rId1"/>
          <a:stretch/>
        </p:blipFill>
        <p:spPr>
          <a:xfrm>
            <a:off x="2050920" y="260280"/>
            <a:ext cx="6481800" cy="482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916000" y="5157360"/>
            <a:ext cx="58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Этот экипаж привёз на Землю пробы лунного грунта весом 42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050920" y="765000"/>
            <a:ext cx="64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Естественный спутник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Рождение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Изменяющийся облик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Обратная сторона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Лунный гру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Битва за Лу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Естественный спутник Земли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17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249_b"/>
          <p:cNvPicPr/>
          <p:nvPr/>
        </p:nvPicPr>
        <p:blipFill>
          <a:blip r:embed="rId1"/>
          <a:stretch/>
        </p:blipFill>
        <p:spPr>
          <a:xfrm>
            <a:off x="4788000" y="1052640"/>
            <a:ext cx="4032000" cy="547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Луне нет атмосферы, поэтому на поверхности Луны днём жара достигает 13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,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 в тени - -17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surface"/>
          <p:cNvPicPr/>
          <p:nvPr/>
        </p:nvPicPr>
        <p:blipFill>
          <a:blip r:embed="rId1"/>
          <a:stretch/>
        </p:blipFill>
        <p:spPr>
          <a:xfrm>
            <a:off x="2987640" y="2060640"/>
            <a:ext cx="5616720" cy="40323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Обратная сторона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file_post_726_600w"/>
          <p:cNvPicPr/>
          <p:nvPr/>
        </p:nvPicPr>
        <p:blipFill>
          <a:blip r:embed="rId1"/>
          <a:stretch/>
        </p:blipFill>
        <p:spPr>
          <a:xfrm>
            <a:off x="3203640" y="2781360"/>
            <a:ext cx="5616360" cy="3744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Рождение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5267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е 4,5 миллиарда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луна1"/>
          <p:cNvPicPr/>
          <p:nvPr/>
        </p:nvPicPr>
        <p:blipFill>
          <a:blip r:embed="rId1"/>
          <a:stretch/>
        </p:blipFill>
        <p:spPr>
          <a:xfrm>
            <a:off x="3492360" y="2205000"/>
            <a:ext cx="5329440" cy="41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огласно первой теории Земля и Луна родились из одного небесно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5" descr="luna-inside-1"/>
          <p:cNvPicPr/>
          <p:nvPr/>
        </p:nvPicPr>
        <p:blipFill>
          <a:blip r:embed="rId1"/>
          <a:stretch/>
        </p:blipFill>
        <p:spPr>
          <a:xfrm>
            <a:off x="2916360" y="1557360"/>
            <a:ext cx="575928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1" descr="5"/>
          <p:cNvPicPr/>
          <p:nvPr/>
        </p:nvPicPr>
        <p:blipFill>
          <a:blip r:embed="rId1"/>
          <a:stretch/>
        </p:blipFill>
        <p:spPr>
          <a:xfrm>
            <a:off x="4716360" y="620640"/>
            <a:ext cx="4103640" cy="5545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176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20090318_moon"/>
          <p:cNvPicPr/>
          <p:nvPr/>
        </p:nvPicPr>
        <p:blipFill>
          <a:blip r:embed="rId1"/>
          <a:stretch/>
        </p:blipFill>
        <p:spPr>
          <a:xfrm>
            <a:off x="4643280" y="692280"/>
            <a:ext cx="4249800" cy="576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3" name="Rectangle 8"/>
          <p:cNvSpPr/>
          <p:nvPr/>
        </p:nvSpPr>
        <p:spPr>
          <a:xfrm>
            <a:off x="395280" y="692280"/>
            <a:ext cx="43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третьей те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а сформировалась в другом месте и впоследствии была захвачена Землёй.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0:17:44Z</dcterms:created>
  <dc:creator>Admin</dc:creator>
  <dc:description/>
  <dc:language>en-US</dc:language>
  <cp:lastModifiedBy>LEGION</cp:lastModifiedBy>
  <dcterms:modified xsi:type="dcterms:W3CDTF">2015-01-12T09:26:08Z</dcterms:modified>
  <cp:revision>9</cp:revision>
  <dc:subject/>
  <dc:title>Слайд 1</dc:title>
</cp:coreProperties>
</file>