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507E-9C6C-4242-9B37-87A9C19574E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8080"/>
                </a:solidFill>
                <a:latin typeface="Calibri"/>
              </a:rPr>
              <a:t>Презентация на тему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«Луна - спутница Зем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AFEE-0BA9-44BA-8C33-C07AF5CC0F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Изменяющийся облик Лу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Так как Луна светится отражённым светом Солнца, с Земли видна только освещённая   Солнцем часть лунной поверх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5BBC-CDAB-4BAB-90E6-E1ADD2ADCA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а обращается по орбите вокруг Земли и тем самым угол между Землёй, Луной и Солнцем изменяется и мы наблюдаем это явление как цикл лунных ф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D8C0-261A-442D-AC14-3FE5624220A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Calibri"/>
              </a:rPr>
              <a:t>А что внутр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Твёрдая кора Луны состоит из породы, напоминающей гранит. Под ней - мантия, частично расплавленная зона «лунотрясений» и ядр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B1F0-0F97-4282-BF40-433B24337E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Calibri"/>
              </a:rPr>
              <a:t>Лунный грун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Интенсивная бомбардировка  метеоритами сделала верхний слой лунной коры мелко раздробленным, а наружные несколько метров превратила в порошок (реголи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1953-64AF-4D9E-855B-CDF90BCC130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cc99"/>
                </a:solidFill>
                <a:latin typeface="Calibri"/>
              </a:rPr>
              <a:t>Битва за Лун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ервый космический аппарат- советская «Луна-2»-Достиг лунной поверхности в 1959 году, а «Луна-3» облетела наш естественный спутник и сфотографировала его обратную сторо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8189-83D1-46B1-B0FA-13057CB8603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21 июля 1969 года американские астронавты Нил Амстронг и Эдвин Олдрин совершили первую посадку на Лу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73E2-F99B-495C-B752-D32A03AE5A6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Этот экипаж привёз на Землю пробы лунного грунта весом 42 к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B179-7F82-47D1-BCEE-25A98FF178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Естественный спутник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Рождение Л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Изменяющийся облик Л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Обратная сторона Л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А что внутр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Лунный гру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Битва за Лу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А что да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B9E9-BA27-4F11-BC20-843F40B876A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Естественный спутник Земл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а - самое близкое к Земле небесное тело, естественный спутник нашей планеты. Она находится на расстоянии 380 440 км от Земли. Её диаметр 3500 км, а масса равна 1/10 массы нашей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4845-B01D-4D23-BA20-B562363A91D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На Луне нет атмосферы, поэтому на поверхности Луны днём жара достигает 130</a:t>
            </a:r>
            <a:r>
              <a:rPr b="1" lang="ru-RU" sz="800" spc="-1" strike="noStrike" baseline="100000">
                <a:solidFill>
                  <a:srgbClr val="006666"/>
                </a:solidFill>
                <a:latin typeface="Calibri"/>
              </a:rPr>
              <a:t>0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 С,</a:t>
            </a:r>
            <a:r>
              <a:rPr b="1" lang="en-US" sz="12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а в тени - -170</a:t>
            </a:r>
            <a:r>
              <a:rPr b="1" lang="ru-RU" sz="800" spc="-1" strike="noStrike" baseline="100000">
                <a:solidFill>
                  <a:srgbClr val="006666"/>
                </a:solidFill>
                <a:latin typeface="Calibri"/>
              </a:rPr>
              <a:t>0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6CA0-B875-486D-8E06-37F27B481F7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Calibri"/>
              </a:rPr>
              <a:t>Обратная сторона Лу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ериод вращения Луны вокруг своей оси совпадает с периодом вращения вокруг Земли      ( 27 суток 7 часов 43 минуты), поэтому на Земле всегда видна только одна её сто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0E11-878B-4B25-ACCA-53064E75EA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Calibri"/>
              </a:rPr>
              <a:t>Рождение Лу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е 4,5 миллиарда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3C4B-9FD0-45B4-AD53-54E271E5E2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Согласно первой теории Земля и Луна родились из одного небесного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63BE-07D2-4B4A-A2BE-4E8CC48514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о второй теории, в результате столкновения юной Земли с Огромным космическим телом была выбита часть земной коры и мантии, и из этого материала сформировалась Лу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EC73-5246-4AEB-B34A-A2014F27936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о третьей теор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а сформировалась в другом месте и впоследствии была захвачена Землё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5D08-CE59-4918-8107-A142D80DA9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7485-B0EE-46FD-8D44-BE4E814A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4F5C-2F5B-490F-B23D-DD09AB80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03C0-B4F0-481C-9D0E-0A438E8E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85C0-23A9-4D33-A1EF-6FA4BFB4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6549-354E-485A-85B5-51622688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9F4E-9708-4C67-A497-7CB34501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8C0E-9DC2-475B-B2A8-5B1B4B5C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EFD8-DA86-489A-AF58-C81CB178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9A58-C6FC-4052-A56F-03A5DA4E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B0BF-A6C8-42AC-9B3F-DEC0AE96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DCEA-E853-4C96-901B-DC0B79B9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1517-A1EC-4767-9BD8-E7084310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50B7-35B1-413E-B0F8-9F91D7EE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B05F-4265-4DFD-87A9-92B42F66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1D1A-9048-41A1-9893-A94ADB61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B151-50FC-47A4-892C-69F29D71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0D1E-151E-4E12-BB49-C962FAE1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A870-6401-4F35-A520-8D69C0E1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9256-BE65-4575-8E7D-5C8FFE66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A4CD-C41F-4C1E-95F6-8D9EF1A1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5EB3-F57D-4C69-91F4-99448890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BACF-13C9-4117-9C80-C6CDED22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41FF-DA98-4A6E-8F39-FB6C6BC9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241B-944C-49C9-8E15-20CCAA7E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912F-06DA-4585-B5FB-65DAC2B3B78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1E3D-AD9F-480F-AB44-4A4B324578A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80"/>
                </a:solidFill>
                <a:latin typeface="Arial"/>
              </a:rPr>
              <a:t>Презентация на тему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55280" y="2060280"/>
            <a:ext cx="799308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c99"/>
                </a:solidFill>
                <a:latin typeface="Arial"/>
              </a:rPr>
              <a:t>«Луна - спутница Земли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Arial"/>
              </a:rPr>
              <a:t>Изменяющийся облик Лун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6" name="Picture 9" descr="bluemoon_icstars_big"/>
          <p:cNvPicPr/>
          <p:nvPr/>
        </p:nvPicPr>
        <p:blipFill>
          <a:blip r:embed="rId1"/>
          <a:stretch/>
        </p:blipFill>
        <p:spPr>
          <a:xfrm>
            <a:off x="3059280" y="1197000"/>
            <a:ext cx="4537080" cy="340200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68000" y="4653000"/>
            <a:ext cx="6875640" cy="18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Так как Луна светится отражённым светом Солнца, с Земли видна только освещённая   Солнцем часть лунной поверх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38876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Луна обращается по орбите вокруг Земли и тем самым угол между Землёй, Луной и Солнцем изменяется и мы наблюдаем это явление как цикл лунных ф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7" descr="Moon_phases"/>
          <p:cNvPicPr/>
          <p:nvPr/>
        </p:nvPicPr>
        <p:blipFill>
          <a:blip r:embed="rId1"/>
          <a:stretch/>
        </p:blipFill>
        <p:spPr>
          <a:xfrm>
            <a:off x="4211640" y="404640"/>
            <a:ext cx="4465800" cy="604872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А что внутри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Твёрдая кора Луны состоит из породы, напоминающей гранит. Под ней - мантия, частично расплавленная зона «лунотрясений» и ядр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moonint"/>
          <p:cNvPicPr/>
          <p:nvPr/>
        </p:nvPicPr>
        <p:blipFill>
          <a:blip r:embed="rId1"/>
          <a:stretch/>
        </p:blipFill>
        <p:spPr>
          <a:xfrm>
            <a:off x="3348000" y="2565360"/>
            <a:ext cx="5291280" cy="3960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Лунный грунт</a:t>
            </a: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351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Интенсивная бомбардировка  метеоритами сделала верхний слой лунной коры мелко раздробленным, а наружные несколько метров превратила в порошок (реголит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7" descr="surface"/>
          <p:cNvPicPr/>
          <p:nvPr/>
        </p:nvPicPr>
        <p:blipFill>
          <a:blip r:embed="rId1"/>
          <a:stretch/>
        </p:blipFill>
        <p:spPr>
          <a:xfrm>
            <a:off x="3419640" y="2924280"/>
            <a:ext cx="4967280" cy="368136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147160" cy="28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ffcc99"/>
                </a:solidFill>
                <a:latin typeface="Arial"/>
              </a:rPr>
              <a:t>Битва за Луну</a:t>
            </a:r>
            <a:br>
              <a:rPr sz="5400"/>
            </a:b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45370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ервый космический аппарат- советская «Луна-2»-Достиг лунной поверхности в 1959 году, а «Луна-3» облетела наш естественный спутник и сфотографировала его обратную сторон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7" descr="images1"/>
          <p:cNvPicPr/>
          <p:nvPr/>
        </p:nvPicPr>
        <p:blipFill>
          <a:blip r:embed="rId1"/>
          <a:stretch/>
        </p:blipFill>
        <p:spPr>
          <a:xfrm>
            <a:off x="4643280" y="2060640"/>
            <a:ext cx="4235760" cy="4392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8200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21 июля 1969 года американские астронавты Нил Амстронг и Эдвин Олдрин совершили первую посадку на Лун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42341i"/>
          <p:cNvPicPr/>
          <p:nvPr/>
        </p:nvPicPr>
        <p:blipFill>
          <a:blip r:embed="rId1"/>
          <a:stretch/>
        </p:blipFill>
        <p:spPr>
          <a:xfrm>
            <a:off x="3851280" y="1700280"/>
            <a:ext cx="4321080" cy="48974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7" descr="Apollo_15_Lunar_Rover_and_Irwin"/>
          <p:cNvPicPr/>
          <p:nvPr/>
        </p:nvPicPr>
        <p:blipFill>
          <a:blip r:embed="rId1"/>
          <a:stretch/>
        </p:blipFill>
        <p:spPr>
          <a:xfrm>
            <a:off x="2050920" y="260280"/>
            <a:ext cx="6481800" cy="48243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916000" y="5157360"/>
            <a:ext cx="583236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Этот экипаж привёз на Землю пробы лунного грунта весом 42 к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050920" y="765000"/>
            <a:ext cx="64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Естественный спутник Зем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Рождение Лу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Изменяющийся облик Лу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Обратная сторона Лу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А что внутр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Лунный грун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Битва за Лу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А что дальш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Arial"/>
              </a:rPr>
              <a:t>Естественный спутник Земли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176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Луна - самое близкое к Земле небесное тело, естественный спутник нашей планеты. Она находится на расстоянии 380 440 км от Земли. Её диаметр 3500 км, а масса равна 1/10 массы нашей план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6" descr="249_b"/>
          <p:cNvPicPr/>
          <p:nvPr/>
        </p:nvPicPr>
        <p:blipFill>
          <a:blip r:embed="rId1"/>
          <a:stretch/>
        </p:blipFill>
        <p:spPr>
          <a:xfrm>
            <a:off x="4788000" y="1052640"/>
            <a:ext cx="4032000" cy="547200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55280" y="404280"/>
            <a:ext cx="8064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 Луне нет атмосферы, поэтому на поверхности Луны днём жара достигает 130</a:t>
            </a:r>
            <a:r>
              <a:rPr b="1" lang="ru-RU" sz="1400" spc="-1" strike="noStrike" baseline="100000">
                <a:solidFill>
                  <a:srgbClr val="006666"/>
                </a:solidFill>
                <a:latin typeface="Arial"/>
              </a:rPr>
              <a:t>0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С,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а в тени - -170</a:t>
            </a:r>
            <a:r>
              <a:rPr b="1" lang="ru-RU" sz="1400" spc="-1" strike="noStrike" baseline="100000">
                <a:solidFill>
                  <a:srgbClr val="006666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surface"/>
          <p:cNvPicPr/>
          <p:nvPr/>
        </p:nvPicPr>
        <p:blipFill>
          <a:blip r:embed="rId1"/>
          <a:stretch/>
        </p:blipFill>
        <p:spPr>
          <a:xfrm>
            <a:off x="2987640" y="2060640"/>
            <a:ext cx="5616720" cy="403236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Обратная сторона Луны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820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ериод вращения Луны вокруг своей оси совпадает с периодом вращения вокруг Земли      ( 27 суток 7 часов 43 минуты), поэтому на Земле всегда видна только одна её стор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7" descr="file_post_726_600w"/>
          <p:cNvPicPr/>
          <p:nvPr/>
        </p:nvPicPr>
        <p:blipFill>
          <a:blip r:embed="rId1"/>
          <a:stretch/>
        </p:blipFill>
        <p:spPr>
          <a:xfrm>
            <a:off x="3203640" y="2781360"/>
            <a:ext cx="5616360" cy="374472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Рождение Луны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52675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Луне 4,5 миллиарда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1" descr="луна1"/>
          <p:cNvPicPr/>
          <p:nvPr/>
        </p:nvPicPr>
        <p:blipFill>
          <a:blip r:embed="rId1"/>
          <a:stretch/>
        </p:blipFill>
        <p:spPr>
          <a:xfrm>
            <a:off x="3492360" y="2205000"/>
            <a:ext cx="5329440" cy="41036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4000" y="333000"/>
            <a:ext cx="799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огласно первой теории Земля и Луна родились из одного небесного т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5" descr="luna-inside-1"/>
          <p:cNvPicPr/>
          <p:nvPr/>
        </p:nvPicPr>
        <p:blipFill>
          <a:blip r:embed="rId1"/>
          <a:stretch/>
        </p:blipFill>
        <p:spPr>
          <a:xfrm>
            <a:off x="2916360" y="1557360"/>
            <a:ext cx="5759280" cy="4392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446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второй теории, в результате столкновения юной Земли с Огромным космическим телом была выбита часть земной коры и мантии, и из этого материала сформировалась Лу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1" descr="5"/>
          <p:cNvPicPr/>
          <p:nvPr/>
        </p:nvPicPr>
        <p:blipFill>
          <a:blip r:embed="rId1"/>
          <a:stretch/>
        </p:blipFill>
        <p:spPr>
          <a:xfrm>
            <a:off x="4716360" y="620640"/>
            <a:ext cx="4103640" cy="55450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417672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20090318_moon"/>
          <p:cNvPicPr/>
          <p:nvPr/>
        </p:nvPicPr>
        <p:blipFill>
          <a:blip r:embed="rId1"/>
          <a:stretch/>
        </p:blipFill>
        <p:spPr>
          <a:xfrm>
            <a:off x="4643280" y="692280"/>
            <a:ext cx="4249800" cy="57610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33" name="Rectangle 8"/>
          <p:cNvSpPr/>
          <p:nvPr/>
        </p:nvSpPr>
        <p:spPr>
          <a:xfrm>
            <a:off x="395280" y="692280"/>
            <a:ext cx="4390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третьей теори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Луна сформировалась в другом месте и впоследствии была захвачена Землёй.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10:17:44Z</dcterms:created>
  <dc:creator>Admin</dc:creator>
  <dc:description/>
  <dc:language>en-US</dc:language>
  <cp:lastModifiedBy>LEGION</cp:lastModifiedBy>
  <dcterms:modified xsi:type="dcterms:W3CDTF">2015-01-12T09:26:08Z</dcterms:modified>
  <cp:revision>9</cp:revision>
  <dc:subject/>
  <dc:title>Слайд 1</dc:title>
</cp:coreProperties>
</file>