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FB5B-E4F9-4145-857C-D3EE7E47ED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8080"/>
                </a:solidFill>
                <a:latin typeface="Calibri"/>
              </a:rPr>
              <a:t>Презентация на тему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«Луна - спутница Зем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C5CD4-5FCD-4F5D-887E-73A0C886A9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A53F-ED9E-4ADC-8EB8-A704357DE89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7D57-8814-4B3C-A8EF-37686B82AED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C8F3-9F30-42EC-A4B4-A78316B223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Лунный грун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5A38-931C-45E3-B0AE-071CCFA2BE5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cc99"/>
                </a:solidFill>
                <a:latin typeface="Calibri"/>
              </a:rPr>
              <a:t>Битва за Луну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928E-9646-451F-9163-CF3C91BB597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AE700-6264-4556-9616-576F098319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Этот экипаж привёз на Землю пробы лунного грунта весом 42 к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AD34-41D6-40C5-BEFF-6EE8A4D8E6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Рождение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Изменяющийся облик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Обратная сторона Лу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внутр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Лунный гру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Битва за Лу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А что дальш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49B0-7705-4F13-B83E-9BDB07862F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99"/>
                </a:solidFill>
                <a:latin typeface="Calibri"/>
              </a:rPr>
              <a:t>Естественный спутник Земл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13D5-1339-4387-A121-292F3A941F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На Луне нет атмосферы, поэтому на поверхности Луны днём жара достигает 13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,</a:t>
            </a:r>
            <a:r>
              <a:rPr b="1" lang="en-US" sz="1200" spc="-1" strike="noStrike">
                <a:solidFill>
                  <a:srgbClr val="006666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а в тени - -170</a:t>
            </a:r>
            <a:r>
              <a:rPr b="1" lang="ru-RU" sz="800" spc="-1" strike="noStrike" baseline="100000">
                <a:solidFill>
                  <a:srgbClr val="006666"/>
                </a:solidFill>
                <a:latin typeface="Calibri"/>
              </a:rPr>
              <a:t>0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59408-3CC6-4AB5-A04F-13F41EDCFE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99"/>
                </a:solidFill>
                <a:latin typeface="Calibri"/>
              </a:rPr>
              <a:t>Обратная сторона Лун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31C84-29B0-4A65-A38C-079215E2481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99"/>
                </a:solidFill>
                <a:latin typeface="Calibri"/>
              </a:rPr>
              <a:t>Рождение Лу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е 4,5 миллиарда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9245-D454-400F-9E21-5C60F00083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Согласно первой теории Земля и Луна родились из одного небесного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DD7BF-8777-4EF0-944C-07EF5899353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2E1D-2567-4E76-A44D-E522691DEB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По третьей теор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66"/>
                </a:solidFill>
                <a:latin typeface="Calibri"/>
              </a:rPr>
              <a:t>Луна сформировалась в другом месте и впоследствии была захвачена Землё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D191-3D80-49D1-B7CA-A4397BC0FB5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6DF0-F31F-473D-B82F-9C5D2B06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9FD2-0236-44C5-B101-EB022C03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8840-71B3-4D8E-9DA3-27B7D99DC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4CD9-B367-430A-B8D6-14226CDF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6525-309D-47F6-B406-DCD71AA2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D33F-F8DA-45FC-8CCB-D33042B7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F1377-8F21-407B-932F-BCCB732B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54FC-2E72-4898-B4C8-4E806A45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6F66-68A9-434D-A963-878D3877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667A-3CDE-49A6-AA90-0F2706E8C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1308-2C28-4C88-AEDF-C0F53AAB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53AC-4428-432A-8EEF-A06A05A5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25738-51D0-46C5-A6AA-337B0785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D1130-8076-4138-966A-9E008C9D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2F365-D14F-42D9-9297-640972CD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6069D-FDF6-4D9F-83CC-0AFDD871D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C879-34C6-4230-A726-FC92936BD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CD9-1372-4C89-8F33-554FA03B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4912-A320-4874-8A85-8CE4A7AD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AC5-CC80-4499-A432-41DE5BA1D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54F6-3DBE-482E-89F1-B42D6E6A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18B7-232E-4097-9579-9637E9FC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658-4ACF-4414-A1D1-9BC7B9A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A73C-744A-4464-80CF-768025B93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D91D-E957-4275-89C5-14730FF856C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554F-5A88-42BA-B980-9A40E690C3C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555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8080"/>
                </a:solidFill>
                <a:latin typeface="Arial"/>
              </a:rPr>
              <a:t>Презентация на тему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55280" y="2060280"/>
            <a:ext cx="799308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cc99"/>
                </a:solidFill>
                <a:latin typeface="Arial"/>
              </a:rPr>
              <a:t>«Луна - спутница Земли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Изменяющийся облик Лун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9" descr="bluemoon_icstars_big"/>
          <p:cNvPicPr/>
          <p:nvPr/>
        </p:nvPicPr>
        <p:blipFill>
          <a:blip r:embed="rId1"/>
          <a:stretch/>
        </p:blipFill>
        <p:spPr>
          <a:xfrm>
            <a:off x="3059280" y="1197000"/>
            <a:ext cx="4537080" cy="340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4653000"/>
            <a:ext cx="6875640" cy="18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ак как Луна светится отражённым светом Солнца, с Земли видна только освещённая   Солнцем часть лунной поверх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23640" y="476280"/>
            <a:ext cx="3887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обращается по орбите вокруг Земли и тем самым угол между Землёй, Луной и Солнцем изменяется и мы наблюдаем это явление как цикл лунных фа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7" descr="Moon_phases"/>
          <p:cNvPicPr/>
          <p:nvPr/>
        </p:nvPicPr>
        <p:blipFill>
          <a:blip r:embed="rId1"/>
          <a:stretch/>
        </p:blipFill>
        <p:spPr>
          <a:xfrm>
            <a:off x="4211640" y="404640"/>
            <a:ext cx="4465800" cy="6048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Твёрдая кора Луны состоит из породы, напоминающей гранит. Под ней - мантия, частично расплавленная зона «лунотрясений» и ядр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moonint"/>
          <p:cNvPicPr/>
          <p:nvPr/>
        </p:nvPicPr>
        <p:blipFill>
          <a:blip r:embed="rId1"/>
          <a:stretch/>
        </p:blipFill>
        <p:spPr>
          <a:xfrm>
            <a:off x="3348000" y="2565360"/>
            <a:ext cx="5291280" cy="3960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Лунный грунт</a:t>
            </a:r>
            <a:br>
              <a:rPr sz="4800"/>
            </a:b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1052640"/>
            <a:ext cx="8351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Интенсивная бомбардировка  метеоритами сделала верхний слой лунной коры мелко раздробленным, а наружные несколько метров превратила в порошок (реголит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7" descr="surface"/>
          <p:cNvPicPr/>
          <p:nvPr/>
        </p:nvPicPr>
        <p:blipFill>
          <a:blip r:embed="rId1"/>
          <a:stretch/>
        </p:blipFill>
        <p:spPr>
          <a:xfrm>
            <a:off x="3419640" y="2924280"/>
            <a:ext cx="4967280" cy="3681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147160" cy="28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ffcc99"/>
                </a:solidFill>
                <a:latin typeface="Arial"/>
              </a:rPr>
              <a:t>Битва за Луну</a:t>
            </a:r>
            <a:br>
              <a:rPr sz="5400"/>
            </a:b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45370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вый космический аппарат- советская «Луна-2»-Достиг лунной поверхности в 1959 году, а «Луна-3» облетела наш естественный спутник и сфотографировала его обратную сторон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7" descr="images1"/>
          <p:cNvPicPr/>
          <p:nvPr/>
        </p:nvPicPr>
        <p:blipFill>
          <a:blip r:embed="rId1"/>
          <a:stretch/>
        </p:blipFill>
        <p:spPr>
          <a:xfrm>
            <a:off x="4643280" y="2060640"/>
            <a:ext cx="423576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21 июля 1969 года американские астронавты Нил Амстронг и Эдвин Олдрин совершили первую посадку на Лун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42341i"/>
          <p:cNvPicPr/>
          <p:nvPr/>
        </p:nvPicPr>
        <p:blipFill>
          <a:blip r:embed="rId1"/>
          <a:stretch/>
        </p:blipFill>
        <p:spPr>
          <a:xfrm>
            <a:off x="3851280" y="1700280"/>
            <a:ext cx="4321080" cy="48974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7" descr="Apollo_15_Lunar_Rover_and_Irwin"/>
          <p:cNvPicPr/>
          <p:nvPr/>
        </p:nvPicPr>
        <p:blipFill>
          <a:blip r:embed="rId1"/>
          <a:stretch/>
        </p:blipFill>
        <p:spPr>
          <a:xfrm>
            <a:off x="2050920" y="260280"/>
            <a:ext cx="6481800" cy="482436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916000" y="5157360"/>
            <a:ext cx="58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Этот экипаж привёз на Землю пробы лунного грунта весом 42 к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050920" y="765000"/>
            <a:ext cx="64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Естественный спутник Зем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Рождение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Изменяющийся облик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Обратная сторона Лун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внутр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Лунный грун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Битва за Лу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99"/>
                </a:solidFill>
                <a:latin typeface="Arial"/>
              </a:rPr>
              <a:t>А что дальш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99"/>
                </a:solidFill>
                <a:latin typeface="Arial"/>
              </a:rPr>
              <a:t>Естественный спутник Земли</a:t>
            </a:r>
            <a:br>
              <a:rPr sz="4400"/>
            </a:b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4176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Луна - самое близкое к Земле небесное тело, естественный спутник нашей планеты. Она находится на расстоянии 380 440 км от Земли. Её диаметр 3500 км, а масса равна 1/10 массы нашей плане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6" descr="249_b"/>
          <p:cNvPicPr/>
          <p:nvPr/>
        </p:nvPicPr>
        <p:blipFill>
          <a:blip r:embed="rId1"/>
          <a:stretch/>
        </p:blipFill>
        <p:spPr>
          <a:xfrm>
            <a:off x="4788000" y="1052640"/>
            <a:ext cx="4032000" cy="547200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55280" y="40428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На Луне нет атмосферы, поэтому на поверхности Луны днём жара достигает 13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,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а в тени - -170</a:t>
            </a:r>
            <a:r>
              <a:rPr b="1" lang="ru-RU" sz="1400" spc="-1" strike="noStrike" baseline="100000">
                <a:solidFill>
                  <a:srgbClr val="006666"/>
                </a:solidFill>
                <a:latin typeface="Arial"/>
              </a:rPr>
              <a:t>0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8" descr="surface"/>
          <p:cNvPicPr/>
          <p:nvPr/>
        </p:nvPicPr>
        <p:blipFill>
          <a:blip r:embed="rId1"/>
          <a:stretch/>
        </p:blipFill>
        <p:spPr>
          <a:xfrm>
            <a:off x="2987640" y="2060640"/>
            <a:ext cx="5616720" cy="40323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Обратная сторона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052640"/>
            <a:ext cx="8208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ериод вращения Луны вокруг своей оси совпадает с периодом вращения вокруг Земли      ( 27 суток 7 часов 43 минуты), поэтому на Земле всегда видна только одна её стор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7" descr="file_post_726_600w"/>
          <p:cNvPicPr/>
          <p:nvPr/>
        </p:nvPicPr>
        <p:blipFill>
          <a:blip r:embed="rId1"/>
          <a:stretch/>
        </p:blipFill>
        <p:spPr>
          <a:xfrm>
            <a:off x="3203640" y="2781360"/>
            <a:ext cx="5616360" cy="374472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c99"/>
                </a:solidFill>
                <a:latin typeface="Arial"/>
              </a:rPr>
              <a:t>Рождение Луны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412640"/>
            <a:ext cx="526752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е 4,5 миллиарда л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11" descr="луна1"/>
          <p:cNvPicPr/>
          <p:nvPr/>
        </p:nvPicPr>
        <p:blipFill>
          <a:blip r:embed="rId1"/>
          <a:stretch/>
        </p:blipFill>
        <p:spPr>
          <a:xfrm>
            <a:off x="3492360" y="2205000"/>
            <a:ext cx="5329440" cy="410364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4000" y="333000"/>
            <a:ext cx="79930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Согласно первой теории Земля и Луна родились из одного небесного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5" descr="luna-inside-1"/>
          <p:cNvPicPr/>
          <p:nvPr/>
        </p:nvPicPr>
        <p:blipFill>
          <a:blip r:embed="rId1"/>
          <a:stretch/>
        </p:blipFill>
        <p:spPr>
          <a:xfrm>
            <a:off x="2916360" y="1557360"/>
            <a:ext cx="5759280" cy="43927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второй теории, в результате столкновения юной Земли с Огромным космическим телом была выбита часть земной коры и мантии, и из этого материала сформировалась Лу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11" descr="5"/>
          <p:cNvPicPr/>
          <p:nvPr/>
        </p:nvPicPr>
        <p:blipFill>
          <a:blip r:embed="rId1"/>
          <a:stretch/>
        </p:blipFill>
        <p:spPr>
          <a:xfrm>
            <a:off x="4716360" y="620640"/>
            <a:ext cx="4103640" cy="5545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50920" y="620640"/>
            <a:ext cx="4176720" cy="43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10199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20090318_moon"/>
          <p:cNvPicPr/>
          <p:nvPr/>
        </p:nvPicPr>
        <p:blipFill>
          <a:blip r:embed="rId1"/>
          <a:stretch/>
        </p:blipFill>
        <p:spPr>
          <a:xfrm>
            <a:off x="4643280" y="692280"/>
            <a:ext cx="4249800" cy="576108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133" name="Rectangle 8"/>
          <p:cNvSpPr/>
          <p:nvPr/>
        </p:nvSpPr>
        <p:spPr>
          <a:xfrm>
            <a:off x="395280" y="692280"/>
            <a:ext cx="4390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 третьей теори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Луна сформировалась в другом месте и впоследствии была захвачена Землёй.</a:t>
            </a: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10:17:44Z</dcterms:created>
  <dc:creator>Admin</dc:creator>
  <dc:description/>
  <dc:language>en-US</dc:language>
  <cp:lastModifiedBy>LEGION</cp:lastModifiedBy>
  <dcterms:modified xsi:type="dcterms:W3CDTF">2015-01-12T09:26:08Z</dcterms:modified>
  <cp:revision>9</cp:revision>
  <dc:subject/>
  <dc:title>Слайд 1</dc:title>
</cp:coreProperties>
</file>