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wmf" ContentType="image/x-wmf"/>
  <Override PartName="/ppt/media/image16.gif" ContentType="image/gif"/>
  <Override PartName="/ppt/media/image15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8B2F-100C-48E5-ADDB-3F863C032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FD65-DCF1-437C-8FB0-7CF9DAA004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Путешествие в галакти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"Простые и составные числа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ник выполнил сложени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548+7256+8108=18 91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756+8322+6565=24 642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, не выполняя вычислений, определить, что в примере допущена ошиб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3138-B939-42C9-B042-396CF91391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разменять 20 р. семью монетами по 1р. и 5р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7C97-DD1A-4707-912F-C98006A911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F1BF-CA3C-4937-9512-991C7060C8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Я нашёл в натуральном ряде такие три числа, идущие подряд, что каждое из них прост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хочет опровергну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ие клоуна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41DA-75A2-42D0-B85B-50D5B0B09D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 сентября 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шило пригласить в гости всех своих делителей, меньших, чем оно сам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Кто пойдёт к нему в г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все гости собрались,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олько придёт новых гостей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74BC-1867-440F-9B73-26CAB5BC8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тешить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го гости соединились знаком «+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о чудо, сумма оказалась равной самому числ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овершенны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ершенное чис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7F52-A945-49CA-99F6-BB225BD94E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9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только одно однознач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оверьте, что число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496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совершенное, и найдите однозначное совершен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3204-B024-4D67-BCC2-45915B6502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м понравилось приглашать в гости своих меньших делителей. </a:t>
            </a: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Кто пришёл в гости 30 сентябр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4982-4049-4725-AF70-9B377C6355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окус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DFEA-B1CD-4554-9A7D-3BC144309E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ветьте на вопрос и приобретите билет на звездо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.Признаки делимости на 2, на3, на 4, на5, на 9,на 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2.Какие числа называются прост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3.Какие числа называются состав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A8DC-4D45-4BE8-A660-4545D7A1EF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любого натурального чис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ru-RU" sz="1200" spc="-1" strike="noStrike">
                <a:solidFill>
                  <a:srgbClr val="f4f03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эн факториа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значает произведение натуральных чисел от 1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! = 1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3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…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ите 2!, 3!, 4!, 5!, 7!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8F46-ED8C-4171-8BDC-9D5692562B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A155-1A66-4DDE-AC40-DB22CA3A38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 и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Никольский С.М «Арифметика 6», «Просвещение»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Шеврин Л.Н. «Математика 5-6» учебник-собеседник, «Просвещение»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le-savchen.ucoz.ru/load/0-0-0-4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B88E-261D-4722-97EF-9A9CD91E4B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2FE-F2D1-4BCF-AFEE-EB0D40CDA2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Счастливого пу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B271-2EF0-4448-8B7D-7A8578D8CF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ратосф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3F01-3FE9-47D2-ACEC-6E2481795F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Стр. 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1C87-5617-48AC-B262-DC0CAFD8B0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ета Решай-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аблицы простых чисел определите, является ли простым числ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, 69,127, 301, 447, 517, 673, 879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B1D9-C9C0-4EE9-9484-C9198E291F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ую цифру мож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ить вместо звёздоч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полученное число делилось на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*  ; 6*7 ; 5*4 ; 7*2 ; 85*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4*0; 738* ; 209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F404-A9AE-49EF-894B-3EFB190ACB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755-01F2-4E95-842C-9A2E0650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613-47D1-4383-9257-5D955938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FBC-0AAF-499C-8438-15EE7D5F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733-F035-4D3C-8322-46598D20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76E-C89A-413B-953A-9B8109B7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C04-AFF4-4DBA-BA9F-623712FC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B53-BF65-4C87-953B-443A3E48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E98-29FF-4FA2-845E-28DEC733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D58-C271-4D57-A8F4-3482EC8E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996-884C-41AB-BD67-44620CE1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63F-4140-48C0-8611-9F7DB94D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FDB-C99B-456C-86BC-9D15EF58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26D3-0B94-4999-B986-CE03B88493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4"/>
          <p:cNvSpPr/>
          <p:nvPr/>
        </p:nvSpPr>
        <p:spPr>
          <a:xfrm>
            <a:off x="0" y="1557360"/>
            <a:ext cx="9144000" cy="4392720"/>
          </a:xfrm>
          <a:custGeom>
            <a:avLst/>
            <a:gdLst>
              <a:gd name="textAreaLeft" fmla="*/ 0 w 9144000"/>
              <a:gd name="textAreaRight" fmla="*/ 9144360 w 9144000"/>
              <a:gd name="textAreaTop" fmla="*/ 1813680 h 4392720"/>
              <a:gd name="textAreaBottom" fmla="*/ 25790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cce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25"/>
          <p:cNvSpPr txBox="1"/>
          <p:nvPr/>
        </p:nvSpPr>
        <p:spPr>
          <a:xfrm rot="765000">
            <a:off x="323640" y="2420640"/>
            <a:ext cx="84405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366"/>
                <a:gd name="adj2" fmla="val 1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Путешествие в галактик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"Простые и составные числ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7"/>
          <p:cNvSpPr/>
          <p:nvPr/>
        </p:nvSpPr>
        <p:spPr>
          <a:xfrm>
            <a:off x="395280" y="404640"/>
            <a:ext cx="8209080" cy="2951280"/>
          </a:xfrm>
          <a:prstGeom prst="wedgeRoundRectCallout">
            <a:avLst>
              <a:gd name="adj1" fmla="val -1342"/>
              <a:gd name="adj2" fmla="val 5995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дание 4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к выполнил сложе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548+7256+8108=18 91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756+8322+6565=24 64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жно ли, не выполняя вычислений, определить, что в примере допущена ошибк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4" descr="BD13631_"/>
          <p:cNvPicPr/>
          <p:nvPr/>
        </p:nvPicPr>
        <p:blipFill>
          <a:blip r:embed="rId2"/>
          <a:stretch/>
        </p:blipFill>
        <p:spPr>
          <a:xfrm>
            <a:off x="5580000" y="3141720"/>
            <a:ext cx="2421000" cy="393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6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416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разменять 20 р. семью монетами по 1р. и 5р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13631_"/>
          <p:cNvPicPr/>
          <p:nvPr/>
        </p:nvPicPr>
        <p:blipFill>
          <a:blip r:embed="rId2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AG00356_"/>
          <p:cNvPicPr/>
          <p:nvPr/>
        </p:nvPicPr>
        <p:blipFill>
          <a:blip r:embed="rId1"/>
          <a:stretch/>
        </p:blipFill>
        <p:spPr>
          <a:xfrm>
            <a:off x="179280" y="0"/>
            <a:ext cx="3457800" cy="534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3851280" y="260280"/>
            <a:ext cx="5041800" cy="3600360"/>
          </a:xfrm>
          <a:prstGeom prst="wedgeEllipseCallout">
            <a:avLst>
              <a:gd name="adj1" fmla="val -86273"/>
              <a:gd name="adj2" fmla="val 26277"/>
            </a:avLst>
          </a:prstGeom>
          <a:solidFill>
            <a:srgbClr val="00b0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11280" y="380520"/>
            <a:ext cx="4475160" cy="29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Я нашёл в натуральном ряде такие три числа, идущие подряд, что каждое из них просто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7640" y="4941720"/>
            <a:ext cx="707724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то хочет опровергну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ие клоуна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1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40000" y="380880"/>
            <a:ext cx="316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каз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 сентября числ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ешило пригласить в гости всех своих делителей, меньших, чем оно сам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то пойдёт к нему в го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все гости собрались,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колько придёт новых гостей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6"/>
          <p:cNvSpPr/>
          <p:nvPr/>
        </p:nvSpPr>
        <p:spPr>
          <a:xfrm>
            <a:off x="324000" y="168264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8" descr="Картинка 9 из 2046"/>
          <p:cNvPicPr/>
          <p:nvPr/>
        </p:nvPicPr>
        <p:blipFill>
          <a:blip r:embed="rId1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15" name="WordArt 9"/>
          <p:cNvSpPr txBox="1"/>
          <p:nvPr/>
        </p:nvSpPr>
        <p:spPr>
          <a:xfrm>
            <a:off x="284328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4427640" y="2708280"/>
            <a:ext cx="50472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5867280" y="4076640"/>
            <a:ext cx="505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2"/>
          <p:cNvSpPr txBox="1"/>
          <p:nvPr/>
        </p:nvSpPr>
        <p:spPr>
          <a:xfrm>
            <a:off x="7596360" y="2708280"/>
            <a:ext cx="649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313200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14"/>
          <p:cNvSpPr txBox="1"/>
          <p:nvPr/>
        </p:nvSpPr>
        <p:spPr>
          <a:xfrm>
            <a:off x="4067280" y="26028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15" descr="Картинка 9 из 2046"/>
          <p:cNvPicPr/>
          <p:nvPr/>
        </p:nvPicPr>
        <p:blipFill>
          <a:blip r:embed="rId2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8"/>
          <p:cNvSpPr/>
          <p:nvPr/>
        </p:nvSpPr>
        <p:spPr>
          <a:xfrm>
            <a:off x="324000" y="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утешить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гости соединились знаком «+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, о чудо, сумма оказалась равной самому числ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вершенны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овершенное число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10" descr="Картинка 9 из 2046"/>
          <p:cNvPicPr/>
          <p:nvPr/>
        </p:nvPicPr>
        <p:blipFill>
          <a:blip r:embed="rId1"/>
          <a:stretch/>
        </p:blipFill>
        <p:spPr>
          <a:xfrm>
            <a:off x="7380360" y="3573360"/>
            <a:ext cx="2249280" cy="3284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" descr="Картинка 9 из 2046"/>
          <p:cNvPicPr/>
          <p:nvPr/>
        </p:nvPicPr>
        <p:blipFill>
          <a:blip r:embed="rId1"/>
          <a:stretch/>
        </p:blipFill>
        <p:spPr>
          <a:xfrm>
            <a:off x="900000" y="2421000"/>
            <a:ext cx="1411560" cy="20098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2627280" y="242100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378000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5219640" y="292428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30072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2050920" y="2924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3276720" y="299736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4500720" y="3141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2"/>
          <p:cNvSpPr txBox="1"/>
          <p:nvPr/>
        </p:nvSpPr>
        <p:spPr>
          <a:xfrm>
            <a:off x="5796000" y="3357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3"/>
          <p:cNvSpPr txBox="1"/>
          <p:nvPr/>
        </p:nvSpPr>
        <p:spPr>
          <a:xfrm>
            <a:off x="7093080" y="3429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766764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298764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16"/>
          <p:cNvSpPr txBox="1"/>
          <p:nvPr/>
        </p:nvSpPr>
        <p:spPr>
          <a:xfrm>
            <a:off x="3995640" y="333360"/>
            <a:ext cx="12956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250920" y="0"/>
            <a:ext cx="8424720" cy="6516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3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96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только одно однозначно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Проверьте, что числ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496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совершенное, и найдите однозначное совершенное чис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6" descr="Картинка 9 из 2046"/>
          <p:cNvPicPr/>
          <p:nvPr/>
        </p:nvPicPr>
        <p:blipFill>
          <a:blip r:embed="rId1"/>
          <a:stretch/>
        </p:blipFill>
        <p:spPr>
          <a:xfrm>
            <a:off x="7246800" y="2997360"/>
            <a:ext cx="2249640" cy="386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9 из 2046"/>
          <p:cNvPicPr/>
          <p:nvPr/>
        </p:nvPicPr>
        <p:blipFill>
          <a:blip r:embed="rId2"/>
          <a:stretch/>
        </p:blipFill>
        <p:spPr>
          <a:xfrm>
            <a:off x="7236000" y="2997360"/>
            <a:ext cx="2249280" cy="386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324000" y="2997360"/>
            <a:ext cx="8424720" cy="29430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42920" y="3357720"/>
            <a:ext cx="71294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ам понравилось приглашать в гости своих меньших делителей. </a:t>
            </a:r>
            <a:r>
              <a:rPr b="0" lang="ru-RU" sz="3200" spc="-1" strike="noStrike">
                <a:solidFill>
                  <a:srgbClr val="6600ff"/>
                </a:solidFill>
                <a:latin typeface="Tahoma"/>
              </a:rPr>
              <a:t>Кто пришёл в гости 30 сентяб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843280" y="765000"/>
            <a:ext cx="3311280" cy="220536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503280 h 2205360"/>
              <a:gd name="textAreaBottom" fmla="*/ 1702080 h 220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851280" y="112536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0"/>
          <p:cNvSpPr/>
          <p:nvPr/>
        </p:nvSpPr>
        <p:spPr>
          <a:xfrm>
            <a:off x="468360" y="1700280"/>
            <a:ext cx="5616360" cy="4681440"/>
          </a:xfrm>
          <a:prstGeom prst="wedgeRoundRectCallout">
            <a:avLst>
              <a:gd name="adj1" fmla="val 73912"/>
              <a:gd name="adj2" fmla="val -24671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2411280" y="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Фоку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7" name="Picture 6" descr="AG00352_"/>
          <p:cNvPicPr/>
          <p:nvPr/>
        </p:nvPicPr>
        <p:blipFill>
          <a:blip r:embed="rId1"/>
          <a:stretch/>
        </p:blipFill>
        <p:spPr>
          <a:xfrm>
            <a:off x="5940360" y="191628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195640" y="3860640"/>
            <a:ext cx="6553080" cy="27370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84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79280" y="0"/>
            <a:ext cx="8713800" cy="1989000"/>
          </a:xfrm>
          <a:prstGeom prst="cloudCallout">
            <a:avLst>
              <a:gd name="adj1" fmla="val 40583"/>
              <a:gd name="adj2" fmla="val 5327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Ответьте на вопрос и приобретите билет на звездолё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360" y="4149720"/>
            <a:ext cx="65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.Признаки делимости на 2, на3, на 4, на5, на 9,на 10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.Какие числа называются прост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3.Какие числа называются составн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j0293234"/>
          <p:cNvPicPr/>
          <p:nvPr/>
        </p:nvPicPr>
        <p:blipFill>
          <a:blip r:embed="rId1"/>
          <a:stretch/>
        </p:blipFill>
        <p:spPr>
          <a:xfrm>
            <a:off x="7308720" y="5516640"/>
            <a:ext cx="107964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D13693_"/>
          <p:cNvPicPr/>
          <p:nvPr/>
        </p:nvPicPr>
        <p:blipFill>
          <a:blip r:embed="rId2"/>
          <a:stretch/>
        </p:blipFill>
        <p:spPr>
          <a:xfrm flipH="1">
            <a:off x="468000" y="1557360"/>
            <a:ext cx="6985080" cy="238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254500"/>
          <p:cNvPicPr/>
          <p:nvPr/>
        </p:nvPicPr>
        <p:blipFill>
          <a:blip r:embed="rId3"/>
          <a:stretch/>
        </p:blipFill>
        <p:spPr>
          <a:xfrm>
            <a:off x="826920" y="4941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1476360" y="2852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рганизатор путешествия Кутищева Н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6" descr="BD13693_"/>
          <p:cNvPicPr/>
          <p:nvPr/>
        </p:nvPicPr>
        <p:blipFill>
          <a:blip r:embed="rId4"/>
          <a:stretch/>
        </p:blipFill>
        <p:spPr>
          <a:xfrm flipH="1">
            <a:off x="610920" y="1557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12"/>
          <p:cNvSpPr/>
          <p:nvPr/>
        </p:nvSpPr>
        <p:spPr>
          <a:xfrm>
            <a:off x="179280" y="1989000"/>
            <a:ext cx="7309080" cy="4319640"/>
          </a:xfrm>
          <a:prstGeom prst="flowChartOnlineStorag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2484360" y="47628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58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натурального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ис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0" lang="ru-RU" sz="3200" spc="-1" strike="noStrike">
                <a:solidFill>
                  <a:srgbClr val="f4f03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тае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эн факториал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значает произведение натуральных чисел от 1 д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! = 1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3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…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ите 2!, 3!, 4!, 5!, 7!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6" descr="j0336915"/>
          <p:cNvPicPr/>
          <p:nvPr/>
        </p:nvPicPr>
        <p:blipFill>
          <a:blip r:embed="rId1"/>
          <a:stretch/>
        </p:blipFill>
        <p:spPr>
          <a:xfrm>
            <a:off x="6254640" y="2565360"/>
            <a:ext cx="2889360" cy="3529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j0288869"/>
          <p:cNvPicPr/>
          <p:nvPr/>
        </p:nvPicPr>
        <p:blipFill>
          <a:blip r:embed="rId2"/>
          <a:stretch/>
        </p:blipFill>
        <p:spPr>
          <a:xfrm>
            <a:off x="539640" y="333360"/>
            <a:ext cx="117792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276720" y="90792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акто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j0174012"/>
          <p:cNvPicPr/>
          <p:nvPr/>
        </p:nvPicPr>
        <p:blipFill>
          <a:blip r:embed="rId1"/>
          <a:stretch/>
        </p:blipFill>
        <p:spPr>
          <a:xfrm>
            <a:off x="-1044720" y="1341360"/>
            <a:ext cx="6193080" cy="6167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Что нового вы узнал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BD13693_"/>
          <p:cNvPicPr/>
          <p:nvPr/>
        </p:nvPicPr>
        <p:blipFill>
          <a:blip r:embed="rId2"/>
          <a:stretch/>
        </p:blipFill>
        <p:spPr>
          <a:xfrm>
            <a:off x="2158920" y="2781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324000" y="3141720"/>
            <a:ext cx="6048360" cy="3344760"/>
          </a:xfrm>
          <a:prstGeom prst="wedgeRoundRectCallout">
            <a:avLst>
              <a:gd name="adj1" fmla="val 68004"/>
              <a:gd name="adj2" fmla="val -880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59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5" descr="AG00352_"/>
          <p:cNvPicPr/>
          <p:nvPr/>
        </p:nvPicPr>
        <p:blipFill>
          <a:blip r:embed="rId1"/>
          <a:stretch/>
        </p:blipFill>
        <p:spPr>
          <a:xfrm>
            <a:off x="6207120" y="90792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 и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Никольский С.М «Арифметика 6», «Просвещение», 200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Шеврин Л.Н. «Математика 5-6» учебник-собеседник, «Просвещение», 198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le-savchen.ucoz.ru/load/0-0-0-41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174012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616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D13693_"/>
          <p:cNvPicPr/>
          <p:nvPr/>
        </p:nvPicPr>
        <p:blipFill>
          <a:blip r:embed="rId2"/>
          <a:stretch/>
        </p:blipFill>
        <p:spPr>
          <a:xfrm flipH="1">
            <a:off x="-360" y="4292640"/>
            <a:ext cx="576108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Tahoma"/>
              </a:rPr>
              <a:t>Счастливого пути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C 0.01146 0.00555 -0.00122 -0.00232 0.00677 0.01828 C 0.00764 0.02037 0.01007 0.02013 0.0118 0.02037 C 0.03958 0.02245 0.06736 0.02314 0.09514 0.025 C 0.10347 0.02847 0.11111 0.03726 0.12014 0.03819 C 0.13003 0.03888 0.1401 0.03981 0.15 0.04051 C 0.15173 0.04189 0.15382 0.04259 0.15503 0.04467 C 0.15625 0.04745 0.15573 0.05092 0.15677 0.0537 C 0.1585 0.0581 0.16458 0.07013 0.1684 0.07152 C 0.17274 0.07314 0.17725 0.07314 0.18177 0.07384 C 0.18941 0.08055 0.19062 0.08726 0.2 0.09166 C 0.2118 0.10671 0.22552 0.12129 0.24166 0.125 C 0.24774 0.12893 0.25364 0.13078 0.26007 0.13356 C 0.29826 0.17268 0.42534 0.1581 0.43837 0.15833 C 0.49357 0.16527 0.46284 0.16226 0.57673 0.15833 C 0.59548 0.15763 0.61684 0.14884 0.63507 0.14259 C 0.66337 0.13287 0.69288 0.1243 0.7217 0.11828 C 0.73385 0.11296 0.74271 0.10763 0.75347 0.09814 C 0.75486 0.09699 0.75677 0.09699 0.75833 0.09606 C 0.76927 0.08912 0.77934 0.08078 0.7901 0.07384 C 0.79739 0.06412 0.80642 0.05694 0.8151 0.0493 C 0.81684 0.04791 0.8184 0.04629 0.82014 0.04467 C 0.8217 0.04351 0.825 0.04051 0.825 0.04051 C 0.82621 0.03819 0.82725 0.03588 0.82847 0.03356 C 0.83003 0.03148 0.83194 0.02963 0.83333 0.02708 C 0.83576 0.02291 0.8401 0.01388 0.8401 0.01388 C 0.84184 0.00625 0.84444 0.0037 0.84843 -0.00186 C 0.85017 -0.00926 0.85347 -0.01297 0.85677 -0.01968 C 0.85729 -0.02199 0.85746 -0.02408 0.85833 -0.02639 C 0.8592 -0.02824 0.86146 -0.02848 0.8618 -0.03079 C 0.86319 -0.03889 0.86284 -0.04699 0.86337 -0.05533 C 0.86284 -0.13218 0.86337 -0.20926 0.8618 -0.28635 C 0.86163 -0.29491 0.8559 -0.30718 0.85173 -0.31297 C 0.85052 -0.31737 0.85017 -0.32199 0.84843 -0.32639 C 0.84653 -0.33079 0.84166 -0.33959 0.84166 -0.33959 C 0.83993 -0.34699 0.83906 -0.35186 0.83507 -0.35741 C 0.83194 -0.36899 0.8342 -0.36227 0.82673 -0.37755 C 0.82361 -0.3838 0.82153 -0.3926 0.8184 -0.39954 C 0.81632 -0.40417 0.81406 -0.40857 0.8118 -0.41297 C 0.81076 -0.41528 0.80833 -0.41968 0.80833 -0.41968 C 0.8059 -0.42987 0.80121 -0.43936 0.7967 -0.44838 C 0.79271 -0.46574 0.78281 -0.47709 0.775 -0.49074 C 0.76528 -0.50787 0.77274 -0.50024 0.76337 -0.50857 C 0.75451 -0.52616 0.76007 -0.51875 0.7467 -0.53079 C 0.7408 -0.53565 0.74305 -0.54028 0.73507 -0.54399 C 0.72621 -0.55579 0.71718 -0.56783 0.70833 -0.57963 C 0.70555 -0.58334 0.70225 -0.58704 0.69843 -0.58843 C 0.69514 -0.59005 0.68837 -0.59283 0.68837 -0.59283 C 0.68316 -0.6 0.68038 -0.60116 0.67343 -0.60394 C 0.65885 -0.61667 0.63854 -0.61875 0.6217 -0.62176 C 0.52396 -0.62037 0.43055 -0.61389 0.33333 -0.60857 C 0.3243 -0.60602 0.3158 -0.60209 0.30677 -0.59954 C 0.29479 -0.5919 0.28003 -0.58542 0.27014 -0.57315 C 0.26371 -0.56482 0.25694 -0.55417 0.24843 -0.55093 C 0.24514 -0.54769 0.24166 -0.54468 0.23837 -0.5419 C 0.22239 -0.52778 0.22847 -0.53287 0.2 -0.53079 C 0.14166 -0.53149 0.08333 -0.53149 0.025 -0.53287 C 0.01805 -0.53334 0.00503 -0.5419 0.00503 -0.5419 C 0.00399 -0.54352 0.00312 -0.54537 0.00173 -0.5463 C 0.00017 -0.54746 -0.00191 -0.54723 -0.0033 -0.54838 C -0.00486 -0.55 -0.00521 -0.55324 -0.0066 -0.5551 C -0.00799 -0.55695 -0.0099 -0.55834 -0.01163 -0.55949 C -0.01459 -0.57246 -0.01181 -0.60741 0.00173 -0.61297 C 0.0085 -0.61598 0.00503 -0.61436 0.0118 -0.6176 C 0.01909 -0.625 0.02118 -0.62362 0.02847 -0.62871 C 0.0368 -0.63449 0.04236 -0.64445 0.05173 -0.64838 C 0.07274 -0.66667 0.10451 -0.68612 0.13003 -0.68843 C 0.14218 -0.68982 0.15451 -0.69005 0.16666 -0.69074 C 0.31718 -0.72871 0.25712 -0.69769 0.5901 -0.69954 C 0.60642 -0.70695 0.62465 -0.71204 0.64166 -0.71505 C 0.66597 -0.72616 0.69982 -0.72246 0.72673 -0.72616 C 0.74132 -0.73149 0.74635 -0.73149 0.7651 -0.73287 C 0.78159 -0.73889 0.79809 -0.74491 0.8151 -0.74838 C 0.81944 -0.75047 0.8243 -0.75024 0.82847 -0.75278 C 0.82986 -0.75371 0.83038 -0.75649 0.83177 -0.75741 C 0.83472 -0.75973 0.83837 -0.76019 0.84166 -0.76204 C 0.84618 -0.7676 0.85087 -0.77037 0.85677 -0.77315 C 0.8618 -0.77963 0.86493 -0.78334 0.8717 -0.78612 C 0.87778 -0.79468 0.87361 -0.78982 0.88507 -0.79954 C 0.8868 -0.80093 0.8901 -0.80394 0.8901 -0.80394 C 0.89357 -0.81875 0.90677 -0.83056 0.9151 -0.84167 C 0.91909 -0.84699 0.92847 -0.8551 0.92847 -0.8551 C 0.92951 -0.85741 0.93038 -0.85996 0.93177 -0.86181 C 0.93316 -0.86366 0.93541 -0.86412 0.9368 -0.86621 C 0.94444 -0.87778 0.94653 -0.89213 0.95833 -0.89723 C 0.96475 -0.90579 0.97465 -0.90764 0.98333 -0.91065 C 0.98646 -0.91343 0.99028 -0.91459 0.9934 -0.91737 C 0.99531 -0.91922 0.99653 -0.92246 0.99843 -0.92408 C 1.00278 -0.92778 1.01041 -0.92871 1.0151 -0.93056 C 1.02795 -0.93565 1.02083 -0.93519 1.02847 -0.93519 E">
                                      <p:cBhvr>
                                        <p:cTn id="101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0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43196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Эратосфе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" name="Picture 6" descr="Рисунок1"/>
          <p:cNvPicPr/>
          <p:nvPr/>
        </p:nvPicPr>
        <p:blipFill>
          <a:blip r:embed="rId1"/>
          <a:stretch/>
        </p:blipFill>
        <p:spPr>
          <a:xfrm>
            <a:off x="324000" y="2421000"/>
            <a:ext cx="2670120" cy="299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076228"/>
          <p:cNvPicPr/>
          <p:nvPr/>
        </p:nvPicPr>
        <p:blipFill>
          <a:blip r:embed="rId2"/>
          <a:stretch/>
        </p:blipFill>
        <p:spPr>
          <a:xfrm flipH="1" rot="10800000">
            <a:off x="2484360" y="1699560"/>
            <a:ext cx="9647280" cy="31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D13693_"/>
          <p:cNvPicPr/>
          <p:nvPr/>
        </p:nvPicPr>
        <p:blipFill>
          <a:blip r:embed="rId3"/>
          <a:stretch/>
        </p:blipFill>
        <p:spPr>
          <a:xfrm flipH="1">
            <a:off x="0" y="4724280"/>
            <a:ext cx="5472000" cy="1878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3759120" y="144792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2022840" y="-402840"/>
            <a:ext cx="624600" cy="1117800"/>
            <a:chOff x="2022840" y="-402840"/>
            <a:chExt cx="624600" cy="1117800"/>
          </a:xfrm>
        </p:grpSpPr>
        <p:sp>
          <p:nvSpPr>
            <p:cNvPr id="80" name="Freeform 11"/>
            <p:cNvSpPr/>
            <p:nvPr/>
          </p:nvSpPr>
          <p:spPr>
            <a:xfrm rot="1159200">
              <a:off x="2196000" y="-38988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 rot="1159200">
              <a:off x="2479320" y="-33876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Oval 13"/>
          <p:cNvSpPr/>
          <p:nvPr/>
        </p:nvSpPr>
        <p:spPr>
          <a:xfrm>
            <a:off x="560088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7480440" y="14349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40"/>
          <p:cNvGrpSpPr/>
          <p:nvPr/>
        </p:nvGrpSpPr>
        <p:grpSpPr>
          <a:xfrm>
            <a:off x="6202440" y="-383760"/>
            <a:ext cx="625320" cy="1118160"/>
            <a:chOff x="6202440" y="-383760"/>
            <a:chExt cx="625320" cy="1118160"/>
          </a:xfrm>
        </p:grpSpPr>
        <p:sp>
          <p:nvSpPr>
            <p:cNvPr id="110" name="Freeform 41"/>
            <p:cNvSpPr/>
            <p:nvPr/>
          </p:nvSpPr>
          <p:spPr>
            <a:xfrm rot="1159200">
              <a:off x="6375600" y="-370800"/>
              <a:ext cx="26388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 rot="1159200">
              <a:off x="6659280" y="-319680"/>
              <a:ext cx="15552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Oval 43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4"/>
          <p:cNvGrpSpPr/>
          <p:nvPr/>
        </p:nvGrpSpPr>
        <p:grpSpPr>
          <a:xfrm>
            <a:off x="7447320" y="-345600"/>
            <a:ext cx="624600" cy="1117800"/>
            <a:chOff x="7447320" y="-345600"/>
            <a:chExt cx="624600" cy="1117800"/>
          </a:xfrm>
        </p:grpSpPr>
        <p:sp>
          <p:nvSpPr>
            <p:cNvPr id="114" name="Freeform 45"/>
            <p:cNvSpPr/>
            <p:nvPr/>
          </p:nvSpPr>
          <p:spPr>
            <a:xfrm rot="1159200">
              <a:off x="7620480" y="-33264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 rot="1159200">
              <a:off x="7903800" y="-28152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4932720" y="-205920"/>
            <a:ext cx="624600" cy="1117800"/>
            <a:chOff x="4932720" y="-205920"/>
            <a:chExt cx="624600" cy="1117800"/>
          </a:xfrm>
        </p:grpSpPr>
        <p:sp>
          <p:nvSpPr>
            <p:cNvPr id="117" name="Freeform 48"/>
            <p:cNvSpPr/>
            <p:nvPr/>
          </p:nvSpPr>
          <p:spPr>
            <a:xfrm rot="1159200">
              <a:off x="5105880" y="-19296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 rot="1159200">
              <a:off x="5389200" y="-14184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50"/>
          <p:cNvSpPr/>
          <p:nvPr/>
        </p:nvSpPr>
        <p:spPr>
          <a:xfrm>
            <a:off x="775800" y="2616120"/>
            <a:ext cx="37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Реше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Эратосфе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1" descr="Eratosthenes"/>
          <p:cNvPicPr/>
          <p:nvPr/>
        </p:nvPicPr>
        <p:blipFill>
          <a:blip r:embed="rId2"/>
          <a:stretch/>
        </p:blipFill>
        <p:spPr>
          <a:xfrm>
            <a:off x="717480" y="4191120"/>
            <a:ext cx="1486080" cy="2259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07407E-006 L 0.38611 0.01111 E">
                                      <p:cBhvr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11 0.01111 L 0.51944 0.01111 E">
                                      <p:cBhvr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44 0.01111 L -0.00556 0.12963 E">
                                      <p:cBhvr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2963 L 0.19722 0.12592 E">
                                      <p:cBhvr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12592 L 0.4 0.12592 E">
                                      <p:cBhvr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 0.12592 L 0.6 0.11851 E">
                                      <p:cBhvr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0.11851 L 0.13333 0.25926 E">
                                      <p:cBhvr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25926 L 0.35555 0.25185 E">
                                      <p:cBhvr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55 0.25185 L 0.58611 0.25926 E">
                                      <p:cBhvr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11 0.25926 L 0.11389 0.38888 E">
                                      <p:cBhvr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89 0.38888 L 0.33889 0.38518 E">
                                      <p:cBhvr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0.38518 L 0.55277 0.38518 E">
                                      <p:cBhvr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78 0.38518 L 0.04723 0.52592 E">
                                      <p:cBhvr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52592 L 0.29444 0.51851 E">
                                      <p:cBhvr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4 0.51851 L 0.50277 0.51851 E">
                                      <p:cBhvr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77 0.51851 L 0.71666 0.51851 E">
                                      <p:cBhvr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51851 L 0.15555 0.65926 E">
                                      <p:cBhvr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0.65926 L 0.38055 0.64814 E">
                                      <p:cBhvr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55 0.64814 L 0.58055 0.65555 E">
                                      <p:cBhvr>
                                        <p:cTn id="3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55 0.65555 L 0.08611 0.8074 E">
                                      <p:cBhvr>
                                        <p:cTn id="3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11 0.8074 L 0.30555 0.8 E">
                                      <p:cBhvr>
                                        <p:cTn id="3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55 0.8 L 0.56111 0.79629 E">
                                      <p:cBhvr>
                                        <p:cTn id="3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8611 0.12592 E">
                                      <p:cBhvr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2592 L -0.11389 0.25925 E">
                                      <p:cBhvr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89 0.25925 L -0.13611 0.38518 E">
                                      <p:cBhvr>
                                        <p:cTn id="44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0.38518 L -0.21389 0.53333 E">
                                      <p:cBhvr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89 0.53333 L -0.32222 0.67777 E">
                                      <p:cBhvr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22 0.67777 L -0.38333 0.82222 E">
                                      <p:cBhvr>
                                        <p:cTn id="47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10833 0.37778 E">
                                      <p:cBhvr>
                                        <p:cTn id="507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37778 L 0.27778 0.51852 E">
                                      <p:cBhvr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18611 0.8037 E">
                                      <p:cBhvr>
                                        <p:cTn id="55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385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382284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600880" y="138420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556400" y="14097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17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9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20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30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32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33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38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8904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481140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6030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26780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45068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211932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5775480" y="58611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404964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7"/>
          <p:cNvSpPr/>
          <p:nvPr/>
        </p:nvSpPr>
        <p:spPr>
          <a:xfrm>
            <a:off x="211932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780876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3338280" y="38703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24224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60800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7908840" y="4883040"/>
            <a:ext cx="9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9"/>
          <p:cNvSpPr/>
          <p:nvPr/>
        </p:nvSpPr>
        <p:spPr>
          <a:xfrm>
            <a:off x="468360" y="404640"/>
            <a:ext cx="8064360" cy="2592720"/>
          </a:xfrm>
          <a:prstGeom prst="wedgeRoundRectCallout">
            <a:avLst>
              <a:gd name="adj1" fmla="val -1652"/>
              <a:gd name="adj2" fmla="val 9770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таблицы простых чисел определите, является ли простым числ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7, 69,127, 301, 447, 517, 673, 879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BD13631_"/>
          <p:cNvPicPr/>
          <p:nvPr/>
        </p:nvPicPr>
        <p:blipFill>
          <a:blip r:embed="rId2"/>
          <a:stretch/>
        </p:blipFill>
        <p:spPr>
          <a:xfrm>
            <a:off x="4716360" y="3429000"/>
            <a:ext cx="239868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-468360" y="5300280"/>
            <a:ext cx="65167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ланета Решай-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11" descr="j0354673"/>
          <p:cNvPicPr/>
          <p:nvPr/>
        </p:nvPicPr>
        <p:blipFill>
          <a:blip r:embed="rId3"/>
          <a:stretch/>
        </p:blipFill>
        <p:spPr>
          <a:xfrm>
            <a:off x="6877080" y="4653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9"/>
          <p:cNvSpPr/>
          <p:nvPr/>
        </p:nvSpPr>
        <p:spPr>
          <a:xfrm>
            <a:off x="2987640" y="0"/>
            <a:ext cx="5905440" cy="4365720"/>
          </a:xfrm>
          <a:prstGeom prst="wedgeRoundRectCallout">
            <a:avLst>
              <a:gd name="adj1" fmla="val -69379"/>
              <a:gd name="adj2" fmla="val 46365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616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ую цифру мож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ставить вместо звёздоч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бы полученное число делилось на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*  ; 6*7 ; 5*4 ; 7*2 ; 85*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4*0; 738* ; 2090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BD13631_"/>
          <p:cNvPicPr/>
          <p:nvPr/>
        </p:nvPicPr>
        <p:blipFill>
          <a:blip r:embed="rId2"/>
          <a:stretch/>
        </p:blipFill>
        <p:spPr>
          <a:xfrm flipH="1">
            <a:off x="0" y="3141720"/>
            <a:ext cx="203832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j0354673"/>
          <p:cNvPicPr/>
          <p:nvPr/>
        </p:nvPicPr>
        <p:blipFill>
          <a:blip r:embed="rId3"/>
          <a:stretch/>
        </p:blipFill>
        <p:spPr>
          <a:xfrm>
            <a:off x="6588000" y="4724280"/>
            <a:ext cx="3240360" cy="2376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9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j0354673"/>
          <p:cNvPicPr/>
          <p:nvPr/>
        </p:nvPicPr>
        <p:blipFill>
          <a:blip r:embed="rId2"/>
          <a:stretch/>
        </p:blipFill>
        <p:spPr>
          <a:xfrm>
            <a:off x="6877080" y="4149720"/>
            <a:ext cx="2951280" cy="307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BD13631_"/>
          <p:cNvPicPr/>
          <p:nvPr/>
        </p:nvPicPr>
        <p:blipFill>
          <a:blip r:embed="rId3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j0354673"/>
          <p:cNvPicPr/>
          <p:nvPr/>
        </p:nvPicPr>
        <p:blipFill>
          <a:blip r:embed="rId4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1:27:59Z</dcterms:created>
  <dc:creator>Кутищева</dc:creator>
  <dc:description/>
  <dc:language>en-US</dc:language>
  <cp:lastModifiedBy>LEGION</cp:lastModifiedBy>
  <dcterms:modified xsi:type="dcterms:W3CDTF">2015-01-12T09:29:07Z</dcterms:modified>
  <cp:revision>19</cp:revision>
  <dc:subject/>
  <dc:title>Путешествие в страну «Простые и составные числа»</dc:title>
</cp:coreProperties>
</file>