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E6F0-4A0F-4279-BA4B-C2C89E70AF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slide" Target="../slides/slide3.xml"/><Relationship Id="rId18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slide" Target="../slides/slide4.xml"/><Relationship Id="rId9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Презентацию подготовила 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ученица 6 - а класса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МБОУ  СОШ №28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станицы Тамань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Остапенко И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99F8-CF7F-46B6-A1D9-039F6FF5AA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Calibri"/>
              </a:rPr>
              <a:t>Космонав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7A2F-5E8F-4F66-B40D-ECFCBB0E3B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Хобби, спорт и развлече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D6C3-572A-4AD1-A72A-C0709AD4E0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сточники: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нтернет – Википедия.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Слов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F7B2-3A00-49D8-9F21-346E6ECF55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слова «Ракета» – слайд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 слова – слайды №4,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– слайды №6 –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– слайд №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3894-CB93-46DD-9144-8F43C84CAF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Раке́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та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it-IT" sz="1200" spc="-1" strike="noStrike">
                <a:solidFill>
                  <a:srgbClr val="4f81bd"/>
                </a:solidFill>
                <a:latin typeface="Calibri"/>
              </a:rPr>
              <a:t>rocchetta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— маленькое веретено через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ем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de-DE" sz="1200" spc="-1" strike="noStrike">
                <a:solidFill>
                  <a:srgbClr val="4f81bd"/>
                </a:solidFill>
                <a:latin typeface="Calibri"/>
              </a:rPr>
              <a:t>Rakete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дер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nl-NL" sz="1200" spc="-1" strike="noStrike">
                <a:solidFill>
                  <a:srgbClr val="4f81bd"/>
                </a:solidFill>
                <a:latin typeface="Calibri"/>
              </a:rPr>
              <a:t>raket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тательный аппара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двигающийся в пространстве за счёт действ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еактивной тяги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возникающей при отбросе ракетой части собствен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асс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рабочего тела)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олё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атмосфер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но и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куум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 Словом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ют широкий спектр летающих устройств от празднич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тард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до космическ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ракеты-носител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военной терминологии слово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ет класс, как правило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беспилотных летательных аппаратов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применяемых для поражения удалённых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целе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вооружённых силах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различным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родами войск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образовался широкий класс различных тип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ракетного оруж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D401-09F4-481C-871A-42DC890A41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соответствии со свидетельств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ревнеримского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писате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вла Гелл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Aulus Gellius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400 году до н. э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рече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философом-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ифагорейце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рхитом Тарент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заставлявшим деревянного голубя двигаться вдоль проволоки с помощью п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A9FF-8968-4794-A396-02EE3CCE7C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III веке вместе с монгольскими завоевателями ракеты попали в Европу, и в 1248 г. английский философ и естествоиспытатель Роджер Бэкон опубликовал труд по их приме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ракеты применялись запорожскими казаками, начиная с XVI—XVII 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96CB-EA69-44D6-AB21-5A2668F7D5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7045-38B5-430E-A724-9BEA733A21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Воен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ное оруж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ECB8-4D80-41D0-90F4-325B9C31DB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Науч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1305-CF9C-4557-BA95-2BF96AA05A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643-0C16-482A-B103-530FD6BD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5DD-0D9D-4DC4-A074-906F1E48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E09-311B-4AC2-B597-F29B0BF3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511-0736-420E-90E3-D37C2305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939C-C68D-4928-8BF2-DE7D7B9D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B09A-C316-4835-BD3E-1943BE0A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E57E-B22B-43D1-BAB5-758A18F7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C222-45D7-4BF5-8B42-1E7E072A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81B6-8337-4C47-9E68-80AA9766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B972-772B-4B16-8706-D105B484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AD5C-AD91-45BB-AE12-ED3EE446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ED0-72E1-466E-9BCE-5397833F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BB38-5D15-43DB-BCDC-A0AFB926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0925-B17C-493C-97D7-F069B11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92B7-86DF-478C-8FD5-1EDE6A98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0086-4999-4599-A628-791E24E3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5A13-7BD6-4A4E-9488-D5809B8F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75A-F7F5-488B-9289-1CA5B6ED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764-FC5F-4EE9-AEAB-095219E6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0BF-7B6B-4BF5-B069-FFDF9D5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5D2-59F7-4105-9669-396A3422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FBB-0949-4A1B-84A7-163B53EE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73E-F588-4E70-8F07-35DE44E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A2A-FD4E-4D1E-B553-D03F4A7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1155-4EB7-4504-8257-E1E24A3EB7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4363-153F-4D0A-B18E-389CB78D91D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hyperlink" Target="http://ru.wikipedia.org/wiki/&#1050;&#1080;&#1090;&#1072;&#1081;" TargetMode="External"/><Relationship Id="rId9" Type="http://schemas.openxmlformats.org/officeDocument/2006/relationships/hyperlink" Target="http://ru.wikipedia.org/wiki/&#1044;&#1080;&#1085;&#1072;&#1089;&#1090;&#1080;&#1103;_&#1061;&#1072;&#1085;&#1100;" TargetMode="External"/><Relationship Id="rId10" Type="http://schemas.openxmlformats.org/officeDocument/2006/relationships/hyperlink" Target="http://ru.wikipedia.org/wiki/206_&#1076;&#1086;_&#1085;._&#1101;." TargetMode="External"/><Relationship Id="rId11" Type="http://schemas.openxmlformats.org/officeDocument/2006/relationships/hyperlink" Target="http://ru.wikipedia.org/wiki/220" TargetMode="External"/><Relationship Id="rId12" Type="http://schemas.openxmlformats.org/officeDocument/2006/relationships/hyperlink" Target="http://ru.wikipedia.org/wiki/&#1055;&#1086;&#1088;&#1086;&#1093;" TargetMode="External"/><Relationship Id="rId13" Type="http://schemas.openxmlformats.org/officeDocument/2006/relationships/hyperlink" Target="http://ru.wikipedia.org/wiki/&#1060;&#1077;&#1081;&#1077;&#1088;&#1074;&#1077;&#1088;&#1082;" TargetMode="External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5;&#1075;&#1086;&#1083;&#1100;&#1089;&#1082;&#1080;&#1077;_&#1079;&#1072;&#1074;&#1086;&#1077;&#1074;&#1072;&#1085;&#1080;&#1103;" TargetMode="External"/><Relationship Id="rId2" Type="http://schemas.openxmlformats.org/officeDocument/2006/relationships/hyperlink" Target="http://ru.wikipedia.org/wiki/&#1041;&#1101;&#1082;&#1086;&#1085;,_&#1056;&#1086;&#1076;&#1078;&#1077;&#1088;" TargetMode="External"/><Relationship Id="rId3" Type="http://schemas.openxmlformats.org/officeDocument/2006/relationships/hyperlink" Target="http://ru.wikipedia.org/wiki/&#1047;&#1072;&#1087;&#1086;&#1088;&#1086;&#1078;&#1089;&#1082;&#1072;&#1103;_&#1089;&#1077;&#1095;&#1100;" TargetMode="External"/><Relationship Id="rId4" Type="http://schemas.openxmlformats.org/officeDocument/2006/relationships/hyperlink" Target="http://ru.wikipedia.org/wiki/XVI" TargetMode="External"/><Relationship Id="rId5" Type="http://schemas.openxmlformats.org/officeDocument/2006/relationships/hyperlink" Target="http://ru.wikipedia.org/wiki/XVII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907920"/>
            <a:ext cx="5113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Arial Unicode MS"/>
              </a:rPr>
              <a:t>Рак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Arial Unicode MS"/>
              <a:ea typeface="Arial Unicode M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788160" y="48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" descr="   "/>
          <p:cNvPicPr/>
          <p:nvPr/>
        </p:nvPicPr>
        <p:blipFill>
          <a:blip r:embed="rId1"/>
          <a:stretch/>
        </p:blipFill>
        <p:spPr>
          <a:xfrm>
            <a:off x="5643720" y="1500120"/>
            <a:ext cx="3230280" cy="4918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5214960"/>
            <a:ext cx="38574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ученица 6 - а класса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МБОУ  СОШ №28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станицы Тамань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Остапенко Ирина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осмонав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7036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   "/>
          <p:cNvPicPr/>
          <p:nvPr/>
        </p:nvPicPr>
        <p:blipFill>
          <a:blip r:embed="rId1"/>
          <a:stretch/>
        </p:blipFill>
        <p:spPr>
          <a:xfrm>
            <a:off x="469800" y="2293920"/>
            <a:ext cx="4816440" cy="334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i"/>
          <p:cNvPicPr/>
          <p:nvPr/>
        </p:nvPicPr>
        <p:blipFill>
          <a:blip r:embed="rId2"/>
          <a:stretch/>
        </p:blipFill>
        <p:spPr>
          <a:xfrm>
            <a:off x="5857920" y="1571760"/>
            <a:ext cx="278748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85ff"/>
                </a:solidFill>
                <a:latin typeface="Arial"/>
              </a:rPr>
              <a:t>Хобби, спорт и развлече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040280" y="426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   "/>
          <p:cNvPicPr/>
          <p:nvPr/>
        </p:nvPicPr>
        <p:blipFill>
          <a:blip r:embed="rId1"/>
          <a:stretch/>
        </p:blipFill>
        <p:spPr>
          <a:xfrm>
            <a:off x="698400" y="1333440"/>
            <a:ext cx="3302280" cy="495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ракета"/>
          <p:cNvPicPr/>
          <p:nvPr/>
        </p:nvPicPr>
        <p:blipFill>
          <a:blip r:embed="rId2"/>
          <a:stretch/>
        </p:blipFill>
        <p:spPr>
          <a:xfrm>
            <a:off x="5391000" y="185724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iанннннн"/>
          <p:cNvPicPr/>
          <p:nvPr/>
        </p:nvPicPr>
        <p:blipFill>
          <a:blip r:embed="rId1"/>
          <a:stretch/>
        </p:blipFill>
        <p:spPr>
          <a:xfrm>
            <a:off x="214200" y="642960"/>
            <a:ext cx="3086280" cy="385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3"/>
          <p:cNvPicPr/>
          <p:nvPr/>
        </p:nvPicPr>
        <p:blipFill>
          <a:blip r:embed="rId2"/>
          <a:stretch/>
        </p:blipFill>
        <p:spPr>
          <a:xfrm>
            <a:off x="3635280" y="642960"/>
            <a:ext cx="5227560" cy="357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iлр"/>
          <p:cNvPicPr/>
          <p:nvPr/>
        </p:nvPicPr>
        <p:blipFill>
          <a:blip r:embed="rId3"/>
          <a:stretch/>
        </p:blipFill>
        <p:spPr>
          <a:xfrm>
            <a:off x="2571840" y="1785960"/>
            <a:ext cx="39528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сточники: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нтернет – Википедия.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Словари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46623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слова «Ракета» – слайд №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происхождения слова – слайды №4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– слайды №6 –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– слайд №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6715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Раке́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ита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it-IT" sz="2000" spc="-1" strike="noStrike">
                <a:solidFill>
                  <a:srgbClr val="3399ff"/>
                </a:solidFill>
                <a:latin typeface="Arial"/>
              </a:rPr>
              <a:t>rocchetta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— маленькое веретено через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м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de-DE" sz="2000" spc="-1" strike="noStrike">
                <a:solidFill>
                  <a:srgbClr val="3399ff"/>
                </a:solidFill>
                <a:latin typeface="Arial"/>
              </a:rPr>
              <a:t>Rakete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нидер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nl-NL" sz="2000" spc="-1" strike="noStrike">
                <a:solidFill>
                  <a:srgbClr val="3399ff"/>
                </a:solidFill>
                <a:latin typeface="Arial"/>
              </a:rPr>
              <a:t>raket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летательный аппара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двигающийся в пространстве за счёт действи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активной тяги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возникающей при отбросе ракетой части собствен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сс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рабочего тела)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Полё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атмосфер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но и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вакуум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Словом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ют широкий спектр летающих устройств от празднич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петард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до косми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ракеты-носител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военной терминологии слово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ет класс, как правило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беспилотных летательных аппарат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применяемых для поражения удалё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целей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вооружённых силах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различным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родами войск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образовался широкий класс различных типо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ракетного оруж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iапа"/>
          <p:cNvPicPr/>
          <p:nvPr/>
        </p:nvPicPr>
        <p:blipFill>
          <a:blip r:embed="rId17"/>
          <a:stretch/>
        </p:blipFill>
        <p:spPr>
          <a:xfrm>
            <a:off x="6858000" y="3643200"/>
            <a:ext cx="1959120" cy="285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соответствии со свидетельством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древнеримского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писате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Авла Гелл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лат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Aulus Gellius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400 году до н. э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грече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философом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ифагорейце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Архитом Тарент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заставлявшим деревянного голубя двигаться вдоль проволоки с помощью па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49236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378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Тем не менее, большинство историков относят возникновения ракет ко временам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китайской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династии Хан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206 год до н. э.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220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 н. э.), к открытию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порох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началу его использования дл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фейерверков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развле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   "/>
          <p:cNvPicPr/>
          <p:nvPr/>
        </p:nvPicPr>
        <p:blipFill>
          <a:blip r:embed="rId14"/>
          <a:stretch/>
        </p:blipFill>
        <p:spPr>
          <a:xfrm>
            <a:off x="4643280" y="3571920"/>
            <a:ext cx="4356360" cy="286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   "/>
          <p:cNvPicPr/>
          <p:nvPr/>
        </p:nvPicPr>
        <p:blipFill>
          <a:blip r:embed="rId15"/>
          <a:stretch/>
        </p:blipFill>
        <p:spPr>
          <a:xfrm>
            <a:off x="6348240" y="68137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634824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34824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000080" y="56469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ые ракеты использовались для фейервер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XIII веке вместе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нгольскими завоевателями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ракеты попали в Европу, и в 1248 г. английский философ и естествоиспытател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оджер Бэкон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опубликовал труд по их применению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но, что ракеты применялис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запорожскими каза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чиная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i9"/>
          <p:cNvPicPr/>
          <p:nvPr/>
        </p:nvPicPr>
        <p:blipFill>
          <a:blip r:embed="rId6"/>
          <a:stretch/>
        </p:blipFill>
        <p:spPr>
          <a:xfrm>
            <a:off x="4500720" y="3860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66"/>
          <p:cNvPicPr/>
          <p:nvPr/>
        </p:nvPicPr>
        <p:blipFill>
          <a:blip r:embed="rId7"/>
          <a:stretch/>
        </p:blipFill>
        <p:spPr>
          <a:xfrm>
            <a:off x="357120" y="3143160"/>
            <a:ext cx="3256200" cy="33004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1197000"/>
            <a:ext cx="62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iln"/>
          <p:cNvPicPr/>
          <p:nvPr/>
        </p:nvPicPr>
        <p:blipFill>
          <a:blip r:embed="rId1"/>
          <a:stretch/>
        </p:blipFill>
        <p:spPr>
          <a:xfrm>
            <a:off x="2643120" y="3571920"/>
            <a:ext cx="360036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17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d6"/>
                </a:solidFill>
                <a:latin typeface="Arial"/>
              </a:rPr>
              <a:t>Военное дел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кетное оруж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3814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   "/>
          <p:cNvPicPr/>
          <p:nvPr/>
        </p:nvPicPr>
        <p:blipFill>
          <a:blip r:embed="rId1"/>
          <a:stretch/>
        </p:blipFill>
        <p:spPr>
          <a:xfrm>
            <a:off x="285840" y="2143080"/>
            <a:ext cx="3781440" cy="379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856120" y="45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   "/>
          <p:cNvPicPr/>
          <p:nvPr/>
        </p:nvPicPr>
        <p:blipFill>
          <a:blip r:embed="rId2"/>
          <a:stretch/>
        </p:blipFill>
        <p:spPr>
          <a:xfrm>
            <a:off x="4429080" y="2781360"/>
            <a:ext cx="4413240" cy="3647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i4"/>
          <p:cNvPicPr/>
          <p:nvPr/>
        </p:nvPicPr>
        <p:blipFill>
          <a:blip r:embed="rId1"/>
          <a:stretch/>
        </p:blipFill>
        <p:spPr>
          <a:xfrm>
            <a:off x="500040" y="785880"/>
            <a:ext cx="3889440" cy="311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56"/>
          <p:cNvPicPr/>
          <p:nvPr/>
        </p:nvPicPr>
        <p:blipFill>
          <a:blip r:embed="rId2"/>
          <a:stretch/>
        </p:blipFill>
        <p:spPr>
          <a:xfrm>
            <a:off x="4656240" y="285768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Научные исследов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65400" y="42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   "/>
          <p:cNvPicPr/>
          <p:nvPr/>
        </p:nvPicPr>
        <p:blipFill>
          <a:blip r:embed="rId1"/>
          <a:stretch/>
        </p:blipFill>
        <p:spPr>
          <a:xfrm>
            <a:off x="4286160" y="1571760"/>
            <a:ext cx="43815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он"/>
          <p:cNvPicPr/>
          <p:nvPr/>
        </p:nvPicPr>
        <p:blipFill>
          <a:blip r:embed="rId2"/>
          <a:stretch/>
        </p:blipFill>
        <p:spPr>
          <a:xfrm>
            <a:off x="428760" y="2928960"/>
            <a:ext cx="3436920" cy="25891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52:48Z</dcterms:created>
  <dc:creator>Admin</dc:creator>
  <dc:description/>
  <dc:language>en-US</dc:language>
  <cp:lastModifiedBy>LEGION</cp:lastModifiedBy>
  <dcterms:modified xsi:type="dcterms:W3CDTF">2015-01-12T09:29:40Z</dcterms:modified>
  <cp:revision>13</cp:revision>
  <dc:subject/>
  <dc:title>Слайд 1</dc:title>
</cp:coreProperties>
</file>