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29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42.jpeg" ContentType="image/jpeg"/>
  <Override PartName="/ppt/media/image2.gif" ContentType="image/gif"/>
  <Override PartName="/ppt/media/image32.gif" ContentType="image/gif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43.png" ContentType="image/png"/>
  <Override PartName="/ppt/media/image1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D3C0-523D-47D4-833C-53082CC877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см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C50-C4A6-4CD8-8741-E8D57C75B3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й Алексеевич Гагарин – первый космона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летел в косм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2 апреля 1961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3ED6-24A7-4115-BE83-6073C2DFFD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А. Гагарин поднялся в космос на одноместном корабле «Вост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были созданы кораб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ход» и «Союз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FEE-B6D7-48C6-AFAA-DA356E09C5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ая станция «Ми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B436-4D5F-4CC5-9A7E-C212D1B22C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герметизированная кабина космонав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космонавты управляют кораблем, связываются с Землей по ради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8B5B-04CC-42CD-B4A0-93DD39DFD2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10C-55CF-4EC7-9F87-94FBF13ABB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D5B-EBFE-425B-BBB0-CC76C7A303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E5F1-70B1-4D3E-8D7A-0CB2FF3776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296A-765F-47B9-B3EB-BDC7683D42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смосе наход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6AAE-D1D9-4C34-8777-CFA7822C00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33CB-CFED-49BC-B109-02416C43AA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занимают в небе определенное по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добства люди условно делят небо на области – созвезд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AE23-EA47-4C91-9EAB-C56E4D0AF0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C37-8E7D-470F-9112-F79CC9C84E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 тоже звезда. Оно светит и освещает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137-94ED-4F8F-9493-FF49CE6425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DACC-4358-401E-8AED-442BD68980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3BB8-14B1-4061-854B-6DD737135C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уна - спутник Земли и движется вокруг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луны почти в 4 раза меньше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9A75-4470-4952-B714-B585088271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66AD-2D9F-4922-ACC0-F43B1578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436-5A21-47A4-9010-995E465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1E3-94F4-4447-A507-995C0294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398-8397-4E52-93FB-DF19E81D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E21-D4E7-4756-9330-520F51F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07D8-EF09-435A-AEAA-A47F0DB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1E3-7E29-4A49-B0E9-2DDB1D2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BD5-00E2-4635-97F8-C868A7EB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B02-9357-4796-AEF7-5C968473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5FF-36D1-45E8-9D28-35CEA94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6CF-BA8B-460A-9095-C0461077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F3A-126A-4369-A2BB-851D7E4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A1DA-4905-4E8B-AE58-9D7F3DD226E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17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1042920" y="765000"/>
            <a:ext cx="7129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рок-путешеств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в космо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4" descr="r4"/>
          <p:cNvPicPr/>
          <p:nvPr/>
        </p:nvPicPr>
        <p:blipFill>
          <a:blip r:embed="rId2"/>
          <a:stretch/>
        </p:blipFill>
        <p:spPr>
          <a:xfrm>
            <a:off x="-1428840" y="191628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Гагарин"/>
          <p:cNvPicPr/>
          <p:nvPr/>
        </p:nvPicPr>
        <p:blipFill>
          <a:blip r:embed="rId1"/>
          <a:stretch/>
        </p:blipFill>
        <p:spPr>
          <a:xfrm>
            <a:off x="539640" y="549360"/>
            <a:ext cx="4111560" cy="58323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643280" y="476280"/>
            <a:ext cx="42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рий Алексеевич Гагарин – первый космонав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полетел в косм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2 апреля 1961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1_1"/>
          <p:cNvPicPr/>
          <p:nvPr/>
        </p:nvPicPr>
        <p:blipFill>
          <a:blip r:embed="rId2"/>
          <a:stretch/>
        </p:blipFill>
        <p:spPr>
          <a:xfrm>
            <a:off x="5076720" y="2205000"/>
            <a:ext cx="3372120" cy="4175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start_gagarina_raketa_vostok"/>
          <p:cNvPicPr/>
          <p:nvPr/>
        </p:nvPicPr>
        <p:blipFill>
          <a:blip r:embed="rId1"/>
          <a:stretch/>
        </p:blipFill>
        <p:spPr>
          <a:xfrm>
            <a:off x="395280" y="333360"/>
            <a:ext cx="4230720" cy="4967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9280" y="5300640"/>
            <a:ext cx="46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Ю.А. Гагарин поднялся в космос на одноместном корабле «Восток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восход"/>
          <p:cNvPicPr/>
          <p:nvPr/>
        </p:nvPicPr>
        <p:blipFill>
          <a:blip r:embed="rId2"/>
          <a:stretch/>
        </p:blipFill>
        <p:spPr>
          <a:xfrm>
            <a:off x="5219640" y="333360"/>
            <a:ext cx="3465720" cy="4967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59280" y="5300640"/>
            <a:ext cx="410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тем были созданы кораб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Восход» и «Союз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союз"/>
          <p:cNvPicPr/>
          <p:nvPr/>
        </p:nvPicPr>
        <p:blipFill>
          <a:blip r:embed="rId3"/>
          <a:stretch/>
        </p:blipFill>
        <p:spPr>
          <a:xfrm>
            <a:off x="5076720" y="333360"/>
            <a:ext cx="3719520" cy="496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r4"/>
          <p:cNvPicPr/>
          <p:nvPr/>
        </p:nvPicPr>
        <p:blipFill>
          <a:blip r:embed="rId4"/>
          <a:stretch/>
        </p:blipFill>
        <p:spPr>
          <a:xfrm rot="16200000">
            <a:off x="4214520" y="745740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10916E-006 L 0.00017 -1.2685 E">
                                      <p:cBhvr>
                                        <p:cTn id="36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косм корабль на орбит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r4"/>
          <p:cNvPicPr/>
          <p:nvPr/>
        </p:nvPicPr>
        <p:blipFill>
          <a:blip r:embed="rId2"/>
          <a:stretch/>
        </p:blipFill>
        <p:spPr>
          <a:xfrm>
            <a:off x="-1428840" y="184464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835280" y="40464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ический корабль на орбите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орбитальная станция мир"/>
          <p:cNvPicPr/>
          <p:nvPr/>
        </p:nvPicPr>
        <p:blipFill>
          <a:blip r:embed="rId3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124000" y="609300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битальная станция «Мир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416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абина2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716360" y="260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- герметизированная кабина космонав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кабина"/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kosmonavt"/>
          <p:cNvPicPr/>
          <p:nvPr/>
        </p:nvPicPr>
        <p:blipFill>
          <a:blip r:embed="rId3"/>
          <a:stretch/>
        </p:blipFill>
        <p:spPr>
          <a:xfrm>
            <a:off x="4140360" y="5300640"/>
            <a:ext cx="952200" cy="1333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5219640" y="508464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юда космонавты управляют кораблем, связываются с Землей по радио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питание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324000" y="4365720"/>
            <a:ext cx="43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осмическом корабле продукты питания хранятся в тубах. Они похожи на тюбики с зубной пастой, только размером побольше. Из них еду выдавлив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kosmonavt"/>
          <p:cNvPicPr/>
          <p:nvPr/>
        </p:nvPicPr>
        <p:blipFill>
          <a:blip r:embed="rId2"/>
          <a:stretch/>
        </p:blipFill>
        <p:spPr>
          <a:xfrm>
            <a:off x="0" y="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орбитальный отсек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5292720" y="260280"/>
            <a:ext cx="3600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орабле «Союз» есть и другой жилой отсек. Он называется орбитальным. Из своей кабины космонавты попадают в него через люк-лаз. Здесь космонавты отдыхают, проводят научные эксперименты. Через орбитальный отсек космонавты могут выйти в открытый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kosmonavt"/>
          <p:cNvPicPr/>
          <p:nvPr/>
        </p:nvPicPr>
        <p:blipFill>
          <a:blip r:embed="rId2"/>
          <a:stretch/>
        </p:blipFill>
        <p:spPr>
          <a:xfrm>
            <a:off x="5435640" y="552456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5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692360" y="616572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битальный отс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771640" y="551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ной лю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059280" y="4869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для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995640" y="4005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бина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0920" y="17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ее место космонав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6622920" y="1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борно-агрегатный отс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5580000" y="5589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ечные батар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центр управления"/>
          <p:cNvPicPr/>
          <p:nvPr/>
        </p:nvPicPr>
        <p:blipFill>
          <a:blip r:embed="rId1"/>
          <a:stretch/>
        </p:blipFill>
        <p:spPr>
          <a:xfrm>
            <a:off x="0" y="0"/>
            <a:ext cx="9325080" cy="5987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ы освободить космонавтов от лишней работы, кораблем иногда управляют по радио с Земли из Центра управления поле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приземление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419640" y="692280"/>
            <a:ext cx="57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битальный отсек и отсек с приборами сгорают в атмосфере. Герметичный отсек с космонавтами продолжает спуск к Земле. На высоте нескольких километров от Земли раскрывается парашют. Таким образом, завершается полет в косм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kosmonavt"/>
          <p:cNvPicPr/>
          <p:nvPr/>
        </p:nvPicPr>
        <p:blipFill>
          <a:blip r:embed="rId2"/>
          <a:stretch/>
        </p:blipFill>
        <p:spPr>
          <a:xfrm>
            <a:off x="179280" y="5373720"/>
            <a:ext cx="952560" cy="133344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2700360" y="270828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бесчисленной отар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шел пастух усталы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когда пропел петух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рылись овцы и пасту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843280" y="2708280"/>
            <a:ext cx="3311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агаю всем загадк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одумайте, ребятки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айте мне отве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осмический секр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843280" y="278136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не летчик, не пило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 ведет не самоле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огромную ракету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кто, скажите,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0" descr="1_1"/>
          <p:cNvPicPr/>
          <p:nvPr/>
        </p:nvPicPr>
        <p:blipFill>
          <a:blip r:embed="rId2"/>
          <a:stretch/>
        </p:blipFill>
        <p:spPr>
          <a:xfrm>
            <a:off x="2340000" y="692280"/>
            <a:ext cx="4395600" cy="5445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2843280" y="2637000"/>
            <a:ext cx="38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ыльев нет у этой птицы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нельзя не подивиться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шь распустит птица хвост -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однимется до звезд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12" descr="ракета"/>
          <p:cNvPicPr/>
          <p:nvPr/>
        </p:nvPicPr>
        <p:blipFill>
          <a:blip r:embed="rId3"/>
          <a:stretch/>
        </p:blipFill>
        <p:spPr>
          <a:xfrm>
            <a:off x="2700360" y="1484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3"/>
          <p:cNvSpPr/>
          <p:nvPr/>
        </p:nvSpPr>
        <p:spPr>
          <a:xfrm>
            <a:off x="2700360" y="27082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олубой станиц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вица краснолиц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чью ей не спится –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зеркало гля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лунаjpg"/>
          <p:cNvPicPr/>
          <p:nvPr/>
        </p:nvPicPr>
        <p:blipFill>
          <a:blip r:embed="rId4"/>
          <a:stretch/>
        </p:blipFill>
        <p:spPr>
          <a:xfrm>
            <a:off x="2268360" y="1557360"/>
            <a:ext cx="4326120" cy="432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месяц"/>
          <p:cNvPicPr/>
          <p:nvPr/>
        </p:nvPicPr>
        <p:blipFill>
          <a:blip r:embed="rId5"/>
          <a:stretch/>
        </p:blipFill>
        <p:spPr>
          <a:xfrm>
            <a:off x="2268360" y="549360"/>
            <a:ext cx="4499280" cy="5708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7"/>
          <p:cNvSpPr/>
          <p:nvPr/>
        </p:nvSpPr>
        <p:spPr>
          <a:xfrm>
            <a:off x="2771640" y="306864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ры небо прожигают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до нас не долет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8" descr="метеорит"/>
          <p:cNvPicPr/>
          <p:nvPr/>
        </p:nvPicPr>
        <p:blipFill>
          <a:blip r:embed="rId6"/>
          <a:stretch/>
        </p:blipFill>
        <p:spPr>
          <a:xfrm>
            <a:off x="684360" y="1628640"/>
            <a:ext cx="7654680" cy="3729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9"/>
          <p:cNvSpPr/>
          <p:nvPr/>
        </p:nvSpPr>
        <p:spPr>
          <a:xfrm>
            <a:off x="2843280" y="2708280"/>
            <a:ext cx="35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небу ходит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ляр без кисте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кой коричнево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сит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0" descr="солнце1"/>
          <p:cNvPicPr/>
          <p:nvPr/>
        </p:nvPicPr>
        <p:blipFill>
          <a:blip r:embed="rId7"/>
          <a:stretch/>
        </p:blipFill>
        <p:spPr>
          <a:xfrm>
            <a:off x="1763640" y="1413000"/>
            <a:ext cx="5595840" cy="4197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zvezdochet1"/>
          <p:cNvPicPr/>
          <p:nvPr/>
        </p:nvPicPr>
        <p:blipFill>
          <a:blip r:embed="rId8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1" dur="1" fill="hold"/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3" descr="вид на землю из космоса2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0"/>
          <p:cNvSpPr/>
          <p:nvPr/>
        </p:nvSpPr>
        <p:spPr>
          <a:xfrm>
            <a:off x="468360" y="333360"/>
            <a:ext cx="2590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см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сконеч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тран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6" descr="солнце"/>
          <p:cNvPicPr/>
          <p:nvPr/>
        </p:nvPicPr>
        <p:blipFill>
          <a:blip r:embed="rId3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8" descr="звезды_слово"/>
          <p:cNvPicPr/>
          <p:nvPr/>
        </p:nvPicPr>
        <p:blipFill>
          <a:blip r:embed="rId4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планеты_сл"/>
          <p:cNvPicPr/>
          <p:nvPr/>
        </p:nvPicPr>
        <p:blipFill>
          <a:blip r:embed="rId5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уна"/>
          <p:cNvPicPr/>
          <p:nvPr/>
        </p:nvPicPr>
        <p:blipFill>
          <a:blip r:embed="rId6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7"/>
          <p:cNvSpPr/>
          <p:nvPr/>
        </p:nvSpPr>
        <p:spPr>
          <a:xfrm>
            <a:off x="2484360" y="40464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смосе наход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9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osmos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771640" y="90792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img1"/>
          <p:cNvPicPr/>
          <p:nvPr/>
        </p:nvPicPr>
        <p:blipFill>
          <a:blip r:embed="rId2"/>
          <a:stretch/>
        </p:blipFill>
        <p:spPr>
          <a:xfrm>
            <a:off x="2195640" y="0"/>
            <a:ext cx="5492520" cy="7029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2843280" y="335772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195640" y="189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564000" y="189000"/>
            <a:ext cx="863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28472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5003640" y="76500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5651640" y="2060640"/>
            <a:ext cx="86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6227640" y="2708280"/>
            <a:ext cx="863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5" descr="zvezdochet1"/>
          <p:cNvPicPr/>
          <p:nvPr/>
        </p:nvPicPr>
        <p:blipFill>
          <a:blip r:embed="rId3"/>
          <a:stretch/>
        </p:blipFill>
        <p:spPr>
          <a:xfrm>
            <a:off x="250920" y="5300640"/>
            <a:ext cx="1154160" cy="1557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7"/>
          <p:cNvSpPr/>
          <p:nvPr/>
        </p:nvSpPr>
        <p:spPr>
          <a:xfrm>
            <a:off x="7020000" y="3357720"/>
            <a:ext cx="72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0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0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65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6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1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7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5,-118,70)"/>
                                      </p:to>
                                    </p:set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звезда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32400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езда – это огромный, горячий, светящийся газовый шар. Звезды светятся сами и освещают планеты. Это очень большие небесные т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88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звезды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r4"/>
          <p:cNvPicPr/>
          <p:nvPr/>
        </p:nvPicPr>
        <p:blipFill>
          <a:blip r:embed="rId2"/>
          <a:stretch/>
        </p:blipFill>
        <p:spPr>
          <a:xfrm>
            <a:off x="-1428840" y="350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468360" y="1125360"/>
            <a:ext cx="84247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ёзды занимают в небе определенное полож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удобства люди условно делят небо на области – созвезд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вездия – это участки звёздного неба, которые носят имена мифических героев, животных или предметов, на которых они пох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больш и мал медвед"/>
          <p:cNvPicPr/>
          <p:nvPr/>
        </p:nvPicPr>
        <p:blipFill>
          <a:blip r:embed="rId1"/>
          <a:stretch/>
        </p:blipFill>
        <p:spPr>
          <a:xfrm>
            <a:off x="29304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24000" y="47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6" descr="r4"/>
          <p:cNvPicPr/>
          <p:nvPr/>
        </p:nvPicPr>
        <p:blipFill>
          <a:blip r:embed="rId2"/>
          <a:stretch/>
        </p:blipFill>
        <p:spPr>
          <a:xfrm>
            <a:off x="-1428840" y="26028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324000" y="260280"/>
            <a:ext cx="331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е известные созвездия – большая медведица,  малая медведица, дракон, лебедь, кассиопея и        12 созвездий зодиа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8" descr="большая медведица"/>
          <p:cNvPicPr/>
          <p:nvPr/>
        </p:nvPicPr>
        <p:blipFill>
          <a:blip r:embed="rId3"/>
          <a:stretch/>
        </p:blipFill>
        <p:spPr>
          <a:xfrm>
            <a:off x="3492360" y="4538520"/>
            <a:ext cx="251964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малая медведица"/>
          <p:cNvPicPr/>
          <p:nvPr/>
        </p:nvPicPr>
        <p:blipFill>
          <a:blip r:embed="rId4"/>
          <a:stretch/>
        </p:blipFill>
        <p:spPr>
          <a:xfrm>
            <a:off x="4716360" y="3357720"/>
            <a:ext cx="2403720" cy="191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кассиопея"/>
          <p:cNvPicPr/>
          <p:nvPr/>
        </p:nvPicPr>
        <p:blipFill>
          <a:blip r:embed="rId5"/>
          <a:stretch/>
        </p:blipFill>
        <p:spPr>
          <a:xfrm>
            <a:off x="6588000" y="0"/>
            <a:ext cx="223200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дракон"/>
          <p:cNvPicPr/>
          <p:nvPr/>
        </p:nvPicPr>
        <p:blipFill>
          <a:blip r:embed="rId6"/>
          <a:stretch/>
        </p:blipFill>
        <p:spPr>
          <a:xfrm>
            <a:off x="3419640" y="836640"/>
            <a:ext cx="2520720" cy="2022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созвездие лебедя"/>
          <p:cNvPicPr/>
          <p:nvPr/>
        </p:nvPicPr>
        <p:blipFill>
          <a:blip r:embed="rId7"/>
          <a:stretch/>
        </p:blipFill>
        <p:spPr>
          <a:xfrm>
            <a:off x="6516720" y="2492280"/>
            <a:ext cx="2448000" cy="198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созвездия"/>
          <p:cNvPicPr/>
          <p:nvPr/>
        </p:nvPicPr>
        <p:blipFill>
          <a:blip r:embed="rId8"/>
          <a:stretch/>
        </p:blipFill>
        <p:spPr>
          <a:xfrm>
            <a:off x="2700360" y="3141720"/>
            <a:ext cx="6443640" cy="3486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zvezdochet1"/>
          <p:cNvPicPr/>
          <p:nvPr/>
        </p:nvPicPr>
        <p:blipFill>
          <a:blip r:embed="rId9"/>
          <a:stretch/>
        </p:blipFill>
        <p:spPr>
          <a:xfrm>
            <a:off x="1403280" y="5300640"/>
            <a:ext cx="693720" cy="936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13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солнце-звезда"/>
          <p:cNvPicPr/>
          <p:nvPr/>
        </p:nvPicPr>
        <p:blipFill>
          <a:blip r:embed="rId1"/>
          <a:stretch/>
        </p:blipFill>
        <p:spPr>
          <a:xfrm>
            <a:off x="0" y="141120"/>
            <a:ext cx="7020000" cy="671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sun_2"/>
          <p:cNvPicPr/>
          <p:nvPr/>
        </p:nvPicPr>
        <p:blipFill>
          <a:blip r:embed="rId2"/>
          <a:stretch/>
        </p:blipFill>
        <p:spPr>
          <a:xfrm>
            <a:off x="7093080" y="189000"/>
            <a:ext cx="1763640" cy="1563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6804000" y="177336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020000" y="2276640"/>
            <a:ext cx="194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лнце – это тоже звезда. Оно светит и освещает планеты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солнечн система"/>
          <p:cNvPicPr/>
          <p:nvPr/>
        </p:nvPicPr>
        <p:blipFill>
          <a:blip r:embed="rId1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r4"/>
          <p:cNvPicPr/>
          <p:nvPr/>
        </p:nvPicPr>
        <p:blipFill>
          <a:blip r:embed="rId2"/>
          <a:stretch/>
        </p:blipFill>
        <p:spPr>
          <a:xfrm>
            <a:off x="-1428840" y="6021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250920" y="548496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анеты, как и звезды, имеют форму шара. Они постоянно движутся вокруг Солнца. Запомни названия планет Солнечной сист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292720" y="3645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ку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516720" y="3500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7702560" y="31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ем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885080" y="2637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03640" y="155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пи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908000" y="1197000"/>
            <a:ext cx="14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тур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1042920" y="98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395280" y="6922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ту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0" y="333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у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12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земля"/>
          <p:cNvPicPr/>
          <p:nvPr/>
        </p:nvPicPr>
        <p:blipFill>
          <a:blip r:embed="rId1"/>
          <a:stretch/>
        </p:blipFill>
        <p:spPr>
          <a:xfrm>
            <a:off x="2124000" y="404640"/>
            <a:ext cx="4694400" cy="4753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79280" y="4869000"/>
            <a:ext cx="8785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– планета. Она отличается от всех остальных планет тем, что только на ней есть жиз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освещается Солнцем. Когда на освещенной стороне Земли день, на другой стороне – ноч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r4"/>
          <p:cNvPicPr/>
          <p:nvPr/>
        </p:nvPicPr>
        <p:blipFill>
          <a:blip r:embed="rId2"/>
          <a:stretch/>
        </p:blipFill>
        <p:spPr>
          <a:xfrm>
            <a:off x="-1428840" y="3284640"/>
            <a:ext cx="1428840" cy="57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28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8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земля и луна"/>
          <p:cNvPicPr/>
          <p:nvPr/>
        </p:nvPicPr>
        <p:blipFill>
          <a:blip r:embed="rId1"/>
          <a:stretch/>
        </p:blipFill>
        <p:spPr>
          <a:xfrm>
            <a:off x="395280" y="333360"/>
            <a:ext cx="6572160" cy="4599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11280" y="530064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на - спутник Земли и движется вокруг 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метр луны почти в 4 раза меньше Зем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r4"/>
          <p:cNvPicPr/>
          <p:nvPr/>
        </p:nvPicPr>
        <p:blipFill>
          <a:blip r:embed="rId2"/>
          <a:stretch/>
        </p:blipFill>
        <p:spPr>
          <a:xfrm>
            <a:off x="-1428840" y="2565360"/>
            <a:ext cx="1428840" cy="5716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19241E-006 L 1.20018 0.00046 E">
                                      <p:cBhvr>
                                        <p:cTn id="3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2:31:40Z</dcterms:created>
  <dc:creator>Светлана</dc:creator>
  <dc:description/>
  <dc:language>en-US</dc:language>
  <cp:lastModifiedBy>LEGION</cp:lastModifiedBy>
  <dcterms:modified xsi:type="dcterms:W3CDTF">2015-01-12T09:31:09Z</dcterms:modified>
  <cp:revision>7</cp:revision>
  <dc:subject/>
  <dc:title>Слайд 1</dc:title>
</cp:coreProperties>
</file>