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29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42.jpeg" ContentType="image/jpeg"/>
  <Override PartName="/ppt/media/image2.gif" ContentType="image/gif"/>
  <Override PartName="/ppt/media/image32.gif" ContentType="image/gif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43.png" ContentType="image/png"/>
  <Override PartName="/ppt/media/image13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7C26-9A7D-4BFE-ACEA-C037B73EDA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см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EC62-5D2E-4304-A768-480B7419E2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Алексеевич Гагарин – первый космонав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летел в косм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2 апреля 196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84EE-033E-4D51-97E8-983F7340EE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.А. Гагарин поднялся в космос на одноместном корабле «Восто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были созданы кораб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ход» и «Союз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C137-DCF9-4432-BDF6-E1E448CB64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ая станция «Мир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C4DC-06C9-4BD8-BDD6-815F399A4E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герметизированная кабина космонав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 космонавты управляют кораблем, связываются с Землей по ради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DA37-ED96-4619-B9AB-3BFE673F80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ическом корабле продукты питания хранятся в тубах. Они похожи на тюбики с зубной пастой, только размером побольше. Из них еду выдавл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E7A8-CD00-4734-98BC-4C38561956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рабле «Союз» есть и другой жилой отсек. Он называется орбитальным. Из своей кабины космонавты попадают в него через люк-лаз. Здесь космонавты отдыхают, проводят научные эксперименты. Через орбитальный отсек космонавты могут выйти в открытый космо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CFE0-9706-4BC3-939D-8B02046749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свободить космонавтов от лишней работы, кораблем иногда управляют по радио с Земли из Центра управления поле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17BB-2E6C-44F4-B227-C1F679401C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ый отсек и отсек с приборами сгорают в атмосфере. Герметичный отсек с космонавтами продолжает спуск к Земле. На высоте нескольких километров от Земли раскрывается парашют. Таким образом, завершается полет в космо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8E59-9CE4-4DF2-A9A2-48A680F3FC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осе наход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4624-D83E-4354-80D0-26CE931338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зда – это огромный, горячий, светящийся газовый шар. Звезды светятся сами и освещают планеты. Это очень большие небесные 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5BF0-88F1-4550-B2E9-6FA708D6C1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занимают в небе определенное по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добства люди условно делят небо на области – созвезд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я – это участки звёздного неба, которые носят имена мифических героев, животных или предметов, на которых они похо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343D-AF3D-4B24-815A-9C57EC10CF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известные созвездия – большая медведица,  малая медведица, дракон, лебедь, кассиопея и        12 созвездий зоди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ECC6-6A47-4F1C-B2AE-C99F558536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 – это тоже звезда. Оно светит и освещает пла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CC84-D099-4371-B197-512402068D4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ы, как и звезды, имеют форму шара. Они постоянно движутся вокруг Солнца. Запомни названия планет Солнеч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B170-14EC-4842-95B6-E9AFAF80EA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– планета. Она отличается от всех остальных планет тем, что только на ней есть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освещается Солнцем. Когда на освещенной стороне Земли день, на другой стороне – но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ED3A-D49A-437D-A946-B2F635BC47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на - спутник Земли и движется вокруг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метр луны почти в 4 раза меньше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88F0-F296-4D95-B98C-5FFDED2ABC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21B-92A9-45EB-9585-04186055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519F-ECA8-49AF-A8E9-3B0C3469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8FE1-36DC-44BE-BD11-1A36472A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06F-9FDA-470D-9A8D-2CB28B15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996-FE20-455C-A904-82B41636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29D-4BC0-4F94-9538-2A55DB45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983E-537D-4249-A172-F32C549F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1F1-26C5-499C-84A4-8D84847A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531D-E7FB-4D44-A73D-4B9832FD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0ACB-5D63-4186-AF51-D4F222E5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02D-12E5-409F-9D64-D92ECC34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A1CD-9B02-48F5-A014-4E8D9EAA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B35D-3B10-4CC9-8647-4682F111B40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gi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4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gi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osm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1042920" y="765000"/>
            <a:ext cx="7129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рок-путешеств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в космо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4" descr="r4"/>
          <p:cNvPicPr/>
          <p:nvPr/>
        </p:nvPicPr>
        <p:blipFill>
          <a:blip r:embed="rId2"/>
          <a:stretch/>
        </p:blipFill>
        <p:spPr>
          <a:xfrm>
            <a:off x="-1428840" y="1916280"/>
            <a:ext cx="1428840" cy="5713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8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Гагарин"/>
          <p:cNvPicPr/>
          <p:nvPr/>
        </p:nvPicPr>
        <p:blipFill>
          <a:blip r:embed="rId1"/>
          <a:stretch/>
        </p:blipFill>
        <p:spPr>
          <a:xfrm>
            <a:off x="539640" y="549360"/>
            <a:ext cx="4111560" cy="5832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643280" y="476280"/>
            <a:ext cx="424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рий Алексеевич Гагарин – первый космонав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полетел в косм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12 апреля 1961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7" descr="1_1"/>
          <p:cNvPicPr/>
          <p:nvPr/>
        </p:nvPicPr>
        <p:blipFill>
          <a:blip r:embed="rId2"/>
          <a:stretch/>
        </p:blipFill>
        <p:spPr>
          <a:xfrm>
            <a:off x="5076720" y="2205000"/>
            <a:ext cx="3372120" cy="41752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start_gagarina_raketa_vostok"/>
          <p:cNvPicPr/>
          <p:nvPr/>
        </p:nvPicPr>
        <p:blipFill>
          <a:blip r:embed="rId1"/>
          <a:stretch/>
        </p:blipFill>
        <p:spPr>
          <a:xfrm>
            <a:off x="395280" y="333360"/>
            <a:ext cx="4230720" cy="4967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79280" y="5300640"/>
            <a:ext cx="46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Ю.А. Гагарин поднялся в космос на одноместном корабле «Восток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восход"/>
          <p:cNvPicPr/>
          <p:nvPr/>
        </p:nvPicPr>
        <p:blipFill>
          <a:blip r:embed="rId2"/>
          <a:stretch/>
        </p:blipFill>
        <p:spPr>
          <a:xfrm>
            <a:off x="5219640" y="333360"/>
            <a:ext cx="3465720" cy="4967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4859280" y="5300640"/>
            <a:ext cx="410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тем были созданы кораб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сход» и «Союз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союз"/>
          <p:cNvPicPr/>
          <p:nvPr/>
        </p:nvPicPr>
        <p:blipFill>
          <a:blip r:embed="rId3"/>
          <a:stretch/>
        </p:blipFill>
        <p:spPr>
          <a:xfrm>
            <a:off x="5076720" y="333360"/>
            <a:ext cx="3719520" cy="4967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r4"/>
          <p:cNvPicPr/>
          <p:nvPr/>
        </p:nvPicPr>
        <p:blipFill>
          <a:blip r:embed="rId4"/>
          <a:stretch/>
        </p:blipFill>
        <p:spPr>
          <a:xfrm rot="16200000">
            <a:off x="4214520" y="745740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10916E-006 L 0.00017 -1.2685 E">
                                      <p:cBhvr>
                                        <p:cTn id="36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8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косм корабль на орбит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r4"/>
          <p:cNvPicPr/>
          <p:nvPr/>
        </p:nvPicPr>
        <p:blipFill>
          <a:blip r:embed="rId2"/>
          <a:stretch/>
        </p:blipFill>
        <p:spPr>
          <a:xfrm>
            <a:off x="-1428840" y="184464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835280" y="40464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смический корабль на орбите 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орбитальная станция мир"/>
          <p:cNvPicPr/>
          <p:nvPr/>
        </p:nvPicPr>
        <p:blipFill>
          <a:blip r:embed="rId3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2124000" y="609300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битальная станция «Мир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416" dur="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кабина2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716360" y="26028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- герметизированная кабина космонав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кабина"/>
          <p:cNvPicPr/>
          <p:nvPr/>
        </p:nvPicPr>
        <p:blipFill>
          <a:blip r:embed="rId2"/>
          <a:stretch/>
        </p:blipFill>
        <p:spPr>
          <a:xfrm>
            <a:off x="4067280" y="1484280"/>
            <a:ext cx="5076720" cy="3379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kosmonavt"/>
          <p:cNvPicPr/>
          <p:nvPr/>
        </p:nvPicPr>
        <p:blipFill>
          <a:blip r:embed="rId3"/>
          <a:stretch/>
        </p:blipFill>
        <p:spPr>
          <a:xfrm>
            <a:off x="4140360" y="5300640"/>
            <a:ext cx="952200" cy="1333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5219640" y="508464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юда космонавты управляют кораблем, связываются с Землей по радио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питание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324000" y="4365720"/>
            <a:ext cx="43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осмическом корабле продукты питания хранятся в тубах. Они похожи на тюбики с зубной пастой, только размером побольше. Из них еду выдавливают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kosmonavt"/>
          <p:cNvPicPr/>
          <p:nvPr/>
        </p:nvPicPr>
        <p:blipFill>
          <a:blip r:embed="rId2"/>
          <a:stretch/>
        </p:blipFill>
        <p:spPr>
          <a:xfrm>
            <a:off x="0" y="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орбитальный отсек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292720" y="260280"/>
            <a:ext cx="360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орабле «Союз» есть и другой жилой отсек. Он называется орбитальным. Из своей кабины космонавты попадают в него через люк-лаз. Здесь космонавты отдыхают, проводят научные эксперименты. Через орбитальный отсек космонавты могут выйти в открытый косм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kosmonavt"/>
          <p:cNvPicPr/>
          <p:nvPr/>
        </p:nvPicPr>
        <p:blipFill>
          <a:blip r:embed="rId2"/>
          <a:stretch/>
        </p:blipFill>
        <p:spPr>
          <a:xfrm>
            <a:off x="5435640" y="552456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52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692360" y="6165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битальный отс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771640" y="551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ной лю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059280" y="4869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для отдых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995640" y="4005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бина космонав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50920" y="170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ее место космонав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6622920" y="189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орно-агрегатный отс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5580000" y="5589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ые батаре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6" descr="kosmonavt"/>
          <p:cNvPicPr/>
          <p:nvPr/>
        </p:nvPicPr>
        <p:blipFill>
          <a:blip r:embed="rId2"/>
          <a:stretch/>
        </p:blipFill>
        <p:spPr>
          <a:xfrm>
            <a:off x="179280" y="537372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центр управления"/>
          <p:cNvPicPr/>
          <p:nvPr/>
        </p:nvPicPr>
        <p:blipFill>
          <a:blip r:embed="rId1"/>
          <a:stretch/>
        </p:blipFill>
        <p:spPr>
          <a:xfrm>
            <a:off x="0" y="0"/>
            <a:ext cx="9325080" cy="5987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0" y="602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освободить космонавтов от лишней работы, кораблем иногда управляют по радио с Земли из Центра управления полет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приземление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3419640" y="692280"/>
            <a:ext cx="57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битальный отсек и отсек с приборами сгорают в атмосфере. Герметичный отсек с космонавтами продолжает спуск к Земле. На высоте нескольких километров от Земли раскрывается парашют. Таким образом, завершается полет в косм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6" descr="kosmonavt"/>
          <p:cNvPicPr/>
          <p:nvPr/>
        </p:nvPicPr>
        <p:blipFill>
          <a:blip r:embed="rId2"/>
          <a:stretch/>
        </p:blipFill>
        <p:spPr>
          <a:xfrm>
            <a:off x="179280" y="537372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звезды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2700360" y="2708280"/>
            <a:ext cx="38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бесчисленной отар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чью шел пастух усталы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когда пропел петух –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рылись овцы и пасту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843280" y="2708280"/>
            <a:ext cx="3311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агаю всем загадк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подумайте, ребятки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подайте мне отве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осмический секр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843280" y="2781360"/>
            <a:ext cx="352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не летчик, не пило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ведет не самоле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огромную ракету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и, кто, скажите, эт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1_1"/>
          <p:cNvPicPr/>
          <p:nvPr/>
        </p:nvPicPr>
        <p:blipFill>
          <a:blip r:embed="rId2"/>
          <a:stretch/>
        </p:blipFill>
        <p:spPr>
          <a:xfrm>
            <a:off x="2340000" y="692280"/>
            <a:ext cx="4395600" cy="5445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2843280" y="263700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ыльев нет у этой птицы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нельзя не подивиться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шь распустит птица хвост -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поднимется до звезд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12" descr="ракета"/>
          <p:cNvPicPr/>
          <p:nvPr/>
        </p:nvPicPr>
        <p:blipFill>
          <a:blip r:embed="rId3"/>
          <a:stretch/>
        </p:blipFill>
        <p:spPr>
          <a:xfrm>
            <a:off x="2700360" y="1484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3"/>
          <p:cNvSpPr/>
          <p:nvPr/>
        </p:nvSpPr>
        <p:spPr>
          <a:xfrm>
            <a:off x="2700360" y="270828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голубой станиц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вица краснолиц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чью ей не спится –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зеркало гляди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5" descr="лунаjpg"/>
          <p:cNvPicPr/>
          <p:nvPr/>
        </p:nvPicPr>
        <p:blipFill>
          <a:blip r:embed="rId4"/>
          <a:stretch/>
        </p:blipFill>
        <p:spPr>
          <a:xfrm>
            <a:off x="2268360" y="1557360"/>
            <a:ext cx="4326120" cy="4325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месяц"/>
          <p:cNvPicPr/>
          <p:nvPr/>
        </p:nvPicPr>
        <p:blipFill>
          <a:blip r:embed="rId5"/>
          <a:stretch/>
        </p:blipFill>
        <p:spPr>
          <a:xfrm>
            <a:off x="2268360" y="549360"/>
            <a:ext cx="4499280" cy="57085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7"/>
          <p:cNvSpPr/>
          <p:nvPr/>
        </p:nvSpPr>
        <p:spPr>
          <a:xfrm>
            <a:off x="2771640" y="306864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ры небо прожигаю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до нас не долет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8" descr="метеорит"/>
          <p:cNvPicPr/>
          <p:nvPr/>
        </p:nvPicPr>
        <p:blipFill>
          <a:blip r:embed="rId6"/>
          <a:stretch/>
        </p:blipFill>
        <p:spPr>
          <a:xfrm>
            <a:off x="684360" y="1628640"/>
            <a:ext cx="7654680" cy="3729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9"/>
          <p:cNvSpPr/>
          <p:nvPr/>
        </p:nvSpPr>
        <p:spPr>
          <a:xfrm>
            <a:off x="2843280" y="2708280"/>
            <a:ext cx="35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небу ходи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ляр без кисте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кой коричнев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ит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20" descr="солнце1"/>
          <p:cNvPicPr/>
          <p:nvPr/>
        </p:nvPicPr>
        <p:blipFill>
          <a:blip r:embed="rId7"/>
          <a:stretch/>
        </p:blipFill>
        <p:spPr>
          <a:xfrm>
            <a:off x="1763640" y="1413000"/>
            <a:ext cx="5595840" cy="4197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1" descr="zvezdochet1"/>
          <p:cNvPicPr/>
          <p:nvPr/>
        </p:nvPicPr>
        <p:blipFill>
          <a:blip r:embed="rId8"/>
          <a:stretch/>
        </p:blipFill>
        <p:spPr>
          <a:xfrm>
            <a:off x="250920" y="5300640"/>
            <a:ext cx="1154160" cy="1557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1" dur="1" fill="hold"/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3" descr="вид на землю из космоса2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0"/>
          <p:cNvSpPr/>
          <p:nvPr/>
        </p:nvSpPr>
        <p:spPr>
          <a:xfrm>
            <a:off x="468360" y="333360"/>
            <a:ext cx="2590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см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конеч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тран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кр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6" descr="солнце"/>
          <p:cNvPicPr/>
          <p:nvPr/>
        </p:nvPicPr>
        <p:blipFill>
          <a:blip r:embed="rId3"/>
          <a:stretch/>
        </p:blipFill>
        <p:spPr>
          <a:xfrm>
            <a:off x="0" y="0"/>
            <a:ext cx="9396360" cy="704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8" descr="звезды_слово"/>
          <p:cNvPicPr/>
          <p:nvPr/>
        </p:nvPicPr>
        <p:blipFill>
          <a:blip r:embed="rId4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0" descr="планеты_сл"/>
          <p:cNvPicPr/>
          <p:nvPr/>
        </p:nvPicPr>
        <p:blipFill>
          <a:blip r:embed="rId5"/>
          <a:stretch/>
        </p:blipFill>
        <p:spPr>
          <a:xfrm>
            <a:off x="0" y="0"/>
            <a:ext cx="9396360" cy="7048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уна"/>
          <p:cNvPicPr/>
          <p:nvPr/>
        </p:nvPicPr>
        <p:blipFill>
          <a:blip r:embed="rId6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7"/>
          <p:cNvSpPr/>
          <p:nvPr/>
        </p:nvSpPr>
        <p:spPr>
          <a:xfrm>
            <a:off x="2484360" y="40464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осмосе наход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9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Kosmos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771640" y="90792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img1"/>
          <p:cNvPicPr/>
          <p:nvPr/>
        </p:nvPicPr>
        <p:blipFill>
          <a:blip r:embed="rId2"/>
          <a:stretch/>
        </p:blipFill>
        <p:spPr>
          <a:xfrm>
            <a:off x="2195640" y="0"/>
            <a:ext cx="5492520" cy="7029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2843280" y="335772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195640" y="18900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3564000" y="189000"/>
            <a:ext cx="863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284720" y="2060640"/>
            <a:ext cx="86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003640" y="76500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5651640" y="2060640"/>
            <a:ext cx="86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6227640" y="270828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5" descr="zvezdochet1"/>
          <p:cNvPicPr/>
          <p:nvPr/>
        </p:nvPicPr>
        <p:blipFill>
          <a:blip r:embed="rId3"/>
          <a:stretch/>
        </p:blipFill>
        <p:spPr>
          <a:xfrm>
            <a:off x="250920" y="5300640"/>
            <a:ext cx="1154160" cy="1557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7"/>
          <p:cNvSpPr/>
          <p:nvPr/>
        </p:nvSpPr>
        <p:spPr>
          <a:xfrm>
            <a:off x="7020000" y="33577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0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50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5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5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6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6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6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7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7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7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7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8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8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9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9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звез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324000" y="476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езда – это огромный, горячий, светящийся газовый шар. Звезды светятся сами и освещают планеты. Это очень большие небесные те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88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звезды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468360" y="1125360"/>
            <a:ext cx="8424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ёзды занимают в небе определенное полож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удобства люди условно делят небо на области – созвезд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вездия – это участки звёздного неба, которые носят имена мифических героев, животных или предметов, на которых они пох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06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больш и мал медвед"/>
          <p:cNvPicPr/>
          <p:nvPr/>
        </p:nvPicPr>
        <p:blipFill>
          <a:blip r:embed="rId1"/>
          <a:stretch/>
        </p:blipFill>
        <p:spPr>
          <a:xfrm>
            <a:off x="2930400" y="0"/>
            <a:ext cx="62136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324000" y="47628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6" descr="r4"/>
          <p:cNvPicPr/>
          <p:nvPr/>
        </p:nvPicPr>
        <p:blipFill>
          <a:blip r:embed="rId2"/>
          <a:stretch/>
        </p:blipFill>
        <p:spPr>
          <a:xfrm>
            <a:off x="-1428840" y="26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324000" y="260280"/>
            <a:ext cx="331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е известные созвездия – большая медведица,  малая медведица, дракон, лебедь, кассиопея и        12 созвездий зодиа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8" descr="большая медведица"/>
          <p:cNvPicPr/>
          <p:nvPr/>
        </p:nvPicPr>
        <p:blipFill>
          <a:blip r:embed="rId3"/>
          <a:stretch/>
        </p:blipFill>
        <p:spPr>
          <a:xfrm>
            <a:off x="3492360" y="4538520"/>
            <a:ext cx="2519640" cy="1913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малая медведица"/>
          <p:cNvPicPr/>
          <p:nvPr/>
        </p:nvPicPr>
        <p:blipFill>
          <a:blip r:embed="rId4"/>
          <a:stretch/>
        </p:blipFill>
        <p:spPr>
          <a:xfrm>
            <a:off x="4716360" y="3357720"/>
            <a:ext cx="2403720" cy="191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кассиопея"/>
          <p:cNvPicPr/>
          <p:nvPr/>
        </p:nvPicPr>
        <p:blipFill>
          <a:blip r:embed="rId5"/>
          <a:stretch/>
        </p:blipFill>
        <p:spPr>
          <a:xfrm>
            <a:off x="6588000" y="0"/>
            <a:ext cx="2232000" cy="198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дракон"/>
          <p:cNvPicPr/>
          <p:nvPr/>
        </p:nvPicPr>
        <p:blipFill>
          <a:blip r:embed="rId6"/>
          <a:stretch/>
        </p:blipFill>
        <p:spPr>
          <a:xfrm>
            <a:off x="3419640" y="836640"/>
            <a:ext cx="2520720" cy="2022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созвездие лебедя"/>
          <p:cNvPicPr/>
          <p:nvPr/>
        </p:nvPicPr>
        <p:blipFill>
          <a:blip r:embed="rId7"/>
          <a:stretch/>
        </p:blipFill>
        <p:spPr>
          <a:xfrm>
            <a:off x="6516720" y="2492280"/>
            <a:ext cx="2448000" cy="198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созвездия"/>
          <p:cNvPicPr/>
          <p:nvPr/>
        </p:nvPicPr>
        <p:blipFill>
          <a:blip r:embed="rId8"/>
          <a:stretch/>
        </p:blipFill>
        <p:spPr>
          <a:xfrm>
            <a:off x="2700360" y="3141720"/>
            <a:ext cx="6443640" cy="3486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zvezdochet1"/>
          <p:cNvPicPr/>
          <p:nvPr/>
        </p:nvPicPr>
        <p:blipFill>
          <a:blip r:embed="rId9"/>
          <a:stretch/>
        </p:blipFill>
        <p:spPr>
          <a:xfrm>
            <a:off x="1403280" y="5300640"/>
            <a:ext cx="693720" cy="9367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34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солнце-звезда"/>
          <p:cNvPicPr/>
          <p:nvPr/>
        </p:nvPicPr>
        <p:blipFill>
          <a:blip r:embed="rId1"/>
          <a:stretch/>
        </p:blipFill>
        <p:spPr>
          <a:xfrm>
            <a:off x="0" y="141120"/>
            <a:ext cx="7020000" cy="671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sun_2"/>
          <p:cNvPicPr/>
          <p:nvPr/>
        </p:nvPicPr>
        <p:blipFill>
          <a:blip r:embed="rId2"/>
          <a:stretch/>
        </p:blipFill>
        <p:spPr>
          <a:xfrm>
            <a:off x="7093080" y="189000"/>
            <a:ext cx="1763640" cy="1563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6804000" y="177336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020000" y="2276640"/>
            <a:ext cx="194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нце – это тоже звезда. Оно светит и освещает планет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солнечн система"/>
          <p:cNvPicPr/>
          <p:nvPr/>
        </p:nvPicPr>
        <p:blipFill>
          <a:blip r:embed="rId1"/>
          <a:stretch/>
        </p:blipFill>
        <p:spPr>
          <a:xfrm>
            <a:off x="0" y="0"/>
            <a:ext cx="9144000" cy="573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r4"/>
          <p:cNvPicPr/>
          <p:nvPr/>
        </p:nvPicPr>
        <p:blipFill>
          <a:blip r:embed="rId2"/>
          <a:stretch/>
        </p:blipFill>
        <p:spPr>
          <a:xfrm>
            <a:off x="-1428840" y="602136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250920" y="548496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анеты, как и звезды, имеют форму шара. Они постоянно движутся вокруг Солнца. Запомни названия планет Солнечной систем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292720" y="3645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516720" y="3500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7702560" y="3141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885080" y="2637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3203640" y="155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908000" y="1197000"/>
            <a:ext cx="14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1042920" y="98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395280" y="692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ту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0" y="333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у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12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земля"/>
          <p:cNvPicPr/>
          <p:nvPr/>
        </p:nvPicPr>
        <p:blipFill>
          <a:blip r:embed="rId1"/>
          <a:stretch/>
        </p:blipFill>
        <p:spPr>
          <a:xfrm>
            <a:off x="2124000" y="404640"/>
            <a:ext cx="4694400" cy="4753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79280" y="4869000"/>
            <a:ext cx="8785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я – планета. Она отличается от всех остальных планет тем, что только на ней есть жиз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я освещается Солнцем. Когда на освещенной стороне Земли день, на другой стороне – ноч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6" descr="r4"/>
          <p:cNvPicPr/>
          <p:nvPr/>
        </p:nvPicPr>
        <p:blipFill>
          <a:blip r:embed="rId2"/>
          <a:stretch/>
        </p:blipFill>
        <p:spPr>
          <a:xfrm>
            <a:off x="-1428840" y="3284640"/>
            <a:ext cx="1428840" cy="57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86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8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земля и луна"/>
          <p:cNvPicPr/>
          <p:nvPr/>
        </p:nvPicPr>
        <p:blipFill>
          <a:blip r:embed="rId1"/>
          <a:stretch/>
        </p:blipFill>
        <p:spPr>
          <a:xfrm>
            <a:off x="395280" y="333360"/>
            <a:ext cx="6572160" cy="4599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611280" y="530064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на - спутник Земли и движется вокруг н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аметр луны почти в 4 раза меньше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r4"/>
          <p:cNvPicPr/>
          <p:nvPr/>
        </p:nvPicPr>
        <p:blipFill>
          <a:blip r:embed="rId2"/>
          <a:stretch/>
        </p:blipFill>
        <p:spPr>
          <a:xfrm>
            <a:off x="-1428840" y="256536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313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2:31:40Z</dcterms:created>
  <dc:creator>Светлана</dc:creator>
  <dc:description/>
  <dc:language>en-US</dc:language>
  <cp:lastModifiedBy>LEGION</cp:lastModifiedBy>
  <dcterms:modified xsi:type="dcterms:W3CDTF">2015-01-12T09:31:09Z</dcterms:modified>
  <cp:revision>7</cp:revision>
  <dc:subject/>
  <dc:title>Слайд 1</dc:title>
</cp:coreProperties>
</file>