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5893-0196-405B-9BB3-18FC47563E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21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E06B-B1E0-40F3-A519-9512080EAC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ками разной величины на карте показ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от ярчайших до менее заме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звезда имеет своё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яркие из них – Полярная звез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D43E-BC3C-4C0E-8CA6-EBB78CE19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1-ый абзац на стр. 31 и отв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D490-86E1-44DE-91B2-CB27FDEE76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Кассиоп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0DF7-848B-4342-8473-D3A0902EB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W» [дабл ю] к ЦЕФЕЮ близ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 «woman» по-англий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жена царя ЦЕФ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да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АССИОП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7949-28D9-407E-B52A-471756826C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Ор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4BFA-F322-45A3-815E-EDB4CDAD2F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оясавшись поту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хоты снаряж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И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звезды из высшей л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ИОНЕ - это РИГ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 нижнем угол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но бант на башма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евом эполет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ЕЛЬГЕЙЗЕ ярко свет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звезды наиско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ашают поя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C007-3CA1-4CD3-90E5-EC1CC68EAF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Леб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952A-9A93-4ACB-98ED-DE3B97A9C0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ЦЕФЕЕМ и ЛИ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ья раскинув над ми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ЕБЕД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спеш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ит в высо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о сверк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Б на хв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ю но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лечном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Кр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райся найт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31BF-6BCE-4A6C-ACEA-97969E2FF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по Зодиа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7FB-CF4A-4325-B0AC-7E60D95710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ёмному небу рассыпан горош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ной карамели из сахарной кро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тогда, когда утро настан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арамель та внезапно 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50A0-4FF8-4109-965A-D3AEA568C2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одиа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сего созвездий в Зодиа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«гостит» солнце у каждого созвезд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го созвездия принято начинать путешествие по Зодиа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0E09-2FC9-45E8-910C-A96AEBAB65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1103-C7DB-49CE-B40B-51B5BBF4E5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анова Окса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ОУ «Гимназия №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. Великого Нов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0556-8CE8-40C1-BCEA-0557B8ECA8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- Что вы знаете о звёзд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7CF8-DC14-40ED-B04D-7466A1C0D1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B48A-29DB-4393-AB04-ED8047D77C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горячие звёзды  голу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94ED-F827-4AC9-99C1-1A28DCBB59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ABF9-E002-4B81-BE64-35BDFF3D6A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…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одна из звёз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0D03-1463-46E8-BEC4-4053C2F45E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ен мощный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46D3-3833-486F-9D21-8545BB32AA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ный дядя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807A-F439-4C4D-81C4-E53909A4C9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FFE-517C-4B92-833D-A0E3A17A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025-1740-4973-B9CB-27077BC8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181-AF85-4A49-BAEB-5876AEB4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7FA-E649-4E8C-A716-D43FE3FC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CBCF-43A1-4D16-95BF-480D98A3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0B7E-7FCB-4C7A-B1F4-B3AF1E62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3280-9484-4A20-BD66-3EBDFE63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61EF-3F5B-4215-A1FA-2F428005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93FF-9245-47AF-9057-FA6E8555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AD34-094B-44D5-82CA-EED31445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7FCF-EF38-4288-A1C4-7A736E1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EC3-8E12-43A9-8381-46B3D03B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FA65-F9AC-4040-8369-C1333125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61D4-673A-47C9-9F45-8572BC41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00A8-2CBB-4050-BC40-13378562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1D68-A833-4E71-B4AC-45B30FC5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8047-65A9-48D2-926D-CB58FD98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C9D-BF3C-40FA-85CC-3052CDE3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C5A-1BE0-4880-AB7A-CA5EAA1E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572-6D12-4C2F-BB95-75747401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C52-5088-46A4-BF4F-FFA39AE3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5D7-EA8C-4CA9-A4D6-9E5360E5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10C-E83A-4594-9F61-B5195FC5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B93-1B15-42B8-9AB6-F9F95E3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C7E8-5101-4BB4-879A-770303F2B9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823F-F781-4339-A154-C6C9227DF5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20000" y="206064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96b04db3307a94bbec3db7ee0fadce4"/>
          <p:cNvPicPr/>
          <p:nvPr/>
        </p:nvPicPr>
        <p:blipFill>
          <a:blip r:embed="rId1"/>
          <a:stretch/>
        </p:blipFill>
        <p:spPr>
          <a:xfrm>
            <a:off x="179280" y="3933720"/>
            <a:ext cx="3060720" cy="27306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4320720"/>
            <a:ext cx="8713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ками разной величины на карте показ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ёзды от ярчайших до менее заме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звезда имеет своё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яркие из них – Полярная звез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г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8410907_sever_skymap"/>
          <p:cNvPicPr/>
          <p:nvPr/>
        </p:nvPicPr>
        <p:blipFill>
          <a:blip r:embed="rId1"/>
          <a:stretch/>
        </p:blipFill>
        <p:spPr>
          <a:xfrm>
            <a:off x="2411280" y="260280"/>
            <a:ext cx="4762800" cy="3962520"/>
          </a:xfrm>
          <a:prstGeom prst="rect">
            <a:avLst/>
          </a:prstGeom>
          <a:ln w="0">
            <a:noFill/>
          </a:ln>
        </p:spPr>
      </p:pic>
      <p:sp>
        <p:nvSpPr>
          <p:cNvPr id="171" name="Line 5"/>
          <p:cNvSpPr/>
          <p:nvPr/>
        </p:nvSpPr>
        <p:spPr>
          <a:xfrm flipH="1" flipV="1">
            <a:off x="5003280" y="2491920"/>
            <a:ext cx="273708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6804000" y="691920"/>
            <a:ext cx="172872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1-ый абзац на стр. 31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65200" y="3716280"/>
            <a:ext cx="79639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– это группа наиболее яр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тных на тёмном небе звё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88160" y="5130720"/>
            <a:ext cx="76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 какими созвездиями 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познакомились в 1 кла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48414444_volopas"/>
          <p:cNvPicPr/>
          <p:nvPr/>
        </p:nvPicPr>
        <p:blipFill>
          <a:blip r:embed="rId1"/>
          <a:stretch/>
        </p:blipFill>
        <p:spPr>
          <a:xfrm>
            <a:off x="3059280" y="260280"/>
            <a:ext cx="5736960" cy="478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48405365_lev"/>
          <p:cNvPicPr/>
          <p:nvPr/>
        </p:nvPicPr>
        <p:blipFill>
          <a:blip r:embed="rId2"/>
          <a:stretch/>
        </p:blipFill>
        <p:spPr>
          <a:xfrm>
            <a:off x="179280" y="1773360"/>
            <a:ext cx="5399280" cy="453528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 flipV="1">
            <a:off x="3492360" y="573408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V="1">
            <a:off x="7667640" y="2133360"/>
            <a:ext cx="0" cy="316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Кассиоп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7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489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2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92000" y="4508640"/>
            <a:ext cx="5986440" cy="20476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W» [дабл ю] к ЦЕФЕЮ бл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woman» по-англий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жена царя ЦЕ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а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ССИОП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7"/>
          <p:cNvPicPr/>
          <p:nvPr/>
        </p:nvPicPr>
        <p:blipFill>
          <a:blip r:embed="rId1"/>
          <a:stretch/>
        </p:blipFill>
        <p:spPr>
          <a:xfrm>
            <a:off x="2124000" y="404640"/>
            <a:ext cx="4969080" cy="3778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Ор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6"/>
          <p:cNvPicPr/>
          <p:nvPr/>
        </p:nvPicPr>
        <p:blipFill>
          <a:blip r:embed="rId1"/>
          <a:stretch/>
        </p:blipFill>
        <p:spPr>
          <a:xfrm>
            <a:off x="1476360" y="14130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3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6"/>
          <p:cNvPicPr/>
          <p:nvPr/>
        </p:nvPicPr>
        <p:blipFill>
          <a:blip r:embed="rId1"/>
          <a:stretch/>
        </p:blipFill>
        <p:spPr>
          <a:xfrm>
            <a:off x="4859280" y="90792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24000" y="907920"/>
            <a:ext cx="4248000" cy="48488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ясавшись пот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снаря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И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звезды из высшей л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РИОНЕ - это РИ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м нижнем угол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бант на башм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левом эполет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ЕЛЬГЕЙЗЕ ярко св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везды наиск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шают поя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4"/>
          <p:cNvPicPr/>
          <p:nvPr/>
        </p:nvPicPr>
        <p:blipFill>
          <a:blip r:embed="rId1"/>
          <a:stretch/>
        </p:blipFill>
        <p:spPr>
          <a:xfrm>
            <a:off x="1403280" y="1341360"/>
            <a:ext cx="6031080" cy="451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4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464000" cy="4064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0" y="1052640"/>
            <a:ext cx="4392720" cy="41173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ЦЕФЕЕМ и ЛИ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раскинув над ми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ЕБ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ит в высо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 свер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Б на хво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ю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леч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Кр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ся на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по Зоди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7775640" cy="4205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20400" y="602136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в учебнике на стр.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7160" cy="254952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ёмному небу рассыпан горо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амели из сахарной кро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олько тогда, когда утро наста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карамель та внезапно рас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7080" y="5373720"/>
            <a:ext cx="21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7280" y="126792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Зоди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озвездий в Зодиа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«гостит» солнце у каждого созвез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созвездия принято начинать путешествие по Зодиа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6"/>
          <p:cNvPicPr/>
          <p:nvPr/>
        </p:nvPicPr>
        <p:blipFill>
          <a:blip r:embed="rId1"/>
          <a:stretch/>
        </p:blipFill>
        <p:spPr>
          <a:xfrm>
            <a:off x="250920" y="1773360"/>
            <a:ext cx="3676680" cy="380988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анова Окса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ОУ «Гимназия №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. Великого Нов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4360" y="580536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- Что вы знаете о звёзд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6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4821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"/>
          <p:cNvPicPr/>
          <p:nvPr/>
        </p:nvPicPr>
        <p:blipFill>
          <a:blip r:embed="rId1"/>
          <a:stretch/>
        </p:blipFill>
        <p:spPr>
          <a:xfrm>
            <a:off x="2916360" y="4365720"/>
            <a:ext cx="3311280" cy="2384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орячие звёзды  голуб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а, другие, менее горячие – 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2005-0322cluster-full"/>
          <p:cNvPicPr/>
          <p:nvPr/>
        </p:nvPicPr>
        <p:blipFill>
          <a:blip r:embed="rId1"/>
          <a:stretch/>
        </p:blipFill>
        <p:spPr>
          <a:xfrm>
            <a:off x="1979640" y="1557360"/>
            <a:ext cx="4979880" cy="49291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 flipV="1">
            <a:off x="4067280" y="1052280"/>
            <a:ext cx="1655640" cy="36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776160" y="1125360"/>
            <a:ext cx="314172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1692360" y="5300640"/>
            <a:ext cx="1512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512160" y="5013360"/>
            <a:ext cx="326844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ц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me-x-class-26oct03"/>
          <p:cNvPicPr/>
          <p:nvPr/>
        </p:nvPicPr>
        <p:blipFill>
          <a:blip r:embed="rId1"/>
          <a:stretch/>
        </p:blipFill>
        <p:spPr>
          <a:xfrm>
            <a:off x="1979640" y="1484280"/>
            <a:ext cx="4716360" cy="471636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55" name="Text Box 6"/>
          <p:cNvSpPr/>
          <p:nvPr/>
        </p:nvSpPr>
        <p:spPr>
          <a:xfrm>
            <a:off x="4788000" y="43488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дна из звё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ен мощ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63640" y="2781360"/>
            <a:ext cx="5040360" cy="3779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 дяд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аст"/>
          <p:cNvPicPr/>
          <p:nvPr/>
        </p:nvPicPr>
        <p:blipFill>
          <a:blip r:embed="rId1"/>
          <a:stretch/>
        </p:blipFill>
        <p:spPr>
          <a:xfrm>
            <a:off x="395280" y="3357720"/>
            <a:ext cx="3384720" cy="331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09:32:10Z</dcterms:modified>
  <cp:revision>7</cp:revision>
  <dc:subject/>
  <dc:title>Слайд 1</dc:title>
</cp:coreProperties>
</file>