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8017-AD02-4F42-819E-485181FADF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3836-017B-4A8E-98EB-E024ED339E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ками разной величины на карте показ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от ярчайших до менее заме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звезда имеет своё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яркие из них – Полярная звез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1A00-D6C7-4DC5-BEC0-053B09125A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1-ый абзац на стр. 31 и отв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4AB5-25A3-45C3-B235-3B8B243F34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Кассиоп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23C1-C367-4FB8-A99F-DAF688B0A1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W» [дабл ю] к ЦЕФЕЮ близ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 «woman» по-англий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на царя ЦЕФ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да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АССИОП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12F6-5BA4-447B-9317-293C882A3F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Ор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28F4-F56A-44A9-8356-8395C1BD78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оясавшись поту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хоты снаряж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И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звезды из высшей л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ИОНЕ - это РИГ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 нижнем угол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бант на башма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евом эполет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ЕЛЬГЕЙЗЕ ярко свет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звезды наиско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ашают поя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0011-84C8-4E2D-A7BF-6BF92CFDB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Леб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284C-A135-4C93-AB05-AE070CB514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ЦЕФЕЕМ и ЛИ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ья раскинув над ми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ЕБЕД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спеш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ит в высо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о сверк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Б на хв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ю но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лечном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Кр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райся найт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169F-411D-482C-8639-186F10EA97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по Зодиа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967-4451-4541-AC48-BD60AB5DEF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ёмному небу рассыпан горош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ной карамели из сахарной кро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тогда, когда утро настан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арамель та внезапно 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E1A7-87F2-47CD-A1A1-AFBDF3376B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одиа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сего созвездий в Зодиа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«гостит» солнце у каждого созвезд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го созвездия принято начинать путешествие по Зодиа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0FFD-8EAE-4D41-8C31-3A22233B98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1AF-B352-4CA1-AC37-061702337C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анова Окса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ОУ «Гимназия №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. Великого Нов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6399-D4C6-492B-9155-73CEBB8A4A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- Что вы знаете о звёзд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553-7FEC-48C6-987A-F65D070CF3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A956-4E3B-4E1F-B9FE-C8EF0C54F9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горячие звёзды  голу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D504-830B-42D4-8131-FB4AE01FDA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243A-5F27-487D-AE6B-9026CB4103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…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одна из звёз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5F76-68AA-4246-B728-F3286EFDB2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мощный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7AFF-FDA6-426F-9259-00B884DD2C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ный дядя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61FB-0149-45E0-B1D6-0092E259B2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50A-B30C-4F2B-8F37-DD16B302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C46-F754-4467-A58B-4AE62E99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3F9-CF63-4ED4-8B8E-94193654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62E-A5CA-47F4-A764-875107A1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B8F5-14FE-4A59-9DA4-77B995ED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640D-26BB-4784-A1C8-D6E7C976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0345-8D9A-4292-AD14-83EF652A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6AAF-C681-42B5-AE17-FB36F8D4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2372-C251-41B3-B5BB-2568A01C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E946-ACA9-45D9-A4BE-475CAED5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62FC-A732-4A50-95C5-9F3E912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C15-BC7B-4C6B-AF0E-8B8FBF9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83A0-ED24-41E4-89FA-59E1486F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5B7E-E5AC-4E01-9C09-4656AA88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C446-6268-4B0F-B16A-771FF989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EAEB-982C-411C-8297-AC91F053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F860-C398-489F-90AF-C8C9AFCF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5A3-0A15-4167-B43F-E4FA0E27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05D-5333-41A2-A38C-4AF1578B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EAC-8151-4CAC-BCF7-7C0EE1D7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BAC-CE44-490D-A2FF-31467D34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F83-97CD-4B71-B1B0-52040A1E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45E-57DE-462F-A8C4-CEFEE374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749-D753-4CC1-AA37-88637AF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0AC8-0D22-4D07-8AAA-6C34B9FC3E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5B30-F561-4F77-969D-B8255B8CC6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нова Окса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ОУ «Гимназия №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Великого Нов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55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09:32:10Z</dcterms:modified>
  <cp:revision>7</cp:revision>
  <dc:subject/>
  <dc:title>Слайд 1</dc:title>
</cp:coreProperties>
</file>