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18.gif" ContentType="image/gif"/>
  <Override PartName="/ppt/media/image17.gif" ContentType="image/gif"/>
  <Override PartName="/ppt/media/image16.gif" ContentType="image/gif"/>
  <Override PartName="/ppt/media/image1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1BC6-6DC8-4D0D-84FB-7EF7C76616A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slide" Target="../slides/slide21.xml"/><Relationship Id="rId4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E48D-AA53-4FF5-B156-5BE433407D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ками разной величины на карте показ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от ярчайших до менее заме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звезда имеет своё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яркие из них – Полярная звез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г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3FA7-4524-459C-BD02-6DED21106E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учебн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 1-ый абзац на стр. 31 и отв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Monotype Corsiva"/>
              </a:rPr>
              <a:t>Что такое созвезди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297B-A5F9-45E9-80CF-723E27BEE7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Кассиоп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A8EC-21AD-4835-86FB-565B9AF9A7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W» [дабл ю] к ЦЕФЕЮ близ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 «woman» по-англий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жена царя ЦЕФ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дая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АССИОПЕ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E7EC-3A56-469A-BADD-C688CA6ADF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Ори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8880-769E-41B3-B6C6-5342CF9124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оясавшись потуж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хоты снаряжё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РИ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звезды из высшей л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РИОНЕ - это РИГ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авом нижнем угол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но бант на башма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левом эполете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ЕЛЬГЕЙЗЕ ярко свет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звезды наиско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ашают поя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DE7F-8F47-4BF3-B255-B56668769F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Леб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5B03-8327-4047-BD68-71AB79FF55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ЦЕФЕЕМ и ЛИР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ылья раскинув над мир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ЛЕБЕД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спеш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ит в высо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ко сверк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Б на хво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ю ноч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лечном Пу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ый Кре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райся найт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EA66-CE35-4D32-A78A-773DF803F2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по Зодиа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2389-75F3-496D-80D7-06D7144567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ёмному небу рассыпан горош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ной карамели из сахарной крош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олько тогда, когда утро настан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карамель та внезапно раст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14A5-08C9-4CDB-9844-FE61349579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Зодиа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сего созвездий в Зодиа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«гостит» солнце у каждого созвезд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го созвездия принято начинать путешествие по Зодиа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DD04-B71B-45B8-8235-A820CCDFAF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unhome.ru/prose/15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onbass.ua/news/technology/space/2009/08/06/zvezda-pljuetsja-v-nebo-fot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nhome.ru/tags/publications/звезды+гиг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is.3dn.ru/load/31-3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strogalaxy.ru/736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karaoke.ru/user/Nektok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dfon.ru/wallpaper/43024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http://sovestilizator.bestpersons.ru/feed/post8413951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laneta.rambler.ru/community/astrologica/47938398.html?parent_id=4794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899C-F18A-4562-A96C-B6F6A2972D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анова Оксана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ОУ «Гимназия №4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. Великого Нов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87A9-8944-4B60-9B31-B33979914D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Monotype Corsiva"/>
              </a:rPr>
              <a:t>- Что вы знаете о звёзд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6F7A-C417-46EC-A659-A4886BEDF8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звёзд очень разнообразен. В безоблачный ясный вечер небо над вашей головой усыпано множеством звёзд. Они кажутся маленькими сверкающими точками, потому что находятся очень далеко от Земли. В действительности каждая звезда – это огромный светящийся раскалённый ш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1626-FC99-4EFD-AF6C-607F69D897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горячие звёзды  голуб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а, другие, менее горячие – крас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971D-97DA-4BA1-AC57-645F158857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звёзды – гиганты, а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– кар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E046-8E69-4FA4-8C39-558D3510D4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 – это…</a:t>
            </a: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одна из звёз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6634-8B0C-4750-A2E9-82A1FA00D4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глаз воору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о звездами друж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ечный путь увидеть чт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ен мощный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075D-913F-4D49-BE73-8521E4DA10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скопом сотни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т жизнь пла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 расскажет обо вс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ный дядя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6A21-20CB-4DAF-94C7-F123C577CF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118-AF55-4272-938B-F3F481E1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0345-46AD-49B9-9C3B-305D156A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236-2C25-4B66-AFA7-D8DCFA43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AEF2-3A24-455B-8B58-7BDBC853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9142-59C2-48B3-A65E-B9DFF775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7216-7077-4155-B4FD-A37273CD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C3D9-5355-4061-9E3A-AD03750D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F7B4-8E2A-437F-819A-3ECFCB8F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0663-3830-4453-A5A1-7E1F52CC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2AE8-F88B-4AA3-9861-4C41B3B1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4439-E025-41BE-8B1B-C6CAA192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BE9-31F6-4342-9131-EBE4581D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C42E-1C94-4EE6-B891-8D2EFDC7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892F-309B-4FAE-ACCC-E95DF515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6CF5-6CF2-41A0-B4C5-00537E01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9481-0628-490D-A220-95FFB8E5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9185-688E-451D-BB45-C8786779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9690-F1F1-4AB6-87D1-E302847B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8CF-7941-4569-9686-6B83C4B1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8ED-78F5-4ACB-9C8F-E3C4FF98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502-1D75-443F-9E57-B79C9FE8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7F7-F6EE-4B3D-8B7A-E9E8BC91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AD5-3514-4E53-A788-E49F25EC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50E1-A692-415F-A593-6261AED5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A141-E89A-49C0-8F32-D8EA9EDF8E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3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4ED5-150B-438D-9906-A73C2F6D95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hyperlink" Target="http://www.sunhome.ru/tags/publications/&#1079;&#1074;&#1077;&#1079;&#1076;&#1099;+&#1075;&#1080;&#1075;&#1072;&#1085;&#1090;&#1099;" TargetMode="External"/><Relationship Id="rId4" Type="http://schemas.openxmlformats.org/officeDocument/2006/relationships/hyperlink" Target="http://sis.3dn.ru/load/31-3-2" TargetMode="External"/><Relationship Id="rId5" Type="http://schemas.openxmlformats.org/officeDocument/2006/relationships/hyperlink" Target="http://www.astrogalaxy.ru/736.html" TargetMode="External"/><Relationship Id="rId6" Type="http://schemas.openxmlformats.org/officeDocument/2006/relationships/hyperlink" Target="http://www.karaoke.ru/user/Nektokto" TargetMode="External"/><Relationship Id="rId7" Type="http://schemas.openxmlformats.org/officeDocument/2006/relationships/hyperlink" Target="http://www.goodfon.ru/wallpaper/43024.html" TargetMode="External"/><Relationship Id="rId8" Type="http://schemas.openxmlformats.org/officeDocument/2006/relationships/hyperlink" Target="http://sovestilizator.bestpersons.ru/feed/post8413951/" TargetMode="External"/><Relationship Id="rId9" Type="http://schemas.openxmlformats.org/officeDocument/2006/relationships/hyperlink" Target="http://planeta.rambler.ru/community/astrologica/47938398.html?parent_id=47941000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556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420000" y="2060640"/>
            <a:ext cx="404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ёздное не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96b04db3307a94bbec3db7ee0fadce4"/>
          <p:cNvPicPr/>
          <p:nvPr/>
        </p:nvPicPr>
        <p:blipFill>
          <a:blip r:embed="rId1"/>
          <a:stretch/>
        </p:blipFill>
        <p:spPr>
          <a:xfrm>
            <a:off x="179280" y="3933720"/>
            <a:ext cx="3060720" cy="27306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4320720"/>
            <a:ext cx="87138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ками разной величины на карте показ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ёзды от ярчайших до менее заме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звезда имеет своё наз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е яркие из них – Полярная звез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га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48410907_sever_skymap"/>
          <p:cNvPicPr/>
          <p:nvPr/>
        </p:nvPicPr>
        <p:blipFill>
          <a:blip r:embed="rId1"/>
          <a:stretch/>
        </p:blipFill>
        <p:spPr>
          <a:xfrm>
            <a:off x="2411280" y="260280"/>
            <a:ext cx="4762800" cy="3962520"/>
          </a:xfrm>
          <a:prstGeom prst="rect">
            <a:avLst/>
          </a:prstGeom>
          <a:ln w="0">
            <a:noFill/>
          </a:ln>
        </p:spPr>
      </p:pic>
      <p:sp>
        <p:nvSpPr>
          <p:cNvPr id="171" name="Line 5"/>
          <p:cNvSpPr/>
          <p:nvPr/>
        </p:nvSpPr>
        <p:spPr>
          <a:xfrm flipH="1" flipV="1">
            <a:off x="5003280" y="2491920"/>
            <a:ext cx="2737080" cy="1368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 flipH="1" flipV="1">
            <a:off x="6804000" y="691920"/>
            <a:ext cx="1728720" cy="8650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99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1-ый абзац на стр. 31 и отв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Что такое созвезд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65200" y="3716280"/>
            <a:ext cx="7963920" cy="1068840"/>
          </a:xfrm>
          <a:prstGeom prst="rect">
            <a:avLst/>
          </a:prstGeom>
          <a:solidFill>
            <a:srgbClr val="ffff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вездие – это группа наиболее ярки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тных на тёмном небе звёз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88160" y="5130720"/>
            <a:ext cx="761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С какими созвездиями м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познакомились в 1 класс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48414444_volopas"/>
          <p:cNvPicPr/>
          <p:nvPr/>
        </p:nvPicPr>
        <p:blipFill>
          <a:blip r:embed="rId1"/>
          <a:stretch/>
        </p:blipFill>
        <p:spPr>
          <a:xfrm>
            <a:off x="3059280" y="260280"/>
            <a:ext cx="5736960" cy="478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48405365_lev"/>
          <p:cNvPicPr/>
          <p:nvPr/>
        </p:nvPicPr>
        <p:blipFill>
          <a:blip r:embed="rId2"/>
          <a:stretch/>
        </p:blipFill>
        <p:spPr>
          <a:xfrm>
            <a:off x="179280" y="1773360"/>
            <a:ext cx="5399280" cy="4535280"/>
          </a:xfrm>
          <a:prstGeom prst="rect">
            <a:avLst/>
          </a:prstGeom>
          <a:ln w="0">
            <a:noFill/>
          </a:ln>
        </p:spPr>
      </p:pic>
      <p:sp>
        <p:nvSpPr>
          <p:cNvPr id="183" name="Line 6"/>
          <p:cNvSpPr/>
          <p:nvPr/>
        </p:nvSpPr>
        <p:spPr>
          <a:xfrm flipV="1">
            <a:off x="3492360" y="5734080"/>
            <a:ext cx="0" cy="1008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 flipV="1">
            <a:off x="7667640" y="2133360"/>
            <a:ext cx="0" cy="31669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Кассиоп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7"/>
          <p:cNvPicPr/>
          <p:nvPr/>
        </p:nvPicPr>
        <p:blipFill>
          <a:blip r:embed="rId1"/>
          <a:stretch/>
        </p:blipFill>
        <p:spPr>
          <a:xfrm>
            <a:off x="1619280" y="1413000"/>
            <a:ext cx="5905440" cy="44892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2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692000" y="4508640"/>
            <a:ext cx="5986440" cy="204768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W» [дабл ю] к ЦЕФЕЮ близ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 «woman» по-англий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жена царя ЦЕФ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да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АССИОПЕ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7"/>
          <p:cNvPicPr/>
          <p:nvPr/>
        </p:nvPicPr>
        <p:blipFill>
          <a:blip r:embed="rId1"/>
          <a:stretch/>
        </p:blipFill>
        <p:spPr>
          <a:xfrm>
            <a:off x="2124000" y="404640"/>
            <a:ext cx="4969080" cy="37785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Ори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6"/>
          <p:cNvPicPr/>
          <p:nvPr/>
        </p:nvPicPr>
        <p:blipFill>
          <a:blip r:embed="rId1"/>
          <a:stretch/>
        </p:blipFill>
        <p:spPr>
          <a:xfrm>
            <a:off x="1476360" y="1413000"/>
            <a:ext cx="6097680" cy="4573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3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6"/>
          <p:cNvPicPr/>
          <p:nvPr/>
        </p:nvPicPr>
        <p:blipFill>
          <a:blip r:embed="rId1"/>
          <a:stretch/>
        </p:blipFill>
        <p:spPr>
          <a:xfrm>
            <a:off x="4859280" y="907920"/>
            <a:ext cx="4033800" cy="43214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324000" y="907920"/>
            <a:ext cx="4248000" cy="484884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поясавшись поту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хоты снаряж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ает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РИ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 звезды из высшей л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РИОНЕ - это РИГ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авом нижнем угол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бант на башма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а левом эполет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ТЕЛЬГЕЙЗЕ ярко све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 звезды наиско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ашают поя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Леб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4"/>
          <p:cNvPicPr/>
          <p:nvPr/>
        </p:nvPicPr>
        <p:blipFill>
          <a:blip r:embed="rId1"/>
          <a:stretch/>
        </p:blipFill>
        <p:spPr>
          <a:xfrm>
            <a:off x="1403280" y="1341360"/>
            <a:ext cx="6031080" cy="45165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4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4"/>
          <p:cNvPicPr/>
          <p:nvPr/>
        </p:nvPicPr>
        <p:blipFill>
          <a:blip r:embed="rId1"/>
          <a:stretch/>
        </p:blipFill>
        <p:spPr>
          <a:xfrm>
            <a:off x="0" y="1197000"/>
            <a:ext cx="4464000" cy="40640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4572000" y="1052640"/>
            <a:ext cx="4392720" cy="411732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ЦЕФЕЕМ и ЛИР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ья раскинув над мир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ЛЕБ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спеш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ит в высо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о сверк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Б на хво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сною ноч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лечном П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верный Кре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йся най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ешествие по Зодиа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1"/>
          <p:cNvPicPr/>
          <p:nvPr/>
        </p:nvPicPr>
        <p:blipFill>
          <a:blip r:embed="rId1"/>
          <a:stretch/>
        </p:blipFill>
        <p:spPr>
          <a:xfrm>
            <a:off x="468360" y="1557360"/>
            <a:ext cx="7775640" cy="42051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320400" y="6021360"/>
            <a:ext cx="81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текст в учебнике на стр.32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147160" cy="254952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ёмному небу рассыпан горош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ной карамели из сахарной крош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только тогда, когда утро настан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 карамель та внезапно раст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277080" y="5373720"/>
            <a:ext cx="211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Звёз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67280" y="1267920"/>
            <a:ext cx="54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Зоди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сего созвездий в Зодиа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«гостит» солнце у каждого созвезд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ого созвездия принято начинать путешествие по Зодиа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6"/>
          <p:cNvPicPr/>
          <p:nvPr/>
        </p:nvPicPr>
        <p:blipFill>
          <a:blip r:embed="rId1"/>
          <a:stretch/>
        </p:blipFill>
        <p:spPr>
          <a:xfrm>
            <a:off x="250920" y="1773360"/>
            <a:ext cx="3676680" cy="3809880"/>
          </a:xfrm>
          <a:prstGeom prst="rect">
            <a:avLst/>
          </a:prstGeom>
          <a:ln w="57240">
            <a:solidFill>
              <a:srgbClr val="6699ff"/>
            </a:solidFill>
            <a:miter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home.ru/prose/153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onbass.ua/news/technology/space/2009/08/06/zvezda-pljuetsja-v-nebo-fot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nhome.ru/tags/publications/звезды+гиг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is.3dn.ru/load/3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strogalaxy.ru/736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araoke.ru/user/Nektok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oodfon.ru/wallpaper/43024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ovestilizator.bestpersons.ru/feed/post841395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planeta.rambler.ru/community/astrologica/47938398.html?parent_id=4794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анова Оксана Владими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АОУ «Гимназия №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. Великого Нов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4360" y="580536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Monotype Corsiva"/>
              </a:rPr>
              <a:t>- Что вы знаете о звёзда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6"/>
          <p:cNvPicPr/>
          <p:nvPr/>
        </p:nvPicPr>
        <p:blipFill>
          <a:blip r:embed="rId1"/>
          <a:stretch/>
        </p:blipFill>
        <p:spPr>
          <a:xfrm>
            <a:off x="900000" y="692280"/>
            <a:ext cx="7201080" cy="48211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звёзд очень разнообразен. В безоблачный ясный вечер небо над вашей головой усыпано множеством звёзд. Они кажутся маленькими сверкающими точками, потому что находятся очень далеко от Земли. В действительности каждая звезда – это огромный светящийся раскалённый ш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1"/>
          <p:cNvPicPr/>
          <p:nvPr/>
        </p:nvPicPr>
        <p:blipFill>
          <a:blip r:embed="rId1"/>
          <a:stretch/>
        </p:blipFill>
        <p:spPr>
          <a:xfrm>
            <a:off x="2916360" y="4365720"/>
            <a:ext cx="3311280" cy="2384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507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е горячие звёзды  голуб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а, другие, менее горячие – крас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2005-0322cluster-full"/>
          <p:cNvPicPr/>
          <p:nvPr/>
        </p:nvPicPr>
        <p:blipFill>
          <a:blip r:embed="rId1"/>
          <a:stretch/>
        </p:blipFill>
        <p:spPr>
          <a:xfrm>
            <a:off x="1979640" y="1557360"/>
            <a:ext cx="4979880" cy="492912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ть звёзды – гиганты, а 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ёзды – кар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2"/>
          <p:cNvPicPr/>
          <p:nvPr/>
        </p:nvPicPr>
        <p:blipFill>
          <a:blip r:embed="rId1"/>
          <a:stretch/>
        </p:blipFill>
        <p:spPr>
          <a:xfrm>
            <a:off x="5508720" y="333360"/>
            <a:ext cx="2879640" cy="2230560"/>
          </a:xfrm>
          <a:prstGeom prst="rect">
            <a:avLst/>
          </a:prstGeom>
          <a:ln w="0">
            <a:noFill/>
          </a:ln>
        </p:spPr>
      </p:pic>
      <p:sp>
        <p:nvSpPr>
          <p:cNvPr id="146" name="Line 5"/>
          <p:cNvSpPr/>
          <p:nvPr/>
        </p:nvSpPr>
        <p:spPr>
          <a:xfrm flipV="1">
            <a:off x="4067280" y="1052280"/>
            <a:ext cx="1655640" cy="360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5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776160" y="1125360"/>
            <a:ext cx="3141720" cy="64260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езда-гиг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 flipH="1">
            <a:off x="1692360" y="5300640"/>
            <a:ext cx="151272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512160" y="5013360"/>
            <a:ext cx="3268440" cy="64260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езда-кар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це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me-x-class-26oct03"/>
          <p:cNvPicPr/>
          <p:nvPr/>
        </p:nvPicPr>
        <p:blipFill>
          <a:blip r:embed="rId1"/>
          <a:stretch/>
        </p:blipFill>
        <p:spPr>
          <a:xfrm>
            <a:off x="1979640" y="1484280"/>
            <a:ext cx="4716360" cy="471636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155" name="Text Box 6"/>
          <p:cNvSpPr/>
          <p:nvPr/>
        </p:nvSpPr>
        <p:spPr>
          <a:xfrm>
            <a:off x="4788000" y="434880"/>
            <a:ext cx="376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одна из звё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050920" y="259920"/>
            <a:ext cx="5554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глаз воо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со звездами др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лечный путь увидеть чт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ен мощны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427640" y="3429000"/>
            <a:ext cx="194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653440" y="198900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леск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Drawn_wallpapers_Vector_Wallpapers_Telescope_015787_"/>
          <p:cNvPicPr/>
          <p:nvPr/>
        </p:nvPicPr>
        <p:blipFill>
          <a:blip r:embed="rId1"/>
          <a:stretch/>
        </p:blipFill>
        <p:spPr>
          <a:xfrm>
            <a:off x="1763640" y="2781360"/>
            <a:ext cx="5040360" cy="3779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08000" y="836640"/>
            <a:ext cx="5194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скопом сотни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ают жизнь пл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расскажет обо в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ный дяд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588720" y="249228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стро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аст"/>
          <p:cNvPicPr/>
          <p:nvPr/>
        </p:nvPicPr>
        <p:blipFill>
          <a:blip r:embed="rId1"/>
          <a:stretch/>
        </p:blipFill>
        <p:spPr>
          <a:xfrm>
            <a:off x="395280" y="3357720"/>
            <a:ext cx="3384720" cy="331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3:44:07Z</dcterms:created>
  <dc:creator>мама</dc:creator>
  <dc:description/>
  <dc:language>en-US</dc:language>
  <cp:lastModifiedBy>LEGION</cp:lastModifiedBy>
  <dcterms:modified xsi:type="dcterms:W3CDTF">2015-01-12T09:32:10Z</dcterms:modified>
  <cp:revision>7</cp:revision>
  <dc:subject/>
  <dc:title>Слайд 1</dc:title>
</cp:coreProperties>
</file>