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8.gif" ContentType="image/gif"/>
  <Override PartName="/ppt/media/image17.gif" ContentType="image/gif"/>
  <Override PartName="/ppt/media/image16.gif" ContentType="image/gif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8B9F-EECD-4A3F-AC9F-14ADFE7869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" Target="../slides/slide21.xml"/><Relationship Id="rId4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012F-531C-424B-AB32-8FD676F4B5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ками разной величины на карте показ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от ярчайших до менее заме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звезда имеет своё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яркие из них – Полярная звез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г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06BE-6317-4912-8169-155FDFD7ED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1-ый абзац на стр. 31 и отв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C498-C0DD-4F56-9057-FD348C3822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Кассиоп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C665-8217-4117-A5C3-D1EBBEEF60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W» [дабл ю] к ЦЕФЕЮ близ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 «woman» по-англий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жена царя ЦЕФ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да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АССИОП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CE66-9F0F-4EB7-966E-087D54D4AE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Ор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7566-57DE-4B1F-A7DD-266B6F31DE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оясавшись поту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хоты снаряжё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И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звезды из высшей л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РИОНЕ - это РИГ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 нижнем угол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но бант на башма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левом эполет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ЕЛЬГЕЙЗЕ ярко свет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звезды наиско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ашают поя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0669-AFD0-4BE4-B194-76EDE4C930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Леб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D2BE-677A-4FF3-AFC1-9B0F533C64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ЦЕФЕЕМ и ЛИР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ылья раскинув над мир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ЛЕБЕД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спеш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ит в высо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о сверк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Б на хв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ю ноч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лечном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Кр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райся найт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5460-8657-4971-9ECE-B246BE1C47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по Зодиа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7635-63C7-484D-A5C5-508276A776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ёмному небу рассыпан горош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ной карамели из сахарной крош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тогда, когда утро настан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арамель та внезапно 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1BBD-24C0-4DBB-B6C1-AFFDD15CEC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Зодиа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сего созвездий в Зодиа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«гостит» солнце у каждого созвезд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го созвездия принято начинать путешествие по Зодиа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4588-8572-4B0A-9FD6-82C61683C6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nhome.ru/prose/15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nbass.ua/news/technology/space/2009/08/06/zvezda-pljuetsja-v-nebo-f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tags/publications/звезды+гиг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is.3dn.ru/load/31-3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strogalaxy.ru/736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karaoke.ru/user/Nektok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dfon.ru/wallpaper/43024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sovestilizator.bestpersons.ru/feed/post8413951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laneta.rambler.ru/community/astrologica/47938398.html?parent_id=4794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0220-EA31-4953-9E6B-1D9DEF8F4B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анова Оксана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ОУ «Гимназия №4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. Великого Нов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A4C7-1CFB-4B65-A23A-3DF541472E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- Что вы знаете о звёзд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2225-5CBA-42E6-9787-B1CFC9980F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DF94-E3E8-492E-BA1A-0E457A5905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горячие звёзды  голуб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, другие, менее горячие – крас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00FB-FB30-48B7-A3A3-E7FA608A81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звёзды – гиганты, а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F6E3-0993-430C-9B7C-2C142967C4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 – это…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одна из звёз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E4C0-A536-4E62-8C60-5EAA699809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глаз воору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 звездами друж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ечный путь увидеть чт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ен мощный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2276-4D76-4889-AEAC-90B67579F6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скопом сотни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т жизнь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расскажет обо вс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ный дядя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F968-B6E5-40DD-B6A4-DC659DD431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C777-81EE-41E1-A360-0A44332F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C6B-CFE9-4E41-A585-AA758475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52D-3C73-4E23-8CB4-A817051F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5003-A8E1-4A8F-B518-8D65D0FD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DBB6-A806-441F-80A7-38C9D0EA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6A00-87D8-4588-A492-99F2C1EC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8EE6-019A-4383-8B01-32535278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BAC8-67EB-4351-BD60-CFCECBFC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0FCA-DC5C-46F9-AA43-1DCD6134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EB70-6C2A-486B-A029-5A3CE97E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CCE7-620E-4ED1-AFF2-0BF57C06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AB1-1A0C-4875-B893-A1788FE9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5A54-E3F7-4D7F-B814-2FF3538F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C579-009D-48B0-A64E-DC42A36A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3816-E68B-47C0-ACF5-FDC497BB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6E9F-A08F-4AF5-8528-F8DCA919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77DA-A9A8-47B3-B1EC-4268E99B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ABC-B9A8-4974-90BA-EF08D929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6F7-2D15-4BA9-9A03-52B9BAAF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CF8-9732-42F0-9F2C-055A6199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7EE-FEBD-4867-925D-CEA88CF8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645-A06A-4CA0-8ACF-681E5547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084-B729-4346-A3FF-59B8F55D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E81-D340-487B-94C4-ED744BED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85B9-25E4-46DC-A036-2F7DBA35F5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AAC4-0290-4454-930D-7494ACCAB9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hyperlink" Target="http://www.sunhome.ru/tags/publications/&#1079;&#1074;&#1077;&#1079;&#1076;&#1099;+&#1075;&#1080;&#1075;&#1072;&#1085;&#1090;&#1099;" TargetMode="External"/><Relationship Id="rId4" Type="http://schemas.openxmlformats.org/officeDocument/2006/relationships/hyperlink" Target="http://sis.3dn.ru/load/31-3-2" TargetMode="External"/><Relationship Id="rId5" Type="http://schemas.openxmlformats.org/officeDocument/2006/relationships/hyperlink" Target="http://www.astrogalaxy.ru/736.html" TargetMode="External"/><Relationship Id="rId6" Type="http://schemas.openxmlformats.org/officeDocument/2006/relationships/hyperlink" Target="http://www.karaoke.ru/user/Nektokto" TargetMode="External"/><Relationship Id="rId7" Type="http://schemas.openxmlformats.org/officeDocument/2006/relationships/hyperlink" Target="http://www.goodfon.ru/wallpaper/43024.html" TargetMode="External"/><Relationship Id="rId8" Type="http://schemas.openxmlformats.org/officeDocument/2006/relationships/hyperlink" Target="http://sovestilizator.bestpersons.ru/feed/post8413951/" TargetMode="External"/><Relationship Id="rId9" Type="http://schemas.openxmlformats.org/officeDocument/2006/relationships/hyperlink" Target="http://planeta.rambler.ru/community/astrologica/47938398.html?parent_id=47941000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556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420000" y="2060640"/>
            <a:ext cx="404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ё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96b04db3307a94bbec3db7ee0fadce4"/>
          <p:cNvPicPr/>
          <p:nvPr/>
        </p:nvPicPr>
        <p:blipFill>
          <a:blip r:embed="rId1"/>
          <a:stretch/>
        </p:blipFill>
        <p:spPr>
          <a:xfrm>
            <a:off x="179280" y="3933720"/>
            <a:ext cx="3060720" cy="27306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4320720"/>
            <a:ext cx="8713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ками разной величины на карте показ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ёзды от ярчайших до менее заме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звезда имеет своё 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е яркие из них – Полярная звез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г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48410907_sever_skymap"/>
          <p:cNvPicPr/>
          <p:nvPr/>
        </p:nvPicPr>
        <p:blipFill>
          <a:blip r:embed="rId1"/>
          <a:stretch/>
        </p:blipFill>
        <p:spPr>
          <a:xfrm>
            <a:off x="2411280" y="260280"/>
            <a:ext cx="4762800" cy="3962520"/>
          </a:xfrm>
          <a:prstGeom prst="rect">
            <a:avLst/>
          </a:prstGeom>
          <a:ln w="0">
            <a:noFill/>
          </a:ln>
        </p:spPr>
      </p:pic>
      <p:sp>
        <p:nvSpPr>
          <p:cNvPr id="171" name="Line 5"/>
          <p:cNvSpPr/>
          <p:nvPr/>
        </p:nvSpPr>
        <p:spPr>
          <a:xfrm flipH="1" flipV="1">
            <a:off x="5003280" y="2491920"/>
            <a:ext cx="2737080" cy="1368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 flipH="1" flipV="1">
            <a:off x="6804000" y="691920"/>
            <a:ext cx="1728720" cy="865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99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1-ый абзац на стр. 31 и отв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65200" y="3716280"/>
            <a:ext cx="7963920" cy="1068840"/>
          </a:xfrm>
          <a:prstGeom prst="rect">
            <a:avLst/>
          </a:prstGeom>
          <a:solidFill>
            <a:srgbClr val="ff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вездие – это группа наиболее ярк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тных на тёмном небе звёз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88160" y="5130720"/>
            <a:ext cx="761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С какими созвездиями 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познакомились в 1 класс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48414444_volopas"/>
          <p:cNvPicPr/>
          <p:nvPr/>
        </p:nvPicPr>
        <p:blipFill>
          <a:blip r:embed="rId1"/>
          <a:stretch/>
        </p:blipFill>
        <p:spPr>
          <a:xfrm>
            <a:off x="3059280" y="260280"/>
            <a:ext cx="5736960" cy="478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48405365_lev"/>
          <p:cNvPicPr/>
          <p:nvPr/>
        </p:nvPicPr>
        <p:blipFill>
          <a:blip r:embed="rId2"/>
          <a:stretch/>
        </p:blipFill>
        <p:spPr>
          <a:xfrm>
            <a:off x="179280" y="1773360"/>
            <a:ext cx="5399280" cy="4535280"/>
          </a:xfrm>
          <a:prstGeom prst="rect">
            <a:avLst/>
          </a:prstGeom>
          <a:ln w="0">
            <a:noFill/>
          </a:ln>
        </p:spPr>
      </p:pic>
      <p:sp>
        <p:nvSpPr>
          <p:cNvPr id="183" name="Line 6"/>
          <p:cNvSpPr/>
          <p:nvPr/>
        </p:nvSpPr>
        <p:spPr>
          <a:xfrm flipV="1">
            <a:off x="3492360" y="5734080"/>
            <a:ext cx="0" cy="100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 flipV="1">
            <a:off x="7667640" y="2133360"/>
            <a:ext cx="0" cy="31669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Кассиоп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7"/>
          <p:cNvPicPr/>
          <p:nvPr/>
        </p:nvPicPr>
        <p:blipFill>
          <a:blip r:embed="rId1"/>
          <a:stretch/>
        </p:blipFill>
        <p:spPr>
          <a:xfrm>
            <a:off x="1619280" y="1413000"/>
            <a:ext cx="5905440" cy="44892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2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692000" y="4508640"/>
            <a:ext cx="5986440" cy="204768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W» [дабл ю] к ЦЕФЕЮ близ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 «woman» по-англий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жена царя ЦЕФ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да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АССИОП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7"/>
          <p:cNvPicPr/>
          <p:nvPr/>
        </p:nvPicPr>
        <p:blipFill>
          <a:blip r:embed="rId1"/>
          <a:stretch/>
        </p:blipFill>
        <p:spPr>
          <a:xfrm>
            <a:off x="2124000" y="404640"/>
            <a:ext cx="4969080" cy="3778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Ори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6"/>
          <p:cNvPicPr/>
          <p:nvPr/>
        </p:nvPicPr>
        <p:blipFill>
          <a:blip r:embed="rId1"/>
          <a:stretch/>
        </p:blipFill>
        <p:spPr>
          <a:xfrm>
            <a:off x="1476360" y="1413000"/>
            <a:ext cx="6097680" cy="4573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3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6"/>
          <p:cNvPicPr/>
          <p:nvPr/>
        </p:nvPicPr>
        <p:blipFill>
          <a:blip r:embed="rId1"/>
          <a:stretch/>
        </p:blipFill>
        <p:spPr>
          <a:xfrm>
            <a:off x="4859280" y="907920"/>
            <a:ext cx="4033800" cy="43214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324000" y="907920"/>
            <a:ext cx="4248000" cy="484884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поясавшись поту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хоты снаряж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ает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РИ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звезды из высшей л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РИОНЕ - это РИГ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вом нижнем угол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бант на башма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а левом эполет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ТЕЛЬГЕЙЗЕ ярко св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звезды наиско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шают поя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Леб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4"/>
          <p:cNvPicPr/>
          <p:nvPr/>
        </p:nvPicPr>
        <p:blipFill>
          <a:blip r:embed="rId1"/>
          <a:stretch/>
        </p:blipFill>
        <p:spPr>
          <a:xfrm>
            <a:off x="1403280" y="1341360"/>
            <a:ext cx="6031080" cy="45165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4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4"/>
          <p:cNvPicPr/>
          <p:nvPr/>
        </p:nvPicPr>
        <p:blipFill>
          <a:blip r:embed="rId1"/>
          <a:stretch/>
        </p:blipFill>
        <p:spPr>
          <a:xfrm>
            <a:off x="0" y="1197000"/>
            <a:ext cx="4464000" cy="40640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0" y="1052640"/>
            <a:ext cx="4392720" cy="411732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ЦЕФЕЕМ и ЛИР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ья раскинув над мир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ЛЕБ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пеш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ит в высо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о сверк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Б на хво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сною 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лечном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Кр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ся най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по Зодиа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"/>
          <p:cNvPicPr/>
          <p:nvPr/>
        </p:nvPicPr>
        <p:blipFill>
          <a:blip r:embed="rId1"/>
          <a:stretch/>
        </p:blipFill>
        <p:spPr>
          <a:xfrm>
            <a:off x="468360" y="1557360"/>
            <a:ext cx="7775640" cy="42051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320400" y="6021360"/>
            <a:ext cx="81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текст в учебнике на стр.32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147160" cy="254952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ёмному небу рассыпан горош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ной карамели из сахарной крош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олько тогда, когда утро настан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карамель та внезапно раст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77080" y="5373720"/>
            <a:ext cx="211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Звё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7280" y="1267920"/>
            <a:ext cx="54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Зоди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 созвездий в Зодиа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«гостит» солнце у каждого созвезд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го созвездия принято начинать путешествие по Зодиа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6"/>
          <p:cNvPicPr/>
          <p:nvPr/>
        </p:nvPicPr>
        <p:blipFill>
          <a:blip r:embed="rId1"/>
          <a:stretch/>
        </p:blipFill>
        <p:spPr>
          <a:xfrm>
            <a:off x="250920" y="1773360"/>
            <a:ext cx="3676680" cy="3809880"/>
          </a:xfrm>
          <a:prstGeom prst="rect">
            <a:avLst/>
          </a:prstGeom>
          <a:ln w="57240">
            <a:solidFill>
              <a:srgbClr val="6699ff"/>
            </a:solidFill>
            <a:miter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strogalaxy.ru/73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oodfon.ru/wallpaper/43024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stilizator.bestpersons.ru/feed/post841395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анова Оксан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ОУ «Гимназия №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. Великого Нов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4360" y="580536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Monotype Corsiva"/>
              </a:rPr>
              <a:t>- Что вы знаете о звёзда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6"/>
          <p:cNvPicPr/>
          <p:nvPr/>
        </p:nvPicPr>
        <p:blipFill>
          <a:blip r:embed="rId1"/>
          <a:stretch/>
        </p:blipFill>
        <p:spPr>
          <a:xfrm>
            <a:off x="900000" y="692280"/>
            <a:ext cx="7201080" cy="48211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1"/>
          <p:cNvPicPr/>
          <p:nvPr/>
        </p:nvPicPr>
        <p:blipFill>
          <a:blip r:embed="rId1"/>
          <a:stretch/>
        </p:blipFill>
        <p:spPr>
          <a:xfrm>
            <a:off x="2916360" y="4365720"/>
            <a:ext cx="3311280" cy="2384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горячие звёзды  голуб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а, другие, менее горячие – крас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2005-0322cluster-full"/>
          <p:cNvPicPr/>
          <p:nvPr/>
        </p:nvPicPr>
        <p:blipFill>
          <a:blip r:embed="rId1"/>
          <a:stretch/>
        </p:blipFill>
        <p:spPr>
          <a:xfrm>
            <a:off x="1979640" y="1557360"/>
            <a:ext cx="4979880" cy="492912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sp>
        <p:nvSpPr>
          <p:cNvPr id="146" name="Line 5"/>
          <p:cNvSpPr/>
          <p:nvPr/>
        </p:nvSpPr>
        <p:spPr>
          <a:xfrm flipV="1">
            <a:off x="4067280" y="1052280"/>
            <a:ext cx="1655640" cy="360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776160" y="1125360"/>
            <a:ext cx="314172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H="1">
            <a:off x="1692360" y="5300640"/>
            <a:ext cx="15127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512160" y="5013360"/>
            <a:ext cx="326844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ц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me-x-class-26oct03"/>
          <p:cNvPicPr/>
          <p:nvPr/>
        </p:nvPicPr>
        <p:blipFill>
          <a:blip r:embed="rId1"/>
          <a:stretch/>
        </p:blipFill>
        <p:spPr>
          <a:xfrm>
            <a:off x="1979640" y="1484280"/>
            <a:ext cx="4716360" cy="471636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55" name="Text Box 6"/>
          <p:cNvSpPr/>
          <p:nvPr/>
        </p:nvSpPr>
        <p:spPr>
          <a:xfrm>
            <a:off x="4788000" y="434880"/>
            <a:ext cx="376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дна из звё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ен мощны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63640" y="2781360"/>
            <a:ext cx="5040360" cy="3779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ный дяд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аст"/>
          <p:cNvPicPr/>
          <p:nvPr/>
        </p:nvPicPr>
        <p:blipFill>
          <a:blip r:embed="rId1"/>
          <a:stretch/>
        </p:blipFill>
        <p:spPr>
          <a:xfrm>
            <a:off x="395280" y="3357720"/>
            <a:ext cx="3384720" cy="331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LEGION</cp:lastModifiedBy>
  <dcterms:modified xsi:type="dcterms:W3CDTF">2015-01-12T09:32:10Z</dcterms:modified>
  <cp:revision>7</cp:revision>
  <dc:subject/>
  <dc:title>Слайд 1</dc:title>
</cp:coreProperties>
</file>