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6DEA-DFC9-4CB6-9666-E002CB1750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187E-42D3-49D3-BBB8-C8498F4208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ками разной величины на карте показ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от ярчайших до менее заме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звезда имеет своё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яркие из них – Полярная звез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69A9-A40C-4117-B4CF-340F21FD7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1-ый абзац на стр. 31 и отв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FAE7-B413-40F4-995F-7BF4F2209D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Кассиоп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8CA9-1598-40EA-97CE-288812D292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W» [дабл ю] к ЦЕФЕЮ близ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 «woman» по-англий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на царя ЦЕФ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да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АССИОП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238C-73B2-4216-93D7-20C6C2905B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Ор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4858-0119-4589-9346-106D6E08B1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оясавшись поту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хоты снаряж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И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звезды из высшей л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ИОНЕ - это РИГ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 нижнем угол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бант на башма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евом эполет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ЕЛЬГЕЙЗЕ ярко свет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звезды наиско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ашают поя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133D-CCE2-4809-9EBF-589E06EBD1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Леб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988-DFB0-4FA1-A578-6CD5FB9C13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ЦЕФЕЕМ и ЛИ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ья раскинув над ми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ЕБЕД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спеш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ит в высо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о сверк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Б на хв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ю но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лечном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Кр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райся найт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E36B-B9A1-4A34-93CC-8ECBE999DB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по Зодиа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27C7-F0EF-4E73-B74C-2196B23354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ёмному небу рассыпан горош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ной карамели из сахарной кро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тогда, когда утро настан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арамель та внезапно 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337-9ED3-40F1-AC9F-C6E239952D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одиа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сего созвездий в Зодиа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«гостит» солнце у каждого созвезд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го созвездия принято начинать путешествие по Зодиа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5859-5071-4EEB-BD11-6B060BBABB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73F3-4904-4D6D-81BD-78CFA6FDEA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анова Окса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ОУ «Гимназия №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. Великого Нов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7CD-EF7E-4518-B16A-E99149A606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- Что вы знаете о звёзд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7C3-ECBF-4CFB-BA3C-EFF3B66DA6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8034-198B-4DE5-A0C5-067B7C0234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горячие звёзды  голу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4FF-B324-45B7-B550-D0948CDB42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EADD-E9E7-460E-9A92-E1CAEB4F37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…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одна из звёз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9C50-4034-4342-B0C0-CEC82808BE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мощный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D25-7CE4-40CF-8680-5352811323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ный дядя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6ACD-0EA2-46E4-88D0-7E13D2E09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7F4-3145-4D2E-9AB9-1FAE15A0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584-68E8-4198-89BE-581C4543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462-1EB6-4BB6-B7EC-7E7591E6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7D1-8815-4F0E-894E-023C9D85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6827-591C-4873-9153-35ED9931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3F8C-DE68-4B44-8002-9C0830E8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68C8-9B7F-4DA6-8825-DB137A1B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2648-3C3C-4D08-8189-6E489266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0E13-02B3-4FF0-B454-ACB50B92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1678-1F9B-464F-B019-3FF158C0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83C5-34E9-4691-91CE-FE15680A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A76-9B43-47C3-B3F3-1AB9FB1C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1D05-A823-490B-915E-E12A6A6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343D-E9BB-4B39-83FE-0001914D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E343-E80E-4170-A7CF-A2DEB28E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A2D5-12BB-4F1F-BB13-FA596586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BAE3-CE2B-4B68-8D23-96BF0181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B8E-6267-4903-8CB3-F102640E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68F-3832-435D-B98C-5BB46E64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E02-AC02-42EC-B5C4-BDA40386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1A9-D30F-47C9-A665-7A0DBF89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8FE-F304-4437-96A3-AA30AFD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EAF-6646-4D9D-9CC0-E878876D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63D-D240-49E6-A2FF-42CFDEF7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29E6-B828-4744-B392-D30D354DFF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D182-710B-4AB7-B73A-7C132A718B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нова Окса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ОУ «Гимназия №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Великого Нов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55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09:32:10Z</dcterms:modified>
  <cp:revision>7</cp:revision>
  <dc:subject/>
  <dc:title>Слайд 1</dc:title>
</cp:coreProperties>
</file>