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chimes.wav" ContentType="audio/x-wav"/>
  <Override PartName="/ppt/media/image16.jpeg" ContentType="image/jpeg"/>
  <Override PartName="/ppt/media/image5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14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B786-A241-4CED-9012-21EE2F7365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cc"/>
                </a:solidFill>
                <a:latin typeface="Calibri"/>
              </a:rPr>
              <a:t>Компьютеры в медиц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C49D-45B1-4192-8569-09F6B460C3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устройства диагностики и локализации почечных и желчных камн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также контроля процесса их разрушения при помощи наружных ударных волн (литотрипси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лечение зубов и протез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помощью компьютер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систе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микрокомпьютерным управлением для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интенсивного медицинского контроля пациента</a:t>
            </a:r>
            <a:r>
              <a:rPr b="0" lang="ru-RU" sz="1200" spc="-1" strike="noStrike">
                <a:solidFill>
                  <a:srgbClr val="004a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B1F4-F683-4CB4-BBC4-1002BE3B81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Calibri"/>
              </a:rPr>
              <a:t>Что и как мы узнали  о применении компьютеров в медицине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Взяли интервью у местных работников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Провели опрос зна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Нашли сообщения  в печатных изданиях о применении ЭВМ в медиц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Подобрали фотограф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EDE9-138D-43DD-9DD8-5F01A93C0A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cc"/>
                </a:solidFill>
                <a:latin typeface="Calibri"/>
              </a:rPr>
              <a:t>РЕЗУЛЬТАТЫ О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203A-7026-4D9B-9BEE-29AFC84FB2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Calibri"/>
              </a:rPr>
              <a:t>Выв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Чем раньше выявить заболевание, тем проще его леч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Люди стали больше доверять ЭВ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CDF4-FB4C-45EE-81A1-BB5E0B8369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cc"/>
                </a:solidFill>
                <a:latin typeface="Times New Roman"/>
              </a:rPr>
              <a:t>В компьютеризированном отделении лечебного учре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F0EE-495B-4846-987F-3D113D0234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ы используются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для создания карт, показывающих скорость распространения эпидемий.</a:t>
            </a:r>
            <a:r>
              <a:rPr b="0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ы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храня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в своей памяти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истории болезней пациен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 что освобождает врачей от бумажной работы, на которую уходит много времени, и позволяет больше времени уделять самим боль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79B9-6833-4252-9DC2-02B5B6C6CD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ы позволяют установить, как влияет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загрязненность воздух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на заболеваемость населения данного район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оме того, с их помощью можно изучать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влияние удар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на различные части тела, в частности, последствия удара при автомобильной катастрофе для черепа и позвоночника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2590-9A18-460D-B733-5AE406DB6A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Компьютер - паци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ная техника используется для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обучения медицинских работников практическим навык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На этот раз компьютер выступает в роли больного, которому требуется немедленная помощь. На основании симптомов, выданных компьютером, обучающийся должен определить курс лечения. Если он ошибся, компьютер сразу показывает эт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C97A-CB58-420B-A093-57396F20DA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24100"/>
                </a:solidFill>
                <a:latin typeface="Calibri"/>
              </a:rPr>
              <a:t>Кроме тог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ные сети используются для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пересылки сообщений о донорских органах, в которых нуждаются больные</a:t>
            </a:r>
            <a:r>
              <a:rPr b="0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ожидающие операции трансплант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Банки медицинских дан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позволяют медикам быть в курсе последних научных и практических достиж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0541-746D-4E4F-B950-FB00D7412D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4100"/>
                </a:solidFill>
                <a:latin typeface="Times New Roman"/>
              </a:rPr>
              <a:t>Примеры компьютерных устройств и методов лечения и диагнос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К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омпьютерная томография и ядерная медицинская диагнос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— дают точные послойные изображения структур внутренних орга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Times New Roman"/>
              </a:rPr>
              <a:t>У</a:t>
            </a:r>
            <a:r>
              <a:rPr b="1" lang="ru-RU" sz="1200" spc="-1" strike="noStrike">
                <a:solidFill>
                  <a:srgbClr val="004a00"/>
                </a:solidFill>
                <a:latin typeface="Times New Roman"/>
                <a:ea typeface="Times New Roman"/>
              </a:rPr>
              <a:t>льтразвуковая диагностика и зондирование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используя эффекты взаимодействия падающих и отраженных ультразвуковых волн, открывает бесчисленные возможности для получения изображений внутренних органов и исследования их состоя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8CFE-94D8-473A-9F50-EB35259591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М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икрокомпьютерные технологии рентгеновских исследов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— запомненные в цифровой форме рентгеновские снимки могут быть быстро и качественно обработаны, воспроизведены и занесены в архив для сравнения с последующими снимками этого паци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З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адатчик</a:t>
            </a:r>
            <a:r>
              <a:rPr b="0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 (водитель)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сердечного рит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456D-E5FA-4C05-B5B5-54F02345DD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У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стройства дыхания и наркоз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Л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учевая терапия с микропроцессорным управлени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— обеспечивает возможность применения более надежных и щадящих методов облуч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641F-5EED-4AE6-AE0B-D65C6AAFB6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FFAE-D8C0-41C0-B421-54093B62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7693-0189-4372-819A-ADD28EA5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D034-8609-4D1B-920A-023A85DB6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5B25-B36A-4042-9244-7EDE4B86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FEF8-22FD-4418-A89C-1467FBE8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4F6F-4E4A-40D4-9328-AE4984A4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F1DA-7A01-4E98-A3BA-6FDE39A5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64C4-EC1E-4F58-8079-AEF544BF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4AF9-3F22-4AE2-907A-CBC5B193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39A7-8C69-4AE6-8B84-AB0B189C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8C65-F93F-4B78-8FB5-8C50003F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FBD2-67E3-40A7-9133-AA7CEDE9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F606-B9B1-449F-A725-C54A931E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BFDC-5436-4914-A0D5-4FD302C8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C43E-FF53-4E21-B1BA-AC61CAD2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F12D-4F71-457C-B2E9-0B0D343D8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31A9-1704-4FAB-B558-D6F1AB63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3F05C-76CB-40CF-8B35-7E6BC31CE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B163F-E52D-446A-AA18-A7A6B565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39ED2-9D21-4FAA-A959-2C7D91BA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35527-1F41-4C21-9619-91B680C5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C3726-7BA3-40E1-99AC-22470334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430A-12C2-4FA9-99BB-61726DC6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42E30-E237-4446-BA04-4D9931F9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95D0D-ABF9-4934-A064-3C240CBA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7C1E2-139F-4222-B4A1-E2B04686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E579E-D134-451F-B32F-87538F79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3A707-68E5-423C-985C-7F40F498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C276C-FF60-41B9-A41C-0C02CCFE7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805CB-D71C-40ED-92F2-0B5ACC376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460AB-24AA-4F7E-BE4E-B7D01411D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65B59-52B6-4D0A-B557-7DFB6FBC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C7581-AC46-4E02-B0E7-2EC50E1F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CE2A-9049-4596-B4B1-3051C077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50FFB-61DC-47A0-8BD6-06ED18C6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3133D-6A80-4AB9-BE93-193D3ADA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38E5A-8969-4C0B-AFCD-03B653B9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261A4-05DA-4613-A0C1-A2F8C6FD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EDD50-B0B6-4AB3-8E38-7C22FD33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05ED8-7780-4DEA-B153-BC45B0F8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4157E-6A54-4309-8190-B9D144AD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8864D-1DDA-447E-B720-991986C4D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BF04C-4564-4492-8A16-3FB07F5BE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E8CB0-F6A6-44F9-85A8-F4A1B71D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08E5-66D4-4371-A88D-FAFB96EA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5A088-6A54-4058-B0B3-01049DF3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3BA40-EAB0-487C-85A5-B384607C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3ABA9-2D2B-49DF-8C6F-6FFBB855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12DC9-D5AC-4ED5-A90C-22332324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E648E-1855-491E-BB17-8F3EA819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D5530-E406-411A-861D-4926A0B4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2D9A5-6297-4155-8C7B-A2CD033E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1444A-3081-418A-87F8-84323260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7E0E3-E31F-4AA9-8387-CCF609BD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3080D-1D2C-42E1-A984-AFA3F681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8ECC-46D1-465B-86EE-8C105374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2A0E9-4D92-41AB-97E7-9669D5C5A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96AEE-04C7-4185-A7C1-23B56113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6D2A5-5F3D-4727-8A08-6A3AC8D8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F3AD1-168B-4A6B-94A9-95DA5381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EF9E5-0C33-49D0-B4B0-2D0C5942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F7844-CC36-4DEB-96B0-E4A51C5A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2D60B-DC1F-4F30-98BE-A6B28FE6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64832-03F8-400F-A89C-DA9D894C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D0D09-AC3E-42AC-AA83-03190290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7C027-B94C-4FBD-ABD4-D8A3CE26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31E7-DE8C-433E-AAC9-5F25DFBB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6FDFE-8B54-42D4-9F6D-21FFFA88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D59B1-6E99-41F1-A9EE-686156B7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DDBFE-DDF3-4C66-949C-8B3FB0EB4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7C994-3B5D-41B5-A25D-6C46C881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ACA7B-F2F4-424B-AD15-82806919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DDDAD-B4CE-433B-8D42-AB550AD1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12F1B-68C8-4E16-B259-4994A9EE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F640B-A4FD-4CCF-9751-46E3A3DC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A3C3C-EA46-43BA-B298-CE2BB4C0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C36CA-E702-4996-8C7A-FFD732A2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EB5C-6D04-4056-82A5-188F937D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DCDA7-B9E3-460D-A6F4-492EA50A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2E99F-1764-476B-A7EC-133A8E7E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B282C-5D35-44F0-B708-BA8B83CE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EAC2F-947E-48F9-81FF-61B319584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79A2E-AA61-4F4C-861E-DB362CC30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EDA0B-89F7-4F43-B1C2-6044E35F3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7D7ED-F4D6-4199-A5EA-DCCB7282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1EB57-623A-4844-B807-6F18A161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81054-2795-4978-BF22-FC899556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7C3E2-A930-4DAA-8CE5-022EF738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AE72-5763-4CE6-AD40-EE6BF3B7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BF13E-CFFF-45D8-9AC8-9AC45A7F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FA456-DBFC-4DFA-ABFF-7C776814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62384-6AF9-4E1F-8E36-11BA1F13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18315-E8F5-498D-99D9-6228357D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94727-0953-4EFD-9420-5002FF8F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D33B0-151C-4056-AD3F-38CE6E86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63F98-ECC1-4B40-8D78-31A29104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іліні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іліні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кутний трикут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кутний трикут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 сполучна ліні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E4BA-3C09-4AE7-9DCB-84A56484E1EB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C9FA-620B-4A23-B6F9-92FC50E5A3C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кутний трикут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увати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іліні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ілінія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іліні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іліні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 сполучна ліні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B18B-C4FE-4CB1-87FF-8A2A64113402}" type="datetime">
              <a:rPr b="0" lang="ru-RU" sz="10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1225-53FE-4A71-8725-680F48E3A47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іліні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іліні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кутний трикут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кутний трикут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 сполучна ліні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69AB-0395-4CA8-9B8A-4A180F2FD877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107B-118F-4DEE-8CCA-B9B358CE25A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іліні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іліні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кутний трикут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кутний трикут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 сполучна ліні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0F01-60CA-416E-AF2D-24871666B1F4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E8A5-6BC4-401E-A569-09706108E1B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D9EF-8C0F-4AED-8226-AC8DF78BA2D8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1BC6-C05E-4B3E-8C7F-3ACA3F77651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іліні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іліні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кутний трикут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кутний трикут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 сполучна ліні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2F70-5BE2-4697-B6E2-1C52B6DE04A3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6F2E-0A38-49CF-B5A1-9A4EDD31C29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35C3-DE41-40A5-A71E-DED55CECD2CD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E542-91C9-40B5-90ED-7530E994CA2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іліні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іліні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кутний трикут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кутний трикут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 сполучна ліні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7640-562F-423F-B79C-45F0F85B103B}" type="datetime">
              <a:rPr b="0" lang="ru-RU" sz="10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E6A7-34A6-4BDF-9D29-3F36F7017A1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-384120" y="115920"/>
            <a:ext cx="8235720" cy="24620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HM00361_"/>
          <p:cNvPicPr/>
          <p:nvPr/>
        </p:nvPicPr>
        <p:blipFill>
          <a:blip r:embed="rId2"/>
          <a:stretch/>
        </p:blipFill>
        <p:spPr>
          <a:xfrm>
            <a:off x="5334120" y="2666880"/>
            <a:ext cx="3538440" cy="3194280"/>
          </a:xfrm>
          <a:prstGeom prst="rect">
            <a:avLst/>
          </a:prstGeom>
          <a:ln w="0">
            <a:noFill/>
          </a:ln>
        </p:spPr>
      </p:pic>
      <p:sp>
        <p:nvSpPr>
          <p:cNvPr id="379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4a00"/>
                </a:solidFill>
                <a:latin typeface="Lucida Sans Unicode"/>
              </a:rPr>
              <a:t>устройства диагностики и локализации почечных и желчных камней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а также контроля процесса их разрушения при помощи наружных ударных волн (литотрипсия)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4a00"/>
                </a:solidFill>
                <a:latin typeface="Lucida Sans Unicode"/>
              </a:rPr>
              <a:t>лечение зубов и протезирование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с помощью компьютера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4a00"/>
                </a:solidFill>
                <a:latin typeface="Lucida Sans Unicode"/>
              </a:rPr>
              <a:t>системы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с микрокомпьютерным управлением для </a:t>
            </a:r>
            <a:r>
              <a:rPr b="1" lang="ru-RU" sz="2700" spc="-1" strike="noStrike">
                <a:solidFill>
                  <a:srgbClr val="004a00"/>
                </a:solidFill>
                <a:latin typeface="Lucida Sans Unicode"/>
              </a:rPr>
              <a:t>интенсивного медицинского контроля пациента</a:t>
            </a:r>
            <a:r>
              <a:rPr b="0" lang="ru-RU" sz="2700" spc="-1" strike="noStrike">
                <a:solidFill>
                  <a:srgbClr val="004a00"/>
                </a:solidFill>
                <a:latin typeface="Lucida Sans Unicode"/>
              </a:rPr>
              <a:t>.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838080" y="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4a00"/>
                </a:solidFill>
                <a:latin typeface="Times New Roman"/>
              </a:rPr>
              <a:t>А также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-231840" y="0"/>
            <a:ext cx="8583840" cy="223668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-360" y="2149200"/>
            <a:ext cx="792468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27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24100"/>
                </a:solidFill>
                <a:latin typeface="Lucida Sans Unicode"/>
              </a:rPr>
              <a:t>Взяли интервью у местных работников здравоохранен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4680" indent="27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24100"/>
                </a:solidFill>
                <a:latin typeface="Lucida Sans Unicode"/>
              </a:rPr>
              <a:t>Провели опрос знакомы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4680" indent="27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24100"/>
                </a:solidFill>
                <a:latin typeface="Lucida Sans Unicode"/>
              </a:rPr>
              <a:t>Нашли сообщения  в печатных изданиях о применении ЭВМ в медицин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4680" indent="27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24100"/>
                </a:solidFill>
                <a:latin typeface="Lucida Sans Unicode"/>
              </a:rPr>
              <a:t>Подобрали фотографи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-255600" y="189000"/>
            <a:ext cx="8028000" cy="124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7" name="Object 8"/>
          <p:cNvGraphicFramePr/>
          <p:nvPr/>
        </p:nvGraphicFramePr>
        <p:xfrm>
          <a:off x="0" y="1071720"/>
          <a:ext cx="7616880" cy="5532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1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71720"/>
                    <a:ext cx="7616880" cy="55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-324000" y="96840"/>
            <a:ext cx="8340840" cy="140328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24100"/>
                </a:solidFill>
                <a:latin typeface="Lucida Sans Unicode"/>
              </a:rPr>
              <a:t>Чем раньше выявить заболевание, тем проще его лечить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24100"/>
                </a:solidFill>
                <a:latin typeface="Lucida Sans Unicode"/>
              </a:rPr>
              <a:t>Люди стали больше доверять ЭВМ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-291960" y="-268200"/>
            <a:ext cx="8180280" cy="269388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137160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24100"/>
                </a:solidFill>
                <a:latin typeface="Lucida Sans Unicode"/>
                <a:ea typeface="Times New Roman"/>
              </a:rPr>
              <a:t>Компьютерная аппаратура широко используется при постановке диагноза, проведении обследований и профилактических осмотров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-255600" y="201600"/>
            <a:ext cx="8272440" cy="11574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Применение компьютеров переводит медицину на иной, более высокий качественный уровень и способствует дальнейшему повышению уровня и качества жизни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6"/>
          <p:cNvSpPr/>
          <p:nvPr/>
        </p:nvSpPr>
        <p:spPr>
          <a:xfrm>
            <a:off x="2100240" y="9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D:\TOCD\Ищенко\Электронная версия учебника по информатике 10-11\0014-2.jpg"/>
          <p:cNvPicPr/>
          <p:nvPr/>
        </p:nvPicPr>
        <p:blipFill>
          <a:blip r:embed="rId1"/>
          <a:stretch/>
        </p:blipFill>
        <p:spPr>
          <a:xfrm>
            <a:off x="714240" y="990720"/>
            <a:ext cx="7772400" cy="586728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7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В компьютеризированном отделении лечебного учр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ы используются </a:t>
            </a:r>
            <a:r>
              <a:rPr b="1" lang="ru-RU" sz="36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для создания карт, показывающих скорость распространения эпидемий.</a:t>
            </a:r>
            <a:r>
              <a:rPr b="0" lang="ru-RU" sz="36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4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ы </a:t>
            </a:r>
            <a:r>
              <a:rPr b="1" lang="ru-RU" sz="36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хранят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в своей памяти </a:t>
            </a:r>
            <a:r>
              <a:rPr b="1" lang="ru-RU" sz="36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истории болезней пациентов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, что освобождает врачей от бумажной работы, на которую уходит много времени, и позволяет больше времени уделять самим больным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-360" y="533520"/>
            <a:ext cx="80010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ы позволяют установить, как влияет </a:t>
            </a:r>
            <a:r>
              <a:rPr b="1" lang="ru-RU" sz="33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загрязненность воздуха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на заболеваемость населения данного района. 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роме того, с их помощью можно изучать </a:t>
            </a:r>
            <a:r>
              <a:rPr b="1" lang="ru-RU" sz="33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влияние ударов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на различные части тела, в частности, последствия удара при автомобильной катастрофе для черепа и позвоночника человека.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-255600" y="201600"/>
            <a:ext cx="8272440" cy="11574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ная техника используется для </a:t>
            </a:r>
            <a:r>
              <a:rPr b="1" lang="ru-RU" sz="27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обучения медицинских работников практическим навыкам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. На этот раз компьютер выступает в роли больного, которому требуется немедленная помощь. На основании симптомов, выданных компьютером, обучающийся должен определить курс лечения. Если он ошибся, компьютер сразу показывает это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-255600" y="201600"/>
            <a:ext cx="8272440" cy="11574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ные сети используются для </a:t>
            </a:r>
            <a:r>
              <a:rPr b="1" lang="ru-RU" sz="27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пересылки сообщений о донорских органах, в которых нуждаются больные</a:t>
            </a:r>
            <a:r>
              <a:rPr b="0" lang="ru-RU" sz="27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,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ожидающие операции трансплантации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Банки медицинских данных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позволяют медикам быть в курсе последних научных и практических достижений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211280" y="2852640"/>
            <a:ext cx="4932360" cy="19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a00"/>
                </a:solidFill>
                <a:latin typeface="Lucida Sans Unicode"/>
              </a:rPr>
              <a:t>К</a:t>
            </a:r>
            <a:r>
              <a:rPr b="1" lang="ru-RU" sz="24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омпьютерная томография и ядерная медицинская диагностика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— дают точные послойные изображения структур внутренних органов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Picture 7" descr="D:\TOCD\Ищенко\Электронная версия учебника по информатике 10-11\0011-3.jpg"/>
          <p:cNvPicPr/>
          <p:nvPr/>
        </p:nvPicPr>
        <p:blipFill>
          <a:blip r:embed="rId1"/>
          <a:stretch/>
        </p:blipFill>
        <p:spPr>
          <a:xfrm>
            <a:off x="0" y="228600"/>
            <a:ext cx="3684600" cy="370512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6"/>
          <p:cNvSpPr/>
          <p:nvPr/>
        </p:nvSpPr>
        <p:spPr>
          <a:xfrm>
            <a:off x="368604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304920" y="449568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a00"/>
                </a:solidFill>
                <a:latin typeface="Times New Roman"/>
              </a:rPr>
              <a:t>У</a:t>
            </a:r>
            <a:r>
              <a:rPr b="1" lang="ru-RU" sz="2400" spc="-1" strike="noStrike">
                <a:solidFill>
                  <a:srgbClr val="004a00"/>
                </a:solidFill>
                <a:latin typeface="Times New Roman"/>
                <a:ea typeface="Times New Roman"/>
              </a:rPr>
              <a:t>льтразвуковая диагностика и зондирова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используя эффекты взаимодействия падающих и отраженных ультразвуковых волн, открывает бесчисленные возможности для получения изображений внутренних органов и исследования их состоя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9"/>
          <p:cNvSpPr/>
          <p:nvPr/>
        </p:nvSpPr>
        <p:spPr>
          <a:xfrm>
            <a:off x="4140360" y="0"/>
            <a:ext cx="50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24100"/>
                </a:solidFill>
                <a:latin typeface="Times New Roman"/>
              </a:rPr>
              <a:t>Примеры компьютерных устройств и методов лечения и диагнос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1011240" y="573120"/>
            <a:ext cx="8334360" cy="337644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636800" y="4628880"/>
            <a:ext cx="4506840" cy="13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a00"/>
                </a:solidFill>
                <a:latin typeface="Lucida Sans Unicode"/>
              </a:rPr>
              <a:t>З</a:t>
            </a:r>
            <a:r>
              <a:rPr b="1" lang="ru-RU" sz="28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адатчик</a:t>
            </a:r>
            <a:r>
              <a:rPr b="0" lang="ru-RU" sz="28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 (водитель) </a:t>
            </a:r>
            <a:r>
              <a:rPr b="1" lang="ru-RU" sz="28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сердечного ритма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Picture 7" descr="D:\TOCD\Ищенко\Электронная версия учебника по информатике 10-11\0012-2.jpg"/>
          <p:cNvPicPr/>
          <p:nvPr/>
        </p:nvPicPr>
        <p:blipFill>
          <a:blip r:embed="rId2"/>
          <a:stretch/>
        </p:blipFill>
        <p:spPr>
          <a:xfrm>
            <a:off x="0" y="3733920"/>
            <a:ext cx="3073320" cy="312408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6"/>
          <p:cNvSpPr/>
          <p:nvPr/>
        </p:nvSpPr>
        <p:spPr>
          <a:xfrm>
            <a:off x="369576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-201600" y="4724280"/>
            <a:ext cx="7900920" cy="145116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419360" y="-360"/>
            <a:ext cx="4724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4a00"/>
                </a:solidFill>
                <a:latin typeface="Lucida Sans Unicode"/>
              </a:rPr>
              <a:t>Л</a:t>
            </a:r>
            <a:r>
              <a:rPr b="1" lang="ru-RU" sz="33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учевая терапия с микропроцессорным управлением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— обеспечивает возможность применения более надежных и щадящих методов облучения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Picture 8" descr="D:\TOCD\Ищенко\Электронная версия учебника по информатике 10-11\0013-2.jpg"/>
          <p:cNvPicPr/>
          <p:nvPr/>
        </p:nvPicPr>
        <p:blipFill>
          <a:blip r:embed="rId2"/>
          <a:stretch/>
        </p:blipFill>
        <p:spPr>
          <a:xfrm>
            <a:off x="0" y="304920"/>
            <a:ext cx="3809880" cy="38304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7"/>
          <p:cNvSpPr/>
          <p:nvPr/>
        </p:nvSpPr>
        <p:spPr>
          <a:xfrm>
            <a:off x="369108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17:19:39Z</dcterms:created>
  <dc:creator>user</dc:creator>
  <dc:description/>
  <dc:language>en-US</dc:language>
  <cp:lastModifiedBy>RomaK</cp:lastModifiedBy>
  <dcterms:modified xsi:type="dcterms:W3CDTF">2014-10-31T12:41:37Z</dcterms:modified>
  <cp:revision>20</cp:revision>
  <dc:subject/>
  <dc:title>Компьютеры в медицине</dc:title>
</cp:coreProperties>
</file>