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chimes.wav" ContentType="audio/x-wav"/>
  <Override PartName="/ppt/media/image16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50B3-9513-465B-BF94-14F0B6EA9C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cc"/>
                </a:solidFill>
                <a:latin typeface="Calibri"/>
              </a:rPr>
              <a:t>Компьютеры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347C-6DFC-4D4F-B325-BFED66D359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устройства диагностики и локализации почечных и желчных кам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контроля процесса их разрушения при помощи наружных ударных волн (литотрипс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лечение зубов и протез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помощью компьют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сист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микрокомпьютерным управлением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интенсивного медицинского контроля пациента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DB1F-36A0-412C-A1B0-1C0F5940E6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Calibri"/>
              </a:rPr>
              <a:t>Что и как мы узнали  о применении компьютеров в медицине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Взяли интервью у местных работников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Провели опрос зна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Нашли сообщения  в печатных изданиях о применении ЭВМ в медиц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Подобрали фот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D11B-8A8D-40A5-96CA-B72A33AF7D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Calibri"/>
              </a:rPr>
              <a:t>РЕЗУЛЬТАТЫ О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5DAA-0093-445C-B8B2-489E9D9222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Calibri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Чем раньше выявить заболевание, тем проще его ле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Люди стали больше доверять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E18C-8322-4081-AF1E-F5CDCA6276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cc"/>
                </a:solidFill>
                <a:latin typeface="Times New Roman"/>
              </a:rPr>
              <a:t>В компьютеризированном отделении лечеб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257A-4032-4DDD-B5A6-6A78A330C2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используютс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для создания карт, показывающих скорость распространения эпидемий.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храня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в своей памяти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истории болезней пациен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что освобождает врачей от бумажной работы, на которую уходит много времени, и позволяет больше времени уделять самим бо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3D55-DE43-4779-B34F-6AEE1D2714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позволяют установить, как влияет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загрязненность воздух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 заболеваемость населения данного район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оме того, с их помощью можно изучать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влияние уда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 различные части тела, в частности, последствия удара при автомобильной катастрофе для черепа и позвоночника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A727-3DDA-4F9A-AFDE-87BD05CAE6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Компьютер - паци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ная техника используется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обучения медицинских работников практическим навык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На этот раз компьютер выступает в роли больного, которому требуется немедленная помощь. На основании симптомов, выданных компьютером, обучающийся должен определить курс лечения. Если он ошибся, компьютер сразу показывает э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3664-84CA-49FB-91F5-26EE4D32EB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24100"/>
                </a:solidFill>
                <a:latin typeface="Calibri"/>
              </a:rPr>
              <a:t>Кроме т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ные сети используются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пересылки сообщений о донорских органах, в которых нуждаются больные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ожидающие операции трансплан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Банки медицинских дан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озволяют медикам быть в курсе последних научных и практических достиж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D08F-28FA-41CA-8078-81392D0D1F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00"/>
                </a:solidFill>
                <a:latin typeface="Times New Roman"/>
              </a:rPr>
              <a:t>Примеры компьютерных устройств и методов лечения и диагнос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К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омпьютерная томография и ядерная медицинская диагнос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дают точные послойные изображения структур внутренних орга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Times New Roman"/>
              </a:rPr>
              <a:t>У</a:t>
            </a:r>
            <a:r>
              <a:rPr b="1" lang="ru-RU" sz="1200" spc="-1" strike="noStrike">
                <a:solidFill>
                  <a:srgbClr val="004a00"/>
                </a:solidFill>
                <a:latin typeface="Times New Roman"/>
                <a:ea typeface="Times New Roman"/>
              </a:rPr>
              <a:t>льтразвуковая диагностика и зондировани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спользуя эффекты взаимодействия падающих и отраженных ультразвуковых волн, открывает бесчисленные возможности для получения изображений внутренних органов и исследования их состоя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1867-01F1-4A76-957E-757BC4F727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М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икрокомпьютерные технологии рентгеновских исследо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запомненные в цифровой форме рентгеновские снимки могут быть быстро и качественно обработаны, воспроизведены и занесены в архив для сравнения с последующими снимками этого паци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З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адатчик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 (водитель)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сердечного рит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A11C-B03C-4A52-9662-9905C310E1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У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стройства дыхания и нарко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Л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учевая терапия с микропроцессорным управл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обеспечивает возможность применения более надежных и щадящих методов об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1F85-26B1-4909-B3FF-466D220D1F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60B5-B537-425C-954C-B88F0F0E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15D-C171-4799-AB57-4629CE6B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8FA-2C56-43F4-939B-DDEBA690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59E-1244-44A1-8130-5D673251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E008-2104-4DCE-9A30-B1D65C97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F58A-E94F-446B-8426-4FB04FFD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4369-D095-4748-8CE3-3D2F66B8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4494-28D3-4247-B560-1266DD59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3077-4B6F-4438-871F-BA2FA454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CA02-0AE4-4D02-8AEA-252D4111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A856-1831-4747-8398-CA65710B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390-F934-4B67-BA20-53CF114A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69EF-BDB5-46E3-AED2-F1D3148E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FBF6-29A1-4B19-A98F-F50C2E7D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4F30-9CC8-4DB7-8330-62EFCDF3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ACC4-0A4D-4AB8-91A1-9763422E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50FE-B164-4F4A-BDCF-5E5E039D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D7AF2-729A-49E0-AFED-799E570D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B3A58-C1B1-4E6E-A6C6-0AD7C742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596F2-1A0F-448D-973F-E9D10F71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F2AD9-3FC9-4EAD-96A3-273DFCFE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36BFF-E82D-4DA4-A8EB-A729F49E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AA8B-4BB2-46A4-9120-E0EEDA57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0F3AB-F2ED-4585-9328-E971878E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C296C-3E7A-4307-8E8F-B19B92E3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63AF7-1B0A-40F9-BE60-4D11BB60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92B74-C8AB-4C4E-8E2A-6B204B9C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CBFA7-074C-4294-90C7-18648099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3FBA8-C3D9-401D-B13B-96DA41C5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F56F6-8D14-4D0D-B3F8-D2901B44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D9C81-761E-4922-854A-11AA0378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033B8-8271-4436-B657-E9027969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06CFB-0647-4D2F-A692-9A227728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E7DC-77F4-4A7C-8911-B2507522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DAA18-ABCC-431E-BBF9-052DB286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F794C-0614-42A6-9DE8-2C20DA12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2F9F8-6506-4370-8E90-9F1618C8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46CF5-416C-407F-B659-C30C38CD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2527E-CECD-4C18-8BEC-885BB5D1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51441-3CDD-4279-A2CA-346EAA53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F6C1B-70F6-4A04-8BED-8E617DFD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57B53-7AD5-453C-B6D3-F7A662CF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5FCEA-6DB7-47C1-927C-D45C1186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29C0E-A5F6-47AF-BA08-7CC4A47A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22AF-3CF3-4E6E-89C0-ACEF89FB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2547D-1626-4883-9B31-33675788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E1470-FD0F-4656-9D73-60028D3C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CB2F8-FA65-4C95-BAC9-7890A71A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44D8D-73AF-4E04-AE05-C3796FE5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6242F-6D1B-43A6-AF3A-AB4C12BA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0FBAE-4E59-4DE6-BBDA-4D5F8887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ACD2D-8A87-47A5-9172-CCD8BFD8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348A5-D9B2-4557-BDB0-18D0AFB4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26450-1DD1-4D7D-97BE-8ECA9D39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3FEE1-A76D-4F2A-AC29-0E4C9AAF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244D-FF17-43F4-B06D-5954E78D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9CF8A-6D06-4D94-B303-8138155F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F5539-976E-45BA-8BF2-0019E410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105AB-39D3-4E5E-B391-295B7AE1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2C2A1-4C34-459E-B98E-87EDD664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11AEB-0677-4EC0-B8E6-337D1D26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1353B-25D0-42A1-9582-496C5C1F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41FEB-2601-471C-B2BE-E906E11E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0A383-7C89-48D9-A8C6-6C08E60A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8B695-506D-471B-8EB5-BFDFE25E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09112-EA10-43F3-9224-71A0B344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B40F-6D6B-4562-9330-443F1884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A7156-E16D-4E3E-9B33-074254BA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6E585-A971-4170-B801-9B784E21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6B1A7-1C86-4C5C-86AC-FF9E8412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7F996-B6D9-4BC4-8C8B-882098DD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6C5B4-A591-46FA-B45C-410DD362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18281-2E6B-4C56-89B0-80B77FB1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95F45-60B8-48C1-93BC-4F3DFD7A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6AF48-E218-494B-BA22-B5D7BF9B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67FE8-542A-466F-8F52-B3327706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E3AFE-C08A-4EBC-9D70-9C1A0604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00E-1483-4A6E-8183-9C8DA824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3DED2-1479-47AD-9FF3-A3F388E3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D6EDD-2AEB-4E46-B6B1-C1EC2DEB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C8CC7-AFD9-40BE-A925-88BB3886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921D6-8F1D-4C8B-A0DF-DB305D58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CD8C0-D87A-47AF-9F91-5EF4C62D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E98AB-70CF-4DE3-891B-6F3204A1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36AB4-6F82-4EE6-B4F4-230FCE2D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085B3-8FCC-4EF2-8B0E-7481ECF6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E8717-05F3-4E2B-8F9C-F8680420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D7D6E-85B6-4CF8-A884-5D1986BD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F19-C777-41A4-81FC-8772561F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E6B50-A33C-4CA0-9A82-D6BFE122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8C513-E79A-49BC-AB54-359FC304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CC1A9-7D67-4378-AFD1-8A15329F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35FA4-2AB7-4541-976C-B7EE013F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EC01B-AFBB-4378-A2C3-44909565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3F69A-3A77-4E7E-9101-4F9857EA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827C3-CE7E-4E35-B5E2-22321902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кутний трикут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 сполучна ліні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E212-5062-43E1-9A79-640520A40B38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C1EA-3207-438D-804E-209A57B695A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кутний трикут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увати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іліні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іліні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іліні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іліні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 сполучна ліні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AEF1-B21D-4928-AC88-4F39184EC648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2273-31DF-4FAF-B92C-DE8827AFCF0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9858-95BD-4F0E-886B-85B3C64C9D62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9A5D-70F8-4908-A62A-ADA0801582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BB47-6DC8-4B20-BA9D-A8BB82E3ADBA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03EE-A5FF-469B-BE9B-691C89923C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2A2C-D9A8-4742-969D-479C26BE1A87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A8B0-4FF2-4E2B-9EF5-19CC07958B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F729-ACC9-43A8-AFF0-9512E8AFFEB8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BA2F-0B93-4055-A54F-AF36A42C4F0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6BC2-541A-47DF-8893-B4CB078BB2B9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72B7-CA83-4940-A2F3-162A80039C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іліні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іліні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кутний трикут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кутний трикут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 сполучна ліні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4FCF-8D47-44CA-983D-DBDB4D57D128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3DE8-CA62-4140-B0DC-6ED89317960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-384120" y="115920"/>
            <a:ext cx="8235720" cy="2462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HM00361_"/>
          <p:cNvPicPr/>
          <p:nvPr/>
        </p:nvPicPr>
        <p:blipFill>
          <a:blip r:embed="rId2"/>
          <a:stretch/>
        </p:blipFill>
        <p:spPr>
          <a:xfrm>
            <a:off x="5334120" y="2666880"/>
            <a:ext cx="3538440" cy="319428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устройства диагностики и локализации почечных и желчных камней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а также контроля процесса их разрушения при помощи наружных ударных волн (литотрипсия)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лечение зубов и протезировани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 помощью компьютер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систем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 микрокомпьютерным управлением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интенсивного медицинского контроля пациента</a:t>
            </a:r>
            <a:r>
              <a:rPr b="0" lang="ru-RU" sz="2700" spc="-1" strike="noStrike">
                <a:solidFill>
                  <a:srgbClr val="004a00"/>
                </a:solidFill>
                <a:latin typeface="Lucida Sans Unicode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838080" y="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4a00"/>
                </a:solidFill>
                <a:latin typeface="Times New Roman"/>
              </a:rPr>
              <a:t>А также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-231840" y="0"/>
            <a:ext cx="8583840" cy="22366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-360" y="2149200"/>
            <a:ext cx="79246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Взяли интервью у местных работников здравоохран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Провели опрос знакомы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Нашли сообщения  в печатных изданиях о применении ЭВМ в медицин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Подобрали фотограф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-255600" y="189000"/>
            <a:ext cx="802800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Object 8"/>
          <p:cNvGraphicFramePr/>
          <p:nvPr/>
        </p:nvGraphicFramePr>
        <p:xfrm>
          <a:off x="0" y="1071720"/>
          <a:ext cx="7616880" cy="553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1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71720"/>
                    <a:ext cx="7616880" cy="55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-324000" y="96840"/>
            <a:ext cx="8340840" cy="14032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</a:rPr>
              <a:t>Чем раньше выявить заболевание, тем проще его лечить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</a:rPr>
              <a:t>Люди стали больше доверять ЭВМ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-291960" y="-268200"/>
            <a:ext cx="8180280" cy="26938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  <a:ea typeface="Times New Roman"/>
              </a:rPr>
              <a:t>Компьютерная аппаратура широко используется при постановке диагноза, проведении обследований и профилактических осмотров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рименение компьютеров переводит медицину на иной, более высокий качественный уровень и способствует дальнейшему повышению уровня и качества жизни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210024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D:\TOCD\Ищенко\Электронная версия учебника по информатике 10-11\0014-2.jpg"/>
          <p:cNvPicPr/>
          <p:nvPr/>
        </p:nvPicPr>
        <p:blipFill>
          <a:blip r:embed="rId1"/>
          <a:stretch/>
        </p:blipFill>
        <p:spPr>
          <a:xfrm>
            <a:off x="714240" y="990720"/>
            <a:ext cx="7772400" cy="58672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В компьютеризированном отделении лечебного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используются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для создания карт, показывающих скорость распространения эпидемий.</a:t>
            </a:r>
            <a:r>
              <a:rPr b="0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4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хранят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в своей памяти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истории болезней пациентов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что освобождает врачей от бумажной работы, на которую уходит много времени, и позволяет больше времени уделять самим больным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-360" y="533520"/>
            <a:ext cx="8001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позволяют установить, как влияет 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загрязненность воздуха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на заболеваемость населения данного района. 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роме того, с их помощью можно изучать 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влияние ударов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на различные части тела, в частности, последствия удара при автомобильной катастрофе для черепа и позвоночника человека.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ная техника используется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обучения медицинских работников практическим навыкам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. На этот раз компьютер выступает в роли больного, которому требуется немедленная помощь. На основании симптомов, выданных компьютером, обучающийся должен определить курс лечения. Если он ошибся, компьютер сразу показывает это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ные сети используются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пересылки сообщений о донорских органах, в которых нуждаются больные</a:t>
            </a:r>
            <a:r>
              <a:rPr b="0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,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ожидающие операции трансплантаци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Банки медицинских данных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позволяют медикам быть в курсе последних научных и практических достижений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211280" y="2852640"/>
            <a:ext cx="4932360" cy="19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00"/>
                </a:solidFill>
                <a:latin typeface="Lucida Sans Unicode"/>
              </a:rPr>
              <a:t>К</a:t>
            </a:r>
            <a:r>
              <a:rPr b="1" lang="ru-RU" sz="24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омпьютерная томография и ядерная медицинская диагностика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— дают точные послойные изображения структур внутренних органов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7" descr="D:\TOCD\Ищенко\Электронная версия учебника по информатике 10-11\0011-3.jpg"/>
          <p:cNvPicPr/>
          <p:nvPr/>
        </p:nvPicPr>
        <p:blipFill>
          <a:blip r:embed="rId1"/>
          <a:stretch/>
        </p:blipFill>
        <p:spPr>
          <a:xfrm>
            <a:off x="0" y="228600"/>
            <a:ext cx="3684600" cy="37051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6"/>
          <p:cNvSpPr/>
          <p:nvPr/>
        </p:nvSpPr>
        <p:spPr>
          <a:xfrm>
            <a:off x="368604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304920" y="4495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4a00"/>
                </a:solidFill>
                <a:latin typeface="Times New Roman"/>
                <a:ea typeface="Times New Roman"/>
              </a:rPr>
              <a:t>льтразвуковая диагностика и зондир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спользуя эффекты взаимодействия падающих и отраженных ультразвуковых волн, открывает бесчисленные возможности для получения изображений внутренних органов и исследования их состоя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4140360" y="0"/>
            <a:ext cx="50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Times New Roman"/>
              </a:rPr>
              <a:t>Примеры компьютерных устройств и методов лечения и диагнос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1011240" y="573120"/>
            <a:ext cx="8334360" cy="33764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36800" y="4628880"/>
            <a:ext cx="450684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a00"/>
                </a:solidFill>
                <a:latin typeface="Lucida Sans Unicode"/>
              </a:rPr>
              <a:t>З</a:t>
            </a:r>
            <a:r>
              <a:rPr b="1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адатчик</a:t>
            </a:r>
            <a:r>
              <a:rPr b="0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 (водитель) </a:t>
            </a:r>
            <a:r>
              <a:rPr b="1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сердечного ритма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7" descr="D:\TOCD\Ищенко\Электронная версия учебника по информатике 10-11\0012-2.jpg"/>
          <p:cNvPicPr/>
          <p:nvPr/>
        </p:nvPicPr>
        <p:blipFill>
          <a:blip r:embed="rId2"/>
          <a:stretch/>
        </p:blipFill>
        <p:spPr>
          <a:xfrm>
            <a:off x="0" y="3733920"/>
            <a:ext cx="3073320" cy="31240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369576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-201600" y="4724280"/>
            <a:ext cx="7900920" cy="145116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419360" y="-36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4a00"/>
                </a:solidFill>
                <a:latin typeface="Lucida Sans Unicode"/>
              </a:rPr>
              <a:t>Л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учевая терапия с микропроцессорным управлением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— обеспечивает возможность применения более надежных и щадящих методов облучения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Picture 8" descr="D:\TOCD\Ищенко\Электронная версия учебника по информатике 10-11\0013-2.jpg"/>
          <p:cNvPicPr/>
          <p:nvPr/>
        </p:nvPicPr>
        <p:blipFill>
          <a:blip r:embed="rId2"/>
          <a:stretch/>
        </p:blipFill>
        <p:spPr>
          <a:xfrm>
            <a:off x="0" y="304920"/>
            <a:ext cx="3809880" cy="38304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369108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7:19:39Z</dcterms:created>
  <dc:creator>user</dc:creator>
  <dc:description/>
  <dc:language>en-US</dc:language>
  <cp:lastModifiedBy>RomaK</cp:lastModifiedBy>
  <dcterms:modified xsi:type="dcterms:W3CDTF">2014-10-31T12:41:37Z</dcterms:modified>
  <cp:revision>20</cp:revision>
  <dc:subject/>
  <dc:title>Компьютеры в медицине</dc:title>
</cp:coreProperties>
</file>