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himes.wav" ContentType="audio/x-wav"/>
  <Override PartName="/ppt/media/image1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0522-6AF0-4DCC-8A79-8AF6345886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Компьютеры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591D-8728-4832-96BB-451E0994B4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стройства диагностики и локализации почечных и желчных кам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ечение зубов и проте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компью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микрокомпьютерным управлением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интенсивного медицинского контроля пациента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9632-7DCA-45F3-8CED-7468CD3443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alibri"/>
              </a:rPr>
              <a:t>Что и как мы узнали  о применении компьютеров в медицин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Взяли интервью у местных работников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ровели опрос зна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Нашли сообщения  в печатных изданиях о применении ЭВМ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одобрали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35FC-3ECD-4E6E-8BC1-D7FE9FE07A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Calibri"/>
              </a:rPr>
              <a:t>РЕЗУЛЬТАТЫ О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4E30-47E9-4D1F-8A89-AEE16D76FB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Чем раньше выявить заболевание, тем проще его ле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Люди стали больше доверять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19FE-7E36-4116-9153-3EED683D07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88D7-938A-45D2-8445-0FE6C70773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используютс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храня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в своей памяти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стории болезней пацие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8C08-FAFF-463E-9272-53D4AD51E4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позволяют установить, как влияет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загрязненность воздух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заболеваемость населения данного район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оме того, с их помощью можно изучать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влияние уда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91EF-12AF-4E2B-9211-DA2990BEC6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Компьютер - па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ая техника используе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C160-552C-4B5C-BC35-FC67129DC6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24100"/>
                </a:solidFill>
                <a:latin typeface="Calibri"/>
              </a:rPr>
              <a:t>Кроме т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ые сети использую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жидающие операции транспла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Банки медицински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26BC-6547-4628-884E-CA68494C08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К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15D5-AA05-4219-8368-5161625AFF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М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крокомпьютерные технологии рентгеновских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запомненные в цифровой форме рентгеновские снимки могут быть быстро и качественно обработаны, воспроизведены и занесены в архив для сравнения с последующими снимками этого паци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З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адатчик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(водитель)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ердечного рит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6B5E-4FC9-4F64-9B47-26916628E5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тройства дыхания и нарко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учевая терапия с микропроцессорным управл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ADFC-CAA0-4382-8291-541EFFF00C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C9A-8C77-4007-A11C-29EE7B9C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5C3-B1CE-499D-9402-061E5FD0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5BB-3054-45EA-A1D6-D375A1CF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D61-9EF8-4463-9DF1-4C0C7D3D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C7FD-79CA-4C83-AE03-D66526F7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E441-C195-47DA-B0EF-361CCECB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801A-7242-459E-945C-3975FFE1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976F-3B5A-44FB-8899-92556B0B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F4C8-1B76-473B-A3C1-3B7B3363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EA07-B3A6-4128-A3D5-66B03B7C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BCBE-C074-46AD-B0C8-19A12349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4E4-7E63-4F7A-BE58-90751D76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5D01-728E-4753-9007-1583F785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1C6E-1B68-4EFF-AAE5-A5743B98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6F81-908B-49B6-9D97-A4C907DF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67EB-5923-4600-8E1A-8F4167FF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4B83-36F6-4023-B358-CCF2DFB8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1DA32-6307-45A6-BE3F-4376246F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D725D-C42A-4A6B-8DF7-D8EC6AF1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2817-3E60-4E9C-AC87-88C550C7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FC4FD-7683-4EED-9BE7-FF70502C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2D986-1CF4-4439-8D30-40FE51EF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E01-4554-46D3-A9FB-798C7907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CF033-9CDD-40F5-9617-799CC9A8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0946-70C7-4CFD-AB7B-26A70609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D4090-1C92-4C65-95DA-80FD038E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2E050-E6B3-4E51-9F93-23DC090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8BD0-8AF6-4C7D-ADA4-FAA5207F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64507-79A4-456A-9C10-0D96EC1E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C3E4-FE8F-4A7B-94C5-1EEBC697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32C5A-58C8-4A5E-86D8-FFFB690B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1BC58-573E-4E9F-915B-B777415D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1A5F5-43A3-429C-A251-4E904C5D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772-3A24-48CD-A794-D0155F11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0BDB8-FF2A-40B0-8EDC-66669A76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F41B2-8C7F-4BEA-8718-C7EFC3E6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C3E58-29C9-4A35-BD8D-38997355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3BC4D-5FB9-432B-9836-EF919D69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FFDDF-2E82-483B-BBD3-C993872E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AF36E-8AD1-44D6-B46A-ED56EC39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A04A-26AB-471E-8E0B-E7CA545E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8BAF1-425D-4924-B168-BB0E5BB6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CEC4F-4A67-4D45-A81A-8D826E4A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F257A-2A67-4F65-B9FF-386F7146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706-CBE3-402B-B81D-5E1A74CB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FB5DA-413B-44D8-894D-9B9263F9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187AE-DC7A-4F15-9D7F-1BB51087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CFA8E-EA25-4610-A254-B9D440F2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27E22-14D6-4155-91A5-FEE678AD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D196F-139D-442D-BB45-7FD01FB0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5EA49-D0CB-4778-8DE9-4D6EAB67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FB35D-DA99-4A62-90B0-C5BEB633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62827-239A-4494-8BD3-CAF3B733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AD1C6-A341-4746-95E9-D603211B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6F594-E483-449B-BE18-DC69A34C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8B5-268E-479A-A8A1-CAC11396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5B7FF-B3B8-41BB-8B72-D4126015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91891-5474-434D-9610-A93C00DE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476D9-01BA-4694-B88F-88889B09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01180-45E3-457D-82D9-BF07FBAA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1B001-B009-4B94-B364-211FA5B1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9D9D4-C686-4F73-A583-28E04BA8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2E639-C919-47C6-BAD1-D190D7C8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E0325-9155-4B00-B2A5-0D4B3282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A35C1-448D-4F11-9709-46864E6B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071FB-04AF-44A4-A0DF-5921D93B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52F-163C-426C-8F01-7F53A5EC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161F8-77F7-4DA2-BE12-A25C44B9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13181-F994-46BA-A5B3-D526433A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2B60D-BF4B-412E-B803-E2201065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6E996-84BB-44E2-9E4A-0A762F9B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A6AEB-78B1-4653-9462-996856E4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2C0B0-74C4-4938-B5A5-1239197C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99A62-FF55-4949-9FCB-1D6BFD0D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D130A-A158-4DB1-8492-F368D94C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EFC84-C5A6-4B47-BABC-9B5098C4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87AD2-F33F-4959-9D96-4EC06828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870-09B0-4888-A597-BABA04BD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B1941-B2E9-48BF-A0DD-1A1AE620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9CE50-C88F-4B4A-B742-0C0C9084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87A85-69E8-40A1-A353-63A66CAC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4C95D-312F-48D8-ADE3-4E62EF71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73409-1F26-46AE-8BAA-EADB616B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04236-6B0F-47D9-884F-1B4A63F2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A7DE8-1A56-4779-A113-77313521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F5920-8925-4970-918F-1F60B579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208DB-0C3B-427B-9B30-AE3DE893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62D44-319E-4C08-90EB-385F83FA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99C-9B78-4273-92B4-6855C1A2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304DA-1ADE-40B5-99BB-6C2E1D23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9BBE6-F01C-4A44-8F1F-87357467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F9AAE-401B-48B9-909E-594952CB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C6253-E621-4704-9D5B-65FB5777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79D0C-10E8-4CFB-B44D-F747776A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F8FC3-7EBF-48C8-B6C2-57805924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74221-7099-4824-8429-9DF41801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кутний трикут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 сполучна ліні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6250-313C-4829-9E7C-0696832069C9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9EB4-3B3A-4A58-AB6F-0CA7DC7C37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кутний трикут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увати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іліні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іліні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іліні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іліні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 сполучна ліні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5A8E-29AC-4181-B84D-BDB5B31D2EE4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83CB-AF09-4FE7-ACD6-2176B66BC6E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CDC1-838A-4606-A8A3-1419A2C12713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C13C-4565-4B4B-B6AC-7F41E733CF3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FF47-9BBD-4B72-8F8B-B2C8E241863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53B9-8744-4117-B050-CA4266B36F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4EA3-50EE-499F-8366-29B0EFE94AF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E973-85B1-40FF-907A-BC9A82D2E0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2A19-5C31-4013-9F1A-6B57C1F9BF4E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2E71-AB6E-472B-8600-27CCBD1B54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5055-B299-41B8-A503-BAD8330FE52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932E-FD42-435D-8D76-E95C96D7EE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іліні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іліні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кутний трикут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кутний трикут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 сполучна ліні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28C3-65D7-4698-BF3F-71A5A9FC3B8A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988D-3B34-4678-8C75-1F51C7C105E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384120" y="115920"/>
            <a:ext cx="8235720" cy="2462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M00361_"/>
          <p:cNvPicPr/>
          <p:nvPr/>
        </p:nvPicPr>
        <p:blipFill>
          <a:blip r:embed="rId2"/>
          <a:stretch/>
        </p:blipFill>
        <p:spPr>
          <a:xfrm>
            <a:off x="5334120" y="2666880"/>
            <a:ext cx="3538440" cy="319428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устройства диагностики и локализации почечных и желчных камней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лечение зубов и протез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помощью компьютер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систем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микрокомпьютерным управлением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интенсивного медицинского контроля пациента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838080" y="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a00"/>
                </a:solidFill>
                <a:latin typeface="Times New Roman"/>
              </a:rPr>
              <a:t>А такж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-231840" y="0"/>
            <a:ext cx="8583840" cy="22366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-360" y="2149200"/>
            <a:ext cx="79246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Взяли интервью у местных работников здравоохран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ровели опрос знакомы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Нашли сообщения  в печатных изданиях о применении ЭВМ в медици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одобрали фотограф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255600" y="189000"/>
            <a:ext cx="80280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8"/>
          <p:cNvGraphicFramePr/>
          <p:nvPr/>
        </p:nvGraphicFramePr>
        <p:xfrm>
          <a:off x="0" y="1071720"/>
          <a:ext cx="7616880" cy="553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71720"/>
                    <a:ext cx="7616880" cy="55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-324000" y="96840"/>
            <a:ext cx="8340840" cy="1403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Чем раньше выявить заболевание, тем проще его лечи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Люди стали больше доверять ЭВМ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-291960" y="-268200"/>
            <a:ext cx="8180280" cy="26938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  <a:ea typeface="Times New Roman"/>
              </a:rPr>
              <a:t>Компьютерная аппаратура широко используется при постановке диагноза, проведении обследований и профилактических осмотров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менение компьютеров переводит медицину на иной, более высокий качественный уровень и способствует дальнейшему повышению уровня и качества жизни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210024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D:\TOCD\Ищенко\Электронная версия учебника по информатике 10-11\0014-2.jpg"/>
          <p:cNvPicPr/>
          <p:nvPr/>
        </p:nvPicPr>
        <p:blipFill>
          <a:blip r:embed="rId1"/>
          <a:stretch/>
        </p:blipFill>
        <p:spPr>
          <a:xfrm>
            <a:off x="714240" y="99072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используются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хранят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в своей памяти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истории болезней пациентов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позволяют установить, как влияет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загрязненность воздуха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заболеваемость населения данного района. 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роме того, с их помощью можно изучать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влияние ударов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ая техника используе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ые сети использую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,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ожидающие операции трансплантаци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Банки медицинских данных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211280" y="2852640"/>
            <a:ext cx="493236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Lucida Sans Unicode"/>
              </a:rPr>
              <a:t>К</a:t>
            </a:r>
            <a:r>
              <a:rPr b="1" lang="ru-RU" sz="24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7" descr="D:\TOCD\Ищенко\Электронная версия учебника по информатике 10-11\0011-3.jpg"/>
          <p:cNvPicPr/>
          <p:nvPr/>
        </p:nvPicPr>
        <p:blipFill>
          <a:blip r:embed="rId1"/>
          <a:stretch/>
        </p:blipFill>
        <p:spPr>
          <a:xfrm>
            <a:off x="0" y="228600"/>
            <a:ext cx="3684600" cy="37051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6"/>
          <p:cNvSpPr/>
          <p:nvPr/>
        </p:nvSpPr>
        <p:spPr>
          <a:xfrm>
            <a:off x="36860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304920" y="4495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4140360" y="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011240" y="573120"/>
            <a:ext cx="8334360" cy="3376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36800" y="4628880"/>
            <a:ext cx="45068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a00"/>
                </a:solidFill>
                <a:latin typeface="Lucida Sans Unicode"/>
              </a:rPr>
              <a:t>З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адатчик</a:t>
            </a:r>
            <a:r>
              <a:rPr b="0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(водитель) 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сердечного ритма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7" descr="D:\TOCD\Ищенко\Электронная версия учебника по информатике 10-11\0012-2.jpg"/>
          <p:cNvPicPr/>
          <p:nvPr/>
        </p:nvPicPr>
        <p:blipFill>
          <a:blip r:embed="rId2"/>
          <a:stretch/>
        </p:blipFill>
        <p:spPr>
          <a:xfrm>
            <a:off x="0" y="3733920"/>
            <a:ext cx="3073320" cy="31240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369576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-201600" y="4724280"/>
            <a:ext cx="7900920" cy="14511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19360" y="-36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4a00"/>
                </a:solidFill>
                <a:latin typeface="Lucida Sans Unicode"/>
              </a:rPr>
              <a:t>Л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учевая терапия с микропроцессорным управлением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Picture 8" descr="D:\TOCD\Ищенко\Электронная версия учебника по информатике 10-11\0013-2.jpg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38304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36910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7:19:39Z</dcterms:created>
  <dc:creator>user</dc:creator>
  <dc:description/>
  <dc:language>en-US</dc:language>
  <cp:lastModifiedBy>RomaK</cp:lastModifiedBy>
  <dcterms:modified xsi:type="dcterms:W3CDTF">2014-10-31T12:41:37Z</dcterms:modified>
  <cp:revision>20</cp:revision>
  <dc:subject/>
  <dc:title>Компьютеры в медицине</dc:title>
</cp:coreProperties>
</file>