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chimes.wav" ContentType="audio/x-wav"/>
  <Override PartName="/ppt/media/image16.jpeg" ContentType="image/jpeg"/>
  <Override PartName="/ppt/media/image5.jpeg" ContentType="image/jpeg"/>
  <Override PartName="/ppt/media/image22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14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92ED-58E3-4212-A65B-D7A32861A0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cc"/>
                </a:solidFill>
                <a:latin typeface="Calibri"/>
              </a:rPr>
              <a:t>Компьютеры в медиц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B33B-713A-46CB-8D58-BFC5D5B519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устройства диагностики и локализации почечных и желчных камн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также контроля процесса их разрушения при помощи наружных ударных волн (литотрипси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лечение зубов и протез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помощью компьютер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систе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микрокомпьютерным управлением для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интенсивного медицинского контроля пациента</a:t>
            </a:r>
            <a:r>
              <a:rPr b="0" lang="ru-RU" sz="1200" spc="-1" strike="noStrike">
                <a:solidFill>
                  <a:srgbClr val="004a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9FE1-9BE1-45F2-9F5E-52826AA358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Calibri"/>
              </a:rPr>
              <a:t>Что и как мы узнали  о применении компьютеров в медицине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Взяли интервью у местных работников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Провели опрос зна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Нашли сообщения  в печатных изданиях о применении ЭВМ в медиц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Подобрали фотограф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E905-1A4C-413B-8C3E-7C535496DB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cc"/>
                </a:solidFill>
                <a:latin typeface="Calibri"/>
              </a:rPr>
              <a:t>РЕЗУЛЬТАТЫ О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66EA-9D2F-40FF-B9AA-2C547E0DB5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Calibri"/>
              </a:rPr>
              <a:t>Выв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Чем раньше выявить заболевание, тем проще его леч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Люди стали больше доверять ЭВ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B5BC-6BCB-47EF-8827-16F35F742F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cc"/>
                </a:solidFill>
                <a:latin typeface="Times New Roman"/>
              </a:rPr>
              <a:t>В компьютеризированном отделении лечебного учре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216B-CE05-42C3-98EF-176CDBFA2A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ы используются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для создания карт, показывающих скорость распространения эпидемий.</a:t>
            </a:r>
            <a:r>
              <a:rPr b="0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ы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храня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в своей памяти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истории болезней пациен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 что освобождает врачей от бумажной работы, на которую уходит много времени, и позволяет больше времени уделять самим боль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D33D-22B9-4110-A099-876EB6B7F3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ы позволяют установить, как влияет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загрязненность воздух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на заболеваемость населения данного район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оме того, с их помощью можно изучать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влияние удар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на различные части тела, в частности, последствия удара при автомобильной катастрофе для черепа и позвоночника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6882-A796-41C8-913B-DC485D68E2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Компьютер - паци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ная техника используется для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обучения медицинских работников практическим навык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На этот раз компьютер выступает в роли больного, которому требуется немедленная помощь. На основании симптомов, выданных компьютером, обучающийся должен определить курс лечения. Если он ошибся, компьютер сразу показывает эт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E4D5-4455-4A6E-8065-B8560CC004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24100"/>
                </a:solidFill>
                <a:latin typeface="Calibri"/>
              </a:rPr>
              <a:t>Кроме тог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ные сети используются для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пересылки сообщений о донорских органах, в которых нуждаются больные</a:t>
            </a:r>
            <a:r>
              <a:rPr b="0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ожидающие операции трансплант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Банки медицинских дан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позволяют медикам быть в курсе последних научных и практических достиж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3170-0359-474C-AFD1-50EA7978EC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4100"/>
                </a:solidFill>
                <a:latin typeface="Times New Roman"/>
              </a:rPr>
              <a:t>Примеры компьютерных устройств и методов лечения и диагнос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К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омпьютерная томография и ядерная медицинская диагност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— дают точные послойные изображения структур внутренних орга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Times New Roman"/>
              </a:rPr>
              <a:t>У</a:t>
            </a:r>
            <a:r>
              <a:rPr b="1" lang="ru-RU" sz="1200" spc="-1" strike="noStrike">
                <a:solidFill>
                  <a:srgbClr val="004a00"/>
                </a:solidFill>
                <a:latin typeface="Times New Roman"/>
                <a:ea typeface="Times New Roman"/>
              </a:rPr>
              <a:t>льтразвуковая диагностика и зондирование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используя эффекты взаимодействия падающих и отраженных ультразвуковых волн, открывает бесчисленные возможности для получения изображений внутренних органов и исследования их состоя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F9FF-DF2A-4544-ACE6-9A94F022DE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М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икрокомпьютерные технологии рентгеновских исследов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— запомненные в цифровой форме рентгеновские снимки могут быть быстро и качественно обработаны, воспроизведены и занесены в архив для сравнения с последующими снимками этого паци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З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адатчик</a:t>
            </a:r>
            <a:r>
              <a:rPr b="0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 (водитель)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сердечного рит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DAC6-3EE2-4E0F-A8D0-EB9454F4F0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У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стройства дыхания и наркоз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Л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учевая терапия с микропроцессорным управлени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— обеспечивает возможность применения более надежных и щадящих методов облуч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814D-88D3-4A67-B9F5-D338507030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0AA6-AA45-4E4F-8D73-449E7BF68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6269-83E6-492B-8BB5-04975D6E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E02F-7698-4C57-9914-618B12B3A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E8A1-B29E-4B0A-8B57-5A9AB737B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EA62-7468-4F4F-9D6D-04942264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9390-ABD2-477F-95F3-BA02916E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4BA2-8C48-4362-9838-6F937FB9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3314-2C7D-4DCF-8BFA-6B632F46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CADF-2893-4EE3-8580-3BB0843F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EC74-E87D-4A9B-87B8-77744518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D897-866E-4EF7-A09C-829FE25F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C33D-BA02-44DA-976F-C1BCE030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EA14-49BA-4CB4-A2F2-0BEEA702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5F53-747B-4D2E-88F2-FE1BD424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E260-FBF5-49F6-BEF5-0AB5CC79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303A-88C3-4E2C-8125-581FC64CE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B8AC-21A1-4ABB-B6DB-7C2162955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6749B-D681-4933-9D20-FD6C38AB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6F117-E32E-4F41-A6E4-40C90255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87E01-75DE-4639-B72B-3A1697BE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B43E5-5B97-45BE-A11C-F233D840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E25B4-A565-41BE-8B07-210E0518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01C2-681F-44FA-A50A-D8FB838B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E9238-DD72-40A8-A7AB-6200EB70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6D5FC-197E-43EC-B8B9-32B0ED7C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C843C-9E6B-4A4E-8B40-648DCE92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80869-B12E-44B2-BBC4-9EDCFDA6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4B9F7-5F80-4F00-AC44-76B20FBB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2F108-A1EF-48F7-A587-BBDE79500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66103-1E50-4737-BF18-0563CD74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D36AE-E1EA-4220-A4FD-6A37CDAA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B0C1B-7D53-4615-B4E3-7AB9E8BD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D37B0-8CF2-4221-8F19-65177376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BCD5-4F0A-4006-AEE1-F367E865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CB005-4608-4BAF-B273-FE5FB425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469BA-D6CA-4379-98B3-D0B20774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B2D50-2603-472D-B696-E9271347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7358F-539B-4444-B189-9E93DE38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3CF75-E115-441F-9C38-46CDFC6A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6D2C1-B182-4369-9255-A7A591B3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CD841-B9C9-4105-B57A-27A56DE0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FEB63-77DE-4497-B874-E9FB054E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DD02E-7AF8-401C-B806-16450D9A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4DE2C-4790-4E60-80DB-B4D894A4B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E598-05E9-42EE-BEEB-02FFBC3E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DDE07-36A1-4588-978C-EF692374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5D096-67F9-4073-A537-257700FB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522A9-CE88-4484-A5DD-DD79C403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9C168-F636-4F18-B7FD-D416B037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8F839-99A4-480E-9024-5D19E4C7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8A6AD-032B-4CBD-A3EF-45948577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1D542-D4CF-47D6-9721-E7069EAB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D0637-DA5D-4824-9D6B-E10C809C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A35B9-2A93-4C3A-B570-463C6A6C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1B71D-C356-4E86-ABA3-5F0216308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7756-4A2A-455D-B445-8B4ED728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AFE45-02BA-469C-86D2-84B947D4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6EFAE-DF73-4A33-BE40-0BD0F583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DD7FA-1B4D-4137-AA93-1AA2EB77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3867C-B28F-4E07-962B-4B6756F8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C4604-64EA-4D87-AB0B-2A0DB0BC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D66A0-34A3-484C-918F-50F43BFA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6D952-11CD-4198-8F1F-D9752CF7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01F8E-4CF9-4F34-B6AE-619BF221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34B27-319F-4C80-8B0A-51679FE3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7B59F-E331-4E66-A540-7761DD33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5F58-3243-4B16-A9E0-466F5B7A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7756F-DCFE-465B-A29F-05F3B70F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5ADDC-E7A8-4884-98E1-F7E2D4E0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27E4D-2F12-42C2-9B2E-C112B36FB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CAC1C-7E91-4FB2-9C42-F44070F0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04E60-BC8D-4868-BF6B-24A81CCA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998A6-245C-4961-AD09-CDB44068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541C5-B16C-4CF3-A32F-238B2AF4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0183D-B275-4EC5-AC45-D34ABBBC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C0345-3CAA-4968-83CF-8D969C04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E358F-74E8-4DB3-BA23-70ED2C57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D7F2-7BB0-4890-A853-9106D9F4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20B43-2253-495C-85D1-D1ED8553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AD8FA-23A1-4C13-BFB9-B92B5298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C3EE8-2DC5-4F14-A07A-F4D187C8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E03BA-C2D6-4B9D-A801-AF40CFDF5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417D8-5CAE-4EDB-844B-910F912E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59335-6F73-43BD-BAF9-971DB2CD9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0B294-BB5A-4557-8654-4358761E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07F8C-E91A-41D1-BD1F-5851E406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F6382-DA28-4DB5-8841-D0D2B479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C04B2-CCEE-4E79-B5DA-12D93256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7FAA-7E54-483D-A1A7-879AE41F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6F071-66DA-4410-9BD2-C44115A7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36DE5-AFC2-4535-8F61-5DB4C176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62457-4F2F-4A09-BD29-0FEB765C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221BA-AF0C-4A56-AF9E-7046A789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B1500-7091-4C90-8BDD-CBCCA967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F413E-210E-4BC4-BE4A-60D5737B4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5658C-5192-4808-B50D-03A46580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іліні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іліні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кутний трикут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кутний трикут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 сполучна ліні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CE3B-B37E-4546-9AD5-1E621EDCF181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1546-B77C-41C7-9F64-314DEF3F526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кутний трикут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увати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іліні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ілінія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іліні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іліні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 сполучна ліні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3146-F586-4543-A786-3CDD5CFEA435}" type="datetime">
              <a:rPr b="0" lang="ru-RU" sz="10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8A52-6323-4DBA-AFB2-B4A534B9259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іліні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іліні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кутний трикут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кутний трикут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 сполучна ліні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C983-F77C-443E-8298-8F2BC0621FFC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3CA7-42C4-4501-AE54-D2D31AD0AC2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іліні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іліні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кутний трикут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кутний трикут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 сполучна ліні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4173-B348-49F2-9B91-3BC468E875A5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6144-37ED-4DF3-8CE1-3800013B9D1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C69C-9FD8-42D0-B4A0-42F82974C242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8D75-74CE-418E-BB23-21715B84E1A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іліні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іліні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кутний трикут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кутний трикут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 сполучна ліні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EB4D-24EB-4C9B-912D-DBBA91664C32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84F0-E8FD-4C45-9006-962C009577E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6D16-7F58-4868-9FA0-D7A7BF155F0D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DDCB-9A08-413D-A57B-A662806B341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іліні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іліні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кутний трикут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кутний трикут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 сполучна ліні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9798-8E1D-4693-A046-EBA78E45F1B1}" type="datetime">
              <a:rPr b="0" lang="ru-RU" sz="10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11FD-92A3-42BB-B0B8-BD178DF1E4C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-384120" y="115920"/>
            <a:ext cx="8235720" cy="24620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HM00361_"/>
          <p:cNvPicPr/>
          <p:nvPr/>
        </p:nvPicPr>
        <p:blipFill>
          <a:blip r:embed="rId2"/>
          <a:stretch/>
        </p:blipFill>
        <p:spPr>
          <a:xfrm>
            <a:off x="5334120" y="2666880"/>
            <a:ext cx="3538440" cy="3194280"/>
          </a:xfrm>
          <a:prstGeom prst="rect">
            <a:avLst/>
          </a:prstGeom>
          <a:ln w="0">
            <a:noFill/>
          </a:ln>
        </p:spPr>
      </p:pic>
      <p:sp>
        <p:nvSpPr>
          <p:cNvPr id="379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4a00"/>
                </a:solidFill>
                <a:latin typeface="Lucida Sans Unicode"/>
              </a:rPr>
              <a:t>устройства диагностики и локализации почечных и желчных камней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а также контроля процесса их разрушения при помощи наружных ударных волн (литотрипсия)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4a00"/>
                </a:solidFill>
                <a:latin typeface="Lucida Sans Unicode"/>
              </a:rPr>
              <a:t>лечение зубов и протезирование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с помощью компьютера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4a00"/>
                </a:solidFill>
                <a:latin typeface="Lucida Sans Unicode"/>
              </a:rPr>
              <a:t>системы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с микрокомпьютерным управлением для </a:t>
            </a:r>
            <a:r>
              <a:rPr b="1" lang="ru-RU" sz="2700" spc="-1" strike="noStrike">
                <a:solidFill>
                  <a:srgbClr val="004a00"/>
                </a:solidFill>
                <a:latin typeface="Lucida Sans Unicode"/>
              </a:rPr>
              <a:t>интенсивного медицинского контроля пациента</a:t>
            </a:r>
            <a:r>
              <a:rPr b="0" lang="ru-RU" sz="2700" spc="-1" strike="noStrike">
                <a:solidFill>
                  <a:srgbClr val="004a00"/>
                </a:solidFill>
                <a:latin typeface="Lucida Sans Unicode"/>
              </a:rPr>
              <a:t>.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838080" y="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4a00"/>
                </a:solidFill>
                <a:latin typeface="Times New Roman"/>
              </a:rPr>
              <a:t>А также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-231840" y="0"/>
            <a:ext cx="8583840" cy="223668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-360" y="2149200"/>
            <a:ext cx="792468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2779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24100"/>
                </a:solidFill>
                <a:latin typeface="Lucida Sans Unicode"/>
              </a:rPr>
              <a:t>Взяли интервью у местных работников здравоохранен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4680" indent="2779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24100"/>
                </a:solidFill>
                <a:latin typeface="Lucida Sans Unicode"/>
              </a:rPr>
              <a:t>Провели опрос знакомы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4680" indent="2779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24100"/>
                </a:solidFill>
                <a:latin typeface="Lucida Sans Unicode"/>
              </a:rPr>
              <a:t>Нашли сообщения  в печатных изданиях о применении ЭВМ в медицин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4680" indent="2779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24100"/>
                </a:solidFill>
                <a:latin typeface="Lucida Sans Unicode"/>
              </a:rPr>
              <a:t>Подобрали фотографи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-255600" y="189000"/>
            <a:ext cx="8028000" cy="124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7" name="Object 8"/>
          <p:cNvGraphicFramePr/>
          <p:nvPr/>
        </p:nvGraphicFramePr>
        <p:xfrm>
          <a:off x="0" y="1071720"/>
          <a:ext cx="7616880" cy="5532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1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71720"/>
                    <a:ext cx="7616880" cy="55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-324000" y="96840"/>
            <a:ext cx="8340840" cy="140328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24100"/>
                </a:solidFill>
                <a:latin typeface="Lucida Sans Unicode"/>
              </a:rPr>
              <a:t>Чем раньше выявить заболевание, тем проще его лечить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24100"/>
                </a:solidFill>
                <a:latin typeface="Lucida Sans Unicode"/>
              </a:rPr>
              <a:t>Люди стали больше доверять ЭВМ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-291960" y="-268200"/>
            <a:ext cx="8180280" cy="269388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137160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24100"/>
                </a:solidFill>
                <a:latin typeface="Lucida Sans Unicode"/>
                <a:ea typeface="Times New Roman"/>
              </a:rPr>
              <a:t>Компьютерная аппаратура широко используется при постановке диагноза, проведении обследований и профилактических осмотров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-255600" y="201600"/>
            <a:ext cx="8272440" cy="115740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Применение компьютеров переводит медицину на иной, более высокий качественный уровень и способствует дальнейшему повышению уровня и качества жизни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6"/>
          <p:cNvSpPr/>
          <p:nvPr/>
        </p:nvSpPr>
        <p:spPr>
          <a:xfrm>
            <a:off x="2100240" y="9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D:\TOCD\Ищенко\Электронная версия учебника по информатике 10-11\0014-2.jpg"/>
          <p:cNvPicPr/>
          <p:nvPr/>
        </p:nvPicPr>
        <p:blipFill>
          <a:blip r:embed="rId1"/>
          <a:stretch/>
        </p:blipFill>
        <p:spPr>
          <a:xfrm>
            <a:off x="714240" y="990720"/>
            <a:ext cx="7772400" cy="586728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7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В компьютеризированном отделении лечебного учр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ы используются </a:t>
            </a:r>
            <a:r>
              <a:rPr b="1" lang="ru-RU" sz="36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для создания карт, показывающих скорость распространения эпидемий.</a:t>
            </a:r>
            <a:r>
              <a:rPr b="0" lang="ru-RU" sz="36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4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ы </a:t>
            </a:r>
            <a:r>
              <a:rPr b="1" lang="ru-RU" sz="36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хранят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в своей памяти </a:t>
            </a:r>
            <a:r>
              <a:rPr b="1" lang="ru-RU" sz="36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истории болезней пациентов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, что освобождает врачей от бумажной работы, на которую уходит много времени, и позволяет больше времени уделять самим больным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-360" y="533520"/>
            <a:ext cx="80010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ы позволяют установить, как влияет </a:t>
            </a:r>
            <a:r>
              <a:rPr b="1" lang="ru-RU" sz="33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загрязненность воздуха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на заболеваемость населения данного района. 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роме того, с их помощью можно изучать </a:t>
            </a:r>
            <a:r>
              <a:rPr b="1" lang="ru-RU" sz="33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влияние ударов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на различные части тела, в частности, последствия удара при автомобильной катастрофе для черепа и позвоночника человека.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-255600" y="201600"/>
            <a:ext cx="8272440" cy="11574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ная техника используется для </a:t>
            </a:r>
            <a:r>
              <a:rPr b="1" lang="ru-RU" sz="27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обучения медицинских работников практическим навыкам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. На этот раз компьютер выступает в роли больного, которому требуется немедленная помощь. На основании симптомов, выданных компьютером, обучающийся должен определить курс лечения. Если он ошибся, компьютер сразу показывает это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-255600" y="201600"/>
            <a:ext cx="8272440" cy="11574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ные сети используются для </a:t>
            </a:r>
            <a:r>
              <a:rPr b="1" lang="ru-RU" sz="27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пересылки сообщений о донорских органах, в которых нуждаются больные</a:t>
            </a:r>
            <a:r>
              <a:rPr b="0" lang="ru-RU" sz="27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,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ожидающие операции трансплантации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Банки медицинских данных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позволяют медикам быть в курсе последних научных и практических достижений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211280" y="2852640"/>
            <a:ext cx="4932360" cy="19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a00"/>
                </a:solidFill>
                <a:latin typeface="Lucida Sans Unicode"/>
              </a:rPr>
              <a:t>К</a:t>
            </a:r>
            <a:r>
              <a:rPr b="1" lang="ru-RU" sz="24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омпьютерная томография и ядерная медицинская диагностика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— дают точные послойные изображения структур внутренних органов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Picture 7" descr="D:\TOCD\Ищенко\Электронная версия учебника по информатике 10-11\0011-3.jpg"/>
          <p:cNvPicPr/>
          <p:nvPr/>
        </p:nvPicPr>
        <p:blipFill>
          <a:blip r:embed="rId1"/>
          <a:stretch/>
        </p:blipFill>
        <p:spPr>
          <a:xfrm>
            <a:off x="0" y="228600"/>
            <a:ext cx="3684600" cy="370512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6"/>
          <p:cNvSpPr/>
          <p:nvPr/>
        </p:nvSpPr>
        <p:spPr>
          <a:xfrm>
            <a:off x="368604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304920" y="449568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a00"/>
                </a:solidFill>
                <a:latin typeface="Times New Roman"/>
              </a:rPr>
              <a:t>У</a:t>
            </a:r>
            <a:r>
              <a:rPr b="1" lang="ru-RU" sz="2400" spc="-1" strike="noStrike">
                <a:solidFill>
                  <a:srgbClr val="004a00"/>
                </a:solidFill>
                <a:latin typeface="Times New Roman"/>
                <a:ea typeface="Times New Roman"/>
              </a:rPr>
              <a:t>льтразвуковая диагностика и зондирова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используя эффекты взаимодействия падающих и отраженных ультразвуковых волн, открывает бесчисленные возможности для получения изображений внутренних органов и исследования их состоя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9"/>
          <p:cNvSpPr/>
          <p:nvPr/>
        </p:nvSpPr>
        <p:spPr>
          <a:xfrm>
            <a:off x="4140360" y="0"/>
            <a:ext cx="50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24100"/>
                </a:solidFill>
                <a:latin typeface="Times New Roman"/>
              </a:rPr>
              <a:t>Примеры компьютерных устройств и методов лечения и диагнос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1011240" y="573120"/>
            <a:ext cx="8334360" cy="337644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636800" y="4628880"/>
            <a:ext cx="4506840" cy="13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a00"/>
                </a:solidFill>
                <a:latin typeface="Lucida Sans Unicode"/>
              </a:rPr>
              <a:t>З</a:t>
            </a:r>
            <a:r>
              <a:rPr b="1" lang="ru-RU" sz="28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адатчик</a:t>
            </a:r>
            <a:r>
              <a:rPr b="0" lang="ru-RU" sz="28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 (водитель) </a:t>
            </a:r>
            <a:r>
              <a:rPr b="1" lang="ru-RU" sz="28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сердечного ритма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Picture 7" descr="D:\TOCD\Ищенко\Электронная версия учебника по информатике 10-11\0012-2.jpg"/>
          <p:cNvPicPr/>
          <p:nvPr/>
        </p:nvPicPr>
        <p:blipFill>
          <a:blip r:embed="rId2"/>
          <a:stretch/>
        </p:blipFill>
        <p:spPr>
          <a:xfrm>
            <a:off x="0" y="3733920"/>
            <a:ext cx="3073320" cy="312408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6"/>
          <p:cNvSpPr/>
          <p:nvPr/>
        </p:nvSpPr>
        <p:spPr>
          <a:xfrm>
            <a:off x="369576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-201600" y="4724280"/>
            <a:ext cx="7900920" cy="145116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419360" y="-360"/>
            <a:ext cx="4724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4a00"/>
                </a:solidFill>
                <a:latin typeface="Lucida Sans Unicode"/>
              </a:rPr>
              <a:t>Л</a:t>
            </a:r>
            <a:r>
              <a:rPr b="1" lang="ru-RU" sz="33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учевая терапия с микропроцессорным управлением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— обеспечивает возможность применения более надежных и щадящих методов облучения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Picture 8" descr="D:\TOCD\Ищенко\Электронная версия учебника по информатике 10-11\0013-2.jpg"/>
          <p:cNvPicPr/>
          <p:nvPr/>
        </p:nvPicPr>
        <p:blipFill>
          <a:blip r:embed="rId2"/>
          <a:stretch/>
        </p:blipFill>
        <p:spPr>
          <a:xfrm>
            <a:off x="0" y="304920"/>
            <a:ext cx="3809880" cy="38304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7"/>
          <p:cNvSpPr/>
          <p:nvPr/>
        </p:nvSpPr>
        <p:spPr>
          <a:xfrm>
            <a:off x="369108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17:19:39Z</dcterms:created>
  <dc:creator>user</dc:creator>
  <dc:description/>
  <dc:language>en-US</dc:language>
  <cp:lastModifiedBy>RomaK</cp:lastModifiedBy>
  <dcterms:modified xsi:type="dcterms:W3CDTF">2014-10-31T12:41:37Z</dcterms:modified>
  <cp:revision>20</cp:revision>
  <dc:subject/>
  <dc:title>Компьютеры в медицине</dc:title>
</cp:coreProperties>
</file>