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64AD-BDF8-47F8-8C51-5511842FEE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Компьютеры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BCCC-5EC6-41AA-A8E7-957A5CAA7E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стройства диагностики и локализации почечных и желчных кам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ечение зубов и проте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компью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микрокомпьютерным управлением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интенсивного медицинского контроля пациента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6905-0153-4991-BEFC-206D394F11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libri"/>
              </a:rPr>
              <a:t>Что и как мы узнали  о применении компьютеров в медицин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Взяли интервью у местных работников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ровели опрос зна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Нашли сообщения  в печатных изданиях о применении ЭВМ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одобрали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93E6-CA9B-44E9-BF3E-20DBCF17DE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Calibri"/>
              </a:rPr>
              <a:t>РЕЗУЛЬТАТЫ О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D3BE-6B8F-484F-9834-C59F1433AC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Чем раньше выявить заболевание, тем проще его ле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Люди стали больше доверять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E319-99E1-49C1-AA01-01B569C29F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6F8B-F3A1-4270-A611-7614C825C9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используютс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храня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в своей памяти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стории болезней пацие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7747-55AD-4E81-B76E-9FBFD2328E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позволяют установить, как влияет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загрязненность воздух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заболеваемость населения данного район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с их помощью можно изучать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влияние уда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2600-9B0A-4365-875A-817C6DAF67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Компьютер - па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ая техника используе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B15B-5A7F-4E6A-89B0-42218F2A84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24100"/>
                </a:solidFill>
                <a:latin typeface="Calibri"/>
              </a:rPr>
              <a:t>Кроме т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ые сети использую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жидающие операции транспла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Банки медицински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1861-ED2C-4EF7-AF63-31CC0D3017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К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C4D4-A716-43BC-A08C-B1A02C0D34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М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крокомпьютерные технологии рентгеновских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помненные в цифровой форме рентгеновские снимки могут быть быстро и качественно обработаны, воспроизведены и занесены в архив для сравнения с последующими снимками этого паци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З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адатчик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(водитель)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ердечного рит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E60C-3864-430E-AF53-72F264F285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тройства дыхания и нарко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учевая терапия с микропроцессорным управл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E6B9-BAB1-4B1A-85E4-0BD86655C0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2A8-7640-449D-9F29-A6CECC44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C8E-215F-450B-8E02-86A4A200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2C5-4F8A-4C45-A590-101F5369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0B7-CE9E-4179-87A8-04231301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CAB9-51DE-4F7D-8CFC-5619CEC2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36DD-E0D1-4C75-8211-2E21F83D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DA48-931A-4A27-991D-662D142D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8044-2DB3-42F6-B2BB-FC4A6CC0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1D0F-FF09-4096-B253-C59A8103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D0B4-E85F-4491-92B4-20DA51EB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504D-FD2C-4E37-86AF-79F9881E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CAF-5496-423E-9EF3-0837A4AF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3FDD-0DC2-48F7-97EF-74328E36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DC63-DDB2-4625-A99D-9D6A0D35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A254-0F20-4152-AA69-57E1B204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31AD-1CFB-409D-8491-E4A1113B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2052-3243-4D5D-8575-99762E17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07A3-28DE-495F-86F6-F3174E78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61C2-22B2-4F88-8421-EB4069F1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16F3-85CB-4875-9CB4-C57EFD37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21C16-8846-4013-A2E6-40595733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347E-8A8F-4F5E-B25D-108F8182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E5A-45E2-4AD3-BF2B-54F69627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30C35-DB48-47E1-9652-75B76769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0BA4-F373-4E7C-B378-D6A882C8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EAB2D-16A3-466D-8D90-06CBCBFF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5965-55C2-49EC-8EF2-8CDF6CC2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2846-2F91-4D14-BF7A-1C6DCEF7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D39B8-4465-40D8-B58D-B9C4FCE8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5770-CA16-4E87-BFE8-3C68AB39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CB737-E1FA-47FD-971A-84D762EA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C9B3A-07CE-4302-9455-03563BC5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85EC-CBF6-4F1B-8A94-89DB3E7B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CC3-5E8F-4316-87F3-6A36B8DD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4A61-1181-4D1D-9161-A02F6583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10C3-0563-457C-8CBD-9F2766FC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8C0B-776B-4058-B5B6-C3C32ABB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C0227-CF88-4939-B66A-3019F0DA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4DCB9-BC20-43B1-ACB6-C34C5D95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C0F3-5EB6-4AC4-83A7-4ACC75FB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1F5A9-2E20-4F99-8B0D-FCE898B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31B95-FF5D-49CE-B259-6E5319D2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E0C8-E3A3-4BED-980C-DB412AC1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87A8-4465-4A25-BFE7-8AF2E38D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4D6-1A54-4A87-8DFE-94CBE7F5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37853-926D-4A1B-92A9-15426AE8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6916F-4ACF-4BEF-9B9E-87AB5967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0731-4577-488F-8E18-1B74CB73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D38D2-95F0-4BE9-99B7-7F4B981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E612F-B6F9-4B71-8328-D94F17D3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FBE3-3F2D-45E5-8049-332A5E2F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1AC1B-C7B5-4BFB-A21C-94097C9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9954A-12D0-4941-B48F-E930B13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FD2DF-5765-4B21-A00F-82E73512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7DC3C-4EE4-4BAA-BB06-BCD36C25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611-4DAC-4AD7-A4C6-3B858E85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4369D-5C54-4988-AFB7-89DDFB2A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E21B3-7FC5-447E-B4BD-3467AF60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8DB94-64A7-4489-B49B-FB7CB956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368C6-B564-4D9A-99A2-E9891A1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6737-67FF-4FDC-9025-23C47FE4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32766-ED0F-4523-87FF-80A7458F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D434B-8931-442C-A0C7-8B8D2A26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9B377-6144-4C8C-BE27-09CA2554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66F42-813E-4289-9A67-0EFD960B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308BA-FF9D-49E5-B621-F6F4C9A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11E-B091-4744-AC2E-19BFBC72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964BB-EC8C-412C-9DCF-3BC89CE9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36CAC-5F4F-4AAE-BBAC-5CDB9408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14076-B210-4505-9B45-9D660766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069B9-A065-4502-BE5F-080E60B9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85DFE-1019-446D-BD67-33BF6DAE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995C6-E19D-4155-ACB9-1916BC19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3ABEE-790C-4CAF-8F05-3CA35364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25237-1FF3-42F9-8481-6C83A364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DA123-0221-4E9D-A281-58DC7612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1D8C5-235E-47FF-9BA5-A5B8A2E2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722-6709-4527-981B-C3C429D4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515F4-D362-4DF5-BDEA-ACF01C0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51EB9-A4FC-4D88-815D-E1C13FDC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1B6CE-EEB4-47F6-AA9C-515AB4D8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25C40-7A94-4DB8-86FF-947D798B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C6958-0613-450F-9162-6C39D3CF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B9299-2F27-40E0-B231-DDFB6C30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F01CF-7027-4C4E-8A66-CC27F1E9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9CA8E-98F9-48B4-AAB1-A890E6F3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E6AE8-98AA-4C2D-AE95-01F2C31E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3DB7A-956F-4F0E-987A-A9B99214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A93-163C-4FFD-A315-A78EAFBE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CFFFB-AB70-4371-8EE6-712D4D29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37746-56CC-490B-A6C6-11620878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00649-F716-4C98-98C9-5B30A277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4D7D-CBF2-41D7-9BE4-EF99796E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409EF-CE70-4F2E-8FB7-E990DCE8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B7533-FABE-4D2E-90FD-5CCA1450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D769D-4B23-476B-B301-D6023F38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кутний трикут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 сполучна ліні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AD92-6AB1-4D9F-BCDC-6FDB3791E2E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D327-70F0-4739-A46B-CA3BD10075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й трикут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увати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іліні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іліні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іліні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іліні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 сполучна ліні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8DB0-6D1F-4538-9EE5-04997237BEF5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A473-D2B0-4E16-A071-6D47F05CD4B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95C-031D-451C-B564-CD58FE84FCEB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140A-90C8-4B57-90AB-18FCC10CE4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CA70-0530-4011-BB26-50FDD8500A42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83AD-92CC-4F9E-B2DA-E6442881E8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3925-5964-4795-9ABD-61113797316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4EFF-1A56-491A-AC9D-B04671F5DC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5CB7-B15D-44F4-9914-513FBCFB5D7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AEC4-9982-4BE2-9C1E-863E75A192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C7CA-3D5E-4455-8EDB-059B44E6DC4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4A07-3ECF-4EB7-A892-C619007B66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іліні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іліні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кутний трикут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кутний трикут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 сполучна ліні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A628-4F58-45F3-ACD2-9B655E93CE54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F9C5-8589-4303-BC70-BDC053E0481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384120" y="115920"/>
            <a:ext cx="8235720" cy="246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M00361_"/>
          <p:cNvPicPr/>
          <p:nvPr/>
        </p:nvPicPr>
        <p:blipFill>
          <a:blip r:embed="rId2"/>
          <a:stretch/>
        </p:blipFill>
        <p:spPr>
          <a:xfrm>
            <a:off x="5334120" y="2666880"/>
            <a:ext cx="3538440" cy="319428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устройства диагностики и локализации почечных и желчных камне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лечение зубов и протез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помощью компьютер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систем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микрокомпьютерным управлением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интенсивного медицинского контроля пациента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838080" y="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a00"/>
                </a:solidFill>
                <a:latin typeface="Times New Roman"/>
              </a:rPr>
              <a:t>А такж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8583840" cy="2236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149200"/>
            <a:ext cx="79246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Взяли интервью у местных работников здравоохран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ровели опрос знако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Нашли сообщения  в печатных изданиях о применении ЭВМ в ме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одобрали фот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255600" y="189000"/>
            <a:ext cx="80280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8"/>
          <p:cNvGraphicFramePr/>
          <p:nvPr/>
        </p:nvGraphicFramePr>
        <p:xfrm>
          <a:off x="0" y="1071720"/>
          <a:ext cx="7616880" cy="553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71720"/>
                    <a:ext cx="7616880" cy="55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324000" y="96840"/>
            <a:ext cx="8340840" cy="1403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Чем раньше выявить заболевание, тем проще его лечи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Люди стали больше доверять ЭВ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291960" y="-268200"/>
            <a:ext cx="8180280" cy="26938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  <a:ea typeface="Times New Roman"/>
              </a:rPr>
              <a:t>Компьютерная аппаратура широко используется при постановке диагноза, проведении обследований и профилактических осмотров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менение компьютеров переводит медицину на иной, более высокий качественный уровень и способствует дальнейшему повышению уровня и качества жизн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210024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D:\TOCD\Ищенко\Электронная версия учебника по информатике 10-11\0014-2.jpg"/>
          <p:cNvPicPr/>
          <p:nvPr/>
        </p:nvPicPr>
        <p:blipFill>
          <a:blip r:embed="rId1"/>
          <a:stretch/>
        </p:blipFill>
        <p:spPr>
          <a:xfrm>
            <a:off x="71424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используются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храня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в своей памяти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истории болезней пациент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позволяют установить, как влияет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загрязненность воздуха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заболеваемость населения данного района. 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роме того, с их помощью можно изучать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влияние ударов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ая техника используе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ые сети использую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,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ожидающие операции трансплантац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Банки медицинских данн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11280" y="2852640"/>
            <a:ext cx="493236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Lucida Sans Unicode"/>
              </a:rPr>
              <a:t>К</a:t>
            </a:r>
            <a:r>
              <a:rPr b="1" lang="ru-RU" sz="24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D:\TOCD\Ищенко\Электронная версия учебника по информатике 10-11\0011-3.jpg"/>
          <p:cNvPicPr/>
          <p:nvPr/>
        </p:nvPicPr>
        <p:blipFill>
          <a:blip r:embed="rId1"/>
          <a:stretch/>
        </p:blipFill>
        <p:spPr>
          <a:xfrm>
            <a:off x="0" y="228600"/>
            <a:ext cx="3684600" cy="37051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6860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04920" y="4495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140360" y="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011240" y="573120"/>
            <a:ext cx="8334360" cy="3376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36800" y="4628880"/>
            <a:ext cx="45068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a00"/>
                </a:solidFill>
                <a:latin typeface="Lucida Sans Unicode"/>
              </a:rPr>
              <a:t>З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адатчик</a:t>
            </a:r>
            <a:r>
              <a:rPr b="0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(водитель) 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сердечного ритма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7" descr="D:\TOCD\Ищенко\Электронная версия учебника по информатике 10-11\0012-2.jpg"/>
          <p:cNvPicPr/>
          <p:nvPr/>
        </p:nvPicPr>
        <p:blipFill>
          <a:blip r:embed="rId2"/>
          <a:stretch/>
        </p:blipFill>
        <p:spPr>
          <a:xfrm>
            <a:off x="0" y="3733920"/>
            <a:ext cx="3073320" cy="3124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6957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201600" y="4724280"/>
            <a:ext cx="790092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4a00"/>
                </a:solidFill>
                <a:latin typeface="Lucida Sans Unicode"/>
              </a:rPr>
              <a:t>Л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учевая терапия с микропроцессорным управлением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Picture 8" descr="D:\TOCD\Ищенко\Электронная версия учебника по информатике 10-11\0013-2.jpg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38304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36910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7:19:39Z</dcterms:created>
  <dc:creator>user</dc:creator>
  <dc:description/>
  <dc:language>en-US</dc:language>
  <cp:lastModifiedBy>RomaK</cp:lastModifiedBy>
  <dcterms:modified xsi:type="dcterms:W3CDTF">2014-10-31T12:41:37Z</dcterms:modified>
  <cp:revision>20</cp:revision>
  <dc:subject/>
  <dc:title>Компьютеры в медицине</dc:title>
</cp:coreProperties>
</file>