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A1A32-9946-4C8A-80CA-318DAD601A6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00"/>
                </a:solidFill>
                <a:latin typeface="Impact"/>
              </a:rPr>
              <a:t>Как завораживает звездное небо.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D137B-82B5-4F19-870D-4A32A039E3A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ве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4B8D5-8D88-432D-AE65-62FEBC02939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скорпи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D9B9A-9A4E-425F-845A-55B00708A08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стр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940EE-35E1-4F0A-9707-AD6521D40D9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козер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DBFE-102B-4756-A032-597F557D629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теле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5E66-7D33-466B-A86C-C1E4F9158CB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ра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C803-1026-48F1-8AEA-06A00F43DAF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л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09918-43AC-42C0-907E-45EF2B50CF6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- карл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2C01-0AD5-48AE-8DE9-E8E0DCF2A40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- гиган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38AE6-0612-4CB7-92C1-9BF37F03465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ойная звез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6C526-5B1B-4944-BB7E-DE063CA8C97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везда  - пульс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D2C78-4A38-4679-A066-052A3408959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рта северного полушария неб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DADB-ECC1-4E49-A1CC-D12A3E9D4C6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Люди разделили небо на 88 участков (созвездий) и дали этим «звездным группам» имена героев мифов, легенд, сказочных сущест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D4D95-8717-4FA1-A5E1-B4574FF78D6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66cc"/>
                </a:solidFill>
                <a:latin typeface="Impact"/>
              </a:rPr>
              <a:t>де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FAE9-5175-4950-B666-A9817DB3412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7A3D4-95A2-4405-B83D-0E6B65AB6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1A4F-56EC-49C2-B245-5DBE46D6B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13C8-D1C4-4564-920A-053061928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9E0D-AC44-4F79-B19A-FEB81E4A5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A973-4BD4-4635-B822-E60F73EF8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97FC-2C60-4901-8DBB-243BBC3D6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D1A7E-1848-4A88-AC21-153C88AF3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80A8-58AB-4A39-84B8-02E68FD80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2457-4368-4FAD-836B-8FE365CF4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A638-4778-4FE4-870D-FA176142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18F6-D86D-4E68-88F1-C956F4EF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D7F4-F4D4-4783-B39E-743F892D1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1629-A290-49C0-8075-E62BF508BE0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зв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762120" y="533520"/>
            <a:ext cx="76960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8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ак завораживает звездное небо...</a:t>
            </a:r>
            <a:endParaRPr b="0" lang="en-US" sz="1800" spc="1" strike="noStrike">
              <a:ln w="19080">
                <a:solidFill>
                  <a:srgbClr val="8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4"/>
          <p:cNvSpPr txBox="1"/>
          <p:nvPr/>
        </p:nvSpPr>
        <p:spPr>
          <a:xfrm>
            <a:off x="3505320" y="533520"/>
            <a:ext cx="19810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ес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4" name="Picture 5" descr="весы"/>
          <p:cNvPicPr/>
          <p:nvPr/>
        </p:nvPicPr>
        <p:blipFill>
          <a:blip r:embed="rId1"/>
          <a:stretch/>
        </p:blipFill>
        <p:spPr>
          <a:xfrm>
            <a:off x="1600200" y="1325520"/>
            <a:ext cx="5943600" cy="490716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4"/>
          <p:cNvSpPr txBox="1"/>
          <p:nvPr/>
        </p:nvSpPr>
        <p:spPr>
          <a:xfrm>
            <a:off x="2514600" y="609480"/>
            <a:ext cx="39625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корпион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7" name="Picture 5" descr="скорпион"/>
          <p:cNvPicPr/>
          <p:nvPr/>
        </p:nvPicPr>
        <p:blipFill>
          <a:blip r:embed="rId1"/>
          <a:stretch/>
        </p:blipFill>
        <p:spPr>
          <a:xfrm>
            <a:off x="1905120" y="1447920"/>
            <a:ext cx="5333760" cy="480060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2666880" y="457200"/>
            <a:ext cx="358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трел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0" name="Picture 5" descr="стрелец"/>
          <p:cNvPicPr/>
          <p:nvPr/>
        </p:nvPicPr>
        <p:blipFill>
          <a:blip r:embed="rId1"/>
          <a:stretch/>
        </p:blipFill>
        <p:spPr>
          <a:xfrm>
            <a:off x="1219320" y="1295280"/>
            <a:ext cx="6781680" cy="457200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4"/>
          <p:cNvSpPr txBox="1"/>
          <p:nvPr/>
        </p:nvSpPr>
        <p:spPr>
          <a:xfrm>
            <a:off x="2666880" y="609480"/>
            <a:ext cx="35816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зерог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3" name="Picture 5" descr="козерог"/>
          <p:cNvPicPr/>
          <p:nvPr/>
        </p:nvPicPr>
        <p:blipFill>
          <a:blip r:embed="rId1"/>
          <a:stretch/>
        </p:blipFill>
        <p:spPr>
          <a:xfrm>
            <a:off x="1600200" y="1447920"/>
            <a:ext cx="5867280" cy="4952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2971800" y="457200"/>
            <a:ext cx="32767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лец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6" name="Picture 5" descr="телец"/>
          <p:cNvPicPr/>
          <p:nvPr/>
        </p:nvPicPr>
        <p:blipFill>
          <a:blip r:embed="rId1"/>
          <a:stretch/>
        </p:blipFill>
        <p:spPr>
          <a:xfrm>
            <a:off x="1447920" y="1116000"/>
            <a:ext cx="6248160" cy="505620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3733920" y="533520"/>
            <a:ext cx="18288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ак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89" name="Picture 5" descr="рак"/>
          <p:cNvPicPr/>
          <p:nvPr/>
        </p:nvPicPr>
        <p:blipFill>
          <a:blip r:embed="rId1"/>
          <a:stretch/>
        </p:blipFill>
        <p:spPr>
          <a:xfrm>
            <a:off x="1752480" y="1467000"/>
            <a:ext cx="5867640" cy="476568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WordArt 4"/>
          <p:cNvSpPr txBox="1"/>
          <p:nvPr/>
        </p:nvSpPr>
        <p:spPr>
          <a:xfrm>
            <a:off x="3429000" y="380880"/>
            <a:ext cx="18288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лев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2" name="Picture 5" descr="лев"/>
          <p:cNvPicPr/>
          <p:nvPr/>
        </p:nvPicPr>
        <p:blipFill>
          <a:blip r:embed="rId1"/>
          <a:stretch/>
        </p:blipFill>
        <p:spPr>
          <a:xfrm>
            <a:off x="2057400" y="1116000"/>
            <a:ext cx="5562720" cy="490392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карлик"/>
          <p:cNvPicPr/>
          <p:nvPr/>
        </p:nvPicPr>
        <p:blipFill>
          <a:blip r:embed="rId1"/>
          <a:stretch/>
        </p:blipFill>
        <p:spPr>
          <a:xfrm>
            <a:off x="3166920" y="0"/>
            <a:ext cx="597708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304920" y="1828800"/>
            <a:ext cx="266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Звезда - карли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гигант"/>
          <p:cNvPicPr/>
          <p:nvPr/>
        </p:nvPicPr>
        <p:blipFill>
          <a:blip r:embed="rId1"/>
          <a:stretch/>
        </p:blipFill>
        <p:spPr>
          <a:xfrm>
            <a:off x="0" y="0"/>
            <a:ext cx="64008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6629400" y="2362320"/>
            <a:ext cx="2209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везда - гиган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двойная"/>
          <p:cNvPicPr/>
          <p:nvPr/>
        </p:nvPicPr>
        <p:blipFill>
          <a:blip r:embed="rId1"/>
          <a:stretch/>
        </p:blipFill>
        <p:spPr>
          <a:xfrm>
            <a:off x="0" y="457200"/>
            <a:ext cx="5791320" cy="5943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5"/>
          <p:cNvSpPr/>
          <p:nvPr/>
        </p:nvSpPr>
        <p:spPr>
          <a:xfrm>
            <a:off x="6019920" y="1523880"/>
            <a:ext cx="274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войная звез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ульсар"/>
          <p:cNvPicPr/>
          <p:nvPr/>
        </p:nvPicPr>
        <p:blipFill>
          <a:blip r:embed="rId1"/>
          <a:stretch/>
        </p:blipFill>
        <p:spPr>
          <a:xfrm>
            <a:off x="0" y="609480"/>
            <a:ext cx="5791320" cy="53341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6095880" y="1600200"/>
            <a:ext cx="2514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везда  - пульса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млечный путь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карт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5"/>
          <p:cNvSpPr/>
          <p:nvPr/>
        </p:nvSpPr>
        <p:spPr>
          <a:xfrm>
            <a:off x="533520" y="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Карта северного полушария неб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457200" y="1447920"/>
            <a:ext cx="80773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Люди разделили небо на 88 участков (созвездий) и дали этим «звездным группам» имена героев мифов, легенд, сказочных сущест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WordArt 4"/>
          <p:cNvSpPr txBox="1"/>
          <p:nvPr/>
        </p:nvSpPr>
        <p:spPr>
          <a:xfrm>
            <a:off x="3200400" y="609480"/>
            <a:ext cx="22096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де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1" name="Picture 5" descr="дева"/>
          <p:cNvPicPr/>
          <p:nvPr/>
        </p:nvPicPr>
        <p:blipFill>
          <a:blip r:embed="rId1"/>
          <a:stretch/>
        </p:blipFill>
        <p:spPr>
          <a:xfrm>
            <a:off x="1676520" y="1325520"/>
            <a:ext cx="5867280" cy="539928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GION</dc:creator>
  <dc:description/>
  <dc:language>en-US</dc:language>
  <cp:lastModifiedBy>LEGION</cp:lastModifiedBy>
  <dcterms:modified xsi:type="dcterms:W3CDTF">2015-01-12T09:55:58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