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2219C-8A21-4008-9604-848D6AC87C6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00"/>
                </a:solidFill>
                <a:latin typeface="Impact"/>
              </a:rPr>
              <a:t>Как завораживает звездное небо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B0FB0-4D41-44BA-AD2F-3EEC46B5B87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ве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FC8A6-E3E7-4016-9E33-9947C21DA6B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скорпи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ED986-DF23-486E-B3E7-A810C1DFC51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стрел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827AB-CBB5-4194-A644-F2201DE4945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козеро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7A58B-3C8B-4B62-AA4F-869DC98C210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тел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D904A-E470-4BBF-A984-29D74B10EEC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р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52E1A-4E78-41B7-BD94-7D2E979F04F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л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59221-BDA8-4914-8072-6C927FC0F81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везда - карл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610E8-EE1B-493A-A7B5-93565B1B334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везда - гига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9A095-EE9C-4FDF-86EB-A9D4A25B49E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войная звез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BFC80-6471-4EB9-986C-DB76E62BC3C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везда  - пульс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CD0F3-49A6-4801-83A8-F445132BA97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рта северного полушария неб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AF4DC-01B0-4C56-8616-2AE8B11189B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Люди разделили небо на 88 участков (созвездий) и дали этим «звездным группам» имена героев мифов, легенд, сказочных суще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44D82-4001-46B1-B4B0-537D113B02C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де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F94CA-92C3-445F-ADFA-E4056CDC140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5F9C-DE1B-46B2-9DB7-A3916C531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AF44-39A2-4D1E-B65E-9ECFEAB26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6F13-9717-4CE7-A87D-926CC5089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E566-F63C-4E85-96C9-CEBAD0F0C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C4E1-2520-4F5B-A3F7-E21140CE1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0D24-76BC-4FB8-AE7C-D07D012B1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4F73-C54F-4918-ABF3-F535BB3B1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B6EE-5341-4235-ACDE-2B7D42733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CF53-F3BE-494C-9B16-16792B0C4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7886-E930-42E9-9173-E444FABE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DF4C-DF52-4516-90EB-994D2618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A86B-B1F9-45B3-A23F-FFF632DF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84A5A-9C60-4B97-A002-2487124DBA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зв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762120" y="533520"/>
            <a:ext cx="76960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к завораживает звездное небо...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WordArt 4"/>
          <p:cNvSpPr txBox="1"/>
          <p:nvPr/>
        </p:nvSpPr>
        <p:spPr>
          <a:xfrm>
            <a:off x="3505320" y="533520"/>
            <a:ext cx="1981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ес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4" name="Picture 5" descr="весы"/>
          <p:cNvPicPr/>
          <p:nvPr/>
        </p:nvPicPr>
        <p:blipFill>
          <a:blip r:embed="rId1"/>
          <a:stretch/>
        </p:blipFill>
        <p:spPr>
          <a:xfrm>
            <a:off x="1600200" y="1325520"/>
            <a:ext cx="5943600" cy="490716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4"/>
          <p:cNvSpPr txBox="1"/>
          <p:nvPr/>
        </p:nvSpPr>
        <p:spPr>
          <a:xfrm>
            <a:off x="2514600" y="609480"/>
            <a:ext cx="3962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корпион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7" name="Picture 5" descr="скорпион"/>
          <p:cNvPicPr/>
          <p:nvPr/>
        </p:nvPicPr>
        <p:blipFill>
          <a:blip r:embed="rId1"/>
          <a:stretch/>
        </p:blipFill>
        <p:spPr>
          <a:xfrm>
            <a:off x="1905120" y="1447920"/>
            <a:ext cx="5333760" cy="480060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2666880" y="457200"/>
            <a:ext cx="3581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релец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0" name="Picture 5" descr="стрелец"/>
          <p:cNvPicPr/>
          <p:nvPr/>
        </p:nvPicPr>
        <p:blipFill>
          <a:blip r:embed="rId1"/>
          <a:stretch/>
        </p:blipFill>
        <p:spPr>
          <a:xfrm>
            <a:off x="1219320" y="1295280"/>
            <a:ext cx="6781680" cy="457200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4"/>
          <p:cNvSpPr txBox="1"/>
          <p:nvPr/>
        </p:nvSpPr>
        <p:spPr>
          <a:xfrm>
            <a:off x="2666880" y="609480"/>
            <a:ext cx="3581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зерог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3" name="Picture 5" descr="козерог"/>
          <p:cNvPicPr/>
          <p:nvPr/>
        </p:nvPicPr>
        <p:blipFill>
          <a:blip r:embed="rId1"/>
          <a:stretch/>
        </p:blipFill>
        <p:spPr>
          <a:xfrm>
            <a:off x="1600200" y="1447920"/>
            <a:ext cx="5867280" cy="495288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4"/>
          <p:cNvSpPr txBox="1"/>
          <p:nvPr/>
        </p:nvSpPr>
        <p:spPr>
          <a:xfrm>
            <a:off x="2971800" y="457200"/>
            <a:ext cx="3276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лец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6" name="Picture 5" descr="телец"/>
          <p:cNvPicPr/>
          <p:nvPr/>
        </p:nvPicPr>
        <p:blipFill>
          <a:blip r:embed="rId1"/>
          <a:stretch/>
        </p:blipFill>
        <p:spPr>
          <a:xfrm>
            <a:off x="1447920" y="1116000"/>
            <a:ext cx="6248160" cy="50562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4"/>
          <p:cNvSpPr txBox="1"/>
          <p:nvPr/>
        </p:nvSpPr>
        <p:spPr>
          <a:xfrm>
            <a:off x="3733920" y="533520"/>
            <a:ext cx="1828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9" name="Picture 5" descr="рак"/>
          <p:cNvPicPr/>
          <p:nvPr/>
        </p:nvPicPr>
        <p:blipFill>
          <a:blip r:embed="rId1"/>
          <a:stretch/>
        </p:blipFill>
        <p:spPr>
          <a:xfrm>
            <a:off x="1752480" y="1467000"/>
            <a:ext cx="5867640" cy="476568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4"/>
          <p:cNvSpPr txBox="1"/>
          <p:nvPr/>
        </p:nvSpPr>
        <p:spPr>
          <a:xfrm>
            <a:off x="3429000" y="380880"/>
            <a:ext cx="1828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е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2" name="Picture 5" descr="лев"/>
          <p:cNvPicPr/>
          <p:nvPr/>
        </p:nvPicPr>
        <p:blipFill>
          <a:blip r:embed="rId1"/>
          <a:stretch/>
        </p:blipFill>
        <p:spPr>
          <a:xfrm>
            <a:off x="2057400" y="1116000"/>
            <a:ext cx="5562720" cy="490392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карлик"/>
          <p:cNvPicPr/>
          <p:nvPr/>
        </p:nvPicPr>
        <p:blipFill>
          <a:blip r:embed="rId1"/>
          <a:stretch/>
        </p:blipFill>
        <p:spPr>
          <a:xfrm>
            <a:off x="3166920" y="0"/>
            <a:ext cx="59770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304920" y="1828800"/>
            <a:ext cx="2666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Звезда - карли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гигант"/>
          <p:cNvPicPr/>
          <p:nvPr/>
        </p:nvPicPr>
        <p:blipFill>
          <a:blip r:embed="rId1"/>
          <a:stretch/>
        </p:blipFill>
        <p:spPr>
          <a:xfrm>
            <a:off x="0" y="0"/>
            <a:ext cx="64008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6629400" y="2362320"/>
            <a:ext cx="2209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везда - гиган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двойная"/>
          <p:cNvPicPr/>
          <p:nvPr/>
        </p:nvPicPr>
        <p:blipFill>
          <a:blip r:embed="rId1"/>
          <a:stretch/>
        </p:blipFill>
        <p:spPr>
          <a:xfrm>
            <a:off x="0" y="457200"/>
            <a:ext cx="5791320" cy="59436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6019920" y="1523880"/>
            <a:ext cx="2743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Двойная звезд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пульсар"/>
          <p:cNvPicPr/>
          <p:nvPr/>
        </p:nvPicPr>
        <p:blipFill>
          <a:blip r:embed="rId1"/>
          <a:stretch/>
        </p:blipFill>
        <p:spPr>
          <a:xfrm>
            <a:off x="0" y="609480"/>
            <a:ext cx="5791320" cy="53341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6095880" y="1600200"/>
            <a:ext cx="2514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везда  - пульса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млечный путь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карт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533520" y="0"/>
            <a:ext cx="792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арта северного полушария неб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457200" y="1447920"/>
            <a:ext cx="80773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Люди разделили небо на 88 участков (созвездий) и дали этим «звездным группам» имена героев мифов, легенд, сказочных существ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4"/>
          <p:cNvSpPr txBox="1"/>
          <p:nvPr/>
        </p:nvSpPr>
        <p:spPr>
          <a:xfrm>
            <a:off x="3200400" y="609480"/>
            <a:ext cx="2209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в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1" name="Picture 5" descr="дева"/>
          <p:cNvPicPr/>
          <p:nvPr/>
        </p:nvPicPr>
        <p:blipFill>
          <a:blip r:embed="rId1"/>
          <a:stretch/>
        </p:blipFill>
        <p:spPr>
          <a:xfrm>
            <a:off x="1676520" y="1325520"/>
            <a:ext cx="5867280" cy="539928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5-01-12T09:55:5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