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A458D-B971-4CCD-AA65-AD9392A7BF2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00"/>
                </a:solidFill>
                <a:latin typeface="Impact"/>
              </a:rPr>
              <a:t>Как завораживает звездное небо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D9CC3-639E-478C-AF97-F1220C0D19E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ве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FED3-CE79-4F7B-8AD6-38252DD5A79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скорпи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9C8E7-1CAB-4BB7-82C5-EA30E656C77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стрел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DE4EE-F979-4346-BEFD-ACEA0049E0B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козеро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CF9C6-5865-4DA1-84A4-99C166F3CA6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тел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94C5C-F138-4C86-9868-7D6D461AE5F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р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1C76B-7E55-40CE-B9F6-A5A9431C8C6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л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6A944-71E2-492D-9CA2-64BBB391B14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везда - карл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0C675-57AE-48EC-BDD1-5F9B10E7FEF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везда - гига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9987A-AA2A-4807-BE1D-61FC7C0497F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войная звез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C7954-53B5-4BAB-8537-BBFDBB3511C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везда  - пульс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DC338-699C-48C8-B628-8ACBFE66D0E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рта северного полушария неб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4CB07-6F4D-4963-9BC2-EF88BF6B515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Люди разделили небо на 88 участков (созвездий) и дали этим «звездным группам» имена героев мифов, легенд, сказочных суще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531A7-C09F-4F61-A36C-F9EF4CB08D2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де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88BC1-90AC-4628-9ECC-48E393BC615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2FDB-8FAC-4D8E-99E8-F4E4ECE4E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C252-822B-4660-9285-DDC240BED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C65C-36B7-46EE-B814-423202D0C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007B-530C-45D7-9395-40A18F31C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619A-A85A-4BB7-A99F-76A83EAA0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5897-D3B3-419F-971D-389771A7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1B5F-BFA3-495B-8A51-93580C236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0074-D6F5-446D-BF32-F98DA676B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DFEE-A66F-4E2D-8A45-CB138BD85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C6BE-B647-46D6-85C3-1B81123B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F19A-7D82-4030-BE8E-6CBA397F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1BAA-E9F3-4196-8A13-3972EAC3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2A35B-1AA1-4CBB-929C-58AE812B2D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зв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762120" y="533520"/>
            <a:ext cx="76960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к завораживает звездное небо...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WordArt 4"/>
          <p:cNvSpPr txBox="1"/>
          <p:nvPr/>
        </p:nvSpPr>
        <p:spPr>
          <a:xfrm>
            <a:off x="3505320" y="533520"/>
            <a:ext cx="1981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ес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4" name="Picture 5" descr="весы"/>
          <p:cNvPicPr/>
          <p:nvPr/>
        </p:nvPicPr>
        <p:blipFill>
          <a:blip r:embed="rId1"/>
          <a:stretch/>
        </p:blipFill>
        <p:spPr>
          <a:xfrm>
            <a:off x="1600200" y="1325520"/>
            <a:ext cx="5943600" cy="490716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4"/>
          <p:cNvSpPr txBox="1"/>
          <p:nvPr/>
        </p:nvSpPr>
        <p:spPr>
          <a:xfrm>
            <a:off x="2514600" y="609480"/>
            <a:ext cx="3962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корпио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7" name="Picture 5" descr="скорпион"/>
          <p:cNvPicPr/>
          <p:nvPr/>
        </p:nvPicPr>
        <p:blipFill>
          <a:blip r:embed="rId1"/>
          <a:stretch/>
        </p:blipFill>
        <p:spPr>
          <a:xfrm>
            <a:off x="1905120" y="1447920"/>
            <a:ext cx="5333760" cy="480060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2666880" y="457200"/>
            <a:ext cx="3581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релец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0" name="Picture 5" descr="стрелец"/>
          <p:cNvPicPr/>
          <p:nvPr/>
        </p:nvPicPr>
        <p:blipFill>
          <a:blip r:embed="rId1"/>
          <a:stretch/>
        </p:blipFill>
        <p:spPr>
          <a:xfrm>
            <a:off x="1219320" y="1295280"/>
            <a:ext cx="6781680" cy="457200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4"/>
          <p:cNvSpPr txBox="1"/>
          <p:nvPr/>
        </p:nvSpPr>
        <p:spPr>
          <a:xfrm>
            <a:off x="2666880" y="609480"/>
            <a:ext cx="3581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зерог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3" name="Picture 5" descr="козерог"/>
          <p:cNvPicPr/>
          <p:nvPr/>
        </p:nvPicPr>
        <p:blipFill>
          <a:blip r:embed="rId1"/>
          <a:stretch/>
        </p:blipFill>
        <p:spPr>
          <a:xfrm>
            <a:off x="1600200" y="1447920"/>
            <a:ext cx="5867280" cy="495288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4"/>
          <p:cNvSpPr txBox="1"/>
          <p:nvPr/>
        </p:nvSpPr>
        <p:spPr>
          <a:xfrm>
            <a:off x="2971800" y="457200"/>
            <a:ext cx="3276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лец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6" name="Picture 5" descr="телец"/>
          <p:cNvPicPr/>
          <p:nvPr/>
        </p:nvPicPr>
        <p:blipFill>
          <a:blip r:embed="rId1"/>
          <a:stretch/>
        </p:blipFill>
        <p:spPr>
          <a:xfrm>
            <a:off x="1447920" y="1116000"/>
            <a:ext cx="6248160" cy="50562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4"/>
          <p:cNvSpPr txBox="1"/>
          <p:nvPr/>
        </p:nvSpPr>
        <p:spPr>
          <a:xfrm>
            <a:off x="3733920" y="533520"/>
            <a:ext cx="1828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9" name="Picture 5" descr="рак"/>
          <p:cNvPicPr/>
          <p:nvPr/>
        </p:nvPicPr>
        <p:blipFill>
          <a:blip r:embed="rId1"/>
          <a:stretch/>
        </p:blipFill>
        <p:spPr>
          <a:xfrm>
            <a:off x="1752480" y="1467000"/>
            <a:ext cx="5867640" cy="476568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4"/>
          <p:cNvSpPr txBox="1"/>
          <p:nvPr/>
        </p:nvSpPr>
        <p:spPr>
          <a:xfrm>
            <a:off x="3429000" y="380880"/>
            <a:ext cx="1828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е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2" name="Picture 5" descr="лев"/>
          <p:cNvPicPr/>
          <p:nvPr/>
        </p:nvPicPr>
        <p:blipFill>
          <a:blip r:embed="rId1"/>
          <a:stretch/>
        </p:blipFill>
        <p:spPr>
          <a:xfrm>
            <a:off x="2057400" y="1116000"/>
            <a:ext cx="5562720" cy="490392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карлик"/>
          <p:cNvPicPr/>
          <p:nvPr/>
        </p:nvPicPr>
        <p:blipFill>
          <a:blip r:embed="rId1"/>
          <a:stretch/>
        </p:blipFill>
        <p:spPr>
          <a:xfrm>
            <a:off x="3166920" y="0"/>
            <a:ext cx="59770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304920" y="1828800"/>
            <a:ext cx="2666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Звезда - карли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гигант"/>
          <p:cNvPicPr/>
          <p:nvPr/>
        </p:nvPicPr>
        <p:blipFill>
          <a:blip r:embed="rId1"/>
          <a:stretch/>
        </p:blipFill>
        <p:spPr>
          <a:xfrm>
            <a:off x="0" y="0"/>
            <a:ext cx="64008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6629400" y="2362320"/>
            <a:ext cx="2209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везда - гиган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двойная"/>
          <p:cNvPicPr/>
          <p:nvPr/>
        </p:nvPicPr>
        <p:blipFill>
          <a:blip r:embed="rId1"/>
          <a:stretch/>
        </p:blipFill>
        <p:spPr>
          <a:xfrm>
            <a:off x="0" y="457200"/>
            <a:ext cx="5791320" cy="59436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6019920" y="1523880"/>
            <a:ext cx="2743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Двойная звезд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пульсар"/>
          <p:cNvPicPr/>
          <p:nvPr/>
        </p:nvPicPr>
        <p:blipFill>
          <a:blip r:embed="rId1"/>
          <a:stretch/>
        </p:blipFill>
        <p:spPr>
          <a:xfrm>
            <a:off x="0" y="609480"/>
            <a:ext cx="5791320" cy="53341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6095880" y="1600200"/>
            <a:ext cx="2514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везда  - пульса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млечный путь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карт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533520" y="0"/>
            <a:ext cx="792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арта северного полушария неб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457200" y="1447920"/>
            <a:ext cx="80773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Люди разделили небо на 88 участков (созвездий) и дали этим «звездным группам» имена героев мифов, легенд, сказочных существ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4"/>
          <p:cNvSpPr txBox="1"/>
          <p:nvPr/>
        </p:nvSpPr>
        <p:spPr>
          <a:xfrm>
            <a:off x="3200400" y="609480"/>
            <a:ext cx="2209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в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1" name="Picture 5" descr="дева"/>
          <p:cNvPicPr/>
          <p:nvPr/>
        </p:nvPicPr>
        <p:blipFill>
          <a:blip r:embed="rId1"/>
          <a:stretch/>
        </p:blipFill>
        <p:spPr>
          <a:xfrm>
            <a:off x="1676520" y="1325520"/>
            <a:ext cx="5867280" cy="539928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5-01-12T09:55:5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