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5B43-A4E3-4361-A4A4-15EC53E44F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ак завораживает звездное неб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712E-544F-468A-AD80-2142AB7B91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BD2D-883F-4F22-87BE-AB369DEE33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корп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EB22-6D00-46AB-A11B-53B275B12ED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тр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55EF-A0B2-40A3-B267-8FD1E4F61F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зе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87F5-F376-4539-869D-EE0D2119D9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438D-A12F-4794-ACD1-2EAB259B05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р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7A18-6255-4D5B-991E-051DE8E239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B24-2806-4B26-AECA-2FB198DAE0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кар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0E91-5235-4B88-85B1-E2A6D64AC4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гиг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B51-24F1-4C5D-A2C3-2536A30768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ая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5FCD-E44C-4556-968E-7F47FA51ED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 - пульс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137D-2555-4CD0-A36A-507FA1B95E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а северного полушария не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0B28-A397-48AD-A81C-3E79971154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0618-9459-433E-B7CA-1CFA0D7324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67F4-5036-40F4-9FCC-04F4EE8B70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760-20A6-4B7A-80DF-E8DFAA19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E70-9B6B-4AF8-878A-D1B1C888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FF4-0F6B-4F1D-891F-9D738778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DD1-0CA1-4949-95F9-D188F89E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283-1AF5-4675-9DA4-69720D7E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253-950E-466A-9F62-D53560C4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53A-701F-4C1B-BB05-8602EA5D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B2E-BEA3-488A-B177-58EB6199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9A2-EE1A-479D-9025-E2F00849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F46-18E7-458D-ACC7-C6CA8A32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E3D-AEAA-4B68-B3D0-C70700C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2EF-5098-4E3A-A922-6F0B47C8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E038-1DAA-4CD2-B5BB-E297F172E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762120" y="5335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вораживает звездное небо..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505320" y="53352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5" descr="весы"/>
          <p:cNvPicPr/>
          <p:nvPr/>
        </p:nvPicPr>
        <p:blipFill>
          <a:blip r:embed="rId1"/>
          <a:stretch/>
        </p:blipFill>
        <p:spPr>
          <a:xfrm>
            <a:off x="1600200" y="1325520"/>
            <a:ext cx="5943600" cy="4907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514600" y="6094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пи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скорпион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666880" y="45720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5" descr="стрелец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666880" y="60948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зер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козерог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971800" y="4572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5" descr="телец"/>
          <p:cNvPicPr/>
          <p:nvPr/>
        </p:nvPicPr>
        <p:blipFill>
          <a:blip r:embed="rId1"/>
          <a:stretch/>
        </p:blipFill>
        <p:spPr>
          <a:xfrm>
            <a:off x="1447920" y="1116000"/>
            <a:ext cx="6248160" cy="5056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733920" y="533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рак"/>
          <p:cNvPicPr/>
          <p:nvPr/>
        </p:nvPicPr>
        <p:blipFill>
          <a:blip r:embed="rId1"/>
          <a:stretch/>
        </p:blipFill>
        <p:spPr>
          <a:xfrm>
            <a:off x="1752480" y="1467000"/>
            <a:ext cx="58676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429000" y="38088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лев"/>
          <p:cNvPicPr/>
          <p:nvPr/>
        </p:nvPicPr>
        <p:blipFill>
          <a:blip r:embed="rId1"/>
          <a:stretch/>
        </p:blipFill>
        <p:spPr>
          <a:xfrm>
            <a:off x="2057400" y="1116000"/>
            <a:ext cx="556272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лик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18288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везда - карл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игант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629400" y="236232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- гиг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войная"/>
          <p:cNvPicPr/>
          <p:nvPr/>
        </p:nvPicPr>
        <p:blipFill>
          <a:blip r:embed="rId1"/>
          <a:stretch/>
        </p:blipFill>
        <p:spPr>
          <a:xfrm>
            <a:off x="0" y="457200"/>
            <a:ext cx="57913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1523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ойная звез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льсар"/>
          <p:cNvPicPr/>
          <p:nvPr/>
        </p:nvPicPr>
        <p:blipFill>
          <a:blip r:embed="rId1"/>
          <a:stretch/>
        </p:blipFill>
        <p:spPr>
          <a:xfrm>
            <a:off x="0" y="609480"/>
            <a:ext cx="579132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16002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 - пульса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лечный пу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рта северного полушария не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57200" y="14479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200400" y="6094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дева"/>
          <p:cNvPicPr/>
          <p:nvPr/>
        </p:nvPicPr>
        <p:blipFill>
          <a:blip r:embed="rId1"/>
          <a:stretch/>
        </p:blipFill>
        <p:spPr>
          <a:xfrm>
            <a:off x="1676520" y="1325520"/>
            <a:ext cx="586728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5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