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7.wmf" ContentType="image/x-wmf"/>
  <Override PartName="/ppt/media/image15.jpeg" ContentType="image/jpeg"/>
  <Override PartName="/ppt/media/image14.jpeg" ContentType="image/jpeg"/>
  <Override PartName="/ppt/media/image1.png" ContentType="image/png"/>
  <Override PartName="/ppt/media/image2.png" ContentType="image/png"/>
  <Override PartName="/ppt/media/image25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Click to move the slide</a:t>
            </a: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dt" idx="19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ftr" idx="20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 type="sldNum" idx="21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E76E8D8-3363-48AF-A1E9-C36707778D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АГАР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Юр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лексееви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1B934A3-A0BF-4582-A274-88F337296EBB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сле полёта в космос Гагарин учился в Военно-воздушной инженерной академии имени Н.Е. Жуковского и поэтому некоторое время не имел лётной практики, также сказывалась и общественная деятельность. Первый после перерыва самостоятельный вылет на МиГ-17 он совершил в начале декабря 1967 года. Приземлился со второго захода из-за неверного расчёта на посадку, характерного для лётчиков низкого роста, имевших перерыв в полёт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Num" idx="3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50FBF09-102D-4524-A4A7-B35FBF60E9C7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АГАРИН Юрий Алексеевич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1934-1968) космонавт СССР, полковник, Герой Советского Союза, лётчик-космонавт СССР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ервый человек, совершивший полёт в космо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1656C84-0633-4AB7-AF2E-09EB1CEC3E06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ln>
                  <a:solidFill>
                    <a:schemeClr val="accent1"/>
                  </a:solidFill>
                </a:ln>
                <a:solidFill>
                  <a:srgbClr val="ffffff"/>
                </a:solidFill>
                <a:latin typeface="Arial"/>
              </a:rPr>
              <a:t>Родился в семье колхозника в г. Гжатск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ln>
                  <a:solidFill>
                    <a:schemeClr val="accent1"/>
                  </a:solidFill>
                </a:ln>
                <a:solidFill>
                  <a:srgbClr val="ffffff"/>
                </a:solidFill>
                <a:latin typeface="Arial"/>
              </a:rPr>
              <a:t>Гжатского района Смоленской об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ln>
                  <a:solidFill>
                    <a:schemeClr val="accent1"/>
                  </a:solidFill>
                </a:ln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ru-RU" sz="1200" spc="-1" strike="noStrike">
                <a:ln>
                  <a:solidFill>
                    <a:schemeClr val="accent1"/>
                  </a:solidFill>
                </a:ln>
                <a:solidFill>
                  <a:srgbClr val="ffffff"/>
                </a:solidFill>
                <a:latin typeface="Arial"/>
              </a:rPr>
              <a:t>9 марта 1934 г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5B2DCE1-E11C-4E32-A28D-568CC2C82F41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1955 году с отличием окончил индустриальный техникум и аэроклуб в Саратове и оступил в 1-ое Чкаловское военное авиационное училище лётчиков имени К.Е. Ворошилова, которое окончил в 1957 году по 1-му разряду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sldNum" idx="2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83598B2-9EF8-4F82-A809-4B049DD0CB02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2 апреля 1961 года совершил первый в истории человечества космический полё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на КК «Восток»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 1 ч 48 мин облетел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емной ша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sldNum" idx="2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EEE2A7B-B368-417A-A0CF-E84DE2655030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лагополучно приземлился в окрестности деревни Смолевки Терновского района Саратовской обла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ервыми людьми, которые встретили космонавта после полёта, оказались жена лесника Анна Акимовна Тахтарова и её шестилетняя внучка Ри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sldNum" idx="2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6EF7C00-B62B-49EE-B6D2-6E14BF900B16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ервоначально, никто не планировал грандиозной встречи Гагарина в Москве. Всё решил в последний момент Никита Хрущёв. По словам Сергея Хрущёва: «Он начал с того, что позвонил министру обороны Маршалу Малиновскому и сказал: „Он у вас старший лейтенант. Надо его срочно повысить в звании“. Малиновский сказал, довольно неохотно, что даст Гагарину звание капитана. На что Никита Сергеевич рассердился: „Какого капитана? Вы ему хоть майора дайте“. Малиновский долго не соглашался, но Хрущёв настоял на своём, и в этот же день Гагарин стал майором». Потом Хрущёв позвонил в Кремль и потребовал, чтобы Гагарину подготовили достойную встреч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sldNum" idx="2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D1CE54F-3CE7-45BA-B6C8-EF112CE0D805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 Гагариным прилетел Ил-18, а на подлёте к Москве к самолёту присоединился почётный эскорт истребителей, состоящий из МИГов. Самолёт прилетел в аэропорт Внуково, там Гагарина ожидал грандиозный приём. Огромная толпа народа, вся верхушка власти, журналисты и операторы. Самолёт подрулил к центральному зданию аэропорта, спустили трап и первым по нему сошёл Гагарин. От самолёта до правительственных трибун была протянута ярко-красная ковровая дорожка, по ней и пошёл Юрий Гагарин (по пути у него развязался шнурок на ботинке, но он не остановился и дошёл до правительственных трибун, рискуя споткнуться и упасть), под звуки оркестра, исполняющего старинный авиационный марш «Мы рождены, чтоб сказку сделать былью.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2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7B529CA-A2FA-4509-8153-014DE15C651F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дойдя к трибуне, Юрий Гагарин отрапортовал Никите Хрущёв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оварищ Первый секретарь Центрального Комитета Коммунистической партии Советского Союза, Председатель Совета Министров СССР! Рад доложить Вам, что задание Центрального Комитета Коммунистической партии и Советского правительства выполнено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sldNum" idx="3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456E085-4427-4D2A-B541-2BD082B2F0B1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CFFF-ECCA-4C12-B8FE-50BFD5A2B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10E6-FD60-4DD1-9175-90E669F67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3042-4170-44D5-8720-1EC46003C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1128-813E-45E6-B4ED-4D12C61BD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9DF49-AB5F-4386-8FD1-990D1E055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CB19C-0450-4EA9-9CE6-EAFFD58E0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12328-4E34-49A7-A893-CB99E5176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DAF6F-8F71-4159-8ACD-C85D9435A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1F5F0-1074-4A59-8D95-24BCAA7B6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39A7F-4BE1-4386-943A-4A85A9851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DB89F-3A37-4753-BEE3-FC5FAA7FB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1F50-98C3-4425-B2E4-D43468CAB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A1CB4-92AC-4952-A83F-307313B8D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35543-56CE-48A1-B8CE-35832DB97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F70D5-EA6D-4BDF-A115-40ED9BF8D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3B951-0619-4E0D-AEB8-3F458B96D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D6858-E9E2-4CF3-89E7-CB00EAB5F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5262F-FBF1-4FB2-AB2F-6BABC0194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D42F7-F936-465F-A6AD-3EB695BE0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EE37A-04F0-40B3-9895-4E96FCC59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71945-565D-40AD-B4B8-83DE47A95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3A76C-1372-4D8A-9D0A-8E7BAFC94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FABD-8841-44BB-A714-78BADF5DD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6784C-E0CF-4FF1-8190-DBCD913CA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E568F-A4A2-425E-8A79-6756F47B1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22E92-17C0-480D-8A62-37B5F98D7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9BF6C-03A0-4099-904B-11DCF79E4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898D0-B62B-471F-890C-281F183A2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BBB15-8074-426B-96A9-6BD7DBBDE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F82F4-E9D1-4ECA-BC7B-ACF0F0755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6A34A-2359-4F77-B8C7-06FFEB45E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8EA67-3192-4879-B519-99B25A5B8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B63A3-26CF-4EAC-AC7D-23B761240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85EB-6ABC-4DB9-A574-7E7A04928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2011C-7CA1-41B1-8FAC-F22D13335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DECD2-DE33-41EF-92C7-6622FA51B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7BD46-BDEB-4525-9251-B9FAFA417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37A7B-AF4C-49C0-8862-917955DBD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B8819-9DF5-43C9-8FA1-431AD4C2F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58702-C0C8-4653-9D2C-D307BD504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15D35-5435-4D96-9F67-6B17C1575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C6BE2-6D03-47D4-9C02-BB2093A40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64C4D-4543-43E8-B09D-3FE9C34CB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CAFF11-234F-4AFB-9C9C-EC5BAD4CC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42E4-8983-4D11-A85E-F49535F30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9EFB19-6830-4637-A3BB-27B2F6439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8ECFAE-8192-4313-96C7-E7EFB893D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A80876-7D5D-4F5B-8973-2F2B12001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79625F-9126-4A31-A46F-EB42993AC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3FD028-805A-4E9B-BE04-64E7E66FC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77E900-C5A1-4F49-853D-19EECF51C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BF8D24-0C89-4522-862E-A1863CCE2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88BF68-4161-46BE-B64E-0F7CB46B8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A278F7-CFBF-4751-9FFA-AB231AB24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231F79-0766-4252-904F-680AC8866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BF8C-7D86-4534-93F0-64924597B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8EB4C2-41FA-44D6-BB99-20CE0DCBC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BF1D7C-350D-41DC-95F6-D34B5DCFB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8CB469-F873-4F5D-959F-D3EC3DD63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1D7FB9-7C27-4E4E-9E9D-EB875B640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17FE25-AB4D-45CF-AF27-872800B9F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3F498D-C3EF-4BC6-B4A3-56437C452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6AFDC2-3C74-4F36-834D-BF6B21C88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E12171-494F-4013-A57F-6B0E37787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3E8841-EB6F-4F13-B334-541B94BC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C1C1B2-D97F-4CBA-832B-D030B2D00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9E36-D47A-424D-87E0-A2D8E90F9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6CC6BD-495E-4783-8FE1-D4D02CBA3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3B35E4-E0CB-45B8-B8C5-BB2E9DE1E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4D7DBB-5F6B-481E-88A5-8DAA0C351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D812-42CF-4818-8AD5-43F9DDFE8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BEF6-9502-4C8B-9E78-921518A53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B6FB417-DB2C-48D4-9BB6-DE7FD18241C1}" type="slidenum">
              <a:rPr b="0" lang="ru-RU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ru-RU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65000">
              <a:srgbClr val="000000"/>
            </a:gs>
            <a:gs pos="100000">
              <a:srgbClr val="5b77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6" hidden="1"/>
          <p:cNvSpPr/>
          <p:nvPr/>
        </p:nvSpPr>
        <p:spPr>
          <a:xfrm>
            <a:off x="0" y="0"/>
            <a:ext cx="365400" cy="6854040"/>
          </a:xfrm>
          <a:prstGeom prst="rect">
            <a:avLst/>
          </a:prstGeom>
          <a:solidFill>
            <a:srgbClr val="ffffff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42" name="Прямоугольник 7" hidden="1"/>
          <p:cNvSpPr/>
          <p:nvPr/>
        </p:nvSpPr>
        <p:spPr>
          <a:xfrm>
            <a:off x="255240" y="5047560"/>
            <a:ext cx="72720" cy="16912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43" name="Прямоугольник 8" hidden="1"/>
          <p:cNvSpPr/>
          <p:nvPr/>
        </p:nvSpPr>
        <p:spPr>
          <a:xfrm>
            <a:off x="255240" y="4796640"/>
            <a:ext cx="72720" cy="228240"/>
          </a:xfrm>
          <a:prstGeom prst="rect">
            <a:avLst/>
          </a:prstGeom>
          <a:solidFill>
            <a:schemeClr val="accent3">
              <a:alpha val="100000"/>
            </a:schemeClr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44" name="Прямоугольник 9" hidden="1"/>
          <p:cNvSpPr/>
          <p:nvPr/>
        </p:nvSpPr>
        <p:spPr>
          <a:xfrm>
            <a:off x="255240" y="4637520"/>
            <a:ext cx="72720" cy="136800"/>
          </a:xfrm>
          <a:prstGeom prst="rect">
            <a:avLst/>
          </a:prstGeom>
          <a:solidFill>
            <a:schemeClr val="bg2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45" name="Прямоугольник 10" hidden="1"/>
          <p:cNvSpPr/>
          <p:nvPr/>
        </p:nvSpPr>
        <p:spPr>
          <a:xfrm>
            <a:off x="255240" y="4542480"/>
            <a:ext cx="72720" cy="72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28080" bIns="28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46" name="Прямоугольник 11" hidden="1"/>
          <p:cNvSpPr/>
          <p:nvPr/>
        </p:nvSpPr>
        <p:spPr>
          <a:xfrm>
            <a:off x="309600" y="680400"/>
            <a:ext cx="45360" cy="365400"/>
          </a:xfrm>
          <a:prstGeom prst="rect">
            <a:avLst/>
          </a:prstGeom>
          <a:solidFill>
            <a:srgbClr val="000000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47" name="Прямоугольник 14" hidden="1"/>
          <p:cNvSpPr/>
          <p:nvPr/>
        </p:nvSpPr>
        <p:spPr>
          <a:xfrm>
            <a:off x="268920" y="680400"/>
            <a:ext cx="27000" cy="365400"/>
          </a:xfrm>
          <a:prstGeom prst="rect">
            <a:avLst/>
          </a:prstGeom>
          <a:solidFill>
            <a:srgbClr val="000000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48" name="Прямоугольник 15" hidden="1"/>
          <p:cNvSpPr/>
          <p:nvPr/>
        </p:nvSpPr>
        <p:spPr>
          <a:xfrm>
            <a:off x="250200" y="680400"/>
            <a:ext cx="8640" cy="365400"/>
          </a:xfrm>
          <a:prstGeom prst="rect">
            <a:avLst/>
          </a:prstGeom>
          <a:solidFill>
            <a:srgbClr val="000000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49" name="Прямоугольник 16" hidden="1"/>
          <p:cNvSpPr/>
          <p:nvPr/>
        </p:nvSpPr>
        <p:spPr>
          <a:xfrm>
            <a:off x="221760" y="680400"/>
            <a:ext cx="8640" cy="365400"/>
          </a:xfrm>
          <a:prstGeom prst="rect">
            <a:avLst/>
          </a:prstGeom>
          <a:solidFill>
            <a:srgbClr val="000000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footer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DBFD4B18-10F6-4C28-8FEB-EEFB3C2543DB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ru-RU" sz="2400" spc="-1" strike="noStrike">
              <a:solidFill>
                <a:srgbClr val="ffffff"/>
              </a:solidFill>
              <a:latin typeface="Corbe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50000" sy="50000" algn="t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с двумя скругленными противолежащими углами 6"/>
          <p:cNvSpPr/>
          <p:nvPr/>
        </p:nvSpPr>
        <p:spPr>
          <a:xfrm>
            <a:off x="164520" y="147240"/>
            <a:ext cx="8810640" cy="6564960"/>
          </a:xfrm>
          <a:prstGeom prst="round2DiagRect">
            <a:avLst>
              <a:gd name="adj1" fmla="val 11807"/>
              <a:gd name="adj2" fmla="val 0"/>
            </a:avLst>
          </a:prstGeom>
          <a:solidFill>
            <a:schemeClr val="bg2">
              <a:tint val="85000"/>
              <a:shade val="90000"/>
              <a:satMod val="150000"/>
              <a:alpha val="65000"/>
            </a:schemeClr>
          </a:solidFill>
          <a:ln cap="rnd" w="11000">
            <a:solidFill>
              <a:srgbClr val="676a55">
                <a:tint val="78000"/>
                <a:satMod val="180000"/>
                <a:alpha val="88000"/>
              </a:srgbClr>
            </a:solidFill>
            <a:round/>
          </a:ln>
          <a:effectLst>
            <a:innerShdw blurRad="114300">
              <a:srgbClr val="000000"/>
            </a:innerShdw>
            <a:softEdge rad="12600"/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Rockwel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dt" idx="7"/>
          </p:nvPr>
        </p:nvSpPr>
        <p:spPr>
          <a:xfrm>
            <a:off x="5562720" y="6400800"/>
            <a:ext cx="3002040" cy="2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300" spc="-1" strike="noStrike">
                <a:solidFill>
                  <a:srgbClr val="b9bbb1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300" spc="-1" strike="noStrike">
                <a:solidFill>
                  <a:srgbClr val="b9bbb1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ftr" idx="8"/>
          </p:nvPr>
        </p:nvSpPr>
        <p:spPr>
          <a:xfrm>
            <a:off x="1295280" y="6400800"/>
            <a:ext cx="4212000" cy="2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300" spc="-1" strike="noStrike">
                <a:solidFill>
                  <a:srgbClr val="b9bbb1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300" spc="-1" strike="noStrike">
                <a:solidFill>
                  <a:srgbClr val="b9bbb1"/>
                </a:solidFill>
                <a:latin typeface="Rockwel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Num" idx="9"/>
          </p:nvPr>
        </p:nvSpPr>
        <p:spPr>
          <a:xfrm>
            <a:off x="8638920" y="6514560"/>
            <a:ext cx="464040" cy="2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955378E-D069-4BEC-9244-4DC2028C8852}" type="slidenum">
              <a:rPr b="0" lang="ru-RU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ru-RU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3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ru-RU" sz="2300" spc="-1" strike="noStrike">
              <a:solidFill>
                <a:srgbClr val="ffffff"/>
              </a:solidFill>
              <a:latin typeface="Rockwel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Rockwel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9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ru-RU" sz="1900" spc="-1" strike="noStrike">
              <a:solidFill>
                <a:srgbClr val="ffffff"/>
              </a:solidFill>
              <a:latin typeface="Rockwel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Rockwel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Rockwel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dt" idx="10"/>
          </p:nvPr>
        </p:nvSpPr>
        <p:spPr>
          <a:xfrm>
            <a:off x="5791320" y="6203520"/>
            <a:ext cx="259056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09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Num" idx="12"/>
          </p:nvPr>
        </p:nvSpPr>
        <p:spPr>
          <a:xfrm>
            <a:off x="8410680" y="6181560"/>
            <a:ext cx="60912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71067A7B-1BA2-493B-B2E2-F38967C8C3BF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Click to edit the title text format</a:t>
            </a: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ru-RU" sz="1900" spc="-1" strike="noStrike">
              <a:solidFill>
                <a:srgbClr val="ffffff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Полилиния 11"/>
          <p:cNvSpPr/>
          <p:nvPr/>
        </p:nvSpPr>
        <p:spPr>
          <a:xfrm>
            <a:off x="0" y="4752000"/>
            <a:ext cx="9143640" cy="2112480"/>
          </a:xfrm>
          <a:custGeom>
            <a:avLst/>
            <a:gdLst/>
            <a:ahLst/>
            <a:rect l="l" t="t" r="r" b="b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chemeClr val="bg1">
              <a:tint val="80000"/>
              <a:satMod val="200000"/>
              <a:alpha val="45000"/>
            </a:schemeClr>
          </a:solidFill>
          <a:ln w="9525">
            <a:noFill/>
          </a:ln>
          <a:effectLst>
            <a:outerShdw algn="ctr" blurRad="50760" dir="16200000" dist="4428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Полилиния 15"/>
          <p:cNvSpPr/>
          <p:nvPr/>
        </p:nvSpPr>
        <p:spPr>
          <a:xfrm>
            <a:off x="7315200" y="0"/>
            <a:ext cx="1828440" cy="6857640"/>
          </a:xfrm>
          <a:custGeom>
            <a:avLst/>
            <a:gdLst>
              <a:gd name="textAreaLeft" fmla="*/ 0 w 1828440"/>
              <a:gd name="textAreaRight" fmla="*/ 1828800 w 18284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chemeClr val="bg1">
              <a:tint val="90000"/>
              <a:satMod val="350000"/>
              <a:alpha val="40000"/>
            </a:schemeClr>
          </a:solidFill>
          <a:ln w="9525">
            <a:noFill/>
          </a:ln>
          <a:effectLst>
            <a:outerShdw algn="ctr" blurRad="50760" dir="10800000" dist="5076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dt" idx="13"/>
          </p:nvPr>
        </p:nvSpPr>
        <p:spPr>
          <a:xfrm>
            <a:off x="457200" y="64220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9c9b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9c9b9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ftr" idx="14"/>
          </p:nvPr>
        </p:nvSpPr>
        <p:spPr>
          <a:xfrm>
            <a:off x="3124080" y="64220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000" spc="-1" strike="noStrike">
                <a:solidFill>
                  <a:srgbClr val="9c9b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9c9b9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sldNum" idx="15"/>
          </p:nvPr>
        </p:nvSpPr>
        <p:spPr>
          <a:xfrm>
            <a:off x="8153280" y="64220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9c9b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7D2FA7E-2716-494D-841B-B23144B95806}" type="slidenum">
              <a:rPr b="0" lang="ru-RU" sz="1000" spc="-1" strike="noStrike">
                <a:solidFill>
                  <a:srgbClr val="9c9b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dt" idx="16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ftr" idx="17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sldNum" idx="18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F5AF225-A930-4EFB-BDAE-0F5491502A13}" type="slidenum">
              <a:rPr b="0" lang="ru-RU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ru-RU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5" descr="C:\Documents and Settings\BRUNTSEV\Мои документы\Мои рисунки\Юрий\Документы\Презентации\Материал\gagarin_skaf.jpg"/>
          <p:cNvPicPr/>
          <p:nvPr/>
        </p:nvPicPr>
        <p:blipFill>
          <a:blip r:embed="rId1"/>
          <a:stretch/>
        </p:blipFill>
        <p:spPr>
          <a:xfrm>
            <a:off x="5643720" y="4071960"/>
            <a:ext cx="3192120" cy="2585520"/>
          </a:xfrm>
          <a:prstGeom prst="rect">
            <a:avLst/>
          </a:prstGeom>
          <a:ln w="28575">
            <a:solidFill>
              <a:srgbClr val="000000"/>
            </a:solidFill>
            <a:round/>
          </a:ln>
        </p:spPr>
      </p:pic>
      <p:pic>
        <p:nvPicPr>
          <p:cNvPr id="265" name="Picture 6" descr="C:\Documents and Settings\BRUNTSEV\Мои документы\Мои рисунки\Юрий\Документы\Презентации\Материал\Gagarin_UA.jpg"/>
          <p:cNvPicPr/>
          <p:nvPr/>
        </p:nvPicPr>
        <p:blipFill>
          <a:blip r:embed="rId2"/>
          <a:stretch/>
        </p:blipFill>
        <p:spPr>
          <a:xfrm>
            <a:off x="6858000" y="214200"/>
            <a:ext cx="2071440" cy="2750400"/>
          </a:xfrm>
          <a:prstGeom prst="rect">
            <a:avLst/>
          </a:prstGeom>
          <a:ln w="28575">
            <a:solidFill>
              <a:srgbClr val="000000"/>
            </a:solidFill>
            <a:round/>
          </a:ln>
        </p:spPr>
      </p:pic>
      <p:pic>
        <p:nvPicPr>
          <p:cNvPr id="266" name="Picture 7" descr="C:\Documents and Settings\BRUNTSEV\Мои документы\Мои рисунки\Юрий\Документы\Презентации\Материал\hm2.jpg"/>
          <p:cNvPicPr/>
          <p:nvPr/>
        </p:nvPicPr>
        <p:blipFill>
          <a:blip r:embed="rId3"/>
          <a:stretch/>
        </p:blipFill>
        <p:spPr>
          <a:xfrm>
            <a:off x="142920" y="1785960"/>
            <a:ext cx="3571560" cy="4906080"/>
          </a:xfrm>
          <a:prstGeom prst="rect">
            <a:avLst/>
          </a:prstGeom>
          <a:ln w="28575">
            <a:solidFill>
              <a:srgbClr val="000000"/>
            </a:solidFill>
            <a:round/>
          </a:ln>
        </p:spPr>
      </p:pic>
      <p:sp>
        <p:nvSpPr>
          <p:cNvPr id="267" name="Прямоугольник 7"/>
          <p:cNvSpPr/>
          <p:nvPr/>
        </p:nvSpPr>
        <p:spPr>
          <a:xfrm>
            <a:off x="1071360" y="214200"/>
            <a:ext cx="5000400" cy="1310040"/>
          </a:xfrm>
          <a:prstGeom prst="rect">
            <a:avLst/>
          </a:prstGeom>
          <a:noFill/>
          <a:ln w="0">
            <a:noFill/>
          </a:ln>
          <a:effectLst>
            <a:outerShdw algn="l" blurRad="50760" dist="3816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>
                <a:rot lat="0" lon="300000" rev="0"/>
              </a:camera>
              <a:lightRig dir="t" rig="balanced">
                <a:rot lat="0" lon="0" rev="2100000"/>
              </a:lightRig>
            </a:scene3d>
            <a:sp3d extrusionH="57150" prstMaterial="metal">
              <a:bevelT w="38100" h="25400"/>
              <a:contourClr>
                <a:schemeClr val="bg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8000" spc="-1" strike="noStrike">
                <a:solidFill>
                  <a:srgbClr val="000000"/>
                </a:solidFill>
                <a:latin typeface="Book Antiqua"/>
              </a:rPr>
              <a:t>ГАГАРИН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8"/>
          <p:cNvSpPr/>
          <p:nvPr/>
        </p:nvSpPr>
        <p:spPr>
          <a:xfrm>
            <a:off x="3955320" y="1785960"/>
            <a:ext cx="2817360" cy="1096560"/>
          </a:xfrm>
          <a:prstGeom prst="rect">
            <a:avLst/>
          </a:prstGeom>
          <a:noFill/>
          <a:ln w="0">
            <a:noFill/>
          </a:ln>
          <a:effectLst>
            <a:outerShdw algn="l" blurRad="50760" dist="3816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" rig="balanced">
                <a:rot lat="0" lon="0" rev="2100000"/>
              </a:lightRig>
            </a:scene3d>
            <a:sp3d extrusionH="57150" prstMaterial="metal">
              <a:bevelT w="38100" h="25400"/>
              <a:contourClr>
                <a:schemeClr val="bg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6600" spc="-1" strike="noStrike">
                <a:solidFill>
                  <a:srgbClr val="000000"/>
                </a:solidFill>
                <a:latin typeface="Book Antiqua"/>
              </a:rPr>
              <a:t>Юри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оугольник 9"/>
          <p:cNvSpPr/>
          <p:nvPr/>
        </p:nvSpPr>
        <p:spPr>
          <a:xfrm>
            <a:off x="3848040" y="3000240"/>
            <a:ext cx="540216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" rig="balanced">
                <a:rot lat="0" lon="0" rev="2100000"/>
              </a:lightRig>
            </a:scene3d>
            <a:sp3d extrusionH="57150" prstMaterial="metal">
              <a:bevelT w="38100" h="25400"/>
              <a:contourClr>
                <a:schemeClr val="bg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6600" spc="-1" strike="noStrike">
                <a:solidFill>
                  <a:srgbClr val="000000"/>
                </a:solidFill>
                <a:latin typeface="Book Antiqua"/>
              </a:rPr>
              <a:t>Алексееви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3" descr="C:\Documents and Settings\Учебный1\Мои документы\Мои рисунки\Презентации\Гагарин\Материал\9760.jpg"/>
          <p:cNvPicPr/>
          <p:nvPr/>
        </p:nvPicPr>
        <p:blipFill>
          <a:blip r:embed="rId1"/>
          <a:stretch/>
        </p:blipFill>
        <p:spPr>
          <a:xfrm>
            <a:off x="5004000" y="30960"/>
            <a:ext cx="2915280" cy="2533320"/>
          </a:xfrm>
          <a:prstGeom prst="rect">
            <a:avLst/>
          </a:prstGeom>
          <a:ln w="0">
            <a:solidFill>
              <a:srgbClr val="000000"/>
            </a:solidFill>
          </a:ln>
        </p:spPr>
      </p:pic>
      <p:sp>
        <p:nvSpPr>
          <p:cNvPr id="297" name="Прямоугольник 1"/>
          <p:cNvSpPr/>
          <p:nvPr/>
        </p:nvSpPr>
        <p:spPr>
          <a:xfrm>
            <a:off x="107640" y="2925000"/>
            <a:ext cx="8892000" cy="38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>
                <a:rot lat="0" lon="0" rev="0"/>
              </a:camera>
              <a:lightRig dir="t" rig="glow">
                <a:rot lat="0" lon="0" rev="3600000"/>
              </a:lightRig>
            </a:scene3d>
            <a:sp3d prstMaterial="softEdge">
              <a:bevelT w="29210" h="16510"/>
              <a:contourClr>
                <a:schemeClr val="accent4"/>
              </a:contourClr>
            </a:sp3d>
          </a:bodyPr>
          <a:p>
            <a:pPr algn="just">
              <a:lnSpc>
                <a:spcPct val="100000"/>
              </a:lnSpc>
            </a:pPr>
            <a:r>
              <a:rPr b="1" lang="ru-RU" sz="2500" spc="-1" strike="noStrike">
                <a:solidFill>
                  <a:srgbClr val="ffffff"/>
                </a:solidFill>
                <a:latin typeface="Book Antiqua"/>
              </a:rPr>
              <a:t>После полёта в космос Гагарин учился в Военно-воздушной инженерной академии имени Н.Е. Жуковского и поэтому некоторое время не имел лётной практики, также сказывалась и общественная деятельность. Первый после перерыва самостоятельный вылет на МиГ-17 он совершил в начале декабря 1967 года. Приземлился со второго захода из-за неверного расчёта на посадку, характерного для лётчиков низкого роста, имевших перерыв в полётах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2" descr="C:\Documents and Settings\Учебный1\Мои документы\Мои рисунки\Презентации\Гагарин\Материал\g_5.jpg"/>
          <p:cNvPicPr/>
          <p:nvPr/>
        </p:nvPicPr>
        <p:blipFill>
          <a:blip r:embed="rId2"/>
          <a:stretch/>
        </p:blipFill>
        <p:spPr>
          <a:xfrm>
            <a:off x="357120" y="214200"/>
            <a:ext cx="3047760" cy="2166480"/>
          </a:xfrm>
          <a:prstGeom prst="rect">
            <a:avLst/>
          </a:prstGeom>
          <a:ln w="0">
            <a:solidFill>
              <a:srgbClr val="ff0000"/>
            </a:solidFill>
          </a:ln>
        </p:spPr>
      </p:pic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pull dir="rd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8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8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8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3" descr="C:\Documents and Settings\BRUNTSEV\Мои документы\Мои рисунки\Юрий\Документы\Презентации\Материал\220px-Gagarin_space_suite.jpg"/>
          <p:cNvPicPr/>
          <p:nvPr/>
        </p:nvPicPr>
        <p:blipFill>
          <a:blip r:embed="rId1"/>
          <a:stretch/>
        </p:blipFill>
        <p:spPr>
          <a:xfrm>
            <a:off x="714240" y="3000240"/>
            <a:ext cx="2716200" cy="3642840"/>
          </a:xfrm>
          <a:prstGeom prst="rect">
            <a:avLst/>
          </a:prstGeom>
          <a:ln w="0">
            <a:solidFill>
              <a:srgbClr val="ff0000"/>
            </a:solidFill>
          </a:ln>
        </p:spPr>
      </p:pic>
      <p:sp>
        <p:nvSpPr>
          <p:cNvPr id="271" name="Прямоугольник 1"/>
          <p:cNvSpPr/>
          <p:nvPr/>
        </p:nvSpPr>
        <p:spPr>
          <a:xfrm>
            <a:off x="428760" y="571320"/>
            <a:ext cx="5071680" cy="35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ffffff"/>
                </a:solidFill>
                <a:latin typeface="Corbel"/>
              </a:rPr>
              <a:t>ГАГАРИН Юрий Алексеевич </a:t>
            </a:r>
            <a:r>
              <a:rPr b="1" lang="ru-RU" sz="2400" spc="-1" strike="noStrike">
                <a:solidFill>
                  <a:srgbClr val="ffffff"/>
                </a:solidFill>
                <a:latin typeface="Corbel"/>
              </a:rPr>
              <a:t>(1934-1968) космонавт СССР, полковник, Герой Советского Союза, лётчик-космонавт СССР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Corbel"/>
              </a:rPr>
              <a:t>Первый человек, совершивший полёт в космо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Picture 2" descr="C:\Documents and Settings\BRUNTSEV\Мои документы\Мои рисунки\Юрий\Документы\Презентации\Материал\08-89.jpg"/>
          <p:cNvPicPr/>
          <p:nvPr/>
        </p:nvPicPr>
        <p:blipFill>
          <a:blip r:embed="rId2"/>
          <a:stretch/>
        </p:blipFill>
        <p:spPr>
          <a:xfrm>
            <a:off x="5929200" y="571320"/>
            <a:ext cx="2883960" cy="3640680"/>
          </a:xfrm>
          <a:prstGeom prst="rect">
            <a:avLst/>
          </a:prstGeom>
          <a:ln w="0">
            <a:solidFill>
              <a:srgbClr val="ff0000"/>
            </a:solidFill>
          </a:ln>
        </p:spPr>
      </p:pic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wedg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3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3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BRUNTSEV\Мои документы\Мои рисунки\Юрий\Документы\Презентации\Материал\9769.jpg"/>
          <p:cNvPicPr/>
          <p:nvPr/>
        </p:nvPicPr>
        <p:blipFill>
          <a:blip r:embed="rId1"/>
          <a:stretch/>
        </p:blipFill>
        <p:spPr>
          <a:xfrm>
            <a:off x="285840" y="1870920"/>
            <a:ext cx="5285880" cy="4731120"/>
          </a:xfrm>
          <a:prstGeom prst="rect">
            <a:avLst/>
          </a:prstGeom>
          <a:ln w="0">
            <a:solidFill>
              <a:srgbClr val="000000"/>
            </a:solidFill>
          </a:ln>
        </p:spPr>
      </p:pic>
      <p:pic>
        <p:nvPicPr>
          <p:cNvPr id="274" name="Picture 3" descr="C:\Documents and Settings\BRUNTSEV\Мои документы\Мои рисунки\Юрий\Документы\Презентации\Материал\9787.jpg"/>
          <p:cNvPicPr/>
          <p:nvPr/>
        </p:nvPicPr>
        <p:blipFill>
          <a:blip r:embed="rId2"/>
          <a:stretch/>
        </p:blipFill>
        <p:spPr>
          <a:xfrm>
            <a:off x="2098800" y="3000240"/>
            <a:ext cx="1772640" cy="3238200"/>
          </a:xfrm>
          <a:prstGeom prst="rect">
            <a:avLst/>
          </a:prstGeom>
          <a:ln w="0">
            <a:solidFill>
              <a:srgbClr val="ff0000"/>
            </a:solidFill>
          </a:ln>
        </p:spPr>
      </p:pic>
      <p:sp>
        <p:nvSpPr>
          <p:cNvPr id="275" name="TextBox 10"/>
          <p:cNvSpPr/>
          <p:nvPr/>
        </p:nvSpPr>
        <p:spPr>
          <a:xfrm>
            <a:off x="571320" y="142920"/>
            <a:ext cx="6500520" cy="22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ln>
                  <a:solidFill>
                    <a:schemeClr val="accent1"/>
                  </a:solidFill>
                </a:ln>
                <a:solidFill>
                  <a:srgbClr val="ffffff"/>
                </a:solidFill>
                <a:latin typeface="Rockwell"/>
              </a:rPr>
              <a:t>Родился в семье колхозника в г. Гжатск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ln>
                  <a:solidFill>
                    <a:schemeClr val="accent1"/>
                  </a:solidFill>
                </a:ln>
                <a:solidFill>
                  <a:srgbClr val="ffffff"/>
                </a:solidFill>
                <a:latin typeface="Rockwell"/>
              </a:rPr>
              <a:t>Гжатского района Смоленской об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ln>
                  <a:solidFill>
                    <a:schemeClr val="accent1"/>
                  </a:solidFill>
                </a:ln>
                <a:solidFill>
                  <a:srgbClr val="ffffff"/>
                </a:solidFill>
                <a:latin typeface="Rockwell"/>
              </a:rPr>
              <a:t>                  </a:t>
            </a:r>
            <a:r>
              <a:rPr b="0" lang="ru-RU" sz="2800" spc="-1" strike="noStrike">
                <a:ln>
                  <a:solidFill>
                    <a:schemeClr val="accent1"/>
                  </a:solidFill>
                </a:ln>
                <a:solidFill>
                  <a:srgbClr val="ffffff"/>
                </a:solidFill>
                <a:latin typeface="Rockwell"/>
              </a:rPr>
              <a:t>9 марта 1934 г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pull dir="lu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4.44444E-006 L 0.47414 -0.22638 E">
                                      <p:cBhvr>
                                        <p:cTn id="80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4" descr="C:\Documents and Settings\BRUNTSEV\Мои документы\Мои рисунки\Юрий\Документы\Презентации\Материал\Gagarin_23.jpg"/>
          <p:cNvPicPr/>
          <p:nvPr/>
        </p:nvPicPr>
        <p:blipFill>
          <a:blip r:embed="rId1"/>
          <a:stretch/>
        </p:blipFill>
        <p:spPr>
          <a:xfrm rot="1528800">
            <a:off x="3105720" y="3566880"/>
            <a:ext cx="2577240" cy="2876040"/>
          </a:xfrm>
          <a:prstGeom prst="rect">
            <a:avLst/>
          </a:prstGeom>
          <a:ln w="0">
            <a:solidFill>
              <a:srgbClr val="0070c0"/>
            </a:solidFill>
          </a:ln>
        </p:spPr>
      </p:pic>
      <p:sp>
        <p:nvSpPr>
          <p:cNvPr id="277" name="TextBox 1"/>
          <p:cNvSpPr/>
          <p:nvPr/>
        </p:nvSpPr>
        <p:spPr>
          <a:xfrm>
            <a:off x="4357800" y="500040"/>
            <a:ext cx="442872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В 1955 году с отличием окончил индустриальный техникум и аэроклуб в Саратове и оступил в 1-ое Чкаловское военное авиационное училище лётчиков имени К.Е. Ворошилова, которое окончил в 1957 году по 1-му разряду</a:t>
            </a: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2" descr="C:\Documents and Settings\BRUNTSEV\Мои документы\Мои рисунки\Юрий\Документы\Презентации\Материал\vostok_korabl.jpg"/>
          <p:cNvPicPr/>
          <p:nvPr/>
        </p:nvPicPr>
        <p:blipFill>
          <a:blip r:embed="rId2"/>
          <a:stretch/>
        </p:blipFill>
        <p:spPr>
          <a:xfrm>
            <a:off x="6786720" y="3929040"/>
            <a:ext cx="1164960" cy="2195280"/>
          </a:xfrm>
          <a:prstGeom prst="rect">
            <a:avLst/>
          </a:prstGeom>
          <a:ln w="0">
            <a:solidFill>
              <a:srgbClr val="000000"/>
            </a:solidFill>
          </a:ln>
        </p:spPr>
      </p:pic>
      <p:pic>
        <p:nvPicPr>
          <p:cNvPr id="279" name="Picture 3" descr="C:\Documents and Settings\BRUNTSEV\Мои документы\Мои рисунки\Юрий\Документы\Презентации\Материал\vostok_rocket.jpg"/>
          <p:cNvPicPr/>
          <p:nvPr/>
        </p:nvPicPr>
        <p:blipFill>
          <a:blip r:embed="rId3"/>
          <a:stretch/>
        </p:blipFill>
        <p:spPr>
          <a:xfrm>
            <a:off x="428760" y="285840"/>
            <a:ext cx="1802880" cy="6121080"/>
          </a:xfrm>
          <a:prstGeom prst="rect">
            <a:avLst/>
          </a:prstGeom>
          <a:ln w="0">
            <a:solidFill>
              <a:srgbClr val="000000"/>
            </a:solidFill>
          </a:ln>
        </p:spPr>
      </p:pic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pull dir="r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Box 1"/>
          <p:cNvSpPr/>
          <p:nvPr/>
        </p:nvSpPr>
        <p:spPr>
          <a:xfrm>
            <a:off x="357120" y="500040"/>
            <a:ext cx="4285800" cy="19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l" rig="glow">
                <a:rot lat="0" lon="0" rev="5400000"/>
              </a:lightRig>
            </a:scene3d>
            <a:sp3d contourW="12700">
              <a:bevelT w="25400" h="25400"/>
              <a:contourClr>
                <a:schemeClr val="accent6"/>
              </a:contourClr>
            </a:sp3d>
          </a:bodyPr>
          <a:p>
            <a:pPr>
              <a:lnSpc>
                <a:spcPct val="100000"/>
              </a:lnSpc>
            </a:pP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12 апреля 1961 года совершил первый в истории человечества космический полёт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(на КК «Восток»)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Picture 4" descr="C:\Documents and Settings\BRUNTSEV\Мои документы\Мои рисунки\СМОТРИ\ПЛАНЕТА ЗЕМЛЯ.jpg"/>
          <p:cNvPicPr/>
          <p:nvPr/>
        </p:nvPicPr>
        <p:blipFill>
          <a:blip r:embed="rId1"/>
          <a:stretch/>
        </p:blipFill>
        <p:spPr>
          <a:xfrm>
            <a:off x="357120" y="3571920"/>
            <a:ext cx="4214520" cy="3160800"/>
          </a:xfrm>
          <a:prstGeom prst="rect">
            <a:avLst/>
          </a:prstGeom>
          <a:ln w="0">
            <a:solidFill>
              <a:srgbClr val="ffffff"/>
            </a:solidFill>
          </a:ln>
        </p:spPr>
      </p:pic>
      <p:sp>
        <p:nvSpPr>
          <p:cNvPr id="282" name="TextBox 8"/>
          <p:cNvSpPr/>
          <p:nvPr/>
        </p:nvSpPr>
        <p:spPr>
          <a:xfrm>
            <a:off x="5000760" y="4429080"/>
            <a:ext cx="3714480" cy="12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За 1 ч 48 мин облетел    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земной шар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3" name="Picture 8" descr="C:\Documents and Settings\BRUNTSEV\Мои документы\Мои рисунки\Юрий\Документы\Презентации\Материал\9906.jpg"/>
          <p:cNvPicPr/>
          <p:nvPr/>
        </p:nvPicPr>
        <p:blipFill>
          <a:blip r:embed="rId2"/>
          <a:stretch/>
        </p:blipFill>
        <p:spPr>
          <a:xfrm>
            <a:off x="6010200" y="0"/>
            <a:ext cx="3133440" cy="3809520"/>
          </a:xfrm>
          <a:prstGeom prst="rect">
            <a:avLst/>
          </a:prstGeom>
          <a:ln w="0">
            <a:solidFill>
              <a:srgbClr val="3b3b3b">
                <a:lumMod val="60000"/>
                <a:lumOff val="40000"/>
              </a:srgbClr>
            </a:solidFill>
          </a:ln>
        </p:spPr>
      </p:pic>
      <p:pic>
        <p:nvPicPr>
          <p:cNvPr id="284" name="Picture 9" descr="C:\Documents and Settings\BRUNTSEV\Мои документы\Мои рисунки\Юрий\Документы\WORD\Техника\J0215086.WMF"/>
          <p:cNvPicPr/>
          <p:nvPr/>
        </p:nvPicPr>
        <p:blipFill>
          <a:blip r:embed="rId3"/>
          <a:stretch/>
        </p:blipFill>
        <p:spPr>
          <a:xfrm>
            <a:off x="7912440" y="4929120"/>
            <a:ext cx="1231200" cy="1928520"/>
          </a:xfrm>
          <a:prstGeom prst="rect">
            <a:avLst/>
          </a:prstGeom>
          <a:ln w="0">
            <a:noFill/>
          </a:ln>
          <a:effectLst>
            <a:softEdge rad="63360"/>
          </a:effectLst>
          <a:scene3d>
            <a:camera prst="perspectiveHeroicExtremeLeftFacing"/>
            <a:lightRig dir="t" rig="threePt"/>
          </a:scene3d>
        </p:spPr>
      </p:pic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circl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8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77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5" dur="770" fill="hold"/>
                                        <p:tgtEl>
                                          <p:spTgt spid="2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7" dur="77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9" dur="77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07407E-006 C -0.00538 -0.0118 -0.00104 -0.00069 -0.00347 -0.02708 C -0.00399 -0.0324 -0.00538 -0.03171 -0.00712 -0.03657 C -0.01007 -0.0456 -0.01128 -0.05509 -0.01545 -0.06342 C -0.02743 -0.08773 -0.04236 -0.11041 -0.0559 -0.13333 C -0.06823 -0.15416 -0.08021 -0.17708 -0.09514 -0.19514 C -0.09687 -0.19722 -0.0993 -0.19814 -0.10121 -0.2 C -0.12014 -0.21944 -0.13906 -0.23842 -0.15833 -0.25717 C -0.16337 -0.26203 -0.16909 -0.2662 -0.17378 -0.27152 C -0.18402 -0.28333 -0.19531 -0.29189 -0.2059 -0.30324 C -0.2125 -0.31018 -0.21944 -0.31921 -0.22621 -0.32546 C -0.24479 -0.34282 -0.27534 -0.35833 -0.29757 -0.36504 C -0.29896 -0.3662 -0.30451 -0.37152 -0.30712 -0.37152 C -0.3125 -0.37152 -0.31597 -0.36342 -0.32135 -0.3618 C -0.33142 -0.35902 -0.35191 -0.35902 -0.35712 -0.35879 C -0.3651 -0.3625 -0.37257 -0.36875 -0.3809 -0.37152 C -0.3967 -0.38449 -0.43316 -0.38634 -0.45 -0.38727 C -0.48385 -0.39375 -0.51979 -0.39421 -0.55347 -0.38402 C -0.56458 -0.38078 -0.57552 -0.37824 -0.5868 -0.37615 C -0.59236 -0.375 -0.60347 -0.37291 -0.60347 -0.37291 C -0.62691 -0.35949 -0.64948 -0.3456 -0.67135 -0.32847 C -0.68489 -0.31782 -0.69913 -0.31365 -0.71059 -0.29838 C -0.72691 -0.27662 -0.72986 -0.24814 -0.7368 -0.2206 C -0.73854 -0.20509 -0.74097 -0.18981 -0.74288 -0.17453 C -0.74253 -0.15648 -0.74323 -0.13842 -0.74166 -0.1206 C -0.74027 -0.10602 -0.72725 -0.08981 -0.72135 -0.07939 C -0.7085 -0.05625 -0.69462 -0.03657 -0.675 -0.02384 C -0.66632 -0.00972 -0.67465 -0.02106 -0.66059 -0.00949 C -0.65468 -0.00463 -0.65139 0.00394 -0.64514 0.00787 C -0.63455 0.01482 -0.62118 0.02292 -0.60955 0.02709 C -0.59566 0.03195 -0.5809 0.03056 -0.56666 0.03172 C -0.55972 0.03357 -0.55277 0.03449 -0.54635 0.0382 C -0.53784 0.04329 -0.53038 0.04908 -0.52135 0.05232 C -0.51337 0.0551 -0.50451 0.05579 -0.49635 0.05718 C -0.48576 0.06135 -0.475 0.0625 -0.46423 0.06505 C -0.37465 0.06412 -0.3092 0.06065 -0.225 0.0588 C -0.21354 0.05625 -0.20364 0.05209 -0.19166 0.0507 C -0.18021 0.04746 -0.1717 0.04468 -0.16059 0.03959 C -0.15555 0.03727 -0.15434 0.03357 -0.15 0.0301 C -0.13975 0.02176 -0.12847 0.01574 -0.11788 0.00787 C -0.11232 0.00371 -0.10937 -0.00254 -0.10347 -0.00625 C -0.09496 -0.01782 -0.08889 -0.03634 -0.07968 -0.04444 C -0.0717 -0.06041 -0.06493 -0.07847 -0.05468 -0.09213 C -0.05139 -0.10509 -0.04739 -0.11759 -0.04288 -0.13009 C -0.03975 -0.15115 -0.04392 -0.12824 -0.03923 -0.14282 C -0.03698 -0.14977 -0.0368 -0.15764 -0.03559 -0.16504 C -0.03402 -0.17546 -0.03125 -0.18611 -0.02968 -0.19676 C -0.0309 -0.22569 -0.02968 -0.28194 -0.03559 -0.30324 C -0.03698 -0.31412 -0.03802 -0.32708 -0.04288 -0.33657 C -0.04982 -0.35046 -0.06076 -0.36018 -0.07014 -0.37152 C -0.07847 -0.38148 -0.0908 -0.39699 -0.10121 -0.40162 C -0.10243 -0.40277 -0.1033 -0.40416 -0.10468 -0.40486 C -0.10729 -0.40625 -0.11302 -0.40787 -0.11302 -0.40787 C -0.11771 -0.41296 -0.12743 -0.42453 -0.13333 -0.42708 C -0.14218 -0.43634 -0.15451 -0.44236 -0.16545 -0.44606 C -0.17448 -0.45509 -0.18455 -0.45717 -0.19514 -0.46041 C -0.21319 -0.46597 -0.23159 -0.46967 -0.25 -0.47291 C -0.2743 -0.47731 -0.29826 -0.48379 -0.32257 -0.48889 C -0.3408 -0.49259 -0.3592 -0.49421 -0.37725 -0.49838 C -0.39062 -0.50139 -0.40295 -0.50486 -0.41666 -0.50625 C -0.46475 -0.50532 -0.49913 -0.50324 -0.54514 -0.50162 C -0.55989 -0.49375 -0.57708 -0.49398 -0.59288 -0.49051 C -0.60625 -0.49097 -0.66267 -0.49236 -0.68212 -0.49375 C -0.69375 -0.49467 -0.70468 -0.50463 -0.71545 -0.50949 C -0.72517 -0.51875 -0.72083 -0.51527 -0.72847 -0.5206 C -0.73298 -0.52939 -0.74149 -0.53379 -0.74757 -0.5412 C -0.75434 -0.54953 -0.74948 -0.54652 -0.7559 -0.5493 C -0.7618 -0.55694 -0.7684 -0.56342 -0.775 -0.5699 C -0.78368 -0.57847 -0.78472 -0.58958 -0.79166 -0.59838 C -0.79409 -0.60509 -0.7967 -0.60694 -0.8 -0.61273 C -0.80538 -0.62222 -0.81146 -0.63588 -0.81788 -0.64444 C -0.82187 -0.65555 -0.81909 -0.64838 -0.82621 -0.66342 C -0.82691 -0.66504 -0.82847 -0.66828 -0.82847 -0.66828 C -0.8335 -0.69421 -0.84652 -0.71689 -0.85225 -0.74282 C -0.85399 -0.77245 -0.85642 -0.79213 -0.85347 -0.8206 C -0.85243 -0.86504 -0.84757 -0.91227 -0.85833 -0.95555 C -0.85868 -0.97777 -0.85885 -1 -0.85955 -1.02222 C -0.86007 -1.03634 -0.86892 -1.05486 -0.86892 -1.06828 E">
                                      <p:cBhvr>
                                        <p:cTn id="140" dur="5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Box 1"/>
          <p:cNvSpPr/>
          <p:nvPr/>
        </p:nvSpPr>
        <p:spPr>
          <a:xfrm>
            <a:off x="285840" y="357120"/>
            <a:ext cx="7500600" cy="12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500" spc="-1" strike="noStrike">
                <a:ln>
                  <a:solidFill>
                    <a:srgbClr val="7c7c7c"/>
                  </a:solidFill>
                </a:ln>
                <a:solidFill>
                  <a:srgbClr val="ffffff"/>
                </a:solidFill>
                <a:latin typeface="Arial"/>
              </a:rPr>
              <a:t>Благополучно приземлился в окрестности деревни Смолевки Терновского района Саратовской области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Прямоугольник 3"/>
          <p:cNvSpPr/>
          <p:nvPr/>
        </p:nvSpPr>
        <p:spPr>
          <a:xfrm>
            <a:off x="0" y="5565240"/>
            <a:ext cx="9143640" cy="12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600" spc="-1" strike="noStrike">
                <a:ln>
                  <a:solidFill>
                    <a:srgbClr val="7c7c7c"/>
                  </a:solidFill>
                </a:ln>
                <a:solidFill>
                  <a:srgbClr val="ffffff"/>
                </a:solidFill>
                <a:latin typeface="Arial"/>
              </a:rPr>
              <a:t>Первыми людьми, которые встретили космонавта после полёта, оказались жена лесника Анна Акимовна Тахтарова и её шестилетняя внучка Рит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Picture 2" descr="C:\Documents and Settings\Учебный1\Мои документы\Мои рисунки\Презентации\Гагарин\Материал\9713.jpg"/>
          <p:cNvPicPr/>
          <p:nvPr/>
        </p:nvPicPr>
        <p:blipFill>
          <a:blip r:embed="rId1"/>
          <a:stretch/>
        </p:blipFill>
        <p:spPr>
          <a:xfrm>
            <a:off x="214200" y="1714320"/>
            <a:ext cx="1970640" cy="30715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3" descr="C:\Documents and Settings\Учебный1\Мои документы\Мои рисунки\Презентации\Гагарин\Материал\9838.jpg"/>
          <p:cNvPicPr/>
          <p:nvPr/>
        </p:nvPicPr>
        <p:blipFill>
          <a:blip r:embed="rId2"/>
          <a:stretch/>
        </p:blipFill>
        <p:spPr>
          <a:xfrm>
            <a:off x="4786200" y="2643120"/>
            <a:ext cx="3809520" cy="2847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newsflash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Прямоугольник 1"/>
          <p:cNvSpPr/>
          <p:nvPr/>
        </p:nvSpPr>
        <p:spPr>
          <a:xfrm>
            <a:off x="285840" y="285840"/>
            <a:ext cx="8500680" cy="49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" rig="balanced">
                <a:rot lat="0" lon="0" rev="2100000"/>
              </a:lightRig>
            </a:scene3d>
            <a:sp3d extrusionH="57150" prstMaterial="metal">
              <a:bevelT w="38100" h="25400"/>
              <a:contourClr>
                <a:schemeClr val="bg2"/>
              </a:contourClr>
            </a:sp3d>
          </a:bodyPr>
          <a:p>
            <a:pPr>
              <a:lnSpc>
                <a:spcPct val="100000"/>
              </a:lnSpc>
            </a:pPr>
            <a:r>
              <a:rPr b="1" lang="ru-RU" sz="2300" spc="-1" strike="noStrike">
                <a:solidFill>
                  <a:srgbClr val="000000"/>
                </a:solidFill>
                <a:latin typeface="Book Antiqua"/>
              </a:rPr>
              <a:t>Первоначально, никто не планировал грандиозной встречи Гагарина в Москве. Всё решил в последний момент Никита Хрущёв. По словам Сергея Хрущёва: «Он начал с того, что позвонил министру обороны Маршалу Малиновскому и сказал: „Он у вас старший лейтенант. Надо его срочно повысить в звании“. Малиновский сказал, довольно неохотно, что даст Гагарину звание капитана. На что Никита Сергеевич рассердился: „Какого капитана? Вы ему хоть майора дайте“. Малиновский долго не соглашался, но Хрущёв настоял на своём, и в этот же день Гагарин стал майором». Потом Хрущёв позвонил в Кремль и потребовал, чтобы Гагарину подготовили достойную встречу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2" descr="C:\Documents and Settings\Учебный1\Мои документы\Мои рисунки\Презентации\Гагарин\Материал\9751.jpg"/>
          <p:cNvPicPr/>
          <p:nvPr/>
        </p:nvPicPr>
        <p:blipFill>
          <a:blip r:embed="rId1"/>
          <a:stretch/>
        </p:blipFill>
        <p:spPr>
          <a:xfrm>
            <a:off x="6660360" y="4227840"/>
            <a:ext cx="1896480" cy="2629800"/>
          </a:xfrm>
          <a:prstGeom prst="rect">
            <a:avLst/>
          </a:prstGeom>
          <a:ln w="0">
            <a:solidFill>
              <a:srgbClr val="ffffff"/>
            </a:solidFill>
          </a:ln>
        </p:spPr>
      </p:pic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3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str">
                                      <p:cBhvr additive="repl">
                                        <p:cTn id="178" dur="1" fill="hold"/>
                                        <p:tgtEl>
                                          <p:spTgt spid="290"/>
                                        </p:tgtEl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Прямоугольник 1"/>
          <p:cNvSpPr/>
          <p:nvPr/>
        </p:nvSpPr>
        <p:spPr>
          <a:xfrm>
            <a:off x="122400" y="554040"/>
            <a:ext cx="6391080" cy="58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" rig="balanced">
                <a:rot lat="0" lon="0" rev="2100000"/>
              </a:lightRig>
            </a:scene3d>
            <a:sp3d extrusionH="57150" prstMaterial="metal">
              <a:bevelT w="38100" h="25400"/>
              <a:contourClr>
                <a:schemeClr val="bg2"/>
              </a:contourClr>
            </a:sp3d>
          </a:bodyPr>
          <a:p>
            <a:pPr algn="just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За Гагариным прилетел Ил-18, а на подлёте к Москве к самолёту присоединился почётный эскорт истребителей, состоящий из МИГов. Самолёт прилетел в аэропорт Внуково, там Гагарина ожидал грандиозный приём. Огромная толпа народа, вся верхушка власти, журналисты и операторы. Самолёт подрулил к центральному зданию аэропорта, спустили трап и первым по нему сошёл Гагарин. От самолёта до правительственных трибун была протянута ярко-красная ковровая дорожка, по ней и пошёл Юрий Гагарин (по пути у него развязался шнурок на ботинке, но он не остановился и дошёл до правительственных трибун, рискуя споткнуться и упасть), под звуки оркестра, исполняющего старинный авиационный марш «Мы рождены, чтоб сказку сделать былью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4" descr="C:\Documents and Settings\Учебный1\Мои документы\Мои рисунки\Презентации\Гагарин\Материал\9745.jpg"/>
          <p:cNvPicPr/>
          <p:nvPr/>
        </p:nvPicPr>
        <p:blipFill>
          <a:blip r:embed="rId1"/>
          <a:stretch/>
        </p:blipFill>
        <p:spPr>
          <a:xfrm>
            <a:off x="6732360" y="571320"/>
            <a:ext cx="2228040" cy="4524120"/>
          </a:xfrm>
          <a:prstGeom prst="rect">
            <a:avLst/>
          </a:prstGeom>
          <a:ln w="0">
            <a:solidFill>
              <a:srgbClr val="ff0000"/>
            </a:solidFill>
          </a:ln>
        </p:spPr>
      </p:pic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cover dir="ru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Прямоугольник 2"/>
          <p:cNvSpPr/>
          <p:nvPr/>
        </p:nvSpPr>
        <p:spPr>
          <a:xfrm>
            <a:off x="0" y="0"/>
            <a:ext cx="6857640" cy="25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" rig="balanced">
                <a:rot lat="0" lon="0" rev="2100000"/>
              </a:lightRig>
            </a:scene3d>
            <a:sp3d extrusionH="57150" prstMaterial="metal">
              <a:bevelT w="38100" h="25400"/>
              <a:contourClr>
                <a:schemeClr val="bg2"/>
              </a:contourClr>
            </a:sp3d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Подойдя к трибуне, Юрий Гагарин отрапортовал Никите Хрущёв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— </a:t>
            </a: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Товарищ Первый секретарь Центрального Комитета Коммунистической партии Советского Союза, Председатель Совета Министров СССР! Рад доложить Вам, что задание Центрального Комитета Коммунистической партии и Советского правительства выполнено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2" descr="C:\Documents and Settings\Учебный1\Мои документы\Мои рисунки\Презентации\Гагарин\Материал\9826.jpg"/>
          <p:cNvPicPr/>
          <p:nvPr/>
        </p:nvPicPr>
        <p:blipFill>
          <a:blip r:embed="rId1"/>
          <a:stretch/>
        </p:blipFill>
        <p:spPr>
          <a:xfrm>
            <a:off x="5143680" y="2428920"/>
            <a:ext cx="3809520" cy="2037960"/>
          </a:xfrm>
          <a:prstGeom prst="rect">
            <a:avLst/>
          </a:prstGeom>
          <a:ln w="0">
            <a:solidFill>
              <a:srgbClr val="000000"/>
            </a:solidFill>
          </a:ln>
        </p:spPr>
      </p:pic>
      <p:pic>
        <p:nvPicPr>
          <p:cNvPr id="295" name="Picture 3" descr="C:\Documents and Settings\Учебный1\Мои документы\Мои рисунки\Презентации\Гагарин\Материал\123563498241a3.jpg"/>
          <p:cNvPicPr/>
          <p:nvPr/>
        </p:nvPicPr>
        <p:blipFill>
          <a:blip r:embed="rId2"/>
          <a:stretch/>
        </p:blipFill>
        <p:spPr>
          <a:xfrm>
            <a:off x="500040" y="2857320"/>
            <a:ext cx="4095360" cy="3247560"/>
          </a:xfrm>
          <a:prstGeom prst="rect">
            <a:avLst/>
          </a:prstGeom>
          <a:ln w="0">
            <a:solidFill>
              <a:srgbClr val="ffffff"/>
            </a:solidFill>
          </a:ln>
        </p:spPr>
      </p:pic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pull dir="ru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77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0" dur="770" fill="hold"/>
                                        <p:tgtEl>
                                          <p:spTgt spid="2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2" dur="77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4" dur="77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Апекс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Метро">
  <a:themeElements>
    <a:clrScheme name="Метро">
      <a:dk1>
        <a:srgbClr val="000000"/>
      </a:dk1>
      <a:lt1>
        <a:srgbClr val="ffffff"/>
      </a:lt1>
      <a:dk2>
        <a:srgbClr val="4e5b6f"/>
      </a:dk2>
      <a:lt2>
        <a:srgbClr val="d6ecff"/>
      </a:lt2>
      <a:accent1>
        <a:srgbClr val="7fd13b"/>
      </a:accent1>
      <a:accent2>
        <a:srgbClr val="ea157a"/>
      </a:accent2>
      <a:accent3>
        <a:srgbClr val="feb80a"/>
      </a:accent3>
      <a:accent4>
        <a:srgbClr val="00addc"/>
      </a:accent4>
      <a:accent5>
        <a:srgbClr val="738ac8"/>
      </a:accent5>
      <a:accent6>
        <a:srgbClr val="1ab39f"/>
      </a:accent6>
      <a:hlink>
        <a:srgbClr val="eb8803"/>
      </a:hlink>
      <a:folHlink>
        <a:srgbClr val="5f779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1_Литейная">
  <a:themeElements>
    <a:clrScheme name="Литейная">
      <a:dk1>
        <a:srgbClr val="000000"/>
      </a:dk1>
      <a:lt1>
        <a:srgbClr val="ffffff"/>
      </a:lt1>
      <a:dk2>
        <a:srgbClr val="676a55"/>
      </a:dk2>
      <a:lt2>
        <a:srgbClr val="eaebde"/>
      </a:lt2>
      <a:accent1>
        <a:srgbClr val="72a376"/>
      </a:accent1>
      <a:accent2>
        <a:srgbClr val="b0ccb0"/>
      </a:accent2>
      <a:accent3>
        <a:srgbClr val="a8cdd7"/>
      </a:accent3>
      <a:accent4>
        <a:srgbClr val="c0beaf"/>
      </a:accent4>
      <a:accent5>
        <a:srgbClr val="cec597"/>
      </a:accent5>
      <a:accent6>
        <a:srgbClr val="e8b7b7"/>
      </a:accent6>
      <a:hlink>
        <a:srgbClr val="db5353"/>
      </a:hlink>
      <a:folHlink>
        <a:srgbClr val="90363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Бумажная">
  <a:themeElements>
    <a:clrScheme name="Бумажная">
      <a:dk1>
        <a:srgbClr val="000000"/>
      </a:dk1>
      <a:lt1>
        <a:srgbClr val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Техническая">
  <a:themeElements>
    <a:clrScheme name="Техническая">
      <a:dk1>
        <a:srgbClr val="000000"/>
      </a:dk1>
      <a:lt1>
        <a:srgbClr val="ffffff"/>
      </a:lt1>
      <a:dk2>
        <a:srgbClr val="3b3b3b"/>
      </a:dk2>
      <a:lt2>
        <a:srgbClr val="d4d2d0"/>
      </a:lt2>
      <a:accent1>
        <a:srgbClr val="6ea0b0"/>
      </a:accent1>
      <a:accent2>
        <a:srgbClr val="ccaf0a"/>
      </a:accent2>
      <a:accent3>
        <a:srgbClr val="8d89a4"/>
      </a:accent3>
      <a:accent4>
        <a:srgbClr val="748560"/>
      </a:accent4>
      <a:accent5>
        <a:srgbClr val="9e9273"/>
      </a:accent5>
      <a:accent6>
        <a:srgbClr val="7e848d"/>
      </a:accent6>
      <a:hlink>
        <a:srgbClr val="00c8c3"/>
      </a:hlink>
      <a:folHlink>
        <a:srgbClr val="a116e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1_Апекс">
  <a:themeElements>
    <a:clrScheme name="Апекс">
      <a:dk1>
        <a:srgbClr val="000000"/>
      </a:dk1>
      <a:lt1>
        <a:srgbClr val="ffffff"/>
      </a:lt1>
      <a:dk2>
        <a:srgbClr val="69676d"/>
      </a:dk2>
      <a:lt2>
        <a:srgbClr val="c9c2d1"/>
      </a:lt2>
      <a:accent1>
        <a:srgbClr val="ceb966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  <Words>986</Words>
  <Paragraphs>6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5-01-13T08:25:06Z</dcterms:modified>
  <cp:revision>2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0</vt:r8>
  </property>
  <property fmtid="{D5CDD505-2E9C-101B-9397-08002B2CF9AE}" pid="3" name="PresentationFormat">
    <vt:lpwstr>Екран (4:3)</vt:lpwstr>
  </property>
  <property fmtid="{D5CDD505-2E9C-101B-9397-08002B2CF9AE}" pid="4" name="Slides">
    <vt:r8>10</vt:r8>
  </property>
</Properties>
</file>