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293F90-F7DA-4254-A9C2-070B63763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лексе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5DA88E-A3BA-4976-B342-17C2402D5F8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450565-C0D9-4319-B4A9-D25511CB1FD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АГАРИН Юрий Алексеевич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1934-1968) космонавт СССР, полковник, Герой Советского Союза, лётчик-космонавт ССС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й человек, совершивший полёт в косм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4FD277-4ACF-4911-9387-BED6077DBDD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Родился в семье колхозника в г. Гжатс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Гжатского района Смоленской об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</a:rPr>
              <a:t>9 марта 1934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4F37D1-F2C2-4D40-8489-31A10AB699B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950E27-BC08-417C-9B38-471C42BB9A6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на КК «Восток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1 ч 48 мин облетел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емной ша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27DA96-A717-4CD4-9A1B-AB960FE3294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87AB08-11D4-4950-9EF0-1A31DC3AD7F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80F5F-36D0-46B1-AEEA-69C7213F7AC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1018FB-2FB5-439C-A688-371B1804602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ойдя к трибуне, Юрий Гагарин отрапортовал Никите Хрущёв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0F4987-32DB-4F0B-B177-5995A986712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39C-AD3C-4BC7-BB93-539EF932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5C9-1988-45FB-B03E-91CAAD11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411-0F18-4C36-963C-6099B28F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F36-F9BE-44D7-8573-5EA77052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A011-1695-479E-B447-62F8B1FB6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585F-33B7-4060-9352-7948D16C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13E-7FA7-4EB8-8092-5F1E587E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6164-F304-4243-8516-DD1D229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8EB-7828-44E1-8068-AAA9F998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2528-FC4F-4FD2-A8AB-C19E56AC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EC97-E608-4038-8931-71F0104E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CAD-8C2C-4C1C-AC80-F06578C5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082-2464-4F18-A761-2334C834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0874-86B2-4A1E-B40F-26528DB8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7EE-EF66-4D17-95AD-B758593E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325-DD99-43B2-ADE4-7955A622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BE69-9B01-4993-B6EF-2DBC9E1C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9A9D-5662-44A4-B481-6C82623B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A99D-DC6A-480D-B1F8-4BEA2208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DA76-B869-4CC4-BDF4-C237F89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84A51-CECD-4A94-A698-E9876ED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97328-C892-4BD0-90C6-E8A509BC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3C1-ABD2-4A06-95B6-35114BE7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CC09-0D49-4099-80EA-DB4E49D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4D8BE-CE68-4F06-840B-1ADB26FD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3F7C-AD3F-4F71-AD66-6F4A8FC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AC0F7-2F9E-4CA9-BE2E-AF573D6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ACD88-D1A8-48DB-95DD-727A7A12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9780-3227-4BFD-8CCF-9CBDB165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80E1-45CB-4AFD-B067-8FAB1CB3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3933-F39D-4C74-ACCE-AEDBA955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F1D64-21E8-47B5-8F1C-2F530483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FE37-D6BC-48F5-9E2F-D1CFB8A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6C7-5EDB-4997-A07D-6BC1C282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EBCE1-B340-4F2C-ADCB-7D24879F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4BAA9-704A-4A0C-B073-2EC3491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461B-34CC-47A6-89A5-83B5EFA6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0D3B-C446-43E7-A72C-BDCB134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3F63C-2D0D-436B-86CA-F39BA482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51F2-5975-4EFB-B290-41539A8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B55D1-102F-40DE-80E0-2062EF2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278C-9258-4AF6-923B-D95349E5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007F4-FF84-4325-AB35-192928C8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E395-E40B-4F6D-B492-288DF100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6FF-1667-407F-8551-76E69468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B3114-295D-4975-B7AE-A231FBC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474C-28B5-43CB-83B8-093CB778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29FFE-7EAF-4F4B-B61D-3EDE09B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FF388-EA27-432C-823B-C0887D54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DAF8-1203-479B-A50C-8669CB7C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CDABA-77F7-4900-957A-CF17ADE2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8636-D353-4E8B-9C51-5CC6D9E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008DC-A434-4F2F-A2CB-33E976CB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3D16-3855-4548-8157-BA86C59E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88AE8-3B91-4356-81F9-01646D3A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6A3-8222-4B02-BFCB-220D8C76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973A-3025-4498-978E-E284B574D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AD28-6253-4D04-87A1-23C32289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C28E9-0027-452E-8741-ACB59BD5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C7A40-4988-4D81-9ADE-4FB6E3B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C4C7-0E13-4DE9-ADD5-04809434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1B53-5D4B-4336-B5F1-D943754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8AE0B-413F-4626-BF44-446FE8C5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85FD7-786A-4518-8006-C1BA8515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FF3D-6CDD-46A9-B8B2-C81078B7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A71DC-2DF7-48C7-BDDA-B81D61E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4E9-C318-4438-9410-1F5C3DA1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9B627-4520-4633-8315-FC9BEB2C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D800-456F-4E40-BBCB-47A67336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4D813-F0C9-4BB4-835C-35D51C6E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962D-0AB2-4857-BF48-8D7DB82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893-401E-4422-ABEF-14DC34F4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D3DBB5-F684-4EE5-9193-79CE83AD7FAF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2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3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4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6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7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8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9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7BC500A-2D4E-4BF2-BB53-562D242B1CD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двумя скругленными противолежащими углами 6"/>
          <p:cNvSpPr/>
          <p:nvPr/>
        </p:nvSpPr>
        <p:spPr>
          <a:xfrm>
            <a:off x="164520" y="147240"/>
            <a:ext cx="8810640" cy="6564960"/>
          </a:xfrm>
          <a:prstGeom prst="round2DiagRect">
            <a:avLst>
              <a:gd name="adj1" fmla="val 11807"/>
              <a:gd name="adj2" fmla="val 0"/>
            </a:avLst>
          </a:prstGeom>
          <a:solidFill>
            <a:schemeClr val="bg2">
              <a:tint val="85000"/>
              <a:shade val="90000"/>
              <a:satMod val="150000"/>
              <a:alpha val="65000"/>
            </a:schemeClr>
          </a:solidFill>
          <a:ln cap="rnd" w="11000">
            <a:solidFill>
              <a:srgbClr val="676a55">
                <a:tint val="78000"/>
                <a:satMod val="180000"/>
                <a:alpha val="88000"/>
              </a:srgbClr>
            </a:solidFill>
            <a:round/>
          </a:ln>
          <a:effectLst>
            <a:innerShdw blurRad="114300">
              <a:srgbClr val="000000"/>
            </a:innerShdw>
            <a:softEdge rad="12600"/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562720" y="6400800"/>
            <a:ext cx="3002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300" spc="-1" strike="noStrike">
                <a:solidFill>
                  <a:srgbClr val="b9bbb1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1295280" y="6400800"/>
            <a:ext cx="421200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300" spc="-1" strike="noStrike">
                <a:solidFill>
                  <a:srgbClr val="b9bbb1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300" spc="-1" strike="noStrike">
                <a:solidFill>
                  <a:srgbClr val="b9bbb1"/>
                </a:solidFill>
                <a:latin typeface="Rockwel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638920" y="6514560"/>
            <a:ext cx="464040" cy="2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593586-1F5B-4A38-96A0-720BF7702C32}" type="slidenum">
              <a:rPr b="0" lang="ru-RU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Rockwel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3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ru-RU" sz="2300" spc="-1" strike="noStrike">
              <a:solidFill>
                <a:srgbClr val="ffffff"/>
              </a:solidFill>
              <a:latin typeface="Rockwel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9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ru-RU" sz="1900" spc="-1" strike="noStrike">
              <a:solidFill>
                <a:srgbClr val="ffffff"/>
              </a:solidFill>
              <a:latin typeface="Rockwel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ED32F12-6541-42A5-9007-A16A22C08ABE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олилиния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олилиния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dt" idx="13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9c9b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ftr" idx="14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9c9b9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5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9c9b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C8F991-423B-488A-95B9-12296AEB3965}" type="slidenum">
              <a:rPr b="0" lang="ru-RU" sz="1000" spc="-1" strike="noStrike">
                <a:solidFill>
                  <a:srgbClr val="9c9b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B41F60-DDEA-406E-98FB-A26A3270D03E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C:\Documents and Settings\BRUNTSEV\Мои документы\Мои рисунки\Юрий\Документы\Презентации\Материал\gagarin_skaf.jpg"/>
          <p:cNvPicPr/>
          <p:nvPr/>
        </p:nvPicPr>
        <p:blipFill>
          <a:blip r:embed="rId1"/>
          <a:stretch/>
        </p:blipFill>
        <p:spPr>
          <a:xfrm>
            <a:off x="5643720" y="4071960"/>
            <a:ext cx="3192120" cy="258552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5" name="Picture 6" descr="C:\Documents and Settings\BRUNTSEV\Мои документы\Мои рисунки\Юрий\Документы\Презентации\Материал\Gagarin_UA.jpg"/>
          <p:cNvPicPr/>
          <p:nvPr/>
        </p:nvPicPr>
        <p:blipFill>
          <a:blip r:embed="rId2"/>
          <a:stretch/>
        </p:blipFill>
        <p:spPr>
          <a:xfrm>
            <a:off x="6858000" y="214200"/>
            <a:ext cx="2071440" cy="275040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pic>
        <p:nvPicPr>
          <p:cNvPr id="266" name="Picture 7" descr="C:\Documents and Settings\BRUNTSEV\Мои документы\Мои рисунки\Юрий\Документы\Презентации\Материал\hm2.jpg"/>
          <p:cNvPicPr/>
          <p:nvPr/>
        </p:nvPicPr>
        <p:blipFill>
          <a:blip r:embed="rId3"/>
          <a:stretch/>
        </p:blipFill>
        <p:spPr>
          <a:xfrm>
            <a:off x="142920" y="1785960"/>
            <a:ext cx="3571560" cy="4906080"/>
          </a:xfrm>
          <a:prstGeom prst="rect">
            <a:avLst/>
          </a:prstGeom>
          <a:ln w="28575">
            <a:solidFill>
              <a:srgbClr val="000000"/>
            </a:solidFill>
            <a:round/>
          </a:ln>
        </p:spPr>
      </p:pic>
      <p:sp>
        <p:nvSpPr>
          <p:cNvPr id="267" name="Прямоугольник 7"/>
          <p:cNvSpPr/>
          <p:nvPr/>
        </p:nvSpPr>
        <p:spPr>
          <a:xfrm>
            <a:off x="1071360" y="214200"/>
            <a:ext cx="5000400" cy="131004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>
                <a:rot lat="0" lon="300000" rev="0"/>
              </a:camera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ГАГАРИ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3955320" y="1785960"/>
            <a:ext cx="2817360" cy="1096560"/>
          </a:xfrm>
          <a:prstGeom prst="rect">
            <a:avLst/>
          </a:prstGeom>
          <a:noFill/>
          <a:ln w="0"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Юр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>
            <a:off x="3848040" y="3000240"/>
            <a:ext cx="540216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Book Antiqua"/>
              </a:rPr>
              <a:t>Алексееви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C:\Documents and Settings\Учебный1\Мои документы\Мои рисунки\Презентации\Гагарин\Материал\9760.jpg"/>
          <p:cNvPicPr/>
          <p:nvPr/>
        </p:nvPicPr>
        <p:blipFill>
          <a:blip r:embed="rId1"/>
          <a:stretch/>
        </p:blipFill>
        <p:spPr>
          <a:xfrm>
            <a:off x="5004000" y="30960"/>
            <a:ext cx="2915280" cy="25333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97" name="Прямоугольник 1"/>
          <p:cNvSpPr/>
          <p:nvPr/>
        </p:nvSpPr>
        <p:spPr>
          <a:xfrm>
            <a:off x="107640" y="2925000"/>
            <a:ext cx="88920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>
                <a:rot lat="0" lon="0" rev="0"/>
              </a:camera>
              <a:lightRig dir="t" rig="glow">
                <a:rot lat="0" lon="0" rev="3600000"/>
              </a:lightRig>
            </a:scene3d>
            <a:sp3d prstMaterial="softEdge">
              <a:bevelT w="29210" h="16510"/>
              <a:contourClr>
                <a:schemeClr val="accent4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Book Antiqua"/>
              </a:rPr>
              <a:t>После полёта в космос Гагарин учился в Военно-воздушной инженерной академии имени Н.Е. Жуковского и поэтому некоторое время не имел лётной практики, также сказывалась и общественная деятельность. Первый после перерыва самостоятельный вылет на МиГ-17 он совершил в начале декабря 1967 года. Приземлился со второго захода из-за неверного расчёта на посадку, характерного для лётчиков низкого роста, имевших перерыв в полёт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C:\Documents and Settings\Учебный1\Мои документы\Мои рисунки\Презентации\Гагарин\Материал\g_5.jpg"/>
          <p:cNvPicPr/>
          <p:nvPr/>
        </p:nvPicPr>
        <p:blipFill>
          <a:blip r:embed="rId2"/>
          <a:stretch/>
        </p:blipFill>
        <p:spPr>
          <a:xfrm>
            <a:off x="357120" y="214200"/>
            <a:ext cx="3047760" cy="21664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BRUNTSEV\Мои документы\Мои рисунки\Юрий\Документы\Презентации\Материал\220px-Gagarin_space_suite.jpg"/>
          <p:cNvPicPr/>
          <p:nvPr/>
        </p:nvPicPr>
        <p:blipFill>
          <a:blip r:embed="rId1"/>
          <a:stretch/>
        </p:blipFill>
        <p:spPr>
          <a:xfrm>
            <a:off x="714240" y="3000240"/>
            <a:ext cx="2716200" cy="364284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1" name="Прямоугольник 1"/>
          <p:cNvSpPr/>
          <p:nvPr/>
        </p:nvSpPr>
        <p:spPr>
          <a:xfrm>
            <a:off x="428760" y="571320"/>
            <a:ext cx="507168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ГАГАРИН Юрий Алексеевич 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(1934-1968) космонавт СССР, полковник, Герой Советского Союза, лётчик-космонавт СССР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Первый человек, совершивший полёт в косм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2" descr="C:\Documents and Settings\BRUNTSEV\Мои документы\Мои рисунки\Юрий\Документы\Презентации\Материал\08-89.jpg"/>
          <p:cNvPicPr/>
          <p:nvPr/>
        </p:nvPicPr>
        <p:blipFill>
          <a:blip r:embed="rId2"/>
          <a:stretch/>
        </p:blipFill>
        <p:spPr>
          <a:xfrm>
            <a:off x="5929200" y="571320"/>
            <a:ext cx="2883960" cy="364068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BRUNTSEV\Мои документы\Мои рисунки\Юрий\Документы\Презентации\Материал\9769.jpg"/>
          <p:cNvPicPr/>
          <p:nvPr/>
        </p:nvPicPr>
        <p:blipFill>
          <a:blip r:embed="rId1"/>
          <a:stretch/>
        </p:blipFill>
        <p:spPr>
          <a:xfrm>
            <a:off x="285840" y="1870920"/>
            <a:ext cx="5285880" cy="473112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4" name="Picture 3" descr="C:\Documents and Settings\BRUNTSEV\Мои документы\Мои рисунки\Юрий\Документы\Презентации\Материал\9787.jpg"/>
          <p:cNvPicPr/>
          <p:nvPr/>
        </p:nvPicPr>
        <p:blipFill>
          <a:blip r:embed="rId2"/>
          <a:stretch/>
        </p:blipFill>
        <p:spPr>
          <a:xfrm>
            <a:off x="2098800" y="3000240"/>
            <a:ext cx="1772640" cy="323820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75" name="TextBox 10"/>
          <p:cNvSpPr/>
          <p:nvPr/>
        </p:nvSpPr>
        <p:spPr>
          <a:xfrm>
            <a:off x="571320" y="142920"/>
            <a:ext cx="6500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Родился в семье колхозника в г. Гжатс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Гжатского района Смоленской об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                  </a:t>
            </a:r>
            <a:r>
              <a:rPr b="0" lang="ru-RU" sz="28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Rockwell"/>
              </a:rPr>
              <a:t>9 марта 193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0.47414 -0.22638 E">
                                      <p:cBhvr>
                                        <p:cTn id="8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Documents and Settings\BRUNTSEV\Мои документы\Мои рисунки\Юрий\Документы\Презентации\Материал\Gagarin_23.jpg"/>
          <p:cNvPicPr/>
          <p:nvPr/>
        </p:nvPicPr>
        <p:blipFill>
          <a:blip r:embed="rId1"/>
          <a:stretch/>
        </p:blipFill>
        <p:spPr>
          <a:xfrm rot="1528800">
            <a:off x="3105720" y="3566880"/>
            <a:ext cx="2577240" cy="2876040"/>
          </a:xfrm>
          <a:prstGeom prst="rect">
            <a:avLst/>
          </a:prstGeom>
          <a:ln w="0">
            <a:solidFill>
              <a:srgbClr val="0070c0"/>
            </a:solidFill>
          </a:ln>
        </p:spPr>
      </p:pic>
      <p:sp>
        <p:nvSpPr>
          <p:cNvPr id="277" name="TextBox 1"/>
          <p:cNvSpPr/>
          <p:nvPr/>
        </p:nvSpPr>
        <p:spPr>
          <a:xfrm>
            <a:off x="4357800" y="500040"/>
            <a:ext cx="442872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1955 году с отличием окончил индустриальный техникум и аэроклуб в Саратове и оступил в 1-ое Чкаловское военное авиационное училище лётчиков имени К.Е. Ворошилова, которое окончил в 1957 году по 1-му разряду</a:t>
            </a: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BRUNTSEV\Мои документы\Мои рисунки\Юрий\Документы\Презентации\Материал\vostok_korabl.jpg"/>
          <p:cNvPicPr/>
          <p:nvPr/>
        </p:nvPicPr>
        <p:blipFill>
          <a:blip r:embed="rId2"/>
          <a:stretch/>
        </p:blipFill>
        <p:spPr>
          <a:xfrm>
            <a:off x="6786720" y="3929040"/>
            <a:ext cx="1164960" cy="21952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79" name="Picture 3" descr="C:\Documents and Settings\BRUNTSEV\Мои документы\Мои рисунки\Юрий\Документы\Презентации\Материал\vostok_rocket.jpg"/>
          <p:cNvPicPr/>
          <p:nvPr/>
        </p:nvPicPr>
        <p:blipFill>
          <a:blip r:embed="rId3"/>
          <a:stretch/>
        </p:blipFill>
        <p:spPr>
          <a:xfrm>
            <a:off x="428760" y="285840"/>
            <a:ext cx="1802880" cy="612108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357120" y="500040"/>
            <a:ext cx="4285800" cy="19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в истории человечества космический полёт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на КК «Восток»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C:\Documents and Settings\BRUNTSEV\Мои документы\Мои рисунки\СМОТРИ\ПЛАНЕТА ЗЕМЛЯ.jpg"/>
          <p:cNvPicPr/>
          <p:nvPr/>
        </p:nvPicPr>
        <p:blipFill>
          <a:blip r:embed="rId1"/>
          <a:stretch/>
        </p:blipFill>
        <p:spPr>
          <a:xfrm>
            <a:off x="357120" y="3571920"/>
            <a:ext cx="4214520" cy="3160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82" name="TextBox 8"/>
          <p:cNvSpPr/>
          <p:nvPr/>
        </p:nvSpPr>
        <p:spPr>
          <a:xfrm>
            <a:off x="5000760" y="4429080"/>
            <a:ext cx="37144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а 1 ч 48 мин облетел    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земной ша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8" descr="C:\Documents and Settings\BRUNTSEV\Мои документы\Мои рисунки\Юрий\Документы\Презентации\Материал\9906.jpg"/>
          <p:cNvPicPr/>
          <p:nvPr/>
        </p:nvPicPr>
        <p:blipFill>
          <a:blip r:embed="rId2"/>
          <a:stretch/>
        </p:blipFill>
        <p:spPr>
          <a:xfrm>
            <a:off x="6010200" y="0"/>
            <a:ext cx="3133440" cy="3809520"/>
          </a:xfrm>
          <a:prstGeom prst="rect">
            <a:avLst/>
          </a:prstGeom>
          <a:ln w="0">
            <a:solidFill>
              <a:srgbClr val="3b3b3b">
                <a:lumMod val="60000"/>
                <a:lumOff val="40000"/>
              </a:srgbClr>
            </a:solidFill>
          </a:ln>
        </p:spPr>
      </p:pic>
      <p:pic>
        <p:nvPicPr>
          <p:cNvPr id="284" name="Picture 9" descr="C:\Documents and Settings\BRUNTSEV\Мои документы\Мои рисунки\Юрий\Документы\WORD\Техника\J0215086.WMF"/>
          <p:cNvPicPr/>
          <p:nvPr/>
        </p:nvPicPr>
        <p:blipFill>
          <a:blip r:embed="rId3"/>
          <a:stretch/>
        </p:blipFill>
        <p:spPr>
          <a:xfrm>
            <a:off x="7912440" y="4929120"/>
            <a:ext cx="1231200" cy="1928520"/>
          </a:xfrm>
          <a:prstGeom prst="rect">
            <a:avLst/>
          </a:prstGeom>
          <a:ln w="0">
            <a:noFill/>
          </a:ln>
          <a:effectLst>
            <a:softEdge rad="63360"/>
          </a:effectLst>
          <a:scene3d>
            <a:camera prst="perspectiveHeroicExtremeLeftFacing"/>
            <a:lightRig dir="t" rig="threePt"/>
          </a:scene3d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77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/>
                                        <p:tgtEl>
                                          <p:spTgt spid="2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C -0.00538 -0.0118 -0.00104 -0.00069 -0.00347 -0.02708 C -0.00399 -0.0324 -0.00538 -0.03171 -0.00712 -0.03657 C -0.01007 -0.0456 -0.01128 -0.05509 -0.01545 -0.06342 C -0.02743 -0.08773 -0.04236 -0.11041 -0.0559 -0.13333 C -0.06823 -0.15416 -0.08021 -0.17708 -0.09514 -0.19514 C -0.09687 -0.19722 -0.0993 -0.19814 -0.10121 -0.2 C -0.12014 -0.21944 -0.13906 -0.23842 -0.15833 -0.25717 C -0.16337 -0.26203 -0.16909 -0.2662 -0.17378 -0.27152 C -0.18402 -0.28333 -0.19531 -0.29189 -0.2059 -0.30324 C -0.2125 -0.31018 -0.21944 -0.31921 -0.22621 -0.32546 C -0.24479 -0.34282 -0.27534 -0.35833 -0.29757 -0.36504 C -0.29896 -0.3662 -0.30451 -0.37152 -0.30712 -0.37152 C -0.3125 -0.37152 -0.31597 -0.36342 -0.32135 -0.3618 C -0.33142 -0.35902 -0.35191 -0.35902 -0.35712 -0.35879 C -0.3651 -0.3625 -0.37257 -0.36875 -0.3809 -0.37152 C -0.3967 -0.38449 -0.43316 -0.38634 -0.45 -0.38727 C -0.48385 -0.39375 -0.51979 -0.39421 -0.55347 -0.38402 C -0.56458 -0.38078 -0.57552 -0.37824 -0.5868 -0.37615 C -0.59236 -0.375 -0.60347 -0.37291 -0.60347 -0.37291 C -0.62691 -0.35949 -0.64948 -0.3456 -0.67135 -0.32847 C -0.68489 -0.31782 -0.69913 -0.31365 -0.71059 -0.29838 C -0.72691 -0.27662 -0.72986 -0.24814 -0.7368 -0.2206 C -0.73854 -0.20509 -0.74097 -0.18981 -0.74288 -0.17453 C -0.74253 -0.15648 -0.74323 -0.13842 -0.74166 -0.1206 C -0.74027 -0.10602 -0.72725 -0.08981 -0.72135 -0.07939 C -0.7085 -0.05625 -0.69462 -0.03657 -0.675 -0.02384 C -0.66632 -0.00972 -0.67465 -0.02106 -0.66059 -0.00949 C -0.65468 -0.00463 -0.65139 0.00394 -0.64514 0.00787 C -0.63455 0.01482 -0.62118 0.02292 -0.60955 0.02709 C -0.59566 0.03195 -0.5809 0.03056 -0.56666 0.03172 C -0.55972 0.03357 -0.55277 0.03449 -0.54635 0.0382 C -0.53784 0.04329 -0.53038 0.04908 -0.52135 0.05232 C -0.51337 0.0551 -0.50451 0.05579 -0.49635 0.05718 C -0.48576 0.06135 -0.475 0.0625 -0.46423 0.06505 C -0.37465 0.06412 -0.3092 0.06065 -0.225 0.0588 C -0.21354 0.05625 -0.20364 0.05209 -0.19166 0.0507 C -0.18021 0.04746 -0.1717 0.04468 -0.16059 0.03959 C -0.15555 0.03727 -0.15434 0.03357 -0.15 0.0301 C -0.13975 0.02176 -0.12847 0.01574 -0.11788 0.00787 C -0.11232 0.00371 -0.10937 -0.00254 -0.10347 -0.00625 C -0.09496 -0.01782 -0.08889 -0.03634 -0.07968 -0.04444 C -0.0717 -0.06041 -0.06493 -0.07847 -0.05468 -0.09213 C -0.05139 -0.10509 -0.04739 -0.11759 -0.04288 -0.13009 C -0.03975 -0.15115 -0.04392 -0.12824 -0.03923 -0.14282 C -0.03698 -0.14977 -0.0368 -0.15764 -0.03559 -0.16504 C -0.03402 -0.17546 -0.03125 -0.18611 -0.02968 -0.19676 C -0.0309 -0.22569 -0.02968 -0.28194 -0.03559 -0.30324 C -0.03698 -0.31412 -0.03802 -0.32708 -0.04288 -0.33657 C -0.04982 -0.35046 -0.06076 -0.36018 -0.07014 -0.37152 C -0.07847 -0.38148 -0.0908 -0.39699 -0.10121 -0.40162 C -0.10243 -0.40277 -0.1033 -0.40416 -0.10468 -0.40486 C -0.10729 -0.40625 -0.11302 -0.40787 -0.11302 -0.40787 C -0.11771 -0.41296 -0.12743 -0.42453 -0.13333 -0.42708 C -0.14218 -0.43634 -0.15451 -0.44236 -0.16545 -0.44606 C -0.17448 -0.45509 -0.18455 -0.45717 -0.19514 -0.46041 C -0.21319 -0.46597 -0.23159 -0.46967 -0.25 -0.47291 C -0.2743 -0.47731 -0.29826 -0.48379 -0.32257 -0.48889 C -0.3408 -0.49259 -0.3592 -0.49421 -0.37725 -0.49838 C -0.39062 -0.50139 -0.40295 -0.50486 -0.41666 -0.50625 C -0.46475 -0.50532 -0.49913 -0.50324 -0.54514 -0.50162 C -0.55989 -0.49375 -0.57708 -0.49398 -0.59288 -0.49051 C -0.60625 -0.49097 -0.66267 -0.49236 -0.68212 -0.49375 C -0.69375 -0.49467 -0.70468 -0.50463 -0.71545 -0.50949 C -0.72517 -0.51875 -0.72083 -0.51527 -0.72847 -0.5206 C -0.73298 -0.52939 -0.74149 -0.53379 -0.74757 -0.5412 C -0.75434 -0.54953 -0.74948 -0.54652 -0.7559 -0.5493 C -0.7618 -0.55694 -0.7684 -0.56342 -0.775 -0.5699 C -0.78368 -0.57847 -0.78472 -0.58958 -0.79166 -0.59838 C -0.79409 -0.60509 -0.7967 -0.60694 -0.8 -0.61273 C -0.80538 -0.62222 -0.81146 -0.63588 -0.81788 -0.64444 C -0.82187 -0.65555 -0.81909 -0.64838 -0.82621 -0.66342 C -0.82691 -0.66504 -0.82847 -0.66828 -0.82847 -0.66828 C -0.8335 -0.69421 -0.84652 -0.71689 -0.85225 -0.74282 C -0.85399 -0.77245 -0.85642 -0.79213 -0.85347 -0.8206 C -0.85243 -0.86504 -0.84757 -0.91227 -0.85833 -0.95555 C -0.85868 -0.97777 -0.85885 -1 -0.85955 -1.02222 C -0.86007 -1.03634 -0.86892 -1.05486 -0.86892 -1.06828 E">
                                      <p:cBhvr>
                                        <p:cTn id="140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357120"/>
            <a:ext cx="750060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5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Благополучно приземлился в окрестности деревни Смолевки Терновского района Саратовской облас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Прямоугольник 3"/>
          <p:cNvSpPr/>
          <p:nvPr/>
        </p:nvSpPr>
        <p:spPr>
          <a:xfrm>
            <a:off x="0" y="5565240"/>
            <a:ext cx="9143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600" spc="-1" strike="noStrike">
                <a:ln>
                  <a:solidFill>
                    <a:srgbClr val="7c7c7c"/>
                  </a:solidFill>
                </a:ln>
                <a:solidFill>
                  <a:srgbClr val="ffffff"/>
                </a:solidFill>
                <a:latin typeface="Arial"/>
              </a:rPr>
              <a:t>Первыми людьми, которые встретили космонавта после полёта, оказались жена лесника Анна Акимовна Тахтарова и её шестилетняя внучка Ри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C:\Documents and Settings\Учебный1\Мои документы\Мои рисунки\Презентации\Гагарин\Материал\9713.jpg"/>
          <p:cNvPicPr/>
          <p:nvPr/>
        </p:nvPicPr>
        <p:blipFill>
          <a:blip r:embed="rId1"/>
          <a:stretch/>
        </p:blipFill>
        <p:spPr>
          <a:xfrm>
            <a:off x="214200" y="1714320"/>
            <a:ext cx="1970640" cy="30715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Учебный1\Мои документы\Мои рисунки\Презентации\Гагарин\Материал\9838.jpg"/>
          <p:cNvPicPr/>
          <p:nvPr/>
        </p:nvPicPr>
        <p:blipFill>
          <a:blip r:embed="rId2"/>
          <a:stretch/>
        </p:blipFill>
        <p:spPr>
          <a:xfrm>
            <a:off x="4786200" y="2643120"/>
            <a:ext cx="3809520" cy="28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1"/>
          <p:cNvSpPr/>
          <p:nvPr/>
        </p:nvSpPr>
        <p:spPr>
          <a:xfrm>
            <a:off x="285840" y="285840"/>
            <a:ext cx="8500680" cy="49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300" spc="-1" strike="noStrike">
                <a:solidFill>
                  <a:srgbClr val="000000"/>
                </a:solidFill>
                <a:latin typeface="Book Antiqua"/>
              </a:rPr>
              <a:t>Первоначально, никто не планировал грандиозной встречи Гагарина в Москве. Всё решил в последний момент Никита Хрущёв. По словам Сергея Хрущёва: «Он начал с того, что позвонил министру обороны Маршалу Малиновскому и сказал: „Он у вас старший лейтенант. Надо его срочно повысить в звании“. Малиновский сказал, довольно неохотно, что даст Гагарину звание капитана. На что Никита Сергеевич рассердился: „Какого капитана? Вы ему хоть майора дайте“. Малиновский долго не соглашался, но Хрущёв настоял на своём, и в этот же день Гагарин стал майором». Потом Хрущёв позвонил в Кремль и потребовал, чтобы Гагарину подготовили достойную встреч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C:\Documents and Settings\Учебный1\Мои документы\Мои рисунки\Презентации\Гагарин\Материал\9751.jpg"/>
          <p:cNvPicPr/>
          <p:nvPr/>
        </p:nvPicPr>
        <p:blipFill>
          <a:blip r:embed="rId1"/>
          <a:stretch/>
        </p:blipFill>
        <p:spPr>
          <a:xfrm>
            <a:off x="6660360" y="4227840"/>
            <a:ext cx="1896480" cy="262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78" dur="1" fill="hold"/>
                                        <p:tgtEl>
                                          <p:spTgt spid="29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122400" y="554040"/>
            <a:ext cx="639108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 Гагариным прилетел Ил-18, а на подлёте к Москве к самолёту присоединился почётный эскорт истребителей, состоящий из МИГов. Самолёт прилетел в аэропорт Внуково, там Гагарина ожидал грандиозный приём. Огромная толпа народа, вся верхушка власти, журналисты и операторы. Самолёт подрулил к центральному зданию аэропорта, спустили трап и первым по нему сошёл Гагарин. От самолёта до правительственных трибун была протянута ярко-красная ковровая дорожка, по ней и пошёл Юрий Гагарин (по пути у него развязался шнурок на ботинке, но он не остановился и дошёл до правительственных трибун, рискуя споткнуться и упасть), под звуки оркестра, исполняющего старинный авиационный марш «Мы рождены, чтоб сказку сделать былью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C:\Documents and Settings\Учебный1\Мои документы\Мои рисунки\Презентации\Гагарин\Материал\9745.jpg"/>
          <p:cNvPicPr/>
          <p:nvPr/>
        </p:nvPicPr>
        <p:blipFill>
          <a:blip r:embed="rId1"/>
          <a:stretch/>
        </p:blipFill>
        <p:spPr>
          <a:xfrm>
            <a:off x="6732360" y="571320"/>
            <a:ext cx="2228040" cy="4524120"/>
          </a:xfrm>
          <a:prstGeom prst="rect">
            <a:avLst/>
          </a:prstGeom>
          <a:ln w="0">
            <a:solidFill>
              <a:srgbClr val="ff0000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cover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2"/>
          <p:cNvSpPr/>
          <p:nvPr/>
        </p:nvSpPr>
        <p:spPr>
          <a:xfrm>
            <a:off x="0" y="0"/>
            <a:ext cx="68576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alanced">
                <a:rot lat="0" lon="0" rev="2100000"/>
              </a:lightRig>
            </a:scene3d>
            <a:sp3d extrusionH="57150" prstMaterial="metal">
              <a:bevelT w="38100" h="25400"/>
              <a:contourClr>
                <a:schemeClr val="bg2"/>
              </a:contourClr>
            </a:sp3d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одойдя к трибуне, Юрий Гагарин отрапортовал Никите Хрущё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оварищ Первый секретарь Центрального Комитета Коммунистической партии Советского Союза, Председатель Совета Министров СССР! Рад доложить Вам, что задание Центрального Комитета Коммунистической партии и Советского правительства выполне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C:\Documents and Settings\Учебный1\Мои документы\Мои рисунки\Презентации\Гагарин\Материал\9826.jpg"/>
          <p:cNvPicPr/>
          <p:nvPr/>
        </p:nvPicPr>
        <p:blipFill>
          <a:blip r:embed="rId1"/>
          <a:stretch/>
        </p:blipFill>
        <p:spPr>
          <a:xfrm>
            <a:off x="5143680" y="2428920"/>
            <a:ext cx="3809520" cy="20379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295" name="Picture 3" descr="C:\Documents and Settings\Учебный1\Мои документы\Мои рисунки\Презентации\Гагарин\Материал\123563498241a3.jpg"/>
          <p:cNvPicPr/>
          <p:nvPr/>
        </p:nvPicPr>
        <p:blipFill>
          <a:blip r:embed="rId2"/>
          <a:stretch/>
        </p:blipFill>
        <p:spPr>
          <a:xfrm>
            <a:off x="500040" y="2857320"/>
            <a:ext cx="4095360" cy="32475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p:transition>
    <p:pull dir="ru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77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770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4" dur="77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Апекс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Литейная">
  <a:themeElements>
    <a:clrScheme name="Литейная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хническая">
  <a:themeElements>
    <a:clrScheme name="Техническая">
      <a:dk1>
        <a:srgbClr val="000000"/>
      </a:dk1>
      <a:lt1>
        <a:srgbClr val="ffffff"/>
      </a:lt1>
      <a:dk2>
        <a:srgbClr val="3b3b3b"/>
      </a:dk2>
      <a:lt2>
        <a:srgbClr val="d4d2d0"/>
      </a:lt2>
      <a:accent1>
        <a:srgbClr val="6ea0b0"/>
      </a:accent1>
      <a:accent2>
        <a:srgbClr val="ccaf0a"/>
      </a:accent2>
      <a:accent3>
        <a:srgbClr val="8d89a4"/>
      </a:accent3>
      <a:accent4>
        <a:srgbClr val="748560"/>
      </a:accent4>
      <a:accent5>
        <a:srgbClr val="9e9273"/>
      </a:accent5>
      <a:accent6>
        <a:srgbClr val="7e848d"/>
      </a:accent6>
      <a:hlink>
        <a:srgbClr val="00c8c3"/>
      </a:hlink>
      <a:folHlink>
        <a:srgbClr val="a116e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1_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  <Words>986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3T08:2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