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FEB426-9FEF-421F-AEA6-C93EB0C41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е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FFE048-8E1B-4D1A-996D-AEB5DD8B7D9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1C0A85-8080-45BD-B9D9-3A476FBF18F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АГАРИН Юрий Алексеевич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934-1968) космонавт СССР, полковник, Герой Советского Союза, лётчик-космонавт СССР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 человек, совершивший полёт в косм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DAF448-C649-421D-B7AA-9A41EDD881B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Родился в семье колхозника в г. Гжатс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Гжатского района Смоленской об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9 марта 193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8B6FCB-E98F-41F0-A74A-3D6ED54E8BB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1955 году с отличием окончил индустриальный техникум и аэроклуб в Саратове и оступил в 1-ое Чкаловское военное авиационное училище лётчиков имени К.Е. Ворошилова, которое окончил в 1957 году по 1-му разря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B6546F-21D1-4711-96C8-2122DB0ED57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на КК «Восток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1 ч 48 мин облетел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емной ш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434A93-20FF-47D0-B85C-A8B95A27BAE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1C4013-E810-4B08-BF79-8B7ED356932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587C1B-B59D-4785-8863-38256C83502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13EFE5-4E0A-4554-993E-6635F66BA58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ойдя к трибуне, Юрий Гагарин отрапортовал Никите Хрущёв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1702FE-2D8D-4286-8B75-FFC0605B5C2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2406-8CF8-4E83-A922-151279AD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BB2-CB77-4669-9D55-0EEC7D97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D64-E9D4-44E0-89C2-BEC7E3E8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528-8755-4D4F-B7BA-4E09A423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15AB-FA52-4E81-8027-ABABF359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2BF4-0EE3-4CDF-9E90-90E9A8E6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A2CC-132F-4528-A120-D28469C5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084A-CAA7-49F8-AF8F-3E4DDE26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D0BB-A46D-4098-8C1A-ADD5FEAB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AAE3-554A-4198-9426-31FA3BE5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2C44-37FF-4D06-8CFC-7EE62105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597-F916-41BF-B31F-3BB83F1B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3D9B-E858-4572-A66E-72929916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93A1-ADDB-4C35-A154-E0A5734D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0A85-5885-4D1C-AA21-57359CFF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69B3-3F6D-4501-B9CF-41116858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AC21-C5B0-4FFE-86C3-C49009B6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5E8CE-E2A5-4356-96E1-327DAECA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C3BD7-ED2F-4EBA-9084-33245B3F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23534-BFDD-47E3-86D0-FFE7014E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AD5DE-9DBA-478C-A397-861B744B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8C76A-B136-4206-947E-7008F02B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13A-5412-47DD-82D3-C7438659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F64AF-76AD-4891-BD13-6CC137C2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0847-D24C-4B73-AFF2-9F20C409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39D4B-3A23-46AF-8327-CDB9C467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140A3-C065-4910-9263-B67A4011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5C0D8-01C7-46BD-9030-75480F84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130B-9A67-41E6-A260-9C521D17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8C81-3464-4FD7-9577-4223CB02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8112E-4D4F-4319-8B87-04F39F07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33C53-31AF-4FC2-AFBC-FE975E4D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321D2-3732-4511-A19F-C26115C2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2FC-B025-4AF3-B82E-C2EB58ED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06531-C6B3-4BA8-AF38-BAECEBB3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DFB9E-E6C5-4D36-B096-978C6054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C3C90-D79C-429B-93BB-0992DC05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0317E-2CA3-4742-9921-84E182E5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0DF4E-CF68-4A79-B0DB-CBBA65F4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7A9F7-770F-4664-BF93-8DDC17B2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8E586-7E49-4116-8D05-A19230B6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1BA6-D9C8-4AF7-A9AA-C07FF732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FA77C-85F9-4541-B998-4ACB5DDD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E7DD0-D43A-4225-BB42-5D4C79DE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6D7-C841-4D09-94CE-D8C3ED53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A5CF9-3038-4678-9909-0E409544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EAC6E-C457-4C87-84D8-F55CD9D2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169B4-32F0-40AF-ACE3-0C8F20AE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D2752-E0B4-47DF-90E0-D924CEC6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5729E-F6FD-49B4-A23F-3847BBD7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EBADC-D86F-4053-B345-79A14119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3991C-A665-4B37-8336-6EC7DD9D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C70F0-3A50-49AB-8840-88EDCB6C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7D031-AAD0-4CE8-B5C6-8495C1FF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29A02-472D-4B8D-A8A4-442669A1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CF4-BF8F-434B-B4E9-0FFC51B1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AA2B5-9529-4B17-93D2-206F04A8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3F49F-328A-4AEE-9C01-CCBC9733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187F2-58DA-42EB-AFC3-116319BF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C63DC-6D61-4EF1-8533-6E30D166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4F052-DA47-4FAF-B349-070BE669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8E783-2480-4ED0-A6AB-E71BC176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46D6D-6ED8-4373-8E4A-217DCBD2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5B0CF-E06F-49B5-BB01-91517CEB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DF1F9-1A17-461D-8928-2F86E0BA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C191E-A069-4254-89C9-82E21A3A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6AE2-C6CF-49FF-966C-606F7EC4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3C33F-6ED4-42A9-BFFB-2220FB7B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05E5F-C3DE-4DA0-8EBB-FA8D772C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F9AEB-455E-47D5-AA52-DBEFCC41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E18-6EA7-4AC7-883C-B1E13ADB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7D1-3D00-4A5A-B27E-8A949AEC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6AF610-351F-4BE5-BF4B-AE7F640A35FC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 hidden="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2" name="Прямоугольник 7" hidden="1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3" name="Прямоугольник 8" hidden="1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4" name="Прямоугольник 9" hidden="1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5" name="Прямоугольник 10" hidden="1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6" name="Прямоугольник 11" hidden="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7" name="Прямоугольник 14" hidden="1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8" name="Прямоугольник 15" hidden="1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9" name="Прямоугольник 16" hidden="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841A73E-7D2A-455F-A331-7908FCBD866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двумя скругленными противолежащими углами 6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  <a:softEdge rad="12600"/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562720" y="640080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1295280" y="6400800"/>
            <a:ext cx="421200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300" spc="-1" strike="noStrike">
                <a:solidFill>
                  <a:srgbClr val="b9bbb1"/>
                </a:solidFill>
                <a:latin typeface="Rockwel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638920" y="65145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E1E3FE-DA3E-406C-86B4-83CB855E0DE9}" type="slidenum">
              <a:rPr b="0" lang="ru-R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50DC001-D27E-485C-960B-3BE519466F0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dt" idx="13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14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9c9b9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5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0A60E5-C3B2-44AF-9510-6174D6F00ABF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dt" idx="16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869D78-7D25-46FA-9FC2-856541A74177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C:\Documents and Settings\BRUNTSEV\Мои документы\Мои рисунки\Юрий\Документы\Презентации\Материал\gagarin_skaf.jpg"/>
          <p:cNvPicPr/>
          <p:nvPr/>
        </p:nvPicPr>
        <p:blipFill>
          <a:blip r:embed="rId1"/>
          <a:stretch/>
        </p:blipFill>
        <p:spPr>
          <a:xfrm>
            <a:off x="5643720" y="4071960"/>
            <a:ext cx="3192120" cy="258552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5" name="Picture 6" descr="C:\Documents and Settings\BRUNTSEV\Мои документы\Мои рисунки\Юрий\Документы\Презентации\Материал\Gagarin_UA.jpg"/>
          <p:cNvPicPr/>
          <p:nvPr/>
        </p:nvPicPr>
        <p:blipFill>
          <a:blip r:embed="rId2"/>
          <a:stretch/>
        </p:blipFill>
        <p:spPr>
          <a:xfrm>
            <a:off x="6858000" y="214200"/>
            <a:ext cx="2071440" cy="275040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6" name="Picture 7" descr="C:\Documents and Settings\BRUNTSEV\Мои документы\Мои рисунки\Юрий\Документы\Презентации\Материал\hm2.jpg"/>
          <p:cNvPicPr/>
          <p:nvPr/>
        </p:nvPicPr>
        <p:blipFill>
          <a:blip r:embed="rId3"/>
          <a:stretch/>
        </p:blipFill>
        <p:spPr>
          <a:xfrm>
            <a:off x="142920" y="1785960"/>
            <a:ext cx="3571560" cy="490608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sp>
        <p:nvSpPr>
          <p:cNvPr id="267" name="Прямоугольник 7"/>
          <p:cNvSpPr/>
          <p:nvPr/>
        </p:nvSpPr>
        <p:spPr>
          <a:xfrm>
            <a:off x="1071360" y="214200"/>
            <a:ext cx="5000400" cy="131004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>
                <a:rot lat="0" lon="300000" rev="0"/>
              </a:camera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ГАГАР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8"/>
          <p:cNvSpPr/>
          <p:nvPr/>
        </p:nvSpPr>
        <p:spPr>
          <a:xfrm>
            <a:off x="3955320" y="1785960"/>
            <a:ext cx="2817360" cy="109656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Юр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9"/>
          <p:cNvSpPr/>
          <p:nvPr/>
        </p:nvSpPr>
        <p:spPr>
          <a:xfrm>
            <a:off x="3848040" y="3000240"/>
            <a:ext cx="540216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Алексее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C:\Documents and Settings\Учебный1\Мои документы\Мои рисунки\Презентации\Гагарин\Материал\9760.jpg"/>
          <p:cNvPicPr/>
          <p:nvPr/>
        </p:nvPicPr>
        <p:blipFill>
          <a:blip r:embed="rId1"/>
          <a:stretch/>
        </p:blipFill>
        <p:spPr>
          <a:xfrm>
            <a:off x="5004000" y="30960"/>
            <a:ext cx="2915280" cy="25333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97" name="Прямоугольник 1"/>
          <p:cNvSpPr/>
          <p:nvPr/>
        </p:nvSpPr>
        <p:spPr>
          <a:xfrm>
            <a:off x="107640" y="2925000"/>
            <a:ext cx="889200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Book Antiqua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C:\Documents and Settings\Учебный1\Мои документы\Мои рисунки\Презентации\Гагарин\Материал\g_5.jpg"/>
          <p:cNvPicPr/>
          <p:nvPr/>
        </p:nvPicPr>
        <p:blipFill>
          <a:blip r:embed="rId2"/>
          <a:stretch/>
        </p:blipFill>
        <p:spPr>
          <a:xfrm>
            <a:off x="357120" y="214200"/>
            <a:ext cx="3047760" cy="216648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C:\Documents and Settings\BRUNTSEV\Мои документы\Мои рисунки\Юрий\Документы\Презентации\Материал\220px-Gagarin_space_suite.jpg"/>
          <p:cNvPicPr/>
          <p:nvPr/>
        </p:nvPicPr>
        <p:blipFill>
          <a:blip r:embed="rId1"/>
          <a:stretch/>
        </p:blipFill>
        <p:spPr>
          <a:xfrm>
            <a:off x="714240" y="3000240"/>
            <a:ext cx="2716200" cy="364284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71" name="Прямоугольник 1"/>
          <p:cNvSpPr/>
          <p:nvPr/>
        </p:nvSpPr>
        <p:spPr>
          <a:xfrm>
            <a:off x="428760" y="571320"/>
            <a:ext cx="507168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ГАГАРИН Юрий Алексеевич 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(1934-1968) космонавт СССР, полковник, Герой Советского Союза, лётчик-космонавт СССР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Первый человек, совершивший полёт в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C:\Documents and Settings\BRUNTSEV\Мои документы\Мои рисунки\Юрий\Документы\Презентации\Материал\08-89.jpg"/>
          <p:cNvPicPr/>
          <p:nvPr/>
        </p:nvPicPr>
        <p:blipFill>
          <a:blip r:embed="rId2"/>
          <a:stretch/>
        </p:blipFill>
        <p:spPr>
          <a:xfrm>
            <a:off x="5929200" y="571320"/>
            <a:ext cx="2883960" cy="364068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BRUNTSEV\Мои документы\Мои рисунки\Юрий\Документы\Презентации\Материал\9769.jpg"/>
          <p:cNvPicPr/>
          <p:nvPr/>
        </p:nvPicPr>
        <p:blipFill>
          <a:blip r:embed="rId1"/>
          <a:stretch/>
        </p:blipFill>
        <p:spPr>
          <a:xfrm>
            <a:off x="285840" y="1870920"/>
            <a:ext cx="5285880" cy="47311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4" name="Picture 3" descr="C:\Documents and Settings\BRUNTSEV\Мои документы\Мои рисунки\Юрий\Документы\Презентации\Материал\9787.jpg"/>
          <p:cNvPicPr/>
          <p:nvPr/>
        </p:nvPicPr>
        <p:blipFill>
          <a:blip r:embed="rId2"/>
          <a:stretch/>
        </p:blipFill>
        <p:spPr>
          <a:xfrm>
            <a:off x="2098800" y="3000240"/>
            <a:ext cx="1772640" cy="323820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75" name="TextBox 10"/>
          <p:cNvSpPr/>
          <p:nvPr/>
        </p:nvSpPr>
        <p:spPr>
          <a:xfrm>
            <a:off x="571320" y="142920"/>
            <a:ext cx="65005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Родился в семье колхозника в г. Гжатс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Гжатского района Смоленской об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                  </a:t>
            </a: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9 марта 193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0.47414 -0.22638 E">
                                      <p:cBhvr>
                                        <p:cTn id="8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C:\Documents and Settings\BRUNTSEV\Мои документы\Мои рисунки\Юрий\Документы\Презентации\Материал\Gagarin_23.jpg"/>
          <p:cNvPicPr/>
          <p:nvPr/>
        </p:nvPicPr>
        <p:blipFill>
          <a:blip r:embed="rId1"/>
          <a:stretch/>
        </p:blipFill>
        <p:spPr>
          <a:xfrm rot="1528800">
            <a:off x="3105720" y="3566880"/>
            <a:ext cx="2577240" cy="2876040"/>
          </a:xfrm>
          <a:prstGeom prst="rect">
            <a:avLst/>
          </a:prstGeom>
          <a:ln w="0">
            <a:solidFill>
              <a:srgbClr val="0070c0"/>
            </a:solidFill>
          </a:ln>
        </p:spPr>
      </p:pic>
      <p:sp>
        <p:nvSpPr>
          <p:cNvPr id="277" name="TextBox 1"/>
          <p:cNvSpPr/>
          <p:nvPr/>
        </p:nvSpPr>
        <p:spPr>
          <a:xfrm>
            <a:off x="4357800" y="500040"/>
            <a:ext cx="44287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 1955 году с отличием окончил индустриальный техникум и аэроклуб в Саратове и оступил в 1-ое Чкаловское военное авиационное училище лётчиков имени К.Е. Ворошилова, которое окончил в 1957 году по 1-му разряду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Documents and Settings\BRUNTSEV\Мои документы\Мои рисунки\Юрий\Документы\Презентации\Материал\vostok_korabl.jpg"/>
          <p:cNvPicPr/>
          <p:nvPr/>
        </p:nvPicPr>
        <p:blipFill>
          <a:blip r:embed="rId2"/>
          <a:stretch/>
        </p:blipFill>
        <p:spPr>
          <a:xfrm>
            <a:off x="6786720" y="3929040"/>
            <a:ext cx="1164960" cy="21952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9" name="Picture 3" descr="C:\Documents and Settings\BRUNTSEV\Мои документы\Мои рисунки\Юрий\Документы\Презентации\Материал\vostok_rocket.jpg"/>
          <p:cNvPicPr/>
          <p:nvPr/>
        </p:nvPicPr>
        <p:blipFill>
          <a:blip r:embed="rId3"/>
          <a:stretch/>
        </p:blipFill>
        <p:spPr>
          <a:xfrm>
            <a:off x="428760" y="285840"/>
            <a:ext cx="1802880" cy="61210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357120" y="500040"/>
            <a:ext cx="42858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на КК «Восток»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C:\Documents and Settings\BRUNTSEV\Мои документы\Мои рисунки\СМОТРИ\ПЛАНЕТА ЗЕМЛЯ.jpg"/>
          <p:cNvPicPr/>
          <p:nvPr/>
        </p:nvPicPr>
        <p:blipFill>
          <a:blip r:embed="rId1"/>
          <a:stretch/>
        </p:blipFill>
        <p:spPr>
          <a:xfrm>
            <a:off x="357120" y="3571920"/>
            <a:ext cx="4214520" cy="3160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82" name="TextBox 8"/>
          <p:cNvSpPr/>
          <p:nvPr/>
        </p:nvSpPr>
        <p:spPr>
          <a:xfrm>
            <a:off x="5000760" y="4429080"/>
            <a:ext cx="37144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а 1 ч 48 мин облетел 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емной шар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8" descr="C:\Documents and Settings\BRUNTSEV\Мои документы\Мои рисунки\Юрий\Документы\Презентации\Материал\9906.jpg"/>
          <p:cNvPicPr/>
          <p:nvPr/>
        </p:nvPicPr>
        <p:blipFill>
          <a:blip r:embed="rId2"/>
          <a:stretch/>
        </p:blipFill>
        <p:spPr>
          <a:xfrm>
            <a:off x="6010200" y="0"/>
            <a:ext cx="3133440" cy="3809520"/>
          </a:xfrm>
          <a:prstGeom prst="rect">
            <a:avLst/>
          </a:prstGeom>
          <a:ln w="0">
            <a:solidFill>
              <a:srgbClr val="3b3b3b">
                <a:lumMod val="60000"/>
                <a:lumOff val="40000"/>
              </a:srgbClr>
            </a:solidFill>
          </a:ln>
        </p:spPr>
      </p:pic>
      <p:pic>
        <p:nvPicPr>
          <p:cNvPr id="284" name="Picture 9" descr="C:\Documents and Settings\BRUNTSEV\Мои документы\Мои рисунки\Юрий\Документы\WORD\Техника\J0215086.WMF"/>
          <p:cNvPicPr/>
          <p:nvPr/>
        </p:nvPicPr>
        <p:blipFill>
          <a:blip r:embed="rId3"/>
          <a:stretch/>
        </p:blipFill>
        <p:spPr>
          <a:xfrm>
            <a:off x="7912440" y="4929120"/>
            <a:ext cx="1231200" cy="1928520"/>
          </a:xfrm>
          <a:prstGeom prst="rect">
            <a:avLst/>
          </a:prstGeom>
          <a:ln w="0">
            <a:noFill/>
          </a:ln>
          <a:effectLst>
            <a:softEdge rad="63360"/>
          </a:effectLst>
          <a:scene3d>
            <a:camera prst="perspectiveHeroicExtremeLeftFacing"/>
            <a:lightRig dir="t" rig="threePt"/>
          </a:scene3d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C -0.00538 -0.0118 -0.00104 -0.00069 -0.00347 -0.02708 C -0.00399 -0.0324 -0.00538 -0.03171 -0.00712 -0.03657 C -0.01007 -0.0456 -0.01128 -0.05509 -0.01545 -0.06342 C -0.02743 -0.08773 -0.04236 -0.11041 -0.0559 -0.13333 C -0.06823 -0.15416 -0.08021 -0.17708 -0.09514 -0.19514 C -0.09687 -0.19722 -0.0993 -0.19814 -0.10121 -0.2 C -0.12014 -0.21944 -0.13906 -0.23842 -0.15833 -0.25717 C -0.16337 -0.26203 -0.16909 -0.2662 -0.17378 -0.27152 C -0.18402 -0.28333 -0.19531 -0.29189 -0.2059 -0.30324 C -0.2125 -0.31018 -0.21944 -0.31921 -0.22621 -0.32546 C -0.24479 -0.34282 -0.27534 -0.35833 -0.29757 -0.36504 C -0.29896 -0.3662 -0.30451 -0.37152 -0.30712 -0.37152 C -0.3125 -0.37152 -0.31597 -0.36342 -0.32135 -0.3618 C -0.33142 -0.35902 -0.35191 -0.35902 -0.35712 -0.35879 C -0.3651 -0.3625 -0.37257 -0.36875 -0.3809 -0.37152 C -0.3967 -0.38449 -0.43316 -0.38634 -0.45 -0.38727 C -0.48385 -0.39375 -0.51979 -0.39421 -0.55347 -0.38402 C -0.56458 -0.38078 -0.57552 -0.37824 -0.5868 -0.37615 C -0.59236 -0.375 -0.60347 -0.37291 -0.60347 -0.37291 C -0.62691 -0.35949 -0.64948 -0.3456 -0.67135 -0.32847 C -0.68489 -0.31782 -0.69913 -0.31365 -0.71059 -0.29838 C -0.72691 -0.27662 -0.72986 -0.24814 -0.7368 -0.2206 C -0.73854 -0.20509 -0.74097 -0.18981 -0.74288 -0.17453 C -0.74253 -0.15648 -0.74323 -0.13842 -0.74166 -0.1206 C -0.74027 -0.10602 -0.72725 -0.08981 -0.72135 -0.07939 C -0.7085 -0.05625 -0.69462 -0.03657 -0.675 -0.02384 C -0.66632 -0.00972 -0.67465 -0.02106 -0.66059 -0.00949 C -0.65468 -0.00463 -0.65139 0.00394 -0.64514 0.00787 C -0.63455 0.01482 -0.62118 0.02292 -0.60955 0.02709 C -0.59566 0.03195 -0.5809 0.03056 -0.56666 0.03172 C -0.55972 0.03357 -0.55277 0.03449 -0.54635 0.0382 C -0.53784 0.04329 -0.53038 0.04908 -0.52135 0.05232 C -0.51337 0.0551 -0.50451 0.05579 -0.49635 0.05718 C -0.48576 0.06135 -0.475 0.0625 -0.46423 0.06505 C -0.37465 0.06412 -0.3092 0.06065 -0.225 0.0588 C -0.21354 0.05625 -0.20364 0.05209 -0.19166 0.0507 C -0.18021 0.04746 -0.1717 0.04468 -0.16059 0.03959 C -0.15555 0.03727 -0.15434 0.03357 -0.15 0.0301 C -0.13975 0.02176 -0.12847 0.01574 -0.11788 0.00787 C -0.11232 0.00371 -0.10937 -0.00254 -0.10347 -0.00625 C -0.09496 -0.01782 -0.08889 -0.03634 -0.07968 -0.04444 C -0.0717 -0.06041 -0.06493 -0.07847 -0.05468 -0.09213 C -0.05139 -0.10509 -0.04739 -0.11759 -0.04288 -0.13009 C -0.03975 -0.15115 -0.04392 -0.12824 -0.03923 -0.14282 C -0.03698 -0.14977 -0.0368 -0.15764 -0.03559 -0.16504 C -0.03402 -0.17546 -0.03125 -0.18611 -0.02968 -0.19676 C -0.0309 -0.22569 -0.02968 -0.28194 -0.03559 -0.30324 C -0.03698 -0.31412 -0.03802 -0.32708 -0.04288 -0.33657 C -0.04982 -0.35046 -0.06076 -0.36018 -0.07014 -0.37152 C -0.07847 -0.38148 -0.0908 -0.39699 -0.10121 -0.40162 C -0.10243 -0.40277 -0.1033 -0.40416 -0.10468 -0.40486 C -0.10729 -0.40625 -0.11302 -0.40787 -0.11302 -0.40787 C -0.11771 -0.41296 -0.12743 -0.42453 -0.13333 -0.42708 C -0.14218 -0.43634 -0.15451 -0.44236 -0.16545 -0.44606 C -0.17448 -0.45509 -0.18455 -0.45717 -0.19514 -0.46041 C -0.21319 -0.46597 -0.23159 -0.46967 -0.25 -0.47291 C -0.2743 -0.47731 -0.29826 -0.48379 -0.32257 -0.48889 C -0.3408 -0.49259 -0.3592 -0.49421 -0.37725 -0.49838 C -0.39062 -0.50139 -0.40295 -0.50486 -0.41666 -0.50625 C -0.46475 -0.50532 -0.49913 -0.50324 -0.54514 -0.50162 C -0.55989 -0.49375 -0.57708 -0.49398 -0.59288 -0.49051 C -0.60625 -0.49097 -0.66267 -0.49236 -0.68212 -0.49375 C -0.69375 -0.49467 -0.70468 -0.50463 -0.71545 -0.50949 C -0.72517 -0.51875 -0.72083 -0.51527 -0.72847 -0.5206 C -0.73298 -0.52939 -0.74149 -0.53379 -0.74757 -0.5412 C -0.75434 -0.54953 -0.74948 -0.54652 -0.7559 -0.5493 C -0.7618 -0.55694 -0.7684 -0.56342 -0.775 -0.5699 C -0.78368 -0.57847 -0.78472 -0.58958 -0.79166 -0.59838 C -0.79409 -0.60509 -0.7967 -0.60694 -0.8 -0.61273 C -0.80538 -0.62222 -0.81146 -0.63588 -0.81788 -0.64444 C -0.82187 -0.65555 -0.81909 -0.64838 -0.82621 -0.66342 C -0.82691 -0.66504 -0.82847 -0.66828 -0.82847 -0.66828 C -0.8335 -0.69421 -0.84652 -0.71689 -0.85225 -0.74282 C -0.85399 -0.77245 -0.85642 -0.79213 -0.85347 -0.8206 C -0.85243 -0.86504 -0.84757 -0.91227 -0.85833 -0.95555 C -0.85868 -0.97777 -0.85885 -1 -0.85955 -1.02222 C -0.86007 -1.03634 -0.86892 -1.05486 -0.86892 -1.06828 E">
                                      <p:cBhvr>
                                        <p:cTn id="140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285840" y="357120"/>
            <a:ext cx="750060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0" y="5565240"/>
            <a:ext cx="9143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C:\Documents and Settings\Учебный1\Мои документы\Мои рисунки\Презентации\Гагарин\Материал\9713.jpg"/>
          <p:cNvPicPr/>
          <p:nvPr/>
        </p:nvPicPr>
        <p:blipFill>
          <a:blip r:embed="rId1"/>
          <a:stretch/>
        </p:blipFill>
        <p:spPr>
          <a:xfrm>
            <a:off x="214200" y="1714320"/>
            <a:ext cx="1970640" cy="3071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Documents and Settings\Учебный1\Мои документы\Мои рисунки\Презентации\Гагарин\Материал\9838.jpg"/>
          <p:cNvPicPr/>
          <p:nvPr/>
        </p:nvPicPr>
        <p:blipFill>
          <a:blip r:embed="rId2"/>
          <a:stretch/>
        </p:blipFill>
        <p:spPr>
          <a:xfrm>
            <a:off x="4786200" y="2643120"/>
            <a:ext cx="3809520" cy="284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285840" y="285840"/>
            <a:ext cx="8500680" cy="49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000000"/>
                </a:solidFill>
                <a:latin typeface="Book Antiqua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C:\Documents and Settings\Учебный1\Мои документы\Мои рисунки\Презентации\Гагарин\Материал\9751.jpg"/>
          <p:cNvPicPr/>
          <p:nvPr/>
        </p:nvPicPr>
        <p:blipFill>
          <a:blip r:embed="rId1"/>
          <a:stretch/>
        </p:blipFill>
        <p:spPr>
          <a:xfrm>
            <a:off x="6660360" y="4227840"/>
            <a:ext cx="1896480" cy="2629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78" dur="1" fill="hold"/>
                                        <p:tgtEl>
                                          <p:spTgt spid="290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122400" y="554040"/>
            <a:ext cx="639108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C:\Documents and Settings\Учебный1\Мои документы\Мои рисунки\Презентации\Гагарин\Материал\9745.jpg"/>
          <p:cNvPicPr/>
          <p:nvPr/>
        </p:nvPicPr>
        <p:blipFill>
          <a:blip r:embed="rId1"/>
          <a:stretch/>
        </p:blipFill>
        <p:spPr>
          <a:xfrm>
            <a:off x="6732360" y="571320"/>
            <a:ext cx="2228040" cy="452412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cover dir="r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2"/>
          <p:cNvSpPr/>
          <p:nvPr/>
        </p:nvSpPr>
        <p:spPr>
          <a:xfrm>
            <a:off x="0" y="0"/>
            <a:ext cx="68576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одойдя к трибуне, Юрий Гагарин отрапортовал Никите Хрущё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Documents and Settings\Учебный1\Мои документы\Мои рисунки\Презентации\Гагарин\Материал\9826.jpg"/>
          <p:cNvPicPr/>
          <p:nvPr/>
        </p:nvPicPr>
        <p:blipFill>
          <a:blip r:embed="rId1"/>
          <a:stretch/>
        </p:blipFill>
        <p:spPr>
          <a:xfrm>
            <a:off x="5143680" y="2428920"/>
            <a:ext cx="3809520" cy="203796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95" name="Picture 3" descr="C:\Documents and Settings\Учебный1\Мои документы\Мои рисунки\Презентации\Гагарин\Материал\123563498241a3.jpg"/>
          <p:cNvPicPr/>
          <p:nvPr/>
        </p:nvPicPr>
        <p:blipFill>
          <a:blip r:embed="rId2"/>
          <a:stretch/>
        </p:blipFill>
        <p:spPr>
          <a:xfrm>
            <a:off x="500040" y="2857320"/>
            <a:ext cx="4095360" cy="32475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Апекс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1_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  <Words>986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3T08:25:06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