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5.jpeg" ContentType="image/jpe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dt" idx="19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ftr" idx="20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 type="sldNum" idx="21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6B07D9-4CCB-4EE3-94B7-349590B76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АГАР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Юр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лексе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82FF9A2-36E5-4600-8C4D-D1D7DD7B6907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ле полёта в космос Гагарин учился в Военно-воздушной инженерной академии имени Н.Е. Жуковского и поэтому некоторое время не имел лётной практики, также сказывалась и общественная деятельность. Первый после перерыва самостоятельный вылет на МиГ-17 он совершил в начале декабря 1967 года. Приземлился со второго захода из-за неверного расчёта на посадку, характерного для лётчиков низкого роста, имевших перерыв в полёт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F343E1-7C9E-4FE4-9C32-6B92C874FF6A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АГАРИН Юрий Алексеевич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1934-1968) космонавт СССР, полковник, Герой Советского Союза, лётчик-космонавт СССР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вый человек, совершивший полёт в косм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F5D465-CE63-4ECD-AF76-35632079315D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Arial"/>
              </a:rPr>
              <a:t>Родился в семье колхозника в г. Гжатс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Arial"/>
              </a:rPr>
              <a:t>Гжатского района Смоленской об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2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Arial"/>
              </a:rPr>
              <a:t>9 марта 1934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792356-A526-4DEE-AEEF-4C11ECD11384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1955 году с отличием окончил индустриальный техникум и аэроклуб в Саратове и оступил в 1-ое Чкаловское военное авиационное училище лётчиков имени К.Е. Ворошилова, которое окончил в 1957 году по 1-му разряд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C468A8-FD54-40D5-B793-9DB0F62B1D68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2 апреля 1961 года совершил первый в истории человечества космический полё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на КК «Восток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 1 ч 48 мин облетел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емной ша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97C81CF-1AC7-415D-98AD-7A97A3B78D20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лагополучно приземлился в окрестности деревни Смолевки Терновского района Саратовской об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выми людьми, которые встретили космонавта после полёта, оказались жена лесника Анна Акимовна Тахтарова и её шестилетняя внучка Ри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57A0EF-DB6E-4B37-82DD-4407DA3C3F2F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воначально, никто не планировал грандиозной встречи Гагарина в Москве. Всё решил в последний момент Никита Хрущёв. По словам Сергея Хрущёва: «Он начал с того, что позвонил министру обороны Маршалу Малиновскому и сказал: „Он у вас старший лейтенант. Надо его срочно повысить в звании“. Малиновский сказал, довольно неохотно, что даст Гагарину звание капитана. На что Никита Сергеевич рассердился: „Какого капитана? Вы ему хоть майора дайте“. Малиновский долго не соглашался, но Хрущёв настоял на своём, и в этот же день Гагарин стал майором». Потом Хрущёв позвонил в Кремль и потребовал, чтобы Гагарину подготовили достойную встреч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A48411-A189-4C92-8CF6-568563852470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 Гагариным прилетел Ил-18, а на подлёте к Москве к самолёту присоединился почётный эскорт истребителей, состоящий из МИГов. Самолёт прилетел в аэропорт Внуково, там Гагарина ожидал грандиозный приём. Огромная толпа народа, вся верхушка власти, журналисты и операторы. Самолёт подрулил к центральному зданию аэропорта, спустили трап и первым по нему сошёл Гагарин. От самолёта до правительственных трибун была протянута ярко-красная ковровая дорожка, по ней и пошёл Юрий Гагарин (по пути у него развязался шнурок на ботинке, но он не остановился и дошёл до правительственных трибун, рискуя споткнуться и упасть), под звуки оркестра, исполняющего старинный авиационный марш «Мы рождены, чтоб сказку сделать былью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3BF199-270C-443F-8EF7-1048A9C8CCC6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ойдя к трибуне, Юрий Гагарин отрапортовал Никите Хрущёв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варищ Первый секретарь Центрального Комитета Коммунистической партии Советского Союза, Председатель Совета Министров СССР! Рад доложить Вам, что задание Центрального Комитета Коммунистической партии и Советского правительства выполнено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5190E9B-0533-41E6-A86F-94D3328F86C7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CC1E-EB32-48BC-A7D6-3F4232068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0755-983D-433C-AEC3-35E3EDA6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163B-7CD0-4F4C-B71C-394B6F88F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8A7E-74C1-4DFE-8C35-7F2D29D98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846B-FCEB-4E1F-8EE3-3E7E9D8FD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51A4-791A-4E60-8448-8DC671F7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FB2C-503A-413B-AA7B-699CF52E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BDDE-A648-46E6-B25B-3D541C06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3D34-8FF3-4927-9CDE-F0741379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98A0-8255-4459-B0C4-947514BC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FA68-B19B-49CA-BD07-27C0E2A9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B0C3-86EB-4610-8F10-87B6ED2E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2A77-9CC3-4A99-BF5F-085155E9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7E09-A3E9-40A8-8F7F-D7D56D32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BF85-08C9-4A8B-8EC2-02F477B5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F113-A956-4929-A863-1CE0C20E3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D72A-3921-4237-A948-AD5F59175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81CE6-4E6F-4550-ADAD-E7AF87E0D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9A777-AE31-4A33-9B5C-943BDC32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96912-63FD-4452-99AE-67064A0D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3453A-7F03-4003-A45E-2CD95555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3B9EF-A97C-4E5E-816A-383AB603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BCEB-C829-47C5-9CFF-CC9BD2C3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FAE76-D945-417B-B88D-1082ABEE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27925-F744-4E22-882B-11BA3507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E5D83-1A5F-4A27-8537-CD9A3741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9A674-629E-47E5-8D5A-A06A53B8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A6996-079D-4A92-9922-E41A190E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AD38C-C84B-4AF4-B908-1CD69BC3C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682EC-1DAC-4B08-B7EE-46E105D64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493D2-90C1-4D48-8E28-58FD7B28E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456CD-8C5F-46C7-8F7E-EC8877EC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483F0-01EB-4054-88ED-2300599B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B918-A4C8-4664-8354-7067D199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8559D-0D4C-4466-A7BE-AF46830B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A436D-B114-4913-9161-B8F962FC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96832-852A-47FA-90B6-946826E9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33F1B-8376-471F-AB3D-2B15F4AE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49D5E-2D6A-4A2A-9C07-07ECDD1A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796D9-7569-4972-84E6-C47ADB13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8C966-21EE-479D-BD5B-3FF529D0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97938-6A30-45E7-AA21-EF2ABF202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B28D6-315D-44A3-A326-3F5F7D6CC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2FAF8-1D49-4A6C-994A-DE7B6DB08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CDE7-AED3-42DF-A010-80F29A7C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815F2-A1CA-4EBE-8387-479002F1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3FAEE-2EBB-4665-882F-5CD9046B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4B7D0-C103-4DDC-AA36-1BAF9BF1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A330C-5289-47B4-AF0C-11DFCD93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03A5F-2D2C-4EB6-AADD-8B4F8436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0CD16-632C-4D99-A828-C5419AB1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07DF1-2AEC-4921-B94B-B4898744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8DCB6-3E5B-4E66-907C-BBF7AEFA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BB117-9F3A-46A1-9F53-6048CA71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B0D35-3B93-4DD6-B068-35FF3E38F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D3B5-F37F-4ECE-B1D9-ED658FD6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A6705-9C64-4802-9800-05307DEFF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50A57-445E-4890-9D18-D4C7E7C99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62116-8F12-40A5-8064-9324F01C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27CDC-B3BE-4696-A121-628B328C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4698B-2B72-41B1-B2FB-2B18A7B6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E7699-7663-40D2-9EF1-E1A509CC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621F4-3A47-4226-9E72-4D4F8213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F2C48-9D81-40FC-B765-33EF0DDE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D4AB8-677D-4FD7-B387-FA86839B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E906C-24D7-42F8-A2D3-E723F6A8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161C-7D39-4CF0-98F0-3B51D63D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DE245-86C2-4E08-A9B7-CC6F280E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99C5F-76E6-4E14-8C7F-7572DD873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692D1-0540-43FD-91D0-8B1B6E95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2A27-5F82-4056-8089-B56483F9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AFB1-0A3E-4F3D-9813-11870099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4C37E6-599E-4FFB-96B9-1F9BB18C6328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65000">
              <a:srgbClr val="000000"/>
            </a:gs>
            <a:gs pos="100000">
              <a:srgbClr val="5b77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 hidden="1"/>
          <p:cNvSpPr/>
          <p:nvPr/>
        </p:nvSpPr>
        <p:spPr>
          <a:xfrm>
            <a:off x="0" y="0"/>
            <a:ext cx="365400" cy="685404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2" name="Прямоугольник 7" hidden="1"/>
          <p:cNvSpPr/>
          <p:nvPr/>
        </p:nvSpPr>
        <p:spPr>
          <a:xfrm>
            <a:off x="255240" y="5047560"/>
            <a:ext cx="72720" cy="16912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3" name="Прямоугольник 8" hidden="1"/>
          <p:cNvSpPr/>
          <p:nvPr/>
        </p:nvSpPr>
        <p:spPr>
          <a:xfrm>
            <a:off x="255240" y="4796640"/>
            <a:ext cx="72720" cy="228240"/>
          </a:xfrm>
          <a:prstGeom prst="rect">
            <a:avLst/>
          </a:prstGeom>
          <a:solidFill>
            <a:schemeClr val="accent3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4" name="Прямоугольник 9" hidden="1"/>
          <p:cNvSpPr/>
          <p:nvPr/>
        </p:nvSpPr>
        <p:spPr>
          <a:xfrm>
            <a:off x="255240" y="4637520"/>
            <a:ext cx="72720" cy="136800"/>
          </a:xfrm>
          <a:prstGeom prst="rect">
            <a:avLst/>
          </a:prstGeom>
          <a:solidFill>
            <a:schemeClr val="bg2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5" name="Прямоугольник 10" hidden="1"/>
          <p:cNvSpPr/>
          <p:nvPr/>
        </p:nvSpPr>
        <p:spPr>
          <a:xfrm>
            <a:off x="255240" y="4542480"/>
            <a:ext cx="72720" cy="72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6" name="Прямоугольник 11" hidden="1"/>
          <p:cNvSpPr/>
          <p:nvPr/>
        </p:nvSpPr>
        <p:spPr>
          <a:xfrm>
            <a:off x="309600" y="680400"/>
            <a:ext cx="4536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7" name="Прямоугольник 14" hidden="1"/>
          <p:cNvSpPr/>
          <p:nvPr/>
        </p:nvSpPr>
        <p:spPr>
          <a:xfrm>
            <a:off x="268920" y="680400"/>
            <a:ext cx="2700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8" name="Прямоугольник 15" hidden="1"/>
          <p:cNvSpPr/>
          <p:nvPr/>
        </p:nvSpPr>
        <p:spPr>
          <a:xfrm>
            <a:off x="25020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9" name="Прямоугольник 16" hidden="1"/>
          <p:cNvSpPr/>
          <p:nvPr/>
        </p:nvSpPr>
        <p:spPr>
          <a:xfrm>
            <a:off x="22176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footer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BD60F04-EA5B-43DC-891F-93788E99AFCE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0000" sy="50000" algn="t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с двумя скругленными противолежащими углами 6"/>
          <p:cNvSpPr/>
          <p:nvPr/>
        </p:nvSpPr>
        <p:spPr>
          <a:xfrm>
            <a:off x="164520" y="147240"/>
            <a:ext cx="8810640" cy="6564960"/>
          </a:xfrm>
          <a:prstGeom prst="round2DiagRect">
            <a:avLst>
              <a:gd name="adj1" fmla="val 11807"/>
              <a:gd name="adj2" fmla="val 0"/>
            </a:avLst>
          </a:prstGeom>
          <a:solidFill>
            <a:schemeClr val="bg2">
              <a:tint val="85000"/>
              <a:shade val="90000"/>
              <a:satMod val="150000"/>
              <a:alpha val="65000"/>
            </a:schemeClr>
          </a:solidFill>
          <a:ln cap="rnd" w="11000">
            <a:solidFill>
              <a:srgbClr val="676a55">
                <a:tint val="78000"/>
                <a:satMod val="180000"/>
                <a:alpha val="88000"/>
              </a:srgbClr>
            </a:solidFill>
            <a:round/>
          </a:ln>
          <a:effectLst>
            <a:innerShdw blurRad="114300">
              <a:srgbClr val="000000"/>
            </a:innerShdw>
            <a:softEdge rad="12600"/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dt" idx="7"/>
          </p:nvPr>
        </p:nvSpPr>
        <p:spPr>
          <a:xfrm>
            <a:off x="5562720" y="6400800"/>
            <a:ext cx="300204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300" spc="-1" strike="noStrike">
                <a:solidFill>
                  <a:srgbClr val="b9bbb1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300" spc="-1" strike="noStrike">
                <a:solidFill>
                  <a:srgbClr val="b9bbb1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8"/>
          </p:nvPr>
        </p:nvSpPr>
        <p:spPr>
          <a:xfrm>
            <a:off x="1295280" y="6400800"/>
            <a:ext cx="421200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b9bbb1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300" spc="-1" strike="noStrike">
                <a:solidFill>
                  <a:srgbClr val="b9bbb1"/>
                </a:solidFill>
                <a:latin typeface="Rockwel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9"/>
          </p:nvPr>
        </p:nvSpPr>
        <p:spPr>
          <a:xfrm>
            <a:off x="8638920" y="6514560"/>
            <a:ext cx="46404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F571AE9-36DD-4DB1-A9F5-40749496FD68}" type="slidenum">
              <a:rPr b="0" lang="ru-R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3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ru-RU" sz="2300" spc="-1" strike="noStrike">
              <a:solidFill>
                <a:srgbClr val="ffffff"/>
              </a:solidFill>
              <a:latin typeface="Rockwel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ru-RU" sz="1900" spc="-1" strike="noStrike">
              <a:solidFill>
                <a:srgbClr val="ffffff"/>
              </a:solidFill>
              <a:latin typeface="Rockwel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12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E0F729B-2AF9-4BB0-A4A7-3FA3B43DEE3D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олилиния 1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Полилиния 15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dt" idx="13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9c9b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ftr" idx="14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9c9b9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Num" idx="15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16B4EA-43B0-4D45-9E8C-F4CE1A35476D}" type="slidenum">
              <a:rPr b="0" lang="ru-RU" sz="1000" spc="-1" strike="noStrike">
                <a:solidFill>
                  <a:srgbClr val="9c9b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dt" idx="16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ftr" idx="17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18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685D1D1-F214-4B4D-9C15-5BC89E953741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5" descr="C:\Documents and Settings\BRUNTSEV\Мои документы\Мои рисунки\Юрий\Документы\Презентации\Материал\gagarin_skaf.jpg"/>
          <p:cNvPicPr/>
          <p:nvPr/>
        </p:nvPicPr>
        <p:blipFill>
          <a:blip r:embed="rId1"/>
          <a:stretch/>
        </p:blipFill>
        <p:spPr>
          <a:xfrm>
            <a:off x="5643720" y="4071960"/>
            <a:ext cx="3192120" cy="2585520"/>
          </a:xfrm>
          <a:prstGeom prst="rect">
            <a:avLst/>
          </a:prstGeom>
          <a:ln w="28575">
            <a:solidFill>
              <a:srgbClr val="000000"/>
            </a:solidFill>
            <a:round/>
          </a:ln>
        </p:spPr>
      </p:pic>
      <p:pic>
        <p:nvPicPr>
          <p:cNvPr id="265" name="Picture 6" descr="C:\Documents and Settings\BRUNTSEV\Мои документы\Мои рисунки\Юрий\Документы\Презентации\Материал\Gagarin_UA.jpg"/>
          <p:cNvPicPr/>
          <p:nvPr/>
        </p:nvPicPr>
        <p:blipFill>
          <a:blip r:embed="rId2"/>
          <a:stretch/>
        </p:blipFill>
        <p:spPr>
          <a:xfrm>
            <a:off x="6858000" y="214200"/>
            <a:ext cx="2071440" cy="2750400"/>
          </a:xfrm>
          <a:prstGeom prst="rect">
            <a:avLst/>
          </a:prstGeom>
          <a:ln w="28575">
            <a:solidFill>
              <a:srgbClr val="000000"/>
            </a:solidFill>
            <a:round/>
          </a:ln>
        </p:spPr>
      </p:pic>
      <p:pic>
        <p:nvPicPr>
          <p:cNvPr id="266" name="Picture 7" descr="C:\Documents and Settings\BRUNTSEV\Мои документы\Мои рисунки\Юрий\Документы\Презентации\Материал\hm2.jpg"/>
          <p:cNvPicPr/>
          <p:nvPr/>
        </p:nvPicPr>
        <p:blipFill>
          <a:blip r:embed="rId3"/>
          <a:stretch/>
        </p:blipFill>
        <p:spPr>
          <a:xfrm>
            <a:off x="142920" y="1785960"/>
            <a:ext cx="3571560" cy="4906080"/>
          </a:xfrm>
          <a:prstGeom prst="rect">
            <a:avLst/>
          </a:prstGeom>
          <a:ln w="28575">
            <a:solidFill>
              <a:srgbClr val="000000"/>
            </a:solidFill>
            <a:round/>
          </a:ln>
        </p:spPr>
      </p:pic>
      <p:sp>
        <p:nvSpPr>
          <p:cNvPr id="267" name="Прямоугольник 7"/>
          <p:cNvSpPr/>
          <p:nvPr/>
        </p:nvSpPr>
        <p:spPr>
          <a:xfrm>
            <a:off x="1071360" y="214200"/>
            <a:ext cx="5000400" cy="1310040"/>
          </a:xfrm>
          <a:prstGeom prst="rect">
            <a:avLst/>
          </a:prstGeom>
          <a:noFill/>
          <a:ln w="0"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>
                <a:rot lat="0" lon="300000" rev="0"/>
              </a:camera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8000" spc="-1" strike="noStrike">
                <a:solidFill>
                  <a:srgbClr val="000000"/>
                </a:solidFill>
                <a:latin typeface="Book Antiqua"/>
              </a:rPr>
              <a:t>ГАГАРИ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8"/>
          <p:cNvSpPr/>
          <p:nvPr/>
        </p:nvSpPr>
        <p:spPr>
          <a:xfrm>
            <a:off x="3955320" y="1785960"/>
            <a:ext cx="2817360" cy="1096560"/>
          </a:xfrm>
          <a:prstGeom prst="rect">
            <a:avLst/>
          </a:prstGeom>
          <a:noFill/>
          <a:ln w="0"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6600" spc="-1" strike="noStrike">
                <a:solidFill>
                  <a:srgbClr val="000000"/>
                </a:solidFill>
                <a:latin typeface="Book Antiqua"/>
              </a:rPr>
              <a:t>Юри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9"/>
          <p:cNvSpPr/>
          <p:nvPr/>
        </p:nvSpPr>
        <p:spPr>
          <a:xfrm>
            <a:off x="3848040" y="3000240"/>
            <a:ext cx="540216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6600" spc="-1" strike="noStrike">
                <a:solidFill>
                  <a:srgbClr val="000000"/>
                </a:solidFill>
                <a:latin typeface="Book Antiqua"/>
              </a:rPr>
              <a:t>Алексееви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3" descr="C:\Documents and Settings\Учебный1\Мои документы\Мои рисунки\Презентации\Гагарин\Материал\9760.jpg"/>
          <p:cNvPicPr/>
          <p:nvPr/>
        </p:nvPicPr>
        <p:blipFill>
          <a:blip r:embed="rId1"/>
          <a:stretch/>
        </p:blipFill>
        <p:spPr>
          <a:xfrm>
            <a:off x="5004000" y="30960"/>
            <a:ext cx="2915280" cy="253332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sp>
        <p:nvSpPr>
          <p:cNvPr id="297" name="Прямоугольник 1"/>
          <p:cNvSpPr/>
          <p:nvPr/>
        </p:nvSpPr>
        <p:spPr>
          <a:xfrm>
            <a:off x="107640" y="2925000"/>
            <a:ext cx="8892000" cy="38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>
                <a:rot lat="0" lon="0" rev="0"/>
              </a:camera>
              <a:lightRig dir="t" rig="glow">
                <a:rot lat="0" lon="0" rev="3600000"/>
              </a:lightRig>
            </a:scene3d>
            <a:sp3d prstMaterial="softEdge">
              <a:bevelT w="29210" h="16510"/>
              <a:contourClr>
                <a:schemeClr val="accent4"/>
              </a:contourClr>
            </a:sp3d>
          </a:bodyPr>
          <a:p>
            <a:pPr algn="just">
              <a:lnSpc>
                <a:spcPct val="100000"/>
              </a:lnSpc>
            </a:pPr>
            <a:r>
              <a:rPr b="1" lang="ru-RU" sz="2500" spc="-1" strike="noStrike">
                <a:solidFill>
                  <a:srgbClr val="ffffff"/>
                </a:solidFill>
                <a:latin typeface="Book Antiqua"/>
              </a:rPr>
              <a:t>После полёта в космос Гагарин учился в Военно-воздушной инженерной академии имени Н.Е. Жуковского и поэтому некоторое время не имел лётной практики, также сказывалась и общественная деятельность. Первый после перерыва самостоятельный вылет на МиГ-17 он совершил в начале декабря 1967 года. Приземлился со второго захода из-за неверного расчёта на посадку, характерного для лётчиков низкого роста, имевших перерыв в полёта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2" descr="C:\Documents and Settings\Учебный1\Мои документы\Мои рисунки\Презентации\Гагарин\Материал\g_5.jpg"/>
          <p:cNvPicPr/>
          <p:nvPr/>
        </p:nvPicPr>
        <p:blipFill>
          <a:blip r:embed="rId2"/>
          <a:stretch/>
        </p:blipFill>
        <p:spPr>
          <a:xfrm>
            <a:off x="357120" y="214200"/>
            <a:ext cx="3047760" cy="2166480"/>
          </a:xfrm>
          <a:prstGeom prst="rect">
            <a:avLst/>
          </a:prstGeom>
          <a:ln w="0">
            <a:solidFill>
              <a:srgbClr val="ff0000"/>
            </a:solidFill>
          </a:ln>
        </p:spPr>
      </p:pic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pull dir="r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8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3" descr="C:\Documents and Settings\BRUNTSEV\Мои документы\Мои рисунки\Юрий\Документы\Презентации\Материал\220px-Gagarin_space_suite.jpg"/>
          <p:cNvPicPr/>
          <p:nvPr/>
        </p:nvPicPr>
        <p:blipFill>
          <a:blip r:embed="rId1"/>
          <a:stretch/>
        </p:blipFill>
        <p:spPr>
          <a:xfrm>
            <a:off x="714240" y="3000240"/>
            <a:ext cx="2716200" cy="3642840"/>
          </a:xfrm>
          <a:prstGeom prst="rect">
            <a:avLst/>
          </a:prstGeom>
          <a:ln w="0">
            <a:solidFill>
              <a:srgbClr val="ff0000"/>
            </a:solidFill>
          </a:ln>
        </p:spPr>
      </p:pic>
      <p:sp>
        <p:nvSpPr>
          <p:cNvPr id="271" name="Прямоугольник 1"/>
          <p:cNvSpPr/>
          <p:nvPr/>
        </p:nvSpPr>
        <p:spPr>
          <a:xfrm>
            <a:off x="428760" y="571320"/>
            <a:ext cx="5071680" cy="35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ГАГАРИН Юрий Алексеевич </a:t>
            </a: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(1934-1968) космонавт СССР, полковник, Герой Советского Союза, лётчик-космонавт СССР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Первый человек, совершивший полёт в космо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2" descr="C:\Documents and Settings\BRUNTSEV\Мои документы\Мои рисунки\Юрий\Документы\Презентации\Материал\08-89.jpg"/>
          <p:cNvPicPr/>
          <p:nvPr/>
        </p:nvPicPr>
        <p:blipFill>
          <a:blip r:embed="rId2"/>
          <a:stretch/>
        </p:blipFill>
        <p:spPr>
          <a:xfrm>
            <a:off x="5929200" y="571320"/>
            <a:ext cx="2883960" cy="3640680"/>
          </a:xfrm>
          <a:prstGeom prst="rect">
            <a:avLst/>
          </a:prstGeom>
          <a:ln w="0">
            <a:solidFill>
              <a:srgbClr val="ff0000"/>
            </a:solidFill>
          </a:ln>
        </p:spPr>
      </p:pic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edg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3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BRUNTSEV\Мои документы\Мои рисунки\Юрий\Документы\Презентации\Материал\9769.jpg"/>
          <p:cNvPicPr/>
          <p:nvPr/>
        </p:nvPicPr>
        <p:blipFill>
          <a:blip r:embed="rId1"/>
          <a:stretch/>
        </p:blipFill>
        <p:spPr>
          <a:xfrm>
            <a:off x="285840" y="1870920"/>
            <a:ext cx="5285880" cy="473112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pic>
        <p:nvPicPr>
          <p:cNvPr id="274" name="Picture 3" descr="C:\Documents and Settings\BRUNTSEV\Мои документы\Мои рисунки\Юрий\Документы\Презентации\Материал\9787.jpg"/>
          <p:cNvPicPr/>
          <p:nvPr/>
        </p:nvPicPr>
        <p:blipFill>
          <a:blip r:embed="rId2"/>
          <a:stretch/>
        </p:blipFill>
        <p:spPr>
          <a:xfrm>
            <a:off x="2098800" y="3000240"/>
            <a:ext cx="1772640" cy="3238200"/>
          </a:xfrm>
          <a:prstGeom prst="rect">
            <a:avLst/>
          </a:prstGeom>
          <a:ln w="0">
            <a:solidFill>
              <a:srgbClr val="ff0000"/>
            </a:solidFill>
          </a:ln>
        </p:spPr>
      </p:pic>
      <p:sp>
        <p:nvSpPr>
          <p:cNvPr id="275" name="TextBox 10"/>
          <p:cNvSpPr/>
          <p:nvPr/>
        </p:nvSpPr>
        <p:spPr>
          <a:xfrm>
            <a:off x="571320" y="142920"/>
            <a:ext cx="650052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Rockwell"/>
              </a:rPr>
              <a:t>Родился в семье колхозника в г. Гжатс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Rockwell"/>
              </a:rPr>
              <a:t>Гжатского района Смоленской об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Rockwell"/>
              </a:rPr>
              <a:t>                  </a:t>
            </a:r>
            <a:r>
              <a:rPr b="0" lang="ru-RU" sz="28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Rockwell"/>
              </a:rPr>
              <a:t>9 марта 1934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pull dir="l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44444E-006 L 0.47414 -0.22638 E">
                                      <p:cBhvr>
                                        <p:cTn id="80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C:\Documents and Settings\BRUNTSEV\Мои документы\Мои рисунки\Юрий\Документы\Презентации\Материал\Gagarin_23.jpg"/>
          <p:cNvPicPr/>
          <p:nvPr/>
        </p:nvPicPr>
        <p:blipFill>
          <a:blip r:embed="rId1"/>
          <a:stretch/>
        </p:blipFill>
        <p:spPr>
          <a:xfrm rot="1528800">
            <a:off x="3105720" y="3566880"/>
            <a:ext cx="2577240" cy="2876040"/>
          </a:xfrm>
          <a:prstGeom prst="rect">
            <a:avLst/>
          </a:prstGeom>
          <a:ln w="0">
            <a:solidFill>
              <a:srgbClr val="0070c0"/>
            </a:solidFill>
          </a:ln>
        </p:spPr>
      </p:pic>
      <p:sp>
        <p:nvSpPr>
          <p:cNvPr id="277" name="TextBox 1"/>
          <p:cNvSpPr/>
          <p:nvPr/>
        </p:nvSpPr>
        <p:spPr>
          <a:xfrm>
            <a:off x="4357800" y="500040"/>
            <a:ext cx="442872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В 1955 году с отличием окончил индустриальный техникум и аэроклуб в Саратове и оступил в 1-ое Чкаловское военное авиационное училище лётчиков имени К.Е. Ворошилова, которое окончил в 1957 году по 1-му разряду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C:\Documents and Settings\BRUNTSEV\Мои документы\Мои рисунки\Юрий\Документы\Презентации\Материал\vostok_korabl.jpg"/>
          <p:cNvPicPr/>
          <p:nvPr/>
        </p:nvPicPr>
        <p:blipFill>
          <a:blip r:embed="rId2"/>
          <a:stretch/>
        </p:blipFill>
        <p:spPr>
          <a:xfrm>
            <a:off x="6786720" y="3929040"/>
            <a:ext cx="1164960" cy="219528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pic>
        <p:nvPicPr>
          <p:cNvPr id="279" name="Picture 3" descr="C:\Documents and Settings\BRUNTSEV\Мои документы\Мои рисунки\Юрий\Документы\Презентации\Материал\vostok_rocket.jpg"/>
          <p:cNvPicPr/>
          <p:nvPr/>
        </p:nvPicPr>
        <p:blipFill>
          <a:blip r:embed="rId3"/>
          <a:stretch/>
        </p:blipFill>
        <p:spPr>
          <a:xfrm>
            <a:off x="428760" y="285840"/>
            <a:ext cx="1802880" cy="612108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pull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1"/>
          <p:cNvSpPr/>
          <p:nvPr/>
        </p:nvSpPr>
        <p:spPr>
          <a:xfrm>
            <a:off x="357120" y="500040"/>
            <a:ext cx="4285800" cy="19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12 апреля 1961 года совершил первый в истории человечества космический полёт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(на КК «Восток»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4" descr="C:\Documents and Settings\BRUNTSEV\Мои документы\Мои рисунки\СМОТРИ\ПЛАНЕТА ЗЕМЛЯ.jpg"/>
          <p:cNvPicPr/>
          <p:nvPr/>
        </p:nvPicPr>
        <p:blipFill>
          <a:blip r:embed="rId1"/>
          <a:stretch/>
        </p:blipFill>
        <p:spPr>
          <a:xfrm>
            <a:off x="357120" y="3571920"/>
            <a:ext cx="4214520" cy="316080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sp>
        <p:nvSpPr>
          <p:cNvPr id="282" name="TextBox 8"/>
          <p:cNvSpPr/>
          <p:nvPr/>
        </p:nvSpPr>
        <p:spPr>
          <a:xfrm>
            <a:off x="5000760" y="4429080"/>
            <a:ext cx="3714480" cy="12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За 1 ч 48 мин облетел    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земной шар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8" descr="C:\Documents and Settings\BRUNTSEV\Мои документы\Мои рисунки\Юрий\Документы\Презентации\Материал\9906.jpg"/>
          <p:cNvPicPr/>
          <p:nvPr/>
        </p:nvPicPr>
        <p:blipFill>
          <a:blip r:embed="rId2"/>
          <a:stretch/>
        </p:blipFill>
        <p:spPr>
          <a:xfrm>
            <a:off x="6010200" y="0"/>
            <a:ext cx="3133440" cy="3809520"/>
          </a:xfrm>
          <a:prstGeom prst="rect">
            <a:avLst/>
          </a:prstGeom>
          <a:ln w="0">
            <a:solidFill>
              <a:srgbClr val="3b3b3b">
                <a:lumMod val="60000"/>
                <a:lumOff val="40000"/>
              </a:srgbClr>
            </a:solidFill>
          </a:ln>
        </p:spPr>
      </p:pic>
      <p:pic>
        <p:nvPicPr>
          <p:cNvPr id="284" name="Picture 9" descr="C:\Documents and Settings\BRUNTSEV\Мои документы\Мои рисунки\Юрий\Документы\WORD\Техника\J0215086.WMF"/>
          <p:cNvPicPr/>
          <p:nvPr/>
        </p:nvPicPr>
        <p:blipFill>
          <a:blip r:embed="rId3"/>
          <a:stretch/>
        </p:blipFill>
        <p:spPr>
          <a:xfrm>
            <a:off x="7912440" y="4929120"/>
            <a:ext cx="1231200" cy="1928520"/>
          </a:xfrm>
          <a:prstGeom prst="rect">
            <a:avLst/>
          </a:prstGeom>
          <a:ln w="0">
            <a:noFill/>
          </a:ln>
          <a:effectLst>
            <a:softEdge rad="63360"/>
          </a:effectLst>
          <a:scene3d>
            <a:camera prst="perspectiveHeroicExtremeLeftFacing"/>
            <a:lightRig dir="t" rig="threePt"/>
          </a:scene3d>
        </p:spPr>
      </p:pic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circl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8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77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770" fill="hold"/>
                                        <p:tgtEl>
                                          <p:spTgt spid="2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" dur="77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" dur="77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7407E-006 C -0.00538 -0.0118 -0.00104 -0.00069 -0.00347 -0.02708 C -0.00399 -0.0324 -0.00538 -0.03171 -0.00712 -0.03657 C -0.01007 -0.0456 -0.01128 -0.05509 -0.01545 -0.06342 C -0.02743 -0.08773 -0.04236 -0.11041 -0.0559 -0.13333 C -0.06823 -0.15416 -0.08021 -0.17708 -0.09514 -0.19514 C -0.09687 -0.19722 -0.0993 -0.19814 -0.10121 -0.2 C -0.12014 -0.21944 -0.13906 -0.23842 -0.15833 -0.25717 C -0.16337 -0.26203 -0.16909 -0.2662 -0.17378 -0.27152 C -0.18402 -0.28333 -0.19531 -0.29189 -0.2059 -0.30324 C -0.2125 -0.31018 -0.21944 -0.31921 -0.22621 -0.32546 C -0.24479 -0.34282 -0.27534 -0.35833 -0.29757 -0.36504 C -0.29896 -0.3662 -0.30451 -0.37152 -0.30712 -0.37152 C -0.3125 -0.37152 -0.31597 -0.36342 -0.32135 -0.3618 C -0.33142 -0.35902 -0.35191 -0.35902 -0.35712 -0.35879 C -0.3651 -0.3625 -0.37257 -0.36875 -0.3809 -0.37152 C -0.3967 -0.38449 -0.43316 -0.38634 -0.45 -0.38727 C -0.48385 -0.39375 -0.51979 -0.39421 -0.55347 -0.38402 C -0.56458 -0.38078 -0.57552 -0.37824 -0.5868 -0.37615 C -0.59236 -0.375 -0.60347 -0.37291 -0.60347 -0.37291 C -0.62691 -0.35949 -0.64948 -0.3456 -0.67135 -0.32847 C -0.68489 -0.31782 -0.69913 -0.31365 -0.71059 -0.29838 C -0.72691 -0.27662 -0.72986 -0.24814 -0.7368 -0.2206 C -0.73854 -0.20509 -0.74097 -0.18981 -0.74288 -0.17453 C -0.74253 -0.15648 -0.74323 -0.13842 -0.74166 -0.1206 C -0.74027 -0.10602 -0.72725 -0.08981 -0.72135 -0.07939 C -0.7085 -0.05625 -0.69462 -0.03657 -0.675 -0.02384 C -0.66632 -0.00972 -0.67465 -0.02106 -0.66059 -0.00949 C -0.65468 -0.00463 -0.65139 0.00394 -0.64514 0.00787 C -0.63455 0.01482 -0.62118 0.02292 -0.60955 0.02709 C -0.59566 0.03195 -0.5809 0.03056 -0.56666 0.03172 C -0.55972 0.03357 -0.55277 0.03449 -0.54635 0.0382 C -0.53784 0.04329 -0.53038 0.04908 -0.52135 0.05232 C -0.51337 0.0551 -0.50451 0.05579 -0.49635 0.05718 C -0.48576 0.06135 -0.475 0.0625 -0.46423 0.06505 C -0.37465 0.06412 -0.3092 0.06065 -0.225 0.0588 C -0.21354 0.05625 -0.20364 0.05209 -0.19166 0.0507 C -0.18021 0.04746 -0.1717 0.04468 -0.16059 0.03959 C -0.15555 0.03727 -0.15434 0.03357 -0.15 0.0301 C -0.13975 0.02176 -0.12847 0.01574 -0.11788 0.00787 C -0.11232 0.00371 -0.10937 -0.00254 -0.10347 -0.00625 C -0.09496 -0.01782 -0.08889 -0.03634 -0.07968 -0.04444 C -0.0717 -0.06041 -0.06493 -0.07847 -0.05468 -0.09213 C -0.05139 -0.10509 -0.04739 -0.11759 -0.04288 -0.13009 C -0.03975 -0.15115 -0.04392 -0.12824 -0.03923 -0.14282 C -0.03698 -0.14977 -0.0368 -0.15764 -0.03559 -0.16504 C -0.03402 -0.17546 -0.03125 -0.18611 -0.02968 -0.19676 C -0.0309 -0.22569 -0.02968 -0.28194 -0.03559 -0.30324 C -0.03698 -0.31412 -0.03802 -0.32708 -0.04288 -0.33657 C -0.04982 -0.35046 -0.06076 -0.36018 -0.07014 -0.37152 C -0.07847 -0.38148 -0.0908 -0.39699 -0.10121 -0.40162 C -0.10243 -0.40277 -0.1033 -0.40416 -0.10468 -0.40486 C -0.10729 -0.40625 -0.11302 -0.40787 -0.11302 -0.40787 C -0.11771 -0.41296 -0.12743 -0.42453 -0.13333 -0.42708 C -0.14218 -0.43634 -0.15451 -0.44236 -0.16545 -0.44606 C -0.17448 -0.45509 -0.18455 -0.45717 -0.19514 -0.46041 C -0.21319 -0.46597 -0.23159 -0.46967 -0.25 -0.47291 C -0.2743 -0.47731 -0.29826 -0.48379 -0.32257 -0.48889 C -0.3408 -0.49259 -0.3592 -0.49421 -0.37725 -0.49838 C -0.39062 -0.50139 -0.40295 -0.50486 -0.41666 -0.50625 C -0.46475 -0.50532 -0.49913 -0.50324 -0.54514 -0.50162 C -0.55989 -0.49375 -0.57708 -0.49398 -0.59288 -0.49051 C -0.60625 -0.49097 -0.66267 -0.49236 -0.68212 -0.49375 C -0.69375 -0.49467 -0.70468 -0.50463 -0.71545 -0.50949 C -0.72517 -0.51875 -0.72083 -0.51527 -0.72847 -0.5206 C -0.73298 -0.52939 -0.74149 -0.53379 -0.74757 -0.5412 C -0.75434 -0.54953 -0.74948 -0.54652 -0.7559 -0.5493 C -0.7618 -0.55694 -0.7684 -0.56342 -0.775 -0.5699 C -0.78368 -0.57847 -0.78472 -0.58958 -0.79166 -0.59838 C -0.79409 -0.60509 -0.7967 -0.60694 -0.8 -0.61273 C -0.80538 -0.62222 -0.81146 -0.63588 -0.81788 -0.64444 C -0.82187 -0.65555 -0.81909 -0.64838 -0.82621 -0.66342 C -0.82691 -0.66504 -0.82847 -0.66828 -0.82847 -0.66828 C -0.8335 -0.69421 -0.84652 -0.71689 -0.85225 -0.74282 C -0.85399 -0.77245 -0.85642 -0.79213 -0.85347 -0.8206 C -0.85243 -0.86504 -0.84757 -0.91227 -0.85833 -0.95555 C -0.85868 -0.97777 -0.85885 -1 -0.85955 -1.02222 C -0.86007 -1.03634 -0.86892 -1.05486 -0.86892 -1.06828 E">
                                      <p:cBhvr>
                                        <p:cTn id="140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1"/>
          <p:cNvSpPr/>
          <p:nvPr/>
        </p:nvSpPr>
        <p:spPr>
          <a:xfrm>
            <a:off x="285840" y="357120"/>
            <a:ext cx="7500600" cy="12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500" spc="-1" strike="noStrike">
                <a:ln>
                  <a:solidFill>
                    <a:srgbClr val="7c7c7c"/>
                  </a:solidFill>
                </a:ln>
                <a:solidFill>
                  <a:srgbClr val="ffffff"/>
                </a:solidFill>
                <a:latin typeface="Arial"/>
              </a:rPr>
              <a:t>Благополучно приземлился в окрестности деревни Смолевки Терновского района Саратовской области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Прямоугольник 3"/>
          <p:cNvSpPr/>
          <p:nvPr/>
        </p:nvSpPr>
        <p:spPr>
          <a:xfrm>
            <a:off x="0" y="5565240"/>
            <a:ext cx="914364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600" spc="-1" strike="noStrike">
                <a:ln>
                  <a:solidFill>
                    <a:srgbClr val="7c7c7c"/>
                  </a:solidFill>
                </a:ln>
                <a:solidFill>
                  <a:srgbClr val="ffffff"/>
                </a:solidFill>
                <a:latin typeface="Arial"/>
              </a:rPr>
              <a:t>Первыми людьми, которые встретили космонавта после полёта, оказались жена лесника Анна Акимовна Тахтарова и её шестилетняя внучка Рит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2" descr="C:\Documents and Settings\Учебный1\Мои документы\Мои рисунки\Презентации\Гагарин\Материал\9713.jpg"/>
          <p:cNvPicPr/>
          <p:nvPr/>
        </p:nvPicPr>
        <p:blipFill>
          <a:blip r:embed="rId1"/>
          <a:stretch/>
        </p:blipFill>
        <p:spPr>
          <a:xfrm>
            <a:off x="214200" y="1714320"/>
            <a:ext cx="1970640" cy="30715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C:\Documents and Settings\Учебный1\Мои документы\Мои рисунки\Презентации\Гагарин\Материал\9838.jpg"/>
          <p:cNvPicPr/>
          <p:nvPr/>
        </p:nvPicPr>
        <p:blipFill>
          <a:blip r:embed="rId2"/>
          <a:stretch/>
        </p:blipFill>
        <p:spPr>
          <a:xfrm>
            <a:off x="4786200" y="2643120"/>
            <a:ext cx="3809520" cy="284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newsflash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Прямоугольник 1"/>
          <p:cNvSpPr/>
          <p:nvPr/>
        </p:nvSpPr>
        <p:spPr>
          <a:xfrm>
            <a:off x="285840" y="285840"/>
            <a:ext cx="8500680" cy="49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2300" spc="-1" strike="noStrike">
                <a:solidFill>
                  <a:srgbClr val="000000"/>
                </a:solidFill>
                <a:latin typeface="Book Antiqua"/>
              </a:rPr>
              <a:t>Первоначально, никто не планировал грандиозной встречи Гагарина в Москве. Всё решил в последний момент Никита Хрущёв. По словам Сергея Хрущёва: «Он начал с того, что позвонил министру обороны Маршалу Малиновскому и сказал: „Он у вас старший лейтенант. Надо его срочно повысить в звании“. Малиновский сказал, довольно неохотно, что даст Гагарину звание капитана. На что Никита Сергеевич рассердился: „Какого капитана? Вы ему хоть майора дайте“. Малиновский долго не соглашался, но Хрущёв настоял на своём, и в этот же день Гагарин стал майором». Потом Хрущёв позвонил в Кремль и потребовал, чтобы Гагарину подготовили достойную встреч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" descr="C:\Documents and Settings\Учебный1\Мои документы\Мои рисунки\Презентации\Гагарин\Материал\9751.jpg"/>
          <p:cNvPicPr/>
          <p:nvPr/>
        </p:nvPicPr>
        <p:blipFill>
          <a:blip r:embed="rId1"/>
          <a:stretch/>
        </p:blipFill>
        <p:spPr>
          <a:xfrm>
            <a:off x="6660360" y="4227840"/>
            <a:ext cx="1896480" cy="262980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178" dur="1" fill="hold"/>
                                        <p:tgtEl>
                                          <p:spTgt spid="290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Прямоугольник 1"/>
          <p:cNvSpPr/>
          <p:nvPr/>
        </p:nvSpPr>
        <p:spPr>
          <a:xfrm>
            <a:off x="122400" y="554040"/>
            <a:ext cx="639108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За Гагариным прилетел Ил-18, а на подлёте к Москве к самолёту присоединился почётный эскорт истребителей, состоящий из МИГов. Самолёт прилетел в аэропорт Внуково, там Гагарина ожидал грандиозный приём. Огромная толпа народа, вся верхушка власти, журналисты и операторы. Самолёт подрулил к центральному зданию аэропорта, спустили трап и первым по нему сошёл Гагарин. От самолёта до правительственных трибун была протянута ярко-красная ковровая дорожка, по ней и пошёл Юрий Гагарин (по пути у него развязался шнурок на ботинке, но он не остановился и дошёл до правительственных трибун, рискуя споткнуться и упасть), под звуки оркестра, исполняющего старинный авиационный марш «Мы рождены, чтоб сказку сделать былью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4" descr="C:\Documents and Settings\Учебный1\Мои документы\Мои рисунки\Презентации\Гагарин\Материал\9745.jpg"/>
          <p:cNvPicPr/>
          <p:nvPr/>
        </p:nvPicPr>
        <p:blipFill>
          <a:blip r:embed="rId1"/>
          <a:stretch/>
        </p:blipFill>
        <p:spPr>
          <a:xfrm>
            <a:off x="6732360" y="571320"/>
            <a:ext cx="2228040" cy="4524120"/>
          </a:xfrm>
          <a:prstGeom prst="rect">
            <a:avLst/>
          </a:prstGeom>
          <a:ln w="0">
            <a:solidFill>
              <a:srgbClr val="ff0000"/>
            </a:solidFill>
          </a:ln>
        </p:spPr>
      </p:pic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cover dir="r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2"/>
          <p:cNvSpPr/>
          <p:nvPr/>
        </p:nvSpPr>
        <p:spPr>
          <a:xfrm>
            <a:off x="0" y="0"/>
            <a:ext cx="685764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Подойдя к трибуне, Юрий Гагарин отрапортовал Никите Хрущёв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— 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Товарищ Первый секретарь Центрального Комитета Коммунистической партии Советского Союза, Председатель Совета Министров СССР! Рад доложить Вам, что задание Центрального Комитета Коммунистической партии и Советского правительства выполнен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2" descr="C:\Documents and Settings\Учебный1\Мои документы\Мои рисунки\Презентации\Гагарин\Материал\9826.jpg"/>
          <p:cNvPicPr/>
          <p:nvPr/>
        </p:nvPicPr>
        <p:blipFill>
          <a:blip r:embed="rId1"/>
          <a:stretch/>
        </p:blipFill>
        <p:spPr>
          <a:xfrm>
            <a:off x="5143680" y="2428920"/>
            <a:ext cx="3809520" cy="203796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pic>
        <p:nvPicPr>
          <p:cNvPr id="295" name="Picture 3" descr="C:\Documents and Settings\Учебный1\Мои документы\Мои рисунки\Презентации\Гагарин\Материал\123563498241a3.jpg"/>
          <p:cNvPicPr/>
          <p:nvPr/>
        </p:nvPicPr>
        <p:blipFill>
          <a:blip r:embed="rId2"/>
          <a:stretch/>
        </p:blipFill>
        <p:spPr>
          <a:xfrm>
            <a:off x="500040" y="2857320"/>
            <a:ext cx="4095360" cy="324756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pull dir="ru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77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770" fill="hold"/>
                                        <p:tgtEl>
                                          <p:spTgt spid="2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2" dur="77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4" dur="77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Апекс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Метро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_Литейная">
  <a:themeElements>
    <a:clrScheme name="Литейная">
      <a:dk1>
        <a:srgbClr val="000000"/>
      </a:dk1>
      <a:lt1>
        <a:srgbClr val="ffffff"/>
      </a:lt1>
      <a:dk2>
        <a:srgbClr val="676a55"/>
      </a:dk2>
      <a:lt2>
        <a:srgbClr val="eaebde"/>
      </a:lt2>
      <a:accent1>
        <a:srgbClr val="72a376"/>
      </a:accent1>
      <a:accent2>
        <a:srgbClr val="b0ccb0"/>
      </a:accent2>
      <a:accent3>
        <a:srgbClr val="a8cdd7"/>
      </a:accent3>
      <a:accent4>
        <a:srgbClr val="c0beaf"/>
      </a:accent4>
      <a:accent5>
        <a:srgbClr val="cec597"/>
      </a:accent5>
      <a:accent6>
        <a:srgbClr val="e8b7b7"/>
      </a:accent6>
      <a:hlink>
        <a:srgbClr val="db5353"/>
      </a:hlink>
      <a:folHlink>
        <a:srgbClr val="90363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Техническая">
  <a:themeElements>
    <a:clrScheme name="Техническая">
      <a:dk1>
        <a:srgbClr val="000000"/>
      </a:dk1>
      <a:lt1>
        <a:srgbClr val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1_Апекс">
  <a:themeElements>
    <a:clrScheme name="Апекс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  <Words>986</Words>
  <Paragraphs>6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5-01-13T08:25:06Z</dcterms:modified>
  <cp:revision>2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0</vt:r8>
  </property>
  <property fmtid="{D5CDD505-2E9C-101B-9397-08002B2CF9AE}" pid="3" name="PresentationFormat">
    <vt:lpwstr>Екран (4:3)</vt:lpwstr>
  </property>
  <property fmtid="{D5CDD505-2E9C-101B-9397-08002B2CF9AE}" pid="4" name="Slides">
    <vt:r8>10</vt:r8>
  </property>
</Properties>
</file>