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3.jpeg" ContentType="image/jpeg"/>
  <Override PartName="/ppt/media/image39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E58F-4B64-4FBE-884F-69774D052D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класс                                      ФИЗИКА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ЗНА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89E2-7C7D-4AB2-A15B-E0C791FB08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ожными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отверг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C366-EBCD-4C18-A69C-C1610C3F95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али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вободное падение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ьют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9C2E-322D-4CF9-BF46-205985D534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ФИЗИЧЕСКИЕ ТЕОР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обенность фундаментальных физических тео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преемстве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общая теория включает частные, уже известные зако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границы                           использования предыдущей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178A-1FE6-47A0-B075-E5B5989155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Е ЗАКОНЫ И ТЕОРИИ, ГРАНИЦЫ ИХ ПРИМЕНИМО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зако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раясь на опыт, отыски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ичестве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атематически формулируемы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ы прир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открытые законы проверяются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E5EB-978B-443E-9296-D544926815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B904-C3C4-46C6-9961-9D09893C05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МЫ ДЛЯ ПРОВЕДЕНИЯ ОПЫТА ДОЛЖНЫ БЫТЬ ОДИНАКОВЫМИ, Т.Е. УГОЛ ПРИ ВЕРШИНЕ Р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ЕТСВЕННО УГЛЫ ПАДЕНИЯ БУДУТ РАЗЛЧИНЫ В СЛУЧАЕ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 ПОСТРОИТЬ УГОЛ ПА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2794-9386-4854-8EC6-D7980FAE9C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ГЭ 2009,А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ГОРИЗО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DBA4-6D1F-4A78-AE9C-B6C8338F56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ФОРМУЛУ РАВНОУСКОРЕННОГО ДВИЖЕНИЯ БЕЗ НАЧАЛЬНОЙ СКОР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S=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t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ХОДИТЕ УСКОРЕНИЕ 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1,25 м/с</a:t>
            </a:r>
            <a:r>
              <a:rPr b="1" lang="ru-RU" sz="1200" spc="-1" strike="noStrike" u="sng" baseline="30000">
                <a:solidFill>
                  <a:srgbClr val="ff0000"/>
                </a:solidFill>
                <a:uFillTx/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ЗАПИСЫВАЕТЕ УРАВНЕНИЕ СКОРОСТИ ОТ ВРЕМЕНИ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ru-RU" sz="12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0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+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Ʋ</a:t>
            </a: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 = 1,25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D479-20EC-4EB1-82F9-6CEBA6EF04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4AD7-BFF2-4EF9-A71C-DAD45D3165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ВЗАИМО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1677-1EFF-4E13-BAF3-D46E352062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ЗУЧАЕТ ФИЗ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4E85-D96F-40D6-9985-326AB31774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РАВИТ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B2BD-0F06-436C-9DCA-9111BA5F2D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ЛЕКТРОМАГНИ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277F-71A1-4DCF-B74F-10DAA871B5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ЛЬН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979B-8D4D-4DA2-A597-B0F253316E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ЛАБ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105C-A6C3-4E9A-90D2-EC4F0D637F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Длин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ра для измерения расстояния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тр 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единица длины, равная расстоянию, которое проходит свет в вакууме за время ½ 99 792 458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A251-1405-4336-98AA-BB2ABDCE14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Время – мера измерение разных промежутков времени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6C8A-C30A-4CE8-BD6F-B40E22326E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0BA0-63CF-4438-A23C-D01F6ECBFC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действие, выполняемое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ощью средств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хождения значения физической величи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ят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ям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EE40-F60E-42A5-AAC2-B3B8BD87B4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свенн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0B42-4705-4F1F-9797-BB3CA21A75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ценка отклонения величи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характеристикой (меро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очности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ме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ительного прибор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показанием прибора и истинным значением измеряем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 равна половине цены деления при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бсолютная погрешность измерения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)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действительным и истинным значениями измеряемой вел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.=Хд. - Х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льная 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A5FD-492D-46AD-8082-764AFBE05F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озникновение физ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B318-930F-471F-B163-D5452D95E1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атерия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п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5059-1251-452D-B205-4A325C5D13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 как изучает физ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88A1-2888-4C4A-A1AB-B21F31268D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волюция взгляда на физическую картину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B2DC-2819-47A8-BF09-90CB63A73C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1755-005C-433A-95B4-361476FA86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DF5C-353A-416D-80A3-9479425A58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АПЫ НАУЧНОГО ПОЗН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5755-DFA6-4410-874E-E7DCBE7A30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182-0934-4A57-93F8-73CC4538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ECF-1295-46A8-B465-29FEC2DF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513-309D-4131-B94D-F278D847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B0D-61AD-4537-B8D7-0A4E9655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213-A72F-4566-AC0E-E8C53A23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ECF-5B90-483C-B579-D0AD87DF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523-A9F8-4AF2-B57A-C4A1F912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90C-2508-4FDB-8410-92CA77A2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35F-E8A9-4DF0-AB7A-46626FD4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E44-514F-43A3-B2FA-582871AF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0AA-D75D-49F0-AC23-67443F56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31C-30B9-481A-8715-FBB50AB7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9E97-5FE7-4DBA-A268-A0A7B1072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класс                                      ФИЗИКА 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НИЕ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42920" y="5300640"/>
            <a:ext cx="770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Чижова Марина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Тверь, МОУ СОШ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90360"/>
            <a:ext cx="468000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ожны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отвер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Ньютон"/>
          <p:cNvPicPr/>
          <p:nvPr/>
        </p:nvPicPr>
        <p:blipFill>
          <a:blip r:embed="rId1"/>
          <a:stretch/>
        </p:blipFill>
        <p:spPr>
          <a:xfrm>
            <a:off x="6227640" y="1916280"/>
            <a:ext cx="2081160" cy="2519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372360" y="5013360"/>
            <a:ext cx="2303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.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али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ью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он 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500720" y="2781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0072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515772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теории проверяются постоянн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ериме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й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е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и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ДАМЕНТАЛЬНЫЕ ФИЗИЧЕСКИЕ ТЕО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енность фундаментальных физических теор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их преемствен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е общая теория включает частные, уже известные зак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 границы                           использования предыдущей теор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-195120" y="-6480"/>
            <a:ext cx="9339120" cy="1543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физические законы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аучный мет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опираясь на опыт, отыскивают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личественны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математически формулируемые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коны природ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 открытые законы проверяются практико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markx.narod.ru/pic/poznani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rkx.narod.ru/pic/poznanie.gif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1"/>
          <a:srcRect l="0" t="13707" r="0" b="10041"/>
          <a:stretch/>
        </p:blipFill>
        <p:spPr>
          <a:xfrm>
            <a:off x="539640" y="1341360"/>
            <a:ext cx="829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732492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2"/>
          <p:cNvSpPr/>
          <p:nvPr/>
        </p:nvSpPr>
        <p:spPr>
          <a:xfrm>
            <a:off x="7524720" y="4437000"/>
            <a:ext cx="13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А и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В и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МЫ ДЛЯ ПРОВЕДЕНИЯ ОПЫТА ДОЛЖНЫ БЫТЬ ОДИНАКОВЫМИ, Т.Е. УГОЛ ПРИ ВЕРШИНЕ РА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ЕТСВЕННО УГЛЫ ПАДЕНИЯ БУДУТ РАЗЛЧИНЫ В СЛУЧА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, КАК ПОСТРОИТЬ УГОЛ ПА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8000" y="1341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ГЭ 2009,А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ГОРИЗО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93236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38606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932360" y="4941720"/>
            <a:ext cx="21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2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0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2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9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ТЕ ФОРМУЛУ РАВНОУСКОРЕННОГО ДВИЖЕНИЯ БЕЗ НАЧАЛЬНОЙ СКО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t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ТЕ УСКОРЕНИЕ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,25 м/с</a:t>
            </a:r>
            <a:r>
              <a:rPr b="1" lang="ru-RU" sz="3200" spc="-1" strike="noStrike" u="sng" baseline="30000">
                <a:solidFill>
                  <a:srgbClr val="ff0000"/>
                </a:solidFill>
                <a:uFillTx/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ЫВАЕТЕ УРАВНЕНИЕ СКОРОСТИ ОТ ВРЕМЕН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+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Ʋ</a:t>
            </a:r>
            <a:r>
              <a:rPr b="1" lang="el-GR" sz="3200" spc="-1" strike="noStrike" u="sng">
                <a:solidFill>
                  <a:srgbClr val="ff0000"/>
                </a:solidFill>
                <a:uFillTx/>
                <a:latin typeface="Arial"/>
              </a:rPr>
              <a:t> = 1,25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70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9067680" cy="119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50072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rcRect l="50020" t="0" r="23777" b="0"/>
          <a:stretch/>
        </p:blipFill>
        <p:spPr>
          <a:xfrm>
            <a:off x="4500720" y="4292640"/>
            <a:ext cx="23763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ДАМЕНТАЛЬНЫЕ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341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Organization Chart 4"/>
          <p:cNvGrpSpPr/>
          <p:nvPr/>
        </p:nvGrpSpPr>
        <p:grpSpPr>
          <a:xfrm>
            <a:off x="179280" y="3068640"/>
            <a:ext cx="8856360" cy="3353400"/>
            <a:chOff x="179280" y="3068640"/>
            <a:chExt cx="8856360" cy="33534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7120" y="2782080"/>
              <a:ext cx="763200" cy="34657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789080" y="3930120"/>
              <a:ext cx="763200" cy="116964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641040" y="3951360"/>
              <a:ext cx="763200" cy="11275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493000" y="2802960"/>
              <a:ext cx="763200" cy="34239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2914920" y="3068640"/>
              <a:ext cx="3339000" cy="1065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Взаимодейств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7928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Гравит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цио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47536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Элект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магнит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77144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и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706752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лаб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ЗУЧАЕТ ФИЗ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250920" y="1268280"/>
            <a:ext cx="5184720" cy="484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724360" y="1773360"/>
            <a:ext cx="302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АВИТА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2" descr="_11"/>
          <p:cNvPicPr/>
          <p:nvPr/>
        </p:nvPicPr>
        <p:blipFill>
          <a:blip r:embed="rId1"/>
          <a:stretch/>
        </p:blipFill>
        <p:spPr>
          <a:xfrm>
            <a:off x="324000" y="1557360"/>
            <a:ext cx="4897440" cy="369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435640" y="2781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мас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435640" y="4653000"/>
            <a:ext cx="338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ви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ЛЕКТРОМАГНИ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435640" y="306864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з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35640" y="465300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т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Magnet0873"/>
          <p:cNvPicPr/>
          <p:nvPr/>
        </p:nvPicPr>
        <p:blipFill>
          <a:blip r:embed="rId1"/>
          <a:stretch/>
        </p:blipFill>
        <p:spPr>
          <a:xfrm>
            <a:off x="0" y="1268280"/>
            <a:ext cx="3313080" cy="222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8 из 1768"/>
          <p:cNvPicPr/>
          <p:nvPr/>
        </p:nvPicPr>
        <p:blipFill>
          <a:blip r:embed="rId2"/>
          <a:stretch/>
        </p:blipFill>
        <p:spPr>
          <a:xfrm>
            <a:off x="539640" y="2205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Картинка 96 из 1768"/>
          <p:cNvPicPr/>
          <p:nvPr/>
        </p:nvPicPr>
        <p:blipFill>
          <a:blip r:embed="rId3"/>
          <a:stretch/>
        </p:blipFill>
        <p:spPr>
          <a:xfrm>
            <a:off x="1547640" y="2924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ЛЬН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фм (фемтометр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435640" y="2492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нукло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. части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35640" y="3716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лю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эл. част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ормула Эйншейна"/>
          <p:cNvPicPr/>
          <p:nvPr/>
        </p:nvPicPr>
        <p:blipFill>
          <a:blip r:embed="rId1"/>
          <a:stretch/>
        </p:blipFill>
        <p:spPr>
          <a:xfrm>
            <a:off x="2124000" y="6093000"/>
            <a:ext cx="1511280" cy="42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2712400053405a9d365b9ca4d042baf0cc5080fe"/>
          <p:cNvPicPr/>
          <p:nvPr/>
        </p:nvPicPr>
        <p:blipFill>
          <a:blip r:embed="rId2"/>
          <a:stretch/>
        </p:blipFill>
        <p:spPr>
          <a:xfrm>
            <a:off x="179280" y="1341360"/>
            <a:ext cx="3168720" cy="29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3"/>
          <a:stretch/>
        </p:blipFill>
        <p:spPr>
          <a:xfrm>
            <a:off x="684360" y="2205000"/>
            <a:ext cx="4679640" cy="3510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СТАБИЛЬНОСТЬ ЯДР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42"/>
          <p:cNvPicPr/>
          <p:nvPr/>
        </p:nvPicPr>
        <p:blipFill>
          <a:blip r:embed="rId4"/>
          <a:stretch/>
        </p:blipFill>
        <p:spPr>
          <a:xfrm>
            <a:off x="900000" y="1341360"/>
            <a:ext cx="7201080" cy="51246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ЛАБ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ам (аттомет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435640" y="30686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Между кв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435640" y="378936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з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920" y="59500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64000" y="5013360"/>
            <a:ext cx="35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адиоактивный распад ур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еакции термоядерного синтеза на Солн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"/>
          <p:cNvPicPr/>
          <p:nvPr/>
        </p:nvPicPr>
        <p:blipFill>
          <a:blip r:embed="rId1"/>
          <a:stretch/>
        </p:blipFill>
        <p:spPr>
          <a:xfrm>
            <a:off x="468360" y="1268280"/>
            <a:ext cx="424008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2"/>
          <a:stretch/>
        </p:blipFill>
        <p:spPr>
          <a:xfrm>
            <a:off x="395280" y="177336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длина"/>
          <p:cNvPicPr/>
          <p:nvPr/>
        </p:nvPicPr>
        <p:blipFill>
          <a:blip r:embed="rId1"/>
          <a:stretch/>
        </p:blipFill>
        <p:spPr>
          <a:xfrm>
            <a:off x="971640" y="1413000"/>
            <a:ext cx="7343640" cy="22730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185" name="Text Box 4"/>
          <p:cNvSpPr/>
          <p:nvPr/>
        </p:nvSpPr>
        <p:spPr>
          <a:xfrm>
            <a:off x="0" y="386064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ра для измерения расстояния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тр 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единица длины, равная расстоянию, которое проходит свет в вакууме за время ½ 99 792 458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638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095640" y="2133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Время – мера измерение разных промежутков времени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643280" y="141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0" descr="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6000" y="3357720"/>
            <a:ext cx="8604000" cy="2251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-106524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68360" y="64911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4328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2" descr="7"/>
          <p:cNvPicPr/>
          <p:nvPr/>
        </p:nvPicPr>
        <p:blipFill>
          <a:blip r:embed="rId1"/>
          <a:stretch/>
        </p:blipFill>
        <p:spPr>
          <a:xfrm>
            <a:off x="162000" y="1628640"/>
            <a:ext cx="8982000" cy="22701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5"/>
          <p:cNvGrpSpPr/>
          <p:nvPr/>
        </p:nvGrpSpPr>
        <p:grpSpPr>
          <a:xfrm>
            <a:off x="-541440" y="3933720"/>
            <a:ext cx="10080720" cy="1824120"/>
            <a:chOff x="-541440" y="3933720"/>
            <a:chExt cx="10080720" cy="1824120"/>
          </a:xfrm>
        </p:grpSpPr>
        <p:sp>
          <p:nvSpPr>
            <p:cNvPr id="201" name="AutoShape 6"/>
            <p:cNvSpPr/>
            <p:nvPr/>
          </p:nvSpPr>
          <p:spPr>
            <a:xfrm>
              <a:off x="-541440" y="3933720"/>
              <a:ext cx="10080720" cy="18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49120" y="4611600"/>
              <a:ext cx="118440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2225160" y="3933720"/>
              <a:ext cx="494208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количества вещества и энер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225160" y="4611600"/>
              <a:ext cx="49420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инер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225160" y="5289840"/>
              <a:ext cx="589140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гравитационных свойств мат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V="1">
              <a:off x="1435320" y="4068720"/>
              <a:ext cx="7898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1435320" y="4882320"/>
              <a:ext cx="78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1435320" y="5018400"/>
              <a:ext cx="789840" cy="54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216000" y="5661000"/>
            <a:ext cx="89280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aac"/>
                </a:solidFill>
                <a:latin typeface="Arial"/>
              </a:rPr>
              <a:t>Килограмм – единица массы, равная массе международного эталона килограмма</a:t>
            </a: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близительно равен массе 1 л чистой воды при 15 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108000" y="141300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действие, выполняемое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ью средств измер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я значения физической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нятых единиц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ям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68720" cy="3390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8000" y="1412640"/>
            <a:ext cx="871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свенн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погрешности"/>
          <p:cNvPicPr/>
          <p:nvPr/>
        </p:nvPicPr>
        <p:blipFill>
          <a:blip r:embed="rId1"/>
          <a:stretch/>
        </p:blipFill>
        <p:spPr>
          <a:xfrm>
            <a:off x="1547640" y="3284640"/>
            <a:ext cx="1365480" cy="1469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364000" y="378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643280" y="5013360"/>
            <a:ext cx="34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весы с разновесом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ный цилин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39640" y="508464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амперметр и вольтметр для измерения силы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835280" y="2565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– измерение сопротивления проводника и плотности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8000" y="1484280"/>
            <a:ext cx="885672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отклонения вел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ой (мер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ительного прибор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показанием прибора и истинным значением измеряе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 равна половине цены деления при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солютная погрешность измерения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действительным и истинным значениями измеряемой велич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.=Хд. - 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сительная 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http://www.prist.ru/infos/articles/general_measurement/equation_12.gif"/>
          <p:cNvPicPr/>
          <p:nvPr/>
        </p:nvPicPr>
        <p:blipFill>
          <a:blip r:embed="rId1"/>
          <a:stretch/>
        </p:blipFill>
        <p:spPr>
          <a:xfrm>
            <a:off x="3497400" y="5365800"/>
            <a:ext cx="2298600" cy="8730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новение физи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324000" y="2349360"/>
            <a:ext cx="198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250920" y="4869000"/>
            <a:ext cx="26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ТОЛЕМ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16000" y="1197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аждый школьник знаком теперь с исти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а которые Архимед отдал бы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0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аучный дух зародился в Древней Гре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6"/>
          <p:cNvPicPr/>
          <p:nvPr/>
        </p:nvPicPr>
        <p:blipFill>
          <a:blip r:embed="rId2"/>
          <a:stretch/>
        </p:blipFill>
        <p:spPr>
          <a:xfrm>
            <a:off x="6300720" y="2276640"/>
            <a:ext cx="2103480" cy="262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WordArt 9"/>
          <p:cNvSpPr txBox="1"/>
          <p:nvPr/>
        </p:nvSpPr>
        <p:spPr>
          <a:xfrm>
            <a:off x="6012000" y="4941720"/>
            <a:ext cx="262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ЛИЛ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88000" y="57340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Ученый, положивший начало физике, как на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я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ществ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и п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12000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 как изучает ф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1680" y="1258920"/>
            <a:ext cx="878832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волюция взгляда на физическую картину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785080" cy="5245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ar_refraktor"/>
          <p:cNvPicPr/>
          <p:nvPr/>
        </p:nvPicPr>
        <p:blipFill>
          <a:blip r:embed="rId1"/>
          <a:stretch/>
        </p:blipFill>
        <p:spPr>
          <a:xfrm>
            <a:off x="250920" y="1341360"/>
            <a:ext cx="2560680" cy="313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0" y="450864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ринный реф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з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3708рефлектор Ньютона"/>
          <p:cNvPicPr/>
          <p:nvPr/>
        </p:nvPicPr>
        <p:blipFill>
          <a:blip r:embed="rId2"/>
          <a:stretch/>
        </p:blipFill>
        <p:spPr>
          <a:xfrm>
            <a:off x="3276720" y="2924280"/>
            <a:ext cx="2101680" cy="2585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5445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ор Нью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рка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5"/>
          <p:cNvPicPr/>
          <p:nvPr/>
        </p:nvPicPr>
        <p:blipFill>
          <a:blip r:embed="rId3"/>
          <a:stretch/>
        </p:blipFill>
        <p:spPr>
          <a:xfrm>
            <a:off x="5580000" y="2708280"/>
            <a:ext cx="3206880" cy="272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435640" y="1628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 потухшего вулкана Мауна-Кеа высотой 4200 м (остров Гавай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6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3753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522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иотелескоп в Аресибо Пуэрто-Р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2"/>
          <a:stretch/>
        </p:blipFill>
        <p:spPr>
          <a:xfrm>
            <a:off x="5219640" y="1773360"/>
            <a:ext cx="33847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859280" y="5084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ая спутниковая обсерватория, работающая в инфракрасном диапазо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НАУЧНОГО ПОЗН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"/>
          <p:cNvPicPr/>
          <p:nvPr/>
        </p:nvPicPr>
        <p:blipFill>
          <a:blip r:embed="rId1"/>
          <a:stretch/>
        </p:blipFill>
        <p:spPr>
          <a:xfrm>
            <a:off x="1763640" y="1341360"/>
            <a:ext cx="578160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55640" y="522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пытство. С него все и на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. Джеймс, Дж. Мартин  «Все возможные ми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00:59Z</dcterms:created>
  <dc:creator>Марина</dc:creator>
  <dc:description/>
  <dc:language>en-US</dc:language>
  <cp:lastModifiedBy>LEGION</cp:lastModifiedBy>
  <dcterms:modified xsi:type="dcterms:W3CDTF">2015-01-13T08:30:29Z</dcterms:modified>
  <cp:revision>12</cp:revision>
  <dc:subject/>
  <dc:title>ФИЗИКА И ПОЗНАНИЕ МИРА</dc:title>
</cp:coreProperties>
</file>