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13.jpeg" ContentType="image/jpeg"/>
  <Override PartName="/ppt/media/image39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FCB0-50B4-493C-AF0B-A205185FFE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класс                                      ФИЗИКА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ЗНА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B80E-173C-4A01-A75A-75F5B1BAEA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ожными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отверг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52C5-FEAA-4C32-ADAF-9068D376B0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али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вободное падение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ьют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3E2B-5021-4AAF-AEF4-589CAABAE5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ФИЗИЧЕСКИЕ ТЕОР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обенность фундаментальных физических тео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преемствен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общая теория включает частные, уже известные зако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границы                           использования предыдущей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D5C4-8115-453F-9925-4213E1FB1D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ЗИЧЕСКИЕ ЗАКОНЫ И ТЕОРИИ, ГРАНИЦЫ ИХ ПРИМЕНИМОС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зако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раясь на опыт, отыски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ичествен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атематически формулируемы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ы прир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открытые законы проверяются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8F1D-F132-43D7-9FE3-D8AE87EEAC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0F74-A3E1-4653-AEAD-B2831E461B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МЫ ДЛЯ ПРОВЕДЕНИЯ ОПЫТА ДОЛЖНЫ БЫТЬ ОДИНАКОВЫМИ, Т.Е. УГОЛ ПРИ ВЕРШИНЕ Р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ЕТСВЕННО УГЛЫ ПАДЕНИЯ БУДУТ РАЗЛЧИНЫ В СЛУЧАЕ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 ПОСТРОИТЬ УГОЛ ПА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FFF8-6C05-4237-B41E-B5E0EFC14A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ГЭ 2009,А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ГОРИЗО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6B07-C42C-495A-A5DF-E1A5CEB32C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ФОРМУЛУ РАВНОУСКОРЕННОГО ДВИЖЕНИЯ БЕЗ НАЧАЛЬНОЙ СКОР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S=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t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ХОДИТЕ УСКОРЕНИЕ 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1,25 м/с</a:t>
            </a:r>
            <a:r>
              <a:rPr b="1" lang="ru-RU" sz="1200" spc="-1" strike="noStrike" u="sng" baseline="30000">
                <a:solidFill>
                  <a:srgbClr val="ff0000"/>
                </a:solidFill>
                <a:uFillTx/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ЗАПИСЫВАЕТЕ УРАВНЕНИЕ СКОРОСТИ ОТ ВРЕМЕНИ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ru-RU" sz="12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0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+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Ʋ</a:t>
            </a:r>
            <a:r>
              <a:rPr b="1" lang="el-GR" sz="1200" spc="-1" strike="noStrike" u="sng">
                <a:solidFill>
                  <a:srgbClr val="ff0000"/>
                </a:solidFill>
                <a:uFillTx/>
                <a:latin typeface="Calibri"/>
              </a:rPr>
              <a:t> = 1,25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EDB0-B300-4A17-A170-7711AC322F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6636-F6E4-4352-9573-3D3197B012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ВЗАИМО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6DF4-CE5A-4A6B-99B3-7B1BD874B8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ЗУЧАЕТ ФИЗ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CA94-C418-4042-88E1-459EE7DD62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РАВИТ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7850-7941-45DF-8A42-6822E88391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ЛЕКТРОМАГНИ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140D-B724-4CCD-AA2D-0827E9E688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ЛЬН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2F25-26F1-43E8-93AD-F9A1F1D51D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ЛАБ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DA48-177F-41BE-80FF-37B53C74D0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Длин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ра для измерения расстояния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тр 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единица длины, равная расстоянию, которое проходит свет в вакууме за время ½ 99 792 458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FD97-4293-46A3-9222-67D43DD634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Время – мера измерение разных промежутков времени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81FE-DBEE-48D9-B74A-3CBBBFBD6C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DAAF-D344-46E4-8504-73F4DAADE6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действие, выполняемое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ощью средств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хождения значения физической величи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ят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ям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B866-6D87-436E-B468-AF994D6C3B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свенн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6D80-5C3E-4C12-BF9F-513FFB0A99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ценка отклонения величи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характеристикой (меро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очности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ме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ительного прибор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показанием прибора и истинным значением измеряем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 равна половине цены деления при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бсолютная погрешность измерения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)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действительным и истинным значениями измеряемой вел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.=Хд. - Х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льная 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67F2-5F86-47DF-B011-80CB1C0703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озникновение физ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49FF-057B-429B-AFC4-0F83DC2154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атерия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п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0EC2-AF2A-4B3A-B7E8-47D3AF321D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 как изучает физ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9334-3EBD-438A-BF1B-8D0C3B1AF8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волюция взгляда на физическую картину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E0A6-7538-42B8-A0F1-D7DA02B949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0F96-9C22-442C-A5CC-D5B028D585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01B5-D182-4931-B3AD-38D3A80010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ТАПЫ НАУЧНОГО ПОЗН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C9B5-AD93-4933-8446-25BFAEEB00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0A7-EBBC-404C-91F2-E8B55975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4CC-8599-4D54-9CF6-9AA02139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541-9411-4885-9D39-2DDDA6CC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5A6-6609-4332-A5A5-5DD218A9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66D-7655-4222-A713-D5240CEF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CA06-3D0E-4AB2-A6C9-4C73FB21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CC9-DD08-4895-8719-87C452A8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62F-A871-4B97-872C-0C8D06C7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DAA-956C-4866-960D-A9F53590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ED4-1DB3-42C3-AF91-CAEE15DA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A49-9A5C-451A-857C-F4A8DFD0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2CA-CA9A-4482-BE46-5FAE230A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6A8D-DF56-42CF-BD03-AA0D0DCEA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класс                                      ФИЗИКА 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НАНИЕ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42920" y="5300640"/>
            <a:ext cx="7705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Чижова Марина Валенти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Тверь, МОУ СОШ №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90360"/>
            <a:ext cx="4680000" cy="42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ожны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отверг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Ньютон"/>
          <p:cNvPicPr/>
          <p:nvPr/>
        </p:nvPicPr>
        <p:blipFill>
          <a:blip r:embed="rId1"/>
          <a:stretch/>
        </p:blipFill>
        <p:spPr>
          <a:xfrm>
            <a:off x="6227640" y="1916280"/>
            <a:ext cx="2081160" cy="2519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372360" y="5013360"/>
            <a:ext cx="2303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.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е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али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вободное падение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ьют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кон Всемирного тяго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500720" y="2781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00720" y="45086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4000" y="5157720"/>
            <a:ext cx="84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теории проверяются постоянн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кспериме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й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терие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и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УНДАМЕНТАЛЬНЫЕ ФИЗИЧЕСКИЕ ТЕО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енность фундаментальных физических теорий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их преемственно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ее общая теория включает частные, уже известные зако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 границы                           использования предыдущей теор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-195120" y="-6480"/>
            <a:ext cx="9339120" cy="1543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физические законы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Научный метод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опираясь на опыт, отыскивают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личественны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математически формулируемые)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аконы природ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 открытые законы проверяются практико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markx.narod.ru/pic/poznani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markx.narod.ru/pic/poznanie.gif"/>
          <p:cNvPicPr/>
          <p:nvPr/>
        </p:nvPicPr>
        <p:blipFill>
          <a:blip r:embed="rId3"/>
          <a:stretch/>
        </p:blipFill>
        <p:spPr>
          <a:xfrm>
            <a:off x="0" y="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1" descr=""/>
          <p:cNvPicPr/>
          <p:nvPr/>
        </p:nvPicPr>
        <p:blipFill>
          <a:blip r:embed="rId1"/>
          <a:srcRect l="0" t="13707" r="0" b="10041"/>
          <a:stretch/>
        </p:blipFill>
        <p:spPr>
          <a:xfrm>
            <a:off x="539640" y="1341360"/>
            <a:ext cx="829008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7324920" cy="1542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2"/>
          <p:cNvSpPr/>
          <p:nvPr/>
        </p:nvSpPr>
        <p:spPr>
          <a:xfrm>
            <a:off x="7524720" y="4437000"/>
            <a:ext cx="13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А и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В и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МЫ ДЛЯ ПРОВЕДЕНИЯ ОПЫТА ДОЛЖНЫ БЫТЬ ОДИНАКОВЫМИ, Т.Е. УГОЛ ПРИ ВЕРШИНЕ РАВ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ЕТСВЕННО УГЛЫ ПАДЕНИЯ БУДУТ РАЗЛЧИНЫ В СЛУЧА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Е, КАК ПОСТРОИТЬ УГОЛ ПА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8000" y="1341360"/>
            <a:ext cx="39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ГЭ 2009,А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ГОРИЗО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11640" y="1197000"/>
            <a:ext cx="493236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3860640"/>
            <a:ext cx="46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4932360" y="4941720"/>
            <a:ext cx="21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2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0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2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9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ЙТЕ ФОРМУЛУ РАВНОУСКОРЕННОГО ДВИЖЕНИЯ БЕЗ НАЧАЛЬНОЙ СКО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=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t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ХОДИТЕ УСКОРЕНИЕ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,25 м/с</a:t>
            </a:r>
            <a:r>
              <a:rPr b="1" lang="ru-RU" sz="3200" spc="-1" strike="noStrike" u="sng" baseline="30000">
                <a:solidFill>
                  <a:srgbClr val="ff0000"/>
                </a:solidFill>
                <a:uFillTx/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ИСЫВАЕТЕ УРАВНЕНИЕ СКОРОСТИ ОТ ВРЕМЕН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+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Ʋ</a:t>
            </a:r>
            <a:r>
              <a:rPr b="1" lang="el-GR" sz="3200" spc="-1" strike="noStrike" u="sng">
                <a:solidFill>
                  <a:srgbClr val="ff0000"/>
                </a:solidFill>
                <a:uFillTx/>
                <a:latin typeface="Arial"/>
              </a:rPr>
              <a:t> = 1,25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704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292640"/>
            <a:ext cx="9067680" cy="1190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500720" y="4149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rcRect l="50020" t="0" r="23777" b="0"/>
          <a:stretch/>
        </p:blipFill>
        <p:spPr>
          <a:xfrm>
            <a:off x="4500720" y="4292640"/>
            <a:ext cx="2376360" cy="11905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УНДАМЕНТАЛЬНЫЕ 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34136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Organization Chart 4"/>
          <p:cNvGrpSpPr/>
          <p:nvPr/>
        </p:nvGrpSpPr>
        <p:grpSpPr>
          <a:xfrm>
            <a:off x="179280" y="3068640"/>
            <a:ext cx="8856360" cy="3353400"/>
            <a:chOff x="179280" y="3068640"/>
            <a:chExt cx="8856360" cy="33534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7120" y="2782080"/>
              <a:ext cx="763200" cy="34657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789080" y="3930120"/>
              <a:ext cx="763200" cy="116964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641040" y="3951360"/>
              <a:ext cx="763200" cy="11275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493000" y="2802960"/>
              <a:ext cx="763200" cy="342396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2914920" y="3068640"/>
              <a:ext cx="3339000" cy="1065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Взаимодейств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17928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Гравита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цион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47536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Электр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магнит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77144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и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706752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лаб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ЗУЧАЕТ ФИЗ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"/>
          <p:cNvPicPr/>
          <p:nvPr/>
        </p:nvPicPr>
        <p:blipFill>
          <a:blip r:embed="rId1"/>
          <a:stretch/>
        </p:blipFill>
        <p:spPr>
          <a:xfrm>
            <a:off x="250920" y="1268280"/>
            <a:ext cx="5184720" cy="4840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724360" y="1773360"/>
            <a:ext cx="302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АВИТАЦИО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2" descr="_11"/>
          <p:cNvPicPr/>
          <p:nvPr/>
        </p:nvPicPr>
        <p:blipFill>
          <a:blip r:embed="rId1"/>
          <a:stretch/>
        </p:blipFill>
        <p:spPr>
          <a:xfrm>
            <a:off x="324000" y="1557360"/>
            <a:ext cx="4897440" cy="3699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435640" y="278136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мас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435640" y="4653000"/>
            <a:ext cx="3382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ви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ЛЕКТРОМАГНИ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435640" y="306864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заря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435640" y="465300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т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Magnet0873"/>
          <p:cNvPicPr/>
          <p:nvPr/>
        </p:nvPicPr>
        <p:blipFill>
          <a:blip r:embed="rId1"/>
          <a:stretch/>
        </p:blipFill>
        <p:spPr>
          <a:xfrm>
            <a:off x="0" y="1268280"/>
            <a:ext cx="3313080" cy="2224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артинка 8 из 1768"/>
          <p:cNvPicPr/>
          <p:nvPr/>
        </p:nvPicPr>
        <p:blipFill>
          <a:blip r:embed="rId2"/>
          <a:stretch/>
        </p:blipFill>
        <p:spPr>
          <a:xfrm>
            <a:off x="539640" y="2205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Картинка 96 из 1768"/>
          <p:cNvPicPr/>
          <p:nvPr/>
        </p:nvPicPr>
        <p:blipFill>
          <a:blip r:embed="rId3"/>
          <a:stretch/>
        </p:blipFill>
        <p:spPr>
          <a:xfrm>
            <a:off x="1547640" y="2924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ЛЬН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фм (фемтометр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5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435640" y="2492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нуклон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. частиц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435640" y="3716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лю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эл. част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Формула Эйншейна"/>
          <p:cNvPicPr/>
          <p:nvPr/>
        </p:nvPicPr>
        <p:blipFill>
          <a:blip r:embed="rId1"/>
          <a:stretch/>
        </p:blipFill>
        <p:spPr>
          <a:xfrm>
            <a:off x="2124000" y="6093000"/>
            <a:ext cx="1511280" cy="42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2712400053405a9d365b9ca4d042baf0cc5080fe"/>
          <p:cNvPicPr/>
          <p:nvPr/>
        </p:nvPicPr>
        <p:blipFill>
          <a:blip r:embed="rId2"/>
          <a:stretch/>
        </p:blipFill>
        <p:spPr>
          <a:xfrm>
            <a:off x="179280" y="1341360"/>
            <a:ext cx="3168720" cy="293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3"/>
          <a:stretch/>
        </p:blipFill>
        <p:spPr>
          <a:xfrm>
            <a:off x="684360" y="2205000"/>
            <a:ext cx="4679640" cy="3510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5364000" y="5300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СТАБИЛЬНОСТЬ ЯДРА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142"/>
          <p:cNvPicPr/>
          <p:nvPr/>
        </p:nvPicPr>
        <p:blipFill>
          <a:blip r:embed="rId4"/>
          <a:stretch/>
        </p:blipFill>
        <p:spPr>
          <a:xfrm>
            <a:off x="900000" y="1341360"/>
            <a:ext cx="7201080" cy="51246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ЛАБ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ам (аттометр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7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435640" y="306864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Между квар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435640" y="378936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з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0920" y="59500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64000" y="5013360"/>
            <a:ext cx="352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адиоактивный распад ур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еакции термоядерного синтеза на Солн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1"/>
          <p:cNvPicPr/>
          <p:nvPr/>
        </p:nvPicPr>
        <p:blipFill>
          <a:blip r:embed="rId1"/>
          <a:stretch/>
        </p:blipFill>
        <p:spPr>
          <a:xfrm>
            <a:off x="468360" y="1268280"/>
            <a:ext cx="424008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2"/>
          <a:stretch/>
        </p:blipFill>
        <p:spPr>
          <a:xfrm>
            <a:off x="395280" y="177336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3" descr="длина"/>
          <p:cNvPicPr/>
          <p:nvPr/>
        </p:nvPicPr>
        <p:blipFill>
          <a:blip r:embed="rId1"/>
          <a:stretch/>
        </p:blipFill>
        <p:spPr>
          <a:xfrm>
            <a:off x="971640" y="1413000"/>
            <a:ext cx="7343640" cy="227304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sp>
        <p:nvSpPr>
          <p:cNvPr id="185" name="Text Box 4"/>
          <p:cNvSpPr/>
          <p:nvPr/>
        </p:nvSpPr>
        <p:spPr>
          <a:xfrm>
            <a:off x="0" y="3860640"/>
            <a:ext cx="896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Длина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ра для измерения расстояния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тр 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единица длины, равная расстоянию, которое проходит свет в вакууме за время ½ 99 792 458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638172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095640" y="2133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Время – мера измерение разных промежутков времени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643280" y="1413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0" descr="10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6000" y="3357720"/>
            <a:ext cx="8604000" cy="2251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179280" y="5661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-1065240" y="5897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468360" y="64911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843280" y="119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2" descr="7"/>
          <p:cNvPicPr/>
          <p:nvPr/>
        </p:nvPicPr>
        <p:blipFill>
          <a:blip r:embed="rId1"/>
          <a:stretch/>
        </p:blipFill>
        <p:spPr>
          <a:xfrm>
            <a:off x="162000" y="1628640"/>
            <a:ext cx="8982000" cy="227016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5"/>
          <p:cNvGrpSpPr/>
          <p:nvPr/>
        </p:nvGrpSpPr>
        <p:grpSpPr>
          <a:xfrm>
            <a:off x="-541440" y="3933720"/>
            <a:ext cx="10080720" cy="1824120"/>
            <a:chOff x="-541440" y="3933720"/>
            <a:chExt cx="10080720" cy="1824120"/>
          </a:xfrm>
        </p:grpSpPr>
        <p:sp>
          <p:nvSpPr>
            <p:cNvPr id="201" name="AutoShape 6"/>
            <p:cNvSpPr/>
            <p:nvPr/>
          </p:nvSpPr>
          <p:spPr>
            <a:xfrm>
              <a:off x="-541440" y="3933720"/>
              <a:ext cx="10080720" cy="18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249120" y="4611600"/>
              <a:ext cx="118440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Ма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2225160" y="3933720"/>
              <a:ext cx="494208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количества вещества и энер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225160" y="4611600"/>
              <a:ext cx="49420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инерт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225160" y="5289840"/>
              <a:ext cx="589140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гравитационных свойств мате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V="1">
              <a:off x="1435320" y="4068720"/>
              <a:ext cx="7898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>
              <a:off x="1435320" y="4882320"/>
              <a:ext cx="78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1435320" y="5018400"/>
              <a:ext cx="789840" cy="54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216000" y="5661000"/>
            <a:ext cx="89280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2aac"/>
                </a:solidFill>
                <a:latin typeface="Arial"/>
              </a:rPr>
              <a:t>Килограмм – единица массы, равная массе международного эталона килограмма</a:t>
            </a: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близительно равен массе 1 л чистой воды при 15 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одержимое 2"/>
          <p:cNvSpPr/>
          <p:nvPr/>
        </p:nvSpPr>
        <p:spPr>
          <a:xfrm>
            <a:off x="108000" y="1413000"/>
            <a:ext cx="8928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действие, выполняемое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щью средств измер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я значения физической величи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нятых единиц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ям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168720" cy="3390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4103640" cy="34369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8000" y="1412640"/>
            <a:ext cx="871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свенн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погрешности"/>
          <p:cNvPicPr/>
          <p:nvPr/>
        </p:nvPicPr>
        <p:blipFill>
          <a:blip r:embed="rId1"/>
          <a:stretch/>
        </p:blipFill>
        <p:spPr>
          <a:xfrm>
            <a:off x="1547640" y="3284640"/>
            <a:ext cx="1365480" cy="14698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5364000" y="378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643280" y="5013360"/>
            <a:ext cx="3457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весы с разновесом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ерный цилиндр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39640" y="5084640"/>
            <a:ext cx="34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амперметр и вольтметр для измерения силы тока и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835280" y="2565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– измерение сопротивления проводника и плотности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8000" y="1484280"/>
            <a:ext cx="885672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отклонения велич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ой (меро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ительного прибор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показанием прибора и истинным значением измеряе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 равна половине цены деления при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солютная погрешность измерения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действительным и истинным значениями измеряемой величи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.=Хд. - 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носительная 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" descr="http://www.prist.ru/infos/articles/general_measurement/equation_12.gif"/>
          <p:cNvPicPr/>
          <p:nvPr/>
        </p:nvPicPr>
        <p:blipFill>
          <a:blip r:embed="rId1"/>
          <a:stretch/>
        </p:blipFill>
        <p:spPr>
          <a:xfrm>
            <a:off x="3497400" y="5365800"/>
            <a:ext cx="2298600" cy="8730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новение физи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"/>
          <p:cNvPicPr/>
          <p:nvPr/>
        </p:nvPicPr>
        <p:blipFill>
          <a:blip r:embed="rId1"/>
          <a:stretch/>
        </p:blipFill>
        <p:spPr>
          <a:xfrm>
            <a:off x="324000" y="2349360"/>
            <a:ext cx="198108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>
            <a:off x="250920" y="4869000"/>
            <a:ext cx="262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ТОЛЕМ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16000" y="119700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аждый школьник знаком теперь с исти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за которые Архимед отдал бы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340000" y="32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аучный дух зародился в Древней Гре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6"/>
          <p:cNvPicPr/>
          <p:nvPr/>
        </p:nvPicPr>
        <p:blipFill>
          <a:blip r:embed="rId2"/>
          <a:stretch/>
        </p:blipFill>
        <p:spPr>
          <a:xfrm>
            <a:off x="6300720" y="2276640"/>
            <a:ext cx="2103480" cy="262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WordArt 9"/>
          <p:cNvSpPr txBox="1"/>
          <p:nvPr/>
        </p:nvSpPr>
        <p:spPr>
          <a:xfrm>
            <a:off x="6012000" y="4941720"/>
            <a:ext cx="262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ЛИЛ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788000" y="57340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Ученый, положивший начало физике, как на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терия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еществ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и п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6120000" cy="26654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 как изучает ф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1680" y="1258920"/>
            <a:ext cx="8788320" cy="4537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волюция взгляда на физическую картину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50920" y="1284120"/>
            <a:ext cx="8785080" cy="5245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tar_refraktor"/>
          <p:cNvPicPr/>
          <p:nvPr/>
        </p:nvPicPr>
        <p:blipFill>
          <a:blip r:embed="rId1"/>
          <a:stretch/>
        </p:blipFill>
        <p:spPr>
          <a:xfrm>
            <a:off x="250920" y="1341360"/>
            <a:ext cx="2560680" cy="3132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0" y="4508640"/>
            <a:ext cx="30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ринный рефр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нз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3708рефлектор Ньютона"/>
          <p:cNvPicPr/>
          <p:nvPr/>
        </p:nvPicPr>
        <p:blipFill>
          <a:blip r:embed="rId2"/>
          <a:stretch/>
        </p:blipFill>
        <p:spPr>
          <a:xfrm>
            <a:off x="3276720" y="2924280"/>
            <a:ext cx="2101680" cy="2585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771640" y="54450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ор Нью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рка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15"/>
          <p:cNvPicPr/>
          <p:nvPr/>
        </p:nvPicPr>
        <p:blipFill>
          <a:blip r:embed="rId3"/>
          <a:stretch/>
        </p:blipFill>
        <p:spPr>
          <a:xfrm>
            <a:off x="5580000" y="2708280"/>
            <a:ext cx="3206880" cy="272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5435640" y="162864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шина потухшего вулкана Мауна-Кеа высотой 4200 м (остров Гавай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6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3753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5280" y="522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диотелескоп в Аресибо Пуэрто-Р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7"/>
          <p:cNvPicPr/>
          <p:nvPr/>
        </p:nvPicPr>
        <p:blipFill>
          <a:blip r:embed="rId2"/>
          <a:stretch/>
        </p:blipFill>
        <p:spPr>
          <a:xfrm>
            <a:off x="5219640" y="1773360"/>
            <a:ext cx="3384720" cy="2730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859280" y="50846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ая спутниковая обсерватория, работающая в инфракрасном диапазо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АПЫ НАУЧНОГО ПОЗН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"/>
          <p:cNvPicPr/>
          <p:nvPr/>
        </p:nvPicPr>
        <p:blipFill>
          <a:blip r:embed="rId1"/>
          <a:stretch/>
        </p:blipFill>
        <p:spPr>
          <a:xfrm>
            <a:off x="1763640" y="1341360"/>
            <a:ext cx="5781600" cy="3753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55640" y="522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пытство. С него все и нач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. Джеймс, Дж. Мартин  «Все возможные ми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00:59Z</dcterms:created>
  <dc:creator>Марина</dc:creator>
  <dc:description/>
  <dc:language>en-US</dc:language>
  <cp:lastModifiedBy>LEGION</cp:lastModifiedBy>
  <dcterms:modified xsi:type="dcterms:W3CDTF">2015-01-13T08:30:29Z</dcterms:modified>
  <cp:revision>12</cp:revision>
  <dc:subject/>
  <dc:title>ФИЗИКА И ПОЗНАНИЕ МИРА</dc:title>
</cp:coreProperties>
</file>