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7.png" ContentType="image/png"/>
  <Override PartName="/ppt/media/image37.png" ContentType="image/png"/>
  <Override PartName="/ppt/media/image14.jpeg" ContentType="image/jpeg"/>
  <Override PartName="/ppt/media/image33.png" ContentType="image/png"/>
  <Override PartName="/ppt/media/image8.png" ContentType="image/png"/>
  <Override PartName="/ppt/media/image38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0.png" ContentType="image/png"/>
  <Override PartName="/ppt/media/image4.jpeg" ContentType="image/jpeg"/>
  <Override PartName="/ppt/media/image32.png" ContentType="image/png"/>
  <Override PartName="/ppt/media/image25.jpeg" ContentType="image/jpeg"/>
  <Override PartName="/ppt/media/image13.jpeg" ContentType="image/jpeg"/>
  <Override PartName="/ppt/media/image39.png" ContentType="image/png"/>
  <Override PartName="/ppt/media/image34.png" ContentType="image/png"/>
  <Override PartName="/ppt/media/image12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23.jpeg" ContentType="image/jpeg"/>
  <Override PartName="/ppt/media/image15.jpeg" ContentType="image/jpeg"/>
  <Override PartName="/ppt/media/image16.png" ContentType="image/png"/>
  <Override PartName="/ppt/media/image1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5707-609E-48F2-8614-5813B8D2C8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0 класс                                      ФИЗИКА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ОЗНАНИЕ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A8ED-FEF1-4FAC-91DB-6F790E1F115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научная гипотез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ложными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отвергаю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50706-6855-4E02-84A4-3FCE016809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</a:rPr>
              <a:t>Тео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Галиле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вободное падение т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ьюто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Закон Всемирного тягот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9FA28-EF64-4E26-889E-22A4F00CF4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ФИЗИЧЕСКИЕ ТЕОРИИ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собенность фундаментальных физических теор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преемствен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общая теория включает частные, уже известные зако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 границы                           использования предыдущей теор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7C56-2092-41C9-BFA7-6B42AF161D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ИЗИЧЕСКИЕ ЗАКОНЫ И ТЕОРИИ, ГРАНИЦЫ ИХ ПРИМЕНИМОСТ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законы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уч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пираясь на опыт, отыскиваю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личественны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математически формулируемые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коны природ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открытые законы проверяются практ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2EC8-057A-4AEC-A83A-E910D78668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4399-6FBC-4E68-9473-F397365466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МЫ ДЛЯ ПРОВЕДЕНИЯ ОПЫТА ДОЛЖНЫ БЫТЬ ОДИНАКОВЫМИ, Т.Е. УГОЛ ПРИ ВЕРШИНЕ Р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ЕТСВЕННО УГЛЫ ПАДЕНИЯ БУДУТ РАЗЛЧИНЫ В СЛУЧАЕ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И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ПОМНИТЕ, КАК ПОСТРОИТЬ УГОЛ ПА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BDE0A-12C0-4E58-A048-7F9C06DBCF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ЕГЭ 2009,А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ГОРИЗОН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B15D2-1770-4CE0-9D92-EDF3C83D6B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ЙТЕ ФОРМУЛУ РАВНОУСКОРЕННОГО ДВИЖЕНИЯ БЕЗ НАЧАЛЬНОЙ СКОР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=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t</a:t>
            </a:r>
            <a:r>
              <a:rPr b="1" lang="en-US" sz="12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/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НАХОДИТЕ УСКОРЕНИЕ 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1,25 м/с</a:t>
            </a:r>
            <a:r>
              <a:rPr b="1" lang="ru-RU" sz="1200" spc="-1" strike="noStrike" u="sng" baseline="30000">
                <a:solidFill>
                  <a:srgbClr val="ff0000"/>
                </a:solidFill>
                <a:uFillTx/>
                <a:latin typeface="Calibri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ЗАПИСЫВАЕТЕ УРАВНЕНИЕ СКОРОСТИ ОТ ВРЕМЕНИ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Ʋ</a:t>
            </a:r>
            <a:r>
              <a:rPr b="0" lang="ru-RU" sz="1200" spc="-1" strike="noStrike" baseline="-25000">
                <a:solidFill>
                  <a:srgbClr val="ff0000"/>
                </a:solidFill>
                <a:latin typeface="Calibri"/>
                <a:ea typeface="Arial"/>
              </a:rPr>
              <a:t>0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 +</a:t>
            </a:r>
            <a:r>
              <a:rPr b="0" lang="el-GR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  <a:ea typeface="Arial"/>
              </a:rPr>
              <a:t>ɑ</a:t>
            </a:r>
            <a:r>
              <a:rPr b="0" i="1" lang="en-US" sz="1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Arial"/>
              </a:rPr>
              <a:t>Ʋ</a:t>
            </a:r>
            <a:r>
              <a:rPr b="1" lang="el-GR" sz="1200" spc="-1" strike="noStrike" u="sng">
                <a:solidFill>
                  <a:srgbClr val="ff0000"/>
                </a:solidFill>
                <a:uFillTx/>
                <a:latin typeface="Calibri"/>
              </a:rPr>
              <a:t> = 1,25</a:t>
            </a:r>
            <a:r>
              <a:rPr b="1" i="1" lang="en-US" sz="1200" spc="-1" strike="noStrike" u="sng">
                <a:solidFill>
                  <a:srgbClr val="ff0000"/>
                </a:solidFill>
                <a:uFillTx/>
                <a:latin typeface="Calibri"/>
              </a:rPr>
              <a:t>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9092-7667-4787-ABA2-33755A4AE33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АДАЧ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0EE34-9568-4BED-BD25-31F56442851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УНДАМЕНТАЛЬНЫЕ ВЗАИМОДЕЙСТВ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6347E-BCDB-4643-BF02-72D289BA50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ЗУЧАЕТ ФИЗ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45989-78DD-4070-A665-6D40366F44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ГРАВИТ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2A7D-EF4A-442B-89FD-C1606390E68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ЛЕКТРОМАГНИ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0F39-73F3-4901-9428-B6A9957CE0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ИЛЬН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0D3FE-F3F5-469D-82AF-074DE50B62F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ЛАБОЕ (ЯДЕРНО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06C3-CE3E-4D11-ACA5-A72BCE915F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ДЛ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Длина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ра для измерения расстояния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Метр 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– </a:t>
            </a: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единица длины, равная расстоянию, которое проходит свет в вакууме за время ½ 99 792 458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25DB4-EAA1-45FC-8426-494D09AF827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РЕ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2aac"/>
                </a:solidFill>
                <a:latin typeface="Calibri"/>
              </a:rPr>
              <a:t>Время – мера измерение разных промежутков времени</a:t>
            </a:r>
            <a:r>
              <a:rPr b="1" lang="ru-RU" sz="1200" spc="-1" strike="noStrike">
                <a:solidFill>
                  <a:srgbClr val="332aac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F7C8-B600-4FBD-AFE2-3F2709363C6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ЗИЧЕСКИЕ ВЕЛИЧИН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8777-4C8F-4FD6-9621-96D3C7F5C6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действие, выполняемое 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мощью средств измерен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хождения значения физической величин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инятых единиц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buClr>
                <a:srgbClr val="ff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ям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74B5-5391-47F0-B1FE-BA346DCF00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освенное измерение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AA3F-E82F-4369-8C34-8C0628B2F7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МЕРЕНИЕ ФИЗИЧЕСКИХ ВЕЛИЧ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 —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оценка отклонения величины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характеристикой (мерой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точности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измер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ительного прибор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показанием прибора и истинным значением измеряемой велич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грешность измерения равна половине цены деления приб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Абсолютная погрешность измерения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.)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- разность между действительным и истинным значениями измеряемой величи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.=Хд. - Х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buClr>
                <a:srgbClr val="4f81bd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льная погрешность измерения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(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δизм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97649-D76E-4099-80DA-B940230F7B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озникновение физик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F194-340C-4336-BA31-C10F5B70F7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Материя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вещества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и пол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CE7ED-3DF2-4752-8780-0A9342969C9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Что и как изучает физ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94C9E-435B-464C-A6D3-6E985402B4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волюция взгляда на физическую картину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9B24-1990-410B-B132-E162480279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D2ED6-8282-4F2F-BB3D-3D092F132A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ЕХНИЧЕСКИЕ УСТРОЙСТВА ДЛЯ ИЗУЧЕНИЯ ВСЕЛЕН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6666-FAE7-4489-B5C5-1143598CAF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ЭТАПЫ НАУЧНОГО ПОЗН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12D3-C42E-4509-9D3C-F6A16C4230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DAA1-84EB-417A-B0A0-73130F83B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DAE4-C26C-4538-A1D1-DAABEE73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545D-47D9-4B5A-B21B-67EF2288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38DB-7F84-4BEB-8CCF-DA598E048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A5E-13DD-4934-9629-49136263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ABBF-3B26-43CD-827E-49CF56754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6E5-36E1-4841-BE59-4E5027A30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AD2-82F6-45E7-817A-B21C7E44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393-527E-489E-ACEF-E5EABE9FD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BA1F-CBBF-41D1-A9DC-8B0505A7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DA48-9246-4904-8714-70EE8D7F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7B3F-5836-4089-A027-D35C16459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A99B-F28B-4814-B835-C86487FE48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hyperlink" Target="file:///D:/&#1052;&#1040;&#1056;&#1048;&#1053;&#1040;%20&#1044;&#1054;&#1052;/&#1060;&#1048;&#1047;&#1048;&#1050;&#1040;%202010-2011/10%20&#1087;&#1088;&#1086;&#1092;&#1080;&#1083;&#1100;/http.doc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280360" cy="19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10 класс                                      ФИЗИКА И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ОЗНАНИЕ МИ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7"/>
          <p:cNvSpPr/>
          <p:nvPr/>
        </p:nvSpPr>
        <p:spPr>
          <a:xfrm>
            <a:off x="1042920" y="5300640"/>
            <a:ext cx="7705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Чижова Марина Валентин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. Тверь, МОУ СОШ № 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1890360"/>
            <a:ext cx="4680000" cy="42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научная гипотеза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является предположением о том, что существует связь между известным и вновь объясняемым явлением. Но те гипотезы, которые не нашли подтверждения в экспериментах, считаются </a:t>
            </a: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ложными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 и отверга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Ньютон"/>
          <p:cNvPicPr/>
          <p:nvPr/>
        </p:nvPicPr>
        <p:blipFill>
          <a:blip r:embed="rId1"/>
          <a:stretch/>
        </p:blipFill>
        <p:spPr>
          <a:xfrm>
            <a:off x="6227640" y="1916280"/>
            <a:ext cx="2081160" cy="2519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6372360" y="5013360"/>
            <a:ext cx="2303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ial"/>
              </a:rPr>
              <a:t>И. Ньют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Arial"/>
              </a:rPr>
              <a:t>Теор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Галил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вободное падение т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Ньюто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кон Всемирного тяго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4"/>
          <p:cNvSpPr/>
          <p:nvPr/>
        </p:nvSpPr>
        <p:spPr>
          <a:xfrm>
            <a:off x="4500720" y="278136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5"/>
          <p:cNvSpPr/>
          <p:nvPr/>
        </p:nvSpPr>
        <p:spPr>
          <a:xfrm>
            <a:off x="4500720" y="4508640"/>
            <a:ext cx="0" cy="647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24000" y="5157720"/>
            <a:ext cx="84960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ы теории проверяются постоянно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эксперимент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ый является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критерием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ильности те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УНДАМЕНТАЛЬНЫЕ ФИЗИЧЕСКИЕ ТЕОРИ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собенность фундаментальных физических теорий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их преемственности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олее общая теория включает частные, уже известные законы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пределяет границы                           использования предыдущей теори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Заголовок 1" descr=""/>
          <p:cNvPicPr/>
          <p:nvPr/>
        </p:nvPicPr>
        <p:blipFill>
          <a:blip r:embed="rId1"/>
          <a:stretch/>
        </p:blipFill>
        <p:spPr>
          <a:xfrm>
            <a:off x="-195120" y="-6480"/>
            <a:ext cx="9339120" cy="15433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В результате обобщения экспериментальных фактов, а также результатов деятельности людей устанавливаются </a:t>
            </a: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физические законы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— устойчивые повторяющиеся объективные закономерности, существующие в природе. Наиболее важные законы устанавливают связь между физическими величинами, для чего необходимо эти величины измер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0000"/>
                </a:solidFill>
                <a:latin typeface="Arial"/>
              </a:rPr>
              <a:t>Научный метод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, опираясь на опыт, отыскивают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личественны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 (математически формулируемые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законы природы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; открытые законы проверяются практикой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http://markx.narod.ru/pic/poznanie.gi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http://markx.narod.ru/pic/poznanie.gif"/>
          <p:cNvPicPr/>
          <p:nvPr/>
        </p:nvPicPr>
        <p:blipFill>
          <a:blip r:embed="rId3"/>
          <a:stretch/>
        </p:blipFill>
        <p:spPr>
          <a:xfrm>
            <a:off x="0" y="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Заголовок 1" descr=""/>
          <p:cNvPicPr/>
          <p:nvPr/>
        </p:nvPicPr>
        <p:blipFill>
          <a:blip r:embed="rId1"/>
          <a:srcRect l="0" t="13707" r="0" b="10041"/>
          <a:stretch/>
        </p:blipFill>
        <p:spPr>
          <a:xfrm>
            <a:off x="539640" y="1341360"/>
            <a:ext cx="8290080" cy="2808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"/>
          <p:cNvPicPr/>
          <p:nvPr/>
        </p:nvPicPr>
        <p:blipFill>
          <a:blip r:embed="rId2"/>
          <a:stretch/>
        </p:blipFill>
        <p:spPr>
          <a:xfrm>
            <a:off x="179280" y="4437000"/>
            <a:ext cx="7324920" cy="1542960"/>
          </a:xfrm>
          <a:prstGeom prst="rect">
            <a:avLst/>
          </a:prstGeom>
          <a:ln w="0">
            <a:noFill/>
          </a:ln>
        </p:spPr>
      </p:pic>
      <p:sp>
        <p:nvSpPr>
          <p:cNvPr id="114" name="Прямоугольник 12"/>
          <p:cNvSpPr/>
          <p:nvPr/>
        </p:nvSpPr>
        <p:spPr>
          <a:xfrm>
            <a:off x="7524720" y="4437000"/>
            <a:ext cx="138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Б и 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А и 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  <a:ea typeface="Arial"/>
              </a:rPr>
              <a:t>В и 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ЗМЫ ДЛЯ ПРОВЕДЕНИЯ ОПЫТА ДОЛЖНЫ БЫТЬ ОДИНАКОВЫМИ, Т.Е. УГОЛ ПРИ ВЕРШИНЕ РАВН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ОТЕТСВЕННО УГЛЫ ПАДЕНИЯ БУДУТ РАЗЛЧИНЫ В СЛУЧА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Б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ПОМНИТЕ, КАК ПОСТРОИТЬ УГОЛ ПА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08000" y="1341360"/>
            <a:ext cx="3959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ЕГЭ 2009,А7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ФОТОГРАФИИ ПОКАЗАНА УСТАНОВКА ДЛЯ ИССЛЕДОВАНИЯ РАВНОУС-КОРЕННОГО СКОЛЬЖЕНИЯ КАРЕТКИ (1) МАССОЙ 0,1 КГ ПО НАКЛОННОЙ ПЛОСКОСТИ, УСТАНОВЛЕННОЙ ПОД УГЛОМ 3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ГОРИЗОН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4211640" y="1197000"/>
            <a:ext cx="4932360" cy="38163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5"/>
          <p:cNvSpPr/>
          <p:nvPr/>
        </p:nvSpPr>
        <p:spPr>
          <a:xfrm>
            <a:off x="0" y="3860640"/>
            <a:ext cx="4608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момент начала движения верхний датчик (А) включает секундомер (2), а при  прохождении каретки мимо нижнего датчика (В) секундомер выключается. Числа на линейке обозначают длину в см. Какое выражение описывает зависимость скорости каретки от времен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11"/>
          <p:cNvSpPr/>
          <p:nvPr/>
        </p:nvSpPr>
        <p:spPr>
          <a:xfrm>
            <a:off x="4932360" y="4941720"/>
            <a:ext cx="2162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2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0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2,5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Ʋ</a:t>
            </a:r>
            <a:r>
              <a:rPr b="1" i="1" lang="el-GR" sz="2400" spc="-1" strike="noStrike">
                <a:solidFill>
                  <a:srgbClr val="ff0000"/>
                </a:solidFill>
                <a:latin typeface="Constantia"/>
                <a:ea typeface="Arial"/>
              </a:rPr>
              <a:t> = 1,9</a:t>
            </a:r>
            <a:r>
              <a:rPr b="1" i="1" lang="en-US" sz="2400" spc="-1" strike="noStrike">
                <a:solidFill>
                  <a:srgbClr val="ff0000"/>
                </a:solidFill>
                <a:latin typeface="Constantia"/>
                <a:ea typeface="Arial"/>
              </a:rPr>
              <a:t>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ЙТЕ ФОРМУЛУ РАВНОУСКОРЕННОГО ДВИЖЕНИЯ БЕЗ НАЧАЛЬНОЙ СКОР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=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t</a:t>
            </a:r>
            <a:r>
              <a:rPr b="1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ХОДИТЕ УСКОРЕНИЕ 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1,25 м/с</a:t>
            </a:r>
            <a:r>
              <a:rPr b="1" lang="ru-RU" sz="3200" spc="-1" strike="noStrike" u="sng" baseline="30000">
                <a:solidFill>
                  <a:srgbClr val="ff0000"/>
                </a:solidFill>
                <a:uFillTx/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ЗАПИСЫВАЕТЕ УРАВНЕНИЕ СКОРОСТИ ОТ ВРЕМЕНИ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Ʋ</a:t>
            </a:r>
            <a:r>
              <a:rPr b="0" lang="ru-RU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 +</a:t>
            </a:r>
            <a:r>
              <a:rPr b="0" lang="el-G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ɑ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Ʋ</a:t>
            </a:r>
            <a:r>
              <a:rPr b="1" lang="el-GR" sz="3200" spc="-1" strike="noStrike" u="sng">
                <a:solidFill>
                  <a:srgbClr val="ff0000"/>
                </a:solidFill>
                <a:uFillTx/>
                <a:latin typeface="Arial"/>
              </a:rPr>
              <a:t> = 1,25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РЕШ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17040" cy="2638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9067680" cy="11905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500720" y="4149720"/>
            <a:ext cx="23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3"/>
          <a:srcRect l="50020" t="0" r="23777" b="0"/>
          <a:stretch/>
        </p:blipFill>
        <p:spPr>
          <a:xfrm>
            <a:off x="4500720" y="4292640"/>
            <a:ext cx="2376360" cy="119052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УНДАМЕНТАЛЬНЫЕ ВЗАИМОДЕЙСТВ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0" y="1341360"/>
            <a:ext cx="8964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Все бесконечное разнообразие физических процессов, происходящих в нашем мире, можно объяснить существованием в природе очень малого количества фундаментальных взаимодейств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Organization Chart 4"/>
          <p:cNvGrpSpPr/>
          <p:nvPr/>
        </p:nvGrpSpPr>
        <p:grpSpPr>
          <a:xfrm>
            <a:off x="179280" y="3068640"/>
            <a:ext cx="8856360" cy="3353400"/>
            <a:chOff x="179280" y="3068640"/>
            <a:chExt cx="8856360" cy="3353400"/>
          </a:xfrm>
        </p:grpSpPr>
        <p:cxnSp>
          <p:nvCxnSpPr>
            <p:cNvPr id="137" name="_s1028"/>
            <p:cNvCxnSpPr>
              <a:stCxn id="138" idx="0"/>
              <a:endCxn id="139" idx="2"/>
            </p:cNvCxnSpPr>
            <p:nvPr/>
          </p:nvCxnSpPr>
          <p:spPr>
            <a:xfrm flipV="1" rot="16200000">
              <a:off x="5937120" y="2782080"/>
              <a:ext cx="763200" cy="34657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1029"/>
            <p:cNvCxnSpPr>
              <a:stCxn id="141" idx="0"/>
              <a:endCxn id="139" idx="2"/>
            </p:cNvCxnSpPr>
            <p:nvPr/>
          </p:nvCxnSpPr>
          <p:spPr>
            <a:xfrm flipV="1" rot="16200000">
              <a:off x="4789080" y="3930120"/>
              <a:ext cx="763200" cy="116964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2" name="_s1030"/>
            <p:cNvCxnSpPr>
              <a:stCxn id="143" idx="0"/>
              <a:endCxn id="139" idx="2"/>
            </p:cNvCxnSpPr>
            <p:nvPr/>
          </p:nvCxnSpPr>
          <p:spPr>
            <a:xfrm flipH="1" flipV="1" rot="5400000">
              <a:off x="3641040" y="3951360"/>
              <a:ext cx="763200" cy="112752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4" name="_s1031"/>
            <p:cNvCxnSpPr>
              <a:stCxn id="145" idx="0"/>
              <a:endCxn id="139" idx="2"/>
            </p:cNvCxnSpPr>
            <p:nvPr/>
          </p:nvCxnSpPr>
          <p:spPr>
            <a:xfrm flipH="1" flipV="1" rot="5400000">
              <a:off x="2493000" y="2802960"/>
              <a:ext cx="763200" cy="3423960"/>
            </a:xfrm>
            <a:prstGeom prst="bentConnector3">
              <a:avLst>
                <a:gd name="adj1" fmla="val 149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9" name="_s1032"/>
            <p:cNvSpPr/>
            <p:nvPr/>
          </p:nvSpPr>
          <p:spPr>
            <a:xfrm>
              <a:off x="2914920" y="3068640"/>
              <a:ext cx="3339000" cy="10652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Взаимодейств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_s1033"/>
            <p:cNvSpPr/>
            <p:nvPr/>
          </p:nvSpPr>
          <p:spPr>
            <a:xfrm>
              <a:off x="17928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Гравита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цион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1034"/>
            <p:cNvSpPr/>
            <p:nvPr/>
          </p:nvSpPr>
          <p:spPr>
            <a:xfrm>
              <a:off x="247536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Электро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0000"/>
                  </a:solidFill>
                  <a:latin typeface="Arial"/>
                </a:rPr>
                <a:t>магнит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5"/>
            <p:cNvSpPr/>
            <p:nvPr/>
          </p:nvSpPr>
          <p:spPr>
            <a:xfrm>
              <a:off x="477144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ильн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36"/>
            <p:cNvSpPr/>
            <p:nvPr/>
          </p:nvSpPr>
          <p:spPr>
            <a:xfrm>
              <a:off x="7067520" y="4896720"/>
              <a:ext cx="1968120" cy="152532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Слабо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ЗУЧАЕТ ФИЗ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1"/>
          <p:cNvPicPr/>
          <p:nvPr/>
        </p:nvPicPr>
        <p:blipFill>
          <a:blip r:embed="rId1"/>
          <a:stretch/>
        </p:blipFill>
        <p:spPr>
          <a:xfrm>
            <a:off x="250920" y="1268280"/>
            <a:ext cx="5184720" cy="48405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5724360" y="1773360"/>
            <a:ext cx="3024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 Black"/>
              </a:rPr>
              <a:t>Физика изучает мир, в котором мы живем, явления, в нем происходящие, открывает законы, которым подчиняются все эти явления, устанавливает их взаимосвяз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ГРАВИТАЦИОН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52" descr="_11"/>
          <p:cNvPicPr/>
          <p:nvPr/>
        </p:nvPicPr>
        <p:blipFill>
          <a:blip r:embed="rId1"/>
          <a:stretch/>
        </p:blipFill>
        <p:spPr>
          <a:xfrm>
            <a:off x="324000" y="1557360"/>
            <a:ext cx="4897440" cy="36990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5435640" y="278136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масс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435640" y="4653000"/>
            <a:ext cx="33829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равито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ЭЛЕКТРОМАГНИТНО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5292720" y="148428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Бесконечно больш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5435640" y="3068640"/>
            <a:ext cx="3382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телами, имеющими заря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435640" y="465300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Фот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ДАЛЬН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Magnet0873"/>
          <p:cNvPicPr/>
          <p:nvPr/>
        </p:nvPicPr>
        <p:blipFill>
          <a:blip r:embed="rId1"/>
          <a:stretch/>
        </p:blipFill>
        <p:spPr>
          <a:xfrm>
            <a:off x="0" y="1268280"/>
            <a:ext cx="3313080" cy="2224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Картинка 8 из 1768"/>
          <p:cNvPicPr/>
          <p:nvPr/>
        </p:nvPicPr>
        <p:blipFill>
          <a:blip r:embed="rId2"/>
          <a:stretch/>
        </p:blipFill>
        <p:spPr>
          <a:xfrm>
            <a:off x="539640" y="2205000"/>
            <a:ext cx="3456000" cy="2592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Картинка 96 из 1768"/>
          <p:cNvPicPr/>
          <p:nvPr/>
        </p:nvPicPr>
        <p:blipFill>
          <a:blip r:embed="rId3"/>
          <a:stretch/>
        </p:blipFill>
        <p:spPr>
          <a:xfrm>
            <a:off x="1547640" y="2924280"/>
            <a:ext cx="3816360" cy="28083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ИЛЬН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фм (фемтометр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5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435640" y="2492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-Между нуклонам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эл. частица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435640" y="371628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лю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эл. частиц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611280" y="5661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Формула Эйншейна"/>
          <p:cNvPicPr/>
          <p:nvPr/>
        </p:nvPicPr>
        <p:blipFill>
          <a:blip r:embed="rId1"/>
          <a:stretch/>
        </p:blipFill>
        <p:spPr>
          <a:xfrm>
            <a:off x="2124000" y="6093000"/>
            <a:ext cx="1511280" cy="420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152712400053405a9d365b9ca4d042baf0cc5080fe"/>
          <p:cNvPicPr/>
          <p:nvPr/>
        </p:nvPicPr>
        <p:blipFill>
          <a:blip r:embed="rId2"/>
          <a:stretch/>
        </p:blipFill>
        <p:spPr>
          <a:xfrm>
            <a:off x="179280" y="1341360"/>
            <a:ext cx="3168720" cy="2938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3"/>
          <a:stretch/>
        </p:blipFill>
        <p:spPr>
          <a:xfrm>
            <a:off x="684360" y="2205000"/>
            <a:ext cx="4679640" cy="3510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5364000" y="5300640"/>
            <a:ext cx="33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СТАБИЛЬНОСТЬ ЯДРА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1" descr="142"/>
          <p:cNvPicPr/>
          <p:nvPr/>
        </p:nvPicPr>
        <p:blipFill>
          <a:blip r:embed="rId4"/>
          <a:stretch/>
        </p:blipFill>
        <p:spPr>
          <a:xfrm>
            <a:off x="900000" y="1341360"/>
            <a:ext cx="7201080" cy="512460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СЛАБОЕ (ЯДЕРНОЕ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5292720" y="1484280"/>
            <a:ext cx="338292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Радиус действия, 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 ам (аттометр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, 10</a:t>
            </a:r>
            <a:r>
              <a:rPr b="1" lang="ru-RU" sz="2000" spc="-1" strike="noStrike" baseline="30000">
                <a:solidFill>
                  <a:srgbClr val="ff0000"/>
                </a:solidFill>
                <a:latin typeface="Arial"/>
              </a:rPr>
              <a:t>-17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5435640" y="3068640"/>
            <a:ext cx="338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Место взаимодействия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–Между квар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5435640" y="3789360"/>
            <a:ext cx="3382920" cy="11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ереносчик взаимо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озо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250920" y="595008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КОРТКОДЕЙСТВУЮЩЕ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5364000" y="5013360"/>
            <a:ext cx="352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адиоактивный распад ура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реакции термоядерного синтеза на Солнц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1"/>
          <p:cNvPicPr/>
          <p:nvPr/>
        </p:nvPicPr>
        <p:blipFill>
          <a:blip r:embed="rId1"/>
          <a:stretch/>
        </p:blipFill>
        <p:spPr>
          <a:xfrm>
            <a:off x="468360" y="1268280"/>
            <a:ext cx="4240080" cy="4525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Удивительный мир внутри атомного ядра. Лекция для школьников атом,протон, кварки, масса"/>
          <p:cNvPicPr/>
          <p:nvPr/>
        </p:nvPicPr>
        <p:blipFill>
          <a:blip r:embed="rId2"/>
          <a:stretch/>
        </p:blipFill>
        <p:spPr>
          <a:xfrm>
            <a:off x="395280" y="177336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Рисунок 13" descr="длина"/>
          <p:cNvPicPr/>
          <p:nvPr/>
        </p:nvPicPr>
        <p:blipFill>
          <a:blip r:embed="rId1"/>
          <a:stretch/>
        </p:blipFill>
        <p:spPr>
          <a:xfrm>
            <a:off x="971640" y="1413000"/>
            <a:ext cx="7343640" cy="2273040"/>
          </a:xfrm>
          <a:prstGeom prst="rect">
            <a:avLst/>
          </a:prstGeom>
          <a:ln w="25560">
            <a:solidFill>
              <a:srgbClr val="ff00ff"/>
            </a:solidFill>
            <a:miter/>
          </a:ln>
        </p:spPr>
      </p:pic>
      <p:sp>
        <p:nvSpPr>
          <p:cNvPr id="185" name="Text Box 4"/>
          <p:cNvSpPr/>
          <p:nvPr/>
        </p:nvSpPr>
        <p:spPr>
          <a:xfrm>
            <a:off x="0" y="3860640"/>
            <a:ext cx="8964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Длина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ра для измерения расстояния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Метр 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единица длины, равная расстоянию, которое проходит свет в вакууме за время ½ 99 792 458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84360" y="6381720"/>
            <a:ext cx="158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2016000" cy="20001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3095640" y="2133720"/>
            <a:ext cx="60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2aac"/>
                </a:solidFill>
                <a:latin typeface="Arial"/>
              </a:rPr>
              <a:t>Время – мера измерение разных промежутков времени</a:t>
            </a:r>
            <a:r>
              <a:rPr b="1" lang="ru-RU" sz="2400" spc="-1" strike="noStrike">
                <a:solidFill>
                  <a:srgbClr val="332aa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643280" y="141300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ВРЕМ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Рисунок 30" descr="10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216000" y="3357720"/>
            <a:ext cx="8604000" cy="22510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>
            <a:off x="179280" y="566100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Секунда – эта единица времени, равная 9 192 631 770 периодам излучения изотопа атома цезия – 13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-1065240" y="5897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468360" y="6491160"/>
            <a:ext cx="1582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.\..\http.do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ФИЗИЧЕСКИЕ ВЕЛИЧИНЫ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2843280" y="119700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А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Рисунок 32" descr="7"/>
          <p:cNvPicPr/>
          <p:nvPr/>
        </p:nvPicPr>
        <p:blipFill>
          <a:blip r:embed="rId1"/>
          <a:stretch/>
        </p:blipFill>
        <p:spPr>
          <a:xfrm>
            <a:off x="162000" y="1628640"/>
            <a:ext cx="8982000" cy="227016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5"/>
          <p:cNvGrpSpPr/>
          <p:nvPr/>
        </p:nvGrpSpPr>
        <p:grpSpPr>
          <a:xfrm>
            <a:off x="-541440" y="3933720"/>
            <a:ext cx="10080720" cy="1824120"/>
            <a:chOff x="-541440" y="3933720"/>
            <a:chExt cx="10080720" cy="1824120"/>
          </a:xfrm>
        </p:grpSpPr>
        <p:sp>
          <p:nvSpPr>
            <p:cNvPr id="201" name="AutoShape 6"/>
            <p:cNvSpPr/>
            <p:nvPr/>
          </p:nvSpPr>
          <p:spPr>
            <a:xfrm>
              <a:off x="-541440" y="3933720"/>
              <a:ext cx="10080720" cy="182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7"/>
            <p:cNvSpPr/>
            <p:nvPr/>
          </p:nvSpPr>
          <p:spPr>
            <a:xfrm>
              <a:off x="249120" y="4611600"/>
              <a:ext cx="118440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Arial"/>
                </a:rPr>
                <a:t>Масс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8"/>
            <p:cNvSpPr/>
            <p:nvPr/>
          </p:nvSpPr>
          <p:spPr>
            <a:xfrm>
              <a:off x="2225160" y="3933720"/>
              <a:ext cx="4942080" cy="406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количества вещества и энерг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9"/>
            <p:cNvSpPr/>
            <p:nvPr/>
          </p:nvSpPr>
          <p:spPr>
            <a:xfrm>
              <a:off x="2225160" y="4611600"/>
              <a:ext cx="494208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инерт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10"/>
            <p:cNvSpPr/>
            <p:nvPr/>
          </p:nvSpPr>
          <p:spPr>
            <a:xfrm>
              <a:off x="2225160" y="5289840"/>
              <a:ext cx="5891400" cy="33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0000"/>
                  </a:solidFill>
                  <a:latin typeface="Arial"/>
                </a:rPr>
                <a:t>Мера гравитационных свойств матери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V="1">
              <a:off x="1435320" y="4068720"/>
              <a:ext cx="789840" cy="54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>
              <a:off x="1435320" y="4882320"/>
              <a:ext cx="78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>
              <a:off x="1435320" y="5018400"/>
              <a:ext cx="789840" cy="54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Text Box 14"/>
          <p:cNvSpPr/>
          <p:nvPr/>
        </p:nvSpPr>
        <p:spPr>
          <a:xfrm>
            <a:off x="216000" y="5661000"/>
            <a:ext cx="8928000" cy="112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2aac"/>
                </a:solidFill>
                <a:latin typeface="Arial"/>
              </a:rPr>
              <a:t>Килограмм – единица массы, равная массе международного эталона килограмма</a:t>
            </a:r>
            <a:r>
              <a:rPr b="1" lang="ru-RU" sz="2000" spc="-1" strike="noStrike">
                <a:solidFill>
                  <a:srgbClr val="332aac"/>
                </a:solidFill>
                <a:latin typeface="Arial"/>
              </a:rPr>
              <a:t>  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риблизительно равен массе 1 л чистой воды при 15 </a:t>
            </a:r>
            <a:r>
              <a:rPr b="1" lang="ru-RU" sz="1800" spc="-1" strike="noStrike" baseline="30000">
                <a:solidFill>
                  <a:srgbClr val="ffff00"/>
                </a:solidFill>
                <a:latin typeface="Arial"/>
              </a:rPr>
              <a:t>0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одержимое 2"/>
          <p:cNvSpPr/>
          <p:nvPr/>
        </p:nvSpPr>
        <p:spPr>
          <a:xfrm>
            <a:off x="108000" y="1413000"/>
            <a:ext cx="892800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сть действие, выполняемое с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мощью средств измерен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хождения значения физической величин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принятых единиц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ям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епосредственно из опытных данных. Например: измерение напряжения при помощи вольтметр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68720" cy="33908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900000" y="2997360"/>
            <a:ext cx="4103640" cy="343692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108000" y="1412640"/>
            <a:ext cx="87120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Косвенное измерение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измерение, при котором искомое значение величины находят на основании известной зависимости между этой величиной и величинами, подвергаемыми прямым измерения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погрешности"/>
          <p:cNvPicPr/>
          <p:nvPr/>
        </p:nvPicPr>
        <p:blipFill>
          <a:blip r:embed="rId1"/>
          <a:stretch/>
        </p:blipFill>
        <p:spPr>
          <a:xfrm>
            <a:off x="1547640" y="3284640"/>
            <a:ext cx="1365480" cy="14698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5364000" y="378936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ρ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/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4643280" y="5013360"/>
            <a:ext cx="34578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весы с разновесом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мерный цилиндр (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7"/>
          <p:cNvSpPr/>
          <p:nvPr/>
        </p:nvSpPr>
        <p:spPr>
          <a:xfrm>
            <a:off x="539640" y="5084640"/>
            <a:ext cx="3457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спользовать амперметр и вольтметр для измерения силы тока и на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1835280" y="2565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меры – измерение сопротивления проводника и плотности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ЗМЕР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108000" y="1484280"/>
            <a:ext cx="8856720" cy="42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ценка отклонения величин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змеренного значения величины от её истинного значения. Погрешность измерения являетс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арактеристикой (мерой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ност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огрешность измерительного прибора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показанием прибора и истинным значением измеряемой велич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огрешность измерения равна половине цены деления приб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бсолютная погрешность измерения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.)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разность между действительным и истинным значениями измеряемой величин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.=Хд. - Х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bbe0e3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тносительная погрешность измер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δиз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) - отношение абсолютной погрешности измерения к истинному значению измеряемой величины, выраженное в %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1" descr="http://www.prist.ru/infos/articles/general_measurement/equation_12.gif"/>
          <p:cNvPicPr/>
          <p:nvPr/>
        </p:nvPicPr>
        <p:blipFill>
          <a:blip r:embed="rId1"/>
          <a:stretch/>
        </p:blipFill>
        <p:spPr>
          <a:xfrm>
            <a:off x="3497400" y="5365800"/>
            <a:ext cx="2298600" cy="87300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Возникновение физики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5"/>
          <p:cNvPicPr/>
          <p:nvPr/>
        </p:nvPicPr>
        <p:blipFill>
          <a:blip r:embed="rId1"/>
          <a:stretch/>
        </p:blipFill>
        <p:spPr>
          <a:xfrm>
            <a:off x="324000" y="2349360"/>
            <a:ext cx="1981080" cy="25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WordArt 5"/>
          <p:cNvSpPr txBox="1"/>
          <p:nvPr/>
        </p:nvSpPr>
        <p:spPr>
          <a:xfrm>
            <a:off x="250920" y="4869000"/>
            <a:ext cx="2628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ТОЛЕМ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116000" y="1197000"/>
            <a:ext cx="72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Каждый школьник знаком теперь с истинам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за которые Архимед отдал бы жизн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340000" y="3213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Научный дух зародился в Древней Гре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6"/>
          <p:cNvPicPr/>
          <p:nvPr/>
        </p:nvPicPr>
        <p:blipFill>
          <a:blip r:embed="rId2"/>
          <a:stretch/>
        </p:blipFill>
        <p:spPr>
          <a:xfrm>
            <a:off x="6300720" y="2276640"/>
            <a:ext cx="2103480" cy="2622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1" name="WordArt 9"/>
          <p:cNvSpPr txBox="1"/>
          <p:nvPr/>
        </p:nvSpPr>
        <p:spPr>
          <a:xfrm>
            <a:off x="6012000" y="4941720"/>
            <a:ext cx="2628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ГАЛИЛЕЙ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788000" y="5734080"/>
            <a:ext cx="42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 Black"/>
              </a:rPr>
              <a:t>Ученый, положивший начало физике, как нау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Материя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Все то, что существует во Вселенной, независимо от нашего сознания. Материя в нашем мире существует в виде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ещества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 и пол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6120000" cy="26654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Что и как изучает физ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1680" y="1258920"/>
            <a:ext cx="8788320" cy="45370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Эволюция взгляда на физическую картину ми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250920" y="1284120"/>
            <a:ext cx="8785080" cy="52452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tar_refraktor"/>
          <p:cNvPicPr/>
          <p:nvPr/>
        </p:nvPicPr>
        <p:blipFill>
          <a:blip r:embed="rId1"/>
          <a:stretch/>
        </p:blipFill>
        <p:spPr>
          <a:xfrm>
            <a:off x="250920" y="1341360"/>
            <a:ext cx="2560680" cy="313236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0" y="4508640"/>
            <a:ext cx="309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аринный рефра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нз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3708рефлектор Ньютона"/>
          <p:cNvPicPr/>
          <p:nvPr/>
        </p:nvPicPr>
        <p:blipFill>
          <a:blip r:embed="rId2"/>
          <a:stretch/>
        </p:blipFill>
        <p:spPr>
          <a:xfrm>
            <a:off x="3276720" y="2924280"/>
            <a:ext cx="2101680" cy="25858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2771640" y="5445000"/>
            <a:ext cx="295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флектор Ньют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зерка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8" descr="15"/>
          <p:cNvPicPr/>
          <p:nvPr/>
        </p:nvPicPr>
        <p:blipFill>
          <a:blip r:embed="rId3"/>
          <a:stretch/>
        </p:blipFill>
        <p:spPr>
          <a:xfrm>
            <a:off x="5580000" y="2708280"/>
            <a:ext cx="3206880" cy="272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5435640" y="1628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ершина потухшего вулкана Мауна-Кеа высотой 4200 м (остров Гавай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16"/>
          <p:cNvPicPr/>
          <p:nvPr/>
        </p:nvPicPr>
        <p:blipFill>
          <a:blip r:embed="rId1"/>
          <a:stretch/>
        </p:blipFill>
        <p:spPr>
          <a:xfrm>
            <a:off x="395280" y="1341360"/>
            <a:ext cx="4105440" cy="37530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5"/>
          <p:cNvSpPr/>
          <p:nvPr/>
        </p:nvSpPr>
        <p:spPr>
          <a:xfrm>
            <a:off x="395280" y="5229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диотелескоп в Аресибо Пуэрто-Р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7"/>
          <p:cNvPicPr/>
          <p:nvPr/>
        </p:nvPicPr>
        <p:blipFill>
          <a:blip r:embed="rId2"/>
          <a:stretch/>
        </p:blipFill>
        <p:spPr>
          <a:xfrm>
            <a:off x="5219640" y="1773360"/>
            <a:ext cx="3384720" cy="27302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7"/>
          <p:cNvSpPr/>
          <p:nvPr/>
        </p:nvSpPr>
        <p:spPr>
          <a:xfrm>
            <a:off x="4859280" y="508464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овременная спутниковая обсерватория, работающая в инфракрасном диапазо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ТЕХНИЧЕСКИЕ УСТРОЙСТВА ДЛЯ ИЗУЧЕНИЯ ВСЕЛЕННОЙ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ЭТАПЫ НАУЧНОГО ПОЗНАН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4"/>
          <p:cNvPicPr/>
          <p:nvPr/>
        </p:nvPicPr>
        <p:blipFill>
          <a:blip r:embed="rId1"/>
          <a:stretch/>
        </p:blipFill>
        <p:spPr>
          <a:xfrm>
            <a:off x="1763640" y="1341360"/>
            <a:ext cx="5781600" cy="37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755640" y="522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юбопытство. С него все и начало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П. Джеймс, Дж. Мартин  «Все возможные мир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7:00:59Z</dcterms:created>
  <dc:creator>Марина</dc:creator>
  <dc:description/>
  <dc:language>en-US</dc:language>
  <cp:lastModifiedBy>LEGION</cp:lastModifiedBy>
  <dcterms:modified xsi:type="dcterms:W3CDTF">2015-01-13T08:30:29Z</dcterms:modified>
  <cp:revision>12</cp:revision>
  <dc:subject/>
  <dc:title>ФИЗИКА И ПОЗНАНИЕ МИРА</dc:title>
</cp:coreProperties>
</file>