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13.jpeg" ContentType="image/jpeg"/>
  <Override PartName="/ppt/media/image4.png" ContentType="image/png"/>
  <Override PartName="/ppt/media/image24.gif" ContentType="image/gif"/>
  <Override PartName="/ppt/media/image27.png" ContentType="image/png"/>
  <Override PartName="/ppt/media/image12.png" ContentType="image/png"/>
  <Override PartName="/ppt/media/image7.png" ContentType="image/png"/>
  <Override PartName="/ppt/media/image3.gif" ContentType="image/gif"/>
  <Override PartName="/ppt/media/image6.png" ContentType="image/png"/>
  <Override PartName="/ppt/media/image26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121C-1257-41F0-B5A2-98D3E9AA87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slide" Target="../slides/slide18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оева Наталья Михайлов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МАОУНОШ д. Дубовицы Старорус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Новгород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80DB-F5E2-4866-AB60-EC2805732E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Чтобы глаз воору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со звездами друж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Млечный путь увидеть чт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Нужен мощ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96AA-4D05-4B56-A4FD-E25138AC75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Телескопом сотни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зучают жизнь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Нам расскажет обо вс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Умный дяд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E4A0-65C2-4390-802A-1BF7DBA028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вым пересчитать звёзды и ввести числовую оценку их яркости или блеска  попробов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о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веке до н.э. древнегреческий астроном   Гиппар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B99F-A4AA-4189-A926-B5BC421FB3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 1606 году голландские учёные – оптики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оанн Липперсгей и Захарий Янс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умели сделать  зрительную тру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5BFE-31D9-4118-886F-E10EFF4742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вым с помощью телескопа заглянул в глубины Вселенной великий учёный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Галилео Гали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6F68-6A0E-4975-9F3C-53D40C5179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Рефракторы – линзовые телеск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03BD-F840-45FB-B4EC-E0E9188CE6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озвездия на зимнем небоскло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441F-EFC6-4C7A-9E51-E155E84C1F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Автоматические межпланетные 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9814-CAFA-4212-B791-AE980CC5BF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unhome.ru/prose/15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onbass.ua/news/technology/space/2009/08/06/zvezda-pljuetsja-v-nebo-fot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nhome.ru/tags/publications/звезды+гиг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is.3dn.ru/load/31-3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strogalaxy.ru/736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karaoke.ru/user/Nektok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dfon.ru/wallpaper/43024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ovestilizator.bestpersons.ru/feed/post8413951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laneta.rambler.ru/community/astrologica/47938398.html?parent_id=4794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ff"/>
                </a:solidFill>
                <a:uFillTx/>
                <a:latin typeface="Calibri"/>
              </a:rPr>
              <a:t>http://ru.wikipedia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A386-54E1-4336-8B00-92C533AEE7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«Небесный свод горящий славой звёздной,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           Таинственно глядит из глубины,-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мы плывём, пылающею бездной,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о всех сторон окружены»               Фёдор Тютч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7E17-E151-4B10-84B8-DBE5FD7315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Из чего состоят звёз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Что такое наше Солнц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Полетит ли человек к другим галактик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Одиноки 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мы 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селен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A331-77C9-4026-9920-FF21413539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строномия (греч. astronomía, от астро и nómos — закон), наука о строении и развитии космических тел, их систем и Вселенной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(Большая Советская Энциклопед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8DA7-A377-4FE9-B554-7CF675DAC9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Урания– муза астроно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E8D0-8F8A-4128-B538-C8E69CC7D6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амые горячие звёзды  голубого  цвета, другие, менее горячие – крас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2806-51F1-41C8-A4D4-3E0238B984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Есть звёзды – гиганты, а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звё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C3B5-1BDC-41BA-8139-EC14647E8B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A9F-78DA-4B43-9786-01DDAF5A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599-E0F4-4E23-83EB-E2C0362C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61B-D79E-4CBC-A8DA-E8CF65C2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AA6-68B1-44F3-A039-0616592A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3B84-A403-43EF-AC81-1593610C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69CD-F531-4D79-8FFC-6B6D839E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2477-B50D-4C35-9ED3-CC9A2E5E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6F1D-E225-481B-A4D9-735E518A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9F82-79D0-478A-95A8-C3B2CA98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3BAF-C6DF-4937-941F-F3DA5C44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6CC2-CEFA-4B0F-AA01-CF0EBB6C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1A3-A414-499E-B433-1E263258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FB17-6179-40B2-8BF5-8D4D16E2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4319-AB0C-4E22-9151-CE44B672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8331-0454-413E-924C-D9E09496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6F7C-2EAC-4D85-B833-8DE2C278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A9CF-4F88-4303-ABAF-EE276B96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AA95-98F4-4550-A1B3-801AC846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5BE4-3085-40FD-A73B-EA54A1AC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A6E-8295-4D3E-81BF-7C7A2BEB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3049-447E-4359-9DDE-B2FC5CE1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8247-EFDE-4A14-88AE-C04FDE4E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0FB3-BBBB-4E88-97B7-29A86F36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3BE7-AD5E-4E7D-8C4A-9E877F33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6B94-ED1C-4D40-813B-37B36D45FD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3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0210-F156-4965-B223-9153BD6AA6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hyperlink" Target="http://www.sunhome.ru/tags/publications/&#1079;&#1074;&#1077;&#1079;&#1076;&#1099;+&#1075;&#1080;&#1075;&#1072;&#1085;&#1090;&#1099;" TargetMode="External"/><Relationship Id="rId4" Type="http://schemas.openxmlformats.org/officeDocument/2006/relationships/hyperlink" Target="http://sis.3dn.ru/load/31-3-2" TargetMode="External"/><Relationship Id="rId5" Type="http://schemas.openxmlformats.org/officeDocument/2006/relationships/hyperlink" Target="http://www.astrogalaxy.ru/736.html" TargetMode="External"/><Relationship Id="rId6" Type="http://schemas.openxmlformats.org/officeDocument/2006/relationships/hyperlink" Target="http://www.karaoke.ru/user/Nektokto" TargetMode="External"/><Relationship Id="rId7" Type="http://schemas.openxmlformats.org/officeDocument/2006/relationships/hyperlink" Target="http://www.goodfon.ru/wallpaper/43024.html" TargetMode="External"/><Relationship Id="rId8" Type="http://schemas.openxmlformats.org/officeDocument/2006/relationships/hyperlink" Target="http://sovestilizator.bestpersons.ru/feed/post8413951/" TargetMode="External"/><Relationship Id="rId9" Type="http://schemas.openxmlformats.org/officeDocument/2006/relationships/hyperlink" Target="http://planeta.rambler.ru/community/astrologica/47938398.html?parent_id=47941000" TargetMode="External"/><Relationship Id="rId10" Type="http://schemas.openxmlformats.org/officeDocument/2006/relationships/hyperlink" Target="http://ru.wikipedia.org/" TargetMode="External"/><Relationship Id="rId11" Type="http://schemas.openxmlformats.org/officeDocument/2006/relationships/hyperlink" Target="http://images.yandex.ru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6.xml"/><Relationship Id="rId4" Type="http://schemas.openxmlformats.org/officeDocument/2006/relationships/slide" Target="slide10.xml"/><Relationship Id="rId5" Type="http://schemas.openxmlformats.org/officeDocument/2006/relationships/slide" Target="slide3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79280" y="4149360"/>
            <a:ext cx="64008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оева Наталья Михайл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МАОУНОШ д. Дубовицы Старорус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овгород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55640" y="256536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блюдательная астроно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050920" y="259920"/>
            <a:ext cx="5554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тобы глаз воо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 со звездами др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Млечный путь увидеть чт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ужен мощ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427640" y="3429000"/>
            <a:ext cx="19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653440" y="198900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леск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Drawn_wallpapers_Vector_Wallpapers_Telescope_015787_"/>
          <p:cNvPicPr/>
          <p:nvPr/>
        </p:nvPicPr>
        <p:blipFill>
          <a:blip r:embed="rId1"/>
          <a:stretch/>
        </p:blipFill>
        <p:spPr>
          <a:xfrm>
            <a:off x="1706400" y="2724120"/>
            <a:ext cx="5164200" cy="3902040"/>
          </a:xfrm>
          <a:prstGeom prst="rect">
            <a:avLst/>
          </a:prstGeom>
          <a:ln w="0">
            <a:noFill/>
          </a:ln>
        </p:spPr>
      </p:pic>
      <p:sp>
        <p:nvSpPr>
          <p:cNvPr id="175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708000" y="836640"/>
            <a:ext cx="5194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Телескопом сотни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зучают жизнь пл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ам расскажет обо в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Умный дяд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588720" y="249228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стр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аст"/>
          <p:cNvPicPr/>
          <p:nvPr/>
        </p:nvPicPr>
        <p:blipFill>
          <a:blip r:embed="rId1"/>
          <a:stretch/>
        </p:blipFill>
        <p:spPr>
          <a:xfrm>
            <a:off x="353880" y="3316320"/>
            <a:ext cx="3468960" cy="3402000"/>
          </a:xfrm>
          <a:prstGeom prst="rect">
            <a:avLst/>
          </a:prstGeom>
          <a:ln w="0">
            <a:noFill/>
          </a:ln>
        </p:spPr>
      </p:pic>
      <p:sp>
        <p:nvSpPr>
          <p:cNvPr id="180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7"/>
          <p:cNvSpPr/>
          <p:nvPr/>
        </p:nvSpPr>
        <p:spPr>
          <a:xfrm>
            <a:off x="4427640" y="260280"/>
            <a:ext cx="4500360" cy="3993480"/>
          </a:xfrm>
          <a:prstGeom prst="rect">
            <a:avLst/>
          </a:prstGeom>
          <a:gradFill rotWithShape="0">
            <a:gsLst>
              <a:gs pos="0">
                <a:srgbClr val="107b9e"/>
              </a:gs>
              <a:gs pos="100000">
                <a:srgbClr val="24d4ff"/>
              </a:gs>
            </a:gsLst>
            <a:lin ang="162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ервым пересчитать звёзды и ввести числовую оценку их яркости или блеска  попробов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веке до н.э. древнегреческий астроном   Гиппар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http://im2-tub-ru.yandex.net/i?id=11134387-17-72"/>
          <p:cNvPicPr/>
          <p:nvPr/>
        </p:nvPicPr>
        <p:blipFill>
          <a:blip r:embed="rId1"/>
          <a:stretch/>
        </p:blipFill>
        <p:spPr>
          <a:xfrm>
            <a:off x="158760" y="1895400"/>
            <a:ext cx="3895560" cy="4743360"/>
          </a:xfrm>
          <a:prstGeom prst="rect">
            <a:avLst/>
          </a:prstGeom>
          <a:ln w="0">
            <a:noFill/>
          </a:ln>
        </p:spPr>
      </p:pic>
      <p:sp>
        <p:nvSpPr>
          <p:cNvPr id="18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Users\Светлана\Desktop\картинки\липперсгей 1655.jpg"/>
          <p:cNvPicPr/>
          <p:nvPr/>
        </p:nvPicPr>
        <p:blipFill>
          <a:blip r:embed="rId1"/>
          <a:stretch/>
        </p:blipFill>
        <p:spPr>
          <a:xfrm>
            <a:off x="665280" y="2835360"/>
            <a:ext cx="2962080" cy="3535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Светлана\Desktop\картинки\янин.jpg"/>
          <p:cNvPicPr/>
          <p:nvPr/>
        </p:nvPicPr>
        <p:blipFill>
          <a:blip r:embed="rId2"/>
          <a:stretch/>
        </p:blipFill>
        <p:spPr>
          <a:xfrm>
            <a:off x="3906720" y="2908440"/>
            <a:ext cx="2927520" cy="3492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5"/>
          <p:cNvSpPr/>
          <p:nvPr/>
        </p:nvSpPr>
        <p:spPr>
          <a:xfrm>
            <a:off x="0" y="692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В 1606 году голландские учёные – оптики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Иоанн Липперсгей и Захарий Янс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сумели сделать  зрительную труб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ервым с помощью телескопа заглянул в глубины Вселенной великий учёный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Галилео Гали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Файл:Galileo Galilei 2.jpg"/>
          <p:cNvPicPr/>
          <p:nvPr/>
        </p:nvPicPr>
        <p:blipFill>
          <a:blip r:embed="rId1"/>
          <a:stretch/>
        </p:blipFill>
        <p:spPr>
          <a:xfrm>
            <a:off x="2462040" y="1609560"/>
            <a:ext cx="3999240" cy="505332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фракторы – линзовые телеско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Users\Светлана\Desktop\картинки\рефрактор 3.jpg"/>
          <p:cNvPicPr/>
          <p:nvPr/>
        </p:nvPicPr>
        <p:blipFill>
          <a:blip r:embed="rId1"/>
          <a:stretch/>
        </p:blipFill>
        <p:spPr>
          <a:xfrm>
            <a:off x="6059520" y="3773520"/>
            <a:ext cx="3084480" cy="3084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C:\Users\Светлана\Desktop\картинки\рефрактор1.jpg"/>
          <p:cNvPicPr/>
          <p:nvPr/>
        </p:nvPicPr>
        <p:blipFill>
          <a:blip r:embed="rId2"/>
          <a:stretch/>
        </p:blipFill>
        <p:spPr>
          <a:xfrm>
            <a:off x="3187800" y="1322280"/>
            <a:ext cx="2981160" cy="2292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C:\Users\Светлана\Desktop\картинки\рефрактор2.jpg"/>
          <p:cNvPicPr/>
          <p:nvPr/>
        </p:nvPicPr>
        <p:blipFill>
          <a:blip r:embed="rId3"/>
          <a:stretch/>
        </p:blipFill>
        <p:spPr>
          <a:xfrm>
            <a:off x="250920" y="3357720"/>
            <a:ext cx="2870280" cy="2868480"/>
          </a:xfrm>
          <a:prstGeom prst="rect">
            <a:avLst/>
          </a:prstGeom>
          <a:ln w="0">
            <a:noFill/>
          </a:ln>
        </p:spPr>
      </p:pic>
      <p:sp>
        <p:nvSpPr>
          <p:cNvPr id="199" name="Управляющая кнопка: назад 5">
            <a:hlinkClick r:id="rId4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звездия на зимнем небоскло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6"/>
          <p:cNvPicPr/>
          <p:nvPr/>
        </p:nvPicPr>
        <p:blipFill>
          <a:blip r:embed="rId1"/>
          <a:stretch/>
        </p:blipFill>
        <p:spPr>
          <a:xfrm>
            <a:off x="684360" y="1125360"/>
            <a:ext cx="7273800" cy="5456520"/>
          </a:xfrm>
          <a:prstGeom prst="rect">
            <a:avLst/>
          </a:prstGeom>
          <a:ln w="0">
            <a:noFill/>
          </a:ln>
        </p:spPr>
      </p:pic>
      <p:sp>
        <p:nvSpPr>
          <p:cNvPr id="204" name="Управляющая кнопка: назад 5">
            <a:hlinkClick r:id="rId2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7"/>
          <p:cNvSpPr/>
          <p:nvPr/>
        </p:nvSpPr>
        <p:spPr>
          <a:xfrm>
            <a:off x="250920" y="616572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втоматические межпланетные ст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Express"/>
          <p:cNvPicPr/>
          <p:nvPr/>
        </p:nvPicPr>
        <p:blipFill>
          <a:blip r:embed="rId1"/>
          <a:stretch/>
        </p:blipFill>
        <p:spPr>
          <a:xfrm>
            <a:off x="6278400" y="1036800"/>
            <a:ext cx="2706840" cy="3638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Картинка 1 из 127466"/>
          <p:cNvPicPr/>
          <p:nvPr/>
        </p:nvPicPr>
        <p:blipFill>
          <a:blip r:embed="rId2"/>
          <a:stretch/>
        </p:blipFill>
        <p:spPr>
          <a:xfrm>
            <a:off x="304920" y="2687760"/>
            <a:ext cx="3267000" cy="3225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Картинка 3 из 127466"/>
          <p:cNvPicPr/>
          <p:nvPr/>
        </p:nvPicPr>
        <p:blipFill>
          <a:blip r:embed="rId3"/>
          <a:stretch/>
        </p:blipFill>
        <p:spPr>
          <a:xfrm>
            <a:off x="2828880" y="171360"/>
            <a:ext cx="3059280" cy="2363760"/>
          </a:xfrm>
          <a:prstGeom prst="rect">
            <a:avLst/>
          </a:prstGeom>
          <a:ln w="0">
            <a:noFill/>
          </a:ln>
        </p:spPr>
      </p:pic>
      <p:sp>
        <p:nvSpPr>
          <p:cNvPr id="210" name="Управляющая кнопка: назад 5">
            <a:hlinkClick r:id="rId4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home.ru/prose/153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nbass.ua/news/technology/space/2009/08/06/zvezda-pljuetsja-v-nebo-fot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nhome.ru/tags/publications/звезды+гиг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is.3dn.ru/load/3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strogalaxy.ru/736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araoke.ru/user/Nektok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oodfon.ru/wallpaper/43024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ovestilizator.bestpersons.ru/feed/post8413951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planeta.rambler.ru/community/astrologica/47938398.html?parent_id=4794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ru.wikipedia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images.yandex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ятно 1 7">
            <a:hlinkClick r:id="rId1" action="ppaction://hlinksldjump"/>
          </p:cNvPr>
          <p:cNvSpPr/>
          <p:nvPr/>
        </p:nvSpPr>
        <p:spPr>
          <a:xfrm>
            <a:off x="3348000" y="189000"/>
            <a:ext cx="2987640" cy="208764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ука астроно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ятно 1 10"/>
          <p:cNvSpPr/>
          <p:nvPr/>
        </p:nvSpPr>
        <p:spPr>
          <a:xfrm>
            <a:off x="5364000" y="2492280"/>
            <a:ext cx="2988000" cy="208908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имние созвез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ятно 1 11"/>
          <p:cNvSpPr/>
          <p:nvPr/>
        </p:nvSpPr>
        <p:spPr>
          <a:xfrm>
            <a:off x="179280" y="2276640"/>
            <a:ext cx="2987640" cy="208908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астрономы и телеско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ятно 1 12">
            <a:hlinkClick r:id="rId5" action="ppaction://hlinksldjump"/>
          </p:cNvPr>
          <p:cNvSpPr/>
          <p:nvPr/>
        </p:nvSpPr>
        <p:spPr>
          <a:xfrm>
            <a:off x="1908000" y="4365720"/>
            <a:ext cx="3311640" cy="223200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автоматические ста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Управляющая кнопка: домой 5">
            <a:hlinkClick r:id="" action="ppaction://hlinkshowjump?jump=lastslide"/>
          </p:cNvPr>
          <p:cNvSpPr/>
          <p:nvPr/>
        </p:nvSpPr>
        <p:spPr>
          <a:xfrm>
            <a:off x="8172360" y="5805360"/>
            <a:ext cx="754200" cy="82548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825480"/>
              <a:gd name="textAreaBottom" fmla="*/ 776880 h 825480"/>
            </a:gdLst>
            <a:ahLst/>
            <a:rect l="textAreaLeft" t="textAreaTop" r="textAreaRight" b="textAreaBottom"/>
            <a:pathLst>
              <a:path w="21600" h="23640">
                <a:moveTo>
                  <a:pt x="0" y="0"/>
                </a:moveTo>
                <a:lnTo>
                  <a:pt x="21600" y="0"/>
                </a:lnTo>
                <a:lnTo>
                  <a:pt x="21600" y="23640"/>
                </a:lnTo>
                <a:lnTo>
                  <a:pt x="0" y="23640"/>
                </a:lnTo>
                <a:close/>
              </a:path>
              <a:path fill="lightenLess" w="21600" h="236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40">
                <a:moveTo>
                  <a:pt x="21600" y="0"/>
                </a:moveTo>
                <a:lnTo>
                  <a:pt x="21600" y="23640"/>
                </a:lnTo>
                <a:lnTo>
                  <a:pt x="20200" y="22240"/>
                </a:lnTo>
                <a:lnTo>
                  <a:pt x="20200" y="1400"/>
                </a:lnTo>
                <a:close/>
              </a:path>
              <a:path fill="darkenLess" w="21600" h="23640">
                <a:moveTo>
                  <a:pt x="21600" y="23640"/>
                </a:moveTo>
                <a:lnTo>
                  <a:pt x="0" y="23640"/>
                </a:lnTo>
                <a:lnTo>
                  <a:pt x="1400" y="22240"/>
                </a:lnTo>
                <a:lnTo>
                  <a:pt x="20200" y="22240"/>
                </a:lnTo>
                <a:close/>
              </a:path>
              <a:path fill="lighten" w="21600" h="23640">
                <a:moveTo>
                  <a:pt x="0" y="236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40"/>
                </a:lnTo>
                <a:close/>
              </a:path>
              <a:path fill="darken" w="21600" h="23640">
                <a:moveTo>
                  <a:pt x="10800" y="4857"/>
                </a:moveTo>
                <a:lnTo>
                  <a:pt x="13376" y="7468"/>
                </a:lnTo>
                <a:lnTo>
                  <a:pt x="13376" y="5728"/>
                </a:lnTo>
                <a:lnTo>
                  <a:pt x="15152" y="5728"/>
                </a:lnTo>
                <a:lnTo>
                  <a:pt x="15152" y="9244"/>
                </a:lnTo>
                <a:lnTo>
                  <a:pt x="17763" y="11820"/>
                </a:lnTo>
                <a:lnTo>
                  <a:pt x="16109" y="11820"/>
                </a:lnTo>
                <a:lnTo>
                  <a:pt x="16109" y="19009"/>
                </a:lnTo>
                <a:lnTo>
                  <a:pt x="5491" y="19009"/>
                </a:lnTo>
                <a:lnTo>
                  <a:pt x="5491" y="11820"/>
                </a:lnTo>
                <a:lnTo>
                  <a:pt x="3837" y="11820"/>
                </a:lnTo>
                <a:close/>
              </a:path>
              <a:path fill="darkenLess" w="21600" h="23640">
                <a:moveTo>
                  <a:pt x="13376" y="7468"/>
                </a:moveTo>
                <a:lnTo>
                  <a:pt x="13376" y="5728"/>
                </a:lnTo>
                <a:lnTo>
                  <a:pt x="15152" y="5728"/>
                </a:lnTo>
                <a:lnTo>
                  <a:pt x="15152" y="9244"/>
                </a:lnTo>
                <a:close/>
              </a:path>
              <a:path fill="darkenLess" w="21600" h="23640">
                <a:moveTo>
                  <a:pt x="9877" y="15319"/>
                </a:moveTo>
                <a:lnTo>
                  <a:pt x="11723" y="15319"/>
                </a:lnTo>
                <a:lnTo>
                  <a:pt x="11723" y="19009"/>
                </a:lnTo>
                <a:lnTo>
                  <a:pt x="16109" y="19009"/>
                </a:lnTo>
                <a:lnTo>
                  <a:pt x="16109" y="11820"/>
                </a:lnTo>
                <a:lnTo>
                  <a:pt x="5491" y="11820"/>
                </a:lnTo>
                <a:lnTo>
                  <a:pt x="5491" y="19009"/>
                </a:lnTo>
                <a:lnTo>
                  <a:pt x="9877" y="1900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Небесный свод горящий славой звёздной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Таинственно глядит из глубины,-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мы плывём, пылающею бездной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 всех сторон окружены»               Фёдор Тютч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Картинка 15 из 68560"/>
          <p:cNvPicPr/>
          <p:nvPr/>
        </p:nvPicPr>
        <p:blipFill>
          <a:blip r:embed="rId1"/>
          <a:stretch/>
        </p:blipFill>
        <p:spPr>
          <a:xfrm>
            <a:off x="1011240" y="1957320"/>
            <a:ext cx="6237360" cy="4692600"/>
          </a:xfrm>
          <a:prstGeom prst="rect">
            <a:avLst/>
          </a:prstGeom>
          <a:ln w="0">
            <a:noFill/>
          </a:ln>
        </p:spPr>
      </p:pic>
      <p:sp>
        <p:nvSpPr>
          <p:cNvPr id="13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0" y="549000"/>
            <a:ext cx="9144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Из чего состоят звёзд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Что такое наше Солнц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олетит ли человек к другим галактика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Одиноки 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мы 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Вселенн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6"/>
          <p:cNvPicPr/>
          <p:nvPr/>
        </p:nvPicPr>
        <p:blipFill>
          <a:blip r:embed="rId1"/>
          <a:stretch/>
        </p:blipFill>
        <p:spPr>
          <a:xfrm>
            <a:off x="3524400" y="2882880"/>
            <a:ext cx="5454360" cy="3683160"/>
          </a:xfrm>
          <a:prstGeom prst="rect">
            <a:avLst/>
          </a:prstGeom>
          <a:ln w="0">
            <a:noFill/>
          </a:ln>
        </p:spPr>
      </p:pic>
      <p:sp>
        <p:nvSpPr>
          <p:cNvPr id="13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17928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785440" cy="201600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строномия (греч. astronomía, от астро и nómos — закон), наука о строении и развитии космических тел, их систем и Вселенной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Большая Советская Энциклопед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611280" y="3141720"/>
            <a:ext cx="7921440" cy="208764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строномия – одна из древнейших и интереснейших наук на земле. Даже в наше время учёные слишком мало знают о том, что представляет собой вся Вселе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рания– муза астроно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Урания"/>
          <p:cNvPicPr/>
          <p:nvPr/>
        </p:nvPicPr>
        <p:blipFill>
          <a:blip r:embed="rId1"/>
          <a:stretch/>
        </p:blipFill>
        <p:spPr>
          <a:xfrm>
            <a:off x="2176560" y="963720"/>
            <a:ext cx="4327560" cy="5754600"/>
          </a:xfrm>
          <a:prstGeom prst="rect">
            <a:avLst/>
          </a:prstGeom>
          <a:ln w="0">
            <a:noFill/>
          </a:ln>
        </p:spPr>
      </p:pic>
      <p:sp>
        <p:nvSpPr>
          <p:cNvPr id="146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1"/>
          <p:cNvPicPr/>
          <p:nvPr/>
        </p:nvPicPr>
        <p:blipFill>
          <a:blip r:embed="rId1"/>
          <a:stretch/>
        </p:blipFill>
        <p:spPr>
          <a:xfrm>
            <a:off x="-42840" y="-42840"/>
            <a:ext cx="3408480" cy="2577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:\Users\Светлана\Desktop\картинки\чёрная дыра 1.jpg"/>
          <p:cNvPicPr/>
          <p:nvPr/>
        </p:nvPicPr>
        <p:blipFill>
          <a:blip r:embed="rId2"/>
          <a:stretch/>
        </p:blipFill>
        <p:spPr>
          <a:xfrm>
            <a:off x="6510240" y="3425760"/>
            <a:ext cx="2640240" cy="284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Users\Светлана\Desktop\картинки\чёрная дыра 2.jpg"/>
          <p:cNvPicPr/>
          <p:nvPr/>
        </p:nvPicPr>
        <p:blipFill>
          <a:blip r:embed="rId3"/>
          <a:stretch/>
        </p:blipFill>
        <p:spPr>
          <a:xfrm>
            <a:off x="3114720" y="2328840"/>
            <a:ext cx="3267000" cy="2627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3635280" y="476280"/>
            <a:ext cx="5275440" cy="45972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уществовала ли планета Фаэт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0" y="3068640"/>
            <a:ext cx="2556000" cy="119124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смические монстр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чёрные ды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24000" y="5661000"/>
            <a:ext cx="4248000" cy="82548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гадочные невидим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коричневые карл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 flipV="1">
            <a:off x="4716360" y="4941360"/>
            <a:ext cx="1798920" cy="1079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2124000" y="3644640"/>
            <a:ext cx="1727280" cy="144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2005-0322cluster-full"/>
          <p:cNvPicPr/>
          <p:nvPr/>
        </p:nvPicPr>
        <p:blipFill>
          <a:blip r:embed="rId1"/>
          <a:stretch/>
        </p:blipFill>
        <p:spPr>
          <a:xfrm>
            <a:off x="1925640" y="1500120"/>
            <a:ext cx="5103720" cy="5052960"/>
          </a:xfrm>
          <a:prstGeom prst="rect">
            <a:avLst/>
          </a:prstGeom>
          <a:ln w="0">
            <a:noFill/>
          </a:ln>
        </p:spPr>
      </p:pic>
      <p:grpSp>
        <p:nvGrpSpPr>
          <p:cNvPr id="159" name="Text Box 7"/>
          <p:cNvGrpSpPr/>
          <p:nvPr/>
        </p:nvGrpSpPr>
        <p:grpSpPr>
          <a:xfrm>
            <a:off x="225360" y="165240"/>
            <a:ext cx="8723520" cy="1127160"/>
            <a:chOff x="225360" y="165240"/>
            <a:chExt cx="8723520" cy="1127160"/>
          </a:xfrm>
        </p:grpSpPr>
        <p:pic>
          <p:nvPicPr>
            <p:cNvPr id="160" name="Text Box 7" descr=""/>
            <p:cNvPicPr/>
            <p:nvPr/>
          </p:nvPicPr>
          <p:blipFill>
            <a:blip r:embed="rId2"/>
            <a:stretch/>
          </p:blipFill>
          <p:spPr>
            <a:xfrm>
              <a:off x="225360" y="165240"/>
              <a:ext cx="87235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4"/>
            <p:cNvSpPr/>
            <p:nvPr/>
          </p:nvSpPr>
          <p:spPr>
            <a:xfrm>
              <a:off x="250920" y="189000"/>
              <a:ext cx="8672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Arial"/>
                </a:rPr>
                <a:t>Самые горячие звёзды  голубого  цвета, другие, менее горячие – красного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Есть звёзды – гиганты, а 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звёзды – кар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2"/>
          <p:cNvPicPr/>
          <p:nvPr/>
        </p:nvPicPr>
        <p:blipFill>
          <a:blip r:embed="rId1"/>
          <a:stretch/>
        </p:blipFill>
        <p:spPr>
          <a:xfrm>
            <a:off x="5508720" y="333360"/>
            <a:ext cx="2879640" cy="2230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5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754200" y="1125360"/>
            <a:ext cx="3141720" cy="642600"/>
          </a:xfrm>
          <a:prstGeom prst="rect">
            <a:avLst/>
          </a:prstGeom>
          <a:gradFill rotWithShape="0">
            <a:gsLst>
              <a:gs pos="0">
                <a:srgbClr val="107b9e"/>
              </a:gs>
              <a:gs pos="100000">
                <a:srgbClr val="24d4ff"/>
              </a:gs>
            </a:gsLst>
            <a:lin ang="162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везда-гиг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493080" y="5013360"/>
            <a:ext cx="3268440" cy="642600"/>
          </a:xfrm>
          <a:prstGeom prst="rect">
            <a:avLst/>
          </a:prstGeom>
          <a:gradFill rotWithShape="0">
            <a:gsLst>
              <a:gs pos="0">
                <a:srgbClr val="107b9e"/>
              </a:gs>
              <a:gs pos="100000">
                <a:srgbClr val="24d4ff"/>
              </a:gs>
            </a:gsLst>
            <a:lin ang="162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везда-кар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Управляющая кнопка: назад 9">
            <a:hlinkClick r:id="rId3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3:44:07Z</dcterms:created>
  <dc:creator>мама</dc:creator>
  <dc:description/>
  <dc:language>en-US</dc:language>
  <cp:lastModifiedBy>LEGION</cp:lastModifiedBy>
  <dcterms:modified xsi:type="dcterms:W3CDTF">2015-01-12T14:16:28Z</dcterms:modified>
  <cp:revision>33</cp:revision>
  <dc:subject/>
  <dc:title>Слайд 1</dc:title>
</cp:coreProperties>
</file>