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26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588D-BCE2-4B2A-B11D-863BF84D51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ева Наталья Михайло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ОУНОШ д. Дубовицы Старорус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овгород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3EC8-889D-418B-A9B9-9FC5B2098D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ужен мощ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5597-BFD6-4E34-B2CC-9D5D8E3C1C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мный дяд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C8D-16A1-4356-806D-2FB3CA1EE0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пересчитать звёзды и ввести числовую оценку их яркости или блеска  попробов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о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еке до н.э. древнегреческий астроном   Гиппа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D56-4943-43BD-8EAD-AEF0ED3E33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606 году голландские учёные – оптик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оанн Липперсгей и Захарий Янс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умели сделать  зрительную тру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8128-2143-47DE-93C9-CC39317172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с помощью телескопа заглянул в глубины Вселенной великий учёный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Галилео Гали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49DE-681C-42FC-A28F-C825D947F2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фракторы – линзовые 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799-D7DD-4C31-AE16-3161B42537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озвездия на зимнем небоск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295A-F83B-4045-AC67-CE999D7A8B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матические межпланетные 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4DDD-C99F-4B11-938B-F0B9A7249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ff"/>
                </a:solidFill>
                <a:uFillTx/>
                <a:latin typeface="Calibri"/>
              </a:rPr>
              <a:t>http://ru.wikipedia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FE93-643F-4056-ACE9-DC22F2D520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«Небесный свод горящий славой звёздной,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 Таинственно глядит из глубины,-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мы плывём, пылающею бездной,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 всех сторон окружены»               Фёдор Тют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A228-64B7-4F52-89A2-664F0B3E40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з чего состоят звё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то такое наше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летит ли человек к другим галактик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диноки 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мы 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селе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6502-534D-4AB2-8EB6-72756594FC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Большая Советская Энциклопед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BDCF-E80D-4892-A2DA-E2085D5D0F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Урания– муза астр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8846-269E-40D2-A64F-7AB24F9F4B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амые горячие звёзды  голубого  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145-AED1-4AAA-9E23-F8A8B94344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417C-8FA3-42CE-A4B5-5FE7CE35E8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176-1A54-413C-BFED-6E9CD26F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248-3740-4828-913A-DE9F7FBC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9BF-1D09-4972-87F3-6A7CE981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658-967A-4D89-893B-A88D20EB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7F8-A401-4C80-A227-AF49CCD6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A8AF-2E67-436A-9952-9A1AE94D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73D2-951A-40E6-AE9B-53370D20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E4AA-8636-4384-A23E-05D196E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AED-2803-4910-80A3-4A96C1F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3B12-CDA5-446B-A494-FE19B1D6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5DC-0976-45AB-90CA-34836FC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AF3-0030-4172-9039-8848AFA5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C56F-06C9-42B2-A846-E8B8955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1EA-92C4-4C01-8C7F-42FC0A1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5AA2-97E3-44B1-A9D3-D9551D1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7A9A-1D04-420B-A4EE-EAABC50C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1465-420B-4153-8435-3BC7430F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654-4192-4C57-A157-DA6A80DF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60A-8CE8-4FC2-9F31-37502D71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1AE-6F8D-4F44-8C92-B6C29F63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F16-4844-4A86-9006-DA9FBC7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0E4-6B3F-4959-97DD-46478BC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A1B-8AB8-4776-AAC5-360FECC1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6C4-31BA-43DE-8C36-587BB42F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4F68-9263-4224-9E19-F7E655BA90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7CB9-D1A1-47F1-B41F-86F2E15F06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hyperlink" Target="http://ru.wikipedia.org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ева Наталья Михайл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АОУНОШ д. Дубовицы Старорус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ов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2565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блюдательная 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ужен мощ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06400" y="2724120"/>
            <a:ext cx="5164200" cy="390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мный дяд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аст"/>
          <p:cNvPicPr/>
          <p:nvPr/>
        </p:nvPicPr>
        <p:blipFill>
          <a:blip r:embed="rId1"/>
          <a:stretch/>
        </p:blipFill>
        <p:spPr>
          <a:xfrm>
            <a:off x="353880" y="3316320"/>
            <a:ext cx="3468960" cy="340200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4427640" y="260280"/>
            <a:ext cx="4500360" cy="399348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ым пересчитать звёзды и ввести числовую оценку их яркости или блеска  попроб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еке до н.э. древнегреческий астроном   Гиппа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2-tub-ru.yandex.net/i?id=11134387-17-72"/>
          <p:cNvPicPr/>
          <p:nvPr/>
        </p:nvPicPr>
        <p:blipFill>
          <a:blip r:embed="rId1"/>
          <a:stretch/>
        </p:blipFill>
        <p:spPr>
          <a:xfrm>
            <a:off x="158760" y="1895400"/>
            <a:ext cx="3895560" cy="47433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Светлана\Desktop\картинки\липперсгей 1655.jpg"/>
          <p:cNvPicPr/>
          <p:nvPr/>
        </p:nvPicPr>
        <p:blipFill>
          <a:blip r:embed="rId1"/>
          <a:stretch/>
        </p:blipFill>
        <p:spPr>
          <a:xfrm>
            <a:off x="665280" y="2835360"/>
            <a:ext cx="2962080" cy="35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ветлана\Desktop\картинки\янин.jpg"/>
          <p:cNvPicPr/>
          <p:nvPr/>
        </p:nvPicPr>
        <p:blipFill>
          <a:blip r:embed="rId2"/>
          <a:stretch/>
        </p:blipFill>
        <p:spPr>
          <a:xfrm>
            <a:off x="3906720" y="2908440"/>
            <a:ext cx="2927520" cy="3492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1606 году голландские учёные – оптик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Иоанн Липперсгей и Захарий Ян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мели сделать  зрительную тру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вым с помощью телескопа заглянул в глубины Вселенной великий учёны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Галилео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Файл:Galileo Galilei 2.jpg"/>
          <p:cNvPicPr/>
          <p:nvPr/>
        </p:nvPicPr>
        <p:blipFill>
          <a:blip r:embed="rId1"/>
          <a:stretch/>
        </p:blipFill>
        <p:spPr>
          <a:xfrm>
            <a:off x="2462040" y="1609560"/>
            <a:ext cx="3999240" cy="505332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фракторы – линзовые теле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Светлана\Desktop\картинки\рефрактор 3.jpg"/>
          <p:cNvPicPr/>
          <p:nvPr/>
        </p:nvPicPr>
        <p:blipFill>
          <a:blip r:embed="rId1"/>
          <a:stretch/>
        </p:blipFill>
        <p:spPr>
          <a:xfrm>
            <a:off x="6059520" y="3773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Desktop\картинки\рефрактор1.jpg"/>
          <p:cNvPicPr/>
          <p:nvPr/>
        </p:nvPicPr>
        <p:blipFill>
          <a:blip r:embed="rId2"/>
          <a:stretch/>
        </p:blipFill>
        <p:spPr>
          <a:xfrm>
            <a:off x="3187800" y="1322280"/>
            <a:ext cx="298116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Desktop\картинки\рефрактор2.jpg"/>
          <p:cNvPicPr/>
          <p:nvPr/>
        </p:nvPicPr>
        <p:blipFill>
          <a:blip r:embed="rId3"/>
          <a:stretch/>
        </p:blipFill>
        <p:spPr>
          <a:xfrm>
            <a:off x="250920" y="3357720"/>
            <a:ext cx="2870280" cy="286848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звездия на зимнем небоск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684360" y="1125360"/>
            <a:ext cx="7273800" cy="545652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назад 5">
            <a:hlinkClick r:id="rId2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250920" y="6165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матические межпланет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Express"/>
          <p:cNvPicPr/>
          <p:nvPr/>
        </p:nvPicPr>
        <p:blipFill>
          <a:blip r:embed="rId1"/>
          <a:stretch/>
        </p:blipFill>
        <p:spPr>
          <a:xfrm>
            <a:off x="6278400" y="1036800"/>
            <a:ext cx="2706840" cy="363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Картинка 1 из 127466"/>
          <p:cNvPicPr/>
          <p:nvPr/>
        </p:nvPicPr>
        <p:blipFill>
          <a:blip r:embed="rId2"/>
          <a:stretch/>
        </p:blipFill>
        <p:spPr>
          <a:xfrm>
            <a:off x="304920" y="2687760"/>
            <a:ext cx="3267000" cy="3225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Картинка 3 из 127466"/>
          <p:cNvPicPr/>
          <p:nvPr/>
        </p:nvPicPr>
        <p:blipFill>
          <a:blip r:embed="rId3"/>
          <a:stretch/>
        </p:blipFill>
        <p:spPr>
          <a:xfrm>
            <a:off x="2828880" y="171360"/>
            <a:ext cx="3059280" cy="2363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ятно 1 7">
            <a:hlinkClick r:id="rId1" action="ppaction://hlinksldjump"/>
          </p:cNvPr>
          <p:cNvSpPr/>
          <p:nvPr/>
        </p:nvSpPr>
        <p:spPr>
          <a:xfrm>
            <a:off x="3348000" y="189000"/>
            <a:ext cx="2987640" cy="208764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ука 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ятно 1 10"/>
          <p:cNvSpPr/>
          <p:nvPr/>
        </p:nvSpPr>
        <p:spPr>
          <a:xfrm>
            <a:off x="5364000" y="2492280"/>
            <a:ext cx="298800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имние созвез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11"/>
          <p:cNvSpPr/>
          <p:nvPr/>
        </p:nvSpPr>
        <p:spPr>
          <a:xfrm>
            <a:off x="179280" y="2276640"/>
            <a:ext cx="298764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строномы и теле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ятно 1 12">
            <a:hlinkClick r:id="rId5" action="ppaction://hlinksldjump"/>
          </p:cNvPr>
          <p:cNvSpPr/>
          <p:nvPr/>
        </p:nvSpPr>
        <p:spPr>
          <a:xfrm>
            <a:off x="1908000" y="4365720"/>
            <a:ext cx="3311640" cy="223200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втоматические 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омой 5">
            <a:hlinkClick r:id="" action="ppaction://hlinkshowjump?jump=lastslide"/>
          </p:cNvPr>
          <p:cNvSpPr/>
          <p:nvPr/>
        </p:nvSpPr>
        <p:spPr>
          <a:xfrm>
            <a:off x="8172360" y="5805360"/>
            <a:ext cx="754200" cy="8254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25480"/>
              <a:gd name="textAreaBottom" fmla="*/ 776880 h 82548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10800" y="4857"/>
                </a:moveTo>
                <a:lnTo>
                  <a:pt x="13376" y="7468"/>
                </a:ln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lnTo>
                  <a:pt x="17763" y="11820"/>
                </a:lnTo>
                <a:lnTo>
                  <a:pt x="16109" y="11820"/>
                </a:lnTo>
                <a:lnTo>
                  <a:pt x="16109" y="19009"/>
                </a:lnTo>
                <a:lnTo>
                  <a:pt x="5491" y="19009"/>
                </a:lnTo>
                <a:lnTo>
                  <a:pt x="5491" y="11820"/>
                </a:lnTo>
                <a:lnTo>
                  <a:pt x="3837" y="11820"/>
                </a:lnTo>
                <a:close/>
              </a:path>
              <a:path fill="darkenLess" w="21600" h="23640">
                <a:moveTo>
                  <a:pt x="13376" y="7468"/>
                </a:move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close/>
              </a:path>
              <a:path fill="darkenLess" w="21600" h="23640">
                <a:moveTo>
                  <a:pt x="9877" y="15319"/>
                </a:moveTo>
                <a:lnTo>
                  <a:pt x="11723" y="15319"/>
                </a:lnTo>
                <a:lnTo>
                  <a:pt x="11723" y="19009"/>
                </a:lnTo>
                <a:lnTo>
                  <a:pt x="16109" y="19009"/>
                </a:lnTo>
                <a:lnTo>
                  <a:pt x="16109" y="11820"/>
                </a:lnTo>
                <a:lnTo>
                  <a:pt x="5491" y="11820"/>
                </a:lnTo>
                <a:lnTo>
                  <a:pt x="5491" y="19009"/>
                </a:lnTo>
                <a:lnTo>
                  <a:pt x="9877" y="1900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Небесный свод горящий славой звёзд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Таинственно глядит из глубины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мы плывём, пылающею бездной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 всех сторон окружены»               Фё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5 из 68560"/>
          <p:cNvPicPr/>
          <p:nvPr/>
        </p:nvPicPr>
        <p:blipFill>
          <a:blip r:embed="rId1"/>
          <a:stretch/>
        </p:blipFill>
        <p:spPr>
          <a:xfrm>
            <a:off x="1011240" y="1957320"/>
            <a:ext cx="6237360" cy="46926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 чего состоят звёз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Что такое наше Солн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етит ли человек к другим галактик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диноки 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ы 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"/>
          <p:cNvPicPr/>
          <p:nvPr/>
        </p:nvPicPr>
        <p:blipFill>
          <a:blip r:embed="rId1"/>
          <a:stretch/>
        </p:blipFill>
        <p:spPr>
          <a:xfrm>
            <a:off x="3524400" y="2882880"/>
            <a:ext cx="5454360" cy="36831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7928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201600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Большая Советская Энциклопе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3141720"/>
            <a:ext cx="7921440" cy="208764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 – одна из древнейших и интереснейших наук на земле. Даже в наше время учёные слишком мало знают о том, что представляет собой вся Всел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ания– муза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Урания"/>
          <p:cNvPicPr/>
          <p:nvPr/>
        </p:nvPicPr>
        <p:blipFill>
          <a:blip r:embed="rId1"/>
          <a:stretch/>
        </p:blipFill>
        <p:spPr>
          <a:xfrm>
            <a:off x="2176560" y="963720"/>
            <a:ext cx="4327560" cy="57546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"/>
          <p:cNvPicPr/>
          <p:nvPr/>
        </p:nvPicPr>
        <p:blipFill>
          <a:blip r:embed="rId1"/>
          <a:stretch/>
        </p:blipFill>
        <p:spPr>
          <a:xfrm>
            <a:off x="-42840" y="-42840"/>
            <a:ext cx="3408480" cy="25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Светлана\Desktop\картинки\чёрная дыра 1.jpg"/>
          <p:cNvPicPr/>
          <p:nvPr/>
        </p:nvPicPr>
        <p:blipFill>
          <a:blip r:embed="rId2"/>
          <a:stretch/>
        </p:blipFill>
        <p:spPr>
          <a:xfrm>
            <a:off x="6510240" y="3425760"/>
            <a:ext cx="264024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Светлана\Desktop\картинки\чёрная дыра 2.jpg"/>
          <p:cNvPicPr/>
          <p:nvPr/>
        </p:nvPicPr>
        <p:blipFill>
          <a:blip r:embed="rId3"/>
          <a:stretch/>
        </p:blipFill>
        <p:spPr>
          <a:xfrm>
            <a:off x="3114720" y="2328840"/>
            <a:ext cx="3267000" cy="2627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35280" y="476280"/>
            <a:ext cx="5275440" cy="45972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ществовала ли планета Фаэ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3068640"/>
            <a:ext cx="2556000" cy="119124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ие монст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чёрные ды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5661000"/>
            <a:ext cx="4248000" cy="82548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гадочные невидим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оричневые кар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16360" y="4941360"/>
            <a:ext cx="179892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2124000" y="3644640"/>
            <a:ext cx="1727280" cy="144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2005-0322cluster-full"/>
          <p:cNvPicPr/>
          <p:nvPr/>
        </p:nvPicPr>
        <p:blipFill>
          <a:blip r:embed="rId1"/>
          <a:stretch/>
        </p:blipFill>
        <p:spPr>
          <a:xfrm>
            <a:off x="1925640" y="1500120"/>
            <a:ext cx="5103720" cy="5052960"/>
          </a:xfrm>
          <a:prstGeom prst="rect">
            <a:avLst/>
          </a:prstGeom>
          <a:ln w="0">
            <a:noFill/>
          </a:ln>
        </p:spPr>
      </p:pic>
      <p:grpSp>
        <p:nvGrpSpPr>
          <p:cNvPr id="159" name="Text Box 7"/>
          <p:cNvGrpSpPr/>
          <p:nvPr/>
        </p:nvGrpSpPr>
        <p:grpSpPr>
          <a:xfrm>
            <a:off x="225360" y="165240"/>
            <a:ext cx="8723520" cy="1127160"/>
            <a:chOff x="225360" y="165240"/>
            <a:chExt cx="8723520" cy="1127160"/>
          </a:xfrm>
        </p:grpSpPr>
        <p:pic>
          <p:nvPicPr>
            <p:cNvPr id="160" name="Text Box 7" descr=""/>
            <p:cNvPicPr/>
            <p:nvPr/>
          </p:nvPicPr>
          <p:blipFill>
            <a:blip r:embed="rId2"/>
            <a:stretch/>
          </p:blipFill>
          <p:spPr>
            <a:xfrm>
              <a:off x="225360" y="165240"/>
              <a:ext cx="8723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50920" y="189000"/>
              <a:ext cx="86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амые горячие звёзды  голубого  цвета, другие, менее горячие – красн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54200" y="1125360"/>
            <a:ext cx="314172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493080" y="5013360"/>
            <a:ext cx="326844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9">
            <a:hlinkClick r:id="rId3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14:16:28Z</dcterms:modified>
  <cp:revision>33</cp:revision>
  <dc:subject/>
  <dc:title>Слайд 1</dc:title>
</cp:coreProperties>
</file>