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A60B-5164-4FA5-ABDC-26608062975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Теория Большого взры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22BD-EE35-45E7-A787-5D2A8F02417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Calibri"/>
              </a:rPr>
              <a:t>Столкновение нашей Галакт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рно через три миллиарда лет наша Галактика столкнётся с Андромедой, так как вот уже почти столетие, как астрономы знают, что обе галактики приближаются друг к другу со скор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00 000 километров в ча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B6C1-9021-4D18-A5AB-D6467015F53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Что было до Большого взры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гласно этой теории, всё наблюдаемое пространство расширяется. Но что же было в самом начале? Всё вещество в Космосе в какой-то начальный момент было сдавлено буквально в ничто - спрессовано в одну-единственную точку. Оно имело фантастически огромную плотность - её практически невозможно себе представить, она выражается числом, в котором после единицы стоят 96 нулей, - и столь же невообразимо высокую температуру. Астрономы назвали такое состояни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ингулярностью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силу каких-то причин это удивительное равновесие было внезапно разрушено действием гравитационных сил - трудно даже вообразить, какими они должны были быть при бесконечно огромной плотности «первовещества"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3EA6-50FD-4C32-8B19-E545C144CC8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Загадки теории Большого взры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Как гласит теория большого взрыва, Вселенная возникла из точки с нулевым объемом и бесконечно высокими плотностью и температурой. Это состояние, называемое сингулярностью, не поддается математическому описанию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Теория большого взрыва не может объяснить существование галактик. Современные версии космологических теорий предсказывают только появление однородного облака га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Проблема “недостающей массы”. Измеряя световую энергию, излучаемую Млечным Путем, можно приблизительно определить массу нашей галактики. Она равняется массе ста миллиардов Солнц. Однако, изучая закономерности взаимодействия того же Млечного Пути с близлежащей галактикой Андромеды, мы обнаружим, что наша галактика притягивается к ней так, как будто весит в десять раз больш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A891-F09B-4EE4-A4FD-F64DBE7158C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Теория Большого Взрыв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утверждает, что вся физическая вселенная – материя, энергия и даже 4 измерения пространства и времени возникли из состояния бесконечных значений плотности, температуры и давления. Вселенная возникла из объема меньшего, чем точка и продолжает расширяться. Теория Большого Взрыва теперь общепринята, так как она объясняет оба наиболее значительных факта космологии: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сширяющуюся Вселенную и существование космического фонового излу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5F3B-DA21-48EC-8E39-EFD9A706E28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событие произошло от 13 до 20 миллиардов лет назад. Можно воспользоваться известными законами физики и просчитать в обратном направлении все состояния, в которых находилась Вселенная, начиная с 10-43 секунд после Большого Взры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течение первого миллиона лет вещество и энергия во Вселенной сформировали непрозрачную плазму, иногда называемую первичным огненным шаром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концу этого периода расширение Вселенной заставило температуру опуститься ниже 3000 K, так что протоны и электроны смогли объединяться, образуя атомы водорода. На этой стадии Вселенная стала прозрачной для излучения. Плотность вещества теперь стала выше плотности излучения, хотя раньше ситуация была обратной, что и определяло скорость расширения Всел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новое микроволновое излучение - все, что осталось от сильно охлажденного излучения ранней Вселен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01AF-FF7D-45A7-A99A-4FF8ED8EC83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Calibri"/>
              </a:rPr>
              <a:t>Начало звездообраз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изображение показывает предположение о том, как выглядела очень молодая вселенная (меньше чем 1 миллиард лет), когда начиналось формирование звезд, преобразовывая исходный водород в бесчисленные звезды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6403-D232-419D-A76A-4939D4C7F70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81bd"/>
                </a:solidFill>
                <a:latin typeface="Calibri"/>
              </a:rPr>
              <a:t>Первые галакт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чали формироваться из первичных облаков водорода и гелия только через один или два миллиарда лет. Термин "Большой Взрыв" может применяться к любой модели расширяющейся Вселенной, которая в прошлом была горячей и плот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льшое Магелланово Облако - галактика, которая сопровождает нашу собственную. Она видима невооруженным взглядом как туманная, удлиненная область неба. Оно расположено на расстоянии в 160,000 световых лет и охватывает область в 20,000 световых лет. Его видимая часть - десятая часть Млечного пути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9E1C-1EFC-4784-94BC-F2FACA12140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Calibri"/>
              </a:rPr>
              <a:t>Туманность Песочных часо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молодая планетарная туманность удаленная от нас приблизительно на 8000 световых лет. Изображение принималось в трех различных длинах волн, чтобы отразить газовый состав туманности. Азот показан красным цветом, водород - зеленым и вдвойне ионизированный кислород - синим. Точный процесс формирования пока неясен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A817-9061-4B99-BA7F-1D6AD9A2F83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Calibri"/>
              </a:rPr>
              <a:t>Туманность Краб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ется одним из наиболее интересных объектов в небе. Это - остатки огромного звездного взрыва. Она была отображена во всех длинах волны от радио до гамма-лучей. Центральная звезда - пульсар - быстро вращающаяся нейтронная звезда. Она вращается настолько быстро, что импульс замечен каждые 0.033 секунды. В оптических длинах волны эта центральная звезда имеет 16-ую величину и находится вне досягаемости всех кроме наиболее мощных телескопов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22D7-052C-476D-B079-D98F27CB1B0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f81bd"/>
                </a:solidFill>
                <a:uFillTx/>
                <a:latin typeface="Calibri"/>
              </a:rPr>
              <a:t>Млечный Путь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это наша собственная галактика, видимая изнутри. Галактика представляет собой гигантскую звездную систему, состоящую приблизительно из 200 миллиардов звезд галактика Млечного пути - имеет приблизительно 100 000 световых лет в поперечнике и содержит более чем 100 миллиардов звезд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алактика имеет форму линзы диаметром 80 тысяч световых лет и толщиной ~ 30 тысяч световых ле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3059-C060-4793-A753-3405D6FEC78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липтические галактики образуются в результате столкновений между спиральными галакти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этом снимке показана спиральная галактика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A9CA-9FFD-44DC-8765-543435673B5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4EB7-A218-4290-8493-D44E876D0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CFD8-EB4F-40F4-889D-4B86CE28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04DE-9135-4A00-8EC4-E9A308995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37B2-BBFF-4490-8C78-1E068A756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58E5-1A6E-4BEA-821A-C89A27AC0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DFCE-BAD9-4E63-8BCE-E148B296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3C23-F5A3-4EDD-8D0E-DA7C2286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B091-E2C9-4FA7-8364-FB0D99E6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43C0-AFE1-491E-B249-62329E46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5FDF-BE7B-4E25-9A86-0F4144C4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1A0C-503F-47C1-8570-7EC107C1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D892-E961-4D2B-B943-16B040BD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D592-51E7-49F5-BEBE-6D90EECF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24DC-316A-46B3-81FD-8821D8B9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ADF7-F0FE-4A16-852B-2997FCFA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54E8-131C-42FC-AC4E-434B3E902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EA03-001B-4EA7-AC8B-33404349D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8356-2D23-4E0C-AF2F-D373C87F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173E-0CE6-4A36-B7DB-45CA9F18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7B23-4528-4FAF-A907-2C59391A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091C-D823-4AE0-8DAF-FD6BFC69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D729-CBA3-4EA2-8BD1-2809E436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6C54-ABDE-42B5-8F88-C28122C4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7AD9-AF56-43F9-9A4F-5AC38752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8F3F-4816-455F-8D6E-CFC7213373F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BB44-1CDB-454B-96F8-EBDB20816AB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142920" y="285840"/>
            <a:ext cx="86072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ория Большого взры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Picture 4" descr="Glowing_Eye_Nebula"/>
          <p:cNvPicPr/>
          <p:nvPr/>
        </p:nvPicPr>
        <p:blipFill>
          <a:blip r:embed="rId1"/>
          <a:stretch/>
        </p:blipFill>
        <p:spPr>
          <a:xfrm>
            <a:off x="2928960" y="2786040"/>
            <a:ext cx="4605480" cy="37148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5724360" y="333360"/>
            <a:ext cx="341964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Столкновение нашей Галак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мерно через три миллиарда лет наша Галактика столкнётся с Андромедой, так как вот уже почти столетие, как астрономы знают, что обе галактики приближаются друг к другу со скорост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00 000 километров в час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5" descr="00000119"/>
          <p:cNvPicPr/>
          <p:nvPr/>
        </p:nvPicPr>
        <p:blipFill>
          <a:blip r:embed="rId1"/>
          <a:stretch/>
        </p:blipFill>
        <p:spPr>
          <a:xfrm>
            <a:off x="0" y="0"/>
            <a:ext cx="5580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611280" y="1125360"/>
            <a:ext cx="835344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гласно этой теории, всё наблюдаемое пространство расширяется. Но что же было в самом начале? Всё вещество в Космосе в какой-то начальный момент было сдавлено буквально в ничто - спрессовано в одну-единственную точку. Оно имело фантастически огромную плотность - её практически невозможно себе представить, она выражается числом, в котором после единицы стоят 96 нулей, - и столь же невообразимо высокую температуру. Астрономы назвали такое состояние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ингулярностью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илу каких-то причин это удивительное равновесие было внезапно разрушено действием гравитационных сил - трудно даже вообразить, какими они должны были быть при бесконечно огромной плотности «первовещества"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Что было до Большого взрыв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5"/>
          <p:cNvSpPr/>
          <p:nvPr/>
        </p:nvSpPr>
        <p:spPr>
          <a:xfrm>
            <a:off x="395280" y="18900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Загадки теории Большого взры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79280" y="907920"/>
            <a:ext cx="896472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Как гласит теория большого взрыва, Вселенная возникла из точки с нулевым объемом и бесконечно высокими плотностью и температурой. Это состояние, называемое сингулярностью, не поддается математическому описанию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Теория большого взрыва не может объяснить существование галактик. Современные версии космологических теорий предсказывают только появление однородного облака газ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 Проблема “недостающей массы”. Измеряя световую энергию, излучаемую Млечным Путем, можно приблизительно определить массу нашей галактики. Она равняется массе ста миллиардов Солнц. Однако, изучая закономерности взаимодействия того же Млечного Пути с близлежащей галактикой Андромеды, мы обнаружим, что наша галактика притягивается к ней так, как будто весит в десять раз больш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Glowing_Eye_Nebula"/>
          <p:cNvPicPr/>
          <p:nvPr/>
        </p:nvPicPr>
        <p:blipFill>
          <a:blip r:embed="rId1"/>
          <a:stretch/>
        </p:blipFill>
        <p:spPr>
          <a:xfrm>
            <a:off x="0" y="1528920"/>
            <a:ext cx="4605480" cy="53290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5148360" y="333360"/>
            <a:ext cx="39956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Теория Большого Взрыв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тверждает, что вся физическая вселенная – материя, энергия и даже 4 измерения пространства и времени возникли из состояния бесконечных значений плотности, температуры и давления. Вселенная возникла из объема меньшего, чем точка и продолжает расширяться. Теория Большого Взрыва теперь общепринята, так как она объясняет оба наиболее значительных факта космологии: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расширяющуюся Вселенную и существование космического фонового излу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324000" y="549360"/>
            <a:ext cx="856908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 событие произошло от 13 до 20 миллиардов лет назад. Можно воспользоваться известными законами физики и просчитать в обратном направлении все состояния, в которых находилась Вселенная, начиная с 10-43 секунд после Большого Взры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течение первого миллиона лет вещество и энергия во Вселенной сформировали непрозрачную плазму, иногда называемую первичным огненным шаром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концу этого периода расширение Вселенной заставило температуру опуститься ниже 3000 K, так что протоны и электроны смогли объединяться, образуя атомы водорода. На этой стадии Вселенная стала прозрачной для излучения. Плотность вещества теперь стала выше плотности излучения, хотя раньше ситуация была обратной, что и определяло скорость расширения Вселенн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новое микроволновое излучение - все, что осталось от сильно охлажденного излучения ранней Вселенн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6877080" y="174600"/>
            <a:ext cx="22669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Начало звездообраз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 изображение показывает предположение о том, как выглядела очень молодая вселенная (меньше чем 1 миллиард лет), когда начиналось формирование звезд, преобразовывая исходный водород в бесчисленные звезды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5" descr="00000078"/>
          <p:cNvPicPr/>
          <p:nvPr/>
        </p:nvPicPr>
        <p:blipFill>
          <a:blip r:embed="rId1"/>
          <a:stretch/>
        </p:blipFill>
        <p:spPr>
          <a:xfrm>
            <a:off x="0" y="0"/>
            <a:ext cx="6588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6372360" y="189000"/>
            <a:ext cx="2520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Первые галакти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ли формироваться из первичных облаков водорода и гелия только через один или два миллиарда лет. Термин "Большой Взрыв" может применяться к любой модели расширяющейся Вселенной, которая в прошлом была горячей и плотно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0" y="5229360"/>
            <a:ext cx="860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ое Магелланово Облако - галактика, которая сопровождает нашу собственную. Она видима невооруженным взглядом как туманная, удлиненная область неба. Оно расположено на расстоянии в 160,000 световых лет и охватывает область в 20,000 световых лет. Его видимая часть - десятая часть Млечного пути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7" descr="00000064"/>
          <p:cNvPicPr/>
          <p:nvPr/>
        </p:nvPicPr>
        <p:blipFill>
          <a:blip r:embed="rId1"/>
          <a:stretch/>
        </p:blipFill>
        <p:spPr>
          <a:xfrm>
            <a:off x="0" y="0"/>
            <a:ext cx="6372360" cy="51577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5"/>
          <p:cNvSpPr/>
          <p:nvPr/>
        </p:nvSpPr>
        <p:spPr>
          <a:xfrm>
            <a:off x="6084720" y="0"/>
            <a:ext cx="3059280" cy="61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Туманность Песочных часо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молодая планетарная туманность удаленная от нас приблизительно на 8000 световых лет. Изображение принималось в трех различных длинах волн, чтобы отразить газовый состав туманности. Азот показан красным цветом, водород - зеленым и вдвойне ионизированный кислород - синим. Точный процесс формирования пока неясен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6" descr="00000061"/>
          <p:cNvPicPr/>
          <p:nvPr/>
        </p:nvPicPr>
        <p:blipFill>
          <a:blip r:embed="rId1"/>
          <a:stretch/>
        </p:blipFill>
        <p:spPr>
          <a:xfrm>
            <a:off x="0" y="0"/>
            <a:ext cx="594036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5580000" y="0"/>
            <a:ext cx="3564000" cy="64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Туманность Краб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вляется одним из наиболее интересных объектов в небе. Это - остатки огромного звездного взрыва. Она была отображена во всех длинах волны от радио до гамма-лучей. Центральная звезда - пульсар - быстро вращающаяся нейтронная звезда. Она вращается настолько быстро, что импульс замечен каждые 0.033 секунды. В оптических длинах волны эта центральная звезда имеет 16-ую величину и находится вне досягаемости всех кроме наиболее мощных телескопов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6" descr="00000062"/>
          <p:cNvPicPr/>
          <p:nvPr/>
        </p:nvPicPr>
        <p:blipFill>
          <a:blip r:embed="rId1"/>
          <a:stretch/>
        </p:blipFill>
        <p:spPr>
          <a:xfrm>
            <a:off x="0" y="0"/>
            <a:ext cx="55087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4932360" y="0"/>
            <a:ext cx="421164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99ff"/>
                </a:solidFill>
                <a:uFillTx/>
                <a:latin typeface="Arial"/>
              </a:rPr>
              <a:t>Млечный Пут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это наша собственная галактика, видимая изнутри. Галактика представляет собой гигантскую звездную систему, состоящую приблизительно из 200 миллиардов звезд галактика Млечного пути - имеет приблизительно 100 000 световых лет в поперечнике и содержит более чем 100 миллиардов звезд.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алактика имеет форму линзы диаметром 80 тысяч световых лет и толщиной ~ 30 тысяч световых л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5" descr="00000026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00000005"/>
          <p:cNvPicPr/>
          <p:nvPr/>
        </p:nvPicPr>
        <p:blipFill>
          <a:blip r:embed="rId1"/>
          <a:stretch/>
        </p:blipFill>
        <p:spPr>
          <a:xfrm>
            <a:off x="5732640" y="0"/>
            <a:ext cx="3411360" cy="4437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00000136"/>
          <p:cNvPicPr/>
          <p:nvPr/>
        </p:nvPicPr>
        <p:blipFill>
          <a:blip r:embed="rId2"/>
          <a:stretch/>
        </p:blipFill>
        <p:spPr>
          <a:xfrm>
            <a:off x="0" y="2133720"/>
            <a:ext cx="5435640" cy="4724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5686560" y="5300640"/>
            <a:ext cx="345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этом снимке показана спиральная галактика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0" y="476280"/>
            <a:ext cx="51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ллиптические галактики образуются в результате столкновений между спиральными галактик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4:37:46Z</dcterms:created>
  <dc:creator>User</dc:creator>
  <dc:description/>
  <dc:language>en-US</dc:language>
  <cp:lastModifiedBy>LEGION</cp:lastModifiedBy>
  <dcterms:modified xsi:type="dcterms:W3CDTF">2015-01-12T14:19:59Z</dcterms:modified>
  <cp:revision>9</cp:revision>
  <dc:subject/>
  <dc:title>Слайд 1</dc:title>
</cp:coreProperties>
</file>