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4E17-1E3F-4CA3-9407-D8EEC638E33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Теория Большого взры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FB7E-02DF-45D8-BBD6-62ACA88779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Столкновение нашей Галак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но через три миллиарда лет наша Галактика столкнётся с Андромедой, так как вот уже почти столетие, как астрономы знают, что обе галактики приближаются друг к другу со скор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00 000 километров в ча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B82F-35EB-4EE5-9A5F-7BE4F4993A2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Что было до Большого взры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гласно этой теории, всё наблюдаемое пространство расширяется. Но что же было в самом начале? Всё вещество в Космосе в какой-то начальный момент было сдавлено буквально в ничто - спрессовано в одну-единственную точку. Оно имело фантастически огромную плотность - её практически невозможно себе представить, она выражается числом, в котором после единицы стоят 96 нулей, - и столь же невообразимо высокую температуру. Астрономы назвали такое состоя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ингулярность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илу каких-то причин это удивительное равновесие было внезапно разрушено действием гравитационных сил - трудно даже вообразить, какими они должны были быть при бесконечно огромной плотности «первовещества"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533C-E5DA-436B-80F2-BC7DACD079D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Загадки теории Большого взры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Как гласит теория большого взрыва, Вселенная возникла из точки с нулевым объемом и бесконечно высокими плотностью и температурой. Это состояние, называемое сингулярностью, не поддается математическому описани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Теория большого взрыва не может объяснить существование галактик. Современные версии космологических теорий предсказывают только появление однородного облака г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Проблема “недостающей массы”. Измеряя световую энергию, излучаемую Млечным Путем, можно приблизительно определить массу нашей галактики. Она равняется массе ста миллиардов Солнц. Однако, изучая закономерности взаимодействия того же Млечного Пути с близлежащей галактикой Андромеды, мы обнаружим, что наша галактика притягивается к ней так, как будто весит в десять раз больш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CC1C-970D-471F-9968-14B02EC2FF5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Теория Большого Взрыв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утверждает, что вся физическая вселенная – материя, энергия и даже 4 измерения пространства и времени возникли из состояния бесконечных значений плотности, температуры и давления. Вселенная возникла из объема меньшего, чем точка и продолжает расширяться. Теория Большого Взрыва теперь общепринята, так как она объясняет оба наиболее значительных факта космологии: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ширяющуюся Вселенную и существование космического фонового изл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E21B-A7FE-4BFF-8F67-5F53B979314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обытие произошло от 13 до 20 миллиардов лет назад. Можно воспользоваться известными законами физики и просчитать в обратном направлении все состояния, в которых находилась Вселенная, начиная с 10-43 секунд после Большого Взры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ечение первого миллиона лет вещество и энергия во Вселенной сформировали непрозрачную плазму, иногда называемую первичным огненным шаром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концу этого периода расширение Вселенной заставило температуру опуститься ниже 3000 K, так что протоны и электроны смогли объединяться, образуя атомы водорода. На этой стадии Вселенная стала прозрачной для излучения. Плотность вещества теперь стала выше плотности излучения, хотя раньше ситуация была обратной, что и определяло скорость расширения Всел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новое микроволновое излучение - все, что осталось от сильно охлажденного излучения ранней Вселе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2742-5977-4755-9860-C6C7F40811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Начало звездообра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изображение показывает предположение о том, как выглядела очень молодая вселенная (меньше чем 1 миллиард лет), когда начиналось формирование звезд, преобразовывая исходный водород в бесчисленные звезды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A2A2-A723-4DA8-B6DF-62E50EE399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81bd"/>
                </a:solidFill>
                <a:latin typeface="Calibri"/>
              </a:rPr>
              <a:t>Первые галакт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али формироваться из первичных облаков водорода и гелия только через один или два миллиарда лет. Термин "Большой Взрыв" может применяться к любой модели расширяющейся Вселенной, которая в прошлом была горячей и плот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ьшое Магелланово Облако - галактика, которая сопровождает нашу собственную. Она видима невооруженным взглядом как туманная, удлиненная область неба. Оно расположено на расстоянии в 160,000 световых лет и охватывает область в 20,000 световых лет. Его видимая часть - десятая часть Млечного пути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B35A-E97A-4BA5-90F0-90CEF6ED42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Туманность Песочных час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олодая планетарная туманность удаленная от нас приблизительно на 8000 световых лет. Изображение принималось в трех различных длинах волн, чтобы отразить газовый состав туманности. Азот показан красным цветом, водород - зеленым и вдвойне ионизированный кислород - синим. Точный процесс формирования пока неясен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67DC-FB73-4D4B-A8C6-C19AC23FCB6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Туманность Краб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ется одним из наиболее интересных объектов в небе. Это - остатки огромного звездного взрыва. Она была отображена во всех длинах волны от радио до гамма-лучей. Центральная звезда - пульсар - быстро вращающаяся нейтронная звезда. Она вращается настолько быстро, что импульс замечен каждые 0.033 секунды. В оптических длинах волны эта центральная звезда имеет 16-ую величину и находится вне досягаемости всех кроме наиболее мощных телескопов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D8CB-01F1-4A22-817E-DF766278E3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f81bd"/>
                </a:solidFill>
                <a:uFillTx/>
                <a:latin typeface="Calibri"/>
              </a:rPr>
              <a:t>Млечный Пут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это наша собственная галактика, видимая изнутри. Галактика представляет собой гигантскую звездную систему, состоящую приблизительно из 200 миллиардов звезд галактика Млечного пути - имеет приблизительно 100 000 световых лет в поперечнике и содержит более чем 100 миллиардов звезд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алактика имеет форму линзы диаметром 80 тысяч световых лет и толщиной ~ 30 тысяч световых ле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5909-964B-498A-B833-B337CF57A6C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липтические галактики образуются в результате столкновений между спиральными галакт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этом снимке показана спиральная галактика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A5C2-41C4-43B0-ACBB-71967E8970D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4AD4-C924-42A4-99C2-D7873A35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D104-B834-4C30-B94B-53733ED9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A902-437E-4DE2-870F-E029F93C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B195-C644-4F02-9D9F-A274D5535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89D8-4987-485F-84C2-189D6FD9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56E7-C0BA-412D-9031-A8A90149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E21E-212C-4376-8D76-6B4EBA55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C1D4-8396-4D91-B6C2-D3E643ED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4EEA-91FD-4C20-9132-016EEC3C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8084-0EA3-407D-8198-F3F0E4AF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0540-7EA1-4950-B086-0ABEA950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34F2-0449-41D5-BB01-B164D529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D2D6-6EA0-4D46-8995-E7EA2A71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DF2E-579A-433E-A9EA-79EED309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2602-2943-4F8E-B8DF-C1D6EBA2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CFFB-ABA5-4C00-8C00-001C595D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AE7F-C2A0-4B78-9A38-98E7CBF1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9C0A-847E-465C-A1FB-E1FEA55D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6AAE-E56A-4AB7-8F42-266788CA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3621-3A8D-4FA0-B895-1B74E402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7940-538D-48D7-99BA-2082F278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CE4E-DEAB-4A28-8264-232313F7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EEDE-2BE5-4ECD-92DC-ED0C6411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B4D-6199-4304-A41A-D6E4ED63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2760-773E-4FEB-8F5A-23D3D346AB7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3896-653A-47F9-9E09-67F390A3A1D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42920" y="285840"/>
            <a:ext cx="86072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ория Большого взры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Picture 4" descr="Glowing_Eye_Nebula"/>
          <p:cNvPicPr/>
          <p:nvPr/>
        </p:nvPicPr>
        <p:blipFill>
          <a:blip r:embed="rId1"/>
          <a:stretch/>
        </p:blipFill>
        <p:spPr>
          <a:xfrm>
            <a:off x="2928960" y="2786040"/>
            <a:ext cx="4605480" cy="3714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5724360" y="333360"/>
            <a:ext cx="341964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Столкновение нашей Галак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мерно через три миллиарда лет наша Галактика столкнётся с Андромедой, так как вот уже почти столетие, как астрономы знают, что обе галактики приближаются друг к другу со скор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00 000 километров в час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5" descr="00000119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611280" y="1125360"/>
            <a:ext cx="835344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гласно этой теории, всё наблюдаемое пространство расширяется. Но что же было в самом начале? Всё вещество в Космосе в какой-то начальный момент было сдавлено буквально в ничто - спрессовано в одну-единственную точку. Оно имело фантастически огромную плотность - её практически невозможно себе представить, она выражается числом, в котором после единицы стоят 96 нулей, - и столь же невообразимо высокую температуру. Астрономы назвали такое состояние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ингулярно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илу каких-то причин это удивительное равновесие было внезапно разрушено действием гравитационных сил - трудно даже вообразить, какими они должны были быть при бесконечно огромной плотности «первовещества"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Что было до Большого взрыв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395280" y="18900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Загадки теории Большого взры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79280" y="907920"/>
            <a:ext cx="89647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Как гласит теория большого взрыва, Вселенная возникла из точки с нулевым объемом и бесконечно высокими плотностью и температурой. Это состояние, называемое сингулярностью, не поддается математическому описанию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Теория большого взрыва не может объяснить существование галактик. Современные версии космологических теорий предсказывают только появление однородного облака га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Проблема “недостающей массы”. Измеряя световую энергию, излучаемую Млечным Путем, можно приблизительно определить массу нашей галактики. Она равняется массе ста миллиардов Солнц. Однако, изучая закономерности взаимодействия того же Млечного Пути с близлежащей галактикой Андромеды, мы обнаружим, что наша галактика притягивается к ней так, как будто весит в десять раз больш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Glowing_Eye_Nebula"/>
          <p:cNvPicPr/>
          <p:nvPr/>
        </p:nvPicPr>
        <p:blipFill>
          <a:blip r:embed="rId1"/>
          <a:stretch/>
        </p:blipFill>
        <p:spPr>
          <a:xfrm>
            <a:off x="0" y="1528920"/>
            <a:ext cx="4605480" cy="5329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5148360" y="333360"/>
            <a:ext cx="39956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Теория Большого Взры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ает, что вся физическая вселенная – материя, энергия и даже 4 измерения пространства и времени возникли из состояния бесконечных значений плотности, температуры и давления. Вселенная возникла из объема меньшего, чем точка и продолжает расширяться. Теория Большого Взрыва теперь общепринята, так как она объясняет оба наиболее значительных факта космологии: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сширяющуюся Вселенную и существование космического фонового изл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24000" y="549360"/>
            <a:ext cx="85690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событие произошло от 13 до 20 миллиардов лет назад. Можно воспользоваться известными законами физики и просчитать в обратном направлении все состояния, в которых находилась Вселенная, начиная с 10-43 секунд после Большого Взры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течение первого миллиона лет вещество и энергия во Вселенной сформировали непрозрачную плазму, иногда называемую первичным огненным шаром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концу этого периода расширение Вселенной заставило температуру опуститься ниже 3000 K, так что протоны и электроны смогли объединяться, образуя атомы водорода. На этой стадии Вселенная стала прозрачной для излучения. Плотность вещества теперь стала выше плотности излучения, хотя раньше ситуация была обратной, что и определяло скорость расширения Вселен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новое микроволновое излучение - все, что осталось от сильно охлажденного излучения ранней Вселенн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6877080" y="174600"/>
            <a:ext cx="2266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Начало звездо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изображение показывает предположение о том, как выглядела очень молодая вселенная (меньше чем 1 миллиард лет), когда начиналось формирование звезд, преобразовывая исходный водород в бесчисленные звезды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00000078"/>
          <p:cNvPicPr/>
          <p:nvPr/>
        </p:nvPicPr>
        <p:blipFill>
          <a:blip r:embed="rId1"/>
          <a:stretch/>
        </p:blipFill>
        <p:spPr>
          <a:xfrm>
            <a:off x="0" y="0"/>
            <a:ext cx="6588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6372360" y="189000"/>
            <a:ext cx="2520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Первые галакти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и формироваться из первичных облаков водорода и гелия только через один или два миллиарда лет. Термин "Большой Взрыв" может применяться к любой модели расширяющейся Вселенной, которая в прошлом была горячей и плотн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0" y="5229360"/>
            <a:ext cx="860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ое Магелланово Облако - галактика, которая сопровождает нашу собственную. Она видима невооруженным взглядом как туманная, удлиненная область неба. Оно расположено на расстоянии в 160,000 световых лет и охватывает область в 20,000 световых лет. Его видимая часть - десятая часть Млечного пути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00000064"/>
          <p:cNvPicPr/>
          <p:nvPr/>
        </p:nvPicPr>
        <p:blipFill>
          <a:blip r:embed="rId1"/>
          <a:stretch/>
        </p:blipFill>
        <p:spPr>
          <a:xfrm>
            <a:off x="0" y="0"/>
            <a:ext cx="6372360" cy="5157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5"/>
          <p:cNvSpPr/>
          <p:nvPr/>
        </p:nvSpPr>
        <p:spPr>
          <a:xfrm>
            <a:off x="6084720" y="0"/>
            <a:ext cx="3059280" cy="61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Туманность Песочных час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молодая планетарная туманность удаленная от нас приблизительно на 8000 световых лет. Изображение принималось в трех различных длинах волн, чтобы отразить газовый состав туманности. Азот показан красным цветом, водород - зеленым и вдвойне ионизированный кислород - синим. Точный процесс формирования пока неясен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6" descr="00000061"/>
          <p:cNvPicPr/>
          <p:nvPr/>
        </p:nvPicPr>
        <p:blipFill>
          <a:blip r:embed="rId1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5580000" y="0"/>
            <a:ext cx="356400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Туманность Краб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ется одним из наиболее интересных объектов в небе. Это - остатки огромного звездного взрыва. Она была отображена во всех длинах волны от радио до гамма-лучей. Центральная звезда - пульсар - быстро вращающаяся нейтронная звезда. Она вращается настолько быстро, что импульс замечен каждые 0.033 секунды. В оптических длинах волны эта центральная звезда имеет 16-ую величину и находится вне досягаемости всех кроме наиболее мощных телескопов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00000062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4932360" y="0"/>
            <a:ext cx="421164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ff"/>
                </a:solidFill>
                <a:uFillTx/>
                <a:latin typeface="Arial"/>
              </a:rPr>
              <a:t>Млечный 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это наша собственная галактика, видимая изнутри. Галактика представляет собой гигантскую звездную систему, состоящую приблизительно из 200 миллиардов звезд галактика Млечного пути - имеет приблизительно 100 000 световых лет в поперечнике и содержит более чем 100 миллиардов звезд.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алактика имеет форму линзы диаметром 80 тысяч световых лет и толщиной ~ 30 тысяч световых л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5" descr="00000026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00000005"/>
          <p:cNvPicPr/>
          <p:nvPr/>
        </p:nvPicPr>
        <p:blipFill>
          <a:blip r:embed="rId1"/>
          <a:stretch/>
        </p:blipFill>
        <p:spPr>
          <a:xfrm>
            <a:off x="5732640" y="0"/>
            <a:ext cx="3411360" cy="4437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00000136"/>
          <p:cNvPicPr/>
          <p:nvPr/>
        </p:nvPicPr>
        <p:blipFill>
          <a:blip r:embed="rId2"/>
          <a:stretch/>
        </p:blipFill>
        <p:spPr>
          <a:xfrm>
            <a:off x="0" y="2133720"/>
            <a:ext cx="5435640" cy="4724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5686560" y="5300640"/>
            <a:ext cx="345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этом снимке показана спиральная галактик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0" y="47628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ллиптические галактики образуются в результате столкновений между спиральными галакти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4:37:46Z</dcterms:created>
  <dc:creator>User</dc:creator>
  <dc:description/>
  <dc:language>en-US</dc:language>
  <cp:lastModifiedBy>LEGION</cp:lastModifiedBy>
  <dcterms:modified xsi:type="dcterms:W3CDTF">2015-01-12T14:19:59Z</dcterms:modified>
  <cp:revision>9</cp:revision>
  <dc:subject/>
  <dc:title>Слайд 1</dc:title>
</cp:coreProperties>
</file>