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DE37-D546-4605-A458-E435297347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BBA0-24D6-4263-99A9-528E89E326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Столкновение нашей Га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00 000 километров в ч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B697-60E9-4E29-980A-0633AB6711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Что было до Большого взры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гулярност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41F1-4C4B-4838-BE3F-A6D9FED0B7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Загадки теории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95C3-D78C-414F-9B26-55188B482A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еория Большого Взрыв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ширяющуюся Вселенную и существование космического фонового из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DF41-5490-4E27-9831-0987318411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04BE-A305-480C-8826-E0A217558D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Начало звезд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EB3-CBBD-488E-B001-83A5EAE877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Первые галак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461F-4FCA-4427-91F6-D18CE3C29E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Туманность Песочных ча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0A9D-7735-43F2-A71F-873B563DB4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Туманность Кра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BBDD-1348-4A12-BC19-475D9E760F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Calibri"/>
              </a:rPr>
              <a:t>Млечный Пут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74C9-16B9-4B2E-842E-577A466F63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снимке показана спиральная галактика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AAC5-5109-4BE1-97CC-D72E2CA88B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691-126C-4905-B4A2-DF1EB42D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FE7-78E9-4F7D-926A-CAE51647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5D5-95D5-4F6C-BAC8-CBAD1F44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6F3-8DA4-438E-8A39-61D0067D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8FEC-AD98-470F-826A-81DAA364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899C-1E3D-45C0-9DD6-1B2BF7B4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DEA1-F108-4129-8BC9-3F59F34F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8465-A4E2-4192-AD20-EC3A7AC0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2F55-E150-4B61-B8F8-0002F612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EA4D-88D8-481F-A966-A40DFB7B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1734-4F38-4665-A68A-3EA1B0F7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749-8B74-4CDB-A5F1-F957C8D6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097F-1F75-4BF6-A416-4DB33366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B63A-9F7E-433C-86F7-38473C6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9974-8CBA-4290-A7C3-48FE185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6F89-8476-4D2D-8691-35E12169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7ECC-0217-43D7-A022-1E9D6632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B2D-8DB8-4BA5-8432-25D33AFF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CFD-860C-47E8-B07E-B5B4F78A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FA0-215D-4520-AEEB-DB6C780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D53-084A-4951-8C03-A2069E7E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4DE-4AFB-4B69-9B2F-20364246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0D9-BD16-4ACE-BC1C-C367DA55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E31-5482-4712-AB45-76AE0215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B671-E774-4ABF-AD79-44842784CC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889E-40B5-47F0-8471-E42459CD5A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LEGION</cp:lastModifiedBy>
  <dcterms:modified xsi:type="dcterms:W3CDTF">2015-01-12T14:19:59Z</dcterms:modified>
  <cp:revision>9</cp:revision>
  <dc:subject/>
  <dc:title>Слайд 1</dc:title>
</cp:coreProperties>
</file>