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8D7E-24A5-44F6-841F-13960D6D0C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3BAB-86CC-4F14-869A-DB4FF0B120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Столкновение нашей Га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00 000 километров в ч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B80B-A9B4-4D93-9FEB-4E013E0DCE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Что было до Большого взры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гулярност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449-5F7B-4D31-A330-A53F3489A0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Загадки теории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A38E-F303-4FB8-BFCB-698E774DE5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еория Большого Взрыв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ширяющуюся Вселенную и существование космического фонового из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9BC9-EEF9-4EC5-BEEC-BF35F407D7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3745-C9D0-43B3-95E0-B9003E6EA8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Начало звезд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4D5C-35F9-4794-8DDC-0EB952B31E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Первые галак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A3D6-20EF-4ED3-836B-C6D68E7910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Туманность Песочных ча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A700-C662-4CFF-B3A3-5CE55B99AA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Туманность Кра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B1A2-09B2-4676-8D02-A40BA7087A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Calibri"/>
              </a:rPr>
              <a:t>Млечный Пут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0777-33EB-449D-B6D1-850D8C4DF5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снимке показана спиральная галактика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6B90-535B-4BCA-A0CC-14DB812B0F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11A-BB24-4D12-B7DE-BC2E6B47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BAB-78D9-43E0-AE80-92926F4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E7E-AEC0-446A-B66C-7C5126FE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5D6-A965-4155-9BFC-73C53369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F010-49E1-45F6-961F-C4CFD0C4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E8A-B193-4372-B047-0E92773D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1F64-44C9-4C93-8A92-153A795E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E063-0526-4BE2-A8DD-1927BFED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8948-B273-44BF-B146-56F0B210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70DC-EE2E-4190-972A-A8B3D507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7136-014F-4A99-8D8D-A7B3B667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477-5CFC-407B-BB9D-17130305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F244-8BC4-4B3E-BB4F-5FBF47EA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4875-87CE-414B-8273-9F2F5920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3E7C-C514-410D-83FF-B2DEABDA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F71B-123E-4D2F-A8C1-860E1074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2CCC-432C-4F1B-B160-FF5BCE86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AC7-C960-424D-81E2-58A99079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567-98C1-4D2E-9FC4-27DB0768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A24-9565-44D2-91B8-CADE897D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4EA-1E05-4694-9233-9DECB600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3A0-F6CA-4A20-A2DD-84D19EF1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419-8E67-4EDA-BDF2-2EEA94F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5F9-D0D4-41EF-9781-F69DA23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3E9F-432B-42E8-BCD5-A5F4A2E9FFD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A436-56D1-425E-BB8F-C0D0ECD471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LEGION</cp:lastModifiedBy>
  <dcterms:modified xsi:type="dcterms:W3CDTF">2015-01-12T14:19:59Z</dcterms:modified>
  <cp:revision>9</cp:revision>
  <dc:subject/>
  <dc:title>Слайд 1</dc:title>
</cp:coreProperties>
</file>