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wind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561C-43C8-4364-9652-E9EAD998C9C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РОИСХОЖДЕНИЕ   ПЛА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F76D-3012-4108-B354-44EBEC5953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образуются зародыши, их круговые или почти круговые орбиты не пересек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87C1-0AC9-429D-A12F-24624906D6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витационное взаимодействие зародышей между собой и с гигантской планетой возмущает орб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4C5C-B4D2-4FEF-9448-EE3DF7BF5FF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одыши объединяются в планету типа Земли. Она возвращается на круговую орбиту, перемешивая оставшийся газ и разбрасывая сохранившиеся планетезим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951A-9E99-4247-B0B9-7761F684E8B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х пор происхождение планет остается не изученным до конца. Постоянно появляются новые теории, которые имеют доказательства и требуют вни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9EAC-A49A-49E8-B97F-3003132FD9E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ланет, издавна считавшееся спокойны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тационарным процессом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йствитель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лось весьма хаотическ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7A18-CDB2-4257-92FC-33BEA1C0D31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сштабах космоса планеты — всего лишь песчинки, играющие незначительную роль в грандиозной картине развития природных процессов. Однако это наиболее разнообразные и сложные объекты Вселенной. Ни у одного из других типов небесных тел не наблюдается подобного взаимодействия астрономических, геологических, химических и биологических процессов. Ни в одном из иных мест в космосе не может зародиться жизнь в том виде, как мы ее знаем. Только в течение последнего десятилетия астрономы обнаружили более 200 пла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5513-4B0F-4254-BA25-4795F58619E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зительное разнообразие масс, размеров, состава и орбит заставило многих задуматься об их происхождении. В 1970-е г.г. формирование планет считалось упорядоченным, детерминированным процессом — конвейером, на котором аморфные газово-пылевые диски превращаются в копии Солнечной системы. Но теперь нам известн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это хаотичный процесс, предполагающий различный результат для каждой системы. Родившиеся планеты выжили в хаосе конкурирующих механизмов формирования и разрушения. Многие объекты погибли, сгорев в огне своей звезды, или были выброшены в межзвездное пространство. У нашей Земли могли быть давно потерянные близнецы, странствующие ныне в темном и холодном космо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B7CE-232B-413E-883D-2ED2F328C1D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о формировании планет лежит на стыке астрофизики, планетологии, статистической механики и нелинейной динамики. В целом планетологи развивают два основных направления. Согласно теории последовательной аккреции, крошечные частицы пыли слипаются, образуя крупные глы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такая глыба притянет к себе много газа, она превращается в газовый гигант, как Юпитер, а если нет — в каменистую планету типа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едостатки данной теории — медлительность процесса и возможность рассеяния газа до формирования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0F7F-CB49-4CD1-AFB7-DA76C0F9EDC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ругом сценарии (теория гравитационной неустойчивости) утверждается, что газовые гиганты формируются путем внезапного коллапса, приводящего к разрушению первичного газово-пылевого облака. Данный процесс в миниатюре копирует формирование звезд. Но гипотеза эта весьма спорная, т.к. предполагает наличие сильной неустойчивости, которая может и не наступ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8D2A-FB57-4031-A9A5-69D882003E7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естественных спутников пла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разовании планет, в процессе сближения частиц с крупными зародышами планет, некоторые из частиц, сталкиваясь, настолько теряли скорость, что выпадали из общего роя и начинали обращаться вокруг планеты. Таким образом, около планетного зародыша образуется сгущение - рой частиц, обращающихся около него по эллиптическим орбитам. Эти частицы также сталкиваются, изменяют свои орбиты. В уменьшенном масштабе в этих роях будут происходить те же процессы, что и при образовании планет. Большинство частиц упадет на планету (присоединится к ней), часть же их будет образовывать околопланетный рой и объединяться в самостоятельные зародыши - будущие спутники планет… При осреднении орбит частиц, образующих спутник, последний приобретает симметричную, т.е. близкую к круговой, орбиту, лежащую в плоскости экватора план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6C63-522D-4F89-9572-4CC6D379A96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лет десять назад ученые, изучающие формирование планет, основывали свои теории на единственном примере — нашей Солнечной системе. Но теперь обнаружены десятки рождающихся и десятки уже сформировавшихся планетных систем, причем среди них нет двух одинако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идея ведущих теорий формирования планет такова: мелкие пылинки слипаются и захватывают газ. Но эти процессы сложны и запутанны. Борьба конкурирующих механизмов может привести к совершенно различным результа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8062-9C4C-480D-B4FE-E96DD1A1154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ЯСНЕНИЕ НЕКРУГОВОГО ДВИЖЕНИЯ  ПЛАНЕТ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нутренней области Солнечной системы зародыши планет не могут ра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хватывая газ, поэтому они должны сливаться друг с другом. Для этого их орбиты должны пересекаться, а значит, что-то должно нарушить их первоначально круговое дви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C88C-E77D-4076-A013-A2B71C5198A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E45E-920D-417E-9726-F5CFC730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9837-50E8-41D7-BBBA-6F80782C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FBD0-D202-4E04-972D-C63CE57C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4992-53CB-4D0A-8299-77DD4338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0AEE-32B7-4ABF-B736-85172455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DB0F-4B19-4597-934D-8A995174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2F92-3B80-42D7-A692-236FB24B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69C7-0937-4847-9846-4BFB11B1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4F24-7E11-40A3-AF31-B10B58F2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AD16-A998-4450-8620-E1705270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839E-FC2D-4D49-A52F-357ACCB9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8A08-CE59-4A66-8146-0BFAD1C5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0809-2CB9-477C-8128-6D3CA5C1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3212-D81E-451C-947B-C6B70216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BAA6-710A-42A1-A9CA-024F3FF5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9656-5B8D-47A2-A8D0-A2F065ED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C0CE-2E69-45F5-9CC7-C6090714A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4C9C-A375-4E18-AFF1-B3D5775A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22B5-7FD5-458D-8415-C1E6A44C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517A-0855-4C60-9077-42CACE5C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EA36-4A35-4D7C-B70E-848F62BC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ADFF-C85F-4CE2-803F-512BF27A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6EB5-D56E-4E76-913A-64E8C19D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5BD3-0095-410B-9ED8-DE867499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0BFD-BC8E-4D83-8FB4-01CFAEDC78E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CDF7-E2BF-421D-8503-4F4AB330749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42920" y="142920"/>
            <a:ext cx="8786880" cy="23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ИСХОЖДЕНИЕ   ПЛАНЕ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6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4714920" y="2714760"/>
            <a:ext cx="2722680" cy="35892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"/>
    <p:sndAc>
      <p:stSnd>
        <p:snd r:embed="rId2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remov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remov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250" autoRev="1" fill="remov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огда образуются зародыши, их круговые или почти круговые орбиты не пересекаются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2" name="Picture 8" descr="astronomy6"/>
          <p:cNvPicPr/>
          <p:nvPr/>
        </p:nvPicPr>
        <p:blipFill>
          <a:blip r:embed="rId1"/>
          <a:stretch/>
        </p:blipFill>
        <p:spPr>
          <a:xfrm>
            <a:off x="1187280" y="2565360"/>
            <a:ext cx="7062840" cy="3351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27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Гравитационное взаимодействие зародышей между собой и с гигантской планетой возмущает орбиты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6" descr="1"/>
          <p:cNvPicPr/>
          <p:nvPr/>
        </p:nvPicPr>
        <p:blipFill>
          <a:blip r:embed="rId1"/>
          <a:stretch/>
        </p:blipFill>
        <p:spPr>
          <a:xfrm>
            <a:off x="1258920" y="2781360"/>
            <a:ext cx="6810480" cy="32893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Зародыши объединяются в планету типа Земли. Она возвращается на круговую орбиту, перемешивая оставшийся газ и разбрасывая сохранившиеся планетезимал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8" name="Picture 6" descr="2"/>
          <p:cNvPicPr/>
          <p:nvPr/>
        </p:nvPicPr>
        <p:blipFill>
          <a:blip r:embed="rId1"/>
          <a:stretch/>
        </p:blipFill>
        <p:spPr>
          <a:xfrm>
            <a:off x="1116000" y="2637000"/>
            <a:ext cx="6810480" cy="32605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2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1260360" y="0"/>
            <a:ext cx="990432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       </a:t>
            </a: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Заключение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16000" y="1844280"/>
            <a:ext cx="774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х пор происхождение планет остается не изученным до конца. Постоянно появляются новые теории, которые имеют доказательства и требуют вни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250" autoRev="1" fill="remov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6" dur="250" autoRev="1" fill="remov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" dur="250" autoRev="1" fill="remov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92888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Формирование планет, издавна считавшееся спокойным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и стационарным процессом,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в действительности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оказалось весьма хаотически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0" descr="p192111_big"/>
          <p:cNvPicPr/>
          <p:nvPr/>
        </p:nvPicPr>
        <p:blipFill>
          <a:blip r:embed="rId1"/>
          <a:stretch/>
        </p:blipFill>
        <p:spPr>
          <a:xfrm>
            <a:off x="2124000" y="2924280"/>
            <a:ext cx="5112000" cy="35668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1"/>
          <p:cNvSpPr/>
          <p:nvPr/>
        </p:nvSpPr>
        <p:spPr>
          <a:xfrm>
            <a:off x="640080" y="6491160"/>
            <a:ext cx="85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ная планета-гигант захватывает газ из диска вокруг новорожденной звез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масштабах космоса планеты — всего лишь песчинки, играющие незначительную роль в грандиозной картине развития природных процессов. Однако это наиболее разнообразные и сложные объекты Вселенной. Ни у одного из других типов небесных тел не наблюдается подобного взаимодействия астрономических, геологических, химических и биологических процессов. Ни в одном из иных мест в космосе не может зародиться жизнь в том виде, как мы ее знаем. Только в течение последнего десятилетия астрономы обнаружили более 200 пла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азительное разнообразие масс, размеров, состава и орбит заставило многих задуматься об их происхождении. В 1970-е г.г. формирование планет считалось упорядоченным, детерминированным процессом — конвейером, на котором аморфные газово-пылевые диски превращаются в копии Солнечной системы. Но теперь нам извест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это хаотичный процесс, предполагающий различный результат для каждой системы. Родившиеся планеты выжили в хаосе конкурирующих механизмов формирования и разрушения. Многие объекты погибли, сгорев в огне своей звезды, или были выброшены в межзвездное пространство. У нашей Земли могли быть давно потерянные близнецы, странствующие ныне в темном и холодном космо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5778360" y="1268280"/>
            <a:ext cx="3365640" cy="443736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50" autoRev="1" fill="remov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6" dur="250" autoRev="1" fill="remov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7" dur="250" autoRev="1" fill="remov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image_large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14200" y="356760"/>
            <a:ext cx="71438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ука о формировании планет лежит на стыке астрофизики, планетологии, статистической механики и нелинейной динамики. В целом планетологи развивают два основных направления. Согласно теории последовательной аккреции, крошечные частицы пыли слипаются, образуя крупные глыб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такая глыба притянет к себе много газа, она превращается в газовый гигант, как Юпитер, а если нет — в каменистую планету типа Зем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недостатки данной теории — медлительность процесса и возможность рассеяния газа до формирования план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99640" y="836280"/>
            <a:ext cx="694548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ругом сценарии (теория гравитационной неустойчивости) утверждается, что газовые гиганты формируются путем внезапного коллапса, приводящего к разрушению первичного газово-пылевого облака. Данный процесс в миниатюре копирует формирование звезд. Но гипотеза эта весьма спорная, т.к. предполагает наличие сильной неустойчивости, которая может и не наступ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Происхождение естественных спутников планет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бразовании планет, в процессе сближения частиц с крупными зародышами планет, некоторые из частиц, сталкиваясь, настолько теряли скорость, что выпадали из общего роя и начинали обращаться вокруг планеты. Таким образом, около планетного зародыша образуется сгущение - рой частиц, обращающихся около него по эллиптическим орбитам. Эти частицы также сталкиваются, изменяют свои орбиты. В уменьшенном масштабе в этих роях будут происходить те же процессы, что и при образовании планет. Большинство частиц упадет на планету (присоединится к ней), часть же их будет образовывать околопланетный рой и объединяться в самостоятельные зародыши - будущие спутники планет… При осреднении орбит частиц, образующих спутник, последний приобретает симметричную, т.е. близкую к круговой, орбиту, лежащую в плоскости экватора план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СНОВНЫЕ ПОЛОЖ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ще лет десять назад ученые, изучающие формирование планет, основывали свои теории на единственном примере — нашей Солнечной системе. Но теперь обнаружены десятки рождающихся и десятки уже сформировавшихся планетных систем, причем среди них нет двух одинаков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идея ведущих теорий формирования планет такова: мелкие пылинки слипаются и захватывают газ. Но эти процессы сложны и запутанны. Борьба конкурирующих механизмов может привести к совершенно различным результа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БЪЯСНЕНИЕ НЕКРУГОВОГО ДВИЖЕНИЯ  ПЛАНЕТ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242100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 внутренней области Солнечной системы зародыши планет не могут ра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хватывая газ, поэтому они должны сливаться друг с другом. Для этого их орбиты должны пересекаться, а значит, что-то должно нарушить их первоначально круговое дви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6:59:41Z</dcterms:created>
  <dc:creator>П.А.С.</dc:creator>
  <dc:description/>
  <dc:language>en-US</dc:language>
  <cp:lastModifiedBy>LEGION</cp:lastModifiedBy>
  <dcterms:modified xsi:type="dcterms:W3CDTF">2015-01-12T14:25:10Z</dcterms:modified>
  <cp:revision>13</cp:revision>
  <dc:subject/>
  <dc:title>Слайд 1</dc:title>
</cp:coreProperties>
</file>