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B89C-41F0-44E3-9662-16B5BBD70C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ИСХОЖДЕНИЕ  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F2AF-5641-440E-9142-36D096B375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бразуются зародыши, их круговые или почти круговые орбиты не пересек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A06B-2812-426A-B658-4C6CB8F150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807A-E260-46EF-AD61-0F581FEF0D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8A4B-6F65-45C0-84D5-8195BAB3FF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1531-57F8-4C25-8B93-95968E3914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ланет, издавна считавшееся спокойны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ационарным процессо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лось весьма хаотичес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0480-5CA4-4F22-BDE1-E9A71FB848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955F-96B5-4554-AB24-4921EDE743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9EFA-CBC3-4842-866E-5D565E34D1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F1C9-61A4-46EE-AB4F-C7B5409A85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FD69-699E-4CC3-B611-613212D45A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естественных спутников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078E-0C9E-4A5C-AC1E-F6187573AA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F211-41E5-4BF4-A41C-5331FD70F1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ЯСНЕНИЕ НЕКРУГОВОГО ДВИЖЕНИЯ  ПЛАН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нутренней области Солнечной системы зародыши планет не могут ра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94E6-BB2C-4C8D-9ECC-B4B08D4F88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0BF-4773-459C-94A4-D951F27B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0A0-EFF6-477C-AB38-F748933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8F7-52AA-4B6B-AC52-2FB657D8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10F-213B-4F1E-83FE-8E4A9DF0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2CB7-D083-4A08-8ED0-BEC1F49F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EF97-82E8-46E6-8ECB-3E5338AA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BEB9-8DB1-4391-BECC-6CB937F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7394-8D92-40E2-9B2B-64BC23A0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7E50-3118-43E5-811C-5DA32761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37D0-3226-4612-98BA-03A9023A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22E0-6026-4C81-8A00-F8E1A6A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9D1-8D0A-47F6-AFF7-A4BFA1B6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AD17-59AF-4229-806C-E2932686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CD9A-3B59-4F86-9A06-5C6390C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B738-01A7-4C9B-A2DB-24A58E76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F596-E583-44AE-8510-2D56B06D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C3E0-2A86-4A6A-BCCB-06E5A9A0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DB7-90FD-450C-9854-03E7C3FE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AD4-7409-460E-BC28-7158425F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30F-2119-443C-99AA-AE33122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41B-C55F-4E38-B5B4-5888C01E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689-84C8-4725-BDF6-101C759B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944-6378-4011-B01E-2B25F5F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867-759C-4A3F-9D3E-EC2C691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C730-7EF9-49E7-BD27-A4769E3D9D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F7F7-9ED4-41B0-B19B-094001E751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LEGION</cp:lastModifiedBy>
  <dcterms:modified xsi:type="dcterms:W3CDTF">2015-01-12T14:25:10Z</dcterms:modified>
  <cp:revision>13</cp:revision>
  <dc:subject/>
  <dc:title>Слайд 1</dc:title>
</cp:coreProperties>
</file>