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wind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3786-65ED-4F00-921F-9E9646E219E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ПРОИСХОЖДЕНИЕ   ПЛА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5750-707C-4DE7-A342-21AF70B3F9E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образуются зародыши, их круговые или почти круговые орбиты не пересек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D341-CF7C-4FBA-8002-CAA6ABB0ACF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витационное взаимодействие зародышей между собой и с гигантской планетой возмущает орб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E32F-693F-460E-B889-8FE88E831CA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одыши объединяются в планету типа Земли. Она возвращается на круговую орбиту, перемешивая оставшийся газ и разбрасывая сохранившиеся планетезим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CC99-C79F-4011-B7DF-8CB445C9BCF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х пор происхождение планет остается не изученным до конца. Постоянно появляются новые теории, которые имеют доказательства и требуют вни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99F7-638F-4125-A9D9-31C51AD5D54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планет, издавна считавшееся спокойны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тационарным процессом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йствитель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лось весьма хаотическ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5077-E11F-4B69-A7B5-EB7982FF0CC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сштабах космоса планеты — всего лишь песчинки, играющие незначительную роль в грандиозной картине развития природных процессов. Однако это наиболее разнообразные и сложные объекты Вселенной. Ни у одного из других типов небесных тел не наблюдается подобного взаимодействия астрономических, геологических, химических и биологических процессов. Ни в одном из иных мест в космосе не может зародиться жизнь в том виде, как мы ее знаем. Только в течение последнего десятилетия астрономы обнаружили более 200 пла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EE05-8D6E-4B18-8A53-EC02FA1396A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азительное разнообразие масс, размеров, состава и орбит заставило многих задуматься об их происхождении. В 1970-е г.г. формирование планет считалось упорядоченным, детерминированным процессом — конвейером, на котором аморфные газово-пылевые диски превращаются в копии Солнечной системы. Но теперь нам известн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это хаотичный процесс, предполагающий различный результат для каждой системы. Родившиеся планеты выжили в хаосе конкурирующих механизмов формирования и разрушения. Многие объекты погибли, сгорев в огне своей звезды, или были выброшены в межзвездное пространство. У нашей Земли могли быть давно потерянные близнецы, странствующие ныне в темном и холодном космо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1B08-3D8E-4DA2-837D-291300F3E63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 о формировании планет лежит на стыке астрофизики, планетологии, статистической механики и нелинейной динамики. В целом планетологи развивают два основных направления. Согласно теории последовательной аккреции, крошечные частицы пыли слипаются, образуя крупные глы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такая глыба притянет к себе много газа, она превращается в газовый гигант, как Юпитер, а если нет — в каменистую планету типа Зем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едостатки данной теории — медлительность процесса и возможность рассеяния газа до формирования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9E15-AAB0-4D9F-9997-4003F1B50B6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ругом сценарии (теория гравитационной неустойчивости) утверждается, что газовые гиганты формируются путем внезапного коллапса, приводящего к разрушению первичного газово-пылевого облака. Данный процесс в миниатюре копирует формирование звезд. Но гипотеза эта весьма спорная, т.к. предполагает наличие сильной неустойчивости, которая может и не наступ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B2D3-BC5C-48B0-9F46-B560C551B9A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ждение естественных спутников пла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разовании планет, в процессе сближения частиц с крупными зародышами планет, некоторые из частиц, сталкиваясь, настолько теряли скорость, что выпадали из общего роя и начинали обращаться вокруг планеты. Таким образом, около планетного зародыша образуется сгущение - рой частиц, обращающихся около него по эллиптическим орбитам. Эти частицы также сталкиваются, изменяют свои орбиты. В уменьшенном масштабе в этих роях будут происходить те же процессы, что и при образовании планет. Большинство частиц упадет на планету (присоединится к ней), часть же их будет образовывать околопланетный рой и объединяться в самостоятельные зародыши - будущие спутники планет… При осреднении орбит частиц, образующих спутник, последний приобретает симметричную, т.е. близкую к круговой, орбиту, лежащую в плоскости экватора план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159A-49B7-4B70-A9E0-D96BA780497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лет десять назад ученые, изучающие формирование планет, основывали свои теории на единственном примере — нашей Солнечной системе. Но теперь обнаружены десятки рождающихся и десятки уже сформировавшихся планетных систем, причем среди них нет двух одинаков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идея ведущих теорий формирования планет такова: мелкие пылинки слипаются и захватывают газ. Но эти процессы сложны и запутанны. Борьба конкурирующих механизмов может привести к совершенно различным результа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FDD4-B3B8-4989-8C1D-7FFD802E92D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ЪЯСНЕНИЕ НЕКРУГОВОГО ДВИЖЕНИЯ  ПЛАНЕТ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нутренней области Солнечной системы зародыши планет не могут ра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хватывая газ, поэтому они должны сливаться друг с другом. Для этого их орбиты должны пересекаться, а значит, что-то должно нарушить их первоначально круговое дви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F5C8-016D-48D2-B878-23EB1DE010C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15D4-DE55-4364-B23C-6B6797A35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FC87-6D13-48C4-85CB-43660D77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5555-1ADD-464D-841D-01A72C33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3205-FF39-469E-BBB5-6684A5E3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B0D7-BE7B-40C9-A38F-DCBA3377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2E2B-19D7-4349-9A07-29F23238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1001-EBCE-4643-A1B0-1C7C9E7B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3C82-BE3F-4B35-B943-C06D79C3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128D-C00E-44D5-9616-7D6B359D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7BB0-7C63-49C2-BF17-E2AC548B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4685-2845-4B8A-968D-7894D15D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F6D3-A683-42FB-ADE4-E9861E4C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8651-AB9D-42D3-8E8C-14581D8F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E3CF-E398-4C39-836D-3B977E08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50EB-A25C-4ED9-81BE-EF74E2F1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3B80-1C75-4A2D-8BF8-8ECE3DFE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B37C-72D8-4AC3-AE69-14956CF93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2CFB-6502-4D54-8D14-617B219F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D826-8B87-4E9B-989C-084896C5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5B39-B14F-424E-A5C9-EA293476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AABF-597D-407D-920F-34CD9F51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C354-927E-4D45-A02B-FC0EC22E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3772-D4E9-4A9F-8A14-DD2A88E8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9D33-2155-4A00-A0E2-0B06FBB3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7AAF-869F-4410-82D2-840E8758E98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FF36-74C1-42E6-81EE-FE036EE75C5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142920" y="142920"/>
            <a:ext cx="8786880" cy="23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ИСХОЖДЕНИЕ   ПЛАНЕ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6" name="Picture 6" descr="1190318403_antigravitation"/>
          <p:cNvPicPr/>
          <p:nvPr/>
        </p:nvPicPr>
        <p:blipFill>
          <a:blip r:embed="rId1"/>
          <a:stretch/>
        </p:blipFill>
        <p:spPr>
          <a:xfrm>
            <a:off x="4714920" y="2714760"/>
            <a:ext cx="2722680" cy="35892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"/>
    <p:sndAc>
      <p:stSnd>
        <p:snd r:embed="rId2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remov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remov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" dur="250" autoRev="1" fill="remov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13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Когда образуются зародыши, их круговые или почти круговые орбиты не пересекаются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2" name="Picture 8" descr="astronomy6"/>
          <p:cNvPicPr/>
          <p:nvPr/>
        </p:nvPicPr>
        <p:blipFill>
          <a:blip r:embed="rId1"/>
          <a:stretch/>
        </p:blipFill>
        <p:spPr>
          <a:xfrm>
            <a:off x="1187280" y="2565360"/>
            <a:ext cx="7062840" cy="33512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27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Гравитационное взаимодействие зародышей между собой и с гигантской планетой возмущает орбиты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5" name="Picture 6" descr="1"/>
          <p:cNvPicPr/>
          <p:nvPr/>
        </p:nvPicPr>
        <p:blipFill>
          <a:blip r:embed="rId1"/>
          <a:stretch/>
        </p:blipFill>
        <p:spPr>
          <a:xfrm>
            <a:off x="1258920" y="2781360"/>
            <a:ext cx="6810480" cy="32893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4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Зародыши объединяются в планету типа Земли. Она возвращается на круговую орбиту, перемешивая оставшийся газ и разбрасывая сохранившиеся планетезимал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8" name="Picture 6" descr="2"/>
          <p:cNvPicPr/>
          <p:nvPr/>
        </p:nvPicPr>
        <p:blipFill>
          <a:blip r:embed="rId1"/>
          <a:stretch/>
        </p:blipFill>
        <p:spPr>
          <a:xfrm>
            <a:off x="1116000" y="2637000"/>
            <a:ext cx="6810480" cy="32605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250" autoRev="1" fill="hold"/>
                                        <p:tgtEl>
                                          <p:spTgt spid="1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1260360" y="0"/>
            <a:ext cx="990432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       </a:t>
            </a: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Заключение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16000" y="1844280"/>
            <a:ext cx="7740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х пор происхождение планет остается не изученным до конца. Постоянно появляются новые теории, которые имеют доказательства и требуют вним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250" autoRev="1" fill="remove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86" dur="250" autoRev="1" fill="remove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7" dur="250" autoRev="1" fill="remove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92888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Формирование планет, издавна считавшееся спокойным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и стационарным процессом,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в действительности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оказалось весьма хаотическим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0" descr="p192111_big"/>
          <p:cNvPicPr/>
          <p:nvPr/>
        </p:nvPicPr>
        <p:blipFill>
          <a:blip r:embed="rId1"/>
          <a:stretch/>
        </p:blipFill>
        <p:spPr>
          <a:xfrm>
            <a:off x="2124000" y="2924280"/>
            <a:ext cx="5112000" cy="35668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1"/>
          <p:cNvSpPr/>
          <p:nvPr/>
        </p:nvSpPr>
        <p:spPr>
          <a:xfrm>
            <a:off x="640080" y="6491160"/>
            <a:ext cx="85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ная планета-гигант захватывает газ из диска вокруг новорожденной звез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масштабах космоса планеты — всего лишь песчинки, играющие незначительную роль в грандиозной картине развития природных процессов. Однако это наиболее разнообразные и сложные объекты Вселенной. Ни у одного из других типов небесных тел не наблюдается подобного взаимодействия астрономических, геологических, химических и биологических процессов. Ни в одном из иных мест в космосе не может зародиться жизнь в том виде, как мы ее знаем. Только в течение последнего десятилетия астрономы обнаружили более 200 план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572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разительное разнообразие масс, размеров, состава и орбит заставило многих задуматься об их происхождении. В 1970-е г.г. формирование планет считалось упорядоченным, детерминированным процессом — конвейером, на котором аморфные газово-пылевые диски превращаются в копии Солнечной системы. Но теперь нам известн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это хаотичный процесс, предполагающий различный результат для каждой системы. Родившиеся планеты выжили в хаосе конкурирующих механизмов формирования и разрушения. Многие объекты погибли, сгорев в огне своей звезды, или были выброшены в межзвездное пространство. У нашей Земли могли быть давно потерянные близнецы, странствующие ныне в темном и холодном космос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6" descr="1190318403_antigravitation"/>
          <p:cNvPicPr/>
          <p:nvPr/>
        </p:nvPicPr>
        <p:blipFill>
          <a:blip r:embed="rId1"/>
          <a:stretch/>
        </p:blipFill>
        <p:spPr>
          <a:xfrm>
            <a:off x="5778360" y="1268280"/>
            <a:ext cx="3365640" cy="443736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250" autoRev="1" fill="remove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6" dur="250" autoRev="1" fill="remove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7" dur="250" autoRev="1" fill="remove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image_large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214200" y="356760"/>
            <a:ext cx="71438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ука о формировании планет лежит на стыке астрофизики, планетологии, статистической механики и нелинейной динамики. В целом планетологи развивают два основных направления. Согласно теории последовательной аккреции, крошечные частицы пыли слипаются, образуя крупные глыб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такая глыба притянет к себе много газа, она превращается в газовый гигант, как Юпитер, а если нет — в каменистую планету типа Зем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е недостатки данной теории — медлительность процесса и возможность рассеяния газа до формирования плане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99640" y="836280"/>
            <a:ext cx="694548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ругом сценарии (теория гравитационной неустойчивости) утверждается, что газовые гиганты формируются путем внезапного коллапса, приводящего к разрушению первичного газово-пылевого облака. Данный процесс в миниатюре копирует формирование звезд. Но гипотеза эта весьма спорная, т.к. предполагает наличие сильной неустойчивости, которая может и не наступи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Происхождение естественных спутников планет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образовании планет, в процессе сближения частиц с крупными зародышами планет, некоторые из частиц, сталкиваясь, настолько теряли скорость, что выпадали из общего роя и начинали обращаться вокруг планеты. Таким образом, около планетного зародыша образуется сгущение - рой частиц, обращающихся около него по эллиптическим орбитам. Эти частицы также сталкиваются, изменяют свои орбиты. В уменьшенном масштабе в этих роях будут происходить те же процессы, что и при образовании планет. Большинство частиц упадет на планету (присоединится к ней), часть же их будет образовывать околопланетный рой и объединяться в самостоятельные зародыши - будущие спутники планет… При осреднении орбит частиц, образующих спутник, последний приобретает симметричную, т.е. близкую к круговой, орбиту, лежащую в плоскости экватора план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СНОВНЫЕ ПОЛОЖ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ще лет десять назад ученые, изучающие формирование планет, основывали свои теории на единственном примере — нашей Солнечной системе. Но теперь обнаружены десятки рождающихся и десятки уже сформировавшихся планетных систем, причем среди них нет двух одинаков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ая идея ведущих теорий формирования планет такова: мелкие пылинки слипаются и захватывают газ. Но эти процессы сложны и запутанны. Борьба конкурирующих механизмов может привести к совершенно различным результат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БЪЯСНЕНИЕ НЕКРУГОВОГО ДВИЖЕНИЯ  ПЛАНЕТ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242100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 внутренней области Солнечной системы зародыши планет не могут раст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хватывая газ, поэтому они должны сливаться друг с другом. Для этого их орбиты должны пересекаться, а значит, что-то должно нарушить их первоначально круговое дви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6:59:41Z</dcterms:created>
  <dc:creator>П.А.С.</dc:creator>
  <dc:description/>
  <dc:language>en-US</dc:language>
  <cp:lastModifiedBy>LEGION</cp:lastModifiedBy>
  <dcterms:modified xsi:type="dcterms:W3CDTF">2015-01-12T14:25:10Z</dcterms:modified>
  <cp:revision>13</cp:revision>
  <dc:subject/>
  <dc:title>Слайд 1</dc:title>
</cp:coreProperties>
</file>