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AC86-4D9E-4702-8A3A-0D1DF67D48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Заместитель главного врача по организационно – методической работе ГЛПУ ТО ООД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.А. Гайс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4206-EBD4-40E4-9B87-C8E570EB48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ункции Кабин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помощь по ведению онкологических больных на дому участковым врачом-терапевтом или врачом общей практики (семейным врачом), контроль за проведением симптоматического лечения онкологических бо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исывание наркотических средств списка II и  III   Перечня наркотических средств, психотропных веществ и их прекурс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E549-60AF-4057-B3AF-95B0B2F401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динамического наблюдения за больными, получающими лекарственную противоопухолевую терапию в соответствии с рекомендациями врача-онколога, проводимую специализированным онкологическим учреждени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 оценка лабораторных показателей с целью предупреждения развития токсических реакций, своевременное направление больного в специализированное онкологическое учрежд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больных для паллиативного и симптоматического лечения в соответствующие отделения онкологических диспансеров (онкологических больниц), хоспи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ичин отказов от госпит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онкологических больных; проживающих на прикрепленной к Кабинету террито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воевременности направления в онкологические диспансеры сведений о впервые выявленных случаях злокачественных новообразо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56D6-626A-4138-83C7-8190B65CBC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и методическая помощь специалистам медицинских учреждений по вопросам проведения профилактических осмотров, диспансеризации больных с предопухолевыми и хроническими заболевани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просвещение насе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разбор с участковыми врачами-терапевтами, врачами общей практики (семейный врач), а также врачами-специалистами диагностических ошибок и причин запущенности онкологических заболев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полноты и эффективности профилактических осмот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формления амбулаторно-поликлиническими учреждениями установленных форм медицинской документации при обследовании и лечении онкологических бо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учетной и отчетной документации, предоставление отчетов о деятельности в установленном порядке, сбор данных для регистров, ведение которых предусмотрено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функции в соответствии с законодательством Российской Федерации, нормативными правовыми актами субъектов Российской Федерации, муниципальных образ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D3ED-1131-4758-96EE-69118CEA40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структуре Кабинете рекомендуется предусматри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приема боль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выполнения лечебных процедур, входящих в функции кабине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хранения медицинской докумен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бинет оснащается оборудованием в соответствии со стандартом оснащения (приложение №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FB05-9134-4788-A127-5BF579D30E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ые штатные нормативы медицинского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ого персонала первичного онкологического отделения (кабинета), отделения городской и центральной районной поликлиники, отделений онкологического диспансера (онкологической больницы), отделения паллиативной помощи онкологическим бо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7066-2642-4FFE-9CE2-37B2318D42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 осна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х организаций, оказывающих медицинскую помощь онкологическим больным, а также соответствующих организаций, находящихся в ведении субъекта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0884-7442-40A3-BC4A-3B6AF755AD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хосписа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и оказании помощи онкологическим больны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ее Положение регулирует организацию деятельности хосписа по оказанию медицинской, социальной, психологической помощи больным с распространенными формами онкологически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спис является учреждением здравоохранения, предназначенным для оказания медицинской, социальной, психологической, юридической помощи преимущественно инкурабельным онкологическим больным по рекомендации врача-онколога с целью обеспечения необходимой обезболивающей терапии, оказания медико-социальной помощи, ухода, психо-социальной реабилитации, а также психологической и социальной поддержки родствен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3188-4F81-41CE-9955-8F2607EDBE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9FFF-C78D-447A-B2A1-8B3B8BD8E8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И СОЦИ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ТВЕРЖДА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министр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и социальн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Российской Федера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 Сквор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Ы ВЫЯВЛЕНИЯ ОНКОЛОГИЧЕСКИХ ЗАБОЛЕВАНИЙ В РАБОТЕ ВРАЧА ОБЩЕЙ ПР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для организаторов здравоохранения, врачей общей практики, профильных специалистов, врачей-онк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CDA1-DABC-442D-B56E-E07694AD9F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бликовано 21 декабря 200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ает в силу: 1 января 201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5 декабря 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гистрационный N 156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о статьей 37.1 Основ законодательства Российской Федерации об охране здоровья граждан от 22 июля 1993 г. N 5487-1 (Ведомости Съезда народных депутатов Российской Федерации и Верховного Совета Российской Федерации, 1993, N 33, ст. 1318; Собрание законодательства Российской Федерации, 2007, N 1, ст. 21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ыва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д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 согласно прилож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нистр Т. Голи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DC41-3C96-4545-8F8E-E915B9AC52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соответствии с приказом Министерства здравоохранения и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, с целью своевременного обеспечения подачи с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 Главным врачам ЛПУ юга Тюменской област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1.  Сосредоточить все виды онкологической помощи и диспансерного наблюдения пациентов  на уровне плановой первичной медико-санитарной помощи, в кабинетах первичного онкологического прием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2.  Обеспечить непрерывную работу кабинета первичного онкологического приема, укомплектовать кадрами в том числе за счет возможного совмещения ставок,в соответствии с приказом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3.  Укомплектовать кабинеты первичного онкологического приема в соответствии с табелем оснащения по приказу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4.  Обеспечить регистрацию пациентов, с нарастающим итогом с 01.01.2010 года, впервые обратившихся в кабинет первичного онкологического приема, а так же пациентов, направленных в онкологический диспансер (по локализациям), для чего ввести соответствующие журналы (Приложение №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5.  На основании документации первичного онкологического кабинета информация по мониторингу(Приложение №2) предоставляется в срок до 28 числа отчетного месяца: по электронной почте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DDA9-B7F2-4AA3-B5A2-95E3848C79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авному врачу ГЛПУ ТО «Областной онкологический диспансер»   (А.Г.Синяков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беспечить свод и анализ информации в соответствии с приказом Министерства здравоохранения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Проводить в ежемесячном режиме курацию районных ЛПУ и поликлиник г.Тюмени по методике мониторирования и оказывать консультативную помощь по необхо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Подготовленную информацию предоставлять на электронном и бумажном носителе в департамент здравоохранения Тюменской области сроком до 3 числа очередного меся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ГЛПУ ТО «Областной онкологический диспансер» в срок до 15.02.2010г обеспечить все ЛПУ юга Тюменской области и поликлиник г.Тюмени экземпляром журнала регистрации и инструкции по его запол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267A-CA41-4807-8753-2BCA544CE8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Учитывать результаты работы по мониторингу, направленного на совершенствование организации онкологической помощи населению, при определении размера премирования главных врачей областных ЛПУ, поликлиник г.Тюмени, главного врача ГЛПУ ТО «Областной онкологический диспансе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Рекомендовать руководителям органов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 Начальнику управления по здравоохранению администрации г.Тюмени (Ярцеву С.Е.) и советнику главы администрации г.Тобольска (Репетиеву В.И.), обеспечить исполнение данного приказа в муниципальных учреждениях г.Тюмени и г.Тоболь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Производить свод информации по поликлиникам г.Тюмени и предоставлять в ГЛПУ ТО «Областной онкологический диспансер» общую информацию сроком до 28 числа отчетного месяца. : по электронной почте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ymen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onk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ail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Контроль за исполнением приказа возложить на  первого заместителя директора департамента Н.С.Брын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 департамента                                                  А.Ю.Кудр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93C9-5E79-4359-9B94-2102284925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3D10-1640-427A-B826-61C203D600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ий Порядок регулирует вопросы оказания медицинской помощи населению при онкологических заболеваниях в государственных и муниципальных учреждениях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ым с онкологическими заболеваниями медицинская помощь оказыв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плановой первичной медико-санитарной помощи - терапевтическая, хирургическая и онкологическая 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плановой специализированной, в том числе высокотехнологичной медицинской помощи - специализированная онкологическая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лановой помощи больным с онкологическими заболеваниями в рамках первичной медико-санитарной помощи организуется в амбулаторно-поликлинических и больничных учреждениях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лановой специализированной, в том числе высокотехнологичной медицинской помощи больным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2C77-E14E-4FA0-A823-0E5A804103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ая онкологическая помощь в рамках первичной медико-санитарной помощи в амбулаторно-поликлинических учреждениях оказывается на основе взаимодействия врачей первичного звена здравоохранения: участковых врачей-терапевтов, врачей общей практики (семейных врачей), врачей-хирургов и врачей-онкол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е работники фельдшерско-акушерских пунктов оказывают медицинскую помощь больным с онкологическими заболеваниями в соответствии с рекомендациями врачей-онкологов и врачей-специали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       В амбулаторно-поликлинических учреждениях участковые врачи-терапевты, врачи общей практики (семейные врачи), врачи-хирурги во взаимодействии с врачами-специалистами выявляют риск развития онкологически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       При подозрении или выявлении опухолевого заболевания пациента направляют в первичный онкологический кабинет (отделение), после чего врач-специалист первичного онкологического кабинета направляет пациента в онкологический диспансер, онкологическую больницу для уточнения диагноза и определения последующей тактики ведения па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       В случае подозрения и/или выявления у пациента злокачественного новообразования врач-специалист первичного онкологического кабинета уведомляет организационно-методический отдел онкологического диспансера для постановки больного на учет (с его добровольного информированного соглас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        В случае подтверждения в онкологическом диспансере у пациента факта наличия онкологического заболевания, информация о диагнозе пациента (с его добровольного информированного согласия) направляется из организационно-методического отдела онкологического диспансера в первичный онкологический кабинет, из которого был направлен пациент для последующего диспансерного наблю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A3F2-705F-409A-BC31-11510D315E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 амбулаторно-поликлинических учреждениях онкологическая помощь больным с онкологическими заболеваниями оказывается врачами-онкологами в первичном онкологическом кабинете (отделении, дневном стационаре), осуществляющим свою деятельность в соответствии с Положениями об организации деятельности первичного онкологического кабинета поликлиники, первичного онкологического отделения (приложения N 1 и 2 к Порядку оказания медицинской помощи населению при онкологических заболеваниях, утвержденному настоящим приказом)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лановое стационарное обследование и лечение больных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1. Специализированная, в том числе высокотехнологичная медицинская помощь больным с онкологическими заболеваниями оказывается в федеральных организациях, оказывающих медицинскую помощь, а также в онкологическом диспансере, онкологической больнице, осуществляющих свою деятельность в соответствии с Положением об организации деятельности онкологического диспансера (онкологической больницы) (приложение N 4 к Порядку оказания медицинской помощи населению при онкологических заболеваниях, утвержденному настоящим приказом) и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B1D8-B2DA-42D1-95C5-6CD559B051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2. Оснащение онкологического диспансера, онкологической больницы осуществляется в зависимости от профиля структурного подразделения в соответствии со стандартами оснащения (приложение N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3.   При выявлении у больного в онкологическом диспансере медицинских показаний к высокотехнологичным методам лечения помощь оказывается ему в соответствии с установленным порядком оказания высокотехнологичной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4. Больные злокачественными новообразованиями подлежат пожизненному диспансерному наблюдению в онкологическом диспансере. Если течение заболевания не требует изменения тактики ведения пациента, диспансерные осмотры после проведенного лечения осущест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первого года один раз в три меся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второго года - один раз в шесть месяцев, в дальнейшем - один раз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0F64-B2E7-42C8-ADF7-DBAAAECB48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    В организации онкологической помощи больным сочетаются лечебные методы (хирургический, радиотерапевтический и лекарственный) и паллиативные мероприятия в отделениях (хосписе), осуществляющих свою деятельность в соответствии с положениями об организации деятельности структурных подразделений федеральных организаций, оказывающих медицинскую помощь онкологическим больным, а также в соответствующих организациях, находящихся в ведении субъекта Российской Федерации (приложения N 4 и 6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   Скорая медицинская помощь больным злокачественными новообразованиями оказывается станциями (подстанциями) скорой медицинской помощи и отделениями скорой медицинской помощи при районных и центральных районных больниц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скорой медицинской помощи больным злокачественными новообразованиями осуществляют специализированные реаниматологические, врачебные и фельдшерские выездные бригады, штатный состав которых определен приказом Мин-здравсоцразвития России от 1 ноября 2004 г. N 179 "Об утверждении порядка оказания скорой медицинской помощи" (зарегистрирован Минюстом России 23 ноября 2004 г., регистрационный N 613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озрении и/или выявлении у больных злокачественного новообразования в ходе оказания им скорой медицинской помощи, таких больных переводят или направляют в онкологические диспансеры (онкологические больницы) для определения тактики ведения и необходимости применения дополнительно других методов специализированного противоопухолевого л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В случае если проведение медицинских манипуляций, связанных с оказанием помощи онкологическим больным, может повлечь возникновение болевых ощущений у пациента, такие манипуляции должны проводиться с обезболи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1625-4A83-4BF6-82E5-4C8F66F375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стоящее Положение определяет организацию деятельности первичного онкологического кабинета городской и центральной районной поликли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вичный онкологический кабинет (далее - Кабинет) создается в городской и центральной районной поликлинике при обслуживании контингента онкологических больных до 500 человек для обеспечения консультативной, диагностической помощью больным с онкологическими и предопухолевыми заболеваниями, своевременного направления больных в онкологическое учреждение для определения тактики ведения, диспансерного наблюдения онкологических больных, мониторинга за состоянием здоровья пациентов групп риска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A90B-5939-483C-BE28-4984C0F4B4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E815-EE49-4618-B814-466A791F7C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398-EFBD-4B8A-B8B2-2F2A3C5A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27E-4D42-4325-8E58-47DB8643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77856-00B4-44BB-8FEC-F42E2E8B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B1C6B-C9FA-42CC-9D9C-10148178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6BF3E-964F-4F51-805F-A4069B59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F6610-E1D1-411F-8ADC-141597EB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E67B84-B82C-4EA5-916C-96D776E3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45462-0241-4B46-A350-9FACE4B6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A3501-EDA9-4731-B171-1F25803B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1B0F75-B4C7-49B1-A33C-FF440B31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F73F7-2A00-426F-BC36-6000AFC2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8BAA60-0BCC-422B-B8AF-0B802DAB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AF2-443C-41EF-8063-31004056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C17F8-498A-498F-9E6F-97F94509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7AB45-9F83-46DC-B1CE-30EE6B76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53EC2F-B89E-4032-A39D-A6B1166D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B5CCB-870B-4A3A-AC34-327077F9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EFD1D9-CC71-4C19-9D92-BB20E4C7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9666D-0C98-4B60-B4E5-C442ABFA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D967B-0326-40E2-A973-377B5FDB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8D46D-D3AF-48F2-ABB3-00F04476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B59D0-8EF9-4E32-A3CD-82118F9E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DFCA5-AA44-4F96-9884-D50B0E3C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DC7C-218E-4E4E-A01C-BFE42366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AE246-AC7B-4D66-9AB3-F7EF0F22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35AD5-B544-4F61-A673-E5C4A975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67BC9-0E2F-4499-87CC-0D20A2BE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EB128-C847-4C9A-BCAB-25D02460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EF98B-1CB3-4CDA-AF10-BC9D7F8B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BC4DC-0179-494B-B997-72CC3947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BF437-87C5-4D93-AA0F-B0BCDDDF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E7799-B0EA-4B64-B748-5E243523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743FE-DA3B-498A-93AD-30492ADB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4E8E1-3A83-4E2D-8E5D-D58D0E81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0C8A-B371-4B11-9D54-74657770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244A7-8A7C-4FFD-87F0-5CA43DBB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8FA24-0369-4D5E-AB5F-2126CB81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21BA4-BD34-46E9-A622-39AE9543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D9394-E0A7-4C00-BEB5-9A703893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52F34-1CB4-4379-B479-7B944BEA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524E7-8508-4F3B-B678-7D1AE570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D6A52-303B-43FD-B34F-75828BED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B178D-E5E3-4E73-9536-1044572B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A37A00-F050-4C4D-968E-1900295F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5672B-ADCD-42D8-BF2D-C079EB1A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2DA1-8F2C-4D3C-B190-35D2D710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797652-8D15-4B34-90A7-E3980819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783AA-F134-48E4-8930-E400CDC8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D0AC7-1022-492A-A0EE-BB548808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D1077-E82D-46A8-9A20-6488E81D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5CA19-4583-4081-AB7B-0934D10B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773A-5701-44BE-A059-4CA76FE6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AE96-0819-4FAE-A1BA-79DE9F7F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751D-5D6E-4C3C-800A-154832ED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76E0-EF96-4BA9-A5D5-0AE0B20A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8A7B-2B8E-43E8-AFB2-DFB1A5E1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2B7E-C590-4554-8555-37F9FA85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4D40-F860-4380-8C3C-B18C4567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C825-1631-4C47-AA58-1BD214DC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CCA6-0447-495C-941A-29665E2E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26D4-F84B-4140-BC5C-F4C403D0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872F-447F-4DC8-8E6E-7B1391FA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C2400-006B-48D3-9641-8CA3BD90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8F2F0-CDFA-418B-8EF5-4B3D9C0A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33893-7FB4-4E36-8CF7-EBD16F28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823E7-4B5D-4D90-A4A8-BC23EF79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A169E-F4B7-4694-8C55-24200F1F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54B-58A6-41A6-998F-C4A6DD44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251DF-A19F-45DE-A5E5-E888DC62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15D6A-7887-406A-BE85-892D0F6A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D9B11-583E-4B33-9012-5B6445F7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229B1-66BC-4EA7-BA52-42EC3844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08E8E-01AB-40E9-B0CE-648A1C13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11CB7-EFA8-42D4-AA8B-C1521640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FA9D7-DAE3-456D-B417-77A39541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60CE6-E70B-48DE-AC9A-B327014D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BF9F8-56BB-4D8A-AD5A-3F3C5247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AE250-F4DF-4FE6-B19D-22A88032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E50-712B-4080-8AC1-A79DC8A8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EDD7F-FEC6-4227-A243-CF5FC30E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64290-6359-43AB-9992-3720442E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D1E86-28B4-4DAD-BA5F-3EA6B14A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A85F1-6A63-47FE-AA2D-ADC0ECF6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20A1D-942E-4500-A6DA-59A3D61A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070C7-439A-439D-BE4D-9AFC8054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CC5B5-BC6B-4D35-8D75-706CF43D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FE617-706A-4D6B-AE11-8B247F59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C2931-9DA3-4EB8-B139-47315223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A0149-B070-4406-AD0A-6B791970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3F1-A544-4251-971B-E1DF0A1C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08471-D6B7-47B1-963F-AE8C60CE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59BB5-196D-40EC-AEBA-D979E4FC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73963-8788-4ADA-9C69-BCB2496B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4B7DF-7C77-4423-AD86-6616E24C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3C87D-4DF1-458C-9B3F-1AB2A2A5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9A09D-7AA0-4A58-8A30-026B5E7A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BB90B-F86A-4EE1-BCAC-9D6FA36E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A66A4-0591-4268-92B4-35909013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98F40-4D86-4051-8259-10088692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9952D-33F7-4436-A9AD-FEE2F925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AD1-4A7D-4D23-8242-8E4A92FE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C551F-06E6-47D8-89D6-0028E330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57114-E3F5-4803-B88E-E8083AA8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932C9-1580-4F56-BDA5-AA2D56AC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0ADB3-6726-469F-BF81-02B67C42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0F1E1-275A-499E-9EE5-EB6AE2F9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8B33B-BECD-46B0-889C-D6DA38A9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7361D-662A-422B-BE4A-BC3E167D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3BDC2-714C-41C3-B6FD-051F4E96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4B5F9-A0D1-4EAA-9FD0-9FCC5105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78C4B-9119-4275-AB5F-1E267A2F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739-E869-4EAF-9BC3-C6250FF3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34A07-E61F-4A8D-9599-F5314333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9B00B-E6CD-41AC-ABE5-CFEF1177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B4031-4BC2-499F-8AC8-466687EE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3A9B4-6B42-4F21-80D9-A300E796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F7A8B-DC13-4BFE-8F9F-AC6F7C69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C3688-6ACE-4229-A854-985046D4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A44AC-AE03-4930-87EA-9767128B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C83B8-C4FE-4DEF-8552-76C4E854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49C79-4E6A-42CD-963C-E0C37160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F00B1-FCF6-4950-BB2F-D1ACEC98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CC6F-5294-4909-A61C-EC9D88C3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C335E-F42C-4B83-AE1C-38BE73EA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F824F-BF44-4F75-BE96-453734B6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F8B29-5C5F-4B67-B280-786127CA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A67AB-F6AD-4907-AE51-9A8F9FA9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A1AEC-CAFA-4E8B-8E97-23E9C22A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29FB0-030B-42C4-A492-F1B55370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F0040-9017-41FC-9590-FD5F9722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56D66-2E83-4DFB-A726-F2A9EF81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EA2EF-11E9-48A8-B7D7-9ACA8328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B04C8-E5EA-47F9-9235-FFE5EDCD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C66-6721-4B7C-B0D8-50C5CA8C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72B1B-6B42-4979-AC9E-0B3F21F4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91CB5-2D9E-43E6-9D75-99300918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6FB24-E71C-4CAF-BF09-DE4BD21F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36AE5-FF4F-4FB5-A155-050BD75F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E889F-2464-43A0-A5D7-DC7C301E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372B3-D578-46BA-B19B-817BFEFB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62A53-7C9B-44D2-A633-7BF7BD8E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5C8AD-22E3-4D9A-85DA-66A8CE88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2ECAB-016A-4860-81A4-FC4978EA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1768F-53C5-4564-91D1-F4249F30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9793-7748-4396-A31E-A05540642469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BBA1-794A-47AA-ACF6-C12EA768C266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18A8-AAE0-4805-954C-C81601517711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109D-57EF-41B5-8929-CCAFD731EC4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CB4C-14E5-43E8-A4E6-6AE9CCCD608C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87AC-76CD-4491-9518-0809DEF600C3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45AF-7A73-49E8-B178-A9EA34E1EDB7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2EA3-9BEA-4C1F-8E64-DA9EA83A5D0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F722-9291-49F3-A7B8-E6F85CE86E5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CD91-F5AB-476D-8DD1-6EF8B31611FC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EE46-CF14-4F62-91A1-2E7207984F5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9567-6CA0-4ED7-8875-8CF01C4305A5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CF4E-C2C8-4143-ACC7-C03FB34C761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E171-9D6C-4580-993E-ECA07740D22A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e3b3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0487-C038-463E-A769-24B9163B720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A8DB-488B-4EA3-922B-51549F94B554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e3b3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CCB7-CB2E-4EEE-8912-20881BD22AD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5A11-E297-4502-9F26-5F66D28C0087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004A-618B-45DE-97C6-97F7CEED93F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F3BD-DD73-4F34-84B4-AD44A5DF3833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829F-BD42-4E9F-91AE-6D53169EAD5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361D-0B7B-488E-950F-2EA12DB7AEC9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18CD-CD76-4D2A-BE91-5D4E34B017A8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E528-06F9-4698-8796-DB36526B344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5643720" y="5643360"/>
            <a:ext cx="318600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Заместитель главного врача по организационно – методической работе ГЛПУ ТО ООД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Т.А. Гайсин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324000" y="1071360"/>
            <a:ext cx="85341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a:t>
            </a:r>
            <a:endParaRPr b="0" lang="en-US" sz="20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Функции Кабинета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нсультативная помощь по ведению онкологических больных на дому участковым врачом-терапевтом или врачом общей практики (семейным врачом), контроль за проведением симптоматического лечения онкологических больных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писывание наркотических средств списка II и  III   Перечня наркотических средств, психотропных веществ и их прекурсор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существление динамического наблюдения за больными, получающими лекарственную противоопухолевую терапию в соответствии с рекомендациями врача-онколога, проводимую специализированным онкологическим учреждением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мониторинг и оценка лабораторных показателей с целью предупреждения развития токсических реакций, своевременное направление больного в специализированное онкологическое учреждение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авление больных для паллиативного и симптоматического лечения в соответствующие отделения онкологических диспансеров (онкологических больниц), хоспис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причин отказов от госпитализаци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чет онкологических больных; проживающих на прикрепленной к Кабинету территори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ценка своевременности направления в онкологические диспансеры сведений о впервые выявленных случаях злокачественных новообразований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консультативная и методическая помощь специалистам медицинских учреждений по вопросам проведения профилактических осмотров, диспансеризации больных с предопухолевыми и хроническими заболеваниями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санитарно-гигиеническое просвещение населения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и разбор с участковыми врачами-терапевтами, врачами общей практики (семейный врач), а также врачами-специалистами диагностических ошибок и причин запущенности онкологических заболеваний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ценка полноты и эффективности профилактических осмотров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оформления амбулаторно-поликлиническими учреждениями установленных форм медицинской документации при обследовании и лечении онкологических больных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едение учетной и отчетной документации, предоставление отчетов о деятельности в установленном порядке, сбор данных для регистров, ведение которых предусмотрено законодательством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ные функции в соответствии с законодательством Российской Федерации, нормативными правовыми актами субъектов Российской Федерации, муниципальных образований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В структуре Кабинете рекомендуется предусматривать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приема больных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выполнения лечебных процедур, входящих в функции кабинета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хранения медицинской документац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Кабинет оснащается оборудованием в соответствии со стандартом оснащения (приложение №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Рекомендуемые штатные нормативы медицинского 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ного персонала первичного онкологического отделения (кабинета), отделения городской и центральной районной поликлиники, отделений онкологического диспансера (онкологической больницы), отделения паллиативной помощи онкологическим больным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214200" y="1643040"/>
          <a:ext cx="8715600" cy="4608360"/>
        </p:xfrm>
        <a:graphic>
          <a:graphicData uri="http://schemas.openxmlformats.org/drawingml/2006/table">
            <a:tbl>
              <a:tblPr/>
              <a:tblGrid>
                <a:gridCol w="4143600"/>
                <a:gridCol w="4572000"/>
              </a:tblGrid>
              <a:tr h="48492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ервичный онкологический отделение (кабинет) городской и центральной районной 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64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Врачебны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86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рач-онколог или врач-специалист, прошедший подготовку по онк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должность на 500 человек контингента диспансерных онкологических больных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орма нагрузки на амбулаторном прием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консультативный прием – 20 мин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лечебно-диагностический прием (в т.ч. повторный) – 20 мин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консультативный прием (на выезде) – 60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Средн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9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дицинская се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должность на 500 человек контингента диспансерных онкологических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дицинская сестра процедур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з расчета 1 должность на процедурный каби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 gridSpan="2"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Примечание: При меньшем числе контингента диспансерных онкологических больных– 1 должность врача и  1 должность среднего медицинского персонала в соотношении 1: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058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тандарт оснащения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федеральных организаций, оказывающих медицинскую помощь онкологическим больным, а также соответствующих организаций, находящихся в ведении субъекта Российской Федераци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285840" y="2571840"/>
          <a:ext cx="8501040" cy="3500280"/>
        </p:xfrm>
        <a:graphic>
          <a:graphicData uri="http://schemas.openxmlformats.org/drawingml/2006/table">
            <a:tbl>
              <a:tblPr/>
              <a:tblGrid>
                <a:gridCol w="5352840"/>
                <a:gridCol w="3148200"/>
              </a:tblGrid>
              <a:tr h="622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 осн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1260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ребуемое количество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аминарная камера для стерильного разведения лекарственных препа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есы для взвешивания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нфузо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6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ейф для хранения сильнодействующих и психотропных средств, докумен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Прямоугольник 4"/>
          <p:cNvSpPr/>
          <p:nvPr/>
        </p:nvSpPr>
        <p:spPr>
          <a:xfrm>
            <a:off x="1214280" y="191628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рвичное онкологическое отделение (каби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б организации деятельности хоспис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 оказании помощи онкологическим больным</a:t>
            </a:r>
            <a:endParaRPr b="0" lang="en-US" sz="20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Настоящее Положение регулирует организацию деятельности хосписа по оказанию медицинской, социальной, психологической помощи больным с распространенными формами онкологических заболеваний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оспис является учреждением здравоохранения, предназначенным для оказания медицинской, социальной, психологической, юридической помощи преимущественно инкурабельным онкологическим больным по рекомендации врача-онколога с целью обеспечения необходимой обезболивающей терапии, оказания медико-социальной помощи, ухода, психо-социальной реабилитации, а также психологической и социальной поддержки родственников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Заголовок 11"/>
          <p:cNvSpPr/>
          <p:nvPr/>
        </p:nvSpPr>
        <p:spPr>
          <a:xfrm>
            <a:off x="971640" y="189000"/>
            <a:ext cx="75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3" name="Object 2"/>
          <p:cNvGraphicFramePr/>
          <p:nvPr/>
        </p:nvGraphicFramePr>
        <p:xfrm>
          <a:off x="216000" y="115920"/>
          <a:ext cx="874872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15920"/>
                    <a:ext cx="87487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1"/>
          <p:cNvSpPr/>
          <p:nvPr/>
        </p:nvSpPr>
        <p:spPr>
          <a:xfrm>
            <a:off x="285840" y="459000"/>
            <a:ext cx="850104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И СОЦИАЛЬН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ТВЕРЖДАЮ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министр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и социальног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Российской Федераци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 Скворц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Ы ВЫЯВЛЕНИЯ ОНКОЛОГИЧЕСКИХ ЗАБОЛЕВАНИЙ В РАБОТЕ ВРАЧА ОБЩЕЙ ПР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для организаторов здравоохранения, врачей общей практики, профильных специалистов, врачей-онко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1B5A-E872-4E5F-9684-CBEFE43DA7F1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Заголовок 11"/>
          <p:cNvSpPr/>
          <p:nvPr/>
        </p:nvSpPr>
        <p:spPr>
          <a:xfrm>
            <a:off x="971640" y="44280"/>
            <a:ext cx="75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8317080" y="6453360"/>
            <a:ext cx="82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Object 11"/>
          <p:cNvGraphicFramePr/>
          <p:nvPr/>
        </p:nvGraphicFramePr>
        <p:xfrm>
          <a:off x="324000" y="189000"/>
          <a:ext cx="8496000" cy="59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8496000" cy="59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6760"/>
            <a:ext cx="850428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публиковано 21 декабря 2009 г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ступает в силу: 1 января 2010 г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Зарегистрирован в Минюсте РФ 15 декабря 2009 г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Регистрационный N 15605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соответствии со статьей 37.1 Основ законодательства Российской Федерации об охране здоровья граждан от 22 июля 1993 г. N 5487-1 (Ведомости Съезда народных депутатов Российской Федерации и Верховного Совета Российской Федерации, 1993, N 33, ст. 1318; Собрание законодательства Российской Федерации, 2007, N 1, ст. 21)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твердить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 согласно приложению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Министр Т. Голикова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4"/>
          <p:cNvSpPr/>
          <p:nvPr/>
        </p:nvSpPr>
        <p:spPr>
          <a:xfrm>
            <a:off x="571680" y="214200"/>
            <a:ext cx="7786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соответствии с приказом Министерства здравоохранения и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, с целью своевременного обеспечения подачи све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5"/>
          <p:cNvSpPr/>
          <p:nvPr/>
        </p:nvSpPr>
        <p:spPr>
          <a:xfrm>
            <a:off x="285840" y="1643040"/>
            <a:ext cx="85723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 Главным врачам ЛПУ юга Тюменской обла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1.  Сосредоточить все виды онкологической помощи и диспансерного наблюдения пациентов  на уровне плановой первичной медико-санитарной помощи, в кабинетах первичного онкологического при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2.  Обеспечить непрерывную работу кабинета первичного онкологического приема, укомплектовать кадрами в том числе за счет возможного совмещения ставок,в соответствии с приказом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3.  Укомплектовать кабинеты первичного онкологического приема в соответствии с табелем оснащения по приказу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4.  Обеспечить регистрацию пациентов, с нарастающим итогом с 01.01.2010 года, впервые обратившихся в кабинет первичного онкологического приема, а так же пациентов, направленных в онкологический диспансер (по локализациям), для чего ввести соответствующие журналы (Приложение №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5.  На основании документации первичного онкологического кабинета информация по мониторингу(Приложение №2) предоставляется в срок до 28 числа отчетного месяца: по электронной почте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Box 1"/>
          <p:cNvSpPr/>
          <p:nvPr/>
        </p:nvSpPr>
        <p:spPr>
          <a:xfrm>
            <a:off x="285840" y="285840"/>
            <a:ext cx="864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Главному врачу ГЛПУ ТО «Областной онкологический диспансер»   (А.Г.Синяков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1. Обеспечить свод и анализ информации в соответствии с приказом Министерства здравоохранения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2. Проводить в ежемесячном режиме курацию районных ЛПУ и поликлиник г.Тюмени по методике мониторирования и оказывать консультативную помощь по необход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3. Подготовленную информацию предоставлять на электронном и бумажном носителе в департамент здравоохранения Тюменской области сроком до 3 числа очередного меся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4. ГЛПУ ТО «Областной онкологический диспансер» в срок до 15.02.2010г обеспечить все ЛПУ юга Тюменской области и поликлиник г.Тюмени экземпляром журнала регистрации и инструкции по его запол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214200" y="285840"/>
            <a:ext cx="8715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.   Учитывать результаты работы по мониторингу, направленного на совершенствование организации онкологической помощи населению, при определении размера премирования главных врачей областных ЛПУ, поликлиник г.Тюмени, главного врача ГЛПУ ТО «Областной онкологический диспанс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    Рекомендовать руководителям органов упра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1. Начальнику управления по здравоохранению администрации г.Тюмени (Ярцеву С.Е.) и советнику главы администрации г.Тобольска (Репетиеву В.И.), обеспечить исполнение данного приказа в муниципальных учреждениях г.Тюмени и г.Тоболь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2. Производить свод информации по поликлиникам г.Тюмени и предоставлять в ГЛПУ ТО «Областной онкологический диспансер» общую информацию сроком до 28 числа отчетного месяца. : по электронной почте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.    Контроль за исполнением приказа возложить на  первого заместителя директора департамента Н.С.Брын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иректор департамента                                                  А.Ю.Кудр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1"/>
          <p:cNvSpPr/>
          <p:nvPr/>
        </p:nvSpPr>
        <p:spPr>
          <a:xfrm>
            <a:off x="2105640" y="143280"/>
            <a:ext cx="47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Журнал учета оказания онкологической помо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285840" y="500040"/>
          <a:ext cx="8572320" cy="1143000"/>
        </p:xfrm>
        <a:graphic>
          <a:graphicData uri="http://schemas.openxmlformats.org/drawingml/2006/table">
            <a:tbl>
              <a:tblPr/>
              <a:tblGrid>
                <a:gridCol w="662040"/>
                <a:gridCol w="815760"/>
                <a:gridCol w="946080"/>
                <a:gridCol w="1273320"/>
                <a:gridCol w="1238400"/>
                <a:gridCol w="636480"/>
                <a:gridCol w="636480"/>
                <a:gridCol w="636480"/>
                <a:gridCol w="863640"/>
                <a:gridCol w="863640"/>
              </a:tblGrid>
              <a:tr h="245160"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паци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обра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ый диа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направления в диспанс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диа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а исключ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85840" y="1960560"/>
          <a:ext cx="8572320" cy="4681440"/>
        </p:xfrm>
        <a:graphic>
          <a:graphicData uri="http://schemas.openxmlformats.org/drawingml/2006/table">
            <a:tbl>
              <a:tblPr/>
              <a:tblGrid>
                <a:gridCol w="339480"/>
                <a:gridCol w="330480"/>
                <a:gridCol w="295200"/>
                <a:gridCol w="361800"/>
                <a:gridCol w="411120"/>
                <a:gridCol w="411480"/>
                <a:gridCol w="411120"/>
                <a:gridCol w="334800"/>
                <a:gridCol w="246240"/>
                <a:gridCol w="245880"/>
                <a:gridCol w="328680"/>
                <a:gridCol w="365040"/>
                <a:gridCol w="461880"/>
                <a:gridCol w="536760"/>
                <a:gridCol w="520560"/>
                <a:gridCol w="596880"/>
                <a:gridCol w="519120"/>
                <a:gridCol w="520920"/>
                <a:gridCol w="371520"/>
                <a:gridCol w="371160"/>
                <a:gridCol w="592200"/>
              </a:tblGrid>
              <a:tr h="1373040">
                <a:tc gridSpan="13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етод подтверждения диагн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роведено ле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Число умерших больных от З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атол. иссл. умерших от  З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 gridSpan="3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Эндоскопичес-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У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ент-ге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Лаборатор-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диоизотоп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Г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Химиотерап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Лучев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пера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омбинирова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аллиа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 состоящих на уче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360"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Г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зят  о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цитолог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Т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 контраст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Гемат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Цитоло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Ф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канир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7" name=""/>
          <p:cNvGraphicFramePr/>
          <p:nvPr/>
        </p:nvGraphicFramePr>
        <p:xfrm>
          <a:off x="214200" y="1643040"/>
          <a:ext cx="8715600" cy="4654440"/>
        </p:xfrm>
        <a:graphic>
          <a:graphicData uri="http://schemas.openxmlformats.org/drawingml/2006/table">
            <a:tbl>
              <a:tblPr/>
              <a:tblGrid>
                <a:gridCol w="357480"/>
                <a:gridCol w="2268360"/>
                <a:gridCol w="541440"/>
                <a:gridCol w="1076400"/>
                <a:gridCol w="739440"/>
                <a:gridCol w="1011240"/>
                <a:gridCol w="1009800"/>
                <a:gridCol w="855720"/>
                <a:gridCol w="855720"/>
              </a:tblGrid>
              <a:tr h="420480"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специа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ланировано обучение на год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лено специалистов на отчетную д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тся подготовка специалистов на отчетную д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чреждения образования и (или) науки, в котором осуществлялась подготовка специал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ли повышение квалифика-ции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ли профессиональ-ную переподготовку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чреждения образования и (или) науки, в котором осуществляется подготовка специал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ят повышение квалифика-ции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ят профессионал-ную переподготовку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. – реанимат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ая диагно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. диагно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ая он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Rectangle 1"/>
          <p:cNvSpPr/>
          <p:nvPr/>
        </p:nvSpPr>
        <p:spPr>
          <a:xfrm>
            <a:off x="0" y="220680"/>
            <a:ext cx="9001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ежемесячного отчета по мониторингу  оказания онкологической помощи.                    Форма № МОПН-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дготовке медицинского персонала для учреждений здравоохранения субъекта Российской Федерации и муниципальных образований, участвующих в реализации мероприятий, направленных на совершенствование организации онкологической помощи населению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бъект Российской Федерац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______________ 200_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сяц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1"/>
          <p:cNvSpPr/>
          <p:nvPr/>
        </p:nvSpPr>
        <p:spPr>
          <a:xfrm>
            <a:off x="214200" y="151560"/>
            <a:ext cx="8643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МОПН-Ц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сновных целевых показателях деятельности учреждений субъекта Российской Федерации и муниципальных образований, участвующих в реализации мероприятий, направленных на совершенствование организации онкологической помощи населению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бъект Российской Федер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_____________ 200_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сяц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еятельности первичных онкологических кабинетов (отделений) (муниципальное зве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57120" y="2071800"/>
          <a:ext cx="8429760" cy="3882960"/>
        </p:xfrm>
        <a:graphic>
          <a:graphicData uri="http://schemas.openxmlformats.org/drawingml/2006/table">
            <a:tbl>
              <a:tblPr/>
              <a:tblGrid>
                <a:gridCol w="546120"/>
                <a:gridCol w="2825640"/>
                <a:gridCol w="1686240"/>
                <a:gridCol w="1685880"/>
                <a:gridCol w="1685880"/>
              </a:tblGrid>
              <a:tr h="252396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прикрепленного населения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рошедших через первичный кабинет за отчетный период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рошедших через первичный кабинет за соответствующий период, предшествующий отчетному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90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й онкологический кабинет (отделение) (муниципальное зве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1"/>
          <p:cNvSpPr/>
          <p:nvPr/>
        </p:nvSpPr>
        <p:spPr>
          <a:xfrm>
            <a:off x="142920" y="142920"/>
            <a:ext cx="88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генты выявленных первичными онкологическими кабинетами (отделения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14200" y="571680"/>
          <a:ext cx="8715600" cy="5879880"/>
        </p:xfrm>
        <a:graphic>
          <a:graphicData uri="http://schemas.openxmlformats.org/drawingml/2006/table">
            <a:tbl>
              <a:tblPr/>
              <a:tblGrid>
                <a:gridCol w="500040"/>
                <a:gridCol w="2384640"/>
                <a:gridCol w="542880"/>
                <a:gridCol w="1312920"/>
                <a:gridCol w="1312920"/>
                <a:gridCol w="1331640"/>
                <a:gridCol w="1330560"/>
              </a:tblGrid>
              <a:tr h="385560"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отчетны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оответствующий период, предшествующий отчетном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региональный или окружной онкологический диспансер (РОД/ООД) для уточнения диагно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ольных, с подтвержденным в РОД или ООД диагноз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региональный или окружной онкологический диспансер (РОД/ООД) для уточнения диагно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ольных, с подтвержденным диагнозом в РОД или ООД диагноз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смотренных с целью выявления злокачественных новообразований (ЗНО), все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ч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уд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ая киш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итовид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тель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чеполовая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тазовые орга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опухоли кож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вной моз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ночник и спинной моз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и, суставы и мягкие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8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атическая и кроветворная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6" name=""/>
          <p:cNvGraphicFramePr/>
          <p:nvPr/>
        </p:nvGraphicFramePr>
        <p:xfrm>
          <a:off x="214200" y="214200"/>
          <a:ext cx="8715600" cy="5973840"/>
        </p:xfrm>
        <a:graphic>
          <a:graphicData uri="http://schemas.openxmlformats.org/drawingml/2006/table">
            <a:tbl>
              <a:tblPr/>
              <a:tblGrid>
                <a:gridCol w="500040"/>
                <a:gridCol w="2813040"/>
                <a:gridCol w="865440"/>
                <a:gridCol w="1008000"/>
                <a:gridCol w="1295280"/>
                <a:gridCol w="1152720"/>
                <a:gridCol w="1081080"/>
              </a:tblGrid>
              <a:tr h="85284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первые зарегистрированных больных ЗНО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ено специальным исследование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ие исследования, 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ы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4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доскопически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скоп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й желудочно-кишечного тр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зятием материалов на цитоморфологическое иссле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4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ые исследования (число проведенных анализ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ферментные анализы крови на онкомарк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7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214200" y="285840"/>
          <a:ext cx="8715600" cy="5121360"/>
        </p:xfrm>
        <a:graphic>
          <a:graphicData uri="http://schemas.openxmlformats.org/drawingml/2006/table">
            <a:tbl>
              <a:tblPr/>
              <a:tblGrid>
                <a:gridCol w="500040"/>
                <a:gridCol w="2928960"/>
                <a:gridCol w="857520"/>
                <a:gridCol w="900000"/>
                <a:gridCol w="1295280"/>
                <a:gridCol w="1152720"/>
                <a:gridCol w="1081080"/>
              </a:tblGrid>
              <a:tr h="426600">
                <a:tc rowSpan="2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Т (КТ)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ные с использованием контрастных препар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rowSpan="2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изотопны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нир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химически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6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выявленных, в том числе ранее, больных ЗНО I, II, III, IV стадий проведен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отерапевтическ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евая терап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терап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мерших больных от З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стоявших под диспансерным наблюд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исследований умерших больных от ЗНО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>
            <a:off x="2157480" y="2786040"/>
            <a:ext cx="41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214200" y="142884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астоящий Порядок регулирует вопросы оказания медицинской помощи населению при онкологических заболеваниях в государственных и муниципальных учреждениях здравоохране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Больным с онкологическими заболеваниями медицинская помощь оказывается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рамках плановой первичной медико-санитарной помощи - терапевтическая, хирургическая и онкологическая помощь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рамках плановой специализированной, в том числе высокотехнологичной медицинской помощи - специализированная онкологическая помощ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казание плановой помощи больным с онкологическими заболеваниями в рамках первичной медико-санитарной помощи организуется в амбулаторно-поликлинических и больничных учреждениях здравоохране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казание плановой специализированной, в том числе высокотехнологичной медицинской помощи больным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214200" y="150012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лановая онкологическая помощь в рамках первичной медико-санитарной помощи в амбулаторно-поликлинических учреждениях оказывается на основе взаимодействия врачей первичного звена здравоохранения: участковых врачей-терапевтов, врачей общей практики (семейных врачей), врачей-хирургов и врачей-онкологов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едицинские работники фельдшерско-акушерских пунктов оказывают медицинскую помощь больным с онкологическими заболеваниями в соответствии с рекомендациями врачей-онкологов и врачей-специалистов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1.       В амбулаторно-поликлинических учреждениях участковые врачи-терапевты, врачи общей практики (семейные врачи), врачи-хирурги во взаимодействии с врачами-специалистами выявляют риск развития онкологических заболеваний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2.       При подозрении или выявлении опухолевого заболевания пациента направляют в первичный онкологический кабинет (отделение), после чего врач-специалист первичного онкологического кабинета направляет пациента в онкологический диспансер, онкологическую больницу для уточнения диагноза и определения последующей тактики ведения пациент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3.       В случае подозрения и/или выявления у пациента злокачественного новообразования врач-специалист первичного онкологического кабинета уведомляет организационно-методический отдел онкологического диспансера для постановки больного на учет (с его добровольного информированного согласия)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4.        В случае подтверждения в онкологическом диспансере у пациента факта наличия онкологического заболевания, информация о диагнозе пациента (с его добровольного информированного согласия) направляется из организационно-методического отдела онкологического диспансера в первичный онкологический кабинет, из которого был направлен пациент для последующего диспансерного наблюдения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864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14200" y="150012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6. В амбулаторно-поликлинических учреждениях онкологическая помощь больным с онкологическими заболеваниями оказывается врачами-онкологами в первичном онкологическом кабинете (отделении, дневном стационаре), осуществляющим свою деятельность в соответствии с Положениями об организации деятельности первичного онкологического кабинета поликлиники, первичного онкологического отделения (приложения N 1 и 2 к Порядку оказания медицинской помощи населению при онкологических заболеваниях, утвержденному настоящим приказом)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7. Плановое стационарное обследование и лечение больных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7.1. Специализированная, в том числе высокотехнологичная медицинская помощь больным с онкологическими заболеваниями оказывается в федеральных организациях, оказывающих медицинскую помощь, а также в онкологическом диспансере, онкологической больнице, осуществляющих свою деятельность в соответствии с Положением об организации деятельности онкологического диспансера (онкологической больницы) (приложение N 4 к Порядку оказания медицинской помощи населению при онкологических заболеваниях, утвержденному настоящим приказом) и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4297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85840" y="157140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2. Оснащение онкологического диспансера, онкологической больницы осуществляется в зависимости от профиля структурного подразделения в соответствии со стандартами оснащения (приложение N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3.   При выявлении у больного в онкологическом диспансере медицинских показаний к высокотехнологичным методам лечения помощь оказывается ему в соответствии с установленным порядком оказания высокотехнологичной медицинской помощ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4. Больные злокачественными новообразованиями подлежат пожизненному диспансерному наблюдению в онкологическом диспансере. Если течение заболевания не требует изменения тактики ведения пациента, диспансерные осмотры после проведенного лечения осуществляются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течение первого года один раз в три месяца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течение второго года - один раз в шесть месяцев, в дальнейшем - один раз в го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214200" y="1356840"/>
            <a:ext cx="8715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8.     В организации онкологической помощи больным сочетаются лечебные методы (хирургический, радиотерапевтический и лекарственный) и паллиативные мероприятия в отделениях (хосписе), осуществляющих свою деятельность в соответствии с положениями об организации деятельности структурных подразделений федеральных организаций, оказывающих медицинскую помощь онкологическим больным, а также в соответствующих организациях, находящихся в ведении субъекта Российской Федерации (приложения N 4 и 6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9.    Скорая медицинская помощь больным злокачественными новообразованиями оказывается станциями (подстанциями) скорой медицинской помощи и отделениями скорой медицинской помощи при районных и центральных районных больницах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казание скорой медицинской помощи больным злокачественными новообразованиями осуществляют специализированные реаниматологические, врачебные и фельдшерские выездные бригады, штатный состав которых определен приказом Мин-здравсоцразвития России от 1 ноября 2004 г. N 179 "Об утверждении порядка оказания скорой медицинской помощи" (зарегистрирован Минюстом России 23 ноября 2004 г., регистрационный N 6136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и подозрении и/или выявлении у больных злокачественного новообразования в ходе оказания им скорой медицинской помощи, таких больных переводят или направляют в онкологические диспансеры (онкологические больницы) для определения тактики ведения и необходимости применения дополнительно других методов специализированного противоопухолевого лечен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0. В случае если проведение медицинских манипуляций, связанных с оказанием помощи онкологическим больным, может повлечь возникновение болевых ощущений у пациента, такие манипуляции должны проводиться с обезболивание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Настоящее Положение определяет организацию деятельности первичного онкологического кабинета городской и центральной районной поликлини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Первичный онкологический кабинет (далее - Кабинет) создается в городской и центральной районной поликлинике при обслуживании контингента онкологических больных до 500 человек для обеспечения консультативной, диагностической помощью больным с онкологическими и предопухолевыми заболеваниями, своевременного направления больных в онкологическое учреждение для определения тактики ведения, диспансерного наблюдения онкологических больных, мониторинга за состоянием здоровья пациентов групп риска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214200" y="1357200"/>
          <a:ext cx="8715600" cy="5100840"/>
        </p:xfrm>
        <a:graphic>
          <a:graphicData uri="http://schemas.openxmlformats.org/drawingml/2006/table">
            <a:tbl>
              <a:tblPr/>
              <a:tblGrid>
                <a:gridCol w="1928880"/>
                <a:gridCol w="857160"/>
                <a:gridCol w="1285920"/>
                <a:gridCol w="1714680"/>
                <a:gridCol w="2928960"/>
              </a:tblGrid>
              <a:tr h="536040"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йон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остоит на конец года (чел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Штатный норматив (ставок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актическое обеспечение онкологами (ставок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учение по онкологи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(вид учебы, год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а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мизо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омаше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дюж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ай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ул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Ишим, Ишимский р-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Тобольс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ышман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одоу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е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-Тавд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ут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7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д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ок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боль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р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г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лутор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5:46:25Z</dcterms:created>
  <dc:creator>Кислый Денис</dc:creator>
  <dc:description/>
  <dc:language>en-US</dc:language>
  <cp:lastModifiedBy>LEGION</cp:lastModifiedBy>
  <dcterms:modified xsi:type="dcterms:W3CDTF">2014-11-07T12:30:44Z</dcterms:modified>
  <cp:revision>20</cp:revision>
  <dc:subject/>
  <dc:title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dc:title>
</cp:coreProperties>
</file>