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f7a70"/>
                </a:solidFill>
                <a:latin typeface="Georgia"/>
              </a:rPr>
              <a:t>Click to move the slide</a:t>
            </a: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ACAAF-44ED-4F2F-90C7-954EBF4AAF3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каз Министерства здравоохранения и социального развития Российской Федерации (Минздравсоцразвития России) от 3 декабря 2009 г. N 944н г. Москва "Об утверждении Порядка оказания медицинской помощи населению при онкологических заболеваниях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Заместитель главного врача по организационно – методической работе ГЛПУ ТО ООД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Т.А. Гайсин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EFDAF-C3F4-44F9-A9BA-14976C72665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Положение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об организации деятельности первичного онкологического кабинета городской и центральной районной поликлиники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Функции Кабинет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сультативная помощь по ведению онкологических больных на дому участковым врачом-терапевтом или врачом общей практики (семейным врачом), контроль за проведением симптоматического лечения онкологических больны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исывание наркотических средств списка II и  III   Перечня наркотических средств, психотропных веществ и их прекурсор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E0F05-26D4-4909-B656-83F078DFCB8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Положение</a:t>
            </a:r>
            <a:br>
              <a:rPr sz="1000"/>
            </a:b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об организации деятельности первичного онкологического кабинета городской и центральной районной поликлиники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уществление динамического наблюдения за больными, получающими лекарственную противоопухолевую терапию в соответствии с рекомендациями врача-онколога, проводимую специализированным онкологическим учреждением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ниторинг и оценка лабораторных показателей с целью предупреждения развития токсических реакций, своевременное направление больного в специализированное онкологическое учрежде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авление больных для паллиативного и симптоматического лечения в соответствующие отделения онкологических диспансеров (онкологических больниц), хоспис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 причин отказов от госпитализ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т онкологических больных; проживающих на прикрепленной к Кабинету территор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ка своевременности направления в онкологические диспансеры сведений о впервые выявленных случаях злокачественных новообразован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9662E-1473-45CD-BB65-29618599BEE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Положение</a:t>
            </a:r>
            <a:br>
              <a:rPr sz="1000"/>
            </a:b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об организации деятельности первичного онкологического кабинета городской и центральной районной поликлиники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сультативная и методическая помощь специалистам медицинских учреждений по вопросам проведения профилактических осмотров, диспансеризации больных с предопухолевыми и хроническими заболеваниям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нитарно-гигиеническое просвещение населен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 и разбор с участковыми врачами-терапевтами, врачами общей практики (семейный врач), а также врачами-специалистами диагностических ошибок и причин запущенности онкологических заболевани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ка полноты и эффективности профилактических осмотр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 оформления амбулаторно-поликлиническими учреждениями установленных форм медицинской документации при обследовании и лечении онкологических больны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дение учетной и отчетной документации, предоставление отчетов о деятельности в установленном порядке, сбор данных для регистров, ведение которых предусмотрено законодательств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ые функции в соответствии с законодательством Российской Федерации, нормативными правовыми актами субъектов Российской Федерации, муниципальных образован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22452-ED69-4BF8-9AAD-7FA90E5B19B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Положение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об организации деятельности первичного онкологического кабинета городской и центральной районной поликлиники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В структуре Кабинете рекомендуется предусматрива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мещение для приема больных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мещение для выполнения лечебных процедур, входящих в функции кабинет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мещение для хранения медицинской документ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Кабинет оснащается оборудованием в соответствии со стандартом оснащения (приложение № 5 к Порядку оказания медицинской помощи населению при онкологических заболеваниях, утвержденному настоящим приказом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BC137-2B14-48C0-8729-3DA9FEFC25D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комендуемые штатные нормативы медицинского и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ого персонала первичного онкологического отделения (кабинета), отделения городской и центральной районной поликлиники, отделений онкологического диспансера (онкологической больницы), отделения паллиативной помощи онкологическим больны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04DC1-42ED-497E-90F8-7FA0202DAED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тандарт оснаще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едеральных организаций, оказывающих медицинскую помощь онкологическим больным, а также соответствующих организаций, находящихся в ведении субъекта Российской Федерац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1EF18-08C6-4F1C-B842-5EB57FDA714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Положение</a:t>
            </a:r>
            <a:br>
              <a:rPr sz="1000"/>
            </a:b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об организации деятельности хосписа </a:t>
            </a:r>
            <a:br>
              <a:rPr sz="1000"/>
            </a:b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при оказании помощи онкологическим больным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стоящее Положение регулирует организацию деятельности хосписа по оказанию медицинской, социальной, психологической помощи больным с распространенными формами онкологических заболева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оспис является учреждением здравоохранения, предназначенным для оказания медицинской, социальной, психологической, юридической помощи преимущественно инкурабельным онкологическим больным по рекомендации врача-онколога с целью обеспечения необходимой обезболивающей терапии, оказания медико-социальной помощи, ухода, психо-социальной реабилитации, а также психологической и социальной поддержки родственник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5D96E-C56A-41D7-ACF3-4A4387E141C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0F3D0-F929-4398-8EC3-D78856AEDE7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ИСТЕРСТВО ЗДРАВООХРАНЕНИЯ И СОЦИАЛЬНОГО РАЗВИ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СИЙСКОЙ ФЕДЕР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УТВЕРЖДАЮ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меститель министра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равоохранения и социального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я Российской Федерации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И. Скворцо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buNone/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ГОРИТМЫ ВЫЯВЛЕНИЯ ОНКОЛОГИЧЕСКИХ ЗАБОЛЕВАНИЙ В РАБОТЕ ВРАЧА ОБЩЕЙ ПРАК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ческие рекомендации для организаторов здравоохранения, врачей общей практики, профильных специалистов, врачей-онколог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ск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9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18C75-E113-4A2C-A5D6-BAB307A6DA8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Приказ Министерства здравоохранения и социального развития Российской Федерации (Минздравсоцразвития России) от 3 декабря 2009 г. N 944н г. Москва "Об утверждении Порядка оказания медицинской помощи населению при онкологических заболеваниях»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убликовано 21 декабря 2009 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тупает в силу: 1 января 2010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регистрирован в Минюсте РФ 15 декабря 2009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гистрационный N 1560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оответствии со статьей 37.1 Основ законодательства Российской Федерации об охране здоровья граждан от 22 июля 1993 г. N 5487-1 (Ведомости Съезда народных депутатов Российской Федерации и Верховного Совета Российской Федерации, 1993, N 33, ст. 1318; Собрание законодательства Российской Федерации, 2007, N 1, ст. 21)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казываю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тверди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рядок оказания медицинской помощи населению при онкологических заболеваниях согласно приложен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инистр Т. Голико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30F46-F195-448F-9150-78435D466DB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В соответствии с приказом Министерства здравоохранения и социального развития Российской Федерации от 18.01.2010 года №16 г.Москва «О порядке организации мониторинга реализации мероприятий, направленных на совершенствование организации онкологической помощи населению», с целью своевременного обеспечения подачи свед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eorgia"/>
              </a:rPr>
              <a:t>Приказываю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1. Главным врачам ЛПУ юга Тюменской области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1.1.  Сосредоточить все виды онкологической помощи и диспансерного наблюдения пациентов  на уровне плановой первичной медико-санитарной помощи, в кабинетах первичного онкологического прием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1.2.  Обеспечить непрерывную работу кабинета первичного онкологического приема, укомплектовать кадрами в том числе за счет возможного совмещения ставок,в соответствии с приказом МЗиСР №944н от 03.12.2009 «Об утверждении порядка оказания медицинской помощи населению при онкологических заболеваниях»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1.3.  Укомплектовать кабинеты первичного онкологического приема в соответствии с табелем оснащения по приказу МЗиСР №944н от 03.12.2009 «Об утверждении порядка оказания медицинской помощи населению при онкологических заболеваниях»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1.4.  Обеспечить регистрацию пациентов, с нарастающим итогом с 01.01.2010 года, впервые обратившихся в кабинет первичного онкологического приема, а так же пациентов, направленных в онкологический диспансер (по локализациям), для чего ввести соответствующие журналы (Приложение №1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1.5.  На основании документации первичного онкологического кабинета информация по мониторингу(Приложение №2) предоставляется в срок до 28 числа отчетного месяца: по электронной почте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Georgia"/>
              </a:rPr>
              <a:t>tymen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Georgia"/>
              </a:rPr>
              <a:t>-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Georgia"/>
              </a:rPr>
              <a:t>onko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Georgia"/>
              </a:rPr>
              <a:t>@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Georgia"/>
              </a:rPr>
              <a:t>mail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Georgia"/>
              </a:rPr>
              <a:t>.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Georgia"/>
              </a:rPr>
              <a:t>ru</a:t>
            </a: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 и дублировать на бумажном носителе в канцелярию департамента здравоохранения с пометкой для ГЛПУ ТО «Областной онкологический диспансер»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382CD-0B3A-45FC-A5A6-0854F6EED80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4784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Главному врачу ГЛПУ ТО «Областной онкологический диспансер»   (А.Г.Синякову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4784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1. Обеспечить свод и анализ информации в соответствии с приказом Министерства здравоохранения социального развития Российской Федерации от 18.01.2010 года №16 г.Москва «О порядке организации мониторинга реализации мероприятий, направленных на совершенствование организации онкологической помощи населению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4784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2. Проводить в ежемесячном режиме курацию районных ЛПУ и поликлиник г.Тюмени по методике мониторирования и оказывать консультативную помощь по необходим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4784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3. Подготовленную информацию предоставлять на электронном и бумажном носителе в департамент здравоохранения Тюменской области сроком до 3 числа очередного месяц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4784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4. ГЛПУ ТО «Областной онкологический диспансер» в срок до 15.02.2010г обеспечить все ЛПУ юга Тюменской области и поликлиник г.Тюмени экземпляром журнала регистрации и инструкции по его заполнен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4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4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017D4-C94D-427D-96CB-F00163A4182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4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  Учитывать результаты работы по мониторингу, направленного на совершенствование организации онкологической помощи населению, при определении размера премирования главных врачей областных ЛПУ, поликлиник г.Тюмени, главного врача ГЛПУ ТО «Областной онкологический диспансер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4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   Рекомендовать руководителям органов управл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4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1. Начальнику управления по здравоохранению администрации г.Тюмени (Ярцеву С.Е.) и советнику главы администрации г.Тобольска (Репетиеву В.И.), обеспечить исполнение данного приказа в муниципальных учреждениях г.Тюмени и г.Тобольс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4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2. Производить свод информации по поликлиникам г.Тюмени и предоставлять в ГЛПУ ТО «Областной онкологический диспансер» общую информацию сроком до 28 числа отчетного месяца. : по электронной почте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tymen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-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onko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@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mail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.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ru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дублировать на бумажном носителе в канцелярию департамента здравоохранения с пометкой для ГЛПУ ТО «Областной онкологический диспансер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4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   Контроль за исполнением приказа возложить на  первого заместителя директора департамента Н.С.Брынз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4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4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478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ректор департамента                                                  А.Ю.Кудря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4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F4479-E449-4A4A-8FC2-05368A51182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лагодарю за вним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EE652-F382-402A-BA5C-D7012B93531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каз Министерства здравоохранения и социального развития Российской Федерации (Минздравсоцразвития России) от 3 декабря 2009 г. N 944н г. Москва "Об утверждении Порядка оказания медицинской помощи населению при онкологических заболеваниях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рядок оказания медицинской помощи населению при онкологических заболевания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стоящий Порядок регулирует вопросы оказания медицинской помощи населению при онкологических заболеваниях в государственных и муниципальных учреждениях здравоохран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ным с онкологическими заболеваниями медицинская помощь оказывае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амках плановой первичной медико-санитарной помощи - терапевтическая, хирургическая и онкологическая помощ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амках плановой специализированной, в том числе высокотехнологичной медицинской помощи - специализированная онкологическая помощ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азание плановой помощи больным с онкологическими заболеваниями в рамках первичной медико-санитарной помощи организуется в амбулаторно-поликлинических и больничных учреждениях здравоохран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азание плановой специализированной, в том числе высокотехнологичной медицинской помощи больным с онкологическими заболеваниями осуществляется в федеральных организациях, оказывающих медицинскую помощь, а также в соответствующих организациях, находящихся в ведении субъекта Российской Федер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D7214-1B37-4280-B64D-3799FE5B0E6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Приказ Министерства здравоохранения и социального развития Российской Федерации (Минздравсоцразвития России) от 3 декабря 2009 г. N 944н г. Москва "Об утверждении Порядка оказания медицинской помощи населению при онкологических заболеваниях»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рядок оказания медицинской помощи населению при онкологических заболевания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овая онкологическая помощь в рамках первичной медико-санитарной помощи в амбулаторно-поликлинических учреждениях оказывается на основе взаимодействия врачей первичного звена здравоохранения: участковых врачей-терапевтов, врачей общей практики (семейных врачей), врачей-хирургов и врачей-онколог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дицинские работники фельдшерско-акушерских пунктов оказывают медицинскую помощь больным с онкологическими заболеваниями в соответствии с рекомендациями врачей-онкологов и врачей-специалис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1.       В амбулаторно-поликлинических учреждениях участковые врачи-терапевты, врачи общей практики (семейные врачи), врачи-хирурги во взаимодействии с врачами-специалистами выявляют риск развития онкологических заболева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2.       При подозрении или выявлении опухолевого заболевания пациента направляют в первичный онкологический кабинет (отделение), после чего врач-специалист первичного онкологического кабинета направляет пациента в онкологический диспансер, онкологическую больницу для уточнения диагноза и определения последующей тактики ведения пациен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3.       В случае подозрения и/или выявления у пациента злокачественного новообразования врач-специалист первичного онкологического кабинета уведомляет организационно-методический отдел онкологического диспансера для постановки больного на учет (с его добровольного информированного согласи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4.        В случае подтверждения в онкологическом диспансере у пациента факта наличия онкологического заболевания, информация о диагнозе пациента (с его добровольного информированного согласия) направляется из организационно-методического отдела онкологического диспансера в первичный онкологический кабинет, из которого был направлен пациент для последующего диспансерного наблюд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3666F-00A2-49EB-B917-3B2F99221D9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Приказ Министерства здравоохранения и социального развития Российской Федерации (Минздравсоцразвития России) от 3 декабря 2009 г. N 944н г. Москва "Об утверждении Порядка оказания медицинской помощи населению при онкологических заболеваниях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рядок оказания медицинской помощи населению при онкологических заболевания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В амбулаторно-поликлинических учреждениях онкологическая помощь больным с онкологическими заболеваниями оказывается врачами-онкологами в первичном онкологическом кабинете (отделении, дневном стационаре), осуществляющим свою деятельность в соответствии с Положениями об организации деятельности первичного онкологического кабинета поликлиники, первичного онкологического отделения (приложения N 1 и 2 к Порядку оказания медицинской помощи населению при онкологических заболеваниях, утвержденному настоящим приказом) с учетом рекомендуемых штатных нормативов (приложение N 3 к Порядку оказания медицинской помощи населению при онкологических заболеваниях, утвержденному настоящим приказом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 Плановое стационарное обследование и лечение больных с онкологическими заболеваниями осуществляется в федеральных организациях, оказывающих медицинскую помощь, а также в соответствующих организациях, находящихся в ведении субъекта Российской Федер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1. Специализированная, в том числе высокотехнологичная медицинская помощь больным с онкологическими заболеваниями оказывается в федеральных организациях, оказывающих медицинскую помощь, а также в онкологическом диспансере, онкологической больнице, осуществляющих свою деятельность в соответствии с Положением об организации деятельности онкологического диспансера (онкологической больницы) (приложение N 4 к Порядку оказания медицинской помощи населению при онкологических заболеваниях, утвержденному настоящим приказом) и с учетом рекомендуемых штатных нормативов (приложение N 3 к Порядку оказания медицинской помощи населению при онкологических заболеваниях, утвержденному настоящим приказом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4872B-3E67-455E-A298-C2699291C34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каз Министерства здравоохранения и социального развития Российской Федерации (Минздравсоцразвития России) от 3 декабря 2009 г. N 944н г. Москва "Об утверждении Порядка оказания медицинской помощи населению при онкологических заболеваниях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рядок оказания медицинской помощи населению при онкологических заболевания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2. Оснащение онкологического диспансера, онкологической больницы осуществляется в зависимости от профиля структурного подразделения в соответствии со стандартами оснащения (приложение N 5 к Порядку оказания медицинской помощи населению при онкологических заболеваниях, утвержденному настоящим приказом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3.   При выявлении у больного в онкологическом диспансере медицинских показаний к высокотехнологичным методам лечения помощь оказывается ему в соответствии с установленным порядком оказания высокотехнологичной медицинской помощ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4. Больные злокачественными новообразованиями подлежат пожизненному диспансерному наблюдению в онкологическом диспансере. Если течение заболевания не требует изменения тактики ведения пациента, диспансерные осмотры после проведенного лечения осуществляю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течение первого года один раз в три месяц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течение второго года - один раз в шесть месяцев, в дальнейшем - один раз в г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ED008-C5F4-4245-A1AA-60A0BB053FD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каз Министерства здравоохранения и социального развития Российской Федерации (Минздравсоцразвития России) от 3 декабря 2009 г. N 944н г. Москва "Об утверждении Порядка оказания медицинской помощи населению при онкологических заболеваниях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рядок оказания медицинской помощи населению при онкологических заболевания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.     В организации онкологической помощи больным сочетаются лечебные методы (хирургический, радиотерапевтический и лекарственный) и паллиативные мероприятия в отделениях (хосписе), осуществляющих свою деятельность в соответствии с положениями об организации деятельности структурных подразделений федеральных организаций, оказывающих медицинскую помощь онкологическим больным, а также в соответствующих организациях, находящихся в ведении субъекта Российской Федерации (приложения N 4 и 6 к Порядку оказания медицинской помощи населению при онкологических заболеваниях, утвержденному настоящим приказом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.    Скорая медицинская помощь больным злокачественными новообразованиями оказывается станциями (подстанциями) скорой медицинской помощи и отделениями скорой медицинской помощи при районных и центральных районных больниц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азание скорой медицинской помощи больным злокачественными новообразованиями осуществляют специализированные реаниматологические, врачебные и фельдшерские выездные бригады, штатный состав которых определен приказом Мин-здравсоцразвития России от 1 ноября 2004 г. N 179 "Об утверждении порядка оказания скорой медицинской помощи" (зарегистрирован Минюстом России 23 ноября 2004 г., регистрационный N 6136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подозрении и/или выявлении у больных злокачественного новообразования в ходе оказания им скорой медицинской помощи, таких больных переводят или направляют в онкологические диспансеры (онкологические больницы) для определения тактики ведения и необходимости применения дополнительно других методов специализированного противоопухолевого леч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. В случае если проведение медицинских манипуляций, связанных с оказанием помощи онкологическим больным, может повлечь возникновение болевых ощущений у пациента, такие манипуляции должны проводиться с обезболивани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E784F-6AE7-4B7C-9DFD-20E0FB29781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Положение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об организации деятельности первичного онкологического кабинета городской и центральной районной поликлиники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Настоящее Положение определяет организацию деятельности первичного онкологического кабинета городской и центральной районной поликлин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Первичный онкологический кабинет (далее - Кабинет) создается в городской и центральной районной поликлинике при обслуживании контингента онкологических больных до 500 человек для обеспечения консультативной, диагностической помощью больным с онкологическими и предопухолевыми заболеваниями, своевременного направления больных в онкологическое учреждение для определения тактики ведения, диспансерного наблюдения онкологических больных, мониторинга за состоянием здоровья пациентов групп риска.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D7EDB-D1EC-4840-B08B-A6C63A366E3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ложение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 организации деятельности первичного онкологического кабинета городской и центральной районной поликлин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0FA3A-6677-4C22-8802-F7E9075CF2A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1910-6103-4EFE-9A07-26EADBB21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370E-1D54-419C-B5F2-3FCBDDD28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498B85-E969-4EBB-8016-1B37DC41E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E1FEB1-2A7C-42E3-BADC-F5DD1C383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DA1B6F-DBA8-4391-965B-AFC0E83CB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C14352-409E-49E4-982B-8229ECFA7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48E8DF-72C1-43DE-B676-305649C31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A6B57F-3C78-417A-9EA5-478127251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F15FA5-62D5-4DD5-974C-1FEB660D9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6EEEEE-C937-47AF-969C-5D609CF29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989DCC-3921-4EA4-81E8-991ABEA0C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58FD0F-460A-4BBC-9C04-AFFEA0E68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00D5-EDF2-4122-B2B7-9690B1D30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1BA8D2-3D9C-4B78-B73F-2F42CD975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D0FDC5-5CC2-4777-8395-8D27B66F4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5D0F10-DDA5-491C-A0C4-3610397F9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D167E2-CAE3-48AF-807F-08C590AEA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5582FD-A7E6-4457-B438-04C3D6A1D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064A71-4FF1-406A-8219-1EA1602BD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21DECE-EBFF-415E-8798-EB9C79924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5AB28E-8953-462A-8396-FDA935E65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F52F29-13BB-4696-B3D8-79520175C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B8AAB5-D887-46D6-AEC4-B590CE2F6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BE85-EA62-47C2-8D56-04A1866C0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EEE03F-5841-4825-8928-B4146EEFD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37EBA8-09E8-418C-B4DC-8FD10233B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0E14B3-B863-4C3B-BB9A-10049E604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9F1BB3-AB50-478C-BB0C-96430FEE9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AACC5D-D7BB-4B3D-8E31-D27827DE2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F39297-1514-4470-AE06-40C050308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F52E09-C59C-4FA8-A1C5-D5ACA57D3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582863-8417-4F52-9461-60F29CFD4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4B0258-EA04-4092-9494-9C0DCB2E7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E7A073-5EBF-472B-9B39-F2ABA4A8D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6073E-93BB-4710-B1F2-B2FDDBC43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CE42CF-17AA-42A7-B303-AB55E7D44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E3E0B3-ED64-44B5-9A96-F78807E12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052C36-B9D5-4658-B4B3-87995540A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ADE9CA-9548-4E9C-A4E2-3CC2B3436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6F348C-9594-4F10-9004-3AA845C9F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E4AA3A-26AE-4378-B3A1-069737C87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52DB50-C4D5-49AC-B181-E35785290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3B19FE-AFC7-498C-B55F-B9FC09F72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979A75-B055-4A61-B460-2437DD1ED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E28476-2A0B-493A-94B6-978662FE3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3BCAC-C52B-459B-AF1C-6025F0C8A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AAD4458-7ACC-443A-90DE-DB6B1A7E2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9327F1-300F-453F-8361-FDE809619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B11C85-781D-4B7B-A823-75EC896BF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C9209A-80D7-4443-A255-2D27C9220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C76CA7-0D93-449D-9490-7C6ED3CFE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6EAFF-A128-4553-B6D9-A889BEEEE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5E70F-2FE4-4576-BE9C-C0374D37E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ABECD-3A37-4F2C-9726-A2359B91F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6DFA0-880A-4226-9E14-8C4C69B6E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362F4-6E00-401F-8675-C4B6FC460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A97A-812B-442E-B619-23C6FFE8D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C6643-F206-4223-9277-08318DE61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2C80B-DF72-46BE-9083-5365CAD58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ED8E5-823B-40FA-8945-DDE9D327C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4C93C-0E52-44C7-9204-B8CFA4FA3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E3A38-0138-4F04-AB4D-AADFDE31F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CAA7C6-00FE-48FC-B1C7-407EEF82A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9F3042-F19C-4B3A-9A04-ECDD80813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77A4D0-A159-465A-A642-7FBFE796E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CF80BE-0C57-4590-98C7-C5D9A3E8E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E7D0C2-19F3-40FE-A54F-5CFB5D3D6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1227-62BA-4D65-9F2F-B7A68E78E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79E935-ADF3-4B3C-939E-CBC78E346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6B6372-A673-47C6-B772-58C53A4F3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9BEE79-047B-4BDB-9117-AA65EEF28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DE99E8-1092-4245-99D8-26B8F48FC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E706AF-7020-4CA7-8349-B7EC1B0E8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8558E0-E584-4E19-87B9-5E75BF644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A9FCBE-2D4A-4784-898F-A0A8ACA3C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0E4A12-7AA2-4B34-B493-BFB6B859A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24B10F-F5C2-48A3-A34C-4CE850305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48FD42-ECAE-4684-A3E1-835AE2FF2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09CA-CA4D-4347-8716-908C896C5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BB1F3A-B035-4601-B771-EB147A39F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300469-2782-4ED8-A79F-27864700A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27D1F8-EA89-4EFA-BC1C-6DCB8BDAD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7CEED5-EE70-423D-83F9-E6CF234B3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539206-28F3-4047-9958-48EA844D9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F6B0EB-CEB7-4F09-8671-8D93050AA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053F1F-6682-4C76-BFD0-FD91D3A0B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31E1CC-9361-48B4-A909-A7D0007C4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37F9B0-DF5C-4964-AB48-F29497283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539505-8634-4BBE-9D08-F86E14B41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1275-875B-4AE4-810F-4A373AB9B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3DBB10-80EA-4DB8-9A9A-5816C4B7A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6CC8A6-51DC-470A-AD36-99D7ADE55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21670B-DFCA-4323-A1C5-3040E2356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D56FBE-5167-440E-B6FB-C3C6F9004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42197E-BEA5-4840-9E1F-8BD0418F3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EECE92-A08B-496B-B5A8-3C5DA9218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326150-10AD-4E1C-A838-6441C224E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33DEAB-4EA9-4EBC-8095-CCE8F151D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CE9457-5CEA-4F59-BD57-E858FC8AB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706452-EE1C-4524-93B7-B519A8D89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A95A-8248-4EBC-A469-122149402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B8A4DA-90A8-4FC1-8126-F6F5EA48B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82471E-80E3-454F-9FEF-5D7A4EF50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A237A3-F5E6-42E6-BD2F-4FFED310A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6044EA-F91A-4115-8D4A-7E0D885DE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45C155-5BAE-4157-ACE5-6B1103C1D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C89FA6-6D6B-46C6-B877-97AF74B3C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7307B5-9748-4A7F-957B-48B978D28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DBBAF2-E61E-4579-A54E-4B24212E3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28A422-934E-4B8E-AB4C-0240AE5FE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E26939-98E3-4D35-9120-BA2F7B629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7686-05A8-45EE-87CC-6454FC446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A92C05-28D2-43F0-8DC2-5BA04F4C9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43832F-DEA3-4A6D-9C42-7B4CFA6D8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0369AF-3377-4B80-BB93-C5E96DCD5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86017A-B6A0-40D6-87EC-CB71578A3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C1CC6B-3456-49DC-89F3-D54706C11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7C8E34-A922-45F4-9F53-DED51C0CA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7045C5-9667-4B65-ADDE-716CD6B9A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84C456-00F9-40FF-88CF-BA10A5A18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4E3104-4BD5-4E28-9419-213273ABB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5082EE-5DE0-464D-AAAB-541AD6112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6F37-D2B5-471D-8BB6-2633A636F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995298-97E0-4D36-A362-24D271630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C9F36C-5292-43C0-B164-628C8D735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9039DF-D3A7-4E01-B8E7-172ABE90A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D24822-4AD0-4FE7-BD45-5879B7BD2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6D6AAF-8810-4894-A389-3A4B3F390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187882-43F2-4AC7-A24A-8DFD3B114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29ADFD-88EE-4816-99E5-133A77368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1BB299-FC73-4410-88EE-376F6AF8A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57040F-3523-4665-9B9D-70C1C2854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5A43B1-0D11-4580-9FFD-02A77885E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8DF9-C070-47B8-98DA-1E52F49FA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67E3FA-5887-4DE8-983B-4968A600D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A559AD-125C-4AE8-8F02-9E0A4AC1B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9874D2-3CBB-468E-8F16-81C7494E8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31567A-3B97-4A2F-B45D-5842386A8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13D4E9-E2B8-4992-974C-B19E8363C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F7EFE6-D2B3-42E9-9A10-A3C8F35E1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7E9893-026C-4DC8-A314-8AC607740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16CA86-6453-4794-989A-EE7D80233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26453B-C27F-41AA-AD03-03598830F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8FC6AE-BC3F-4CD8-A96F-E13AF024C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b58b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10CDE-66BE-48B7-941C-701850FA41A0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9f7a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9f7a7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9f7a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9f7a7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FEB5C-23AE-446F-82AD-95FF24369D4E}" type="slidenum">
              <a:rPr b="0" lang="ru-RU" sz="1600" spc="-1" strike="noStrike">
                <a:solidFill>
                  <a:srgbClr val="9f7a70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f7a70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a5644e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b58b80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c3986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a1957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9f7a7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угольник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b58b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оугольник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9f7a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9f7a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b58b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f7a70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a5644e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b58b80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c3986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a1957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9f7a7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374DA-3DDE-4355-853F-A40145F6ECB1}" type="slidenum">
              <a:rPr b="0" lang="ru-RU" sz="1600" spc="-1" strike="noStrike">
                <a:solidFill>
                  <a:srgbClr val="9f7a70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78830-E549-46A0-B215-D86201C23D05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b58b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9f7a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9f7a7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9f7a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f7a70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a5644e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b58b80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c3986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a1957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DF101-1500-43FA-9C69-497F46114294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9f7a7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3F24F-341C-49C7-8519-8FA578FC44B5}" type="slidenum">
              <a:rPr b="0" lang="ru-RU" sz="1600" spc="-1" strike="noStrike">
                <a:solidFill>
                  <a:srgbClr val="9f7a70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Прямоугольник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b58b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оугольник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9f7a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ая соединительная линия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9f7a7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Овал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Овал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9f7a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f7a70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a5644e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b58b80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c3986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a1957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9f7a7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98144-2DE9-49D8-86EF-EB54B22BB54C}" type="slidenum">
              <a:rPr b="0" lang="ru-RU" sz="1600" spc="-1" strike="noStrike">
                <a:solidFill>
                  <a:srgbClr val="9f7a70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FEA09-2EE0-4410-B6A0-E8BA7A5810E7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b58b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9f7a7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9f7a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9f7a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f7a70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a5644e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b58b80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c3986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a1957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44E0C-C644-41F0-8F6D-3978672A5282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9f7a7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4C021-3004-4C33-81C3-92BB1DA27F96}" type="slidenum">
              <a:rPr b="0" lang="ru-RU" sz="1600" spc="-1" strike="noStrike">
                <a:solidFill>
                  <a:srgbClr val="9f7a70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b58b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9f7a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9f7a7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9f7a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f7a70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a5644e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b58b80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c3986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a1957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D746F-5FA0-462A-8CA1-DAF8ABE6E1B3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9f7a7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5B0C0-D34F-4441-92FC-445B35399B48}" type="slidenum">
              <a:rPr b="0" lang="ru-RU" sz="1600" spc="-1" strike="noStrike">
                <a:solidFill>
                  <a:srgbClr val="9f7a70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b58b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9f7a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9f7a7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9f7a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f7a70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a5644e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b58b80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c3986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a1957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E4F3C-D6B1-4F19-A107-04336C0584F7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9f7a7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9FCF4-B610-4BEA-A68B-ABCCD716F14A}" type="slidenum">
              <a:rPr b="0" lang="ru-RU" sz="1600" spc="-1" strike="noStrike">
                <a:solidFill>
                  <a:srgbClr val="9f7a70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b58b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9f7a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9f7a7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9f7a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4e3b3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f7a70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a5644e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b58b80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c3986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a1957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06C22-01C2-41AB-975E-0EA70EAFF402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9f7a7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26D2C-9300-4F21-A33F-C709C2E5C544}" type="slidenum">
              <a:rPr b="0" lang="ru-RU" sz="1600" spc="-1" strike="noStrike">
                <a:solidFill>
                  <a:srgbClr val="9f7a70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4e3b3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b58b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9f7a7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9f7a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Овал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9f7a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f7a70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a5644e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b58b80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c3986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a1957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50B28-8751-4B54-8220-78B01AE6D822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9f7a7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5DE61-41BF-4B14-94A2-D20F61223F01}" type="slidenum">
              <a:rPr b="0" lang="ru-RU" sz="1600" spc="-1" strike="noStrike">
                <a:solidFill>
                  <a:srgbClr val="9f7a70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b58b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9f7a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9f7a7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9f7a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f7a70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a5644e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b58b80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c3986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a1957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69D92-6C44-499F-836F-0B1D5E6E0BB0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9f7a7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37E83-3B38-47C5-957B-4155E596C499}" type="slidenum">
              <a:rPr b="0" lang="ru-RU" sz="1600" spc="-1" strike="noStrike">
                <a:solidFill>
                  <a:srgbClr val="9f7a70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b58b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9f7a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f7a70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a5644e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b58b80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c3986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a1957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AF461-A5AC-4110-8D41-E2683AF60C98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3F955-BB1A-4D9B-8F7F-5C62F483401A}" type="slidenum">
              <a:rPr b="0" lang="ru-RU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b58b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9f7a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ая соединительная линия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9f7a7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9f7a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b58b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f7a70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a5644e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b58b80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c3986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a1957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9f7a7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C2D21-2EB8-41B8-8FC2-8E3FCA6D2AB8}" type="slidenum">
              <a:rPr b="0" lang="ru-RU" sz="1600" spc="-1" strike="noStrike">
                <a:solidFill>
                  <a:srgbClr val="9f7a70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E43D2-433D-40A3-B1A3-F13EEBD5C82A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5643720" y="5643360"/>
            <a:ext cx="3186000" cy="68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72880" indent="-272880"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Georgia"/>
              </a:rPr>
              <a:t>Заместитель главного врача по организационно – методической работе ГЛПУ ТО ООД 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Georgia"/>
              </a:rPr>
              <a:t>Т.А. Гайсин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title"/>
          </p:nvPr>
        </p:nvSpPr>
        <p:spPr>
          <a:xfrm>
            <a:off x="324000" y="1071360"/>
            <a:ext cx="8534160" cy="185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Приказ Министерства здравоохранения и социального развития Российской Федерации (Минздравсоцразвития России) от 3 декабря 2009 г. N 944н г. Москва "Об утверждении Порядка оказания медицинской помощи населению при онкологических заболеваниях"</a:t>
            </a:r>
            <a:endParaRPr b="0" lang="en-US" sz="20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615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Положение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об организации деятельности первичного онкологического кабинета городской и центральной районной поликлиники</a:t>
            </a:r>
            <a:endParaRPr b="0" lang="en-US" sz="18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3. Функции Кабинета: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консультативная помощь по ведению онкологических больных на дому участковым врачом-терапевтом или врачом общей практики (семейным врачом), контроль за проведением симптоматического лечения онкологических больных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выписывание наркотических средств списка II и  III   Перечня наркотических средств, психотропных веществ и их прекурсоров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Місце для нижнього колонтитула 2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11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Положение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об организации деятельности первичного онкологического кабинета городской и центральной районной поликлиники</a:t>
            </a:r>
            <a:endParaRPr b="0" lang="en-US" sz="18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457200" y="159984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осуществление динамического наблюдения за больными, получающими лекарственную противоопухолевую терапию в соответствии с рекомендациями врача-онколога, проводимую специализированным онкологическим учреждением; 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мониторинг и оценка лабораторных показателей с целью предупреждения развития токсических реакций, своевременное направление больного в специализированное онкологическое учреждение;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направление больных для паллиативного и симптоматического лечения в соответствующие отделения онкологических диспансеров (онкологических больниц), хосписы;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анализ причин отказов от госпитализации;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учет онкологических больных; проживающих на прикрепленной к Кабинету территории;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оценка своевременности направления в онкологические диспансеры сведений о впервые выявленных случаях злокачественных новообразований;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Місце для нижнього колонтитула 3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11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Положение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об организации деятельности первичного онкологического кабинета городской и центральной районной поликлиники</a:t>
            </a:r>
            <a:endParaRPr b="0" lang="en-US" sz="18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457200" y="1600200"/>
            <a:ext cx="82296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476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консультативная и методическая помощь специалистам медицинских учреждений по вопросам проведения профилактических осмотров, диспансеризации больных с предопухолевыми и хроническими заболеваниями; 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80000"/>
              </a:lnSpc>
              <a:spcBef>
                <a:spcPts val="476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санитарно-гигиеническое просвещение населения; 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80000"/>
              </a:lnSpc>
              <a:spcBef>
                <a:spcPts val="476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анализ и разбор с участковыми врачами-терапевтами, врачами общей практики (семейный врач), а также врачами-специалистами диагностических ошибок и причин запущенности онкологических заболеваний; 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80000"/>
              </a:lnSpc>
              <a:spcBef>
                <a:spcPts val="476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оценка полноты и эффективности профилактических осмотров;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80000"/>
              </a:lnSpc>
              <a:spcBef>
                <a:spcPts val="476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анализ оформления амбулаторно-поликлиническими учреждениями установленных форм медицинской документации при обследовании и лечении онкологических больных;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80000"/>
              </a:lnSpc>
              <a:spcBef>
                <a:spcPts val="476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ведение учетной и отчетной документации, предоставление отчетов о деятельности в установленном порядке, сбор данных для регистров, ведение которых предусмотрено законодательством;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80000"/>
              </a:lnSpc>
              <a:spcBef>
                <a:spcPts val="476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иные функции в соответствии с законодательством Российской Федерации, нормативными правовыми актами субъектов Российской Федерации, муниципальных образований. 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8" name="Місце для нижнього колонтитула 3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Положение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об организации деятельности первичного онкологического кабинета городской и центральной районной поликлиники</a:t>
            </a:r>
            <a:endParaRPr b="0" lang="en-US" sz="18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457200" y="1600200"/>
            <a:ext cx="82296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4. В структуре Кабинете рекомендуется предусматривать: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помещение для приема больных,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помещение для выполнения лечебных процедур, входящих в функции кабинета,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помещение для хранения медицинской документации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5. Кабинет оснащается оборудованием в соответствии со стандартом оснащения (приложение № 5 к Порядку оказания медицинской помощи населению при онкологических заболеваниях, утвержденному настоящим приказом)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1" name="Місце для нижнього колонтитула 3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214200" y="142920"/>
            <a:ext cx="8715600" cy="128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Рекомендуемые штатные нормативы медицинского и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иного персонала первичного онкологического отделения (кабинета), отделения городской и центральной районной поликлиники, отделений онкологического диспансера (онкологической больницы), отделения паллиативной помощи онкологическим больным</a:t>
            </a:r>
            <a:endParaRPr b="0" lang="en-US" sz="1600" spc="-1" strike="noStrike">
              <a:solidFill>
                <a:srgbClr val="9f7a70"/>
              </a:solidFill>
              <a:latin typeface="Georgia"/>
            </a:endParaRPr>
          </a:p>
        </p:txBody>
      </p:sp>
      <p:graphicFrame>
        <p:nvGraphicFramePr>
          <p:cNvPr id="653" name=""/>
          <p:cNvGraphicFramePr/>
          <p:nvPr/>
        </p:nvGraphicFramePr>
        <p:xfrm>
          <a:off x="214200" y="1643040"/>
          <a:ext cx="8715600" cy="4608360"/>
        </p:xfrm>
        <a:graphic>
          <a:graphicData uri="http://schemas.openxmlformats.org/drawingml/2006/table">
            <a:tbl>
              <a:tblPr/>
              <a:tblGrid>
                <a:gridCol w="4143600"/>
                <a:gridCol w="4572000"/>
              </a:tblGrid>
              <a:tr h="484920">
                <a:tc gridSpan="2">
                  <a:txBody>
                    <a:bodyPr lIns="54360" rIns="54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Первичный онкологический отделение (кабинет) городской и центральной районной поликлин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2640">
                <a:tc gridSpan="2">
                  <a:txBody>
                    <a:bodyPr lIns="54360" rIns="54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.Врачебный персона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3860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Врач-онколог или врач-специалист, прошедший подготовку по онколог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 должность на 500 человек контингента диспансерных онкологических больных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Норма нагрузки на амбулаторном прием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- консультативный прием – 20 мин.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- лечебно-диагностический прием (в т.ч. повторный) – 20 мин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- консультативный прием (на выезде) – 60 мин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 gridSpan="2">
                  <a:txBody>
                    <a:bodyPr lIns="54360" rIns="54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.Средний медицинский персона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492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Медицинская сест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 должность на 500 человек контингента диспансерных онкологических боль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92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Медицинская сестра процедурно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из расчета 1 должность на процедурный кабин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7200">
                <a:tc gridSpan="2"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*Примечание: При меньшем числе контингента диспансерных онкологических больных– 1 должность врача и  1 должность среднего медицинского персонала в соотношении 1: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54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285480" y="142560"/>
            <a:ext cx="860580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Стандарт оснащения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федеральных организаций, оказывающих медицинскую помощь онкологическим больным, а также соответствующих организаций, находящихся в ведении субъекта Российской Федерации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600" spc="-1" strike="noStrike">
              <a:solidFill>
                <a:srgbClr val="9f7a70"/>
              </a:solidFill>
              <a:latin typeface="Georgia"/>
            </a:endParaRPr>
          </a:p>
        </p:txBody>
      </p:sp>
      <p:graphicFrame>
        <p:nvGraphicFramePr>
          <p:cNvPr id="656" name=""/>
          <p:cNvGraphicFramePr/>
          <p:nvPr/>
        </p:nvGraphicFramePr>
        <p:xfrm>
          <a:off x="285840" y="2571840"/>
          <a:ext cx="8501040" cy="3500280"/>
        </p:xfrm>
        <a:graphic>
          <a:graphicData uri="http://schemas.openxmlformats.org/drawingml/2006/table">
            <a:tbl>
              <a:tblPr/>
              <a:tblGrid>
                <a:gridCol w="5352840"/>
                <a:gridCol w="3148200"/>
              </a:tblGrid>
              <a:tr h="622440"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Наименование оснащ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marL="12600"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Требуемое количество, шт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9400">
                <a:tc>
                  <a:txBody>
                    <a:bodyPr lIns="25560" rIns="25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Ламинарная камера для стерильного разведения лекарственных препарат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 на отдел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880">
                <a:tc>
                  <a:txBody>
                    <a:bodyPr lIns="25560" rIns="25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Весы для взвешивания больны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 на отдел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880">
                <a:tc>
                  <a:txBody>
                    <a:bodyPr lIns="25560" rIns="25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Инфузом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 на 6 кое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8680">
                <a:tc>
                  <a:txBody>
                    <a:bodyPr lIns="25560" rIns="25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Сейф для хранения сильнодействующих и психотропных средств, документ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 на отдел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7" name="Прямоугольник 4"/>
          <p:cNvSpPr/>
          <p:nvPr/>
        </p:nvSpPr>
        <p:spPr>
          <a:xfrm>
            <a:off x="1214280" y="1916280"/>
            <a:ext cx="66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Первичное онкологическое отделение (кабине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214200" y="142920"/>
            <a:ext cx="8715600" cy="100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Положение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об организации деятельности хосписа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при оказании помощи онкологическим больным</a:t>
            </a:r>
            <a:endParaRPr b="0" lang="en-US" sz="20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66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80000"/>
              </a:lnSpc>
              <a:spcBef>
                <a:spcPts val="575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Настоящее Положение регулирует организацию деятельности хосписа по оказанию медицинской, социальной, психологической помощи больным с распространенными формами онкологических заболеваний.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lnSpc>
                <a:spcPct val="80000"/>
              </a:lnSpc>
              <a:spcBef>
                <a:spcPts val="575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Хоспис является учреждением здравоохранения, предназначенным для оказания медицинской, социальной, психологической, юридической помощи преимущественно инкурабельным онкологическим больным по рекомендации врача-онколога с целью обеспечения необходимой обезболивающей терапии, оказания медико-социальной помощи, ухода, психо-социальной реабилитации, а также психологической и социальной поддержки родственников. 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lnSpc>
                <a:spcPct val="80000"/>
              </a:lnSpc>
              <a:spcBef>
                <a:spcPts val="575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1" name="Місце для нижнього колонтитула 3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Заголовок 11"/>
          <p:cNvSpPr/>
          <p:nvPr/>
        </p:nvSpPr>
        <p:spPr>
          <a:xfrm>
            <a:off x="971640" y="189000"/>
            <a:ext cx="7561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3" name="Object 2"/>
          <p:cNvGraphicFramePr/>
          <p:nvPr/>
        </p:nvGraphicFramePr>
        <p:xfrm>
          <a:off x="216000" y="115920"/>
          <a:ext cx="8748720" cy="612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6000" y="115920"/>
                    <a:ext cx="8748720" cy="612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5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Rectangle 1"/>
          <p:cNvSpPr/>
          <p:nvPr/>
        </p:nvSpPr>
        <p:spPr>
          <a:xfrm>
            <a:off x="285840" y="459000"/>
            <a:ext cx="8501040" cy="55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ИСТЕРСТВО ЗДРАВООХРАНЕНИЯ И СОЦИАЛЬНОГО РАЗВИТ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СИЙСКОЙ ФЕДЕР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УТВЕРЖДАЮ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меститель министра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равоохранения и социального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я Российской Федерации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И. Скворцо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ГОРИТМЫ ВЫЯВЛЕНИЯ ОНКОЛОГИЧЕСКИХ ЗАБОЛЕВАНИЙ В РАБОТЕ ВРАЧА ОБЩЕЙ ПРАКТ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ческие рекомендации для организаторов здравоохранения, врачей общей практики, профильных специалистов, врачей-онколог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ск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9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F989A-E01F-45E7-93C9-69E2F2A52EE5}" type="slidenum">
              <a:rPr b="0" lang="ru-RU" sz="1200" spc="-1" strike="noStrike">
                <a:solidFill>
                  <a:srgbClr val="898989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Заголовок 1"/>
          <p:cNvSpPr/>
          <p:nvPr/>
        </p:nvSpPr>
        <p:spPr>
          <a:xfrm>
            <a:off x="3143160" y="6357960"/>
            <a:ext cx="3286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Заголовок 11"/>
          <p:cNvSpPr/>
          <p:nvPr/>
        </p:nvSpPr>
        <p:spPr>
          <a:xfrm>
            <a:off x="971640" y="44280"/>
            <a:ext cx="7561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Подзаголовок 2"/>
          <p:cNvSpPr/>
          <p:nvPr/>
        </p:nvSpPr>
        <p:spPr>
          <a:xfrm>
            <a:off x="8532720" y="6429240"/>
            <a:ext cx="611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 Box 12"/>
          <p:cNvSpPr/>
          <p:nvPr/>
        </p:nvSpPr>
        <p:spPr>
          <a:xfrm>
            <a:off x="8317080" y="6453360"/>
            <a:ext cx="8269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3" name="Object 11"/>
          <p:cNvGraphicFramePr/>
          <p:nvPr/>
        </p:nvGraphicFramePr>
        <p:xfrm>
          <a:off x="324000" y="189000"/>
          <a:ext cx="8496000" cy="598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89000"/>
                    <a:ext cx="8496000" cy="598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8286480" cy="9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Приказ Министерства здравоохранения и социального развития Российской Федерации (Минздравсоцразвития России) от 3 декабря 2009 г. N 944н г. Москва "Об утверждении Порядка оказания медицинской помощи населению при онкологических заболеваниях»</a:t>
            </a:r>
            <a:endParaRPr b="0" lang="en-US" sz="16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301320" y="1526760"/>
            <a:ext cx="8504280" cy="475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Опубликовано 21 декабря 2009 г. 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Вступает в силу: 1 января 2010 г.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Georgia"/>
              </a:rPr>
              <a:t>Зарегистрирован в Минюсте РФ 15 декабря 2009 г.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Georgia"/>
              </a:rPr>
              <a:t>Регистрационный N 15605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В соответствии со статьей 37.1 Основ законодательства Российской Федерации об охране здоровья граждан от 22 июля 1993 г. N 5487-1 (Ведомости Съезда народных депутатов Российской Федерации и Верховного Совета Российской Федерации, 1993, N 33, ст. 1318; Собрание законодательства Российской Федерации, 2007, N 1, ст. 21) </a:t>
            </a:r>
            <a:r>
              <a:rPr b="1" lang="ru-RU" sz="1900" spc="-1" strike="noStrike">
                <a:solidFill>
                  <a:srgbClr val="000000"/>
                </a:solidFill>
                <a:latin typeface="Georgia"/>
              </a:rPr>
              <a:t>приказываю: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Утвердить: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Порядок оказания медицинской помощи населению при онкологических заболеваниях согласно приложению.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Georgia"/>
              </a:rPr>
              <a:t>Министр Т. Голикова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TextBox 4"/>
          <p:cNvSpPr/>
          <p:nvPr/>
        </p:nvSpPr>
        <p:spPr>
          <a:xfrm>
            <a:off x="571680" y="214200"/>
            <a:ext cx="77864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В соответствии с приказом Министерства здравоохранения и социального развития Российской Федерации от 18.01.2010 года №16 г.Москва «О порядке организации мониторинга реализации мероприятий, направленных на совершенствование организации онкологической помощи населению», с целью своевременного обеспечения подачи сведен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Box 5"/>
          <p:cNvSpPr/>
          <p:nvPr/>
        </p:nvSpPr>
        <p:spPr>
          <a:xfrm>
            <a:off x="285840" y="1643040"/>
            <a:ext cx="857232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eorgia"/>
              </a:rPr>
              <a:t>Приказываю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1. Главным врачам ЛПУ юга Тюменской област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1.1.  Сосредоточить все виды онкологической помощи и диспансерного наблюдения пациентов  на уровне плановой первичной медико-санитарной помощи, в кабинетах первичного онкологического прием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1.2.  Обеспечить непрерывную работу кабинета первичного онкологического приема, укомплектовать кадрами в том числе за счет возможного совмещения ставок,в соответствии с приказом МЗиСР №944н от 03.12.2009 «Об утверждении порядка оказания медицинской помощи населению при онкологических заболеваниях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1.3.  Укомплектовать кабинеты первичного онкологического приема в соответствии с табелем оснащения по приказу МЗиСР №944н от 03.12.2009 «Об утверждении порядка оказания медицинской помощи населению при онкологических заболеваниях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1.4.  Обеспечить регистрацию пациентов, с нарастающим итогом с 01.01.2010 года, впервые обратившихся в кабинет первичного онкологического приема, а так же пациентов, направленных в онкологический диспансер (по локализациям), для чего ввести соответствующие журналы (Приложение №1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1.5.  На основании документации первичного онкологического кабинета информация по мониторингу(Приложение №2) предоставляется в срок до 28 числа отчетного месяца: по электронной почте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Georgia"/>
              </a:rPr>
              <a:t>tymen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Georgia"/>
              </a:rPr>
              <a:t>-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Georgia"/>
              </a:rPr>
              <a:t>onko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Georgia"/>
              </a:rPr>
              <a:t>@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Georgia"/>
              </a:rPr>
              <a:t>mail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Georgia"/>
              </a:rPr>
              <a:t>.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Georgia"/>
              </a:rPr>
              <a:t>ru</a:t>
            </a: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 и дублировать на бумажном носителе в канцелярию департамента здравоохранения с пометкой для ГЛПУ ТО «Областной онкологический диспансер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TextBox 1"/>
          <p:cNvSpPr/>
          <p:nvPr/>
        </p:nvSpPr>
        <p:spPr>
          <a:xfrm>
            <a:off x="285840" y="285840"/>
            <a:ext cx="864396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7840" indent="-447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2. Главному врачу ГЛПУ ТО «Областной онкологический диспансер»   (А.Г.Синякову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2.1. Обеспечить свод и анализ информации в соответствии с приказом Министерства здравоохранения социального развития Российской Федерации от 18.01.2010 года №16 г.Москва «О порядке организации мониторинга реализации мероприятий, направленных на совершенствование организации онкологической помощи населению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2.2. Проводить в ежемесячном режиме курацию районных ЛПУ и поликлиник г.Тюмени по методике мониторирования и оказывать консультативную помощь по необходим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2.3. Подготовленную информацию предоставлять на электронном и бумажном носителе в департамент здравоохранения Тюменской области сроком до 3 числа очередного месяц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2.4. ГЛПУ ТО «Областной онкологический диспансер» в срок до 15.02.2010г обеспечить все ЛПУ юга Тюменской области и поликлиник г.Тюмени экземпляром журнала регистрации и инструкции по его заполнен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Місце для нижнього колонтитула 2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TextBox 1"/>
          <p:cNvSpPr/>
          <p:nvPr/>
        </p:nvSpPr>
        <p:spPr>
          <a:xfrm>
            <a:off x="214200" y="285840"/>
            <a:ext cx="87156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7840" indent="-44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3.   Учитывать результаты работы по мониторингу, направленного на совершенствование организации онкологической помощи населению, при определении размера премирования главных врачей областных ЛПУ, поликлиник г.Тюмени, главного врача ГЛПУ ТО «Областной онкологический диспансер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4.    Рекомендовать руководителям органов управл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4.1. Начальнику управления по здравоохранению администрации г.Тюмени (Ярцеву С.Е.) и советнику главы администрации г.Тобольска (Репетиеву В.И.), обеспечить исполнение данного приказа в муниципальных учреждениях г.Тюмени и г.Тобольс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4.2. Производить свод информации по поликлиникам г.Тюмени и предоставлять в ГЛПУ ТО «Областной онкологический диспансер» общую информацию сроком до 28 числа отчетного месяца. : по электронной почте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Georgia"/>
              </a:rPr>
              <a:t>tymen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Georgia"/>
              </a:rPr>
              <a:t>-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Georgia"/>
              </a:rPr>
              <a:t>onko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Georgia"/>
              </a:rPr>
              <a:t>@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Georgia"/>
              </a:rPr>
              <a:t>mail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Georgia"/>
              </a:rPr>
              <a:t>.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Georgia"/>
              </a:rPr>
              <a:t>ru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и дублировать на бумажном носителе в канцелярию департамента здравоохранения с пометкой для ГЛПУ ТО «Областной онкологический диспансер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5.    Контроль за исполнением приказа возложить на  первого заместителя директора департамента Н.С.Брынз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Директор департамента                                                  А.Ю.Кудря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Місце для нижнього колонтитула 2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Rectangle 1"/>
          <p:cNvSpPr/>
          <p:nvPr/>
        </p:nvSpPr>
        <p:spPr>
          <a:xfrm>
            <a:off x="2105640" y="143280"/>
            <a:ext cx="472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  <a:ea typeface="Times New Roman"/>
              </a:rPr>
              <a:t>Журнал учета оказания онкологической помощ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4" name=""/>
          <p:cNvGraphicFramePr/>
          <p:nvPr/>
        </p:nvGraphicFramePr>
        <p:xfrm>
          <a:off x="285840" y="500040"/>
          <a:ext cx="8572320" cy="1143000"/>
        </p:xfrm>
        <a:graphic>
          <a:graphicData uri="http://schemas.openxmlformats.org/drawingml/2006/table">
            <a:tbl>
              <a:tblPr/>
              <a:tblGrid>
                <a:gridCol w="662040"/>
                <a:gridCol w="815760"/>
                <a:gridCol w="946080"/>
                <a:gridCol w="1273320"/>
                <a:gridCol w="1238400"/>
                <a:gridCol w="636480"/>
                <a:gridCol w="636480"/>
                <a:gridCol w="636480"/>
                <a:gridCol w="863640"/>
                <a:gridCol w="863640"/>
              </a:tblGrid>
              <a:tr h="245160">
                <a:tc rowSpan="2">
                  <a:txBody>
                    <a:bodyPr lIns="41040" rIns="41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.И.О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1040" rIns="41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рес пациен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1040" rIns="41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 обращ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1040" rIns="41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варительный диагно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1040" rIns="41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 направления в диспансе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41040" rIns="41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ключительный диагно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040" rIns="41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 стад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 стад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 стад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V стад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s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ка исключе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85840" y="1960560"/>
          <a:ext cx="8572320" cy="4681440"/>
        </p:xfrm>
        <a:graphic>
          <a:graphicData uri="http://schemas.openxmlformats.org/drawingml/2006/table">
            <a:tbl>
              <a:tblPr/>
              <a:tblGrid>
                <a:gridCol w="339480"/>
                <a:gridCol w="330480"/>
                <a:gridCol w="295200"/>
                <a:gridCol w="361800"/>
                <a:gridCol w="411120"/>
                <a:gridCol w="411480"/>
                <a:gridCol w="411120"/>
                <a:gridCol w="334800"/>
                <a:gridCol w="246240"/>
                <a:gridCol w="245880"/>
                <a:gridCol w="328680"/>
                <a:gridCol w="365040"/>
                <a:gridCol w="461880"/>
                <a:gridCol w="536760"/>
                <a:gridCol w="520560"/>
                <a:gridCol w="596880"/>
                <a:gridCol w="519120"/>
                <a:gridCol w="520920"/>
                <a:gridCol w="371520"/>
                <a:gridCol w="371160"/>
                <a:gridCol w="592200"/>
              </a:tblGrid>
              <a:tr h="1373040">
                <a:tc gridSpan="13">
                  <a:txBody>
                    <a:bodyPr lIns="41040" rIns="41040" tIns="21600" bIns="216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Метод подтверждения диагноз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41040" rIns="41040" tIns="21600" bIns="216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Проведено леч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1040" rIns="41040" tIns="21600" bIns="216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Число умерших больных от З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040" rIns="41040" tIns="21600" bIns="216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Патол. иссл. умерших от  З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3200">
                <a:tc gridSpan="3"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Эндоскопичес-к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41040" rIns="41040" tIns="21600" bIns="21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УЗ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Рент-генологическ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К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Лаборатор-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Радиоизотоп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ИГ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Химиотерап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Лучево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Оперативно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Комбинированно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Паллиативно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Не состоящих на учет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2360">
                <a:tc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ФГ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ФБ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Взят  о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н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цитологи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КТ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С контрастирование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Гемато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Цитоло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ИФ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Сканирова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5480">
                <a:tc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21600" bIns="21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6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7" name=""/>
          <p:cNvGraphicFramePr/>
          <p:nvPr/>
        </p:nvGraphicFramePr>
        <p:xfrm>
          <a:off x="214200" y="1643040"/>
          <a:ext cx="8715600" cy="4654440"/>
        </p:xfrm>
        <a:graphic>
          <a:graphicData uri="http://schemas.openxmlformats.org/drawingml/2006/table">
            <a:tbl>
              <a:tblPr/>
              <a:tblGrid>
                <a:gridCol w="357480"/>
                <a:gridCol w="2268360"/>
                <a:gridCol w="541440"/>
                <a:gridCol w="1076400"/>
                <a:gridCol w="739440"/>
                <a:gridCol w="1011240"/>
                <a:gridCol w="1009800"/>
                <a:gridCol w="855720"/>
                <a:gridCol w="855720"/>
              </a:tblGrid>
              <a:tr h="420480">
                <a:tc rowSpan="2">
                  <a:txBody>
                    <a:bodyPr lIns="41400" rIns="41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1400" rIns="41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специаль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1400" rIns="41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планировано обучение на год, челове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41400" rIns="41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готовлено специалистов на отчетную да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1400" rIns="41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уществляется подготовка специалистов на отчетную да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81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400" rIns="41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учреждения образования и (или) науки, в котором осуществлялась подготовка специалис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шли повышение квалифика-ции, челове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шли профессиональ-ную переподготовку, челове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учреждения образования и (или) науки, в котором осуществляется подготовка специалис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ходят повышение квалифика-ции, челове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ходят профессионал-ную переподготовку, челове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240"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1320"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рург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240"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йрохирург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960"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диолог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840"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ушерство и гинеколог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240"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олог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ест. – реаниматолог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960"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нтгенолог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1320"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льтразвуковая диагности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240"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иническая лаб. диагности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960"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нколог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240"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ская онколог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8" name="Rectangle 1"/>
          <p:cNvSpPr/>
          <p:nvPr/>
        </p:nvSpPr>
        <p:spPr>
          <a:xfrm>
            <a:off x="0" y="220680"/>
            <a:ext cx="900108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ежемесячного отчета по мониторингу  оказания онкологической помощи.                    Форма № МОПН-К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подготовке медицинского персонала для учреждений здравоохранения субъекта Российской Федерации и муниципальных образований, участвующих в реализации мероприятий, направленных на совершенствование организации онкологической помощи населению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________________________________________________________________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убъект Российской Федерации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______________ 200_ г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месяц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Місце для нижнього колонтитула 2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ctangle 1"/>
          <p:cNvSpPr/>
          <p:nvPr/>
        </p:nvSpPr>
        <p:spPr>
          <a:xfrm>
            <a:off x="214200" y="151560"/>
            <a:ext cx="864396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МОПН-Ц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б основных целевых показателях деятельности учреждений субъекта Российской Федерации и муниципальных образований, участвующих в реализации мероприятий, направленных на совершенствование организации онкологической помощи населению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убъект Российской Федераци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_____________ 200_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месяц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449280"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атели деятельности первичных онкологических кабинетов (отделений) (муниципальное звен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357120" y="2071800"/>
          <a:ext cx="8429760" cy="3882960"/>
        </p:xfrm>
        <a:graphic>
          <a:graphicData uri="http://schemas.openxmlformats.org/drawingml/2006/table">
            <a:tbl>
              <a:tblPr/>
              <a:tblGrid>
                <a:gridCol w="546120"/>
                <a:gridCol w="2825640"/>
                <a:gridCol w="1686240"/>
                <a:gridCol w="1685880"/>
                <a:gridCol w="1685880"/>
              </a:tblGrid>
              <a:tr h="2523960">
                <a:tc>
                  <a:txBody>
                    <a:bodyPr lIns="42840" rIns="428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енность прикрепленного населения, челове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прошедших через первичный кабинет за отчетный период, челове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прошедших через первичный кабинет за соответствующий период, предшествующий отчетному, челове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9000"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ичный онкологический кабинет (отделение) (муниципальное звено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2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Rectangle 1"/>
          <p:cNvSpPr/>
          <p:nvPr/>
        </p:nvSpPr>
        <p:spPr>
          <a:xfrm>
            <a:off x="142920" y="142920"/>
            <a:ext cx="885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ингенты выявленных первичными онкологическими кабинетами (отделениям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4" name=""/>
          <p:cNvGraphicFramePr/>
          <p:nvPr/>
        </p:nvGraphicFramePr>
        <p:xfrm>
          <a:off x="214200" y="571680"/>
          <a:ext cx="8715600" cy="5879880"/>
        </p:xfrm>
        <a:graphic>
          <a:graphicData uri="http://schemas.openxmlformats.org/drawingml/2006/table">
            <a:tbl>
              <a:tblPr/>
              <a:tblGrid>
                <a:gridCol w="500040"/>
                <a:gridCol w="2384640"/>
                <a:gridCol w="542880"/>
                <a:gridCol w="1312920"/>
                <a:gridCol w="1312920"/>
                <a:gridCol w="1331640"/>
                <a:gridCol w="1330560"/>
              </a:tblGrid>
              <a:tr h="385560">
                <a:tc rowSpan="2"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 отчетный перио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 соответствующий период, предшествующий отчетному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48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правлено в региональный или окружной онкологический диспансер (РОД/ООД) для уточнения диагноз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больных, с подтвержденным в РОД или ООД диагнозо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правлено в региональный или окружной онкологический диспансер (РОД/ООД) для уточнения диагноз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больных, с подтвержденным диагнозом в РОД или ООД диагнозо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760"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осмотренных с целью выявления злокачественных новообразований (ЗНО), всего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680"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лочная желез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ищево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680"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гки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4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лудо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680"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5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ямая кишк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6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чен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680"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7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желудочная желез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8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щитовидная желез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680"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9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стательная желез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0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чеполовая систем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680"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1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нские тазовые орган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120"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2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локачественные опухоли кож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3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ловной мозг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680"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4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звоночник и спинной мозг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5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сти, суставы и мягкие ткан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2680"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6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мфатическая и кроветворная ткан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5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6" name=""/>
          <p:cNvGraphicFramePr/>
          <p:nvPr/>
        </p:nvGraphicFramePr>
        <p:xfrm>
          <a:off x="214200" y="214200"/>
          <a:ext cx="8715600" cy="5973840"/>
        </p:xfrm>
        <a:graphic>
          <a:graphicData uri="http://schemas.openxmlformats.org/drawingml/2006/table">
            <a:tbl>
              <a:tblPr/>
              <a:tblGrid>
                <a:gridCol w="500040"/>
                <a:gridCol w="2813040"/>
                <a:gridCol w="865440"/>
                <a:gridCol w="1008000"/>
                <a:gridCol w="1295280"/>
                <a:gridCol w="1152720"/>
                <a:gridCol w="1081080"/>
              </a:tblGrid>
              <a:tr h="852840"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впервые зарегистрированных больных ЗНО, всего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 стад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 стад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 стад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V стад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тверждено специальным исследованием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.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нтгенологические исследования, всего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.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льтразвуковые исследования,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 rowSpan="4"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.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ндоскопические исследования,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онхоскоп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следований желудочно-кишечного трак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взятием материалов на цитоморфологическое исслед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 rowSpan="4"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.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абораторные исследования (число проведенных анализов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матологическ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итологическ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муноферментные анализы крови на онкомарке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7" name="Місце для нижнього колонтитула 2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8" name=""/>
          <p:cNvGraphicFramePr/>
          <p:nvPr/>
        </p:nvGraphicFramePr>
        <p:xfrm>
          <a:off x="214200" y="285840"/>
          <a:ext cx="8715600" cy="5121360"/>
        </p:xfrm>
        <a:graphic>
          <a:graphicData uri="http://schemas.openxmlformats.org/drawingml/2006/table">
            <a:tbl>
              <a:tblPr/>
              <a:tblGrid>
                <a:gridCol w="500040"/>
                <a:gridCol w="2928960"/>
                <a:gridCol w="857520"/>
                <a:gridCol w="900000"/>
                <a:gridCol w="1295280"/>
                <a:gridCol w="1152720"/>
                <a:gridCol w="1081080"/>
              </a:tblGrid>
              <a:tr h="426600">
                <a:tc rowSpan="2"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.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РТ (КТ) исследования,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олненные с использованием контрастных препара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 rowSpan="2"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.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диоизотопные исследования,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анирова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.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муногистохимические исследования,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 rowSpan="6"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числа выявленных, в том числе ранее, больных ЗНО I, II, III, IV стадий проведено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миотерапевтическое леч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учевая терап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еративное леч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бинированное леч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ллиативная терап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умерших больных от З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состоявших под диспансерным наблюдение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тологоанатомических исследований умерших больных от ЗНО,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9" name="Місце для нижнього колонтитула 2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TextBox 1"/>
          <p:cNvSpPr/>
          <p:nvPr/>
        </p:nvSpPr>
        <p:spPr>
          <a:xfrm>
            <a:off x="2157480" y="2786040"/>
            <a:ext cx="419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лагодарю за вним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28400" y="142920"/>
            <a:ext cx="8072280" cy="107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Приказ Министерства здравоохранения и социального развития Российской Федерации (Минздравсоцразвития России) от 3 декабря 2009 г. N 944н г. Москва "Об утверждении Порядка оказания медицинской помощи населению при онкологических заболеваниях»</a:t>
            </a:r>
            <a:endParaRPr b="0" lang="en-US" sz="16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214200" y="1428840"/>
            <a:ext cx="8715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Порядок оказания медицинской помощи населению при онкологических заболеваниях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400"/>
              </a:spcBef>
              <a:buClr>
                <a:srgbClr val="000000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Настоящий Порядок регулирует вопросы оказания медицинской помощи населению при онкологических заболеваниях в государственных и муниципальных учреждениях здравоохранения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400"/>
              </a:spcBef>
              <a:buClr>
                <a:srgbClr val="000000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Больным с онкологическими заболеваниями медицинская помощь оказывается: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400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в рамках плановой первичной медико-санитарной помощи - терапевтическая, хирургическая и онкологическая помощь;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400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в рамках плановой специализированной, в том числе высокотехнологичной медицинской помощи - специализированная онкологическая помощь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400"/>
              </a:spcBef>
              <a:buClr>
                <a:srgbClr val="000000"/>
              </a:buClr>
              <a:buSzPct val="85000"/>
              <a:buFont typeface="Georgi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Оказание плановой помощи больным с онкологическими заболеваниями в рамках первичной медико-санитарной помощи организуется в амбулаторно-поликлинических и больничных учреждениях здравоохранения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400"/>
              </a:spcBef>
              <a:buClr>
                <a:srgbClr val="000000"/>
              </a:buClr>
              <a:buSzPct val="85000"/>
              <a:buFont typeface="Georgi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Оказание плановой специализированной, в том числе высокотехнологичной медицинской помощи больным с онкологическими заболеваниями осуществляется в федеральных организациях, оказывающих медицинскую помощь, а также в соответствующих организациях, находящихся в ведении субъекта Российской Федерации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400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28760" y="142920"/>
            <a:ext cx="8229600" cy="107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Приказ Министерства здравоохранения и социального развития Российской Федерации (Минздравсоцразвития России) от 3 декабря 2009 г. N 944н г. Москва "Об утверждении Порядка оказания медицинской помощи населению при онкологических заболеваниях»</a:t>
            </a:r>
            <a:endParaRPr b="0" lang="en-US" sz="16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214200" y="1500120"/>
            <a:ext cx="8715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Georgia"/>
              </a:rPr>
              <a:t>Порядок оказания медицинской помощи населению при онкологических заболеваниях</a:t>
            </a: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: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Georgi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Плановая онкологическая помощь в рамках первичной медико-санитарной помощи в амбулаторно-поликлинических учреждениях оказывается на основе взаимодействия врачей первичного звена здравоохранения: участковых врачей-терапевтов, врачей общей практики (семейных врачей), врачей-хирургов и врачей-онкологов.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Медицинские работники фельдшерско-акушерских пунктов оказывают медицинскую помощь больным с онкологическими заболеваниями в соответствии с рекомендациями врачей-онкологов и врачей-специалистов.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5.1.       В амбулаторно-поликлинических учреждениях участковые врачи-терапевты, врачи общей практики (семейные врачи), врачи-хирурги во взаимодействии с врачами-специалистами выявляют риск развития онкологических заболеваний.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5.2.       При подозрении или выявлении опухолевого заболевания пациента направляют в первичный онкологический кабинет (отделение), после чего врач-специалист первичного онкологического кабинета направляет пациента в онкологический диспансер, онкологическую больницу для уточнения диагноза и определения последующей тактики ведения пациента.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5.3.       В случае подозрения и/или выявления у пациента злокачественного новообразования врач-специалист первичного онкологического кабинета уведомляет организационно-методический отдел онкологического диспансера для постановки больного на учет (с его добровольного информированного согласия).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5.4.        В случае подтверждения в онкологическом диспансере у пациента факта наличия онкологического заболевания, информация о диагнозе пациента (с его добровольного информированного согласия) направляется из организационно-методического отдела онкологического диспансера в первичный онкологический кабинет, из которого был направлен пациент для последующего диспансерного наблюдения.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lnSpc>
                <a:spcPct val="80000"/>
              </a:lnSpc>
              <a:spcBef>
                <a:spcPts val="326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4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28760" y="142920"/>
            <a:ext cx="8286480" cy="107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Приказ Министерства здравоохранения и социального развития Российской Федерации (Минздравсоцразвития России) от 3 декабря 2009 г. N 944н г. Москва "Об утверждении Порядка оказания медицинской помощи населению при онкологических заболеваниях»</a:t>
            </a:r>
            <a:endParaRPr b="0" lang="en-US" sz="16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214200" y="1500120"/>
            <a:ext cx="8715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eorgia"/>
              </a:rPr>
              <a:t>Порядок оказания медицинской помощи населению при онкологических заболеваниях</a:t>
            </a: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6. В амбулаторно-поликлинических учреждениях онкологическая помощь больным с онкологическими заболеваниями оказывается врачами-онкологами в первичном онкологическом кабинете (отделении, дневном стационаре), осуществляющим свою деятельность в соответствии с Положениями об организации деятельности первичного онкологического кабинета поликлиники, первичного онкологического отделения (приложения N 1 и 2 к Порядку оказания медицинской помощи населению при онкологических заболеваниях, утвержденному настоящим приказом) с учетом рекомендуемых штатных нормативов (приложение N 3 к Порядку оказания медицинской помощи населению при онкологических заболеваниях, утвержденному настоящим приказом)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7. Плановое стационарное обследование и лечение больных с онкологическими заболеваниями осуществляется в федеральных организациях, оказывающих медицинскую помощь, а также в соответствующих организациях, находящихся в ведении субъекта Российской Федерации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7.1. Специализированная, в том числе высокотехнологичная медицинская помощь больным с онкологическими заболеваниями оказывается в федеральных организациях, оказывающих медицинскую помощь, а также в онкологическом диспансере, онкологической больнице, осуществляющих свою деятельность в соответствии с Положением об организации деятельности онкологического диспансера (онкологической больницы) (приложение N 4 к Порядку оказания медицинской помощи населению при онкологических заболеваниях, утвержденному настоящим приказом) и с учетом рекомендуемых штатных нормативов (приложение N 3 к Порядку оказания медицинской помощи населению при онкологических заболеваниях, утвержденному настоящим приказом)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7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57120" y="214200"/>
            <a:ext cx="8429760" cy="100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Приказ Министерства здравоохранения и социального развития Российской Федерации (Минздравсоцразвития России) от 3 декабря 2009 г. N 944н г. Москва "Об утверждении Порядка оказания медицинской помощи населению при онкологических заболеваниях»</a:t>
            </a:r>
            <a:endParaRPr b="0" lang="en-US" sz="16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285840" y="1571400"/>
            <a:ext cx="85723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Порядок оказания медицинской помощи населению при онкологических заболеваниях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7.2. Оснащение онкологического диспансера, онкологической больницы осуществляется в зависимости от профиля структурного подразделения в соответствии со стандартами оснащения (приложение N 5 к Порядку оказания медицинской помощи населению при онкологических заболеваниях, утвержденному настоящим приказом)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7.3.   При выявлении у больного в онкологическом диспансере медицинских показаний к высокотехнологичным методам лечения помощь оказывается ему в соответствии с установленным порядком оказания высокотехнологичной медицинской помощи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7.4. Больные злокачественными новообразованиями подлежат пожизненному диспансерному наблюдению в онкологическом диспансере. Если течение заболевания не требует изменения тактики ведения пациента, диспансерные осмотры после проведенного лечения осуществляются: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400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в течение первого года один раз в три месяца;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00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в течение второго года - один раз в шесть месяцев, в дальнейшем - один раз в год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8286480" cy="100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Приказ Министерства здравоохранения и социального развития Российской Федерации (Минздравсоцразвития России) от 3 декабря 2009 г. N 944н г. Москва "Об утверждении Порядка оказания медицинской помощи населению при онкологических заболеваниях»</a:t>
            </a:r>
            <a:endParaRPr b="0" lang="en-US" sz="16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214200" y="1356840"/>
            <a:ext cx="871560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eorgia"/>
              </a:rPr>
              <a:t>Порядок оказания медицинской помощи населению при онкологических заболеваниях</a:t>
            </a: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8.     В организации онкологической помощи больным сочетаются лечебные методы (хирургический, радиотерапевтический и лекарственный) и паллиативные мероприятия в отделениях (хосписе), осуществляющих свою деятельность в соответствии с положениями об организации деятельности структурных подразделений федеральных организаций, оказывающих медицинскую помощь онкологическим больным, а также в соответствующих организациях, находящихся в ведении субъекта Российской Федерации (приложения N 4 и 6 к Порядку оказания медицинской помощи населению при онкологических заболеваниях, утвержденному настоящим приказом)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9.    Скорая медицинская помощь больным злокачественными новообразованиями оказывается станциями (подстанциями) скорой медицинской помощи и отделениями скорой медицинской помощи при районных и центральных районных больницах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Оказание скорой медицинской помощи больным злокачественными новообразованиями осуществляют специализированные реаниматологические, врачебные и фельдшерские выездные бригады, штатный состав которых определен приказом Мин-здравсоцразвития России от 1 ноября 2004 г. N 179 "Об утверждении порядка оказания скорой медицинской помощи" (зарегистрирован Минюстом России 23 ноября 2004 г., регистрационный N 6136)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При подозрении и/или выявлении у больных злокачественного новообразования в ходе оказания им скорой медицинской помощи, таких больных переводят или направляют в онкологические диспансеры (онкологические больницы) для определения тактики ведения и необходимости применения дополнительно других методов специализированного противоопухолевого лечения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10. В случае если проведение медицинских манипуляций, связанных с оказанием помощи онкологическим больным, может повлечь возникновение болевых ощущений у пациента, такие манипуляции должны проводиться с обезболиванием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Положение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об организации деятельности первичного онкологического кабинета городской и центральной районной поликлиники</a:t>
            </a:r>
            <a:endParaRPr b="0" lang="en-US" sz="18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1. Настоящее Положение определяет организацию деятельности первичного онкологического кабинета городской и центральной районной поликлиники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2. Первичный онкологический кабинет (далее - Кабинет) создается в городской и центральной районной поликлинике при обслуживании контингента онкологических больных до 500 человек для обеспечения консультативной, диагностической помощью больным с онкологическими и предопухолевыми заболеваниями, своевременного направления больных в онкологическое учреждение для определения тактики ведения, диспансерного наблюдения онкологических больных, мониторинга за состоянием здоровья пациентов групп риска.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Georg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Місце для нижнього колонтитула 2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Положение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об организации деятельности первичного онкологического кабинета городской и центральной районной поликлиники</a:t>
            </a:r>
            <a:endParaRPr b="0" lang="en-US" sz="1800" spc="-1" strike="noStrike">
              <a:solidFill>
                <a:srgbClr val="9f7a70"/>
              </a:solidFill>
              <a:latin typeface="Georgia"/>
            </a:endParaRPr>
          </a:p>
        </p:txBody>
      </p:sp>
      <p:graphicFrame>
        <p:nvGraphicFramePr>
          <p:cNvPr id="638" name=""/>
          <p:cNvGraphicFramePr/>
          <p:nvPr/>
        </p:nvGraphicFramePr>
        <p:xfrm>
          <a:off x="214200" y="1357200"/>
          <a:ext cx="8715600" cy="5100840"/>
        </p:xfrm>
        <a:graphic>
          <a:graphicData uri="http://schemas.openxmlformats.org/drawingml/2006/table">
            <a:tbl>
              <a:tblPr/>
              <a:tblGrid>
                <a:gridCol w="1928880"/>
                <a:gridCol w="857160"/>
                <a:gridCol w="1285920"/>
                <a:gridCol w="1714680"/>
                <a:gridCol w="2928960"/>
              </a:tblGrid>
              <a:tr h="536040">
                <a:tc>
                  <a:txBody>
                    <a:bodyPr lIns="32400" rIns="32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Районы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Состоит на конец года (чел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Штатный норматив (ставок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Фактическое обеспечение онкологами (ставок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Обучение по онкологии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(вид учебы, год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160"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батск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720"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рмизонск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ба 144ч. 2008г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720"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ромашевск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160"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рдюжск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360"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гайск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160"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куловск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ба 144ч. 2008г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720"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Ишим, Ишимский р-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тификат 2008г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160"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Тобольс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7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тификат 2006г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360"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лышмановск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переподготовка 2006г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720"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водоуковск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переподготовка 2005г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160"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етск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360"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занск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160"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-Тавдинск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ба 144ч. 2008г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720"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мутинск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переподготовка 2007г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160"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адковск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4ч. по онкологии 2008г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720"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рокинск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4ч. по онкологии 2006г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800"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больск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720"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юменск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тификат 2008г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720"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ватск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160"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поровск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переподготовка 2005г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360"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Юргинск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160"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луторовск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переподготовка 2005г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720"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рковск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4ч. по онкологии 2008г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8640"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26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,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9" name="Місце для нижнього колонтитула 2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1T05:46:25Z</dcterms:created>
  <dc:creator>Кислый Денис</dc:creator>
  <dc:description/>
  <dc:language>en-US</dc:language>
  <cp:lastModifiedBy>LEGION</cp:lastModifiedBy>
  <dcterms:modified xsi:type="dcterms:W3CDTF">2014-11-07T12:30:44Z</dcterms:modified>
  <cp:revision>20</cp:revision>
  <dc:subject/>
  <dc:title>Приказ Министерства здравоохранения и социального развития Российской Федерации (Минздравсоцразвития России) от 3 декабря 2009 г. N 944н г. Москва "Об утверждении Порядка оказания медицинской помощи населению при онкологических заболеваниях"</dc:title>
</cp:coreProperties>
</file>