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C147-D8A7-4EAF-8D4D-709B6E0A89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Заместитель главного врача по организационно – методической работе ГЛПУ ТО О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.А. Гайс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B89F-81DC-428F-876D-508F00486E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ункции Кабин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8CBA-EB24-4F3E-9B47-B9B79E753F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азов от госпит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онкологических больных; проживающих на прикрепленной к Кабинету террито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9FBB-B8B8-4726-B1A7-25A572B6B7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просвещение насе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олноты и эффективности профилактических осмо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27EE-5332-414B-BD15-4FDEE9631E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труктуре Кабинете рекомендуется предусматри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приема боль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выполнения лечебных процедур, входящих в функции кабине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хранения медицинской докум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2E49-EEDE-41DB-9512-876D3642B2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е штатные нормативы медицинского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D86A-DCDB-4A78-816A-34D62E4555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 осна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0862-2C9F-448D-9B62-B121F47346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хосписа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и оказании помощи онкологическим больны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EB94-7086-4E9B-831B-A61A30C356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EE67-03C5-4D0D-A63F-9CC05C4579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E891-7006-4182-8E1A-ED84B00252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о 21 декабря 20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ет в силу: 1 января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5 декабря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гистрационный N 156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ыва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стр Т. Голи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2E96-8E7C-4FF1-9D68-F15D3B7076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E8C8-BA3B-4D40-95D4-DE123076F1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авному врачу ГЛПУ ТО «Областной онкологический диспансер»   (А.Г.Синяк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06DD-DBAE-4AE5-9F12-EAE148AC41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Рекомендовать руководителям органов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ymen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nk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 департамента                                                  А.Ю.Кудр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5D5B-30A1-4720-BEC9-EB48D60E52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4AD9-56FA-46AE-8F48-145D24EAEA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с онкологическими заболеваниями медицинская помощь оказыв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D825-AF0A-4008-BE8C-1F7F4C6E62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0DBF-6622-4CCF-9C16-4537656005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CBA4-D65E-4F25-8320-4DB8AF58AD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года один раз в три меся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второго года - один раз в шесть месяцев, в дальнейшем - один раз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B96D-1B20-48F2-9F3B-73EC9E5848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4B39-DC8C-4E97-A9E0-6B571890C7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CD3E-E2DB-4468-8409-BB49140204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99DD-3303-4647-8D92-3869D3557B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4B8-4F69-41E1-84DC-54F07716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DB9-E99A-4C4E-809E-478ADA4B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218FCE-346D-4AD0-A395-3767CD9E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F0031-E8B9-40FB-99A4-1A558B9F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91F1C-371C-45C8-9620-91E74C51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07ABF-ADF4-465F-9A15-FC88FF86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041C3-E804-42D5-B6BF-C4D52195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8F3EF-18CE-42FD-923B-4720EB88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3C54FF-E665-43FD-908B-61C8EFA3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C5D59-3719-4C91-8D6C-CAE454C3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CE34E-0BC1-448B-B992-4F2292D2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29193-FE77-4D7F-8657-A328C882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A81-C3D7-44CB-9C7B-69BBB29C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AC2B2-7BF7-4CD7-8085-B4560342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11725-E581-4583-8A25-65159ED7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8BBB9-6A88-420B-A749-11D2C673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BFEC6-B4F9-472A-8B08-28CE1EC0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13474-F297-4B5F-A7E8-3505A820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1E12C-09D1-4BD6-A062-D550AF9F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A22FD-6602-4198-A302-581E6BB8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02F32-1639-4D37-8F76-B6AC22F8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30526-DC03-4C3A-80BC-D11B6A90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06E56-D633-4170-BBDC-3598A0C7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9AE-33BF-4D37-94FA-7EEF78AB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1C560-4E55-49EB-B6D8-B0C586DC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8CB8F-1C39-4DB5-BFBC-554EEC43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61140-B491-40D2-8C7E-2E7F4DE1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B627E-33D5-47AB-BE11-5E467F2B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06E3D-ECA2-475A-B38A-42A07720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9119E-AF9F-4AFB-ABCB-22D93BD6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2EECF-CCDC-45BE-8B2A-2D166CB0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0F522-351C-41B6-B2BD-4AC64236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05D83-453D-4C75-8DEE-6F8B5D8E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1B6F5-0147-425D-9100-82795997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428D-CDB8-4EDD-B9F4-1D3E0392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71BE4-C036-423A-98CA-C15B23EC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0BFAA-A15E-4D2F-B9D2-92190915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42BD4-360A-4CD5-958E-4BE4F785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0C240-32E2-41AB-8448-285705AB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1A2A9-A887-471C-B1D3-16A86524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9D650-72DC-4581-AC64-65476162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E2647-FF11-4019-8608-E9DADCB1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0DB79-B7EC-42AD-8377-0AECCD52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26D27-CBB6-4D7D-AF23-1302113F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436E0-03C9-47FB-92C3-ACFD091D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8DF2-AE55-4AB6-9081-6B5620D4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22B9B-67A0-4D76-B71C-4587BC9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9FF52-58C7-497C-8EDE-B6018905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1BAE1-922B-4011-97FA-324A4D20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2EDD8-85DA-49A0-A4CB-B5D6BB5C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974F6D-75A6-4572-997C-B81C1B96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9BBB-11D1-4A52-8EEE-25805B7D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EA62-A70B-493E-B751-1CDC870C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CBA2-AA76-4E24-A823-268C9CD6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C67E-5838-4E06-B2C6-A13789F6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D80C-FE7B-4132-AB60-9B8421D6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33E-5F8B-4A1A-A6EF-6ED7741C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28E5-EBA1-4A36-9CE5-3428DFC3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E486-229A-43CC-B409-45B9C009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B8EC-3CBE-4E3D-8AF5-CBA70823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0F7C-A513-4315-B8ED-5ECAFF11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EF60-9FC9-4916-AFB8-9E1D5EEB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D013-B544-4B34-A570-F7EB8C1F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42EC-E6AE-44BB-B0AA-B77436B8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0DBE-92E1-4971-A501-6FF7A6B3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D061-C678-43F7-BBFF-8AD2794E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DA784-A0C8-4CB8-8F1D-A5B169A3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975-863D-4AD9-A1BB-26073367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D04A1-98FF-4E57-888B-97E6817C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78A7-B5FA-4104-8F07-E68B93B9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3EB3-1DC2-4492-92E9-A3799B12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731A3-A359-467D-835B-3870B026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7B5C-F91F-4B2C-80B8-AE7B8FED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0747-A6CA-4AC6-A016-489DDC81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FD44-6DAC-4AFA-8038-10881DC2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0FF93-7EFF-47ED-860C-35AD6D23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4515D-F139-45A5-B114-A0E71393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050F-23DB-42B1-956D-32DB737A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D61-7FAE-4266-9DF4-F6C94227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22FA3-CF47-4F22-94CE-50AD7E89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91E94-E055-46BE-8D84-5913D06E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D511A-BDE5-417C-A8CD-6396BA1E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2479-4B15-459C-8D88-2B8376FA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E94AF-A65C-435B-BF1D-92E02F75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5E4C1-4BE5-4C00-8604-8DF81B0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20E23-D84F-436A-ABEF-BCC5AACC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28307-17EC-4F32-A23D-9BD4B318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E2D81-0F8B-43F2-B122-8C809A88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DBCBA-6C39-4C20-8BA6-D5AF7D61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B6E-23D2-468B-83A1-A3CCBB2E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E2792-5333-427D-B8B8-1C50E146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8BB1-7978-4884-AA4A-E655DB14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3CA26-3BC5-457F-8BC2-E2864313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6F175-EA0B-48B0-9D5E-EADC844F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52759-1633-4988-818E-3A6D92C5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36F98-B1B2-4E16-8D85-A5EE9C98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2644E-70A3-450F-AB0A-3DA23818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F1B86-E0AF-4F7B-869E-F37DCAC4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85509-8411-4C17-A2DC-8898EE47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995A4-24FD-46BC-9551-0DB27D64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64D-5CA0-4B09-9D2D-CAD9ADA9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6DE57-FA3A-423A-A5F5-192372E0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5B7DE-FC64-4299-ACD2-F41CA450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CC60E-CB11-4D55-BB97-93803EE5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0CA8B-6631-4AF2-AEF8-1A0FA03B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104D3-A861-4142-B481-7488A66C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0CD1-9516-4A5A-B668-B4CAB85B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759F4-F723-4593-960A-5B60AB37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68B21-2158-4B68-B614-473327C9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06EF8-07C4-4A00-96FF-6DEE695C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88132-FA00-4F8D-A4B0-41E303AC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E76-EF51-4D5F-A8F3-F7B22E51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16E67-D33A-4F1A-90E8-6B7EA2BA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E118-9522-4D0A-B28A-CE55D9C5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21967-A24C-46D0-AE43-DC5DBB50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5740A-1827-4712-BAD3-C2346B10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89774-5B3C-4FAF-B343-1A6700D7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02E5-8A4F-4A12-9BA5-C5C7FF6E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EB0AF-805E-48DC-AA64-F281431D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F46B8-1C23-48F2-B936-E02C2785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62A66-01BF-40D3-9075-15EAFDEB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B9605-5D6B-457A-8722-BA005040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AD0-66BF-49AD-93FF-1DA97A0D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4D400-8173-41D6-AFE8-F93AF5C2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C7A3B-97A3-4028-809F-F0CFF3F8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DD36A-CBE9-4EEA-A2F4-CFF6818C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E9579-486F-4D24-9836-9918D03F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807B7-B617-4885-AB06-796BE697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FF0CC-A679-4771-8F4D-9685804D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F52A6-3FFB-4579-AEE5-6326A9E6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553D7-6CC4-4521-A233-E99EF4B6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0C2FC-AA8E-4578-BF02-339D9240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7EB86-5556-4F27-B7B6-BE48D03E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2B3-915F-4B41-83DF-157AD3B3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31888-D04A-4E9C-9A4E-E4EE140A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2C5FD-6523-474B-AA0A-2CA95A25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8B8B8-A980-4830-987F-9A3A135B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825D2-852D-4A45-AD7A-570D0163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9938B-A88C-4F97-A175-156BC1FB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1540D-0386-4576-9B33-96BDD63F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C90EA-CF8A-4394-96EE-251F6A6A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8A02E-516C-4666-AF63-F54F00ED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7228B-C9A3-48E0-AE31-9014430A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B1E44-B900-4FA6-AC94-991CE1FF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03D4-DE05-4B48-B899-6B13412ACE8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7BD0-D63A-4172-A862-45E1E95D9D8F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2E71-A211-4BFF-B083-1D188E725E9D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0907-E99F-43F7-A2AF-5DDEC83A3EC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371D-7FFB-45B5-A586-B5536EC6D37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C7B7-CB84-4C75-A9A0-72B6E974CAFF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1C01-AC35-4F06-9A78-77DC52008847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34A1-9D39-48B3-8C2E-9582F702E03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571F-7820-44D1-BB5C-6E773A925C4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FF28-620E-4A27-98FF-980E1BA0F495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9418-B311-4B18-8492-DD2C1D1ACF3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7D72-BB96-46B8-B99B-D25DDBBF3CB2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9277-F8A9-438B-8AA5-9115B417A2A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0851-99B7-478D-96CE-43CCC3EFF899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4DE7-22D6-46D2-9E89-1221AF99F68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015A-A478-4BF6-80A3-545B36041D1E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63F7-3CE9-4FA2-BC84-7EB104B162A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11AA-8244-4BEE-A7BF-41DDF7964595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B65A-BD9E-4476-A1F9-74489F7AF51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4E98-53CB-4916-8A61-140892544E49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1D14-19C1-4807-ACF3-ACC341FA38D3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0685-78B8-4A83-BA1E-897117CDEF2B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D177-0D70-4456-8EBB-EAD788E98D4F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43BC-FA10-4BC2-A3F4-E89C29D8E44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643720" y="5643360"/>
            <a:ext cx="31860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Заместитель главного врача по организационно – методической работе ГЛПУ ТО ООД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Т.А. Гайсин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324000" y="1071360"/>
            <a:ext cx="85341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Функции Кабинета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причин отказов от госпитализац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чет онкологических больных; проживающих на прикрепленной к Кабинету территор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анитарно-гигиеническое просвещение населения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полноты и эффективности профилактических осмотров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В структуре Кабинете рекомендуется предусматривать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приема больных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выполнения лечебных процедур, входящих в функции кабинета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хранения медицинской документац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екомендуемые штатные нормативы медицинского 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214200" y="1643040"/>
          <a:ext cx="8715600" cy="4608360"/>
        </p:xfrm>
        <a:graphic>
          <a:graphicData uri="http://schemas.openxmlformats.org/drawingml/2006/table">
            <a:tbl>
              <a:tblPr/>
              <a:tblGrid>
                <a:gridCol w="4143600"/>
                <a:gridCol w="4572000"/>
              </a:tblGrid>
              <a:tr h="48492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рвичный онкологический отделение (кабинет) городской и центральной районной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Врачебны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86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рач-онколог или врач-специалист, прошедший подготовку по он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орма нагрузки на амбулаторном прием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– 20 мин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лечебно-диагностический прием (в т.ч. повторный) – 20 мин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(на выезде) – 60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Средн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 процедур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 расчета 1 должность на процедурный каби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 gridSpan="2"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Примечание: При меньшем числе контингента диспансерных онкологических больных– 1 должность врача и  1 должность среднего медицинского персонала в соотношении 1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05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тандарт оснащения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85840" y="2571840"/>
          <a:ext cx="8501040" cy="3500280"/>
        </p:xfrm>
        <a:graphic>
          <a:graphicData uri="http://schemas.openxmlformats.org/drawingml/2006/table">
            <a:tbl>
              <a:tblPr/>
              <a:tblGrid>
                <a:gridCol w="5352840"/>
                <a:gridCol w="3148200"/>
              </a:tblGrid>
              <a:tr h="622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 осн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260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ребуемое количество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аминарная камера для стерильного разведения лекарственны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сы для взвешивания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фузо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6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ейф для хранения сильнодействующих и психотропных средств, докумен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Прямоугольник 4"/>
          <p:cNvSpPr/>
          <p:nvPr/>
        </p:nvSpPr>
        <p:spPr>
          <a:xfrm>
            <a:off x="1214280" y="19162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рвичное онкологическое отделение (каби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б организации деятельности хоспис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 оказании помощи онкологическим больным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Заголовок 11"/>
          <p:cNvSpPr/>
          <p:nvPr/>
        </p:nvSpPr>
        <p:spPr>
          <a:xfrm>
            <a:off x="971640" y="18900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Object 2"/>
          <p:cNvGraphicFramePr/>
          <p:nvPr/>
        </p:nvGraphicFramePr>
        <p:xfrm>
          <a:off x="216000" y="115920"/>
          <a:ext cx="874872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15920"/>
                    <a:ext cx="87487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"/>
          <p:cNvSpPr/>
          <p:nvPr/>
        </p:nvSpPr>
        <p:spPr>
          <a:xfrm>
            <a:off x="285840" y="459000"/>
            <a:ext cx="850104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F12F-8850-4A1D-9B8B-EA34D14A891D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Заголовок 11"/>
          <p:cNvSpPr/>
          <p:nvPr/>
        </p:nvSpPr>
        <p:spPr>
          <a:xfrm>
            <a:off x="971640" y="4428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8317080" y="6453360"/>
            <a:ext cx="82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Object 11"/>
          <p:cNvGraphicFramePr/>
          <p:nvPr/>
        </p:nvGraphicFramePr>
        <p:xfrm>
          <a:off x="324000" y="189000"/>
          <a:ext cx="8496000" cy="59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8496000" cy="59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публиковано 21 декабря 2009 г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ступает в силу: 1 января 2010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Зарегистрирован в Минюсте РФ 15 декабря 2009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Регистрационный N 15605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твердить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Министр Т. Голиков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571680" y="214200"/>
            <a:ext cx="7786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285840" y="1643040"/>
            <a:ext cx="85723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1"/>
          <p:cNvSpPr/>
          <p:nvPr/>
        </p:nvSpPr>
        <p:spPr>
          <a:xfrm>
            <a:off x="285840" y="28584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Главному врачу ГЛПУ ТО «Областной онкологический диспансер»   (А.Г.Синяко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214200" y="285840"/>
            <a:ext cx="8715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   Рекомендовать руководителям органов у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иректор департамента                                                  А.Ю.Кудр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"/>
          <p:cNvSpPr/>
          <p:nvPr/>
        </p:nvSpPr>
        <p:spPr>
          <a:xfrm>
            <a:off x="2105640" y="143280"/>
            <a:ext cx="47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Журнал учета оказания онкологической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285840" y="500040"/>
          <a:ext cx="8572320" cy="1143000"/>
        </p:xfrm>
        <a:graphic>
          <a:graphicData uri="http://schemas.openxmlformats.org/drawingml/2006/table">
            <a:tbl>
              <a:tblPr/>
              <a:tblGrid>
                <a:gridCol w="662040"/>
                <a:gridCol w="815760"/>
                <a:gridCol w="946080"/>
                <a:gridCol w="1273320"/>
                <a:gridCol w="1238400"/>
                <a:gridCol w="636480"/>
                <a:gridCol w="636480"/>
                <a:gridCol w="636480"/>
                <a:gridCol w="863640"/>
                <a:gridCol w="863640"/>
              </a:tblGrid>
              <a:tr h="245160"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паци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направления в диспанс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а исключ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85840" y="1960560"/>
          <a:ext cx="8572320" cy="4681440"/>
        </p:xfrm>
        <a:graphic>
          <a:graphicData uri="http://schemas.openxmlformats.org/drawingml/2006/table">
            <a:tbl>
              <a:tblPr/>
              <a:tblGrid>
                <a:gridCol w="339480"/>
                <a:gridCol w="330480"/>
                <a:gridCol w="295200"/>
                <a:gridCol w="361800"/>
                <a:gridCol w="411120"/>
                <a:gridCol w="411480"/>
                <a:gridCol w="411120"/>
                <a:gridCol w="334800"/>
                <a:gridCol w="246240"/>
                <a:gridCol w="245880"/>
                <a:gridCol w="328680"/>
                <a:gridCol w="365040"/>
                <a:gridCol w="461880"/>
                <a:gridCol w="536760"/>
                <a:gridCol w="520560"/>
                <a:gridCol w="596880"/>
                <a:gridCol w="519120"/>
                <a:gridCol w="520920"/>
                <a:gridCol w="371520"/>
                <a:gridCol w="371160"/>
                <a:gridCol w="592200"/>
              </a:tblGrid>
              <a:tr h="1373040">
                <a:tc gridSpan="13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етод подтверждения диагн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оведено ле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исло умерших больных от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тол. иссл. умерших от 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Эндоскопичес-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ент-ге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аборатор-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диоизотоп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Г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Химиотерап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учев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пер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омбиниров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лли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 состоящих на уч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36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Г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зят  о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Гемат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Ф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канир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"/>
          <p:cNvGraphicFramePr/>
          <p:nvPr/>
        </p:nvGraphicFramePr>
        <p:xfrm>
          <a:off x="214200" y="1643040"/>
          <a:ext cx="8715600" cy="4654440"/>
        </p:xfrm>
        <a:graphic>
          <a:graphicData uri="http://schemas.openxmlformats.org/drawingml/2006/table">
            <a:tbl>
              <a:tblPr/>
              <a:tblGrid>
                <a:gridCol w="357480"/>
                <a:gridCol w="2268360"/>
                <a:gridCol w="541440"/>
                <a:gridCol w="1076400"/>
                <a:gridCol w="739440"/>
                <a:gridCol w="1011240"/>
                <a:gridCol w="1009800"/>
                <a:gridCol w="855720"/>
                <a:gridCol w="855720"/>
              </a:tblGrid>
              <a:tr h="420480"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пециа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ланировано обучение на год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лено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подготовка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лась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рофессиональ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ется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рофессионал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. – реанимат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ая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.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ая 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Rectangle 1"/>
          <p:cNvSpPr/>
          <p:nvPr/>
        </p:nvSpPr>
        <p:spPr>
          <a:xfrm>
            <a:off x="0" y="220680"/>
            <a:ext cx="9001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ежемесячного отчета по мониторингу  оказания онкологической помощи.                    Форма № МОПН-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дготовке медицинского персонала для учреждений здравоохранения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_ 200_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"/>
          <p:cNvSpPr/>
          <p:nvPr/>
        </p:nvSpPr>
        <p:spPr>
          <a:xfrm>
            <a:off x="214200" y="151560"/>
            <a:ext cx="8643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МОПН-Ц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новных целевых показателях деятельности учреждений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 200_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еятельности первичных онкологических кабинетов (отделений) (муниципальное зв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57120" y="2071800"/>
          <a:ext cx="8429760" cy="3882960"/>
        </p:xfrm>
        <a:graphic>
          <a:graphicData uri="http://schemas.openxmlformats.org/drawingml/2006/table">
            <a:tbl>
              <a:tblPr/>
              <a:tblGrid>
                <a:gridCol w="546120"/>
                <a:gridCol w="2825640"/>
                <a:gridCol w="1686240"/>
                <a:gridCol w="1685880"/>
                <a:gridCol w="1685880"/>
              </a:tblGrid>
              <a:tr h="252396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рикрепленного населения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отчетный период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соответствующий период, предшествующий отчетному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й онкологический кабинет (отделение) (муниципальное зве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1"/>
          <p:cNvSpPr/>
          <p:nvPr/>
        </p:nvSpPr>
        <p:spPr>
          <a:xfrm>
            <a:off x="142920" y="142920"/>
            <a:ext cx="88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генты выявленных первичными онкологическими кабинетами (отделения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14200" y="571680"/>
          <a:ext cx="8715600" cy="5879880"/>
        </p:xfrm>
        <a:graphic>
          <a:graphicData uri="http://schemas.openxmlformats.org/drawingml/2006/table">
            <a:tbl>
              <a:tblPr/>
              <a:tblGrid>
                <a:gridCol w="500040"/>
                <a:gridCol w="2384640"/>
                <a:gridCol w="542880"/>
                <a:gridCol w="1312920"/>
                <a:gridCol w="1312920"/>
                <a:gridCol w="1331640"/>
                <a:gridCol w="1330560"/>
              </a:tblGrid>
              <a:tr h="385560"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отчетны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ответствующий период, предшествующий отчетно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диагнозо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смотренных с целью выявления злокачественных новообразований (ЗНО), все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ая киш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товид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тель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чеполов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тазовые орг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опухоли ко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ночник и спин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и, суставы и мягкие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атическая и кроветворная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6" name=""/>
          <p:cNvGraphicFramePr/>
          <p:nvPr/>
        </p:nvGraphicFramePr>
        <p:xfrm>
          <a:off x="214200" y="214200"/>
          <a:ext cx="8715600" cy="5973840"/>
        </p:xfrm>
        <a:graphic>
          <a:graphicData uri="http://schemas.openxmlformats.org/drawingml/2006/table">
            <a:tbl>
              <a:tblPr/>
              <a:tblGrid>
                <a:gridCol w="500040"/>
                <a:gridCol w="2813040"/>
                <a:gridCol w="865440"/>
                <a:gridCol w="1008000"/>
                <a:gridCol w="1295280"/>
                <a:gridCol w="1152720"/>
                <a:gridCol w="1081080"/>
              </a:tblGrid>
              <a:tr h="85284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первые зарегистрированных больных ЗНО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ено специальным исследование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ие исследования,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скоп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скоп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й желудочно-кишечного 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зятием материалов на цитоморфологическое иссле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ые исследования (число проведенных анализ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ферментные анализы крови на онкомарк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14200" y="285840"/>
          <a:ext cx="8715600" cy="5121360"/>
        </p:xfrm>
        <a:graphic>
          <a:graphicData uri="http://schemas.openxmlformats.org/drawingml/2006/table">
            <a:tbl>
              <a:tblPr/>
              <a:tblGrid>
                <a:gridCol w="500040"/>
                <a:gridCol w="2928960"/>
                <a:gridCol w="857520"/>
                <a:gridCol w="900000"/>
                <a:gridCol w="1295280"/>
                <a:gridCol w="1152720"/>
                <a:gridCol w="1081080"/>
              </a:tblGrid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Т (КТ)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е с использованием контрастных препар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изотопн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ир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хим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6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выявленных, в том числе ранее, больных ЗНО I, II, III, IV стадий проведен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отерапевтическ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ев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мерших больных от З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стоявших под диспансерным наблюд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исследований умерших больных от ЗН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>
            <a:off x="2157480" y="278604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14200" y="142884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Больным с онкологическими заболеваниями медицинская помощь оказывае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14200" y="150012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864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14200" y="150012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4297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85840" y="15714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первого года один раз в три месяца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второго года - один раз в шесть месяцев, в дальнейшем - один раз в го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214200" y="135684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214200" y="1357200"/>
          <a:ext cx="8715600" cy="5100840"/>
        </p:xfrm>
        <a:graphic>
          <a:graphicData uri="http://schemas.openxmlformats.org/drawingml/2006/table">
            <a:tbl>
              <a:tblPr/>
              <a:tblGrid>
                <a:gridCol w="1928880"/>
                <a:gridCol w="857160"/>
                <a:gridCol w="1285920"/>
                <a:gridCol w="1714680"/>
                <a:gridCol w="2928960"/>
              </a:tblGrid>
              <a:tr h="53604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йон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остоит на конец года (чел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Штатный норматив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актическое обеспечение онкологами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учение по онколог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(вид учебы, год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мизо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омаше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дюж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ай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ул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Ишим, Ишимский р-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Тоболь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ышман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доу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е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Тавд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ут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7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ок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боль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г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лут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46:25Z</dcterms:created>
  <dc:creator>Кислый Денис</dc:creator>
  <dc:description/>
  <dc:language>en-US</dc:language>
  <cp:lastModifiedBy>LEGION</cp:lastModifiedBy>
  <dcterms:modified xsi:type="dcterms:W3CDTF">2014-11-07T12:30:44Z</dcterms:modified>
  <cp:revision>20</cp:revision>
  <dc:subject/>
  <dc:title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dc:title>
</cp:coreProperties>
</file>