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EC09-E1E7-4980-87A6-F0792A0EDE9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Заместитель главного врача по организационно – методической работе ГЛПУ ТО ООД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.А. Гайс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C4B0-D528-4E87-A03B-16AE74A397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ункции Кабин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помощь по ведению онкологических больных на дому участковым врачом-терапевтом или врачом общей практики (семейным врачом), контроль за проведением симптоматического лечения онкологических бо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исывание наркотических средств списка II и  III   Перечня наркотических средств, психотропных веществ и их прекурс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8159-48FD-4975-AA52-42320D7054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динамического наблюдения за больными, получающими лекарственную противоопухолевую терапию в соответствии с рекомендациями врача-онколога, проводимую специализированным онкологическим учреждени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 оценка лабораторных показателей с целью предупреждения развития токсических реакций, своевременное направление больного в специализированное онкологическое учрежд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больных для паллиативного и симптоматического лечения в соответствующие отделения онкологических диспансеров (онкологических больниц), хоспи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ичин отказов от госпит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онкологических больных; проживающих на прикрепленной к Кабинету террито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воевременности направления в онкологические диспансеры сведений о впервые выявленных случаях злокачественных новообразо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88CD-A301-416B-9BF4-9F6F27FFA9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и методическая помощь специалистам медицинских учреждений по вопросам проведения профилактических осмотров, диспансеризации больных с предопухолевыми и хроническими заболевани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просвещение насе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разбор с участковыми врачами-терапевтами, врачами общей практики (семейный врач), а также врачами-специалистами диагностических ошибок и причин запущенности онкологических заболев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полноты и эффективности профилактических осмот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формления амбулаторно-поликлиническими учреждениями установленных форм медицинской документации при обследовании и лечении онкологических бо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учетной и отчетной документации, предоставление отчетов о деятельности в установленном порядке, сбор данных для регистров, ведение которых предусмотрено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функции в соответствии с законодательством Российской Федерации, нормативными правовыми актами субъектов Российской Федерации, муниципальных образ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F2CB-1557-4D67-AD6B-D7E2FDE778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структуре Кабинете рекомендуется предусматри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приема боль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выполнения лечебных процедур, входящих в функции кабине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хранения медицинской докумен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бинет оснащается оборудованием в соответствии со стандартом оснащения (приложение №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E799-627E-4FBB-A6B9-02BED2F8D4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ые штатные нормативы медицинского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ого персонала первичного онкологического отделения (кабинета), отделения городской и центральной районной поликлиники, отделений онкологического диспансера (онкологической больницы), отделения паллиативной помощи онкологическим бо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9E31-6068-48ED-A1A5-C9EB5E0CCE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 осна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х организаций, оказывающих медицинскую помощь онкологическим больным, а также соответствующих организаций, находящихся в ведении субъекта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1EA8-3C7D-4178-BD01-891480DAC9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хосписа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и оказании помощи онкологическим больны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ее Положение регулирует организацию деятельности хосписа по оказанию медицинской, социальной, психологической помощи больным с распространенными формами онкологически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спис является учреждением здравоохранения, предназначенным для оказания медицинской, социальной, психологической, юридической помощи преимущественно инкурабельным онкологическим больным по рекомендации врача-онколога с целью обеспечения необходимой обезболивающей терапии, оказания медико-социальной помощи, ухода, психо-социальной реабилитации, а также психологической и социальной поддержки родствен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A2B2-F489-42AB-880C-A18364E58C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A147-F2E5-4017-B584-7A9B4322BD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И СОЦИ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ТВЕРЖДА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министр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и социальн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Российской Федера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 Сквор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Ы ВЫЯВЛЕНИЯ ОНКОЛОГИЧЕСКИХ ЗАБОЛЕВАНИЙ В РАБОТЕ ВРАЧА ОБЩЕЙ ПР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для организаторов здравоохранения, врачей общей практики, профильных специалистов, врачей-онк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43EF-6809-48BD-ADF6-F5B9BEBB08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бликовано 21 декабря 200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ает в силу: 1 января 201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5 декабря 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гистрационный N 156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о статьей 37.1 Основ законодательства Российской Федерации об охране здоровья граждан от 22 июля 1993 г. N 5487-1 (Ведомости Съезда народных депутатов Российской Федерации и Верховного Совета Российской Федерации, 1993, N 33, ст. 1318; Собрание законодательства Российской Федерации, 2007, N 1, ст. 21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ыва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д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 согласно прилож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нистр Т. Голи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E288-A86B-42AE-B4F8-2FB7F67809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соответствии с приказом Министерства здравоохранения и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, с целью своевременного обеспечения подачи с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 Главным врачам ЛПУ юга Тюменской област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1.  Сосредоточить все виды онкологической помощи и диспансерного наблюдения пациентов  на уровне плановой первичной медико-санитарной помощи, в кабинетах первичного онкологического прием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2.  Обеспечить непрерывную работу кабинета первичного онкологического приема, укомплектовать кадрами в том числе за счет возможного совмещения ставок,в соответствии с приказом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3.  Укомплектовать кабинеты первичного онкологического приема в соответствии с табелем оснащения по приказу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4.  Обеспечить регистрацию пациентов, с нарастающим итогом с 01.01.2010 года, впервые обратившихся в кабинет первичного онкологического приема, а так же пациентов, направленных в онкологический диспансер (по локализациям), для чего ввести соответствующие журналы (Приложение №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5.  На основании документации первичного онкологического кабинета информация по мониторингу(Приложение №2) предоставляется в срок до 28 числа отчетного месяца: по электронной почте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AF1C-2347-4A43-9B3F-BF7DBBA7CB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авному врачу ГЛПУ ТО «Областной онкологический диспансер»   (А.Г.Синяков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беспечить свод и анализ информации в соответствии с приказом Министерства здравоохранения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Проводить в ежемесячном режиме курацию районных ЛПУ и поликлиник г.Тюмени по методике мониторирования и оказывать консультативную помощь по необхо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Подготовленную информацию предоставлять на электронном и бумажном носителе в департамент здравоохранения Тюменской области сроком до 3 числа очередного меся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ГЛПУ ТО «Областной онкологический диспансер» в срок до 15.02.2010г обеспечить все ЛПУ юга Тюменской области и поликлиник г.Тюмени экземпляром журнала регистрации и инструкции по его запол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0E23-8CD6-4233-B2E7-879E4C4D22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Учитывать результаты работы по мониторингу, направленного на совершенствование организации онкологической помощи населению, при определении размера премирования главных врачей областных ЛПУ, поликлиник г.Тюмени, главного врача ГЛПУ ТО «Областной онкологический диспансе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Рекомендовать руководителям органов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 Начальнику управления по здравоохранению администрации г.Тюмени (Ярцеву С.Е.) и советнику главы администрации г.Тобольска (Репетиеву В.И.), обеспечить исполнение данного приказа в муниципальных учреждениях г.Тюмени и г.Тоболь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Производить свод информации по поликлиникам г.Тюмени и предоставлять в ГЛПУ ТО «Областной онкологический диспансер» общую информацию сроком до 28 числа отчетного месяца. : по электронной почте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ymen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onk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ail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Контроль за исполнением приказа возложить на  первого заместителя директора департамента Н.С.Брын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 департамента                                                  А.Ю.Кудр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50F1-FE6B-4B5B-822F-09EC00A969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AE06-4CA7-43ED-8D48-82E957535A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ий Порядок регулирует вопросы оказания медицинской помощи населению при онкологических заболеваниях в государственных и муниципальных учреждениях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ым с онкологическими заболеваниями медицинская помощь оказыв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плановой первичной медико-санитарной помощи - терапевтическая, хирургическая и онкологическая 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плановой специализированной, в том числе высокотехнологичной медицинской помощи - специализированная онкологическая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лановой помощи больным с онкологическими заболеваниями в рамках первичной медико-санитарной помощи организуется в амбулаторно-поликлинических и больничных учреждениях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лановой специализированной, в том числе высокотехнологичной медицинской помощи больным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FA9D-299F-41E0-91E8-EA8C21170F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ая онкологическая помощь в рамках первичной медико-санитарной помощи в амбулаторно-поликлинических учреждениях оказывается на основе взаимодействия врачей первичного звена здравоохранения: участковых врачей-терапевтов, врачей общей практики (семейных врачей), врачей-хирургов и врачей-онкол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е работники фельдшерско-акушерских пунктов оказывают медицинскую помощь больным с онкологическими заболеваниями в соответствии с рекомендациями врачей-онкологов и врачей-специали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       В амбулаторно-поликлинических учреждениях участковые врачи-терапевты, врачи общей практики (семейные врачи), врачи-хирурги во взаимодействии с врачами-специалистами выявляют риск развития онкологически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       При подозрении или выявлении опухолевого заболевания пациента направляют в первичный онкологический кабинет (отделение), после чего врач-специалист первичного онкологического кабинета направляет пациента в онкологический диспансер, онкологическую больницу для уточнения диагноза и определения последующей тактики ведения па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       В случае подозрения и/или выявления у пациента злокачественного новообразования врач-специалист первичного онкологического кабинета уведомляет организационно-методический отдел онкологического диспансера для постановки больного на учет (с его добровольного информированного соглас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        В случае подтверждения в онкологическом диспансере у пациента факта наличия онкологического заболевания, информация о диагнозе пациента (с его добровольного информированного согласия) направляется из организационно-методического отдела онкологического диспансера в первичный онкологический кабинет, из которого был направлен пациент для последующего диспансерного наблю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BD0D-8F78-4F65-AC4E-C7D6C08B65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 амбулаторно-поликлинических учреждениях онкологическая помощь больным с онкологическими заболеваниями оказывается врачами-онкологами в первичном онкологическом кабинете (отделении, дневном стационаре), осуществляющим свою деятельность в соответствии с Положениями об организации деятельности первичного онкологического кабинета поликлиники, первичного онкологического отделения (приложения N 1 и 2 к Порядку оказания медицинской помощи населению при онкологических заболеваниях, утвержденному настоящим приказом)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лановое стационарное обследование и лечение больных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1. Специализированная, в том числе высокотехнологичная медицинская помощь больным с онкологическими заболеваниями оказывается в федеральных организациях, оказывающих медицинскую помощь, а также в онкологическом диспансере, онкологической больнице, осуществляющих свою деятельность в соответствии с Положением об организации деятельности онкологического диспансера (онкологической больницы) (приложение N 4 к Порядку оказания медицинской помощи населению при онкологических заболеваниях, утвержденному настоящим приказом) и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5691-62D6-4E51-8A0D-6556807311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2. Оснащение онкологического диспансера, онкологической больницы осуществляется в зависимости от профиля структурного подразделения в соответствии со стандартами оснащения (приложение N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3.   При выявлении у больного в онкологическом диспансере медицинских показаний к высокотехнологичным методам лечения помощь оказывается ему в соответствии с установленным порядком оказания высокотехнологичной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4. Больные злокачественными новообразованиями подлежат пожизненному диспансерному наблюдению в онкологическом диспансере. Если течение заболевания не требует изменения тактики ведения пациента, диспансерные осмотры после проведенного лечения осущест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первого года один раз в три меся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второго года - один раз в шесть месяцев, в дальнейшем - один раз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E49A-DABA-4EE0-8D87-925409A524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    В организации онкологической помощи больным сочетаются лечебные методы (хирургический, радиотерапевтический и лекарственный) и паллиативные мероприятия в отделениях (хосписе), осуществляющих свою деятельность в соответствии с положениями об организации деятельности структурных подразделений федеральных организаций, оказывающих медицинскую помощь онкологическим больным, а также в соответствующих организациях, находящихся в ведении субъекта Российской Федерации (приложения N 4 и 6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   Скорая медицинская помощь больным злокачественными новообразованиями оказывается станциями (подстанциями) скорой медицинской помощи и отделениями скорой медицинской помощи при районных и центральных районных больниц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скорой медицинской помощи больным злокачественными новообразованиями осуществляют специализированные реаниматологические, врачебные и фельдшерские выездные бригады, штатный состав которых определен приказом Мин-здравсоцразвития России от 1 ноября 2004 г. N 179 "Об утверждении порядка оказания скорой медицинской помощи" (зарегистрирован Минюстом России 23 ноября 2004 г., регистрационный N 613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озрении и/или выявлении у больных злокачественного новообразования в ходе оказания им скорой медицинской помощи, таких больных переводят или направляют в онкологические диспансеры (онкологические больницы) для определения тактики ведения и необходимости применения дополнительно других методов специализированного противоопухолевого л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В случае если проведение медицинских манипуляций, связанных с оказанием помощи онкологическим больным, может повлечь возникновение болевых ощущений у пациента, такие манипуляции должны проводиться с обезболи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DB59-9533-4BE2-A8E1-D686EFD741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стоящее Положение определяет организацию деятельности первичного онкологического кабинета городской и центральной районной поликли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вичный онкологический кабинет (далее - Кабинет) создается в городской и центральной районной поликлинике при обслуживании контингента онкологических больных до 500 человек для обеспечения консультативной, диагностической помощью больным с онкологическими и предопухолевыми заболеваниями, своевременного направления больных в онкологическое учреждение для определения тактики ведения, диспансерного наблюдения онкологических больных, мониторинга за состоянием здоровья пациентов групп риска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EEE8-C612-412D-BAD9-3685DBD557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E89B-1972-434D-A25A-28926E3A41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9C6-5E74-4B23-8819-12CF80F9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52A-B8D7-47B0-8321-7D92B844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7887C-45A9-4012-A005-C5AAA872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539426-BCD1-454B-AA75-0D9D83B9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2E1C60-735E-4EDA-B107-84C56247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52CD7C-0597-4DA9-8303-11BDED6A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EEF8A-6CA5-4A4D-BC25-F5AE1A07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F29166-5811-4FD1-AE83-BB3844A1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E7D1D-E6DE-401D-9770-6364BE8D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F8457-9424-41E0-B4F5-72647590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37264-F2C2-441C-8AD3-09B4ED42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7BEAA-B5C7-480D-AC6C-A9342788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0D3F-3719-4290-B983-C0014BC0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101F4E-F1CE-40F6-929E-95C478EE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AE7C3-65B8-43D2-AF1F-C57EB665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A8977-3482-4AAD-A624-3DC0797E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D93171-005D-40A2-A1BD-B697F90E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ECD26-0B10-4688-98C4-9896CA83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C44DB-271E-4519-99F7-27288E84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07B34-CABA-41D5-B407-E22D4CF6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03078F-BF8D-4624-9615-E059D8C8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EA369E-4225-40C3-A993-623A3339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8AA88-BC3F-4DA4-8A81-42543553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74F-8DDD-4030-9256-D6480FD0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13160-7141-47EB-B5A7-83BD81ED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4EE78-20AF-4F0C-8709-58022B0C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0C5AE-6DE1-4357-B715-C32F7D6C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A158A-7F55-4AFC-AB3B-8AFA5EB5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7B828-BBE0-44FC-AEA7-6DCBC39C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0B769-257E-4714-80DD-635235B4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B2C6F-F9E1-46CE-8405-20AA7DFD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E55BC-B88F-40F5-9A1A-39FDAA93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228AE-D23C-4E49-AEEC-58A14F64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23175-3C8F-4E5C-9276-7F73E94D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95C3-961F-42CA-9718-B3E5326E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193F7-84D7-48A5-BA91-B1A47260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BAE3A-362F-42FE-9065-030AA3CB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DA8FB-D63D-4891-A858-FA511D01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76F41-E8CE-4893-A14E-1E33A26B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97D3F-821A-435D-B712-28E852C4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FACD8-B69F-4708-87EE-1572CAAF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FB86C-6D1D-44A3-A29E-D837C394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7BDEA9-6337-4288-9C93-89DBF406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31E63A-6CB7-4581-A8B3-EDD95715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6B143-BAFF-45D1-9A83-85DAB0BF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2C44-382A-42A8-8373-CE59290E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D7B16-BD91-485B-9992-18D07E60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07570-110E-4310-BCE4-0E1C9FAD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FEA94-A137-4606-A3D8-7EEA264D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66993A-DFC4-407B-B0CF-2BE5C680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66E1B-4E34-488E-B4B8-AD350C15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2BB0-7115-423A-A322-667749C7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C36B-BA8A-4352-8BC6-7CDD7836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FE50-8612-493F-9C81-27C59EE8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667C-C35C-450C-84DE-41AA8CA0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FF26-3595-4319-86C6-8A6A2686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D5A-C650-4947-AECB-AB5D8436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62D3-99EC-44F9-A088-61E096D6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4B58-03B9-456F-BB5C-36BD5107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C160-A102-451C-84CD-2D96C990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31FE-D474-4A32-91B5-0469A0B1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B86B-31FC-487B-A3BC-6915D912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5A2E1-CF06-4A26-8EA1-2A4417F1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4B93D-F1AE-4ACD-8D27-F9AF303C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5E2A6-07F4-4650-AA84-63538BC9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A831D-294B-4956-AD1E-5186FAFE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90633-DB59-4011-A0E7-59572E22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526-599F-4F2E-A608-654493BF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F9D7D-7904-4D0A-BB3B-FA991ECB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E4182-1595-4758-BAC3-F18F4DEE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24EFF-9909-4D8D-9E20-4ABEEA21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581C2-7753-4983-836A-6124283D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39CE5-A136-43D1-AA52-5E1CEE60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C8F32-AB1E-4EC9-A57F-6DCDDBD5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CABA1-9C8F-4BE4-9E84-50B9A3E6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C84CB-B3E2-4821-9785-CDE32808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119BD-B678-4CBC-98D1-C6BC81FA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058CE-F530-41CC-8C82-2E3930A3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35F-3CF7-4450-AEE5-F74818BD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0D204-5F48-4A82-8C67-363786C9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F94C3-F6CD-43AB-88A4-44FF9192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0AFCC-E7FE-4E6A-BC48-C751A349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3E43A-3F28-4D8C-8217-AC276348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B1401-A6AD-4BE5-8EFD-349A56E8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05F2F-EC39-4697-9ADA-C68AF152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A9E9B-726C-4280-B210-DAF86EBB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E81F9-3F86-46CC-8712-2FD064CE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A0A5E-AF30-4950-8022-637DD0F9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75A70-3A95-4152-A76A-2788F4A0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0A0-6678-4E58-BCAF-04D2E9E0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92141-EAAB-41D8-BABF-8FB2D455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66286-668D-4E7C-B21D-69B0748A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0D6DD-D224-48FE-9A49-568D3EBA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8826C-C1E0-4CD1-A93E-28F80346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695B5-0525-43F0-A12F-1BF8F54B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2C7BC-67D2-4FD7-A9E7-812C4654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A54A0-96EF-4555-8ECE-8BA9BBFF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87560-6892-4B8E-9FD8-FF43A8B4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EF27A-B401-4A8A-9995-DEE00F66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ED90D-F6F7-4D2A-AFF1-CFCE47D8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020-AD77-4C2A-A544-490D2856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E42B7-3E51-4C58-BAD3-28611ACF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D43AC-741E-4E56-A70E-7D43CC85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C0104-9EC6-4D96-AAF3-46D3B66F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D74C1-66C0-4531-B745-96CBE1FC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F88E2-83E5-41E7-9A32-A4CD1CD8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CFC2D-49F5-435F-977F-3F5E5BD0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C3CC0-1B86-4C5F-A75F-9D7F52AB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ED279-070D-4D5D-86BA-955186EA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B311B-E204-485B-B949-93F7F042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29ABF-BE41-4173-BD8F-D8AE4062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A2D-04DE-4E4E-90FA-1BDCD4B0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C417B-02B0-4C9B-A320-B606888C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833DE-8FA5-4D96-8AB4-0745F7B3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0FA1F-113A-42F3-8087-86EEFD39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488BE-9770-4649-AC44-516E3B48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DBD50-9E1E-4D4B-8E08-77D47643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B52CC-F9B9-4EF6-8A51-2E0B2205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333F5-65E4-4C37-B7A0-00574317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CC876-9301-43D4-8AB8-6178A7FA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AB006-2E9F-4A3F-909B-65AD0215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06D1F-2E13-4D94-85B9-E3EAB284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DF6-0D08-4560-9921-52E5A252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6E083-9927-465E-87BB-24185F27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4F863-699F-44C8-851D-A2350F7B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38057-B3B0-4740-8972-0698B95A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57F15-B6A5-468F-BAF1-AE5B0A1C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19520-1849-4781-9B0A-537CD213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F1913-7324-4662-85A7-716CCAF2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EF59A-519D-48E4-B74A-7496C0C4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43044-280B-46C7-AFFD-C42D6763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745DF-0E25-4F5E-996E-DA6292C8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ACCD5-CF9E-4568-8EEF-6D48E20A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B19-5AFF-4392-9758-69C737DD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1C5F4-BD1F-4D8F-95A8-79923E4D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7996B-3C80-42B7-BA8E-4236DE0F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08569-21C5-4B9E-8C75-03962D7E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541FE-BC98-4ABC-A6BE-B2B12A68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081B5-4A80-46BB-ABC3-FB2F23A2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1912E-A34D-41F0-93E4-8E92BEEC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03D9D-6380-4A40-8794-728DDAEE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FE433-3DDB-4A32-A970-B9AE779F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1F2F8-BFE6-4310-BF28-0B42B609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7E499-C67B-4561-8539-8F666989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9620-AC7C-4BC6-A23F-945B2E36A4B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A591-3E0A-4FA4-852B-F3C8311AB52F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7D7C-F6E8-4E4C-BCE6-8805EB4B7BDE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C134-9043-4213-AF59-BCC8981122EC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842E-395D-45E5-A0F2-346EBBC99F8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0808-A025-48C6-B6B8-890D266F0646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4100-BB83-4588-9795-C1D4686E9EA0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7E07-65C5-43EE-8154-5C5E1A1AFA3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69AD-1C86-4FDB-9F5F-5D6FC0434ABC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518B-E3F6-4B12-B67F-D87F4D3C3FE1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BB70-3C58-4D24-A72E-514B80D95F6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6856-18C3-42D4-AED4-739250C744EE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F32F-1E72-430D-8CC6-2A7B199CD1B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D526-D4BE-4A6B-8A24-80FFF8F61F9F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e3b3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81DB-9A28-45B8-B7ED-664F1C38DE40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3AA4-D79F-47AE-B10C-FE90FFE1B03F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e3b3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164A-532F-4313-B8DC-8D897A77D29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787B-F31E-4A25-B468-8BBE73483D76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107A-EA97-4D9B-9430-09DCDDA9E4C9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9C41-BACF-4D0C-8A33-F75DCED487D8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4A91-9388-47DD-BB9C-BF2D120CBB8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35E2-4F55-43C0-B326-A2AF44F76B48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5F09-82C2-4F47-BCED-030DE45A0E6C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919F-DF60-42DA-B575-2F32F4BA0F19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5643720" y="5643360"/>
            <a:ext cx="318600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Заместитель главного врача по организационно – методической работе ГЛПУ ТО ООД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Т.А. Гайсин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324000" y="1071360"/>
            <a:ext cx="85341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a:t>
            </a:r>
            <a:endParaRPr b="0" lang="en-US" sz="20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Функции Кабинета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нсультативная помощь по ведению онкологических больных на дому участковым врачом-терапевтом или врачом общей практики (семейным врачом), контроль за проведением симптоматического лечения онкологических больных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писывание наркотических средств списка II и  III   Перечня наркотических средств, психотропных веществ и их прекурсор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существление динамического наблюдения за больными, получающими лекарственную противоопухолевую терапию в соответствии с рекомендациями врача-онколога, проводимую специализированным онкологическим учреждением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мониторинг и оценка лабораторных показателей с целью предупреждения развития токсических реакций, своевременное направление больного в специализированное онкологическое учреждение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авление больных для паллиативного и симптоматического лечения в соответствующие отделения онкологических диспансеров (онкологических больниц), хоспис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причин отказов от госпитализаци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чет онкологических больных; проживающих на прикрепленной к Кабинету территори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ценка своевременности направления в онкологические диспансеры сведений о впервые выявленных случаях злокачественных новообразований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консультативная и методическая помощь специалистам медицинских учреждений по вопросам проведения профилактических осмотров, диспансеризации больных с предопухолевыми и хроническими заболеваниями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санитарно-гигиеническое просвещение населения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и разбор с участковыми врачами-терапевтами, врачами общей практики (семейный врач), а также врачами-специалистами диагностических ошибок и причин запущенности онкологических заболеваний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ценка полноты и эффективности профилактических осмотров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оформления амбулаторно-поликлиническими учреждениями установленных форм медицинской документации при обследовании и лечении онкологических больных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едение учетной и отчетной документации, предоставление отчетов о деятельности в установленном порядке, сбор данных для регистров, ведение которых предусмотрено законодательством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ные функции в соответствии с законодательством Российской Федерации, нормативными правовыми актами субъектов Российской Федерации, муниципальных образований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В структуре Кабинете рекомендуется предусматривать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приема больных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выполнения лечебных процедур, входящих в функции кабинета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хранения медицинской документац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Кабинет оснащается оборудованием в соответствии со стандартом оснащения (приложение №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Рекомендуемые штатные нормативы медицинского 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ного персонала первичного онкологического отделения (кабинета), отделения городской и центральной районной поликлиники, отделений онкологического диспансера (онкологической больницы), отделения паллиативной помощи онкологическим больным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214200" y="1643040"/>
          <a:ext cx="8715600" cy="4608360"/>
        </p:xfrm>
        <a:graphic>
          <a:graphicData uri="http://schemas.openxmlformats.org/drawingml/2006/table">
            <a:tbl>
              <a:tblPr/>
              <a:tblGrid>
                <a:gridCol w="4143600"/>
                <a:gridCol w="4572000"/>
              </a:tblGrid>
              <a:tr h="48492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ервичный онкологический отделение (кабинет) городской и центральной районной 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64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Врачебны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86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рач-онколог или врач-специалист, прошедший подготовку по онк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должность на 500 человек контингента диспансерных онкологических больных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орма нагрузки на амбулаторном прием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консультативный прием – 20 мин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лечебно-диагностический прием (в т.ч. повторный) – 20 мин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консультативный прием (на выезде) – 60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Средн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9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дицинская се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должность на 500 человек контингента диспансерных онкологических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дицинская сестра процедур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з расчета 1 должность на процедурный каби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 gridSpan="2"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Примечание: При меньшем числе контингента диспансерных онкологических больных– 1 должность врача и  1 должность среднего медицинского персонала в соотношении 1: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058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тандарт оснащения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федеральных организаций, оказывающих медицинскую помощь онкологическим больным, а также соответствующих организаций, находящихся в ведении субъекта Российской Федераци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285840" y="2571840"/>
          <a:ext cx="8501040" cy="3500280"/>
        </p:xfrm>
        <a:graphic>
          <a:graphicData uri="http://schemas.openxmlformats.org/drawingml/2006/table">
            <a:tbl>
              <a:tblPr/>
              <a:tblGrid>
                <a:gridCol w="5352840"/>
                <a:gridCol w="3148200"/>
              </a:tblGrid>
              <a:tr h="622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 осн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1260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ребуемое количество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аминарная камера для стерильного разведения лекарственных препа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есы для взвешивания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нфузо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6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ейф для хранения сильнодействующих и психотропных средств, докумен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Прямоугольник 4"/>
          <p:cNvSpPr/>
          <p:nvPr/>
        </p:nvSpPr>
        <p:spPr>
          <a:xfrm>
            <a:off x="1214280" y="191628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рвичное онкологическое отделение (каби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б организации деятельности хоспис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 оказании помощи онкологическим больным</a:t>
            </a:r>
            <a:endParaRPr b="0" lang="en-US" sz="20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Настоящее Положение регулирует организацию деятельности хосписа по оказанию медицинской, социальной, психологической помощи больным с распространенными формами онкологических заболеваний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оспис является учреждением здравоохранения, предназначенным для оказания медицинской, социальной, психологической, юридической помощи преимущественно инкурабельным онкологическим больным по рекомендации врача-онколога с целью обеспечения необходимой обезболивающей терапии, оказания медико-социальной помощи, ухода, психо-социальной реабилитации, а также психологической и социальной поддержки родственников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Заголовок 11"/>
          <p:cNvSpPr/>
          <p:nvPr/>
        </p:nvSpPr>
        <p:spPr>
          <a:xfrm>
            <a:off x="971640" y="189000"/>
            <a:ext cx="75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3" name="Object 2"/>
          <p:cNvGraphicFramePr/>
          <p:nvPr/>
        </p:nvGraphicFramePr>
        <p:xfrm>
          <a:off x="216000" y="115920"/>
          <a:ext cx="874872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15920"/>
                    <a:ext cx="87487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1"/>
          <p:cNvSpPr/>
          <p:nvPr/>
        </p:nvSpPr>
        <p:spPr>
          <a:xfrm>
            <a:off x="285840" y="459000"/>
            <a:ext cx="850104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И СОЦИАЛЬН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ТВЕРЖДАЮ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министр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и социальног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Российской Федераци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 Скворц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Ы ВЫЯВЛЕНИЯ ОНКОЛОГИЧЕСКИХ ЗАБОЛЕВАНИЙ В РАБОТЕ ВРАЧА ОБЩЕЙ ПР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для организаторов здравоохранения, врачей общей практики, профильных специалистов, врачей-онко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12AF-5980-4C51-9589-920B72B5492E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Заголовок 11"/>
          <p:cNvSpPr/>
          <p:nvPr/>
        </p:nvSpPr>
        <p:spPr>
          <a:xfrm>
            <a:off x="971640" y="44280"/>
            <a:ext cx="75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8317080" y="6453360"/>
            <a:ext cx="82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Object 11"/>
          <p:cNvGraphicFramePr/>
          <p:nvPr/>
        </p:nvGraphicFramePr>
        <p:xfrm>
          <a:off x="324000" y="189000"/>
          <a:ext cx="8496000" cy="59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8496000" cy="59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6760"/>
            <a:ext cx="850428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публиковано 21 декабря 2009 г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ступает в силу: 1 января 2010 г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Зарегистрирован в Минюсте РФ 15 декабря 2009 г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Регистрационный N 15605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соответствии со статьей 37.1 Основ законодательства Российской Федерации об охране здоровья граждан от 22 июля 1993 г. N 5487-1 (Ведомости Съезда народных депутатов Российской Федерации и Верховного Совета Российской Федерации, 1993, N 33, ст. 1318; Собрание законодательства Российской Федерации, 2007, N 1, ст. 21)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твердить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 согласно приложению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Министр Т. Голикова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4"/>
          <p:cNvSpPr/>
          <p:nvPr/>
        </p:nvSpPr>
        <p:spPr>
          <a:xfrm>
            <a:off x="571680" y="214200"/>
            <a:ext cx="7786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соответствии с приказом Министерства здравоохранения и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, с целью своевременного обеспечения подачи све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5"/>
          <p:cNvSpPr/>
          <p:nvPr/>
        </p:nvSpPr>
        <p:spPr>
          <a:xfrm>
            <a:off x="285840" y="1643040"/>
            <a:ext cx="85723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 Главным врачам ЛПУ юга Тюменской обла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1.  Сосредоточить все виды онкологической помощи и диспансерного наблюдения пациентов  на уровне плановой первичной медико-санитарной помощи, в кабинетах первичного онкологического при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2.  Обеспечить непрерывную работу кабинета первичного онкологического приема, укомплектовать кадрами в том числе за счет возможного совмещения ставок,в соответствии с приказом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3.  Укомплектовать кабинеты первичного онкологического приема в соответствии с табелем оснащения по приказу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4.  Обеспечить регистрацию пациентов, с нарастающим итогом с 01.01.2010 года, впервые обратившихся в кабинет первичного онкологического приема, а так же пациентов, направленных в онкологический диспансер (по локализациям), для чего ввести соответствующие журналы (Приложение №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5.  На основании документации первичного онкологического кабинета информация по мониторингу(Приложение №2) предоставляется в срок до 28 числа отчетного месяца: по электронной почте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Box 1"/>
          <p:cNvSpPr/>
          <p:nvPr/>
        </p:nvSpPr>
        <p:spPr>
          <a:xfrm>
            <a:off x="285840" y="285840"/>
            <a:ext cx="864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Главному врачу ГЛПУ ТО «Областной онкологический диспансер»   (А.Г.Синяков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1. Обеспечить свод и анализ информации в соответствии с приказом Министерства здравоохранения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2. Проводить в ежемесячном режиме курацию районных ЛПУ и поликлиник г.Тюмени по методике мониторирования и оказывать консультативную помощь по необход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3. Подготовленную информацию предоставлять на электронном и бумажном носителе в департамент здравоохранения Тюменской области сроком до 3 числа очередного меся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4. ГЛПУ ТО «Областной онкологический диспансер» в срок до 15.02.2010г обеспечить все ЛПУ юга Тюменской области и поликлиник г.Тюмени экземпляром журнала регистрации и инструкции по его запол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214200" y="285840"/>
            <a:ext cx="8715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.   Учитывать результаты работы по мониторингу, направленного на совершенствование организации онкологической помощи населению, при определении размера премирования главных врачей областных ЛПУ, поликлиник г.Тюмени, главного врача ГЛПУ ТО «Областной онкологический диспанс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    Рекомендовать руководителям органов упра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1. Начальнику управления по здравоохранению администрации г.Тюмени (Ярцеву С.Е.) и советнику главы администрации г.Тобольска (Репетиеву В.И.), обеспечить исполнение данного приказа в муниципальных учреждениях г.Тюмени и г.Тоболь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2. Производить свод информации по поликлиникам г.Тюмени и предоставлять в ГЛПУ ТО «Областной онкологический диспансер» общую информацию сроком до 28 числа отчетного месяца. : по электронной почте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.    Контроль за исполнением приказа возложить на  первого заместителя директора департамента Н.С.Брын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иректор департамента                                                  А.Ю.Кудр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1"/>
          <p:cNvSpPr/>
          <p:nvPr/>
        </p:nvSpPr>
        <p:spPr>
          <a:xfrm>
            <a:off x="2105640" y="143280"/>
            <a:ext cx="47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Журнал учета оказания онкологической помо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285840" y="500040"/>
          <a:ext cx="8572320" cy="1143000"/>
        </p:xfrm>
        <a:graphic>
          <a:graphicData uri="http://schemas.openxmlformats.org/drawingml/2006/table">
            <a:tbl>
              <a:tblPr/>
              <a:tblGrid>
                <a:gridCol w="662040"/>
                <a:gridCol w="815760"/>
                <a:gridCol w="946080"/>
                <a:gridCol w="1273320"/>
                <a:gridCol w="1238400"/>
                <a:gridCol w="636480"/>
                <a:gridCol w="636480"/>
                <a:gridCol w="636480"/>
                <a:gridCol w="863640"/>
                <a:gridCol w="863640"/>
              </a:tblGrid>
              <a:tr h="245160"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паци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обра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ый диа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направления в диспанс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диа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а исключ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85840" y="1960560"/>
          <a:ext cx="8572320" cy="4681440"/>
        </p:xfrm>
        <a:graphic>
          <a:graphicData uri="http://schemas.openxmlformats.org/drawingml/2006/table">
            <a:tbl>
              <a:tblPr/>
              <a:tblGrid>
                <a:gridCol w="339480"/>
                <a:gridCol w="330480"/>
                <a:gridCol w="295200"/>
                <a:gridCol w="361800"/>
                <a:gridCol w="411120"/>
                <a:gridCol w="411480"/>
                <a:gridCol w="411120"/>
                <a:gridCol w="334800"/>
                <a:gridCol w="246240"/>
                <a:gridCol w="245880"/>
                <a:gridCol w="328680"/>
                <a:gridCol w="365040"/>
                <a:gridCol w="461880"/>
                <a:gridCol w="536760"/>
                <a:gridCol w="520560"/>
                <a:gridCol w="596880"/>
                <a:gridCol w="519120"/>
                <a:gridCol w="520920"/>
                <a:gridCol w="371520"/>
                <a:gridCol w="371160"/>
                <a:gridCol w="592200"/>
              </a:tblGrid>
              <a:tr h="1373040">
                <a:tc gridSpan="13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етод подтверждения диагн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роведено ле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Число умерших больных от З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атол. иссл. умерших от  З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 gridSpan="3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Эндоскопичес-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У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ент-ге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Лаборатор-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диоизотоп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Г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Химиотерап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Лучев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пера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омбинирова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аллиа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 состоящих на уче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360"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Г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зят  о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цитолог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Т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 контраст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Гемат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Цитоло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Ф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канир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7" name=""/>
          <p:cNvGraphicFramePr/>
          <p:nvPr/>
        </p:nvGraphicFramePr>
        <p:xfrm>
          <a:off x="214200" y="1643040"/>
          <a:ext cx="8715600" cy="4654440"/>
        </p:xfrm>
        <a:graphic>
          <a:graphicData uri="http://schemas.openxmlformats.org/drawingml/2006/table">
            <a:tbl>
              <a:tblPr/>
              <a:tblGrid>
                <a:gridCol w="357480"/>
                <a:gridCol w="2268360"/>
                <a:gridCol w="541440"/>
                <a:gridCol w="1076400"/>
                <a:gridCol w="739440"/>
                <a:gridCol w="1011240"/>
                <a:gridCol w="1009800"/>
                <a:gridCol w="855720"/>
                <a:gridCol w="855720"/>
              </a:tblGrid>
              <a:tr h="420480"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специа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ланировано обучение на год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лено специалистов на отчетную д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тся подготовка специалистов на отчетную д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чреждения образования и (или) науки, в котором осуществлялась подготовка специал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ли повышение квалифика-ции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ли профессиональ-ную переподготовку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чреждения образования и (или) науки, в котором осуществляется подготовка специал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ят повышение квалифика-ции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ят профессионал-ную переподготовку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. – реанимат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ая диагно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. диагно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ая он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Rectangle 1"/>
          <p:cNvSpPr/>
          <p:nvPr/>
        </p:nvSpPr>
        <p:spPr>
          <a:xfrm>
            <a:off x="0" y="220680"/>
            <a:ext cx="9001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ежемесячного отчета по мониторингу  оказания онкологической помощи.                    Форма № МОПН-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дготовке медицинского персонала для учреждений здравоохранения субъекта Российской Федерации и муниципальных образований, участвующих в реализации мероприятий, направленных на совершенствование организации онкологической помощи населению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бъект Российской Федерац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______________ 200_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сяц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1"/>
          <p:cNvSpPr/>
          <p:nvPr/>
        </p:nvSpPr>
        <p:spPr>
          <a:xfrm>
            <a:off x="214200" y="151560"/>
            <a:ext cx="8643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МОПН-Ц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сновных целевых показателях деятельности учреждений субъекта Российской Федерации и муниципальных образований, участвующих в реализации мероприятий, направленных на совершенствование организации онкологической помощи населению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бъект Российской Федер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_____________ 200_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сяц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еятельности первичных онкологических кабинетов (отделений) (муниципальное зве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57120" y="2071800"/>
          <a:ext cx="8429760" cy="3882960"/>
        </p:xfrm>
        <a:graphic>
          <a:graphicData uri="http://schemas.openxmlformats.org/drawingml/2006/table">
            <a:tbl>
              <a:tblPr/>
              <a:tblGrid>
                <a:gridCol w="546120"/>
                <a:gridCol w="2825640"/>
                <a:gridCol w="1686240"/>
                <a:gridCol w="1685880"/>
                <a:gridCol w="1685880"/>
              </a:tblGrid>
              <a:tr h="252396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прикрепленного населения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рошедших через первичный кабинет за отчетный период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рошедших через первичный кабинет за соответствующий период, предшествующий отчетному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90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й онкологический кабинет (отделение) (муниципальное зве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1"/>
          <p:cNvSpPr/>
          <p:nvPr/>
        </p:nvSpPr>
        <p:spPr>
          <a:xfrm>
            <a:off x="142920" y="142920"/>
            <a:ext cx="88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генты выявленных первичными онкологическими кабинетами (отделения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14200" y="571680"/>
          <a:ext cx="8715600" cy="5879880"/>
        </p:xfrm>
        <a:graphic>
          <a:graphicData uri="http://schemas.openxmlformats.org/drawingml/2006/table">
            <a:tbl>
              <a:tblPr/>
              <a:tblGrid>
                <a:gridCol w="500040"/>
                <a:gridCol w="2384640"/>
                <a:gridCol w="542880"/>
                <a:gridCol w="1312920"/>
                <a:gridCol w="1312920"/>
                <a:gridCol w="1331640"/>
                <a:gridCol w="1330560"/>
              </a:tblGrid>
              <a:tr h="385560"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отчетны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оответствующий период, предшествующий отчетном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региональный или окружной онкологический диспансер (РОД/ООД) для уточнения диагно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ольных, с подтвержденным в РОД или ООД диагноз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региональный или окружной онкологический диспансер (РОД/ООД) для уточнения диагно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ольных, с подтвержденным диагнозом в РОД или ООД диагноз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смотренных с целью выявления злокачественных новообразований (ЗНО), все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ч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уд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ая киш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итовид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тель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чеполовая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тазовые орга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опухоли кож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вной моз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ночник и спинной моз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и, суставы и мягкие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8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атическая и кроветворная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6" name=""/>
          <p:cNvGraphicFramePr/>
          <p:nvPr/>
        </p:nvGraphicFramePr>
        <p:xfrm>
          <a:off x="214200" y="214200"/>
          <a:ext cx="8715600" cy="5973840"/>
        </p:xfrm>
        <a:graphic>
          <a:graphicData uri="http://schemas.openxmlformats.org/drawingml/2006/table">
            <a:tbl>
              <a:tblPr/>
              <a:tblGrid>
                <a:gridCol w="500040"/>
                <a:gridCol w="2813040"/>
                <a:gridCol w="865440"/>
                <a:gridCol w="1008000"/>
                <a:gridCol w="1295280"/>
                <a:gridCol w="1152720"/>
                <a:gridCol w="1081080"/>
              </a:tblGrid>
              <a:tr h="85284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первые зарегистрированных больных ЗНО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ено специальным исследование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ие исследования, 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ы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4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доскопически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скоп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й желудочно-кишечного тр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зятием материалов на цитоморфологическое иссле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4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ые исследования (число проведенных анализ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ферментные анализы крови на онкомарк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7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214200" y="285840"/>
          <a:ext cx="8715600" cy="5121360"/>
        </p:xfrm>
        <a:graphic>
          <a:graphicData uri="http://schemas.openxmlformats.org/drawingml/2006/table">
            <a:tbl>
              <a:tblPr/>
              <a:tblGrid>
                <a:gridCol w="500040"/>
                <a:gridCol w="2928960"/>
                <a:gridCol w="857520"/>
                <a:gridCol w="900000"/>
                <a:gridCol w="1295280"/>
                <a:gridCol w="1152720"/>
                <a:gridCol w="1081080"/>
              </a:tblGrid>
              <a:tr h="426600">
                <a:tc rowSpan="2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Т (КТ)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ные с использованием контрастных препар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rowSpan="2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изотопны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нир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химически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6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выявленных, в том числе ранее, больных ЗНО I, II, III, IV стадий проведен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отерапевтическ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евая терап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терап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мерших больных от З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стоявших под диспансерным наблюд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исследований умерших больных от ЗНО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>
            <a:off x="2157480" y="2786040"/>
            <a:ext cx="41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214200" y="142884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астоящий Порядок регулирует вопросы оказания медицинской помощи населению при онкологических заболеваниях в государственных и муниципальных учреждениях здравоохране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Больным с онкологическими заболеваниями медицинская помощь оказывается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рамках плановой первичной медико-санитарной помощи - терапевтическая, хирургическая и онкологическая помощь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рамках плановой специализированной, в том числе высокотехнологичной медицинской помощи - специализированная онкологическая помощ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казание плановой помощи больным с онкологическими заболеваниями в рамках первичной медико-санитарной помощи организуется в амбулаторно-поликлинических и больничных учреждениях здравоохране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казание плановой специализированной, в том числе высокотехнологичной медицинской помощи больным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214200" y="150012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лановая онкологическая помощь в рамках первичной медико-санитарной помощи в амбулаторно-поликлинических учреждениях оказывается на основе взаимодействия врачей первичного звена здравоохранения: участковых врачей-терапевтов, врачей общей практики (семейных врачей), врачей-хирургов и врачей-онкологов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едицинские работники фельдшерско-акушерских пунктов оказывают медицинскую помощь больным с онкологическими заболеваниями в соответствии с рекомендациями врачей-онкологов и врачей-специалистов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1.       В амбулаторно-поликлинических учреждениях участковые врачи-терапевты, врачи общей практики (семейные врачи), врачи-хирурги во взаимодействии с врачами-специалистами выявляют риск развития онкологических заболеваний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2.       При подозрении или выявлении опухолевого заболевания пациента направляют в первичный онкологический кабинет (отделение), после чего врач-специалист первичного онкологического кабинета направляет пациента в онкологический диспансер, онкологическую больницу для уточнения диагноза и определения последующей тактики ведения пациент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3.       В случае подозрения и/или выявления у пациента злокачественного новообразования врач-специалист первичного онкологического кабинета уведомляет организационно-методический отдел онкологического диспансера для постановки больного на учет (с его добровольного информированного согласия)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4.        В случае подтверждения в онкологическом диспансере у пациента факта наличия онкологического заболевания, информация о диагнозе пациента (с его добровольного информированного согласия) направляется из организационно-методического отдела онкологического диспансера в первичный онкологический кабинет, из которого был направлен пациент для последующего диспансерного наблюдения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864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14200" y="150012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6. В амбулаторно-поликлинических учреждениях онкологическая помощь больным с онкологическими заболеваниями оказывается врачами-онкологами в первичном онкологическом кабинете (отделении, дневном стационаре), осуществляющим свою деятельность в соответствии с Положениями об организации деятельности первичного онкологического кабинета поликлиники, первичного онкологического отделения (приложения N 1 и 2 к Порядку оказания медицинской помощи населению при онкологических заболеваниях, утвержденному настоящим приказом)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7. Плановое стационарное обследование и лечение больных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7.1. Специализированная, в том числе высокотехнологичная медицинская помощь больным с онкологическими заболеваниями оказывается в федеральных организациях, оказывающих медицинскую помощь, а также в онкологическом диспансере, онкологической больнице, осуществляющих свою деятельность в соответствии с Положением об организации деятельности онкологического диспансера (онкологической больницы) (приложение N 4 к Порядку оказания медицинской помощи населению при онкологических заболеваниях, утвержденному настоящим приказом) и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4297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85840" y="157140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2. Оснащение онкологического диспансера, онкологической больницы осуществляется в зависимости от профиля структурного подразделения в соответствии со стандартами оснащения (приложение N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3.   При выявлении у больного в онкологическом диспансере медицинских показаний к высокотехнологичным методам лечения помощь оказывается ему в соответствии с установленным порядком оказания высокотехнологичной медицинской помощ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4. Больные злокачественными новообразованиями подлежат пожизненному диспансерному наблюдению в онкологическом диспансере. Если течение заболевания не требует изменения тактики ведения пациента, диспансерные осмотры после проведенного лечения осуществляются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течение первого года один раз в три месяца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течение второго года - один раз в шесть месяцев, в дальнейшем - один раз в го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214200" y="1356840"/>
            <a:ext cx="8715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8.     В организации онкологической помощи больным сочетаются лечебные методы (хирургический, радиотерапевтический и лекарственный) и паллиативные мероприятия в отделениях (хосписе), осуществляющих свою деятельность в соответствии с положениями об организации деятельности структурных подразделений федеральных организаций, оказывающих медицинскую помощь онкологическим больным, а также в соответствующих организациях, находящихся в ведении субъекта Российской Федерации (приложения N 4 и 6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9.    Скорая медицинская помощь больным злокачественными новообразованиями оказывается станциями (подстанциями) скорой медицинской помощи и отделениями скорой медицинской помощи при районных и центральных районных больницах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казание скорой медицинской помощи больным злокачественными новообразованиями осуществляют специализированные реаниматологические, врачебные и фельдшерские выездные бригады, штатный состав которых определен приказом Мин-здравсоцразвития России от 1 ноября 2004 г. N 179 "Об утверждении порядка оказания скорой медицинской помощи" (зарегистрирован Минюстом России 23 ноября 2004 г., регистрационный N 6136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и подозрении и/или выявлении у больных злокачественного новообразования в ходе оказания им скорой медицинской помощи, таких больных переводят или направляют в онкологические диспансеры (онкологические больницы) для определения тактики ведения и необходимости применения дополнительно других методов специализированного противоопухолевого лечен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0. В случае если проведение медицинских манипуляций, связанных с оказанием помощи онкологическим больным, может повлечь возникновение болевых ощущений у пациента, такие манипуляции должны проводиться с обезболивание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Настоящее Положение определяет организацию деятельности первичного онкологического кабинета городской и центральной районной поликлини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Первичный онкологический кабинет (далее - Кабинет) создается в городской и центральной районной поликлинике при обслуживании контингента онкологических больных до 500 человек для обеспечения консультативной, диагностической помощью больным с онкологическими и предопухолевыми заболеваниями, своевременного направления больных в онкологическое учреждение для определения тактики ведения, диспансерного наблюдения онкологических больных, мониторинга за состоянием здоровья пациентов групп риска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214200" y="1357200"/>
          <a:ext cx="8715600" cy="5100840"/>
        </p:xfrm>
        <a:graphic>
          <a:graphicData uri="http://schemas.openxmlformats.org/drawingml/2006/table">
            <a:tbl>
              <a:tblPr/>
              <a:tblGrid>
                <a:gridCol w="1928880"/>
                <a:gridCol w="857160"/>
                <a:gridCol w="1285920"/>
                <a:gridCol w="1714680"/>
                <a:gridCol w="2928960"/>
              </a:tblGrid>
              <a:tr h="536040"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йон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остоит на конец года (чел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Штатный норматив (ставок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актическое обеспечение онкологами (ставок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учение по онкологи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(вид учебы, год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а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мизо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омаше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дюж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ай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ул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Ишим, Ишимский р-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Тобольс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ышман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одоу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е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-Тавд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ут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7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д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ок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боль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р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г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лутор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5:46:25Z</dcterms:created>
  <dc:creator>Кислый Денис</dc:creator>
  <dc:description/>
  <dc:language>en-US</dc:language>
  <cp:lastModifiedBy>LEGION</cp:lastModifiedBy>
  <dcterms:modified xsi:type="dcterms:W3CDTF">2014-11-07T12:30:44Z</dcterms:modified>
  <cp:revision>20</cp:revision>
  <dc:subject/>
  <dc:title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dc:title>
</cp:coreProperties>
</file>