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C70D-854E-47B3-A667-1B719B46F6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Заместитель главного врача по организационно – методической работе ГЛПУ ТО О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.А. Гайс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5766-58CB-42C2-AF52-6BCA377DE6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ункции Кабин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9DBA-4044-4748-BF21-9B391724D3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азов от госпит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онкологических больных; проживающих на прикрепленной к Кабинету террито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2331-F900-4133-8D17-8B168E263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просвещение насе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лноты и эффективности профилактических осмо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CC5E-DB22-48BE-8EE6-452732F5B6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труктуре Кабинете рекомендуется предусматр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приема боль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выполнения лечебных процедур, входящих в функции кабин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хранения медицинской докум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6301-DB67-4EF3-8671-FC54FCB02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е штатные нормативы медицинского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C40C-6493-467E-8FB2-4A2FC47DE9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 осна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433B-0331-4364-850C-FBCEF9F50E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хосписа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и оказании помощи онкологическим боль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8C41-D978-489E-AD70-6ED6E47698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C3E5-F42A-4BE0-8945-0B7CC41ED0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3EA2-C3AE-4D19-9C8D-9BCD827A22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о 21 декабря 20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ет в силу: 1 января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5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гистрационный N 156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ыва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р Т. Голи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C662-8176-4697-8D11-9882E8393E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8BD7-536C-4E88-8F2B-5C05E93DD6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авному врачу ГЛПУ ТО «Областной онкологический диспансер»   (А.Г.Синяк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35D-47BD-4515-B1C6-A384ECF0B5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Рекомендовать руководителям органов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ymen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nk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 департамента                                                  А.Ю.Кудр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CD3E-0786-43D2-B8D3-B2955B5B4C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71F6-6D06-4569-9FD4-3BC30E2D75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с онкологическими заболеваниями медицинская помощь оказыв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69AA-FB3E-4983-A9B9-BEBD9B92CC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EDE0-52FE-4CFB-A381-6670D5CABE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DB25-58BA-4DD9-9BD0-D3DEF0C2A5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года один раз в три меся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второго года - один раз в шесть месяцев, в дальнейшем - один раз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C0AA-2F43-4211-9B1C-662241AE4E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2697-D2FE-4372-A608-20E910877C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6F20-2464-4201-9259-14DD66D01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31AB-06B6-47C4-AE97-2F49E2A6CF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E34-56A0-4EB7-8FD5-69F88C4D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756-6419-4EB3-9307-0948725D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21A2E-51D7-4C42-8367-53A9A731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09A74-C408-4FD3-A3C6-D0A7199C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A2ABE-9287-4178-AF66-07606137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159AC-B3C9-43E3-AE46-6982A647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FD7EA-8349-47AF-B3F4-A436FD9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9A1D8-0BE3-45B0-832E-726F2D3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435BE-1B5C-44C1-90C9-9EC6DA20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7CFCE-F7F7-4672-B314-99C9AA46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E4C4A-D8A4-4C7B-9D61-C900F410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7230AE-5F14-45FC-A3A9-7F8A9031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A92-DBAA-475F-A587-8998C3A8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38641-367F-4DE2-9464-0C77E715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C70A0-1447-4789-AD53-8B6F819A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6C940-BF72-491B-A61F-E86E8C92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E2036-9CD5-49A1-AA60-EA180E72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747DE-D7BE-4478-BC3F-78CFB120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A8D9D-B576-4A73-B680-7E2978F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52CF0-4B74-4B7C-A34C-A3B2451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AEFC8-2663-4B7B-B03A-5F818B5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DAA0A-2A30-4051-807A-342E6320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371A4-C0C0-4B27-AF60-43AFDE33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E6E-713F-4843-B102-AE220F65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BEFF1-0903-41A2-9AF7-DEAB751D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9E95A-7E37-4F75-A9B9-A4CE6ACB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3DB5F-B7B3-4CC6-A499-F3203804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98B50-DC73-4C09-9565-BC3AFDE3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64705-C0F6-4137-8A45-F694A1FF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82741-B2C4-4136-8FC7-A5CE69F9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E5400-59F3-45EE-A8E9-DD07AB8C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D6709-F517-4E84-BA28-A681D058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17BDA-3F99-4E29-B17C-D85DD92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5946C-3481-4397-963C-A808672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B221-E592-48DC-8602-DF3B3F78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AAF19-E69D-48FA-AF1A-A6C5E561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E1BA5-3B5F-44FF-B48E-7AA0893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D054C-1645-4DEB-B12F-CBE3EB07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D3495-31AF-4036-8269-B0F96682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9E457-4570-4FB1-BFC9-92365321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C7F62-A690-4686-985E-2AF34F41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3A84A-50FD-4C38-8AD3-339D0A18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15AB7-AC41-4E97-9B2D-96271AB8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817BC-40BB-4E67-8F04-CAEA01A3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71F3F-D7F8-4F5B-A732-4E9ED064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BC7B-69B8-4222-9114-ADBE79F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CDCA7-C945-40F3-BAB0-C0F2062E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A7670-9EFA-4EE5-A54E-4DB69558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25026-3D4D-47EE-864A-6A3F710C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05794-C354-4D4D-A17F-3EDEA7B9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B9AB0-0E65-4CD9-A7A7-AE713F3C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94D7-2585-4F70-8DE1-E2F846A4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6033-835D-4FA9-A29E-3A1FDCC8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B958-7E04-4D39-B511-ED54C70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EA9A-8BC4-4DC0-8A82-9A57ED0B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F40A-B633-4C5F-A7A5-6F2A72FB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2D1-A929-4C17-A87D-BC401BA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0E87-3975-49C7-A0A5-9ED3D679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ABD2-B9D6-4A5D-9141-E6E835FF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8155-05BD-455E-849B-353CC3B2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40C-0408-48A7-AAA3-C83B3A52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F7A7-C8F1-4A43-93AF-342E69EE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0441-8426-45D8-AB75-E20EA1D2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0CC6-83BF-4CBE-A426-25E2B6D6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0E8B-5239-43A5-BFAC-ED7479DE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1FBC-A514-4265-91CD-01CE5A03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1DF4-9F75-44BC-9292-2239352A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76D-0706-4FAF-8DE2-2BB24581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B341-49C7-4008-951D-BAC40E49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1889-3397-40D3-A32B-406D2DB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B187-8741-41CA-8999-157F8455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F366-E120-4FE4-8239-021CB87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7481-1FA9-4B4D-9D08-D7E7D51D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7386-DF28-4ED5-A188-4C42BBF0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997D-D652-439B-AB5D-DD3FABEA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2618-039A-496F-9577-1F5957DB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51DB-116D-4083-AA6E-D26CEFA7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7A11-E856-4452-9EB1-E868D504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457-91D7-4277-A07B-A81B4E12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5E12-9E12-4E06-9785-A08B4DEC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4ABE-CA13-4632-A2DB-B5CEED3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0643-FB0A-43B4-9008-2F92F5CB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6456-9546-4A75-AA18-D6B64E1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EC5E-6287-4A3A-99F9-8A64ECA6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7524-D58C-4E62-9C67-9AACFE5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1F08-1764-4054-904B-DAD020A6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7CA4-449A-46F7-8B14-7D780C7E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4246D-42BE-447B-9B5F-8CCD68C1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BD77-2569-4418-9485-F27A8000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4D5-CC74-4EF6-B95D-82185A22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7EBD-A055-4C98-837B-2CDFE4A5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FE4B-456C-4F8C-AC79-2D751907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4667E-90F2-4A0A-8C41-99519400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6637-C872-420F-8CEE-3676A190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D05B-B82F-48CC-860C-1380F818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6E17-0593-4BB2-A06E-D1B66021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2B18-778F-4E94-A381-157A34D1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A7F1F-DB3C-47B2-B398-C7956FBF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A448-B031-4C9A-AD54-96C7D01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9D3C1-A254-4F74-BE1F-9B8051F7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B3D-726E-4BF5-9B3D-4B072760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2D7C2-AAEE-41FF-A9E1-EEAEB95D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0016A-729E-43EC-9E03-C7B75983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8565B-0811-4EA7-AB39-7ACCDE70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55708-E96C-4A90-9E85-BFBA9C06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793E1-9009-4C1E-9983-3EDBBB19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83E2B-B6F6-4BB5-8DBA-B51CE80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8889D-8731-401C-851B-924E4B36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3609D-E38A-421D-84CE-F0418A42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E0EC3-1B22-4104-BE05-6599664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30CF8-CE7B-46BF-9D2E-98D2F7E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28A-F9DA-47DC-BCFA-DA331D8B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78D19-DF92-4812-BBFB-984AEE97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78F4C-701B-4E10-9557-140FFC1B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8348-2F56-4472-9577-3847A0AE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C00B-0AC3-4C30-A5F9-A10796F0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858F-FF2A-4B71-9AF7-BF0A39C5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1639-A4C0-4AC7-A13F-AA5BD4F1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BD33E-1628-4FA3-8B65-D8459C7E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911C-A536-43BB-BBFB-8DD38DB2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A54D5-065B-48F4-9C47-71D804FD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C9C3-73DF-4529-90E7-F466D4A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BB0-66D2-43D8-B1BB-7520AE5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6D07-EA5A-481D-B4EB-62E1D7CE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1CF1-C96F-4055-9C81-E627825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3AE6-45C6-4CA5-8502-95878E22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E6ADB-0971-40F9-85F7-8297FFA6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BE4EC-36D6-4150-BC86-0263DF02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32CBF-FA3D-45BF-9311-25D70851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481CC-A3DA-4769-888B-3308B6B8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33A4A-1A3A-4C4F-99FA-4CBB91BB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5E27-4AC8-42A4-BA31-97B37837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237D2-2CDD-4974-B1FC-5A8FD543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3F8-2606-4E5B-A4E8-BCF5B6A3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4B041-639E-4A14-BDC4-BAF3E9BA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CF1B-3277-44EC-A1CF-D07723B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84E55-9B13-4FD8-A3BA-0225BE0D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96D0F-5ABD-4D7F-9540-E41DB837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E85DC-5CBA-4452-A603-1B0AB19C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E509-16E8-4809-A26F-3111E7FA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9BDC0-04BD-4610-9D66-BB8BF356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A8BDC-AACD-49B9-BDBB-F02FFF53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EFF8D-654C-45B4-9058-36463CD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56A7F-CB5D-4AB8-AE83-718F4FEB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E290-E4D2-483D-8B0F-6B73DF21E60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4F00-9DD5-4AD6-9506-2402BCB192D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725A-7A1E-4799-BA59-0D03B0769057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44A0-3705-4CA9-817A-871D9F13192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B6A2-0578-4CE8-934C-5D8B4C78328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C693-D935-4058-B8D3-D1E552B38C87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A1F4-CCC2-43BD-B735-96F2439A59A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C9FA-3B6C-48AB-ACBA-9F680272D42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6B7-29F4-4C1E-808D-EA32FE14350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697-6713-480B-9C77-39021D19145B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03BC-DADD-4369-83EC-C4E2C8546A2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5D3-4E75-448F-B482-B1E3F85E4FB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5DC8-3AB2-4F19-AE72-067A665F58E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18D5-E65F-4D44-8FEE-527267F64F40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D966-1BF0-4AF5-8AE2-6DC30A30FCC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1150-2EDD-4A96-A19A-E60F0FEBB71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0D5C-8222-4900-B590-6FCFC7D53F1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AB90-6514-45B6-8294-8EFB7039141E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7F1D-006E-4F02-9668-43294CF07CD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A039-CB69-4ACD-AC4B-9AC214E20E24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D3DE-DA6B-4192-93CA-ADAF481B43E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DA53-CF50-4FE0-8835-92282CA5AAE4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E700-25AB-4AE7-BED8-C47A62B06C3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7C16-F169-4E39-8F5F-C9E1AD52F42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43720" y="5643360"/>
            <a:ext cx="3186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Заместитель главного врача по организационно – методической работе ГЛПУ ТО ООД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Т.А. Гайсин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324000" y="1071360"/>
            <a:ext cx="85341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Функции Кабинет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причин отказов от госпитализац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чет онкологических больных; проживающих на прикрепленной к Кабинету территор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нитарно-гигиеническое просвещение населения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полноты и эффективности профилактических осмотро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структуре Кабинете рекомендуется предусматрива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приема больных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выполнения лечебных процедур, входящих в функции кабинет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хранения медицинской документ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екомендуемые штатные нормативы медицинского 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14200" y="1643040"/>
          <a:ext cx="8715600" cy="4608360"/>
        </p:xfrm>
        <a:graphic>
          <a:graphicData uri="http://schemas.openxmlformats.org/drawingml/2006/table">
            <a:tbl>
              <a:tblPr/>
              <a:tblGrid>
                <a:gridCol w="4143600"/>
                <a:gridCol w="4572000"/>
              </a:tblGrid>
              <a:tr h="48492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ичный онкологический отделение (кабинет) городской и центральной районной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Врачебны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8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ач-онколог или врач-специалист, прошедший подготовку по он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рма нагрузки на амбулаторном прием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– 20 мин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лечебно-диагностический прием (в т.ч. повторный) – 20 ми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(на выезде) – 6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Средн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 расчета 1 должность на процедурный каби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Примечание: При меньшем числе контингента диспансерных онкологических больных– 1 должность врача и  1 должность среднего медицинского персонала в соотношении 1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05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андарт оснаще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85840" y="2571840"/>
          <a:ext cx="8501040" cy="3500280"/>
        </p:xfrm>
        <a:graphic>
          <a:graphicData uri="http://schemas.openxmlformats.org/drawingml/2006/table">
            <a:tbl>
              <a:tblPr/>
              <a:tblGrid>
                <a:gridCol w="5352840"/>
                <a:gridCol w="3148200"/>
              </a:tblGrid>
              <a:tr h="622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 осн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260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буемое количест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минарная камера для стерильного разведения лекарствен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ы для взвешивания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узо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6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йф для хранения сильнодействующих и психотропных средств,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Прямоугольник 4"/>
          <p:cNvSpPr/>
          <p:nvPr/>
        </p:nvSpPr>
        <p:spPr>
          <a:xfrm>
            <a:off x="1214280" y="1916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ичное онкологическое отделение (каби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 организации деятельности хоспи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 оказании помощи онкологическим больным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Заголовок 11"/>
          <p:cNvSpPr/>
          <p:nvPr/>
        </p:nvSpPr>
        <p:spPr>
          <a:xfrm>
            <a:off x="971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216000" y="115920"/>
          <a:ext cx="87487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5920"/>
                    <a:ext cx="87487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285840" y="459000"/>
            <a:ext cx="85010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3FF-0F81-4D7C-BD5B-E32BE24452C8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317080" y="6453360"/>
            <a:ext cx="82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1"/>
          <p:cNvGraphicFramePr/>
          <p:nvPr/>
        </p:nvGraphicFramePr>
        <p:xfrm>
          <a:off x="324000" y="189000"/>
          <a:ext cx="8496000" cy="59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96000" cy="59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публиковано 21 декабря 2009 г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тупает в силу: 1 января 2010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регистрирован в Минюсте РФ 15 декабря 2009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Регистрационный N 1560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вердить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Министр Т. Голиков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571680" y="214200"/>
            <a:ext cx="778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85840" y="1643040"/>
            <a:ext cx="8572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285840" y="2858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Главному врачу ГЛПУ ТО «Областной онкологический диспансер»   (А.Г.Синяк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214200" y="285840"/>
            <a:ext cx="871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   Рекомендовать руководителям органов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ректор департамента                                                  А.Ю.Кудр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"/>
          <p:cNvSpPr/>
          <p:nvPr/>
        </p:nvSpPr>
        <p:spPr>
          <a:xfrm>
            <a:off x="2105640" y="1432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Журнал учета оказания онкологическ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5840" y="500040"/>
          <a:ext cx="8572320" cy="1143000"/>
        </p:xfrm>
        <a:graphic>
          <a:graphicData uri="http://schemas.openxmlformats.org/drawingml/2006/table">
            <a:tbl>
              <a:tblPr/>
              <a:tblGrid>
                <a:gridCol w="662040"/>
                <a:gridCol w="815760"/>
                <a:gridCol w="946080"/>
                <a:gridCol w="1273320"/>
                <a:gridCol w="1238400"/>
                <a:gridCol w="636480"/>
                <a:gridCol w="636480"/>
                <a:gridCol w="636480"/>
                <a:gridCol w="863640"/>
                <a:gridCol w="863640"/>
              </a:tblGrid>
              <a:tr h="24516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паци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правления в диспанс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а исклю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85840" y="1960560"/>
          <a:ext cx="8572320" cy="4681440"/>
        </p:xfrm>
        <a:graphic>
          <a:graphicData uri="http://schemas.openxmlformats.org/drawingml/2006/table">
            <a:tbl>
              <a:tblPr/>
              <a:tblGrid>
                <a:gridCol w="339480"/>
                <a:gridCol w="330480"/>
                <a:gridCol w="295200"/>
                <a:gridCol w="361800"/>
                <a:gridCol w="411120"/>
                <a:gridCol w="411480"/>
                <a:gridCol w="411120"/>
                <a:gridCol w="334800"/>
                <a:gridCol w="246240"/>
                <a:gridCol w="245880"/>
                <a:gridCol w="328680"/>
                <a:gridCol w="365040"/>
                <a:gridCol w="461880"/>
                <a:gridCol w="536760"/>
                <a:gridCol w="520560"/>
                <a:gridCol w="596880"/>
                <a:gridCol w="519120"/>
                <a:gridCol w="520920"/>
                <a:gridCol w="371520"/>
                <a:gridCol w="371160"/>
                <a:gridCol w="592200"/>
              </a:tblGrid>
              <a:tr h="1373040">
                <a:tc gridSpan="13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тод подтверждения диа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ведено л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исло умерших больных от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тол. иссл. умерших от 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ндоскопичес-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нт-ге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аборато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диоизотоп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Г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Химиотерап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уч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пер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мбиниров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лли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Г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зят  о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мат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канир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214200" y="1643040"/>
          <a:ext cx="8715600" cy="4654440"/>
        </p:xfrm>
        <a:graphic>
          <a:graphicData uri="http://schemas.openxmlformats.org/drawingml/2006/table">
            <a:tbl>
              <a:tblPr/>
              <a:tblGrid>
                <a:gridCol w="357480"/>
                <a:gridCol w="2268360"/>
                <a:gridCol w="541440"/>
                <a:gridCol w="1076400"/>
                <a:gridCol w="739440"/>
                <a:gridCol w="1011240"/>
                <a:gridCol w="1009800"/>
                <a:gridCol w="855720"/>
                <a:gridCol w="855720"/>
              </a:tblGrid>
              <a:tr h="420480"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пециа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но обучение на год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о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подготовка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лась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рофессиональ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ется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рофессионал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. – реан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ая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.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"/>
          <p:cNvSpPr/>
          <p:nvPr/>
        </p:nvSpPr>
        <p:spPr>
          <a:xfrm>
            <a:off x="0" y="220680"/>
            <a:ext cx="900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ежемесячного отчета по мониторингу  оказания онкологической помощи.                    Форма № МОПН-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дготовке медицинского персонала для учреждений здравоохранения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_ 200_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214200" y="151560"/>
            <a:ext cx="8643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МОПН-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новных целевых показателях деятельности учреждений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 200_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еятельности первичных онкологических кабинетов (отделений) (муниципальное зв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57120" y="2071800"/>
          <a:ext cx="8429760" cy="3882960"/>
        </p:xfrm>
        <a:graphic>
          <a:graphicData uri="http://schemas.openxmlformats.org/drawingml/2006/table">
            <a:tbl>
              <a:tblPr/>
              <a:tblGrid>
                <a:gridCol w="546120"/>
                <a:gridCol w="2825640"/>
                <a:gridCol w="1686240"/>
                <a:gridCol w="1685880"/>
                <a:gridCol w="1685880"/>
              </a:tblGrid>
              <a:tr h="2523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отчетный период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соответствующий период, предшествующий отчетному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й онкологический кабинет (отделение) (муниципальное зве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142920" y="14292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выявленных первичными онкологическими кабинетами (отделен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571680"/>
          <a:ext cx="8715600" cy="5879880"/>
        </p:xfrm>
        <a:graphic>
          <a:graphicData uri="http://schemas.openxmlformats.org/drawingml/2006/table">
            <a:tbl>
              <a:tblPr/>
              <a:tblGrid>
                <a:gridCol w="500040"/>
                <a:gridCol w="2384640"/>
                <a:gridCol w="542880"/>
                <a:gridCol w="1312920"/>
                <a:gridCol w="1312920"/>
                <a:gridCol w="1331640"/>
                <a:gridCol w="1330560"/>
              </a:tblGrid>
              <a:tr h="3855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тчетны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ответствующий период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диагнозо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смотренных с целью выявления злокачественных новообразований (ЗНО), 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тель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еполов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тазов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опухоли ко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 и спин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, суставы и мягкие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атическая и кроветворная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214200" y="214200"/>
          <a:ext cx="8715600" cy="5973840"/>
        </p:xfrm>
        <a:graphic>
          <a:graphicData uri="http://schemas.openxmlformats.org/drawingml/2006/table">
            <a:tbl>
              <a:tblPr/>
              <a:tblGrid>
                <a:gridCol w="500040"/>
                <a:gridCol w="2813040"/>
                <a:gridCol w="865440"/>
                <a:gridCol w="1008000"/>
                <a:gridCol w="1295280"/>
                <a:gridCol w="1152720"/>
                <a:gridCol w="1081080"/>
              </a:tblGrid>
              <a:tr h="85284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первые зарегистрированных больных ЗНО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о специальным исследован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ие исследования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скоп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й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зятием материалов на цитоморфологическое 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е исследования (число проведенных анализ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ферментные анализы крови на онкомарк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4200" y="285840"/>
          <a:ext cx="8715600" cy="5121360"/>
        </p:xfrm>
        <a:graphic>
          <a:graphicData uri="http://schemas.openxmlformats.org/drawingml/2006/table">
            <a:tbl>
              <a:tblPr/>
              <a:tblGrid>
                <a:gridCol w="500040"/>
                <a:gridCol w="2928960"/>
                <a:gridCol w="857520"/>
                <a:gridCol w="900000"/>
                <a:gridCol w="1295280"/>
                <a:gridCol w="1152720"/>
                <a:gridCol w="1081080"/>
              </a:tblGrid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Т (КТ)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с использованием контрастных преп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изотопн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ир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хим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6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, в том числе ранее, больных ЗНО I, II, III, IV стадий проведен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отерапевтическ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ольных о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стоявших под диспансерным наблю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исследований умерших больных от ЗН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2157480" y="278604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льным с онкологическими заболеваниями медицинская помощь оказывае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14200" y="15001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первого года один раз в три месяц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второго года - один раз в шесть месяцев, в дальнейшем - один раз в го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14200" y="1357200"/>
          <a:ext cx="8715600" cy="5100840"/>
        </p:xfrm>
        <a:graphic>
          <a:graphicData uri="http://schemas.openxmlformats.org/drawingml/2006/table">
            <a:tbl>
              <a:tblPr/>
              <a:tblGrid>
                <a:gridCol w="1928880"/>
                <a:gridCol w="857160"/>
                <a:gridCol w="1285920"/>
                <a:gridCol w="1714680"/>
                <a:gridCol w="2928960"/>
              </a:tblGrid>
              <a:tr h="53604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й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стоит на конец года (чел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татный норматив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актическое обеспечение онкологами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е по онколог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вид учебы,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изо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ше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дюж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й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ул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Ишим, Ишимский р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Тоболь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ыш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оу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е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Тавд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ут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7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г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лут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46:25Z</dcterms:created>
  <dc:creator>Кислый Денис</dc:creator>
  <dc:description/>
  <dc:language>en-US</dc:language>
  <cp:lastModifiedBy>LEGION</cp:lastModifiedBy>
  <dcterms:modified xsi:type="dcterms:W3CDTF">2014-11-07T12:30:44Z</dcterms:modified>
  <cp:revision>20</cp:revision>
  <dc:subject/>
  <dc:title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dc:title>
</cp:coreProperties>
</file>