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gif" ContentType="image/gif"/>
  <Override PartName="/ppt/media/image14.jpeg" ContentType="image/jpeg"/>
  <Override PartName="/ppt/media/image24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3.jpeg" ContentType="image/jpeg"/>
  <Override PartName="/ppt/media/image25.png" ContentType="image/png"/>
  <Override PartName="/ppt/media/image2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Arial Black"/>
              </a:rPr>
              <a:t>Click to move the slide</a:t>
            </a: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62C46-649B-466D-97F8-6B271FD313E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лнечная актив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B4283-6F91-418D-8B8B-9C39ABDAC29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Траектория космической обсерватории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H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6B85E-7307-4B1E-AC35-8991AB62EC3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ная страниц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016BF-2F53-4CE4-83E7-AB55948E307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нформация с космической обсерватории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HO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поступает разнообразная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(разные температуры атмосферы Солнца в разных длинах волн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8ACC7-F6C8-4710-A2F2-413F0D2FEC4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лияние солнечной активности на биосферу Зем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4E5D1-4055-4879-9649-CCE7EFFBA43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анные мониторинга солнечной активност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корость солнечного вет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ярные сия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еомагнитный индек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арактеристики солнечного ветра (плотность потока протонов, плотность потока электронов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ток рентгеновского излуч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AFA58-D2EB-4D18-9E81-F151F236C01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ализ влияния солнечной активности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климат Зем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емля погружена во внешнюю исключительно подвижную атмосферу Солнца и, следовательно, подвергается сильному влиянию «погоды» на Солнц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смическая обсерватория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H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водит 10 лет постоянны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ниторинг активности Солнц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CFA34-99A8-4CF9-9242-CD75AB78611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Прямоуг.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9986F-7EFB-42C2-A4DA-8ABA3E0D52C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асибо за внимани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ндекс Вольфа за всю историю наблюдения Солнц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370BC-6836-4998-A237-2DBA754F87F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олнечная активность характеризуется различными факторам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лнечными пятн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F1115-FDC4-4480-A1CD-9852A5D7025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олнечная активность характеризуется различными факторам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лнечными вспышк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F3D3D-7346-4203-9D64-0FC8178360A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олнечная активность характеризуется различными факторам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лнечными протуберанц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B37A7-D4EE-4066-8B1D-BDCAC1CD839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начале 11-летнего цикла солнечной активности, после минимума W:</a:t>
            </a:r>
            <a:r>
              <a:rPr b="0" lang="ru-RU" sz="18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ятна появляются вдали от экватора Солнца, на широтах примерно 30</a:t>
            </a: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течение цикла зона пятен спускается до 15</a:t>
            </a: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в максимуме и до 8</a:t>
            </a: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следующем минимум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лее на высотах более 30</a:t>
            </a: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образуются новые группы пяте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8A026-FADD-4BA9-9348-43ED2B39D84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космической обсерватории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HO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работают различные приборы, в том числе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SCO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SCO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ация с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HO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поступает на Землю в режиме реального времен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6FB93-9B52-4F8E-ADE5-1B2DCCE75B3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60ADF-9C13-44C8-AA30-B61B0C3BC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1C012-E129-4FDF-8DD4-98B0112CD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6B8BC-7800-4B50-AEFE-F0710F816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6A6D5-9CAB-47E8-AB30-EB567975A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0551F-FA19-4024-B4C0-354A7AE7D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2ABC4-35D7-479F-9543-AE8F96A6C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FB307-6BC3-4087-8E4B-9D29B9CD1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F8DAF-2002-490E-8A82-FBF2113BB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0DF67-8EF6-42CE-8201-EB4B0DCC6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A3AE0-3AFF-4C34-9210-BF30CFE9F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2A658-E13B-44B0-9477-1142C79DF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9437B-09D9-405B-9120-61104E43A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785D0-9090-46EF-BB26-E7D1C92F3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D72F0-52BE-4238-B336-21479387D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4B865-45BC-4E2D-94F4-E083A9F0E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1B63B-1B74-465E-9D9C-653DAF4AD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5D608-BFB5-447C-A93D-505FBA5C3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C95556-4116-4B4C-BF82-D39CF7941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91CB24-953F-430D-BDFE-43D6A8086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475F72-CCF2-4DA6-89A8-E2F618390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F932BC-BD7F-4EB2-A5AA-47E8C5750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401EF5-732D-43C0-A4AD-42BDF568C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3F9CC-9546-4AAF-9E89-6A69B9CF4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D26C63-C2F1-4837-8B24-92F5C2A1D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A3C91D-4FE5-44E0-8A36-543DA331B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358612-683D-4A85-A99D-E9B3A0E6E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6EBAD1-4CD0-4E51-9100-899E6C2DA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F8981F-0C46-4451-9FDE-DACDBF573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5A5641-438D-4010-AB84-DB22E359A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7D1E28-DBAD-44AA-A579-626D92674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3E64A3-6CF7-45DF-9406-3FD4E4940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DCF62A-B545-4C91-977C-C48011E3D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5F3D9E-E8AE-4FC6-A89E-B6115FA3A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AA66A-9784-4485-AE83-500E52FB2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829C62-F4F4-4177-9A1A-B97D8DE62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B3B38B-3275-45DB-941B-2F0485DA5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5116CB-38E3-4FC4-9486-1C1F0924D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313AF1-A2CE-4F7D-9255-2ACF218AF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3523F3-6044-4CD7-B254-AA4C68219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5F6003-3374-42FE-A2D4-B60A00659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4C0F10-754B-472F-A590-DD3EBDB27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082042-9EF2-404F-8A79-850CE62FD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508614-63EB-4C47-BB51-6887BDBEF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D2741-0506-47D0-B2C5-D7541D576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4153E-CD8C-430D-A371-36DA944CA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E2E05-7296-46B1-87DA-E18734343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E0489-2378-4CDD-8602-A51C3806A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404D2-B7DD-459E-B094-8D2B724E4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00"/>
            </a:gs>
            <a:gs pos="100000">
              <a:srgbClr val="b76a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Группа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Полилиния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b5f03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Полилиния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bb5f03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Полилиния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Полилиния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b5f03">
                    <a:alpha val="0"/>
                  </a:srgbClr>
                </a:gs>
                <a:gs pos="100000">
                  <a:srgbClr val="994e0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Полилиния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3722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Полилиния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c37222"/>
                </a:gs>
                <a:gs pos="100000">
                  <a:srgbClr val="bb5f03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Полилиния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b5f03">
                    <a:alpha val="0"/>
                  </a:srgbClr>
                </a:gs>
                <a:gs pos="100000">
                  <a:srgbClr val="994e0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Полилиния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37222"/>
                </a:gs>
                <a:gs pos="100000">
                  <a:srgbClr val="bb5f03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A5679-E1D3-415A-8FAC-EA3DADD749B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76a0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b76a0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bfab"/>
            </a:gs>
            <a:gs pos="100000">
              <a:srgbClr val="dddcc5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Группа 2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51" name="Группа 3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52" name="Группа 4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53" name="Полилиния 5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bfbfa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54" name="Группа 6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5" name="Полилиния 7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bfbfa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Полилиния 8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bfbfa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" name="Полилиния 9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bfbfa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58" name="Группа 10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59" name="Полилиния 11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bfbfa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60" name="Группа 12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61" name="Полилиния 13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bfbfa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62" name="Группа 14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63" name="Линия 15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" name="Линия 16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" name="Линия 17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" name="Линия 18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" name="Линия 19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" name="Линия 20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" name="Линия 21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" name="Линия 22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" name="Линия 23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" name="Линия 24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" name="Линия 25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" name="Линия 26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" name="Линия 27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" name="Линия 28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" name="Линия 29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" name="Линия 30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" name="Линия 31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" name="Линия 32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" name="Линия 33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" name="Линия 34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" name="Линия 35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" name="Линия 36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" name="Линия 37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" name="Линия 38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" name="Линия 39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" name="Линия 40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" name="Линия 41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" name="Линия 42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" name="Линия 43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" name="Линия 44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" name="Линия 45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" name="Линия 46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" name="Линия 47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Линия 48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Линия 49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8" name="Полилиния 50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bfbfab"/>
                        </a:solidFill>
                        <a:ln w="9360">
                          <a:solidFill>
                            <a:srgbClr val="bfbfab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99" name="Группа 51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100" name="Овал 52"/>
                          <p:cNvSpPr/>
                          <p:nvPr/>
                        </p:nvSpPr>
                        <p:spPr>
                          <a:xfrm rot="18780000">
                            <a:off x="2462400" y="4485600"/>
                            <a:ext cx="255600" cy="4446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01" name="Овал 53"/>
                          <p:cNvSpPr/>
                          <p:nvPr/>
                        </p:nvSpPr>
                        <p:spPr>
                          <a:xfrm rot="18780000">
                            <a:off x="2376360" y="4298400"/>
                            <a:ext cx="446040" cy="79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02" name="Овал 54"/>
                          <p:cNvSpPr/>
                          <p:nvPr/>
                        </p:nvSpPr>
                        <p:spPr>
                          <a:xfrm rot="18780000">
                            <a:off x="2256840" y="4001760"/>
                            <a:ext cx="747720" cy="12906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03" name="Овал 55"/>
                          <p:cNvSpPr/>
                          <p:nvPr/>
                        </p:nvSpPr>
                        <p:spPr>
                          <a:xfrm rot="18780000">
                            <a:off x="2164680" y="3742920"/>
                            <a:ext cx="988920" cy="17924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04" name="Овал 56"/>
                          <p:cNvSpPr/>
                          <p:nvPr/>
                        </p:nvSpPr>
                        <p:spPr>
                          <a:xfrm rot="18780000">
                            <a:off x="2063880" y="3426120"/>
                            <a:ext cx="1247760" cy="23292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05" name="Овал 57"/>
                          <p:cNvSpPr/>
                          <p:nvPr/>
                        </p:nvSpPr>
                        <p:spPr>
                          <a:xfrm rot="18780000">
                            <a:off x="1975320" y="3171960"/>
                            <a:ext cx="1543320" cy="28242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06" name="Овал 58"/>
                          <p:cNvSpPr/>
                          <p:nvPr/>
                        </p:nvSpPr>
                        <p:spPr>
                          <a:xfrm rot="18780000">
                            <a:off x="1850040" y="2891160"/>
                            <a:ext cx="1852920" cy="332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07" name="Овал 59"/>
                          <p:cNvSpPr/>
                          <p:nvPr/>
                        </p:nvSpPr>
                        <p:spPr>
                          <a:xfrm rot="18780000">
                            <a:off x="1733040" y="2628720"/>
                            <a:ext cx="2136960" cy="3807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08" name="Овал 60"/>
                          <p:cNvSpPr/>
                          <p:nvPr/>
                        </p:nvSpPr>
                        <p:spPr>
                          <a:xfrm rot="18780000">
                            <a:off x="1599120" y="2369160"/>
                            <a:ext cx="248112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09" name="Овал 61"/>
                          <p:cNvSpPr/>
                          <p:nvPr/>
                        </p:nvSpPr>
                        <p:spPr>
                          <a:xfrm rot="18780000">
                            <a:off x="1495800" y="2084760"/>
                            <a:ext cx="2716200" cy="4788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10" name="Овал 62"/>
                          <p:cNvSpPr/>
                          <p:nvPr/>
                        </p:nvSpPr>
                        <p:spPr>
                          <a:xfrm rot="18734400">
                            <a:off x="1402200" y="1818360"/>
                            <a:ext cx="2984400" cy="531036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11" name="Овал 63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112" name="Линия 64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3" name="Линия 65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4" name="Линия 66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5" name="Линия 67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6" name="Линия 68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7" name="Линия 69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8" name="Линия 70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9" name="Линия 71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0" name="Линия 72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1" name="Линия 73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2" name="Линия 74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3" name="Линия 75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4" name="Линия 76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5" name="Линия 77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6" name="Линия 78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7" name="Линия 79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8" name="Линия 80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9" name="Линия 81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0" name="Линия 82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1" name="Линия 83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2" name="Линия 84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3" name="Линия 85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4" name="Линия 86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5" name="Линия 87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6" name="Линия 88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7" name="Линия 89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8" name="Линия 90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9" name="Линия 91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0" name="Линия 92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1" name="Линия 93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2" name="Линия 94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3" name="Линия 95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4" name="Линия 96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5" name="Линия 97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6" name="Линия 98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7" name="Линия 99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148" name="Группа 100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149" name="Линия 101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bfbfa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0" name="Линия 102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bfbfa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51" name="Группа 103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52" name="Линия 104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Полилиния 105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bfbfab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" name="Линия 106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" name="Линия 107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" name="Линия 108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" name="Линия 109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" name="Линия 110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" name="Линия 111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Линия 112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61" name="Группа 113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62" name="Полилиния 114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bfbf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Полилиния 115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bfbf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Прямоуг. 116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bfbf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" name="Прямоуг. 117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bfbf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" name="Прямоуг. 118"/>
              <p:cNvSpPr/>
              <p:nvPr/>
            </p:nvSpPr>
            <p:spPr>
              <a:xfrm rot="18182400">
                <a:off x="1610640" y="4283640"/>
                <a:ext cx="4251240" cy="27000"/>
              </a:xfrm>
              <a:prstGeom prst="rect">
                <a:avLst/>
              </a:prstGeom>
              <a:solidFill>
                <a:srgbClr val="bfbf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" name="Прямоуг. 119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bfbf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8" name="Группа 120"/>
              <p:cNvGrpSpPr/>
              <p:nvPr/>
            </p:nvGrpSpPr>
            <p:grpSpPr>
              <a:xfrm>
                <a:off x="4752720" y="2104920"/>
                <a:ext cx="493920" cy="494280"/>
                <a:chOff x="4752720" y="2104920"/>
                <a:chExt cx="493920" cy="494280"/>
              </a:xfrm>
            </p:grpSpPr>
            <p:sp>
              <p:nvSpPr>
                <p:cNvPr id="169" name="Овал 121"/>
                <p:cNvSpPr/>
                <p:nvPr/>
              </p:nvSpPr>
              <p:spPr>
                <a:xfrm rot="2828400">
                  <a:off x="4768560" y="2330640"/>
                  <a:ext cx="315720" cy="181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fbfab"/>
                    </a:gs>
                    <a:gs pos="100000">
                      <a:srgbClr val="c9c9b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0" name="Полилиния 122"/>
                <p:cNvSpPr/>
                <p:nvPr/>
              </p:nvSpPr>
              <p:spPr>
                <a:xfrm>
                  <a:off x="4866840" y="2226960"/>
                  <a:ext cx="254160" cy="24732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fbfab"/>
                    </a:gs>
                    <a:gs pos="100000">
                      <a:srgbClr val="c9c9b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1" name="Полилиния 123"/>
                <p:cNvSpPr/>
                <p:nvPr/>
              </p:nvSpPr>
              <p:spPr>
                <a:xfrm>
                  <a:off x="4949640" y="2217960"/>
                  <a:ext cx="182520" cy="1746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fbfab"/>
                    </a:gs>
                    <a:gs pos="100000">
                      <a:srgbClr val="c9c9b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2" name="Полилиния 124"/>
                <p:cNvSpPr/>
                <p:nvPr/>
              </p:nvSpPr>
              <p:spPr>
                <a:xfrm>
                  <a:off x="5014800" y="2112480"/>
                  <a:ext cx="227160" cy="22284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fbfab"/>
                    </a:gs>
                    <a:gs pos="100000">
                      <a:srgbClr val="c9c9b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3" name="Полилиния 125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fbfab"/>
                    </a:gs>
                    <a:gs pos="100000">
                      <a:srgbClr val="c9c9b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4" name="PlaceHolder 1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F0422-5A95-4E8E-AA00-FCB12CDA6DC2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3366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00"/>
            </a:gs>
            <a:gs pos="100000">
              <a:srgbClr val="b76a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5" name="Группа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216" name="Полилиния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bb5f0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Полилиния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b5f03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Полилиния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b5f03">
                    <a:alpha val="0"/>
                  </a:srgbClr>
                </a:gs>
                <a:gs pos="100000">
                  <a:srgbClr val="994e0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Полилиния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b5f03">
                    <a:alpha val="0"/>
                  </a:srgbClr>
                </a:gs>
                <a:gs pos="100000">
                  <a:srgbClr val="994e0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Полилиния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37222"/>
                </a:gs>
                <a:gs pos="100000">
                  <a:srgbClr val="bb5f03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Полилиния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37222"/>
                </a:gs>
                <a:gs pos="100000">
                  <a:srgbClr val="bb5f03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76a0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b76a0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7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8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9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ABD8F-59A6-4CB7-B422-0C14573C01C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bfab"/>
            </a:gs>
            <a:gs pos="100000">
              <a:srgbClr val="dddcc5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3" name="Группа 2"/>
          <p:cNvGrpSpPr/>
          <p:nvPr/>
        </p:nvGrpSpPr>
        <p:grpSpPr>
          <a:xfrm>
            <a:off x="-310680" y="798480"/>
            <a:ext cx="7080840" cy="6858360"/>
            <a:chOff x="-310680" y="798480"/>
            <a:chExt cx="7080840" cy="6858360"/>
          </a:xfrm>
        </p:grpSpPr>
        <p:grpSp>
          <p:nvGrpSpPr>
            <p:cNvPr id="264" name="Группа 3"/>
            <p:cNvGrpSpPr/>
            <p:nvPr/>
          </p:nvGrpSpPr>
          <p:grpSpPr>
            <a:xfrm>
              <a:off x="-310680" y="798480"/>
              <a:ext cx="7080840" cy="6858360"/>
              <a:chOff x="-310680" y="798480"/>
              <a:chExt cx="7080840" cy="6858360"/>
            </a:xfrm>
          </p:grpSpPr>
          <p:grpSp>
            <p:nvGrpSpPr>
              <p:cNvPr id="265" name="Группа 4"/>
              <p:cNvGrpSpPr/>
              <p:nvPr/>
            </p:nvGrpSpPr>
            <p:grpSpPr>
              <a:xfrm>
                <a:off x="-310680" y="798480"/>
                <a:ext cx="7080840" cy="6858360"/>
                <a:chOff x="-310680" y="798480"/>
                <a:chExt cx="7080840" cy="6858360"/>
              </a:xfrm>
            </p:grpSpPr>
            <p:sp>
              <p:nvSpPr>
                <p:cNvPr id="266" name="Полилиния 5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bfbfa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67" name="Группа 6"/>
                <p:cNvGrpSpPr/>
                <p:nvPr/>
              </p:nvGrpSpPr>
              <p:grpSpPr>
                <a:xfrm>
                  <a:off x="-310680" y="798480"/>
                  <a:ext cx="7080840" cy="6858360"/>
                  <a:chOff x="-310680" y="798480"/>
                  <a:chExt cx="7080840" cy="6858360"/>
                </a:xfrm>
              </p:grpSpPr>
              <p:sp>
                <p:nvSpPr>
                  <p:cNvPr id="268" name="Полилиния 7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bfbfa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Полилиния 8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bfbfa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Полилиния 9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bfbfa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71" name="Группа 10"/>
                  <p:cNvGrpSpPr/>
                  <p:nvPr/>
                </p:nvGrpSpPr>
                <p:grpSpPr>
                  <a:xfrm>
                    <a:off x="-310680" y="798480"/>
                    <a:ext cx="7080840" cy="6858360"/>
                    <a:chOff x="-310680" y="798480"/>
                    <a:chExt cx="7080840" cy="6858360"/>
                  </a:xfrm>
                </p:grpSpPr>
                <p:sp>
                  <p:nvSpPr>
                    <p:cNvPr id="272" name="Полилиния 11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bfbfa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273" name="Группа 166"/>
                    <p:cNvGrpSpPr/>
                    <p:nvPr/>
                  </p:nvGrpSpPr>
                  <p:grpSpPr>
                    <a:xfrm>
                      <a:off x="-310680" y="805680"/>
                      <a:ext cx="7071120" cy="6851160"/>
                      <a:chOff x="-310680" y="805680"/>
                      <a:chExt cx="7071120" cy="6851160"/>
                    </a:xfrm>
                  </p:grpSpPr>
                  <p:sp>
                    <p:nvSpPr>
                      <p:cNvPr id="274" name="Полилиния 13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bfbfa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275" name="Группа 14"/>
                      <p:cNvGrpSpPr/>
                      <p:nvPr/>
                    </p:nvGrpSpPr>
                    <p:grpSpPr>
                      <a:xfrm>
                        <a:off x="-310680" y="805680"/>
                        <a:ext cx="7071120" cy="6851160"/>
                        <a:chOff x="-310680" y="805680"/>
                        <a:chExt cx="7071120" cy="6851160"/>
                      </a:xfrm>
                    </p:grpSpPr>
                    <p:sp>
                      <p:nvSpPr>
                        <p:cNvPr id="276" name="Линия 15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7" name="Линия 16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8" name="Линия 17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9" name="Линия 18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0" name="Линия 19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1" name="Линия 20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2" name="Линия 21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3" name="Линия 22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4" name="Линия 23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5" name="Линия 24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6" name="Линия 25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7" name="Линия 26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8" name="Линия 27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9" name="Линия 28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0" name="Линия 29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1" name="Линия 30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2" name="Линия 31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3" name="Линия 32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4" name="Линия 33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5" name="Линия 34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6" name="Линия 35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7" name="Линия 36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8" name="Линия 37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9" name="Линия 38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0" name="Линия 39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1" name="Линия 40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2" name="Линия 41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3" name="Линия 42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4" name="Линия 43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5" name="Линия 44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6" name="Линия 45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7" name="Линия 46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8" name="Линия 47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9" name="Линия 48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0" name="Линия 49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1" name="Полилиния 50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bfbfab"/>
                        </a:solidFill>
                        <a:ln w="9360">
                          <a:solidFill>
                            <a:srgbClr val="bfbfab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312" name="Группа 51"/>
                        <p:cNvGrpSpPr/>
                        <p:nvPr/>
                      </p:nvGrpSpPr>
                      <p:grpSpPr>
                        <a:xfrm>
                          <a:off x="-310680" y="1279080"/>
                          <a:ext cx="6462720" cy="6377760"/>
                          <a:chOff x="-310680" y="1279080"/>
                          <a:chExt cx="6462720" cy="6377760"/>
                        </a:xfrm>
                      </p:grpSpPr>
                      <p:sp>
                        <p:nvSpPr>
                          <p:cNvPr id="313" name="Овал 52"/>
                          <p:cNvSpPr/>
                          <p:nvPr/>
                        </p:nvSpPr>
                        <p:spPr>
                          <a:xfrm rot="18780000">
                            <a:off x="2448360" y="451728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14" name="Овал 53"/>
                          <p:cNvSpPr/>
                          <p:nvPr/>
                        </p:nvSpPr>
                        <p:spPr>
                          <a:xfrm rot="18780000">
                            <a:off x="2357280" y="4330080"/>
                            <a:ext cx="446040" cy="79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15" name="Овал 54"/>
                          <p:cNvSpPr/>
                          <p:nvPr/>
                        </p:nvSpPr>
                        <p:spPr>
                          <a:xfrm rot="18780000">
                            <a:off x="2237760" y="4033440"/>
                            <a:ext cx="747720" cy="12906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16" name="Овал 55"/>
                          <p:cNvSpPr/>
                          <p:nvPr/>
                        </p:nvSpPr>
                        <p:spPr>
                          <a:xfrm rot="18780000">
                            <a:off x="2145600" y="3774600"/>
                            <a:ext cx="988920" cy="17924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17" name="Овал 56"/>
                          <p:cNvSpPr/>
                          <p:nvPr/>
                        </p:nvSpPr>
                        <p:spPr>
                          <a:xfrm rot="18780000">
                            <a:off x="2046600" y="3458160"/>
                            <a:ext cx="1247760" cy="2328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18" name="Овал 57"/>
                          <p:cNvSpPr/>
                          <p:nvPr/>
                        </p:nvSpPr>
                        <p:spPr>
                          <a:xfrm rot="18780000">
                            <a:off x="1956240" y="3203640"/>
                            <a:ext cx="1543320" cy="28242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19" name="Овал 58"/>
                          <p:cNvSpPr/>
                          <p:nvPr/>
                        </p:nvSpPr>
                        <p:spPr>
                          <a:xfrm rot="18780000">
                            <a:off x="1832400" y="2922840"/>
                            <a:ext cx="1852920" cy="332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20" name="Овал 59"/>
                          <p:cNvSpPr/>
                          <p:nvPr/>
                        </p:nvSpPr>
                        <p:spPr>
                          <a:xfrm rot="18780000">
                            <a:off x="1713960" y="2660400"/>
                            <a:ext cx="2136960" cy="3807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21" name="Овал 60"/>
                          <p:cNvSpPr/>
                          <p:nvPr/>
                        </p:nvSpPr>
                        <p:spPr>
                          <a:xfrm rot="18780000">
                            <a:off x="1581480" y="2400840"/>
                            <a:ext cx="2481120" cy="42800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22" name="Овал 61"/>
                          <p:cNvSpPr/>
                          <p:nvPr/>
                        </p:nvSpPr>
                        <p:spPr>
                          <a:xfrm rot="18780000">
                            <a:off x="1476720" y="2116440"/>
                            <a:ext cx="2716200" cy="4788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23" name="Овал 62"/>
                          <p:cNvSpPr/>
                          <p:nvPr/>
                        </p:nvSpPr>
                        <p:spPr>
                          <a:xfrm rot="18734400">
                            <a:off x="1383120" y="1850040"/>
                            <a:ext cx="2984400" cy="531036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24" name="Овал 63"/>
                          <p:cNvSpPr/>
                          <p:nvPr/>
                        </p:nvSpPr>
                        <p:spPr>
                          <a:xfrm rot="18819600">
                            <a:off x="1294200" y="155304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325" name="Линия 64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6" name="Линия 65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7" name="Линия 66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8" name="Линия 67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9" name="Линия 68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0" name="Линия 69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1" name="Линия 70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2" name="Линия 71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3" name="Линия 72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4" name="Линия 73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5" name="Линия 74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6" name="Линия 75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7" name="Линия 76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8" name="Линия 77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9" name="Линия 78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0" name="Линия 79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1" name="Линия 80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2" name="Линия 81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3" name="Линия 82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4" name="Линия 83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5" name="Линия 84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6" name="Линия 85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7" name="Линия 86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8" name="Линия 87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9" name="Линия 88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0" name="Линия 89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1" name="Линия 90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2" name="Линия 91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3" name="Линия 92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4" name="Линия 93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5" name="Линия 94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6" name="Линия 95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7" name="Линия 96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8" name="Линия 97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9" name="Линия 98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0" name="Линия 99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361" name="Группа 100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362" name="Линия 101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bfbfa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3" name="Линия 102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bfbfa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364" name="Группа 103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365" name="Линия 104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6" name="Полилиния 105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bfbfab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7" name="Линия 106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8" name="Линия 107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9" name="Линия 108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0" name="Линия 109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1" name="Линия 110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2" name="Линия 111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3" name="Линия 112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374" name="Группа 113"/>
            <p:cNvGrpSpPr/>
            <p:nvPr/>
          </p:nvGrpSpPr>
          <p:grpSpPr>
            <a:xfrm>
              <a:off x="1800" y="2141280"/>
              <a:ext cx="5230440" cy="4680000"/>
              <a:chOff x="1800" y="2141280"/>
              <a:chExt cx="5230440" cy="4680000"/>
            </a:xfrm>
          </p:grpSpPr>
          <p:sp>
            <p:nvSpPr>
              <p:cNvPr id="375" name="Полилиния 114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bfbf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" name="Полилиния 115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bfbf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" name="Прямоуг. 116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bfbf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" name="Прямоуг. 117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bfbf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" name="Прямоуг. 118"/>
              <p:cNvSpPr/>
              <p:nvPr/>
            </p:nvSpPr>
            <p:spPr>
              <a:xfrm rot="18182400">
                <a:off x="1590840" y="4315320"/>
                <a:ext cx="4251600" cy="27000"/>
              </a:xfrm>
              <a:prstGeom prst="rect">
                <a:avLst/>
              </a:prstGeom>
              <a:solidFill>
                <a:srgbClr val="bfbf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" name="Прямоуг. 119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bfbf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81" name="Группа 120"/>
              <p:cNvGrpSpPr/>
              <p:nvPr/>
            </p:nvGrpSpPr>
            <p:grpSpPr>
              <a:xfrm>
                <a:off x="4738320" y="2141280"/>
                <a:ext cx="493920" cy="494280"/>
                <a:chOff x="4738320" y="2141280"/>
                <a:chExt cx="493920" cy="494280"/>
              </a:xfrm>
            </p:grpSpPr>
            <p:sp>
              <p:nvSpPr>
                <p:cNvPr id="382" name="Овал 121"/>
                <p:cNvSpPr/>
                <p:nvPr/>
              </p:nvSpPr>
              <p:spPr>
                <a:xfrm rot="2828400">
                  <a:off x="4754160" y="2367000"/>
                  <a:ext cx="315720" cy="181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fbfab"/>
                    </a:gs>
                    <a:gs pos="100000">
                      <a:srgbClr val="c9c9b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3" name="Полилиния 122"/>
                <p:cNvSpPr/>
                <p:nvPr/>
              </p:nvSpPr>
              <p:spPr>
                <a:xfrm>
                  <a:off x="4852440" y="2263320"/>
                  <a:ext cx="252000" cy="24732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fbfab"/>
                    </a:gs>
                    <a:gs pos="100000">
                      <a:srgbClr val="c9c9b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4" name="Полилиния 123"/>
                <p:cNvSpPr/>
                <p:nvPr/>
              </p:nvSpPr>
              <p:spPr>
                <a:xfrm>
                  <a:off x="4935240" y="2254320"/>
                  <a:ext cx="181440" cy="1746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fbfab"/>
                    </a:gs>
                    <a:gs pos="100000">
                      <a:srgbClr val="c9c9b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5" name="Полилиния 124"/>
                <p:cNvSpPr/>
                <p:nvPr/>
              </p:nvSpPr>
              <p:spPr>
                <a:xfrm>
                  <a:off x="4999320" y="2148840"/>
                  <a:ext cx="227520" cy="22284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fbfab"/>
                    </a:gs>
                    <a:gs pos="100000">
                      <a:srgbClr val="c9c9b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6" name="Полилиния 125"/>
                <p:cNvSpPr/>
                <p:nvPr/>
              </p:nvSpPr>
              <p:spPr>
                <a:xfrm>
                  <a:off x="514368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fbfab"/>
                    </a:gs>
                    <a:gs pos="100000">
                      <a:srgbClr val="c9c9b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8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3366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13180-81DF-4BC9-A16C-5108405883D1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image" Target="../media/image19.jpeg"/><Relationship Id="rId8" Type="http://schemas.openxmlformats.org/officeDocument/2006/relationships/image" Target="../media/image20.jpeg"/><Relationship Id="rId9" Type="http://schemas.openxmlformats.org/officeDocument/2006/relationships/slideLayout" Target="../slideLayouts/slideLayout13.xml"/><Relationship Id="rId10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856880" y="785520"/>
            <a:ext cx="6000840" cy="185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eec94"/>
                </a:solidFill>
                <a:latin typeface="Arial Black"/>
              </a:rPr>
              <a:t>Солнечная активность</a:t>
            </a:r>
            <a:endParaRPr b="1" lang="en-US" sz="6000" spc="-1" strike="noStrike">
              <a:solidFill>
                <a:srgbClr val="feec94"/>
              </a:solidFill>
              <a:latin typeface="Arial Black"/>
            </a:endParaRPr>
          </a:p>
        </p:txBody>
      </p:sp>
      <p:pic>
        <p:nvPicPr>
          <p:cNvPr id="436" name="Рисунок 4" descr="febcme_sohoc2"/>
          <p:cNvPicPr/>
          <p:nvPr/>
        </p:nvPicPr>
        <p:blipFill>
          <a:blip r:embed="rId1"/>
          <a:stretch/>
        </p:blipFill>
        <p:spPr>
          <a:xfrm>
            <a:off x="2643120" y="3214800"/>
            <a:ext cx="3492720" cy="2762280"/>
          </a:xfrm>
          <a:prstGeom prst="rect">
            <a:avLst/>
          </a:prstGeom>
          <a:ln w="0">
            <a:noFill/>
          </a:ln>
        </p:spPr>
      </p:pic>
      <p:sp>
        <p:nvSpPr>
          <p:cNvPr id="437" name="Місце для нижнього колонтитула 1"/>
          <p:cNvSpPr/>
          <p:nvPr/>
        </p:nvSpPr>
        <p:spPr>
          <a:xfrm>
            <a:off x="346860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67" name="Рисунок 4" descr="Сохо орбита"/>
          <p:cNvPicPr/>
          <p:nvPr/>
        </p:nvPicPr>
        <p:blipFill>
          <a:blip r:embed="rId1"/>
          <a:stretch/>
        </p:blipFill>
        <p:spPr>
          <a:xfrm>
            <a:off x="179280" y="133200"/>
            <a:ext cx="8785440" cy="6591600"/>
          </a:xfrm>
          <a:prstGeom prst="rect">
            <a:avLst/>
          </a:prstGeom>
          <a:ln w="0">
            <a:noFill/>
          </a:ln>
        </p:spPr>
      </p:pic>
      <p:sp>
        <p:nvSpPr>
          <p:cNvPr id="4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9" name="Рисунок 3" descr="soho траектория"/>
          <p:cNvPicPr/>
          <p:nvPr/>
        </p:nvPicPr>
        <p:blipFill>
          <a:blip r:embed="rId1"/>
          <a:stretch/>
        </p:blipFill>
        <p:spPr>
          <a:xfrm>
            <a:off x="2736720" y="189000"/>
            <a:ext cx="6156360" cy="6408720"/>
          </a:xfrm>
          <a:prstGeom prst="rect">
            <a:avLst/>
          </a:prstGeom>
          <a:ln w="0">
            <a:noFill/>
          </a:ln>
        </p:spPr>
      </p:pic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-360" y="259920"/>
            <a:ext cx="4249800" cy="228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Траектория космической обсерватории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OH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Главная страниц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3" name="Рисунок 5" descr="Загрузочная страница"/>
          <p:cNvPicPr/>
          <p:nvPr/>
        </p:nvPicPr>
        <p:blipFill>
          <a:blip r:embed="rId1"/>
          <a:stretch/>
        </p:blipFill>
        <p:spPr>
          <a:xfrm>
            <a:off x="1332000" y="1628640"/>
            <a:ext cx="6495840" cy="5029200"/>
          </a:xfrm>
          <a:prstGeom prst="rect">
            <a:avLst/>
          </a:prstGeom>
          <a:ln w="0">
            <a:noFill/>
          </a:ln>
        </p:spPr>
      </p:pic>
      <p:sp>
        <p:nvSpPr>
          <p:cNvPr id="4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77" name="Рисунок 4" descr="Станция COХО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42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нформация с космической обсерватории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HO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поступает разнообразная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(разные температуры атмосферы Солнца в разных длинах волн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0" name="Рисунок 3" descr="sohoopen"/>
          <p:cNvPicPr/>
          <p:nvPr/>
        </p:nvPicPr>
        <p:blipFill>
          <a:blip r:embed="rId1"/>
          <a:stretch/>
        </p:blipFill>
        <p:spPr>
          <a:xfrm>
            <a:off x="4572000" y="2421000"/>
            <a:ext cx="4500720" cy="4282920"/>
          </a:xfrm>
          <a:prstGeom prst="rect">
            <a:avLst/>
          </a:prstGeom>
          <a:ln w="0">
            <a:noFill/>
          </a:ln>
        </p:spPr>
      </p:pic>
      <p:pic>
        <p:nvPicPr>
          <p:cNvPr id="481" name="Рисунок 4" descr="20041231_0100_eit_171"/>
          <p:cNvPicPr/>
          <p:nvPr/>
        </p:nvPicPr>
        <p:blipFill>
          <a:blip r:embed="rId2"/>
          <a:stretch/>
        </p:blipFill>
        <p:spPr>
          <a:xfrm>
            <a:off x="1619280" y="256536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482" name="Рисунок 5" descr="20041231_0106_eit_284"/>
          <p:cNvPicPr/>
          <p:nvPr/>
        </p:nvPicPr>
        <p:blipFill>
          <a:blip r:embed="rId3"/>
          <a:stretch/>
        </p:blipFill>
        <p:spPr>
          <a:xfrm>
            <a:off x="3203640" y="2565360"/>
            <a:ext cx="1218960" cy="1219320"/>
          </a:xfrm>
          <a:prstGeom prst="rect">
            <a:avLst/>
          </a:prstGeom>
          <a:ln w="0">
            <a:noFill/>
          </a:ln>
        </p:spPr>
      </p:pic>
      <p:pic>
        <p:nvPicPr>
          <p:cNvPr id="483" name="Рисунок 6" descr="20041231_0119_eit_304"/>
          <p:cNvPicPr/>
          <p:nvPr/>
        </p:nvPicPr>
        <p:blipFill>
          <a:blip r:embed="rId4"/>
          <a:stretch/>
        </p:blipFill>
        <p:spPr>
          <a:xfrm>
            <a:off x="179280" y="256536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484" name="Рисунок 7" descr="20041231_0542_c3"/>
          <p:cNvPicPr/>
          <p:nvPr/>
        </p:nvPicPr>
        <p:blipFill>
          <a:blip r:embed="rId5"/>
          <a:stretch/>
        </p:blipFill>
        <p:spPr>
          <a:xfrm>
            <a:off x="250920" y="4076640"/>
            <a:ext cx="1218960" cy="1219320"/>
          </a:xfrm>
          <a:prstGeom prst="rect">
            <a:avLst/>
          </a:prstGeom>
          <a:ln w="0">
            <a:noFill/>
          </a:ln>
        </p:spPr>
      </p:pic>
      <p:pic>
        <p:nvPicPr>
          <p:cNvPr id="485" name="Рисунок 8" descr="20041231_0548_eit_195"/>
          <p:cNvPicPr/>
          <p:nvPr/>
        </p:nvPicPr>
        <p:blipFill>
          <a:blip r:embed="rId6"/>
          <a:stretch/>
        </p:blipFill>
        <p:spPr>
          <a:xfrm>
            <a:off x="3276720" y="4076640"/>
            <a:ext cx="1218960" cy="1219320"/>
          </a:xfrm>
          <a:prstGeom prst="rect">
            <a:avLst/>
          </a:prstGeom>
          <a:ln w="0">
            <a:noFill/>
          </a:ln>
        </p:spPr>
      </p:pic>
      <p:pic>
        <p:nvPicPr>
          <p:cNvPr id="486" name="Рисунок 9" descr="20041231_0554_c2"/>
          <p:cNvPicPr/>
          <p:nvPr/>
        </p:nvPicPr>
        <p:blipFill>
          <a:blip r:embed="rId7"/>
          <a:stretch/>
        </p:blipFill>
        <p:spPr>
          <a:xfrm>
            <a:off x="1692360" y="4076640"/>
            <a:ext cx="1218960" cy="1219320"/>
          </a:xfrm>
          <a:prstGeom prst="rect">
            <a:avLst/>
          </a:prstGeom>
          <a:ln w="0">
            <a:noFill/>
          </a:ln>
        </p:spPr>
      </p:pic>
      <p:pic>
        <p:nvPicPr>
          <p:cNvPr id="487" name="Рисунок 10" descr="20050101_1424_mdi_igr"/>
          <p:cNvPicPr/>
          <p:nvPr/>
        </p:nvPicPr>
        <p:blipFill>
          <a:blip r:embed="rId8"/>
          <a:stretch/>
        </p:blipFill>
        <p:spPr>
          <a:xfrm>
            <a:off x="1763640" y="544500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4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9" name="Рисунок 4" descr="Ласко"/>
          <p:cNvPicPr/>
          <p:nvPr/>
        </p:nvPicPr>
        <p:blipFill>
          <a:blip r:embed="rId1"/>
          <a:stretch/>
        </p:blipFill>
        <p:spPr>
          <a:xfrm>
            <a:off x="1174680" y="0"/>
            <a:ext cx="6794640" cy="6858000"/>
          </a:xfrm>
          <a:prstGeom prst="rect">
            <a:avLst/>
          </a:prstGeom>
          <a:ln w="0">
            <a:noFill/>
          </a:ln>
        </p:spPr>
      </p:pic>
      <p:sp>
        <p:nvSpPr>
          <p:cNvPr id="49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лияние солнечной активности на биосферу Земл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2" name="Рисунок 3" descr="268648_s"/>
          <p:cNvPicPr/>
          <p:nvPr/>
        </p:nvPicPr>
        <p:blipFill>
          <a:blip r:embed="rId1"/>
          <a:stretch/>
        </p:blipFill>
        <p:spPr>
          <a:xfrm>
            <a:off x="128520" y="2421000"/>
            <a:ext cx="3827520" cy="3887640"/>
          </a:xfrm>
          <a:prstGeom prst="rect">
            <a:avLst/>
          </a:prstGeom>
          <a:ln w="0">
            <a:noFill/>
          </a:ln>
        </p:spPr>
      </p:pic>
      <p:pic>
        <p:nvPicPr>
          <p:cNvPr id="493" name="Рисунок 4" descr="sunearth_01G"/>
          <p:cNvPicPr/>
          <p:nvPr/>
        </p:nvPicPr>
        <p:blipFill>
          <a:blip r:embed="rId2"/>
          <a:stretch/>
        </p:blipFill>
        <p:spPr>
          <a:xfrm>
            <a:off x="4284720" y="2421000"/>
            <a:ext cx="4819680" cy="3770280"/>
          </a:xfrm>
          <a:prstGeom prst="rect">
            <a:avLst/>
          </a:prstGeom>
          <a:ln w="0">
            <a:noFill/>
          </a:ln>
        </p:spPr>
      </p:pic>
      <p:sp>
        <p:nvSpPr>
          <p:cNvPr id="49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Данные мониторинга солнечной активност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421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корость солнечного ветр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лярные сия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Геомагнитный индекс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Характеристики солнечного ветра (плотность потока протонов, плотность потока электронов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ток рентгеновского излуче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00" name="Рисунок 4" descr="Станция СОХО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2" name="Рисунок 2" descr="pmapN_ 17_01_1603"/>
          <p:cNvPicPr/>
          <p:nvPr/>
        </p:nvPicPr>
        <p:blipFill>
          <a:blip r:embed="rId1"/>
          <a:stretch/>
        </p:blipFill>
        <p:spPr>
          <a:xfrm>
            <a:off x="755640" y="0"/>
            <a:ext cx="7740720" cy="6880320"/>
          </a:xfrm>
          <a:prstGeom prst="rect">
            <a:avLst/>
          </a:prstGeom>
          <a:ln w="0">
            <a:noFill/>
          </a:ln>
        </p:spPr>
      </p:pic>
      <p:sp>
        <p:nvSpPr>
          <p:cNvPr id="50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9144000" cy="230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100" spc="-1" strike="noStrike">
                <a:solidFill>
                  <a:srgbClr val="000000"/>
                </a:solidFill>
                <a:latin typeface="Arial"/>
              </a:rPr>
              <a:t>Анализ влияния солнечной активности </a:t>
            </a:r>
            <a:br>
              <a:rPr sz="5100"/>
            </a:br>
            <a:r>
              <a:rPr b="0" lang="ru-RU" sz="5100" spc="-1" strike="noStrike">
                <a:solidFill>
                  <a:srgbClr val="000000"/>
                </a:solidFill>
                <a:latin typeface="Arial"/>
              </a:rPr>
              <a:t>на климат Земли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0" y="2924280"/>
            <a:ext cx="9144000" cy="324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емля погружена во внешнюю исключительно подвижную атмосферу Солнца и, следовательно, подвергается сильному влиянию «погоды» на Солнце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осмическая обсерватория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OH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водит 10 лет постоянный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мониторинг активности Солнц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524720" cy="18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00000"/>
                </a:solidFill>
                <a:latin typeface="Arial"/>
              </a:rPr>
              <a:t>Спасибо за внимание!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51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Индекс Вольфа за всю историю наблюдения Солнц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2" name="Рисунок 3" descr="380"/>
          <p:cNvPicPr/>
          <p:nvPr/>
        </p:nvPicPr>
        <p:blipFill>
          <a:blip r:embed="rId1"/>
          <a:stretch/>
        </p:blipFill>
        <p:spPr>
          <a:xfrm>
            <a:off x="0" y="1844640"/>
            <a:ext cx="9144000" cy="4572000"/>
          </a:xfrm>
          <a:prstGeom prst="rect">
            <a:avLst/>
          </a:prstGeom>
          <a:ln w="0">
            <a:noFill/>
          </a:ln>
        </p:spPr>
      </p:pic>
      <p:sp>
        <p:nvSpPr>
          <p:cNvPr id="44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395280" y="277920"/>
            <a:ext cx="8291520" cy="14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олнечная активность характеризуется различными факторам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22960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олнечными пятнам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46" name="Рисунок 4" descr="20031029_0136_mdi_igr"/>
          <p:cNvPicPr/>
          <p:nvPr/>
        </p:nvPicPr>
        <p:blipFill>
          <a:blip r:embed="rId1"/>
          <a:stretch/>
        </p:blipFill>
        <p:spPr>
          <a:xfrm>
            <a:off x="539640" y="2708280"/>
            <a:ext cx="3959280" cy="3959280"/>
          </a:xfrm>
          <a:prstGeom prst="rect">
            <a:avLst/>
          </a:prstGeom>
          <a:ln w="0">
            <a:noFill/>
          </a:ln>
        </p:spPr>
      </p:pic>
      <p:pic>
        <p:nvPicPr>
          <p:cNvPr id="447" name="Рисунок 5" descr="20050115_1736_mdi_igr"/>
          <p:cNvPicPr/>
          <p:nvPr/>
        </p:nvPicPr>
        <p:blipFill>
          <a:blip r:embed="rId2"/>
          <a:stretch/>
        </p:blipFill>
        <p:spPr>
          <a:xfrm>
            <a:off x="4788000" y="2708280"/>
            <a:ext cx="3960720" cy="3960720"/>
          </a:xfrm>
          <a:prstGeom prst="rect">
            <a:avLst/>
          </a:prstGeom>
          <a:ln w="0">
            <a:noFill/>
          </a:ln>
        </p:spPr>
      </p:pic>
      <p:sp>
        <p:nvSpPr>
          <p:cNvPr id="44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395280" y="277920"/>
            <a:ext cx="8291520" cy="14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олнечная активность характеризуется различными факторам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22960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олнечными вспышкам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51" name="Рисунок 4" descr="eit195"/>
          <p:cNvPicPr/>
          <p:nvPr/>
        </p:nvPicPr>
        <p:blipFill>
          <a:blip r:embed="rId1"/>
          <a:stretch/>
        </p:blipFill>
        <p:spPr>
          <a:xfrm>
            <a:off x="1258920" y="2997360"/>
            <a:ext cx="6840360" cy="3421080"/>
          </a:xfrm>
          <a:prstGeom prst="rect">
            <a:avLst/>
          </a:prstGeom>
          <a:ln w="0">
            <a:noFill/>
          </a:ln>
        </p:spPr>
      </p:pic>
      <p:sp>
        <p:nvSpPr>
          <p:cNvPr id="4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324000" y="277920"/>
            <a:ext cx="8362800" cy="14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олнечная активность характеризуется различными факторам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78920" y="2133360"/>
            <a:ext cx="403236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олнечными протуберанцам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55" name="Рисунок 4" descr="Солнце"/>
          <p:cNvPicPr/>
          <p:nvPr/>
        </p:nvPicPr>
        <p:blipFill>
          <a:blip r:embed="rId1"/>
          <a:stretch/>
        </p:blipFill>
        <p:spPr>
          <a:xfrm>
            <a:off x="4284720" y="2190600"/>
            <a:ext cx="4859280" cy="4667400"/>
          </a:xfrm>
          <a:prstGeom prst="rect">
            <a:avLst/>
          </a:prstGeom>
          <a:ln w="0">
            <a:noFill/>
          </a:ln>
        </p:spPr>
      </p:pic>
      <p:sp>
        <p:nvSpPr>
          <p:cNvPr id="4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0" y="404640"/>
            <a:ext cx="8686800" cy="187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 начале 11-летнего цикла солнечной активности, после минимума W:</a:t>
            </a:r>
            <a:r>
              <a:rPr b="0" lang="ru-RU" sz="4000" spc="-1" strike="noStrike">
                <a:solidFill>
                  <a:srgbClr val="0099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85228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ятна появляются вдали от экватора Солнца, на широтах примерно 30</a:t>
            </a:r>
            <a:r>
              <a:rPr b="0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 течение цикла зона пятен спускается до 15</a:t>
            </a:r>
            <a:r>
              <a:rPr b="0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в максимуме и до 8</a:t>
            </a:r>
            <a:r>
              <a:rPr b="0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следующем минимуме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алее на высотах более 30</a:t>
            </a:r>
            <a:r>
              <a:rPr b="0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образуются новые группы пятен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0" name="Рисунок 2" descr="bfly"/>
          <p:cNvPicPr/>
          <p:nvPr/>
        </p:nvPicPr>
        <p:blipFill>
          <a:blip r:embed="rId1"/>
          <a:stretch/>
        </p:blipFill>
        <p:spPr>
          <a:xfrm>
            <a:off x="179280" y="0"/>
            <a:ext cx="8856720" cy="6877080"/>
          </a:xfrm>
          <a:prstGeom prst="rect">
            <a:avLst/>
          </a:prstGeom>
          <a:ln w="0">
            <a:noFill/>
          </a:ln>
        </p:spPr>
      </p:pic>
      <p:sp>
        <p:nvSpPr>
          <p:cNvPr id="4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/>
          </p:nvPr>
        </p:nvSpPr>
        <p:spPr>
          <a:xfrm>
            <a:off x="-360" y="259920"/>
            <a:ext cx="8893080" cy="20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 космической обсерватории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OHO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работают различные приборы, в том числе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ASCO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и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ASCO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-3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нформация с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OHO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поступает на Землю в режиме реального времени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63" name="Рисунок 7" descr="Сохо"/>
          <p:cNvPicPr/>
          <p:nvPr/>
        </p:nvPicPr>
        <p:blipFill>
          <a:blip r:embed="rId1"/>
          <a:stretch/>
        </p:blipFill>
        <p:spPr>
          <a:xfrm>
            <a:off x="468360" y="1962000"/>
            <a:ext cx="7991280" cy="4521240"/>
          </a:xfrm>
          <a:prstGeom prst="rect">
            <a:avLst/>
          </a:prstGeom>
          <a:ln w="0">
            <a:noFill/>
          </a:ln>
        </p:spPr>
      </p:pic>
      <p:sp>
        <p:nvSpPr>
          <p:cNvPr id="4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31T14:34:40Z</dcterms:created>
  <dc:creator>Vladimir A. Marchenko</dc:creator>
  <dc:description/>
  <dc:language>en-US</dc:language>
  <cp:lastModifiedBy>LEGION</cp:lastModifiedBy>
  <dcterms:modified xsi:type="dcterms:W3CDTF">2015-01-12T14:27:38Z</dcterms:modified>
  <cp:revision>36</cp:revision>
  <dc:subject/>
  <dc:title>Анализ влияния солнечной активности  на климат Земл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0611000000000001023620</vt:lpwstr>
  </property>
</Properties>
</file>