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gif" ContentType="image/gif"/>
  <Override PartName="/ppt/media/image14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5A15-409A-4D8F-AB01-0E69519867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1343-17B7-439F-B109-CF02FE2BFB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аектория космической обсерватории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9F02-D1EE-4DA1-AF04-DA6260F4B9E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стра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7A87-9F08-42BB-B865-9A7E167163A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я с космической обсерватори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оступает разнообразна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разные температуры атмосферы Солнца в разных длинах вол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01CB-65D0-415A-B1B8-96D042AB572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солнечной активности на биосферу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4B8B-219E-413A-9BFC-FA6F9E66F5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нные мониторинга солнечной актив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рость солнечного ве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ярные си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агнитный индек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 солнечного ветра (плотность потока протонов, плотность потока электро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ок рентгеновского изл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8FAC-3903-43D0-AC66-D579C1D2EB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влияния солнечной актив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лимат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погружена во внешнюю исключительно подвижную атмосферу Солнца и, следовательно, подвергается сильному влиянию «погоды» на Солн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мическая обсерватор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дит 10 лет постоян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активности Солн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48F5-FEF2-49C6-B2C3-41BD57016C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43F9-6C3D-4291-96A3-6982C242D1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декс Вольфа за всю историю наблюдения Солн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DD10-E4A3-4249-B33A-2A1B2FA598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ыми пят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E448-62F9-4A38-BC5F-D448B3BAEF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ыми вспыш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7811-3991-4061-B7D5-CA7FCCDA1C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ыми протуберанц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1CA4-A59F-4CAC-B5A5-6B3A58E606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чале 11-летнего цикла солнечной активности, после минимума W: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ятна появляются вдали от экватора Солнца, на широтах примерно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чение цикла зона пятен спускается до 15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максимуме и до 8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ледующем миниму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 на высотах более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разуются новые группы пят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989F-8F58-436D-982F-F2939BF33E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осмической обсерватори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ботают различные приборы, в том числ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C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C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с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тупает на Землю в режиме реального времен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9AF8-3B09-4D26-A675-B4FE5054BA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B84A-2D9D-435B-BD60-F0B707FB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093A-78FD-41D7-8B92-D2D4A401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ECEC-2FBF-4BF5-8A39-AB63F41C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512F-EBF8-4B06-ABF7-F7527CFA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3BAE-9C69-4F43-9074-935E0990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4B99-DA2C-4428-894B-FD7DAC57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45B5-D074-4149-9776-8DEA1F89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71D7-7755-40B7-B4AC-FC5F649A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E0D2-7697-42F9-A03B-10C96487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F0D0-345F-4588-B96C-2E432092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8F8D-DA0B-41B7-A044-1C210227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53D3-B336-49A9-B9AC-57D19577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08E8-7980-4AE2-9A8D-CA9DA63F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06AB-52E3-402B-B619-AD0E26B8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6F6C-406A-4E23-AC92-D7319619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6C6A-9E28-4C17-8235-121584CD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6CAD-3274-4D9C-AB16-15726CB3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72E18-61F5-4F1F-B8B0-9FA44F42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B6043-DC2A-464E-A2C7-55DFA4C0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62BDD-6691-461D-A487-22297476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44D0B-F431-4491-8B8B-490AC496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325C2-ACA6-4021-A96F-FB31B4DE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818A-A431-44E7-B961-5F833258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85DCD-1A58-4F98-8465-E3F779A1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A9B71-44CB-4EE2-91E6-A00BFB4E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43F2E-6511-4647-B9DE-9D0A2094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5ED17-28F9-449B-87DF-9ECFDBDB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BAC02-DEE5-4324-8338-115BA954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84291-BD03-498C-B2BC-7FC3F976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F1CB2-E519-430E-A540-89FDEEB4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1DD07-7FA5-4161-9A54-944AFCC9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B40FF-DE01-41B1-AC2D-88F0F344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71B75-99FD-4A6C-9034-BCE704DA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D05A-A088-4BD0-97B2-DE11343A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0B8B0-1182-43C8-B886-7EF7690B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31C4C-3D2F-4775-AEA8-CBC1700B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BCAF1-C1E9-44BC-9101-C077CD68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1F02A-0B15-4711-80A5-C92BDE0D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84ECA-951D-4880-8B43-6F2774D2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A7090-4B43-421F-9339-D7750FD6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BE4AB-25F6-4DB8-92F6-1DDE79F9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9015B-4AE1-45A5-AB75-002B5E0F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9E375-0DDE-48C3-A842-AC180CB7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213A-9814-458A-9D52-63B672CA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ACF9-D367-4568-B1A9-575C2B72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BCE3-DF2B-48BD-982B-C8F702CE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7883-C136-40D4-AE29-213DFFE2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82D6-C52D-415D-995E-34E80C51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Полилиния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Полилиния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Полилиния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Полилиния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Полилиния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Полилиния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Полилиния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198D-A2F1-4E3E-8198-70EB1E78DF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ab"/>
            </a:gs>
            <a:gs pos="100000">
              <a:srgbClr val="dddcc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Группа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51" name="Группа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52" name="Группа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53" name="Полилиния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4" name="Группа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5" name="Полилиния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Полилиния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Полилиния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" name="Группа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59" name="Полилиния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0" name="Группа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61" name="Полилиния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62" name="Группа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63" name="Линия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Линия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Линия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Линия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Линия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Линия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Линия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Линия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Линия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Линия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Линия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Линия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Линия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Линия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Линия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Линия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Линия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Линия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Линия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Линия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Линия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Линия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Линия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Линия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Линия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Линия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Линия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Линия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Линия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Линия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Линия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Линия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Линия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Линия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Линия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Полилиния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99" name="Группа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00" name="Овал 52"/>
                          <p:cNvSpPr/>
                          <p:nvPr/>
                        </p:nvSpPr>
                        <p:spPr>
                          <a:xfrm rot="18780000">
                            <a:off x="2462400" y="448560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" name="Овал 53"/>
                          <p:cNvSpPr/>
                          <p:nvPr/>
                        </p:nvSpPr>
                        <p:spPr>
                          <a:xfrm rot="18780000">
                            <a:off x="2376360" y="429840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" name="Овал 54"/>
                          <p:cNvSpPr/>
                          <p:nvPr/>
                        </p:nvSpPr>
                        <p:spPr>
                          <a:xfrm rot="18780000">
                            <a:off x="2256840" y="400176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" name="Овал 55"/>
                          <p:cNvSpPr/>
                          <p:nvPr/>
                        </p:nvSpPr>
                        <p:spPr>
                          <a:xfrm rot="18780000">
                            <a:off x="2164680" y="374292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" name="Овал 56"/>
                          <p:cNvSpPr/>
                          <p:nvPr/>
                        </p:nvSpPr>
                        <p:spPr>
                          <a:xfrm rot="18780000">
                            <a:off x="2063880" y="342612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" name="Овал 57"/>
                          <p:cNvSpPr/>
                          <p:nvPr/>
                        </p:nvSpPr>
                        <p:spPr>
                          <a:xfrm rot="18780000">
                            <a:off x="1975320" y="317196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" name="Овал 58"/>
                          <p:cNvSpPr/>
                          <p:nvPr/>
                        </p:nvSpPr>
                        <p:spPr>
                          <a:xfrm rot="18780000">
                            <a:off x="1850040" y="289116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" name="Овал 59"/>
                          <p:cNvSpPr/>
                          <p:nvPr/>
                        </p:nvSpPr>
                        <p:spPr>
                          <a:xfrm rot="18780000">
                            <a:off x="1733040" y="262872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" name="Овал 60"/>
                          <p:cNvSpPr/>
                          <p:nvPr/>
                        </p:nvSpPr>
                        <p:spPr>
                          <a:xfrm rot="18780000">
                            <a:off x="1599120" y="236916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" name="Овал 61"/>
                          <p:cNvSpPr/>
                          <p:nvPr/>
                        </p:nvSpPr>
                        <p:spPr>
                          <a:xfrm rot="18780000">
                            <a:off x="1495800" y="208476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" name="Овал 62"/>
                          <p:cNvSpPr/>
                          <p:nvPr/>
                        </p:nvSpPr>
                        <p:spPr>
                          <a:xfrm rot="18734400">
                            <a:off x="1402200" y="181836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" name="Овал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12" name="Линия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Линия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Линия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Линия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Линия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Линия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Линия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Линия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Линия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Линия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Линия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Линия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Линия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Линия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Линия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Линия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Линия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Линия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Линия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Линия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Линия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Линия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Линия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Линия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Линия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" name="Линия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" name="Линия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" name="Линия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" name="Линия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" name="Линия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" name="Линия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" name="Линия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" name="Линия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Линия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Линия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Линия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48" name="Группа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49" name="Линия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Линия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" name="Группа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52" name="Линия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Полилиния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Линия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Линия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Линия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Линия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Линия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Линия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Линия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1" name="Группа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62" name="Полилиния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Полилиния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Прямоуг.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Прямоуг.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Прямоуг. 118"/>
              <p:cNvSpPr/>
              <p:nvPr/>
            </p:nvSpPr>
            <p:spPr>
              <a:xfrm rot="18182400">
                <a:off x="1610640" y="428364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Прямоуг.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8" name="Группа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69" name="Овал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Полилиния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Полилиния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Полилиния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Полилиния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4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AAEB-5376-4EF6-A75D-CA52220974F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Группа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16" name="Полилиния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bb5f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Полилиния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Полилиния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Полилиния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Полилиния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Полилиния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08AB-6E93-4C76-B5EA-D126DEDA43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ab"/>
            </a:gs>
            <a:gs pos="100000">
              <a:srgbClr val="dddcc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Группа 2"/>
          <p:cNvGrpSpPr/>
          <p:nvPr/>
        </p:nvGrpSpPr>
        <p:grpSpPr>
          <a:xfrm>
            <a:off x="-310680" y="798480"/>
            <a:ext cx="7080840" cy="6858360"/>
            <a:chOff x="-310680" y="798480"/>
            <a:chExt cx="7080840" cy="6858360"/>
          </a:xfrm>
        </p:grpSpPr>
        <p:grpSp>
          <p:nvGrpSpPr>
            <p:cNvPr id="264" name="Группа 3"/>
            <p:cNvGrpSpPr/>
            <p:nvPr/>
          </p:nvGrpSpPr>
          <p:grpSpPr>
            <a:xfrm>
              <a:off x="-310680" y="798480"/>
              <a:ext cx="7080840" cy="6858360"/>
              <a:chOff x="-310680" y="798480"/>
              <a:chExt cx="7080840" cy="6858360"/>
            </a:xfrm>
          </p:grpSpPr>
          <p:grpSp>
            <p:nvGrpSpPr>
              <p:cNvPr id="265" name="Группа 4"/>
              <p:cNvGrpSpPr/>
              <p:nvPr/>
            </p:nvGrpSpPr>
            <p:grpSpPr>
              <a:xfrm>
                <a:off x="-310680" y="798480"/>
                <a:ext cx="7080840" cy="6858360"/>
                <a:chOff x="-310680" y="798480"/>
                <a:chExt cx="7080840" cy="6858360"/>
              </a:xfrm>
            </p:grpSpPr>
            <p:sp>
              <p:nvSpPr>
                <p:cNvPr id="266" name="Полилиния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Группа 6"/>
                <p:cNvGrpSpPr/>
                <p:nvPr/>
              </p:nvGrpSpPr>
              <p:grpSpPr>
                <a:xfrm>
                  <a:off x="-310680" y="798480"/>
                  <a:ext cx="7080840" cy="6858360"/>
                  <a:chOff x="-310680" y="798480"/>
                  <a:chExt cx="7080840" cy="6858360"/>
                </a:xfrm>
              </p:grpSpPr>
              <p:sp>
                <p:nvSpPr>
                  <p:cNvPr id="268" name="Полилиния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Полилиния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Полилиния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1" name="Группа 10"/>
                  <p:cNvGrpSpPr/>
                  <p:nvPr/>
                </p:nvGrpSpPr>
                <p:grpSpPr>
                  <a:xfrm>
                    <a:off x="-310680" y="798480"/>
                    <a:ext cx="7080840" cy="6858360"/>
                    <a:chOff x="-310680" y="798480"/>
                    <a:chExt cx="7080840" cy="6858360"/>
                  </a:xfrm>
                </p:grpSpPr>
                <p:sp>
                  <p:nvSpPr>
                    <p:cNvPr id="272" name="Полилиния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3" name="Группа 166"/>
                    <p:cNvGrpSpPr/>
                    <p:nvPr/>
                  </p:nvGrpSpPr>
                  <p:grpSpPr>
                    <a:xfrm>
                      <a:off x="-310680" y="805680"/>
                      <a:ext cx="7071120" cy="6851160"/>
                      <a:chOff x="-310680" y="805680"/>
                      <a:chExt cx="7071120" cy="6851160"/>
                    </a:xfrm>
                  </p:grpSpPr>
                  <p:sp>
                    <p:nvSpPr>
                      <p:cNvPr id="274" name="Полилиния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5" name="Группа 14"/>
                      <p:cNvGrpSpPr/>
                      <p:nvPr/>
                    </p:nvGrpSpPr>
                    <p:grpSpPr>
                      <a:xfrm>
                        <a:off x="-310680" y="805680"/>
                        <a:ext cx="7071120" cy="6851160"/>
                        <a:chOff x="-310680" y="805680"/>
                        <a:chExt cx="7071120" cy="6851160"/>
                      </a:xfrm>
                    </p:grpSpPr>
                    <p:sp>
                      <p:nvSpPr>
                        <p:cNvPr id="276" name="Линия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Линия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8" name="Линия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9" name="Линия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" name="Линия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Линия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Линия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Линия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Линия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" name="Линия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Линия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Линия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" name="Линия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Линия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Линия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1" name="Линия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" name="Линия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Линия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" name="Линия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" name="Линия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Линия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Линия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Линия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" name="Линия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Линия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Линия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Линия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Линия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4" name="Линия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5" name="Линия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Линия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Линия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Линия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9" name="Линия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" name="Линия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Полилиния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12" name="Группа 51"/>
                        <p:cNvGrpSpPr/>
                        <p:nvPr/>
                      </p:nvGrpSpPr>
                      <p:grpSpPr>
                        <a:xfrm>
                          <a:off x="-310680" y="1279080"/>
                          <a:ext cx="6462720" cy="6377760"/>
                          <a:chOff x="-310680" y="1279080"/>
                          <a:chExt cx="6462720" cy="6377760"/>
                        </a:xfrm>
                      </p:grpSpPr>
                      <p:sp>
                        <p:nvSpPr>
                          <p:cNvPr id="313" name="Овал 52"/>
                          <p:cNvSpPr/>
                          <p:nvPr/>
                        </p:nvSpPr>
                        <p:spPr>
                          <a:xfrm rot="18780000">
                            <a:off x="2448360" y="451728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4" name="Овал 53"/>
                          <p:cNvSpPr/>
                          <p:nvPr/>
                        </p:nvSpPr>
                        <p:spPr>
                          <a:xfrm rot="18780000">
                            <a:off x="2357280" y="433008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5" name="Овал 54"/>
                          <p:cNvSpPr/>
                          <p:nvPr/>
                        </p:nvSpPr>
                        <p:spPr>
                          <a:xfrm rot="18780000">
                            <a:off x="2237760" y="403344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6" name="Овал 55"/>
                          <p:cNvSpPr/>
                          <p:nvPr/>
                        </p:nvSpPr>
                        <p:spPr>
                          <a:xfrm rot="18780000">
                            <a:off x="2145600" y="377460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7" name="Овал 56"/>
                          <p:cNvSpPr/>
                          <p:nvPr/>
                        </p:nvSpPr>
                        <p:spPr>
                          <a:xfrm rot="18780000">
                            <a:off x="2046600" y="345816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8" name="Овал 57"/>
                          <p:cNvSpPr/>
                          <p:nvPr/>
                        </p:nvSpPr>
                        <p:spPr>
                          <a:xfrm rot="18780000">
                            <a:off x="1956240" y="320364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9" name="Овал 58"/>
                          <p:cNvSpPr/>
                          <p:nvPr/>
                        </p:nvSpPr>
                        <p:spPr>
                          <a:xfrm rot="18780000">
                            <a:off x="1832400" y="292284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0" name="Овал 59"/>
                          <p:cNvSpPr/>
                          <p:nvPr/>
                        </p:nvSpPr>
                        <p:spPr>
                          <a:xfrm rot="18780000">
                            <a:off x="1713960" y="266040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1" name="Овал 60"/>
                          <p:cNvSpPr/>
                          <p:nvPr/>
                        </p:nvSpPr>
                        <p:spPr>
                          <a:xfrm rot="18780000">
                            <a:off x="1581480" y="240084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2" name="Овал 61"/>
                          <p:cNvSpPr/>
                          <p:nvPr/>
                        </p:nvSpPr>
                        <p:spPr>
                          <a:xfrm rot="18780000">
                            <a:off x="1476720" y="211644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3" name="Овал 62"/>
                          <p:cNvSpPr/>
                          <p:nvPr/>
                        </p:nvSpPr>
                        <p:spPr>
                          <a:xfrm rot="18734400">
                            <a:off x="1383120" y="185004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4" name="Овал 63"/>
                          <p:cNvSpPr/>
                          <p:nvPr/>
                        </p:nvSpPr>
                        <p:spPr>
                          <a:xfrm rot="18819600">
                            <a:off x="1294200" y="155304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25" name="Линия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Линия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Линия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Линия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Линия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Линия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Линия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2" name="Линия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3" name="Линия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4" name="Линия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" name="Линия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" name="Линия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7" name="Линия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" name="Линия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" name="Линия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0" name="Линия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1" name="Линия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2" name="Линия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Линия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" name="Линия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5" name="Линия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6" name="Линия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" name="Линия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8" name="Линия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9" name="Линия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0" name="Линия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1" name="Линия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Линия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3" name="Линия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4" name="Линия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" name="Линия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6" name="Линия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7" name="Линия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8" name="Линия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Линия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0" name="Линия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61" name="Группа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362" name="Линия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Линия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4" name="Группа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365" name="Линия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Полилиния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Линия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Линия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Линия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Линия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Линия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Линия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Линия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74" name="Группа 113"/>
            <p:cNvGrpSpPr/>
            <p:nvPr/>
          </p:nvGrpSpPr>
          <p:grpSpPr>
            <a:xfrm>
              <a:off x="1800" y="2141280"/>
              <a:ext cx="5230440" cy="4680000"/>
              <a:chOff x="1800" y="2141280"/>
              <a:chExt cx="5230440" cy="4680000"/>
            </a:xfrm>
          </p:grpSpPr>
          <p:sp>
            <p:nvSpPr>
              <p:cNvPr id="375" name="Полилиния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Полилиния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Прямоуг.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Прямоуг.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Прямоуг.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Прямоуг.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Группа 120"/>
              <p:cNvGrpSpPr/>
              <p:nvPr/>
            </p:nvGrpSpPr>
            <p:grpSpPr>
              <a:xfrm>
                <a:off x="4738320" y="2141280"/>
                <a:ext cx="493920" cy="494280"/>
                <a:chOff x="4738320" y="2141280"/>
                <a:chExt cx="493920" cy="494280"/>
              </a:xfrm>
            </p:grpSpPr>
            <p:sp>
              <p:nvSpPr>
                <p:cNvPr id="382" name="Овал 121"/>
                <p:cNvSpPr/>
                <p:nvPr/>
              </p:nvSpPr>
              <p:spPr>
                <a:xfrm rot="2828400">
                  <a:off x="475416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Полилиния 122"/>
                <p:cNvSpPr/>
                <p:nvPr/>
              </p:nvSpPr>
              <p:spPr>
                <a:xfrm>
                  <a:off x="4852440" y="2263320"/>
                  <a:ext cx="25200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Полилиния 123"/>
                <p:cNvSpPr/>
                <p:nvPr/>
              </p:nvSpPr>
              <p:spPr>
                <a:xfrm>
                  <a:off x="4935240" y="2254320"/>
                  <a:ext cx="18144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Полилиния 124"/>
                <p:cNvSpPr/>
                <p:nvPr/>
              </p:nvSpPr>
              <p:spPr>
                <a:xfrm>
                  <a:off x="4999320" y="2148840"/>
                  <a:ext cx="22752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Полилиния 125"/>
                <p:cNvSpPr/>
                <p:nvPr/>
              </p:nvSpPr>
              <p:spPr>
                <a:xfrm>
                  <a:off x="514368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189D-BFDD-4B51-8F27-8785FBE3295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56880" y="785520"/>
            <a:ext cx="600084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eec94"/>
                </a:solidFill>
                <a:latin typeface="Arial Black"/>
              </a:rPr>
              <a:t>Солнечная активность</a:t>
            </a:r>
            <a:endParaRPr b="1" lang="en-US" sz="60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436" name="Рисунок 4" descr="febcme_sohoc2"/>
          <p:cNvPicPr/>
          <p:nvPr/>
        </p:nvPicPr>
        <p:blipFill>
          <a:blip r:embed="rId1"/>
          <a:stretch/>
        </p:blipFill>
        <p:spPr>
          <a:xfrm>
            <a:off x="2643120" y="3214800"/>
            <a:ext cx="3492720" cy="2762280"/>
          </a:xfrm>
          <a:prstGeom prst="rect">
            <a:avLst/>
          </a:prstGeom>
          <a:ln w="0">
            <a:noFill/>
          </a:ln>
        </p:spPr>
      </p:pic>
      <p:sp>
        <p:nvSpPr>
          <p:cNvPr id="43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Рисунок 4" descr="Сохо орбита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91600"/>
          </a:xfrm>
          <a:prstGeom prst="rect">
            <a:avLst/>
          </a:prstGeom>
          <a:ln w="0">
            <a:noFill/>
          </a:ln>
        </p:spPr>
      </p:pic>
      <p:sp>
        <p:nvSpPr>
          <p:cNvPr id="4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Рисунок 3" descr="soho траектория"/>
          <p:cNvPicPr/>
          <p:nvPr/>
        </p:nvPicPr>
        <p:blipFill>
          <a:blip r:embed="rId1"/>
          <a:stretch/>
        </p:blipFill>
        <p:spPr>
          <a:xfrm>
            <a:off x="2736720" y="189000"/>
            <a:ext cx="6156360" cy="64087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249800" cy="228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аектория космической обсерватори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лавна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Рисунок 5" descr="Загрузочная страница"/>
          <p:cNvPicPr/>
          <p:nvPr/>
        </p:nvPicPr>
        <p:blipFill>
          <a:blip r:embed="rId1"/>
          <a:stretch/>
        </p:blipFill>
        <p:spPr>
          <a:xfrm>
            <a:off x="1332000" y="1628640"/>
            <a:ext cx="6495840" cy="5029200"/>
          </a:xfrm>
          <a:prstGeom prst="rect">
            <a:avLst/>
          </a:prstGeom>
          <a:ln w="0">
            <a:noFill/>
          </a:ln>
        </p:spPr>
      </p:pic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7" name="Рисунок 4" descr="Станция COХ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я с космической обсерватори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оступает разнообразн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разные температуры атмосферы Солнца в разных длинах вол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Рисунок 3" descr="sohoopen"/>
          <p:cNvPicPr/>
          <p:nvPr/>
        </p:nvPicPr>
        <p:blipFill>
          <a:blip r:embed="rId1"/>
          <a:stretch/>
        </p:blipFill>
        <p:spPr>
          <a:xfrm>
            <a:off x="4572000" y="2421000"/>
            <a:ext cx="4500720" cy="428292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4" descr="20041231_0100_eit_171"/>
          <p:cNvPicPr/>
          <p:nvPr/>
        </p:nvPicPr>
        <p:blipFill>
          <a:blip r:embed="rId2"/>
          <a:stretch/>
        </p:blipFill>
        <p:spPr>
          <a:xfrm>
            <a:off x="1619280" y="2565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82" name="Рисунок 5" descr="20041231_0106_eit_284"/>
          <p:cNvPicPr/>
          <p:nvPr/>
        </p:nvPicPr>
        <p:blipFill>
          <a:blip r:embed="rId3"/>
          <a:stretch/>
        </p:blipFill>
        <p:spPr>
          <a:xfrm>
            <a:off x="3203640" y="25653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3" name="Рисунок 6" descr="20041231_0119_eit_304"/>
          <p:cNvPicPr/>
          <p:nvPr/>
        </p:nvPicPr>
        <p:blipFill>
          <a:blip r:embed="rId4"/>
          <a:stretch/>
        </p:blipFill>
        <p:spPr>
          <a:xfrm>
            <a:off x="179280" y="2565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84" name="Рисунок 7" descr="20041231_0542_c3"/>
          <p:cNvPicPr/>
          <p:nvPr/>
        </p:nvPicPr>
        <p:blipFill>
          <a:blip r:embed="rId5"/>
          <a:stretch/>
        </p:blipFill>
        <p:spPr>
          <a:xfrm>
            <a:off x="250920" y="4076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5" name="Рисунок 8" descr="20041231_0548_eit_195"/>
          <p:cNvPicPr/>
          <p:nvPr/>
        </p:nvPicPr>
        <p:blipFill>
          <a:blip r:embed="rId6"/>
          <a:stretch/>
        </p:blipFill>
        <p:spPr>
          <a:xfrm>
            <a:off x="3276720" y="4076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6" name="Рисунок 9" descr="20041231_0554_c2"/>
          <p:cNvPicPr/>
          <p:nvPr/>
        </p:nvPicPr>
        <p:blipFill>
          <a:blip r:embed="rId7"/>
          <a:stretch/>
        </p:blipFill>
        <p:spPr>
          <a:xfrm>
            <a:off x="1692360" y="4076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7" name="Рисунок 10" descr="20050101_1424_mdi_igr"/>
          <p:cNvPicPr/>
          <p:nvPr/>
        </p:nvPicPr>
        <p:blipFill>
          <a:blip r:embed="rId8"/>
          <a:stretch/>
        </p:blipFill>
        <p:spPr>
          <a:xfrm>
            <a:off x="1763640" y="54450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Рисунок 4" descr="Ласко"/>
          <p:cNvPicPr/>
          <p:nvPr/>
        </p:nvPicPr>
        <p:blipFill>
          <a:blip r:embed="rId1"/>
          <a:stretch/>
        </p:blipFill>
        <p:spPr>
          <a:xfrm>
            <a:off x="1174680" y="0"/>
            <a:ext cx="6794640" cy="6858000"/>
          </a:xfrm>
          <a:prstGeom prst="rect">
            <a:avLst/>
          </a:prstGeom>
          <a:ln w="0">
            <a:noFill/>
          </a:ln>
        </p:spPr>
      </p:pic>
      <p:sp>
        <p:nvSpPr>
          <p:cNvPr id="4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лияние солнечной активности на биосферу Зем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Рисунок 3" descr="268648_s"/>
          <p:cNvPicPr/>
          <p:nvPr/>
        </p:nvPicPr>
        <p:blipFill>
          <a:blip r:embed="rId1"/>
          <a:stretch/>
        </p:blipFill>
        <p:spPr>
          <a:xfrm>
            <a:off x="128520" y="2421000"/>
            <a:ext cx="3827520" cy="3887640"/>
          </a:xfrm>
          <a:prstGeom prst="rect">
            <a:avLst/>
          </a:prstGeom>
          <a:ln w="0">
            <a:noFill/>
          </a:ln>
        </p:spPr>
      </p:pic>
      <p:pic>
        <p:nvPicPr>
          <p:cNvPr id="493" name="Рисунок 4" descr="sunearth_01G"/>
          <p:cNvPicPr/>
          <p:nvPr/>
        </p:nvPicPr>
        <p:blipFill>
          <a:blip r:embed="rId2"/>
          <a:stretch/>
        </p:blipFill>
        <p:spPr>
          <a:xfrm>
            <a:off x="4284720" y="2421000"/>
            <a:ext cx="4819680" cy="3770280"/>
          </a:xfrm>
          <a:prstGeom prst="rect">
            <a:avLst/>
          </a:prstGeom>
          <a:ln w="0">
            <a:noFill/>
          </a:ln>
        </p:spPr>
      </p:pic>
      <p:sp>
        <p:nvSpPr>
          <p:cNvPr id="4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анные мониторинга солнечной актив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корость солнечного ве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ярные сия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еомагнитный индек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арактеристики солнечного ветра (плотность потока протонов, плотность потока электронов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ок рентгеновского излуч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0" name="Рисунок 4" descr="Станция СОХ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Рисунок 2" descr="pmapN_ 17_01_1603"/>
          <p:cNvPicPr/>
          <p:nvPr/>
        </p:nvPicPr>
        <p:blipFill>
          <a:blip r:embed="rId1"/>
          <a:stretch/>
        </p:blipFill>
        <p:spPr>
          <a:xfrm>
            <a:off x="755640" y="0"/>
            <a:ext cx="7740720" cy="6880320"/>
          </a:xfrm>
          <a:prstGeom prst="rect">
            <a:avLst/>
          </a:prstGeom>
          <a:ln w="0">
            <a:noFill/>
          </a:ln>
        </p:spPr>
      </p:pic>
      <p:sp>
        <p:nvSpPr>
          <p:cNvPr id="5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Arial"/>
              </a:rPr>
              <a:t>Анализ влияния солнечной активности </a:t>
            </a:r>
            <a:br>
              <a:rPr sz="5100"/>
            </a:br>
            <a:r>
              <a:rPr b="0" lang="ru-RU" sz="5100" spc="-1" strike="noStrike">
                <a:solidFill>
                  <a:srgbClr val="000000"/>
                </a:solidFill>
                <a:latin typeface="Arial"/>
              </a:rPr>
              <a:t>на климат Земли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0" y="2924280"/>
            <a:ext cx="91440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емля погружена во внешнюю исключительно подвижную атмосферу Солнца и, следовательно, подвергается сильному влиянию «погоды» на Солнц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смическая обсерватор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т 10 лет постоян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ниторинг активности Солнц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5247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декс Вольфа за всю историю наблюдения Солн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Рисунок 3" descr="380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лнечными пятн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Рисунок 4" descr="20031029_0136_mdi_igr"/>
          <p:cNvPicPr/>
          <p:nvPr/>
        </p:nvPicPr>
        <p:blipFill>
          <a:blip r:embed="rId1"/>
          <a:stretch/>
        </p:blipFill>
        <p:spPr>
          <a:xfrm>
            <a:off x="539640" y="270828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5" descr="20050115_1736_mdi_igr"/>
          <p:cNvPicPr/>
          <p:nvPr/>
        </p:nvPicPr>
        <p:blipFill>
          <a:blip r:embed="rId2"/>
          <a:stretch/>
        </p:blipFill>
        <p:spPr>
          <a:xfrm>
            <a:off x="4788000" y="2708280"/>
            <a:ext cx="3960720" cy="396072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лнечными вспыш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1" name="Рисунок 4" descr="eit195"/>
          <p:cNvPicPr/>
          <p:nvPr/>
        </p:nvPicPr>
        <p:blipFill>
          <a:blip r:embed="rId1"/>
          <a:stretch/>
        </p:blipFill>
        <p:spPr>
          <a:xfrm>
            <a:off x="1258920" y="2997360"/>
            <a:ext cx="6840360" cy="342108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8920" y="2133360"/>
            <a:ext cx="403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лнечными протуберанц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5" name="Рисунок 4" descr="Солнце"/>
          <p:cNvPicPr/>
          <p:nvPr/>
        </p:nvPicPr>
        <p:blipFill>
          <a:blip r:embed="rId1"/>
          <a:stretch/>
        </p:blipFill>
        <p:spPr>
          <a:xfrm>
            <a:off x="4284720" y="2190600"/>
            <a:ext cx="4859280" cy="4667400"/>
          </a:xfrm>
          <a:prstGeom prst="rect">
            <a:avLst/>
          </a:prstGeom>
          <a:ln w="0">
            <a:noFill/>
          </a:ln>
        </p:spPr>
      </p:pic>
      <p:sp>
        <p:nvSpPr>
          <p:cNvPr id="4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68680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начале 11-летнего цикла солнечной активности, после минимума W: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ятна появляются вдали от экватора Солнца, на широтах примерно 30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течение цикла зона пятен спускается до 15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максимуме и до 8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ледующем минимум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лее на высотах более 30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разуются новые группы пяте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Рисунок 2" descr="bfly"/>
          <p:cNvPicPr/>
          <p:nvPr/>
        </p:nvPicPr>
        <p:blipFill>
          <a:blip r:embed="rId1"/>
          <a:stretch/>
        </p:blipFill>
        <p:spPr>
          <a:xfrm>
            <a:off x="179280" y="0"/>
            <a:ext cx="8856720" cy="6877080"/>
          </a:xfrm>
          <a:prstGeom prst="rect">
            <a:avLst/>
          </a:prstGeom>
          <a:ln w="0">
            <a:noFill/>
          </a:ln>
        </p:spPr>
      </p:pic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8930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космической обсерватори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H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работают различные приборы, в том числ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C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C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3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ормация с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H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оступает на Землю в режиме реального времен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3" name="Рисунок 7" descr="Сохо"/>
          <p:cNvPicPr/>
          <p:nvPr/>
        </p:nvPicPr>
        <p:blipFill>
          <a:blip r:embed="rId1"/>
          <a:stretch/>
        </p:blipFill>
        <p:spPr>
          <a:xfrm>
            <a:off x="468360" y="1962000"/>
            <a:ext cx="7991280" cy="4521240"/>
          </a:xfrm>
          <a:prstGeom prst="rect">
            <a:avLst/>
          </a:prstGeom>
          <a:ln w="0">
            <a:noFill/>
          </a:ln>
        </p:spPr>
      </p:pic>
      <p:sp>
        <p:nvSpPr>
          <p:cNvPr id="4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4:34:40Z</dcterms:created>
  <dc:creator>Vladimir A. Marchenko</dc:creator>
  <dc:description/>
  <dc:language>en-US</dc:language>
  <cp:lastModifiedBy>LEGION</cp:lastModifiedBy>
  <dcterms:modified xsi:type="dcterms:W3CDTF">2015-01-12T14:27:38Z</dcterms:modified>
  <cp:revision>36</cp:revision>
  <dc:subject/>
  <dc:title>Анализ влияния солнечной активности  на климат Зем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611000000000001023620</vt:lpwstr>
  </property>
</Properties>
</file>