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gif" ContentType="image/gif"/>
  <Override PartName="/ppt/media/image14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3.jpeg" ContentType="image/jpeg"/>
  <Override PartName="/ppt/media/image25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9A20-508E-4A82-8CFC-100EE55B59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нечная ак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2CD5-97B3-46C7-8C85-AB14E6DAD0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аектория космической обсерватории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4A31-46E8-40E0-BAA2-9C28E28A98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стра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5041-7034-47E2-A4E1-C1A4CBE633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ция с космической обсерватори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HO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поступает разнообразна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(разные температуры атмосферы Солнца в разных длинах вол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1893-44A7-40DD-BFFE-44BF7203334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солнечной активности на биосферу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2A28-22A0-4103-9E00-35683D94B4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нные мониторинга солнечной актив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рость солнечного ве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ярные си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магнитный индек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и солнечного ветра (плотность потока протонов, плотность потока электрон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ок рентгеновского изл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5D72-2D77-4F6E-B85E-EA48893EDF8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влияния солнечной актив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лимат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 погружена во внешнюю исключительно подвижную атмосферу Солнца и, следовательно, подвергается сильному влиянию «погоды» на Солнц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мическая обсерватори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одит 10 лет постоян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иторинг активности Солн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4786-F2F7-4397-9F71-7833C61C11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57EC-60C6-4A7B-8A99-F7F95AC65C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декс Вольфа за всю историю наблюдения Солн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EBBA-4790-4AF6-8CE1-72FF4799A2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нечными пят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7478-675B-4DEF-88EC-8D6FD0B6039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нечными вспыш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5E45-F360-4931-AE78-1FB54B1936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нечными протуберанц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7592-8FC7-4705-90E7-8C9F919C811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чале 11-летнего цикла солнечной активности, после минимума W: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ятна появляются вдали от экватора Солнца, на широтах примерно 3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чение цикла зона пятен спускается до 15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максимуме и до 8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ледующем миниму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ее на высотах более 3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разуются новые группы пят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8814-D18F-45FA-BF22-B36265E70D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осмической обсерватори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H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ботают различные приборы, в том числ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C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C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с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H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ступает на Землю в режиме реального времен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62B6-E914-4978-B62A-D87B3E5EE9D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5853-A7BF-4D81-90E1-2095C9FCA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A748-B121-4AE4-8679-91BF8849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8800-0F4F-43A1-B531-EC22A8F9C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F64C-B882-4EDC-9AD6-CA766DE16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BB89-FE15-43BD-811E-498EAFAB5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96EA-0B9A-4296-9322-7CEEE32E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93DC-FA13-4CC3-B69B-67A3B482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4A0C-30B5-4194-A41B-F242F30F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C7D4-F242-4917-AA51-D25A365A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A7E4-C91F-4063-AF16-5AEEC21B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69DE-2895-40B4-9749-2072F50A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57F9-5AB3-45A1-8A60-EB51D674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8878-61E7-4F6C-9D50-3033EDCD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1164-DF5A-482C-9214-0E4BF33A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98ED-E46C-46FB-B75C-AF91B78B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025B-A7D4-4325-9659-1D2DD618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0FDF-CCDF-4B6C-9CF3-DD97BD66B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4F9E6-A474-4CEA-B803-830F9DC89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4B791-9575-4205-A068-ED61DFC1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3CAEE-F642-4993-8755-79361820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BAE53-A432-4EED-B073-F293F0FD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EA2A1-EEC5-48D1-8D37-EE9E298F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24D2-AC19-42B2-8998-80565A17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5BA4E-C361-43E5-BAFC-7DDD7D2D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C58A7-68E1-4CC9-A3D6-3B7616E7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81FA0-160F-45D2-8F00-AB83FBD4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3F00D-C73F-4074-858C-567DF791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FD060-F517-4DB4-BD2B-F209D086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4C866-9F6B-4169-BC0F-8DF6FEF70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222FE-A42C-4D15-A6C7-CE7A16B7A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E9155-436D-41C4-A494-765F03519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9D268-0D4D-4A60-8468-BF4E0699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DA929-BACC-482B-B1EA-00D01CFE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5230-C123-4E10-A9B6-9D0159A8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BB41B-D631-42D5-8C59-3ADC5721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47D70-7730-4262-819F-E91D8C8B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CA8A9-34BE-4D6E-B08F-BC958596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9BDD9-59CA-4E6C-92EA-EEF12E67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3F6A8-CB9D-44AB-8727-39718BBF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D537F-217A-4F7D-87C6-C94FD5EA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A196C-8BDF-405F-B0F7-731F9A44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1AB2F-0FEB-4FF1-B431-769179CCF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30368-D0E7-47BA-BE0D-CBBF14428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33D0-80FE-4033-9466-52E44DED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620F-2872-4419-B990-41843670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D47A-3FB8-47D9-B10E-9AA73B52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8C21-2A2E-4CE7-8A8B-CEF14202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921E-D692-4245-B14C-3B29AC02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Полилиния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Полилиния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Полилиния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Полилиния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Полилиния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Полилиния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Полилиния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Полилиния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ADD1-AC52-4494-BA01-70BA869D58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ab"/>
            </a:gs>
            <a:gs pos="100000">
              <a:srgbClr val="dddcc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Группа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51" name="Группа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52" name="Группа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53" name="Полилиния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4" name="Группа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5" name="Полилиния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Полилиния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Полилиния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8" name="Группа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59" name="Полилиния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0" name="Группа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61" name="Полилиния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62" name="Группа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63" name="Линия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Линия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Линия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Линия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Линия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Линия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Линия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Линия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Линия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Линия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Линия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Линия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Линия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Линия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Линия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Линия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Линия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Линия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Линия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Линия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Линия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Линия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Линия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Линия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Линия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Линия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Линия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Линия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Линия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Линия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Линия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Линия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Линия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Линия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Линия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" name="Полилиния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99" name="Группа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100" name="Овал 52"/>
                          <p:cNvSpPr/>
                          <p:nvPr/>
                        </p:nvSpPr>
                        <p:spPr>
                          <a:xfrm rot="18780000">
                            <a:off x="2462400" y="448560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" name="Овал 53"/>
                          <p:cNvSpPr/>
                          <p:nvPr/>
                        </p:nvSpPr>
                        <p:spPr>
                          <a:xfrm rot="18780000">
                            <a:off x="2376360" y="429840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2" name="Овал 54"/>
                          <p:cNvSpPr/>
                          <p:nvPr/>
                        </p:nvSpPr>
                        <p:spPr>
                          <a:xfrm rot="18780000">
                            <a:off x="2256840" y="400176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3" name="Овал 55"/>
                          <p:cNvSpPr/>
                          <p:nvPr/>
                        </p:nvSpPr>
                        <p:spPr>
                          <a:xfrm rot="18780000">
                            <a:off x="2164680" y="374292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4" name="Овал 56"/>
                          <p:cNvSpPr/>
                          <p:nvPr/>
                        </p:nvSpPr>
                        <p:spPr>
                          <a:xfrm rot="18780000">
                            <a:off x="2063880" y="3426120"/>
                            <a:ext cx="1247760" cy="2329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5" name="Овал 57"/>
                          <p:cNvSpPr/>
                          <p:nvPr/>
                        </p:nvSpPr>
                        <p:spPr>
                          <a:xfrm rot="18780000">
                            <a:off x="1975320" y="317196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" name="Овал 58"/>
                          <p:cNvSpPr/>
                          <p:nvPr/>
                        </p:nvSpPr>
                        <p:spPr>
                          <a:xfrm rot="18780000">
                            <a:off x="1850040" y="2891160"/>
                            <a:ext cx="185292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" name="Овал 59"/>
                          <p:cNvSpPr/>
                          <p:nvPr/>
                        </p:nvSpPr>
                        <p:spPr>
                          <a:xfrm rot="18780000">
                            <a:off x="1733040" y="262872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8" name="Овал 60"/>
                          <p:cNvSpPr/>
                          <p:nvPr/>
                        </p:nvSpPr>
                        <p:spPr>
                          <a:xfrm rot="18780000">
                            <a:off x="1599120" y="236916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9" name="Овал 61"/>
                          <p:cNvSpPr/>
                          <p:nvPr/>
                        </p:nvSpPr>
                        <p:spPr>
                          <a:xfrm rot="18780000">
                            <a:off x="1495800" y="2084760"/>
                            <a:ext cx="2716200" cy="4788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0" name="Овал 62"/>
                          <p:cNvSpPr/>
                          <p:nvPr/>
                        </p:nvSpPr>
                        <p:spPr>
                          <a:xfrm rot="18734400">
                            <a:off x="1402200" y="181836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" name="Овал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12" name="Линия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Линия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Линия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Линия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Линия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Линия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Линия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Линия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Линия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Линия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Линия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Линия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Линия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Линия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Линия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Линия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Линия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Линия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Линия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" name="Линия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" name="Линия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" name="Линия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" name="Линия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5" name="Линия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Линия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7" name="Линия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" name="Линия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9" name="Линия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0" name="Линия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1" name="Линия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2" name="Линия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" name="Линия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" name="Линия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Линия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" name="Линия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" name="Линия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48" name="Группа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49" name="Линия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Линия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1" name="Группа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52" name="Линия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Полилиния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Линия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Линия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Линия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Линия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Линия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Линия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Линия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1" name="Группа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62" name="Полилиния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Полилиния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Прямоуг.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Прямоуг.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Прямоуг. 118"/>
              <p:cNvSpPr/>
              <p:nvPr/>
            </p:nvSpPr>
            <p:spPr>
              <a:xfrm rot="18182400">
                <a:off x="1610640" y="428364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Прямоуг.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8" name="Группа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69" name="Овал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Полилиния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Полилиния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Полилиния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Полилиния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4" name="PlaceHolder 1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B6F3-C915-4540-9F4F-67ABB7E68F0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Группа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16" name="Полилиния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bb5f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Полилиния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Полилиния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Полилиния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Полилиния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Полилиния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4C4E-E474-4EF7-8B09-3690F9AE5E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ab"/>
            </a:gs>
            <a:gs pos="100000">
              <a:srgbClr val="dddcc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Группа 2"/>
          <p:cNvGrpSpPr/>
          <p:nvPr/>
        </p:nvGrpSpPr>
        <p:grpSpPr>
          <a:xfrm>
            <a:off x="-310680" y="798480"/>
            <a:ext cx="7080840" cy="6858360"/>
            <a:chOff x="-310680" y="798480"/>
            <a:chExt cx="7080840" cy="6858360"/>
          </a:xfrm>
        </p:grpSpPr>
        <p:grpSp>
          <p:nvGrpSpPr>
            <p:cNvPr id="264" name="Группа 3"/>
            <p:cNvGrpSpPr/>
            <p:nvPr/>
          </p:nvGrpSpPr>
          <p:grpSpPr>
            <a:xfrm>
              <a:off x="-310680" y="798480"/>
              <a:ext cx="7080840" cy="6858360"/>
              <a:chOff x="-310680" y="798480"/>
              <a:chExt cx="7080840" cy="6858360"/>
            </a:xfrm>
          </p:grpSpPr>
          <p:grpSp>
            <p:nvGrpSpPr>
              <p:cNvPr id="265" name="Группа 4"/>
              <p:cNvGrpSpPr/>
              <p:nvPr/>
            </p:nvGrpSpPr>
            <p:grpSpPr>
              <a:xfrm>
                <a:off x="-310680" y="798480"/>
                <a:ext cx="7080840" cy="6858360"/>
                <a:chOff x="-310680" y="798480"/>
                <a:chExt cx="7080840" cy="6858360"/>
              </a:xfrm>
            </p:grpSpPr>
            <p:sp>
              <p:nvSpPr>
                <p:cNvPr id="266" name="Полилиния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Группа 6"/>
                <p:cNvGrpSpPr/>
                <p:nvPr/>
              </p:nvGrpSpPr>
              <p:grpSpPr>
                <a:xfrm>
                  <a:off x="-310680" y="798480"/>
                  <a:ext cx="7080840" cy="6858360"/>
                  <a:chOff x="-310680" y="798480"/>
                  <a:chExt cx="7080840" cy="6858360"/>
                </a:xfrm>
              </p:grpSpPr>
              <p:sp>
                <p:nvSpPr>
                  <p:cNvPr id="268" name="Полилиния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Полилиния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Полилиния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1" name="Группа 10"/>
                  <p:cNvGrpSpPr/>
                  <p:nvPr/>
                </p:nvGrpSpPr>
                <p:grpSpPr>
                  <a:xfrm>
                    <a:off x="-310680" y="798480"/>
                    <a:ext cx="7080840" cy="6858360"/>
                    <a:chOff x="-310680" y="798480"/>
                    <a:chExt cx="7080840" cy="6858360"/>
                  </a:xfrm>
                </p:grpSpPr>
                <p:sp>
                  <p:nvSpPr>
                    <p:cNvPr id="272" name="Полилиния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3" name="Группа 166"/>
                    <p:cNvGrpSpPr/>
                    <p:nvPr/>
                  </p:nvGrpSpPr>
                  <p:grpSpPr>
                    <a:xfrm>
                      <a:off x="-310680" y="805680"/>
                      <a:ext cx="7071120" cy="6851160"/>
                      <a:chOff x="-310680" y="805680"/>
                      <a:chExt cx="7071120" cy="6851160"/>
                    </a:xfrm>
                  </p:grpSpPr>
                  <p:sp>
                    <p:nvSpPr>
                      <p:cNvPr id="274" name="Полилиния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75" name="Группа 14"/>
                      <p:cNvGrpSpPr/>
                      <p:nvPr/>
                    </p:nvGrpSpPr>
                    <p:grpSpPr>
                      <a:xfrm>
                        <a:off x="-310680" y="805680"/>
                        <a:ext cx="7071120" cy="6851160"/>
                        <a:chOff x="-310680" y="805680"/>
                        <a:chExt cx="7071120" cy="6851160"/>
                      </a:xfrm>
                    </p:grpSpPr>
                    <p:sp>
                      <p:nvSpPr>
                        <p:cNvPr id="276" name="Линия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7" name="Линия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8" name="Линия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9" name="Линия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" name="Линия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" name="Линия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" name="Линия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3" name="Линия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4" name="Линия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5" name="Линия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6" name="Линия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7" name="Линия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" name="Линия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" name="Линия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0" name="Линия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1" name="Линия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2" name="Линия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3" name="Линия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4" name="Линия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" name="Линия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" name="Линия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" name="Линия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Линия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9" name="Линия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0" name="Линия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1" name="Линия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2" name="Линия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3" name="Линия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4" name="Линия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5" name="Линия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6" name="Линия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7" name="Линия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8" name="Линия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9" name="Линия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0" name="Линия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1" name="Полилиния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12" name="Группа 51"/>
                        <p:cNvGrpSpPr/>
                        <p:nvPr/>
                      </p:nvGrpSpPr>
                      <p:grpSpPr>
                        <a:xfrm>
                          <a:off x="-310680" y="1279080"/>
                          <a:ext cx="6462720" cy="6377760"/>
                          <a:chOff x="-310680" y="1279080"/>
                          <a:chExt cx="6462720" cy="6377760"/>
                        </a:xfrm>
                      </p:grpSpPr>
                      <p:sp>
                        <p:nvSpPr>
                          <p:cNvPr id="313" name="Овал 52"/>
                          <p:cNvSpPr/>
                          <p:nvPr/>
                        </p:nvSpPr>
                        <p:spPr>
                          <a:xfrm rot="18780000">
                            <a:off x="2448360" y="451728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4" name="Овал 53"/>
                          <p:cNvSpPr/>
                          <p:nvPr/>
                        </p:nvSpPr>
                        <p:spPr>
                          <a:xfrm rot="18780000">
                            <a:off x="2357280" y="433008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5" name="Овал 54"/>
                          <p:cNvSpPr/>
                          <p:nvPr/>
                        </p:nvSpPr>
                        <p:spPr>
                          <a:xfrm rot="18780000">
                            <a:off x="2237760" y="403344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6" name="Овал 55"/>
                          <p:cNvSpPr/>
                          <p:nvPr/>
                        </p:nvSpPr>
                        <p:spPr>
                          <a:xfrm rot="18780000">
                            <a:off x="2145600" y="377460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7" name="Овал 56"/>
                          <p:cNvSpPr/>
                          <p:nvPr/>
                        </p:nvSpPr>
                        <p:spPr>
                          <a:xfrm rot="18780000">
                            <a:off x="2046600" y="345816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8" name="Овал 57"/>
                          <p:cNvSpPr/>
                          <p:nvPr/>
                        </p:nvSpPr>
                        <p:spPr>
                          <a:xfrm rot="18780000">
                            <a:off x="1956240" y="320364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9" name="Овал 58"/>
                          <p:cNvSpPr/>
                          <p:nvPr/>
                        </p:nvSpPr>
                        <p:spPr>
                          <a:xfrm rot="18780000">
                            <a:off x="1832400" y="2922840"/>
                            <a:ext cx="185292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0" name="Овал 59"/>
                          <p:cNvSpPr/>
                          <p:nvPr/>
                        </p:nvSpPr>
                        <p:spPr>
                          <a:xfrm rot="18780000">
                            <a:off x="1713960" y="266040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1" name="Овал 60"/>
                          <p:cNvSpPr/>
                          <p:nvPr/>
                        </p:nvSpPr>
                        <p:spPr>
                          <a:xfrm rot="18780000">
                            <a:off x="1581480" y="2400840"/>
                            <a:ext cx="2481120" cy="4280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2" name="Овал 61"/>
                          <p:cNvSpPr/>
                          <p:nvPr/>
                        </p:nvSpPr>
                        <p:spPr>
                          <a:xfrm rot="18780000">
                            <a:off x="1476720" y="2116440"/>
                            <a:ext cx="2716200" cy="4788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3" name="Овал 62"/>
                          <p:cNvSpPr/>
                          <p:nvPr/>
                        </p:nvSpPr>
                        <p:spPr>
                          <a:xfrm rot="18734400">
                            <a:off x="1383120" y="185004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4" name="Овал 63"/>
                          <p:cNvSpPr/>
                          <p:nvPr/>
                        </p:nvSpPr>
                        <p:spPr>
                          <a:xfrm rot="18819600">
                            <a:off x="1294200" y="155304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25" name="Линия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Линия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7" name="Линия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Линия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Линия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0" name="Линия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1" name="Линия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2" name="Линия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3" name="Линия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4" name="Линия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5" name="Линия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6" name="Линия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7" name="Линия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8" name="Линия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9" name="Линия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0" name="Линия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1" name="Линия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2" name="Линия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3" name="Линия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4" name="Линия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5" name="Линия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6" name="Линия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7" name="Линия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8" name="Линия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9" name="Линия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0" name="Линия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1" name="Линия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2" name="Линия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3" name="Линия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4" name="Линия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5" name="Линия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6" name="Линия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7" name="Линия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8" name="Линия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9" name="Линия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0" name="Линия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361" name="Группа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362" name="Линия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Линия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64" name="Группа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365" name="Линия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Полилиния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Линия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Линия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Линия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Линия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Линия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Линия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Линия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74" name="Группа 113"/>
            <p:cNvGrpSpPr/>
            <p:nvPr/>
          </p:nvGrpSpPr>
          <p:grpSpPr>
            <a:xfrm>
              <a:off x="1800" y="2141280"/>
              <a:ext cx="5230440" cy="4680000"/>
              <a:chOff x="1800" y="2141280"/>
              <a:chExt cx="5230440" cy="4680000"/>
            </a:xfrm>
          </p:grpSpPr>
          <p:sp>
            <p:nvSpPr>
              <p:cNvPr id="375" name="Полилиния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Полилиния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Прямоуг.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Прямоуг.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Прямоуг.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Прямоуг.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1" name="Группа 120"/>
              <p:cNvGrpSpPr/>
              <p:nvPr/>
            </p:nvGrpSpPr>
            <p:grpSpPr>
              <a:xfrm>
                <a:off x="4738320" y="2141280"/>
                <a:ext cx="493920" cy="494280"/>
                <a:chOff x="4738320" y="2141280"/>
                <a:chExt cx="493920" cy="494280"/>
              </a:xfrm>
            </p:grpSpPr>
            <p:sp>
              <p:nvSpPr>
                <p:cNvPr id="382" name="Овал 121"/>
                <p:cNvSpPr/>
                <p:nvPr/>
              </p:nvSpPr>
              <p:spPr>
                <a:xfrm rot="2828400">
                  <a:off x="4754160" y="236700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Полилиния 122"/>
                <p:cNvSpPr/>
                <p:nvPr/>
              </p:nvSpPr>
              <p:spPr>
                <a:xfrm>
                  <a:off x="4852440" y="2263320"/>
                  <a:ext cx="25200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Полилиния 123"/>
                <p:cNvSpPr/>
                <p:nvPr/>
              </p:nvSpPr>
              <p:spPr>
                <a:xfrm>
                  <a:off x="4935240" y="2254320"/>
                  <a:ext cx="18144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Полилиния 124"/>
                <p:cNvSpPr/>
                <p:nvPr/>
              </p:nvSpPr>
              <p:spPr>
                <a:xfrm>
                  <a:off x="4999320" y="2148840"/>
                  <a:ext cx="22752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Полилиния 125"/>
                <p:cNvSpPr/>
                <p:nvPr/>
              </p:nvSpPr>
              <p:spPr>
                <a:xfrm>
                  <a:off x="514368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AEFA-B078-43AB-9B1B-2B4FED00903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856880" y="785520"/>
            <a:ext cx="600084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eec94"/>
                </a:solidFill>
                <a:latin typeface="Arial Black"/>
              </a:rPr>
              <a:t>Солнечная активность</a:t>
            </a:r>
            <a:endParaRPr b="1" lang="en-US" sz="6000" spc="-1" strike="noStrike">
              <a:solidFill>
                <a:srgbClr val="feec94"/>
              </a:solidFill>
              <a:latin typeface="Arial Black"/>
            </a:endParaRPr>
          </a:p>
        </p:txBody>
      </p:sp>
      <p:pic>
        <p:nvPicPr>
          <p:cNvPr id="436" name="Рисунок 4" descr="febcme_sohoc2"/>
          <p:cNvPicPr/>
          <p:nvPr/>
        </p:nvPicPr>
        <p:blipFill>
          <a:blip r:embed="rId1"/>
          <a:stretch/>
        </p:blipFill>
        <p:spPr>
          <a:xfrm>
            <a:off x="2643120" y="3214800"/>
            <a:ext cx="3492720" cy="2762280"/>
          </a:xfrm>
          <a:prstGeom prst="rect">
            <a:avLst/>
          </a:prstGeom>
          <a:ln w="0">
            <a:noFill/>
          </a:ln>
        </p:spPr>
      </p:pic>
      <p:sp>
        <p:nvSpPr>
          <p:cNvPr id="43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7" name="Рисунок 4" descr="Сохо орбита"/>
          <p:cNvPicPr/>
          <p:nvPr/>
        </p:nvPicPr>
        <p:blipFill>
          <a:blip r:embed="rId1"/>
          <a:stretch/>
        </p:blipFill>
        <p:spPr>
          <a:xfrm>
            <a:off x="179280" y="133200"/>
            <a:ext cx="8785440" cy="6591600"/>
          </a:xfrm>
          <a:prstGeom prst="rect">
            <a:avLst/>
          </a:prstGeom>
          <a:ln w="0">
            <a:noFill/>
          </a:ln>
        </p:spPr>
      </p:pic>
      <p:sp>
        <p:nvSpPr>
          <p:cNvPr id="4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Рисунок 3" descr="soho траектория"/>
          <p:cNvPicPr/>
          <p:nvPr/>
        </p:nvPicPr>
        <p:blipFill>
          <a:blip r:embed="rId1"/>
          <a:stretch/>
        </p:blipFill>
        <p:spPr>
          <a:xfrm>
            <a:off x="2736720" y="189000"/>
            <a:ext cx="6156360" cy="64087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249800" cy="228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раектория космической обсерватории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лавная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Рисунок 5" descr="Загрузочная страница"/>
          <p:cNvPicPr/>
          <p:nvPr/>
        </p:nvPicPr>
        <p:blipFill>
          <a:blip r:embed="rId1"/>
          <a:stretch/>
        </p:blipFill>
        <p:spPr>
          <a:xfrm>
            <a:off x="1332000" y="1628640"/>
            <a:ext cx="6495840" cy="5029200"/>
          </a:xfrm>
          <a:prstGeom prst="rect">
            <a:avLst/>
          </a:prstGeom>
          <a:ln w="0">
            <a:noFill/>
          </a:ln>
        </p:spPr>
      </p:pic>
      <p:sp>
        <p:nvSpPr>
          <p:cNvPr id="4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7" name="Рисунок 4" descr="Станция COХ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формация с космической обсерватори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HO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оступает разнообразна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разные температуры атмосферы Солнца в разных длинах вол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Рисунок 3" descr="sohoopen"/>
          <p:cNvPicPr/>
          <p:nvPr/>
        </p:nvPicPr>
        <p:blipFill>
          <a:blip r:embed="rId1"/>
          <a:stretch/>
        </p:blipFill>
        <p:spPr>
          <a:xfrm>
            <a:off x="4572000" y="2421000"/>
            <a:ext cx="4500720" cy="4282920"/>
          </a:xfrm>
          <a:prstGeom prst="rect">
            <a:avLst/>
          </a:prstGeom>
          <a:ln w="0">
            <a:noFill/>
          </a:ln>
        </p:spPr>
      </p:pic>
      <p:pic>
        <p:nvPicPr>
          <p:cNvPr id="481" name="Рисунок 4" descr="20041231_0100_eit_171"/>
          <p:cNvPicPr/>
          <p:nvPr/>
        </p:nvPicPr>
        <p:blipFill>
          <a:blip r:embed="rId2"/>
          <a:stretch/>
        </p:blipFill>
        <p:spPr>
          <a:xfrm>
            <a:off x="1619280" y="2565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82" name="Рисунок 5" descr="20041231_0106_eit_284"/>
          <p:cNvPicPr/>
          <p:nvPr/>
        </p:nvPicPr>
        <p:blipFill>
          <a:blip r:embed="rId3"/>
          <a:stretch/>
        </p:blipFill>
        <p:spPr>
          <a:xfrm>
            <a:off x="3203640" y="25653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83" name="Рисунок 6" descr="20041231_0119_eit_304"/>
          <p:cNvPicPr/>
          <p:nvPr/>
        </p:nvPicPr>
        <p:blipFill>
          <a:blip r:embed="rId4"/>
          <a:stretch/>
        </p:blipFill>
        <p:spPr>
          <a:xfrm>
            <a:off x="179280" y="2565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84" name="Рисунок 7" descr="20041231_0542_c3"/>
          <p:cNvPicPr/>
          <p:nvPr/>
        </p:nvPicPr>
        <p:blipFill>
          <a:blip r:embed="rId5"/>
          <a:stretch/>
        </p:blipFill>
        <p:spPr>
          <a:xfrm>
            <a:off x="250920" y="407664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85" name="Рисунок 8" descr="20041231_0548_eit_195"/>
          <p:cNvPicPr/>
          <p:nvPr/>
        </p:nvPicPr>
        <p:blipFill>
          <a:blip r:embed="rId6"/>
          <a:stretch/>
        </p:blipFill>
        <p:spPr>
          <a:xfrm>
            <a:off x="3276720" y="407664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86" name="Рисунок 9" descr="20041231_0554_c2"/>
          <p:cNvPicPr/>
          <p:nvPr/>
        </p:nvPicPr>
        <p:blipFill>
          <a:blip r:embed="rId7"/>
          <a:stretch/>
        </p:blipFill>
        <p:spPr>
          <a:xfrm>
            <a:off x="1692360" y="407664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87" name="Рисунок 10" descr="20050101_1424_mdi_igr"/>
          <p:cNvPicPr/>
          <p:nvPr/>
        </p:nvPicPr>
        <p:blipFill>
          <a:blip r:embed="rId8"/>
          <a:stretch/>
        </p:blipFill>
        <p:spPr>
          <a:xfrm>
            <a:off x="1763640" y="54450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Рисунок 4" descr="Ласко"/>
          <p:cNvPicPr/>
          <p:nvPr/>
        </p:nvPicPr>
        <p:blipFill>
          <a:blip r:embed="rId1"/>
          <a:stretch/>
        </p:blipFill>
        <p:spPr>
          <a:xfrm>
            <a:off x="1174680" y="0"/>
            <a:ext cx="6794640" cy="6858000"/>
          </a:xfrm>
          <a:prstGeom prst="rect">
            <a:avLst/>
          </a:prstGeom>
          <a:ln w="0">
            <a:noFill/>
          </a:ln>
        </p:spPr>
      </p:pic>
      <p:sp>
        <p:nvSpPr>
          <p:cNvPr id="4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лияние солнечной активности на биосферу Зем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Рисунок 3" descr="268648_s"/>
          <p:cNvPicPr/>
          <p:nvPr/>
        </p:nvPicPr>
        <p:blipFill>
          <a:blip r:embed="rId1"/>
          <a:stretch/>
        </p:blipFill>
        <p:spPr>
          <a:xfrm>
            <a:off x="128520" y="2421000"/>
            <a:ext cx="3827520" cy="3887640"/>
          </a:xfrm>
          <a:prstGeom prst="rect">
            <a:avLst/>
          </a:prstGeom>
          <a:ln w="0">
            <a:noFill/>
          </a:ln>
        </p:spPr>
      </p:pic>
      <p:pic>
        <p:nvPicPr>
          <p:cNvPr id="493" name="Рисунок 4" descr="sunearth_01G"/>
          <p:cNvPicPr/>
          <p:nvPr/>
        </p:nvPicPr>
        <p:blipFill>
          <a:blip r:embed="rId2"/>
          <a:stretch/>
        </p:blipFill>
        <p:spPr>
          <a:xfrm>
            <a:off x="4284720" y="2421000"/>
            <a:ext cx="4819680" cy="3770280"/>
          </a:xfrm>
          <a:prstGeom prst="rect">
            <a:avLst/>
          </a:prstGeom>
          <a:ln w="0">
            <a:noFill/>
          </a:ln>
        </p:spPr>
      </p:pic>
      <p:sp>
        <p:nvSpPr>
          <p:cNvPr id="4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анные мониторинга солнечной активнос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корость солнечного вет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ярные сия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еомагнитный индек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арактеристики солнечного ветра (плотность потока протонов, плотность потока электронов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ток рентгеновского излуч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0" name="Рисунок 4" descr="Станция СОХ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Рисунок 2" descr="pmapN_ 17_01_1603"/>
          <p:cNvPicPr/>
          <p:nvPr/>
        </p:nvPicPr>
        <p:blipFill>
          <a:blip r:embed="rId1"/>
          <a:stretch/>
        </p:blipFill>
        <p:spPr>
          <a:xfrm>
            <a:off x="755640" y="0"/>
            <a:ext cx="7740720" cy="6880320"/>
          </a:xfrm>
          <a:prstGeom prst="rect">
            <a:avLst/>
          </a:prstGeom>
          <a:ln w="0">
            <a:noFill/>
          </a:ln>
        </p:spPr>
      </p:pic>
      <p:sp>
        <p:nvSpPr>
          <p:cNvPr id="5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000000"/>
                </a:solidFill>
                <a:latin typeface="Arial"/>
              </a:rPr>
              <a:t>Анализ влияния солнечной активности </a:t>
            </a:r>
            <a:br>
              <a:rPr sz="5100"/>
            </a:br>
            <a:r>
              <a:rPr b="0" lang="ru-RU" sz="5100" spc="-1" strike="noStrike">
                <a:solidFill>
                  <a:srgbClr val="000000"/>
                </a:solidFill>
                <a:latin typeface="Arial"/>
              </a:rPr>
              <a:t>на климат Земли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0" y="2924280"/>
            <a:ext cx="914400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емля погружена во внешнюю исключительно подвижную атмосферу Солнца и, следовательно, подвергается сильному влиянию «погоды» на Солнц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смическая обсерватория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H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одит 10 лет постоянны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ниторинг активности Солнц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52472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декс Вольфа за всю историю наблюдения Солн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Рисунок 3" descr="380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лнечными пятн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6" name="Рисунок 4" descr="20031029_0136_mdi_igr"/>
          <p:cNvPicPr/>
          <p:nvPr/>
        </p:nvPicPr>
        <p:blipFill>
          <a:blip r:embed="rId1"/>
          <a:stretch/>
        </p:blipFill>
        <p:spPr>
          <a:xfrm>
            <a:off x="539640" y="270828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5" descr="20050115_1736_mdi_igr"/>
          <p:cNvPicPr/>
          <p:nvPr/>
        </p:nvPicPr>
        <p:blipFill>
          <a:blip r:embed="rId2"/>
          <a:stretch/>
        </p:blipFill>
        <p:spPr>
          <a:xfrm>
            <a:off x="4788000" y="2708280"/>
            <a:ext cx="3960720" cy="3960720"/>
          </a:xfrm>
          <a:prstGeom prst="rect">
            <a:avLst/>
          </a:prstGeom>
          <a:ln w="0">
            <a:noFill/>
          </a:ln>
        </p:spPr>
      </p:pic>
      <p:sp>
        <p:nvSpPr>
          <p:cNvPr id="4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лнечными вспышк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1" name="Рисунок 4" descr="eit195"/>
          <p:cNvPicPr/>
          <p:nvPr/>
        </p:nvPicPr>
        <p:blipFill>
          <a:blip r:embed="rId1"/>
          <a:stretch/>
        </p:blipFill>
        <p:spPr>
          <a:xfrm>
            <a:off x="1258920" y="2997360"/>
            <a:ext cx="6840360" cy="3421080"/>
          </a:xfrm>
          <a:prstGeom prst="rect">
            <a:avLst/>
          </a:prstGeom>
          <a:ln w="0">
            <a:noFill/>
          </a:ln>
        </p:spPr>
      </p:pic>
      <p:sp>
        <p:nvSpPr>
          <p:cNvPr id="4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36280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8920" y="2133360"/>
            <a:ext cx="403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лнечными протуберанц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5" name="Рисунок 4" descr="Солнце"/>
          <p:cNvPicPr/>
          <p:nvPr/>
        </p:nvPicPr>
        <p:blipFill>
          <a:blip r:embed="rId1"/>
          <a:stretch/>
        </p:blipFill>
        <p:spPr>
          <a:xfrm>
            <a:off x="4284720" y="2190600"/>
            <a:ext cx="4859280" cy="4667400"/>
          </a:xfrm>
          <a:prstGeom prst="rect">
            <a:avLst/>
          </a:prstGeom>
          <a:ln w="0">
            <a:noFill/>
          </a:ln>
        </p:spPr>
      </p:pic>
      <p:sp>
        <p:nvSpPr>
          <p:cNvPr id="4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68680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начале 11-летнего цикла солнечной активности, после минимума W: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ятна появляются вдали от экватора Солнца, на широтах примерно 30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течение цикла зона пятен спускается до 15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 максимуме и до 8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ледующем минимум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лее на высотах более 30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бразуются новые группы пятен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Рисунок 2" descr="bfly"/>
          <p:cNvPicPr/>
          <p:nvPr/>
        </p:nvPicPr>
        <p:blipFill>
          <a:blip r:embed="rId1"/>
          <a:stretch/>
        </p:blipFill>
        <p:spPr>
          <a:xfrm>
            <a:off x="179280" y="0"/>
            <a:ext cx="8856720" cy="6877080"/>
          </a:xfrm>
          <a:prstGeom prst="rect">
            <a:avLst/>
          </a:prstGeom>
          <a:ln w="0">
            <a:noFill/>
          </a:ln>
        </p:spPr>
      </p:pic>
      <p:sp>
        <p:nvSpPr>
          <p:cNvPr id="4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889308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 космической обсерватори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HO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работают различные приборы, в том числе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CO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CO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3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формация с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HO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оступает на Землю в режиме реального времен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3" name="Рисунок 7" descr="Сохо"/>
          <p:cNvPicPr/>
          <p:nvPr/>
        </p:nvPicPr>
        <p:blipFill>
          <a:blip r:embed="rId1"/>
          <a:stretch/>
        </p:blipFill>
        <p:spPr>
          <a:xfrm>
            <a:off x="468360" y="1962000"/>
            <a:ext cx="7991280" cy="4521240"/>
          </a:xfrm>
          <a:prstGeom prst="rect">
            <a:avLst/>
          </a:prstGeom>
          <a:ln w="0">
            <a:noFill/>
          </a:ln>
        </p:spPr>
      </p:pic>
      <p:sp>
        <p:nvSpPr>
          <p:cNvPr id="4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4:34:40Z</dcterms:created>
  <dc:creator>Vladimir A. Marchenko</dc:creator>
  <dc:description/>
  <dc:language>en-US</dc:language>
  <cp:lastModifiedBy>LEGION</cp:lastModifiedBy>
  <dcterms:modified xsi:type="dcterms:W3CDTF">2015-01-12T14:27:38Z</dcterms:modified>
  <cp:revision>36</cp:revision>
  <dc:subject/>
  <dc:title>Анализ влияния солнечной активности  на климат Земл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611000000000001023620</vt:lpwstr>
  </property>
</Properties>
</file>