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6555-B19F-4026-A759-72D887AEAE8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XX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ек космонав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6CF7-DA86-4DFE-816A-ED6093EC162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Космос народному хозяйст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осмонавтика играет все большую роль в нашей жизни, принося ощутимый экономический эффект, используемый для решения многих народно-хозяйствен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D591-1CCC-4B9D-9094-F372BFE532F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первы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 ми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«Человечество не останется вечно на Земле, но, в погоне за светом и пространством, сначала робко проникнет за пределы атмосферы, а затем завоюет себе всё околосолнеч-ное пространство.»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К.Э. Циол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D4A1-23EA-4E0E-A9DA-DF31E50D610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К.Э. Циолков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Выдающийся русский ученый впервые в истории человечества разработал теорию проникновения в космическое простр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0F38-AE96-4293-9E74-83745B035E9F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Calibri"/>
              </a:rPr>
              <a:t>4 октября 1957 г.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Начало космической э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Благодаря работе ученых С.П. Королева и М.В. Келдыша впервые в истории мира на орбите оказался первый искус-ственный спутник Земли. На борту второго спутника было живое существо – собака Лайк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B2F4-76C4-4CE3-8C04-5285FD0DEAD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12 апреля 1961 г.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ервый полет человека в косм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Юрий Алексеевич Гагарин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за 108 минут совершил кругосветное космическое путешествие.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Этот день стал Днем космонавтики, который отмечают на всех континентах Земли.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D64F-A20E-4CED-8768-77690CF5AE0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Первый групповой полет в косм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Впервые над планетой летели сразу два космических корабля «Восток-3» «Восток-4» которые установили между собой ус тойчивую радиосвязь. В это время из космоса впервые велись телевизионные пере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F3A1-7B15-4CD6-8394-C7FC9C39F08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Первый полет женщины в космо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Женщина в космосе! Впервые в мире на околоземной орбите оказалась Валентина Владимировна Терешкова. «Чайка» - такой позывной Терешковой – летала в космосе около 70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41B4-F865-4492-9744-50202E4F2ED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ервый выход человека в косм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Во время полета космического корабля «Восход-2» на втором витке вокруг Земли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                  А.А. Леонов в специальном скафандре с автономной системой жизнеобеспечения впервые в мире вышел из корабля в космическое простра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481B-20D6-46A6-B6FF-A63F4C2E629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сследование Лу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Самым популярным космическим автоматом стал «Луноход-1» - первый в истории передвигающийся аппарат, доставленный на Луну станцией «Луна-17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23B3-4E32-4E5C-BA6B-B22C3B3A0CB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6676-8F92-449A-92B9-18DEBC12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08C7-E9C0-4CCF-9E16-A804F4AE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1711-ECD3-473E-8BE0-6FE4564A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B400-76BF-431B-88E3-E5175B31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C69D-30A3-4C09-89FB-1F0933DB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FEAC-9372-41C9-B659-9FEAEBB8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8E8A-A42C-4356-ABD3-0E15CEB1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0563-413F-4ECF-BAAD-4E89E570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0DB1-9159-4EAB-8CC0-1C107795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B8B3-26E6-4B86-AAAC-9FBBF247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22A5-5826-42F6-981D-72B689A1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F8D-1843-4AA2-A7DC-C73EF3D9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1274-C3F3-4050-92AF-02D9F608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3EED-EDCB-495F-A8F9-1381530F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305B-A125-4FB3-AC54-741F3E9A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531B-162F-40D6-A814-DABAE28B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3969-C810-4F86-9310-E71E3430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83F0-64E1-4E44-B079-6E41CF76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CE91-333B-408E-99AB-B2BC2482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0D2-7C62-4D4A-8AAE-ED0CB2F2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9C62-3D1B-4363-8C72-D89D9C2F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BE9E-37EF-4C83-9067-BBAD39ED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B20B-D3F3-407A-A7BE-F3F127A7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D768-97E4-4A08-ACD1-897FECDA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1027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1029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1030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E73F-E52C-4BC8-92F0-9F7C437CF5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6E23-A070-4940-AF33-A36163392483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APOLLO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5"/>
          <p:cNvSpPr txBox="1"/>
          <p:nvPr/>
        </p:nvSpPr>
        <p:spPr>
          <a:xfrm>
            <a:off x="609480" y="1066680"/>
            <a:ext cx="784872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XX ве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ек космонавти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9" descr="Копия (6) KB1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8120" y="456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Космос народному хозяйству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00400" y="1980720"/>
            <a:ext cx="556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осмонавтика играет все большую роль в нашей жизни, принося ощутимый экономический эффект, используемый для решения многих народно-хозяйственных задач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Picture 8" descr="Копия (6) сканирование0017"/>
          <p:cNvPicPr/>
          <p:nvPr/>
        </p:nvPicPr>
        <p:blipFill>
          <a:blip r:embed="rId2"/>
          <a:stretch/>
        </p:blipFill>
        <p:spPr>
          <a:xfrm>
            <a:off x="304920" y="380880"/>
            <a:ext cx="2635200" cy="6207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SB91011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Копия (4) сканирование0006"/>
          <p:cNvPicPr/>
          <p:nvPr/>
        </p:nvPicPr>
        <p:blipFill>
          <a:blip r:embed="rId2"/>
          <a:stretch/>
        </p:blipFill>
        <p:spPr>
          <a:xfrm>
            <a:off x="380880" y="304920"/>
            <a:ext cx="2749680" cy="6264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81280" y="6091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первые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 мире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809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«Человечество не останется вечно на Земле, но, в погоне за светом и пространством, сначала робко проникнет за пределы атмосферы, а затем завоюет себе всё околосолнеч-ное пространство.»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К.Э. Циолковски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1" descr="Копия (5) KB1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К.Э. Циолковский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2971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Выдающийся русский ученый впервые в истории человечества разработал теорию проникновения в космическое пространств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6" descr="Копия (2) сканирование0007"/>
          <p:cNvPicPr/>
          <p:nvPr/>
        </p:nvPicPr>
        <p:blipFill>
          <a:blip r:embed="rId2"/>
          <a:stretch/>
        </p:blipFill>
        <p:spPr>
          <a:xfrm>
            <a:off x="457200" y="2819520"/>
            <a:ext cx="2900520" cy="358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Копия сканирование0008"/>
          <p:cNvPicPr/>
          <p:nvPr/>
        </p:nvPicPr>
        <p:blipFill>
          <a:blip r:embed="rId3"/>
          <a:stretch/>
        </p:blipFill>
        <p:spPr>
          <a:xfrm>
            <a:off x="2819520" y="1447920"/>
            <a:ext cx="2666880" cy="39621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7060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880" y="1066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imes New Roman"/>
              </a:rPr>
              <a:t>4 октября 1957 г. 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Начало космической эры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038120" y="2286000"/>
            <a:ext cx="4800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Благодаря работе ученых С.П. Королева и М.В. Келдыша впервые в истории мира на орбите оказался первый искус-ственный спутник Земли. На борту второго спутника было живое существо – собака Лайк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Picture 6" descr="Копия (2) сканирование0010"/>
          <p:cNvPicPr/>
          <p:nvPr/>
        </p:nvPicPr>
        <p:blipFill>
          <a:blip r:embed="rId2"/>
          <a:stretch/>
        </p:blipFill>
        <p:spPr>
          <a:xfrm>
            <a:off x="457200" y="380880"/>
            <a:ext cx="3282840" cy="3210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Копия (2) сканирование0011"/>
          <p:cNvPicPr/>
          <p:nvPr/>
        </p:nvPicPr>
        <p:blipFill>
          <a:blip r:embed="rId3"/>
          <a:stretch/>
        </p:blipFill>
        <p:spPr>
          <a:xfrm>
            <a:off x="685800" y="3733920"/>
            <a:ext cx="2944800" cy="29448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2" descr="Копия (5) KB1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2 апреля 1961 г.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ервый полет человека в космос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55623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Юрий Алексеевич Гагарин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за 108 минут совершил кругосветное космическое путешествие.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Этот день стал Днем космонавтики, который отмечают на всех континентах Земли.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                  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Picture 14" descr="Копия (6) сканирование0012"/>
          <p:cNvPicPr/>
          <p:nvPr/>
        </p:nvPicPr>
        <p:blipFill>
          <a:blip r:embed="rId2"/>
          <a:stretch/>
        </p:blipFill>
        <p:spPr>
          <a:xfrm>
            <a:off x="6172200" y="228600"/>
            <a:ext cx="275436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323034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7760" y="5331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Первый групповой полет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352320" y="2819520"/>
            <a:ext cx="541044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первые над планетой летели сразу два космических корабля «Восток-3» «Восток-4» которые установили между собой ус тойчивую радиосвязь. В это время из космоса впервые велись телевизионные передач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8" descr="Копия (6) сканирование0013"/>
          <p:cNvPicPr/>
          <p:nvPr/>
        </p:nvPicPr>
        <p:blipFill>
          <a:blip r:embed="rId2"/>
          <a:stretch/>
        </p:blipFill>
        <p:spPr>
          <a:xfrm>
            <a:off x="304920" y="228600"/>
            <a:ext cx="2635200" cy="6365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Копия 7060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ff"/>
                </a:solidFill>
                <a:latin typeface="Times New Roman"/>
              </a:rPr>
              <a:t>Первый полет женщины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Женщина в космосе! Впервые в мире на околоземной орбите оказалась Валентина Владимировна Терешкова. «Чайка» - такой позывной Терешковой – летала в космосе около 70 часов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Picture 7" descr="Копия (6) сканирование0014"/>
          <p:cNvPicPr/>
          <p:nvPr/>
        </p:nvPicPr>
        <p:blipFill>
          <a:blip r:embed="rId2"/>
          <a:stretch/>
        </p:blipFill>
        <p:spPr>
          <a:xfrm>
            <a:off x="6400800" y="228600"/>
            <a:ext cx="2500200" cy="6324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Копия (3) SPACE007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004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Первый выход человека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9000" y="198108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Во время полета космического корабля «Восход-2» на втором витке вокруг Земли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                  А.А. Леонов в специальном скафандре с автономной системой жизнеобеспечения впервые в мире вышел из корабля в космическое пространство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8" descr="Копия (6) сканирование0015"/>
          <p:cNvPicPr/>
          <p:nvPr/>
        </p:nvPicPr>
        <p:blipFill>
          <a:blip r:embed="rId2"/>
          <a:stretch/>
        </p:blipFill>
        <p:spPr>
          <a:xfrm>
            <a:off x="304920" y="228600"/>
            <a:ext cx="2779560" cy="64771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Копия (3) FARS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Исследование Луны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7240" y="1904760"/>
            <a:ext cx="5181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Самым популярным космическим автоматом стал «Луноход-1» - первый в истории передвигающийся аппарат, доставленный на Луну станцией «Луна-17»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Picture 7" descr="Копия (6) сканирование0016"/>
          <p:cNvPicPr/>
          <p:nvPr/>
        </p:nvPicPr>
        <p:blipFill>
          <a:blip r:embed="rId2"/>
          <a:stretch/>
        </p:blipFill>
        <p:spPr>
          <a:xfrm>
            <a:off x="304920" y="228600"/>
            <a:ext cx="2819160" cy="63738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20:53:22Z</dcterms:created>
  <dc:creator>Nick</dc:creator>
  <dc:description/>
  <dc:language>en-US</dc:language>
  <cp:lastModifiedBy>LEGION</cp:lastModifiedBy>
  <dcterms:modified xsi:type="dcterms:W3CDTF">2015-01-13T07:43:14Z</dcterms:modified>
  <cp:revision>25</cp:revision>
  <dc:subject/>
  <dc:title>Презентация PowerPoint</dc:title>
</cp:coreProperties>
</file>