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7FB1-BBA2-4439-A3F6-71EE657C70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XX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 космонав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5B06-63EF-4234-956F-636FD665F22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смос народному 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2E40-2E11-463E-A079-3E9D5924E65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первы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К.Э. Циол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5B31-7610-482A-95CB-89394BF53BE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.Э. Циол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7C32-ED42-4FD4-A58C-5C53EC66403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4 октября 1957 г.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Начало космической э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AD6D-69AA-401F-8EAA-3F5F50CEE75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2 апреля 1961 г.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Юрий Алексеевич Гагарин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за 108 минут совершил кругосветное космическое путешествие.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тот день стал Днем космонавтики, который отмечают на всех континентах Земли.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FFA8-25A9-453C-8B52-30F78A8ABEF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ервый групповой полет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F02E-249E-4319-9308-99C591C8B13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ервый полет женщины в косм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5C4E-21E5-4DBD-BCE6-4EE38738BF8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ый выход человека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Во время полета космического корабля «Восход-2» на втором витке вокруг Земли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10FC-2213-4EE2-9A7C-A3C5881CFD2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следование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3DB4-CEE1-44CF-92A0-DF01D4F6BF0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142-4BE6-4690-B606-78CAA64A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344-38D5-4DA1-9F03-6DF9BD8C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E1A-D50A-4D73-9BF0-05EA34F1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A20-8EA0-426F-9D80-8F5353C8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65AB-12F5-4191-8EC9-F801B4AB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FA75-484D-4AF4-92DF-504FE2E0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4A04-5FE5-401B-912B-D422DA71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9613-E0BB-442E-B1B9-BC70D567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5421-91BB-4AE2-8641-0F36732B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2D54-51B5-4354-BF90-DA532C99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949-3220-4C9B-9487-EE3942AD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674-7C98-40AE-A563-592DE2BB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7AAC-AFCE-4740-9945-60F2211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E8B3-6E0F-45D1-8185-DF211104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0D1C-8F0A-41AA-9DC5-B925EAC6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0DE8-2083-4074-B0A8-12D710F3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BC2D-B05A-4AD7-A933-32F8DDCE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374-07AC-4569-8652-2AABDD3E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D66-25E3-4D33-9B15-63132423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AFC-2791-4BE1-8349-CD3C77F7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FD8-C38C-4140-8EC0-13C81B74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9DD-E1FE-4665-8ADA-BBB1B652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7AE-7250-4FF1-8EDD-3CDEA909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496-0488-4E73-8D8D-4647EE89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A212-23CE-460C-9A7D-ACBE72754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E78F-D4C5-48AA-A6DE-C7C12498B3BF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POLLO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1066680"/>
            <a:ext cx="78487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к космонавт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Копия (6) KB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осмос народному хозяйству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8" descr="Копия (6) сканирование0017"/>
          <p:cNvPicPr/>
          <p:nvPr/>
        </p:nvPicPr>
        <p:blipFill>
          <a:blip r:embed="rId2"/>
          <a:stretch/>
        </p:blipFill>
        <p:spPr>
          <a:xfrm>
            <a:off x="304920" y="380880"/>
            <a:ext cx="2635200" cy="620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B91011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опия (4) сканирование0006"/>
          <p:cNvPicPr/>
          <p:nvPr/>
        </p:nvPicPr>
        <p:blipFill>
          <a:blip r:embed="rId2"/>
          <a:stretch/>
        </p:blipFill>
        <p:spPr>
          <a:xfrm>
            <a:off x="380880" y="304920"/>
            <a:ext cx="2749680" cy="626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первы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К.Э. Циолковс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Копия (5) KB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.Э. Циолковский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6" descr="Копия (2) сканирование0007"/>
          <p:cNvPicPr/>
          <p:nvPr/>
        </p:nvPicPr>
        <p:blipFill>
          <a:blip r:embed="rId2"/>
          <a:stretch/>
        </p:blipFill>
        <p:spPr>
          <a:xfrm>
            <a:off x="457200" y="2819520"/>
            <a:ext cx="2900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опия сканирование0008"/>
          <p:cNvPicPr/>
          <p:nvPr/>
        </p:nvPicPr>
        <p:blipFill>
          <a:blip r:embed="rId3"/>
          <a:stretch/>
        </p:blipFill>
        <p:spPr>
          <a:xfrm>
            <a:off x="2819520" y="14479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060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4 октября 1957 г.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Начало космической эр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Копия (2) сканирование0010"/>
          <p:cNvPicPr/>
          <p:nvPr/>
        </p:nvPicPr>
        <p:blipFill>
          <a:blip r:embed="rId2"/>
          <a:stretch/>
        </p:blipFill>
        <p:spPr>
          <a:xfrm>
            <a:off x="457200" y="380880"/>
            <a:ext cx="3282840" cy="321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опия (2) сканирование0011"/>
          <p:cNvPicPr/>
          <p:nvPr/>
        </p:nvPicPr>
        <p:blipFill>
          <a:blip r:embed="rId3"/>
          <a:stretch/>
        </p:blipFill>
        <p:spPr>
          <a:xfrm>
            <a:off x="685800" y="37339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Копия (5) KB1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 апреля 1961 г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рвый полет человека в космо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Юрий Алексеевич Гагарин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за 108 минут совершил кругосветное космическое путешествие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Этот день стал Днем космонавтики, который отмечают на всех континентах Земли.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14" descr="Копия (6) сканирование0012"/>
          <p:cNvPicPr/>
          <p:nvPr/>
        </p:nvPicPr>
        <p:blipFill>
          <a:blip r:embed="rId2"/>
          <a:stretch/>
        </p:blipFill>
        <p:spPr>
          <a:xfrm>
            <a:off x="6172200" y="228600"/>
            <a:ext cx="27543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32303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ервый групповой полет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320" y="28195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8" descr="Копия (6) сканирование0013"/>
          <p:cNvPicPr/>
          <p:nvPr/>
        </p:nvPicPr>
        <p:blipFill>
          <a:blip r:embed="rId2"/>
          <a:stretch/>
        </p:blipFill>
        <p:spPr>
          <a:xfrm>
            <a:off x="304920" y="228600"/>
            <a:ext cx="2635200" cy="6365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опия 706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Первый полет женщины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7" descr="Копия (6) сканирование0014"/>
          <p:cNvPicPr/>
          <p:nvPr/>
        </p:nvPicPr>
        <p:blipFill>
          <a:blip r:embed="rId2"/>
          <a:stretch/>
        </p:blipFill>
        <p:spPr>
          <a:xfrm>
            <a:off x="6400800" y="228600"/>
            <a:ext cx="250020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Копия (3) SPACE00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ервый выход человека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Во время полета космического корабля «Восход-2» на втором витке вокруг Земли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8" descr="Копия (6) сканирование0015"/>
          <p:cNvPicPr/>
          <p:nvPr/>
        </p:nvPicPr>
        <p:blipFill>
          <a:blip r:embed="rId2"/>
          <a:stretch/>
        </p:blipFill>
        <p:spPr>
          <a:xfrm>
            <a:off x="304920" y="228600"/>
            <a:ext cx="277956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опия (3) FAR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Исследование Лун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7" descr="Копия (6) сканирование0016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6373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53:22Z</dcterms:created>
  <dc:creator>Nick</dc:creator>
  <dc:description/>
  <dc:language>en-US</dc:language>
  <cp:lastModifiedBy>LEGION</cp:lastModifiedBy>
  <dcterms:modified xsi:type="dcterms:W3CDTF">2015-01-13T07:43:14Z</dcterms:modified>
  <cp:revision>25</cp:revision>
  <dc:subject/>
  <dc:title>Презентация PowerPoint</dc:title>
</cp:coreProperties>
</file>