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C1CE-2AF4-4D0D-9B04-25C81B8C242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XX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 космонав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CA52-FF24-4071-863F-4362EC77B63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осмос народному хозяй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2A58-393B-401C-8F1C-46B8F80D4AA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первы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м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К.Э. Циол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7613-B9CC-4051-9C3F-C640AAE4984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К.Э. Циолк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4AA9-8E6C-40AF-AAB9-DB325F7B060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Calibri"/>
              </a:rPr>
              <a:t>4 октября 1957 г.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Начало космической э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4B00-9D46-4265-AC7D-65563BE27F3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12 апреля 1961 г.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вый полет человека в косм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Юрий Алексеевич Гагарин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за 108 минут совершил кругосветное космическое путешествие.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Этот день стал Днем космонавтики, который отмечают на всех континентах Земли.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D10C-295A-4A0B-9D52-3F531C1DE99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Первый групповой полет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3894-5071-41F4-A099-5607BABB758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Первый полет женщины в косм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E813-FA81-4837-8D8E-8BF17C13DA3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ервый выход человека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Во время полета космического корабля «Восход-2» на втором витке вокруг Земли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F7A1-0481-4480-A5D5-364B3C1953E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сследование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B952-DD39-47AA-9F9C-4BEB1BAFADF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B4B-401C-4B5E-87D2-EF568718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DDF-68E0-44D3-81A4-3C9E9222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F1A-9639-4685-B5C6-F823B5FE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18C-1398-4469-B30B-295A50BF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188F-8ADB-4049-96B8-5F369745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F5C1-796A-4355-B656-FE8096DC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469C-D40C-4E0D-A62C-33583EAC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5534-9CAA-46F7-AC32-D43ADCD4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6790-DD4E-4E1F-B131-64CCBB73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1D58-A529-4E1D-A98A-0AE22E83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DC35-483A-44E4-BE4E-B688AFE4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347-AA4E-4678-B1D1-E10CD9E2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7047-1CA4-461C-B237-110BC8FA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E412-1149-460B-BD4E-30ED71F7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5BB8-8408-4628-B89A-8D33EB88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CAF4-F14D-46E6-8F0E-D22E86D9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2F90-E06D-4192-9475-EAB39D06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ADD-1540-4207-A970-E8D70FE2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8EC-1A2C-4632-9B92-93126AE6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E91-80EE-48C5-BEB3-B6B1BAB2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1F6-2C55-48BF-A956-4901DE37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E29-C275-41D6-A763-36E991B6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6E5-208B-4A6B-8429-F6D03147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5F9-8D9D-40B8-B84B-D296976B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1027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1029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A71E-1887-41A5-B463-DDA8D9EB1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96B5-F189-4E06-98BC-A81B4F683C30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APOLLO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609480" y="1066680"/>
            <a:ext cx="784872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к космонавт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Копия (6) KB1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осмос народному хозяйству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5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Picture 8" descr="Копия (6) сканирование0017"/>
          <p:cNvPicPr/>
          <p:nvPr/>
        </p:nvPicPr>
        <p:blipFill>
          <a:blip r:embed="rId2"/>
          <a:stretch/>
        </p:blipFill>
        <p:spPr>
          <a:xfrm>
            <a:off x="304920" y="380880"/>
            <a:ext cx="2635200" cy="620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SB91011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Копия (4) сканирование0006"/>
          <p:cNvPicPr/>
          <p:nvPr/>
        </p:nvPicPr>
        <p:blipFill>
          <a:blip r:embed="rId2"/>
          <a:stretch/>
        </p:blipFill>
        <p:spPr>
          <a:xfrm>
            <a:off x="380880" y="304920"/>
            <a:ext cx="2749680" cy="6264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81280" y="6091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первые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 мире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809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К.Э. Циолковски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1" descr="Копия (5) KB1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К.Э. Циолковский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6" descr="Копия (2) сканирование0007"/>
          <p:cNvPicPr/>
          <p:nvPr/>
        </p:nvPicPr>
        <p:blipFill>
          <a:blip r:embed="rId2"/>
          <a:stretch/>
        </p:blipFill>
        <p:spPr>
          <a:xfrm>
            <a:off x="457200" y="2819520"/>
            <a:ext cx="290052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Копия сканирование0008"/>
          <p:cNvPicPr/>
          <p:nvPr/>
        </p:nvPicPr>
        <p:blipFill>
          <a:blip r:embed="rId3"/>
          <a:stretch/>
        </p:blipFill>
        <p:spPr>
          <a:xfrm>
            <a:off x="2819520" y="1447920"/>
            <a:ext cx="2666880" cy="39621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7060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880" y="1066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imes New Roman"/>
              </a:rPr>
              <a:t>4 октября 1957 г. 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Начало космической эр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38120" y="2286000"/>
            <a:ext cx="4800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6" descr="Копия (2) сканирование0010"/>
          <p:cNvPicPr/>
          <p:nvPr/>
        </p:nvPicPr>
        <p:blipFill>
          <a:blip r:embed="rId2"/>
          <a:stretch/>
        </p:blipFill>
        <p:spPr>
          <a:xfrm>
            <a:off x="457200" y="380880"/>
            <a:ext cx="3282840" cy="321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опия (2) сканирование0011"/>
          <p:cNvPicPr/>
          <p:nvPr/>
        </p:nvPicPr>
        <p:blipFill>
          <a:blip r:embed="rId3"/>
          <a:stretch/>
        </p:blipFill>
        <p:spPr>
          <a:xfrm>
            <a:off x="685800" y="37339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2" descr="Копия (5) KB1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2 апреля 1961 г.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ервый полет человека в космос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55623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Юрий Алексеевич Гагарин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за 108 минут совершил кругосветное космическое путешествие.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Этот день стал Днем космонавтики, который отмечают на всех континентах Земли.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14" descr="Копия (6) сканирование0012"/>
          <p:cNvPicPr/>
          <p:nvPr/>
        </p:nvPicPr>
        <p:blipFill>
          <a:blip r:embed="rId2"/>
          <a:stretch/>
        </p:blipFill>
        <p:spPr>
          <a:xfrm>
            <a:off x="6172200" y="228600"/>
            <a:ext cx="275436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323034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Первый групповой полет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52320" y="2819520"/>
            <a:ext cx="5410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8" descr="Копия (6) сканирование0013"/>
          <p:cNvPicPr/>
          <p:nvPr/>
        </p:nvPicPr>
        <p:blipFill>
          <a:blip r:embed="rId2"/>
          <a:stretch/>
        </p:blipFill>
        <p:spPr>
          <a:xfrm>
            <a:off x="304920" y="228600"/>
            <a:ext cx="2635200" cy="6365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Копия 706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Times New Roman"/>
              </a:rPr>
              <a:t>Первый полет женщины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7" descr="Копия (6) сканирование0014"/>
          <p:cNvPicPr/>
          <p:nvPr/>
        </p:nvPicPr>
        <p:blipFill>
          <a:blip r:embed="rId2"/>
          <a:stretch/>
        </p:blipFill>
        <p:spPr>
          <a:xfrm>
            <a:off x="6400800" y="228600"/>
            <a:ext cx="2500200" cy="6324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Копия (3) SPACE007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04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Первый выход человека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9000" y="198108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Во время полета космического корабля «Восход-2» на втором витке вокруг Земли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8" descr="Копия (6) сканирование0015"/>
          <p:cNvPicPr/>
          <p:nvPr/>
        </p:nvPicPr>
        <p:blipFill>
          <a:blip r:embed="rId2"/>
          <a:stretch/>
        </p:blipFill>
        <p:spPr>
          <a:xfrm>
            <a:off x="304920" y="228600"/>
            <a:ext cx="2779560" cy="6477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Копия (3) FARS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Исследование Лун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7240" y="1904760"/>
            <a:ext cx="5181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7" descr="Копия (6) сканирование0016"/>
          <p:cNvPicPr/>
          <p:nvPr/>
        </p:nvPicPr>
        <p:blipFill>
          <a:blip r:embed="rId2"/>
          <a:stretch/>
        </p:blipFill>
        <p:spPr>
          <a:xfrm>
            <a:off x="304920" y="228600"/>
            <a:ext cx="2819160" cy="6373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20:53:22Z</dcterms:created>
  <dc:creator>Nick</dc:creator>
  <dc:description/>
  <dc:language>en-US</dc:language>
  <cp:lastModifiedBy>LEGION</cp:lastModifiedBy>
  <dcterms:modified xsi:type="dcterms:W3CDTF">2015-01-13T07:43:14Z</dcterms:modified>
  <cp:revision>25</cp:revision>
  <dc:subject/>
  <dc:title>Презентация PowerPoint</dc:title>
</cp:coreProperties>
</file>