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57B3-A6BB-4614-B70F-F39300F8C71C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рение – бесценный 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DF49-25B0-4562-A1C6-4FA55E8D8AE4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ук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онное определение понятия глаукомы заключается в том, что этот термин объединяет большую группу заболеваний глаза, характеризующуюся постоянным или периодическим повышением внутриглазного давления, из-за нарушения оттока водянистой влаги из глаза. Последствием повышения давления является развитие характерных для глаукомы нарушений зрительных функций и атрофии зрительного нер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EE62-D9E7-4A87-88C6-F93F78A7D993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фекционные заболевания гла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ьюктив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воспаление слизистой оболочки глаза при попадании в нее микробов, грибков, вирусов. Иногда коньюктивит называют еще "кроличьи глаза". Это связано с тем, что болезнь часто сопровождается покраснением 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ают бактериальную, вирусную и аллергическую форму коньюктивита. При бактериальной форме обычно инфицируются оба глаза и сопровождается обильным выделением слизи. Вирусная форма, как правило, поражает один глаз и сопровождается слезливостью и легкими выделениями. Обе эти формы болезни очень заразные и легко передаются при контакте с боль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1649-CFCF-4958-9CC9-708F90DC563E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нарушений 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ите за расстояние от глаз до книги или компьютерного монит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читайте в движущемся транспорте и леж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ите за освещенностью помещения в котором вы работае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регайте глаза при работе с опасными веществами защитными оч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трите глаза грязными ру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длительной работе давайте глазам отдых, выполняйте гимнастику для гл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454D-705D-4F46-8486-0093B1343D0C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имнастика для глаз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полнять сидя или стоя, с максимальной амплитудой гл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1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рыть глаза, сильно напрягая глазные мыщцы, на счет 1-4, затем раскрыть глаза, расслабить мышцы глаз, посмотреть вдаль через окно на счет 1-6. Повторить 4-5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2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поворачивая головы, посмотреть направо и зафиксировать взгляд на счет 1-4, затем посмотреть вдаль прямо на счет 1-6. Аналогичным образом проводятся упражнения, но с фиксацией взгляда влево, вверх и вниз. Повторить 2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3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лову держать прямо. Поморгать, не напрягая глазные мышцы, на счет 10-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4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нести взгляд быстро по диагонали: направо вверх - налево вниз, потом прямо вдаль на счет 1-6, затем налево вверх - направо вниз и посмотреть вдаль на счет 1-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5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рыть глаза, не напрягая глазные мышцы на счет 1-4, широко раскрыть глаза и посмотреть вдаль на счет 1-6. Повторить 2-3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6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поворачивая головы (голова прямо), делать медленно круговые движения глазами вверх-вправо-вниз-влево и в обратную сторону: вверх-влево-вниз-вправо. Затем посмотреть вдаль на счет 1-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7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неподвижной голове перевести взор с фиксацией его на счет 1-4 вверх, на счет 1-6 прямо, после чего аналогичным образом вниз-прямо, вправо-прямо, влево-прямо. Проделать движение по диагонали в одну и другую стороны с переводом глаз прямо на счет 1-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D8C4-16C6-4272-8C85-A9FE0F4A0013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распространения инфекций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уйтесь только своим полотенцем и наволоч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чески мойте руки, особенно если вы касаетесь глаз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есть возможность, не ходите в общественные места, в школу, на работ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давайте хлорке попасть в глаза. Она усугубит ваше состояние. Поэтому избегайте общественных бассейнов и хлорированной воды в водопров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969B-2CA7-4B63-880F-347567790233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жения офтальм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тослав Николаевич Фед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927-2000) – один из основателей отечественной офтальмологии. Разработал ряд выдающихся методов микрохирургии глаза. Благодаря разработкам великого хирурга многие люди обретают утраченное з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7C1C-13B0-443A-A6B0-070D14353661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ин из многочисленных центров микрохирургии глаза им. С.Федор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A01C-AEFF-4F52-AD7E-86BE7F09117B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рушения зрения могут быть наследственными и приобретенными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сохранения здоровья глаз необходимо соблюдать правила гигиены з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стижения отечественной и мировой офтальмологии способствуют успешному лечению заболеваний органов з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F0E3-E19D-4B98-A050-1D8807FFD3F0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ru.wikipedi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google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olcha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tatic.baza.farpost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img-2006-01.photosight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hrus3.hoter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prikol.i.u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prikol.i.u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otvet.mai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guru.sevstar.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dic.academic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ACAE-A7A0-465C-837A-C4C9C1BB1362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ить причины нарушения функций органа зрения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наиболее известные заболевания органов з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526E-3958-46D4-98C1-D8D3AAB53539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ные системы гл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0C9A-7286-4A3B-9E8B-6941F915C023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человеческого гл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13F2-E3FA-4092-8126-FF53227CF67F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нарушения 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в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е гигиены 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екционные заболе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EC93-B004-4F3F-A279-D1C18BAF646D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я аккомод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зорукость или миопия — это дефект  зрения, при котором изображение падает не на сетчатку глаза, а перед ней из-за того, что преломляющая система глаза обладает увеличенной оптической силой и слишком сильно фокусирует (относительно данного переднезаднего размера глазного яблок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ьнозоркость (гиперметропия) - это нарушение зрения, при котором изображение предмета формируется не на сетчатке, а за 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F259-39A4-4681-833A-4661FBDA2F24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я аккомод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зорукость или миопия — это дефект  зрения, при котором изображение падает не на сетчатку глаза, а перед ней из-за того, что преломляющая система глаза обладает увеличенной оптической силой и слишком сильно фокусирует (относительно данного переднезаднего размера глазного яблок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ьнозоркость (гиперметропия) - это нарушение зрения, при котором изображение предмета формируется не на сетчатке, а за 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D409-A4B1-49B7-9FF7-25B1EE0D5481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аракта – помутнение хрусталика гл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ственный, наиболее верный путь избавления от катаракты - это хирургический, который сегодня усовершенствован до такой степени, что операцию можно проводить даже в амбулаторных услови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4912-824C-4ECD-AF7D-ADC16D25EA70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3F97-E3A6-48F7-96D0-3E8AA53EF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F42D-6CE9-4822-956B-F271170F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A4AE-5BD0-412B-B6E1-9C8DBBEAF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7898-E0CA-42D9-95A3-418C2148A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09C8-74A6-4C7C-ADD4-4F7DF2EE4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D826-D13B-4372-A544-808B1D09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F236-B837-447B-8BBE-38D25E7B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9253-835C-4E3E-AE04-7394A23A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F4B6-7F59-46D3-83CB-ABBF6A9B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E478-A995-4E24-AD91-9F4A7997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12E6-6A56-468E-A003-93FDBAD5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51F2-6A0E-43A9-BEAD-BA79D480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C049-005D-4EDF-B6C0-BE0B67F3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7308-023F-401D-BA9C-A80612DC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9C2C-018E-4F3F-AAC6-A88D6A54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CE37-D83E-4DE0-BC6D-8E110AA50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69E5-9025-4668-BE02-06EDA4D22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FB3C-8559-4F7B-AD68-9CD4680B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B664-23BA-4423-91C7-A1108F4C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195C-5328-47A1-8113-D5D766BB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5001-BD9D-4D8A-A29E-D0CCAACA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23FB-D2F7-4773-A3A7-51BA8A5D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134A-629D-4A4A-B55C-62922ED4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08EC-B4F3-4514-8937-D475A49E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7E39-A30E-4FD6-A173-AEE02EDA026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D4C9-F8AA-43CE-995D-3CD40B9DDFB6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рение – бесценный да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2771640" y="907920"/>
            <a:ext cx="4033800" cy="32511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1547640" y="4292640"/>
            <a:ext cx="6553440" cy="105984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Презентация группы «офтальмологов»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Руководитель: Лебедева Екатерина Анатольевна, учитель биологии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Глауком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08000" y="1484280"/>
            <a:ext cx="8928000" cy="2014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радиционное определение понятия глаукомы заключается в том, что этот термин объединяет большую группу заболеваний глаза, характеризующуюся постоянным или периодическим повышением внутриглазного давления, из-за нарушения оттока водянистой влаги из глаза. Последствием повышения давления является развитие характерных для глаукомы нарушений зрительных функций и атрофии зрительного нерва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2771640" y="3573360"/>
            <a:ext cx="3888000" cy="260352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Инфекционные заболевания глаз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ньюктивит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воспаление слизистой оболочки глаза при попадании в нее микробов, грибков, вирусов. Иногда коньюктивит называют еще "кроличьи глаза". Это связано с тем, что болезнь часто сопровождается покраснением век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личают бактериальную, вирусную и аллергическую форму коньюктивита. При бактериальной форме обычно инфицируются оба глаза и сопровождается обильным выделением слизи. Вирусная форма, как правило, поражает один глаз и сопровождается слезливостью и легкими выделениями. Обе эти формы болезни очень заразные и легко передаются при контакте с больным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офилактика нарушений зрени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684360" y="1413000"/>
            <a:ext cx="7991280" cy="40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Следите за расстояние от глаз до книги или компьютерного монитора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Не читайте в движущемся транспорте и лежа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Следите за освещенностью помещения в котором вы работаете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Оберегайте глаза при работе с опасными веществами защитными очками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Не трите глаза грязными руками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При длительной работе давайте глазам отдых, выполняйте гимнастику для глаз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Гимнастика для глаз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907920"/>
            <a:ext cx="8435880" cy="5616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ыполнять сидя или стоя, с максимальной амплитудой глаз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1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Закрыть глаза, сильно напрягая глазные мыщцы, на счет 1-4, затем раскрыть глаза, расслабить мышцы глаз, посмотреть вдаль через окно на счет 1-6. Повторить 4-5 раз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2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е поворачивая головы, посмотреть направо и зафиксировать взгляд на счет 1-4, затем посмотреть вдаль прямо на счет 1-6. Аналогичным образом проводятся упражнения, но с фиксацией взгляда влево, вверх и вниз. Повторить 2 раза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3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олову держать прямо. Поморгать, не напрягая глазные мышцы, на счет 10-15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4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еренести взгляд быстро по диагонали: направо вверх - налево вниз, потом прямо вдаль на счет 1-6, затем налево вверх - направо вниз и посмотреть вдаль на счет 1-6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5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Закрыть глаза, не напрягая глазные мышцы на счет 1-4, широко раскрыть глаза и посмотреть вдаль на счет 1-6. Повторить 2-3 раза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6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е поворачивая головы (голова прямо), делать медленно круговые движения глазами вверх-вправо-вниз-влево и в обратную сторону: вверх-влево-вниз-вправо. Затем посмотреть вдаль на счет 1-6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7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и неподвижной голове перевести взор с фиксацией его на счет 1-4 вверх, на счет 1-6 прямо, после чего аналогичным образом вниз-прямо, вправо-прямо, влево-прямо. Проделать движение по диагонали в одну и другую стороны с переводом глаз прямо на счет 1-6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офилактика распространения инфекций глаз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539640" y="1208880"/>
            <a:ext cx="7848720" cy="44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ьзуйтесь только своим полотенцем и наволочкой;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стематически мойте руки, особенно если вы касаетесь глаз;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ли есть возможность, не ходите в общественные места, в школу, на работу;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давайте хлорке попасть в глаза. Она усугубит ваше состояние. Поэтому избегайте общественных бассейнов и хлорированной воды в водопроводе.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Достижения офтальмолог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3621240" cy="41767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6516720" y="1268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4716360" y="1557360"/>
            <a:ext cx="4176720" cy="270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вятослав Николаевич Федоров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1927-2000) – один из основателей отечественной офтальмологии. Разработал ряд выдающихся методов микрохирургии глаза. Благодаря разработкам великого хирурга многие люди обретают утраченное зрение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Один из многочисленных центров микрохирургии глаза им. С.Федорова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826920" y="1441440"/>
            <a:ext cx="7488360" cy="541656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Нарушения зрения могут быть наследственными и приобретенными.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Для сохранения здоровья глаз необходимо соблюдать правила гигиены зрения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Достижения отечественной и мировой офтальмологии способствуют успешному лечению заболеваний органов зрения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спользованные ресурс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ru.wikipedia.or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www.google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wolcha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static.baza.farpost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img-2006-01.photosight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shrus3.hoter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prikol.i.u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prikol.i.u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otvet.mail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guru.sevstar.ne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dic.academic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ели исследова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Установить причины нарушения функций органа зрения человека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ссмотреть наиболее известные заболевания органов зрения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ffcc"/>
                </a:solidFill>
                <a:latin typeface="Arial"/>
              </a:rPr>
              <a:t>Защитные системы глаза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896240" cy="42606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троение человеческого глаз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272360" cy="45464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ичины нарушения зре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Травмы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Нарушение гигиены зрения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Инфекционные заболевания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рушения аккомодац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032000" cy="2376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2"/>
          <a:stretch/>
        </p:blipFill>
        <p:spPr>
          <a:xfrm>
            <a:off x="4932360" y="1557360"/>
            <a:ext cx="3960720" cy="24051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7"/>
          <p:cNvSpPr/>
          <p:nvPr/>
        </p:nvSpPr>
        <p:spPr>
          <a:xfrm>
            <a:off x="4788000" y="407664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льнозоркость (гиперметропия) - это нарушение зрения, при котором изображение предмета формируется не на сетчатке, а за ней.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250920" y="3981240"/>
            <a:ext cx="3744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Близорук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иоп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— это дефект  зрения, при котором изображение падает не на сетчатку глаза, а перед ней из-за того, что преломляющая система глаза обладает увеличенной оптической силой и слишком сильно фокусирует (относительно данного переднезаднего размера глазного яблока). </a:t>
            </a:r>
            <a:endParaRPr b="1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рушения аккомодац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032000" cy="2376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"/>
          <p:cNvPicPr/>
          <p:nvPr/>
        </p:nvPicPr>
        <p:blipFill>
          <a:blip r:embed="rId2"/>
          <a:stretch/>
        </p:blipFill>
        <p:spPr>
          <a:xfrm>
            <a:off x="4932360" y="1557360"/>
            <a:ext cx="3960720" cy="24051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4788000" y="407664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льнозоркость (гиперметропия) - это нарушение зрения, при котором изображение предмета формируется не на сетчатке, а за ней.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250920" y="3981240"/>
            <a:ext cx="3744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Близорук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иоп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— это дефект  зрения, при котором изображение падает не на сетчатку глаза, а перед ней из-за того, что преломляющая система глаза обладает увеличенной оптической силой и слишком сильно фокусирует (относительно данного переднезаднего размера глазного яблока). </a:t>
            </a:r>
            <a:endParaRPr b="1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Астигматиз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0" name="Picture 5" descr="astigmatizm"/>
          <p:cNvPicPr/>
          <p:nvPr/>
        </p:nvPicPr>
        <p:blipFill>
          <a:blip r:embed="rId1"/>
          <a:stretch/>
        </p:blipFill>
        <p:spPr>
          <a:xfrm>
            <a:off x="1116000" y="1495440"/>
            <a:ext cx="6624720" cy="31384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6"/>
          <p:cNvSpPr/>
          <p:nvPr/>
        </p:nvSpPr>
        <p:spPr>
          <a:xfrm>
            <a:off x="1332000" y="4869000"/>
            <a:ext cx="65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стигматизм - это самая частая причина низкого зрения, часто сопровождающая близорукость или дальнозоркость. Его причиной является неправильная форма роговицы, что исправляется очками, контактными линзами или рефракционной хирургией.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Катаракта – помутнение хрусталика глаза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95604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1"/>
          <a:stretch/>
        </p:blipFill>
        <p:spPr>
          <a:xfrm>
            <a:off x="4716360" y="1600200"/>
            <a:ext cx="3970440" cy="2503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961080" cy="2592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539640" y="4292640"/>
            <a:ext cx="7993080" cy="119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Единственный, наиболее верный путь избавления от катаракты - это 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хирургический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, который сегодня усовершенствован до такой степени, что операцию можно проводить даже в амбулаторных условиях.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07:08:39Z</dcterms:created>
  <dc:creator>Admin</dc:creator>
  <dc:description/>
  <dc:language>en-US</dc:language>
  <cp:lastModifiedBy>LEGION</cp:lastModifiedBy>
  <dcterms:modified xsi:type="dcterms:W3CDTF">2014-11-07T12:40:45Z</dcterms:modified>
  <cp:revision>10</cp:revision>
  <dc:subject/>
  <dc:title>Слайд 1</dc:title>
</cp:coreProperties>
</file>