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9EF9-BE3C-453B-8A35-DD61745C1CA4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рение – бесценный 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E96B-DE77-4770-9FC6-2DFB58C457BD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ук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е определение понятия глаукомы заключается в том, что этот термин объединяет большую группу заболеваний глаза, характеризующуюся постоянным или периодическим повышением внутриглазного давления, из-за нарушения оттока водянистой влаги из глаза. Последствием повышения давления является развитие характерных для глаукомы нарушений зрительных функций и атрофии зрительного нер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01EE-36D2-4637-AD18-171C9C716C44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екционные заболевания г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ьюктив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оспаление слизистой оболочки глаза при попадании в нее микробов, грибков, вирусов. Иногда коньюктивит называют еще "кроличьи глаза". Это связано с тем, что болезнь часто сопровождается покраснением 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ют бактериальную, вирусную и аллергическую форму коньюктивита. При бактериальной форме обычно инфицируются оба глаза и сопровождается обильным выделением слизи. Вирусная форма, как правило, поражает один глаз и сопровождается слезливостью и легкими выделениями. Обе эти формы болезни очень заразные и легко передаются при контакте с бо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9917-A92A-4BC0-AE3F-913981125300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нарушений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расстояние от глаз до книги или компьютерного мони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итайте в движущемся транспорте и л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освещенностью помещения в котором вы работ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регайте глаза при работе с опасными веществами защитными оч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рите глаза грязны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длительной работе давайте глазам отдых, выполняйте гимнастику для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2849-1D2F-423C-9333-F2E8C68693D3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имнастика для глаз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олнять сидя или стоя, с максимальной амплитудой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1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ь глаза, сильно напрягая глазные мыщцы, на счет 1-4, затем раскрыть глаза, расслабить мышцы глаз, посмотреть вдаль через окно на счет 1-6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2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-4, затем посмотреть вдаль прямо на счет 1-6. Аналогичным образом проводятся упражнения, но с фиксацией взгляда влево, вверх и вниз. Повторить 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3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лову держать прямо. Поморгать, не напрягая глазные мышцы, на счет 10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4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нести взгляд быстро по диагонали: направо вверх - налево вниз, потом прямо вдаль на счет 1-6, затем налево вверх - направо вниз и посмотреть вдаль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5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ь глаза, не напрягая глазные мышцы на счет 1-4, широко раскрыть глаза и посмотреть вдаль на счет 1-6. Повторить 2-3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6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 (голова прямо), делать медленно круговые движения глазами вверх-вправо-вниз-влево и в обратную сторону: вверх-влево-вниз-вправо. Затем посмотреть вдаль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7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неподвижной голове перевести взор с фиксацией его на счет 1-4 вверх, на счет 1-6 прямо, после чего аналогичным образом вниз-прямо, вправо-прямо, влево-прямо. Проделать движение по диагонали в одну и другую стороны с переводом глаз прямо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EDC5-5E6E-40BC-8A2A-ACBC7D6BD253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распространения инфекций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уйтесь только своим полотенцем и наволоч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чески мойте руки, особенно если вы касаетесь гла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есть возможность, не ходите в общественные места, в школу, на раб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давайте хлорке попасть в глаза. Она усугубит ваше состояние. Поэтому избегайте общественных бассейнов и хлорированной воды в водопров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92F6-6968-4763-AC15-E6B5082FFFC1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я офтальм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тослав Николаевич Фед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927-2000) – один из основателей отечественной офтальмологии. Разработал ряд выдающихся методов микрохирургии глаза. Благодаря разработкам великого хирурга многие люди обретают утраченное з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CF35-0C37-4F81-B3AC-3673A1DFD30B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 из многочисленных центров микрохирургии глаза им. С.Федо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B975-B647-45EB-B688-7A254853CE04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ушения зрения могут быть наследственными и приобретенными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сохранения здоровья глаз необходимо соблюдать правила гигиены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стижения отечественной и мировой офтальмологии способствуют успешному лечению заболеваний органов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9BF6-1628-4579-9AF8-2904AFFF3CC0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ru.wikip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gl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olch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tatic.baza.farpos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img-2006-01.photosigh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hrus3.hoter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rikol.i.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rikol.i.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otvet.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guru.sevstar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dic.academic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44EC-057F-43EF-9E50-7B3ABEFA0822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ить причины нарушения функций органа зрения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наиболее известные заболевания органов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BB7F-F1D2-4BA1-8033-F0BEE9069F66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ные системы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CA03-FCE5-490A-83CB-2AE576897E7A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человеческого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9733-D6A1-4C1A-B21E-FF65CEC4173E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арушения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гигиены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36B9-EC63-4665-ABE7-7A25CEC96066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аккомо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орукость или миопия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3B21-7840-43E6-AEE9-DBE13B951CD6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аккомо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орукость или миопия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31E2-9E25-44EF-B240-05500C44A957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ракта – помутнение хрусталика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й, наиболее верный путь избавления от катаракты - это хирургический, который сегодня усовершенствован до такой степени, что операцию можно проводить даже в амбулаторных услов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465F-1134-4A4E-A44E-9269DC938298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3718-F303-4925-B9F9-3FA19227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D66-AC0E-44F0-8B4A-2A4DED24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DAEE-F517-4CFA-BE2D-6A95FDE0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283-6E9D-40A8-912A-D22B1177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DF37-6C31-4A6C-8A02-4AADCCC4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E500-EE3E-4A99-B5CC-81A8A6CB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9E3A-7319-4E89-BCC8-AE351B5B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8696-AF6C-4C0A-AE5F-B80AB0F3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630B-F2E9-4EC4-BB18-B5C4FF1F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F843-BCC0-4DEF-A701-26E4D20C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0343-0657-4019-BC51-00B9B696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CC39-FFCA-4941-9313-F55B287E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2476-140D-4605-8543-6B475765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2A10-F4C2-45A2-AE14-346C97A9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0B93-6F0F-42E5-BC03-9184EC3C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DB15-F439-485F-8B5F-1A199015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F1CF-E60F-4C9D-9A2E-9106C50C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CD21-A4AE-424F-B793-B4C0BC9D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4850-D72E-4BEE-8311-F81CCD95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6A5-27F2-4C27-9283-28712663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ADB-F4DD-4512-9F52-499486E3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B1D-E4E4-49B5-A724-18E22859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7D55-9953-494E-AE47-2A8EA9A0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6091-7215-4FD3-BB96-1B1674B4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8B18-19E8-4AFC-9ECF-7FD50A5DD46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16AD-6578-4871-A818-857D069864A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рение – бесценный да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771640" y="907920"/>
            <a:ext cx="4033800" cy="3251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547640" y="4292640"/>
            <a:ext cx="6553440" cy="10598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езентация группы «офтальмологов»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Руководитель: Лебедева Екатерина Анатольевна, учитель биологи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лауко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08000" y="1484280"/>
            <a:ext cx="8928000" cy="201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адиционное определение понятия глаукомы заключается в том, что этот термин объединяет большую группу заболеваний глаза, характеризующуюся постоянным или периодическим повышением внутриглазного давления, из-за нарушения оттока водянистой влаги из глаза. Последствием повышения давления является развитие характерных для глаукомы нарушений зрительных функций и атрофии зрительного нерв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3888000" cy="26035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нфекционные заболевания глаз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ьюктиви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воспаление слизистой оболочки глаза при попадании в нее микробов, грибков, вирусов. Иногда коньюктивит называют еще "кроличьи глаза". Это связано с тем, что болезнь часто сопровождается покраснением ве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личают бактериальную, вирусную и аллергическую форму коньюктивита. При бактериальной форме обычно инфицируются оба глаза и сопровождается обильным выделением слизи. Вирусная форма, как правило, поражает один глаз и сопровождается слезливостью и легкими выделениями. Обе эти формы болезни очень заразные и легко передаются при контакте с больным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филактика нарушений зре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4360" y="1413000"/>
            <a:ext cx="799128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ледите за расстояние от глаз до книги или компьютерного монитор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е читайте в движущемся транспорте и леж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ледите за освещенностью помещения в котором вы работаете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Оберегайте глаза при работе с опасными веществами защитными очкам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е трите глаза грязными рукам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и длительной работе давайте глазам отдых, выполняйте гимнастику для глаз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Гимнастика для глаз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ыполнять сидя или стоя, с максимальной амплитудой глаз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1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рыть глаза, сильно напрягая глазные мыщцы, на счет 1-4, затем раскрыть глаза, расслабить мышцы глаз, посмотреть вдаль через окно на счет 1-6. Повторить 4-5 раз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2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оворачивая головы, посмотреть направо и зафиксировать взгляд на счет 1-4, затем посмотреть вдаль прямо на счет 1-6. Аналогичным образом проводятся упражнения, но с фиксацией взгляда влево, вверх и вниз. Повторить 2 раз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3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олову держать прямо. Поморгать, не напрягая глазные мышцы, на счет 10-15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4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еренести взгляд быстро по диагонали: направо вверх - налево вниз, потом прямо вдаль на счет 1-6, затем налево вверх - направо вниз и посмотреть вдаль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5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рыть глаза, не напрягая глазные мышцы на счет 1-4, широко раскрыть глаза и посмотреть вдаль на счет 1-6. Повторить 2-3 раз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6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оворачивая головы (голова прямо), делать медленно круговые движения глазами вверх-вправо-вниз-влево и в обратную сторону: вверх-влево-вниз-вправо. Затем посмотреть вдаль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7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 неподвижной голове перевести взор с фиксацией его на счет 1-4 вверх, на счет 1-6 прямо, после чего аналогичным образом вниз-прямо, вправо-прямо, влево-прямо. Проделать движение по диагонали в одну и другую стороны с переводом глаз прямо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филактика распространения инфекций глаз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39640" y="1208880"/>
            <a:ext cx="784872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ьзуйтесь только своим полотенцем и наволочкой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тически мойте руки, особенно если вы касаетесь глаз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есть возможность, не ходите в общественные места, в школу, на работу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давайте хлорке попасть в глаза. Она усугубит ваше состояние. Поэтому избегайте общественных бассейнов и хлорированной воды в водопроводе.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стижения офтальмолог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621240" cy="4176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516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716360" y="1557360"/>
            <a:ext cx="4176720" cy="270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ятослав Николаевич Федоров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1927-2000) – один из основателей отечественной офтальмологии. Разработал ряд выдающихся методов микрохирургии глаза. Благодаря разработкам великого хирурга многие люди обретают утраченное зрение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дин из многочисленных центров микрохирургии глаза им. С.Федоров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826920" y="1441440"/>
            <a:ext cx="7488360" cy="54165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арушения зрения могут быть наследственными и приобретенными.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ля сохранения здоровья глаз необходимо соблюдать правила гигиены зрения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остижения отечественной и мировой офтальмологии способствуют успешному лечению заболеваний органов зр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ованные ресур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ru.wikipedia.or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www.google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wolcha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static.baza.farpost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img-2006-01.photosight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shrus3.hoter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prikol.i.u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prikol.i.u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otvet.mail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guru.sevstar.ne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dic.academic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исследов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становить причины нарушения функций органа зрения человека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смотреть наиболее известные заболевания органов зрения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Защитные системы глаз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896240" cy="42606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роение человеческого глаз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272360" cy="45464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чины нарушения зр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Травмы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рушение гигиены зрения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Инфекционные заболевания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рушения аккомод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60720" cy="24051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4788000" y="4076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50920" y="3981240"/>
            <a:ext cx="374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лизорук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оп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рушения аккомод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60720" cy="2405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4788000" y="4076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50920" y="3981240"/>
            <a:ext cx="374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лизорук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оп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стигмат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5" descr="astigmatizm"/>
          <p:cNvPicPr/>
          <p:nvPr/>
        </p:nvPicPr>
        <p:blipFill>
          <a:blip r:embed="rId1"/>
          <a:stretch/>
        </p:blipFill>
        <p:spPr>
          <a:xfrm>
            <a:off x="1116000" y="1495440"/>
            <a:ext cx="6624720" cy="3138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1332000" y="4869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стигматизм - это самая частая причина низкого зрения, часто сопровождающая близорукость или дальнозоркость. Его причиной является неправильная форма роговицы, что исправляется очками, контактными линзами или рефракционной хирурги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атаракта – помутнение хрусталика глаз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95604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4716360" y="1600200"/>
            <a:ext cx="3970440" cy="250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96108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539640" y="4292640"/>
            <a:ext cx="799308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Единственный, наиболее верный путь избавления от катаракты - это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хирургический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который сегодня усовершенствован до такой степени, что операцию можно проводить даже в амбулаторных условиях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7:08:39Z</dcterms:created>
  <dc:creator>Admin</dc:creator>
  <dc:description/>
  <dc:language>en-US</dc:language>
  <cp:lastModifiedBy>LEGION</cp:lastModifiedBy>
  <dcterms:modified xsi:type="dcterms:W3CDTF">2014-11-07T12:40:45Z</dcterms:modified>
  <cp:revision>10</cp:revision>
  <dc:subject/>
  <dc:title>Слайд 1</dc:title>
</cp:coreProperties>
</file>