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51C1-6762-4E68-830E-75E7D011D592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ение – бесценный 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75A2-A9E4-4565-BAE6-A6E3DB0B2BCE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ук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A518-7747-45F9-A081-654184ED7D95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ные заболевани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ьюктив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85B6-F436-498F-B6CB-972173823B4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расстояние от глаз до книги или компьютерного мон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йте в движущемся транспорте и л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освещенностью помещения в котором вы работ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регайте глаза при работе с опасными веществами защитными оч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ите глаза грязны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лительной работе давайте глазам отдых, выполняйте гимнастику дл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2BD1-F434-48E6-BE85-A18F34BF74C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олнять сидя или стоя, с максимальной амплитудой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2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3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у держать прямо. Поморгать, не напрягая глазные мышцы, на счет 10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4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5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6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7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10AA-3465-4FC7-8A8D-ECA26761233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распространения инфекций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йтесь только своим полотенцем и наволоч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 мойте руки, особенно если вы касаетесь гла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не ходите в общественные места, в школу, на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8940-B7DA-4902-AAB6-41731F8BB80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я офтальм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тослав Николаевич Фе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0EB5-4C18-4E10-8E1B-DC3AD11A0AB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 из многочисленных центров микрохирургии глаза им. С.Фед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1167-B40D-499F-9155-3F098FF2F5C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я зрения могут быть наследственными и приобретенным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сохранения здоровья глаз необходимо соблюдать правила гигиены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E949-63B8-4921-BE92-E6E8664F6DD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gl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ch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tatic.baza.farpo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mg-2006-01.photosigh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hrus3.hote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otvet.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guru.sevsta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ic.academic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3B07-6C1B-4031-8407-2E7972B89F2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ить причины нарушения функций органа зрен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наиболее известные заболевания органов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2FF-33EF-457E-81BD-A7A75347965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ные системы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8B4-1626-4A88-A59E-5692C373EE3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человеческого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8B96-6EA7-405D-A0EE-04F22500705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арушения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гигие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EFF-0832-441E-BA31-878CEB6DD56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735-07BC-48A5-8C57-9438F7DEF1BF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5AF1-5589-47EB-9900-1E076A64EA9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кта – помутнение хрусталика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, наиболее верный путь избавления от катаракты - это хирургический, который сегодня усовершенствован до такой степени, что операцию можно проводить даже в амбулаторных услов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3C1F-09D9-46F6-B818-07E5D2768BC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3C8-76E6-496E-93E9-169BEA65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820-3A08-41DA-A523-8EB4581C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653-C3A3-482E-AE12-E48947B5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450-9C7F-42E4-9879-C451E85D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FD0F-510B-4B0E-A54F-48186282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3DE2-DC4D-4274-9AF9-A90E968C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9D4A-F2AD-4343-B068-EB6C396B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6794-1AE1-4DA8-85A7-867ACB25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30DF-91E1-4917-AEC7-1B98F316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F998-3DD7-48AC-BBC7-6FD1FACC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AB1-E8C9-4AE0-BCFD-B6FC5AEC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A89-103F-414B-B55E-E7E9DDF2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E968-4F7D-4D69-88A6-64169758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609E-5C1C-46BB-A6EE-232EAB0F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7556-0BD1-4D8C-B99A-746C748C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888E-B2CA-4C73-B062-B37A61D7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2CDA-5177-48A1-B18B-4A64F492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5F7-12AE-4C94-9465-C1829C28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D13-08B7-4607-9C4C-4CEBF24A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93E-5BE0-4C6A-9BE3-45A476B1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081-CD7E-496F-9A1D-74DBF594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220-9219-472D-AFD4-64BFE20F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D14-C7D7-4772-AA96-9A14810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FE9-16B7-4663-8754-E8BBE247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0FFC-AE18-4F98-A75D-BED6AC9EF2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8983-C2C6-4B3C-B00B-B6612255909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ение – бесценный д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4033800" cy="325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547640" y="4292640"/>
            <a:ext cx="6553440" cy="1059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езентация группы «офтальмологов»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уководитель: Лебедева Екатерина Анатольевна, учитель биологи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лаук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1484280"/>
            <a:ext cx="892800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фекционные заболевания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ьюктиви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нарушений зр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4360" y="1413000"/>
            <a:ext cx="79912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расстояние от глаз до книги или компьютерного монитор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читайте в движущемся транспорте и леж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освещенностью помещения в котором вы работает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берегайте глаза при работе с опасными веществами защитными оч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трите глаза грязными ру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 длительной работе давайте глазам отдых, выполняйте гимнастику для глаз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Гимнастика для глаз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полнять сидя или стоя, с максимальной амплитудой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1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3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лову держать прямо. Поморгать, не напрягая глазные мышцы, на счет 10-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4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5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6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7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распространения инфекций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08880"/>
            <a:ext cx="78487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уйтесь только своим полотенцем и наволочкой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чески мойте руки, особенно если вы касаетесь глаз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есть возможность, не ходите в общественные места, в школу, на работу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стижения офтальмолог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62124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51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16360" y="1557360"/>
            <a:ext cx="417672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слав Николаевич Федоров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дин из многочисленных центров микрохирургии глаза им. С.Федоров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488360" cy="5416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рушения зрения могут быть наследственными и приобретенными.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ля сохранения здоровья глаз необходимо соблюдать правила гигиены зр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ww.google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olcha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tatic.baza.farpos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img-2006-01.photosigh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hrus3.hoter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otvet.mail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guru.sevstar.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dic.academic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ановить причины нарушения функций органа зрения человек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мотреть наиболее известные заболевания органов зр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щитные системы глаз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896240" cy="42606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человеческого гла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4546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нарушения зр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равм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рушение гигиены зре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фекционные заболева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стигмат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astigmatizm"/>
          <p:cNvPicPr/>
          <p:nvPr/>
        </p:nvPicPr>
        <p:blipFill>
          <a:blip r:embed="rId1"/>
          <a:stretch/>
        </p:blipFill>
        <p:spPr>
          <a:xfrm>
            <a:off x="1116000" y="1495440"/>
            <a:ext cx="6624720" cy="3138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332000" y="4869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игматизм - это самая частая причина низкого зрения, часто сопровождающая близорукость или дальнозоркость. Его причиной является неправильная форма роговицы, что исправляется очками, контактными линзами или рефракционной хирурги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таракта – помутнение хрусталика глаз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9560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70440" cy="25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39640" y="4292640"/>
            <a:ext cx="79930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динственный, наиболее верный путь избавления от катаракты - это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хирургически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который сегодня усовершенствован до такой степени, что операцию можно проводить даже в амбулаторных условиях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08:39Z</dcterms:created>
  <dc:creator>Admin</dc:creator>
  <dc:description/>
  <dc:language>en-US</dc:language>
  <cp:lastModifiedBy>LEGION</cp:lastModifiedBy>
  <dcterms:modified xsi:type="dcterms:W3CDTF">2014-11-07T12:40:45Z</dcterms:modified>
  <cp:revision>10</cp:revision>
  <dc:subject/>
  <dc:title>Слайд 1</dc:title>
</cp:coreProperties>
</file>