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B5DD-6BDB-4DE2-A8C2-8B4912AC32BD}" type="slidenum">
              <a:rPr b="1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рение – бесценный 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E25F-1C3A-467A-9BBA-91292E67D63A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ук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е определение понятия глаукомы заключается в том, что этот термин объединяет большую группу заболеваний глаза, характеризующуюся постоянным или периодическим повышением внутриглазного давления, из-за нарушения оттока водянистой влаги из глаза. Последствием повышения давления является развитие характерных для глаукомы нарушений зрительных функций и атрофии зрительного нер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7A28-732A-419E-A55C-3F4FD45D247C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екционные заболевания гла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ьюктиви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воспаление слизистой оболочки глаза при попадании в нее микробов, грибков, вирусов. Иногда коньюктивит называют еще "кроличьи глаза". Это связано с тем, что болезнь часто сопровождается покраснением 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ют бактериальную, вирусную и аллергическую форму коньюктивита. При бактериальной форме обычно инфицируются оба глаза и сопровождается обильным выделением слизи. Вирусная форма, как правило, поражает один глаз и сопровождается слезливостью и легкими выделениями. Обе эти формы болезни очень заразные и легко передаются при контакте с бо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AD53-B606-4A34-AEFC-47984CF5CB30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нарушений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расстояние от глаз до книги или компьютерного мони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итайте в движущемся транспорте и леж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освещенностью помещения в котором вы работ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регайте глаза при работе с опасными веществами защитными оч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трите глаза грязными р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длительной работе давайте глазам отдых, выполняйте гимнастику для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DE5F-A0D9-4EE2-8BF8-7072053C31F8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имнастика для глаз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полнять сидя или стоя, с максимальной амплитудой гл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1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ь глаза, сильно напрягая глазные мыщцы, на счет 1-4, затем раскрыть глаза, расслабить мышцы глаз, посмотреть вдаль через окно на счет 1-6. Повторить 4-5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2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, посмотреть направо и зафиксировать взгляд на счет 1-4, затем посмотреть вдаль прямо на счет 1-6. Аналогичным образом проводятся упражнения, но с фиксацией взгляда влево, вверх и вниз. Повторить 2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3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олову держать прямо. Поморгать, не напрягая глазные мышцы, на счет 10-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4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нести взгляд быстро по диагонали: направо вверх - налево вниз, потом прямо вдаль на счет 1-6, затем налево вверх - направо вниз и посмотреть вдаль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5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рыть глаза, не напрягая глазные мышцы на счет 1-4, широко раскрыть глаза и посмотреть вдаль на счет 1-6. Повторить 2-3 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6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поворачивая головы (голова прямо), делать медленно круговые движения глазами вверх-вправо-вниз-влево и в обратную сторону: вверх-влево-вниз-вправо. Затем посмотреть вдаль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пражнение 7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 неподвижной голове перевести взор с фиксацией его на счет 1-4 вверх, на счет 1-6 прямо, после чего аналогичным образом вниз-прямо, вправо-прямо, влево-прямо. Проделать движение по диагонали в одну и другую стороны с переводом глаз прямо на счет 1-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35B7-B9EC-4EF1-8215-FFA56EAF06FA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распространения инфекций гл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уйтесь только своим полотенцем и наволоч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чески мойте руки, особенно если вы касаетесь глаз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есть возможность, не ходите в общественные места, в школу, на рабо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давайте хлорке попасть в глаза. Она усугубит ваше состояние. Поэтому избегайте общественных бассейнов и хлорированной воды в водопров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08B3-F278-47F5-8407-751561D3EE81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я офтальм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тослав Николаевич Фед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927-2000) – один из основателей отечественной офтальмологии. Разработал ряд выдающихся методов микрохирургии глаза. Благодаря разработкам великого хирурга многие люди обретают утраченное з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592C-5521-43F2-90E1-D59841F5DD7E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 из многочисленных центров микрохирургии глаза им. С.Федор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E69D-8420-403F-B994-D49B19900D38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рушения зрения могут быть наследственными и приобретенными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я сохранения здоровья глаз необходимо соблюдать правила гигиены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стижения отечественной и мировой офтальмологии способствуют успешному лечению заболеваний органов з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6B6A-24C7-4BD2-8948-44299A426502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ru.wikipedia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gle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olcha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tatic.baza.farpos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img-2006-01.photosigh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shrus3.hoter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rikol.i.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rikol.i.u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otvet.mail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guru.sevstar.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dic.academic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7323-6944-4F87-A674-BB6A90AAEF04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ить причины нарушения функций органа зрения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ть наиболее известные заболевания органов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5120-FDB6-4758-8F4C-728933430ADD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ные системы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4A3E-9624-4FD3-9B29-11DDBE26C679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ение человеческого гл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DA12-84CE-42D5-8449-F766EAC1AA6F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нарушения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гигиены 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екционные заболе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EA46-E642-4000-A2D7-D17298A34334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аккомо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орукость или миопия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C7D7-A088-4684-8FFE-14FE46BA3D16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я аккомод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орукость или миопия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DDCC-DB8E-4942-88F6-EB0FC2E73542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таракта – помутнение хрусталика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й, наиболее верный путь избавления от катаракты - это хирургический, который сегодня усовершенствован до такой степени, что операцию можно проводить даже в амбулаторных услов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44B2-C66D-4500-BEA1-736E4B7D54F9}" type="slidenum">
              <a:rPr b="1" lang="uk-U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B242-C6A3-44E0-9DCB-E5B9FC3B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667-D3BC-44CD-B757-D2F74DC6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2396-D22E-468D-9030-26C5FACC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8B7A-70C0-42C9-B63E-ABEE34D8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658E-697F-444E-9493-59F16358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7F019-FB23-4CBF-9D12-02DF8A6B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3C560-682E-45B2-9D8F-25F39704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7276-78EF-429D-857F-4DF58F1A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F43C-A03E-449C-ACB7-0C5254BA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90F8-0221-42A0-845A-B8C3C389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3F14-F9B1-4368-A4F9-CBA4C0C4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6909-2EF5-45F9-B759-F5EC762B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056F-434B-4B60-B114-F6878B9A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15A4-0109-44EC-AAFF-0A59BCF9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FD50-0390-457D-A7F7-4FF2A236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32E5-54E6-4F42-8472-A2A1ABD7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58FD-9138-46E4-A86B-8FFB1F57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00F5-8E4D-4BED-96D4-AE173324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3718-04A1-4427-BA26-6C88FB16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475-02BF-403B-BA99-828802A6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E594-3134-4936-866D-38C866D7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DC0A-9227-45DD-ADCF-DFDC13FA9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F1D-1EDA-4A90-B600-81C47942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5FE7-9D25-4789-A067-6963E655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5B81-D76D-4C98-9B58-6B65B1EBE82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F595-7123-4DDC-938E-A52F8DE877A0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рение – бесценный да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2771640" y="907920"/>
            <a:ext cx="4033800" cy="32511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547640" y="4292640"/>
            <a:ext cx="6553440" cy="10598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езентация группы «офтальмологов»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Руководитель: Лебедева Екатерина Анатольевна, учитель биологи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Глауком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08000" y="1484280"/>
            <a:ext cx="8928000" cy="201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радиционное определение понятия глаукомы заключается в том, что этот термин объединяет большую группу заболеваний глаза, характеризующуюся постоянным или периодическим повышением внутриглазного давления, из-за нарушения оттока водянистой влаги из глаза. Последствием повышения давления является развитие характерных для глаукомы нарушений зрительных функций и атрофии зрительного нерв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2771640" y="3573360"/>
            <a:ext cx="3888000" cy="26035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Инфекционные заболевания глаз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ьюктивит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воспаление слизистой оболочки глаза при попадании в нее микробов, грибков, вирусов. Иногда коньюктивит называют еще "кроличьи глаза". Это связано с тем, что болезнь часто сопровождается покраснением ве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личают бактериальную, вирусную и аллергическую форму коньюктивита. При бактериальной форме обычно инфицируются оба глаза и сопровождается обильным выделением слизи. Вирусная форма, как правило, поражает один глаз и сопровождается слезливостью и легкими выделениями. Обе эти формы болезни очень заразные и легко передаются при контакте с больным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филактика нарушений зрения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84360" y="1413000"/>
            <a:ext cx="799128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ледите за расстояние от глаз до книги или компьютерного монитор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е читайте в движущемся транспорте и лежа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Следите за освещенностью помещения в котором вы работаете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Оберегайте глаза при работе с опасными веществами защитными очкам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Не трите глаза грязными руками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При длительной работе давайте глазам отдых, выполняйте гимнастику для глаз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Гимнастика для глаз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907920"/>
            <a:ext cx="8435880" cy="56167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ыполнять сидя или стоя, с максимальной амплитудой глаз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1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рыть глаза, сильно напрягая глазные мыщцы, на счет 1-4, затем раскрыть глаза, расслабить мышцы глаз, посмотреть вдаль через окно на счет 1-6. Повторить 4-5 раз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2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оворачивая головы, посмотреть направо и зафиксировать взгляд на счет 1-4, затем посмотреть вдаль прямо на счет 1-6. Аналогичным образом проводятся упражнения, но с фиксацией взгляда влево, вверх и вниз. Повторить 2 раз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3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олову держать прямо. Поморгать, не напрягая глазные мышцы, на счет 10-15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4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еренести взгляд быстро по диагонали: направо вверх - налево вниз, потом прямо вдаль на счет 1-6, затем налево вверх - направо вниз и посмотреть вдаль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5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рыть глаза, не напрягая глазные мышцы на счет 1-4, широко раскрыть глаза и посмотреть вдаль на счет 1-6. Повторить 2-3 раза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6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е поворачивая головы (голова прямо), делать медленно круговые движения глазами вверх-вправо-вниз-влево и в обратную сторону: вверх-влево-вниз-вправо. Затем посмотреть вдаль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пражнение 7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 неподвижной голове перевести взор с фиксацией его на счет 1-4 вверх, на счет 1-6 прямо, после чего аналогичным образом вниз-прямо, вправо-прямо, влево-прямо. Проделать движение по диагонали в одну и другую стороны с переводом глаз прямо на счет 1-6.</a:t>
            </a:r>
            <a:endParaRPr b="0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офилактика распространения инфекций глаз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39640" y="1208880"/>
            <a:ext cx="7848720" cy="44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ьзуйтесь только своим полотенцем и наволочкой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стематически мойте руки, особенно если вы касаетесь глаз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есть возможность, не ходите в общественные места, в школу, на работу;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давайте хлорке попасть в глаза. Она усугубит ваше состояние. Поэтому избегайте общественных бассейнов и хлорированной воды в водопроводе.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Достижения офтальмолог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621240" cy="4176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651672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716360" y="1557360"/>
            <a:ext cx="4176720" cy="270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ятослав Николаевич Федоров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1927-2000) – один из основателей отечественной офтальмологии. Разработал ряд выдающихся методов микрохирургии глаза. Благодаря разработкам великого хирурга многие люди обретают утраченное зрение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Один из многочисленных центров микрохирургии глаза им. С.Федоров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826920" y="1441440"/>
            <a:ext cx="7488360" cy="54165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Нарушения зрения могут быть наследственными и приобретенными.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ля сохранения здоровья глаз необходимо соблюдать правила гигиены зрения;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Достижения отечественной и мировой офтальмологии способствуют успешному лечению заболеваний органов зр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ованные ресурсы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ru.wikipedia.or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www.google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wolcha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static.baza.farpost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img-2006-01.photosight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shrus3.hoter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prikol.i.u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prikol.i.u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otvet.mail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guru.sevstar.ne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http://dic.academic.ru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Цели исследова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Установить причины нарушения функций органа зрения человека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смотреть наиболее известные заболевания органов зрения;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Защитные системы глаз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7896240" cy="42606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Строение человеческого глаз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7272360" cy="45464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Причины нарушения зрени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Травмы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Нарушение гигиены зрения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Verdana"/>
              </a:rPr>
              <a:t>Инфекционные заболевания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рушения аккомод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60720" cy="24051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4788000" y="4076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250920" y="3981240"/>
            <a:ext cx="374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лизорук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оп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Нарушения аккомодаци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032000" cy="23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4932360" y="1557360"/>
            <a:ext cx="3960720" cy="24051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4788000" y="407664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льнозоркость (гиперметропия) - это нарушение зрения, при котором изображение предмета формируется не на сетчатке, а за н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250920" y="3981240"/>
            <a:ext cx="374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Близорукость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иопия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— это дефект  зрения, при котором изображение падает не на сетчатку глаза, а перед ней из-за того, что преломляющая система глаза обладает увеличенной оптической силой и слишком сильно фокусирует (относительно данного переднезаднего размера глазного яблока)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ver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Астигматизм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0" name="Picture 5" descr="astigmatizm"/>
          <p:cNvPicPr/>
          <p:nvPr/>
        </p:nvPicPr>
        <p:blipFill>
          <a:blip r:embed="rId1"/>
          <a:stretch/>
        </p:blipFill>
        <p:spPr>
          <a:xfrm>
            <a:off x="1116000" y="1495440"/>
            <a:ext cx="6624720" cy="31384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1332000" y="486900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стигматизм - это самая частая причина низкого зрения, часто сопровождающая близорукость или дальнозоркость. Его причиной является неправильная форма роговицы, что исправляется очками, контактными линзами или рефракционной хирургией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Катаракта – помутнение хрусталика глаза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95604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4716360" y="1600200"/>
            <a:ext cx="3970440" cy="250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96108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539640" y="4292640"/>
            <a:ext cx="7993080" cy="119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Единственный, наиболее верный путь избавления от катаракты - это </a:t>
            </a:r>
            <a:r>
              <a:rPr b="1" lang="ru-RU" sz="1800" spc="-1" strike="noStrike">
                <a:solidFill>
                  <a:srgbClr val="eaeaea"/>
                </a:solidFill>
                <a:latin typeface="Verdana"/>
              </a:rPr>
              <a:t>хирургический</a:t>
            </a: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, который сегодня усовершенствован до такой степени, что операцию можно проводить даже в амбулаторных условиях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www.sliderpoint.org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07:08:39Z</dcterms:created>
  <dc:creator>Admin</dc:creator>
  <dc:description/>
  <dc:language>en-US</dc:language>
  <cp:lastModifiedBy>LEGION</cp:lastModifiedBy>
  <dcterms:modified xsi:type="dcterms:W3CDTF">2014-11-07T12:40:45Z</dcterms:modified>
  <cp:revision>10</cp:revision>
  <dc:subject/>
  <dc:title>Слайд 1</dc:title>
</cp:coreProperties>
</file>