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D26A-8414-447F-9530-6C2EDF7919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еты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0D69-77C1-42A5-90E9-1E58287B6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состоит из камня и металлов и имеет сложное стро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4CCF-250D-4698-A29A-432308B25A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Земля исходит от первоначального корня, который несёт в себе смысл «низк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81E3-147D-425B-8B15-C70A47821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1FC7-5049-4D7D-B822-62BC5BF63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71CE-6D0E-4C67-AA74-C80A57FE8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526C-A47E-4FBD-8B1B-E74F5A172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0C13-021E-4A3C-94D8-EAA2AF42F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 имеет цветастую атмосферу. В атмосфере постоянно бушуют мощные ура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0AB-5F1A-4CD1-A156-6F01A7783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имеет 16 спу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354E-05C6-4A3E-ADE0-8651919E7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а в честь самого главного римского бога – Юпи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9245-D83D-4A22-A703-51FE2C335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3C18-5053-4A0D-9BEE-20D9AC5FE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 назван в честь римского бога землед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1E79-D014-44B0-8200-A4F019A9C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B84F-749B-44C0-A0A4-EF6266749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греческого бога неба Ур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1E39-E96D-48A6-B48B-F42E3BFFF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4BC5-1259-4DF9-9954-0199E9844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ептун носит имя римского бога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0041-D1A2-4C18-8F43-9FE0653F8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E528-4277-4EC2-A332-5171D24DA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 назван в честь римского бога – повелителя царства мё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E316-78C5-48E9-BDD1-1F0ECCC385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376E-74A2-4EE1-8CCD-DC74EECB7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E09-162D-4001-8910-8F341B32EA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ркурии нет атмосферы и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лнечной стороне – очень жарко, а на противоположной – ледяной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37CB-6027-4CA3-84F8-BA39A653B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римского бога торговли –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673-10A0-4058-8132-8641A8DC9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5715-6506-41EF-AB61-59A90A674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BFCD-2BDA-4307-ABD5-D453DC932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богини красоты – Вен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E1D-523F-4F10-999E-29B124488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E931-914C-42E3-BDCF-484F7EAA0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FAB-E83E-4007-B414-7D56E2BA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067-502C-45C5-8BC6-C4853043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4AF-304E-40E8-83D7-4B01B005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AB5-B630-4F4A-818F-832B3A37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324E-EBAF-4A30-A745-97DEE62E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324C-7114-49E1-860B-03FD15B3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C448-DEE5-4523-94B4-967D3E3A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019B-43F8-433C-90E7-77F62FB2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7F3D-BC26-42B5-B63E-D8909ED1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6725-7A35-471E-8764-C8EA6F29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F2F7-7D0A-4367-9666-0DA4C9C6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2A8-050C-4A3F-B78D-43DD1DC9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B5E3-9797-4111-A20E-5DA47E3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CCFF-AEBD-4A07-884A-58147F6A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AA0-1F84-40F0-BBB0-2F8F2914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10B1-8DDE-42B7-BF9B-7965B530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16E0-95DD-4088-B751-4B1DAD6B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44B-B1D9-472E-94F5-83D366EA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D18-86CB-46E3-9DBE-131C76AB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A14-A5DB-49E5-B890-EB72DA4D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28F-4BE6-48DD-9A58-F7522C5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1E3-0B38-4FA1-8BE1-7F9E88C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1C1-CD28-4A46-A6FB-B5AA83E5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12B-1E81-4608-8607-C7F8EA40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E8F9-E0B0-4CF1-A526-B769905ACD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EB80-C247-4763-A23C-9EA709E0E4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EGION</cp:lastModifiedBy>
  <dcterms:modified xsi:type="dcterms:W3CDTF">2015-01-13T12:32:46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