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3163-A636-4DEF-8716-4CCA22633C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неты солнеч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5E1B-8B26-413F-9537-34E937D011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состоит из камня и металлов и имеет сложное стро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9538-B870-4FC0-A863-265B7DEA87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Земля исходит от первоначального корня, который несёт в себе смысл «низк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7337-4F5A-4653-9FB5-024F9FB919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E2A3-997A-47D8-B74E-AB7B52BE4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DEEA-C6E7-4EE5-8184-022D630483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DED7-26DF-4618-88AD-21494EF003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0B2A-952D-4B9D-BFB2-A98A6020A4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 имеет цветастую атмосферу. В атмосфере постоянно бушуют мощные ура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A426-B08C-4488-9623-DC0DE2A730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имеет 16 спу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4FF1-1883-44CA-99BE-AA92D20E48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а в честь самого главного римского бога – Юпи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8C28-2C4C-4198-806E-780F164E4C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4D04-B418-41A2-8B22-44A1F7FFB3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 назван в честь римского бога землед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D1B4-3C1B-48AE-9BBD-BF55A8AD6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маленького каменного ядра и замёрзши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9124-A87A-4D24-9820-5612E26A2D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греческого бога неба Ур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2F3F-EF1E-49F2-AD99-B5DB4FD5EE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ту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6FF5-596C-4D74-AAFE-6288D32EB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ептун носит имя римского бога мо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7203-8A9B-4139-8C6C-5B169D3CC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2372-9B79-4624-8B73-3A3FEB5381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 назван в честь римского бога – повелителя царства мёрт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7D10-3CB6-45EA-8B61-712264311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2BFD-68EA-4F8A-BD3F-719EFFE8FF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кур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AFBE-1752-41AE-82A4-DB2022F6D3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ркурии нет атмосферы и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лнечной стороне – очень жарко, а на противоположной – ледяной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4932-3B8F-4981-B89A-EEAA3C1DC6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римского бога торговли –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F981-D99E-4AC7-9BC9-DB60079159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94E2-3A07-45A8-BBA1-B2B94A5AE4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D0BE-2BEE-499D-9CDF-7303C0D2AF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богини красоты – Вен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DB84-165E-4400-B16F-170ECC614B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4E79-5893-46C0-ABFD-C14D954D35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463-20DF-46A6-9F54-844CFF94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954-EDED-4BF2-9109-AE5A2144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DC4-D904-4B02-ACC7-833F1AFE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C22-9221-408F-91DB-45BB525A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BD41-C835-4DDE-8C7E-C74614C6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AC9B-5D37-480C-9BE5-CEA6A043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8DF6-D524-422B-8839-B7F4BC69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6088-3FC9-4139-AA48-B555569F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F7BA-A886-490B-AEDA-93125816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EBD1-D625-42DC-8611-B877D8D6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ABC2-E483-454E-BBD2-A92F67CB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CD6-3705-4772-A8B6-6E2E7648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6501-6378-4D42-8D4B-23760ED8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C38E-7803-4B49-A0BE-BF655E5E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B12E-197C-4D75-9F07-84AAC924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E5AB-3279-44EB-9EAC-C56CCF3C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CDA8-3A70-4494-A009-1677D8A8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04A-31B0-4F97-BB88-81442009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E4E-6E74-4983-9A93-15DEAC65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872-E7DA-4B2D-8E1F-46614F41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1F2-E45E-4838-8464-344E8DAB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DF3-85BA-41FD-BEF5-AC0A51BE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10C-28F6-4FFD-94D5-0CCF4834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79C-3C50-4C9D-BFBB-B48AE778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5268-9CBE-4902-8C7F-C31E754E9B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28C4-437F-4EC6-B118-3A035B984D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ланеты солнечной систем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состоит из камня и металлов и имеет сложн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3" descr="earth_int.jpg"/>
          <p:cNvPicPr/>
          <p:nvPr/>
        </p:nvPicPr>
        <p:blipFill>
          <a:blip r:embed="rId1"/>
          <a:stretch/>
        </p:blipFill>
        <p:spPr>
          <a:xfrm>
            <a:off x="1523880" y="1371600"/>
            <a:ext cx="5597640" cy="5470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Земля исходит от первоначального корня, который несёт в себе смысл «низ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Содержимое 5" descr="8855_3_1_2009_1_57_05_pm_-_jesusbluespaceearth.jpg"/>
          <p:cNvPicPr/>
          <p:nvPr/>
        </p:nvPicPr>
        <p:blipFill>
          <a:blip r:embed="rId1"/>
          <a:stretch/>
        </p:blipFill>
        <p:spPr>
          <a:xfrm>
            <a:off x="1219320" y="172548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61bb84e3cc9d.jpg"/>
          <p:cNvPicPr/>
          <p:nvPr/>
        </p:nvPicPr>
        <p:blipFill>
          <a:blip r:embed="rId2"/>
          <a:stretch/>
        </p:blipFill>
        <p:spPr>
          <a:xfrm>
            <a:off x="1143000" y="1452600"/>
            <a:ext cx="6705720" cy="54054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с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одержимое 4" descr="0a06e6b46626243f5b89170fe8bad88a.jpg"/>
          <p:cNvPicPr/>
          <p:nvPr/>
        </p:nvPicPr>
        <p:blipFill>
          <a:blip r:embed="rId1"/>
          <a:stretch/>
        </p:blipFill>
        <p:spPr>
          <a:xfrm>
            <a:off x="152280" y="2438280"/>
            <a:ext cx="4267440" cy="42274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0a061c1b72b6146ff67e751e0e700830.jpg"/>
          <p:cNvPicPr/>
          <p:nvPr/>
        </p:nvPicPr>
        <p:blipFill>
          <a:blip r:embed="rId2"/>
          <a:stretch/>
        </p:blipFill>
        <p:spPr>
          <a:xfrm>
            <a:off x="4572000" y="2438280"/>
            <a:ext cx="4430880" cy="42674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27 fobos i demos.gif"/>
          <p:cNvPicPr/>
          <p:nvPr/>
        </p:nvPicPr>
        <p:blipFill>
          <a:blip r:embed="rId1"/>
          <a:stretch/>
        </p:blipFill>
        <p:spPr>
          <a:xfrm>
            <a:off x="1447920" y="2057400"/>
            <a:ext cx="4554360" cy="45259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marteysussatelites_thumb.jpg"/>
          <p:cNvPicPr/>
          <p:nvPr/>
        </p:nvPicPr>
        <p:blipFill>
          <a:blip r:embed="rId2"/>
          <a:stretch/>
        </p:blipFill>
        <p:spPr>
          <a:xfrm>
            <a:off x="533520" y="609480"/>
            <a:ext cx="7991280" cy="60105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4" descr="big_1681.jpg"/>
          <p:cNvPicPr/>
          <p:nvPr/>
        </p:nvPicPr>
        <p:blipFill>
          <a:blip r:embed="rId1"/>
          <a:stretch/>
        </p:blipFill>
        <p:spPr>
          <a:xfrm>
            <a:off x="0" y="2438280"/>
            <a:ext cx="6095880" cy="441972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6" descr="4098841010.jpg"/>
          <p:cNvPicPr/>
          <p:nvPr/>
        </p:nvPicPr>
        <p:blipFill>
          <a:blip r:embed="rId2"/>
          <a:stretch/>
        </p:blipFill>
        <p:spPr>
          <a:xfrm>
            <a:off x="5638680" y="1600200"/>
            <a:ext cx="3362400" cy="3857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питер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1600200" y="1828800"/>
            <a:ext cx="5738760" cy="49179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питер имеет цветастую атмосферу. В атмосфере постоянно бушуют мощные ура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600px-Jupiter.jpg"/>
          <p:cNvPicPr/>
          <p:nvPr/>
        </p:nvPicPr>
        <p:blipFill>
          <a:blip r:embed="rId1"/>
          <a:stretch/>
        </p:blipFill>
        <p:spPr>
          <a:xfrm>
            <a:off x="1981080" y="1905120"/>
            <a:ext cx="4830840" cy="48304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98.jpg"/>
          <p:cNvPicPr/>
          <p:nvPr/>
        </p:nvPicPr>
        <p:blipFill>
          <a:blip r:embed="rId2"/>
          <a:stretch/>
        </p:blipFill>
        <p:spPr>
          <a:xfrm>
            <a:off x="838080" y="457200"/>
            <a:ext cx="7810560" cy="62485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имеет 16 с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Содержимое 3" descr="408.jpg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556272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а в честь самого главного римского бога – Юпи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Содержимое 3" descr="jupiter-zeus-2.jpg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ypiter.jpg"/>
          <p:cNvPicPr/>
          <p:nvPr/>
        </p:nvPicPr>
        <p:blipFill>
          <a:blip r:embed="rId2"/>
          <a:stretch/>
        </p:blipFill>
        <p:spPr>
          <a:xfrm>
            <a:off x="4572000" y="276120"/>
            <a:ext cx="4343400" cy="63342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ур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Содержимое 3" descr="satrings.gif"/>
          <p:cNvPicPr/>
          <p:nvPr/>
        </p:nvPicPr>
        <p:blipFill>
          <a:blip r:embed="rId1"/>
          <a:stretch/>
        </p:blipFill>
        <p:spPr>
          <a:xfrm>
            <a:off x="507996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1002118_0586_008.jpg"/>
          <p:cNvPicPr/>
          <p:nvPr/>
        </p:nvPicPr>
        <p:blipFill>
          <a:blip r:embed="rId2"/>
          <a:stretch/>
        </p:blipFill>
        <p:spPr>
          <a:xfrm>
            <a:off x="152280" y="2590920"/>
            <a:ext cx="4848480" cy="40003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planeta1.jpg"/>
          <p:cNvPicPr/>
          <p:nvPr/>
        </p:nvPicPr>
        <p:blipFill>
          <a:blip r:embed="rId1"/>
          <a:stretch/>
        </p:blipFill>
        <p:spPr>
          <a:xfrm>
            <a:off x="304920" y="228600"/>
            <a:ext cx="8596080" cy="64771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турн назван в честь римского бога земле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Содержимое 3" descr="1620e744452b.jpg"/>
          <p:cNvPicPr/>
          <p:nvPr/>
        </p:nvPicPr>
        <p:blipFill>
          <a:blip r:embed="rId1"/>
          <a:stretch/>
        </p:blipFill>
        <p:spPr>
          <a:xfrm>
            <a:off x="4724280" y="1523880"/>
            <a:ext cx="4071960" cy="51818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s64722752.jpg"/>
          <p:cNvPicPr/>
          <p:nvPr/>
        </p:nvPicPr>
        <p:blipFill>
          <a:blip r:embed="rId2"/>
          <a:stretch/>
        </p:blipFill>
        <p:spPr>
          <a:xfrm>
            <a:off x="304920" y="1295280"/>
            <a:ext cx="3224160" cy="54277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из маленького каменного ядра и замёрзши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одержимое 3" descr="uran.jpg"/>
          <p:cNvPicPr/>
          <p:nvPr/>
        </p:nvPicPr>
        <p:blipFill>
          <a:blip r:embed="rId1"/>
          <a:stretch/>
        </p:blipFill>
        <p:spPr>
          <a:xfrm>
            <a:off x="152280" y="205740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94949186.jpg"/>
          <p:cNvPicPr/>
          <p:nvPr/>
        </p:nvPicPr>
        <p:blipFill>
          <a:blip r:embed="rId2"/>
          <a:stretch/>
        </p:blipFill>
        <p:spPr>
          <a:xfrm>
            <a:off x="5867280" y="1676520"/>
            <a:ext cx="3143520" cy="2581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греческого бога неба У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Содержимое 3" descr="antiq105.jpg"/>
          <p:cNvPicPr/>
          <p:nvPr/>
        </p:nvPicPr>
        <p:blipFill>
          <a:blip r:embed="rId1"/>
          <a:stretch/>
        </p:blipFill>
        <p:spPr>
          <a:xfrm>
            <a:off x="152280" y="2133720"/>
            <a:ext cx="8829720" cy="32922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пту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cb03be4f7715.jpg"/>
          <p:cNvPicPr/>
          <p:nvPr/>
        </p:nvPicPr>
        <p:blipFill>
          <a:blip r:embed="rId2"/>
          <a:stretch/>
        </p:blipFill>
        <p:spPr>
          <a:xfrm>
            <a:off x="4648320" y="2819520"/>
            <a:ext cx="4373280" cy="38862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ептун носит имя римского бога м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Содержимое 3" descr="129615629747008576.jpg"/>
          <p:cNvPicPr/>
          <p:nvPr/>
        </p:nvPicPr>
        <p:blipFill>
          <a:blip r:embed="rId1"/>
          <a:stretch/>
        </p:blipFill>
        <p:spPr>
          <a:xfrm>
            <a:off x="457200" y="160020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4" descr="nng.jpg"/>
          <p:cNvPicPr/>
          <p:nvPr/>
        </p:nvPicPr>
        <p:blipFill>
          <a:blip r:embed="rId2"/>
          <a:stretch/>
        </p:blipFill>
        <p:spPr>
          <a:xfrm>
            <a:off x="4267080" y="1600200"/>
            <a:ext cx="4192560" cy="44956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уто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одержимое 3" descr="0_58bb6_55f2a7ee_XL.png"/>
          <p:cNvPicPr/>
          <p:nvPr/>
        </p:nvPicPr>
        <p:blipFill>
          <a:blip r:embed="rId1"/>
          <a:stretch/>
        </p:blipFill>
        <p:spPr>
          <a:xfrm>
            <a:off x="304920" y="2895480"/>
            <a:ext cx="3676680" cy="36576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0_58bb3_de57970c_XL.jpg"/>
          <p:cNvPicPr/>
          <p:nvPr/>
        </p:nvPicPr>
        <p:blipFill>
          <a:blip r:embed="rId2"/>
          <a:stretch/>
        </p:blipFill>
        <p:spPr>
          <a:xfrm>
            <a:off x="4572000" y="28195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утон назван в честь римского бога – повелителя царства мё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Содержимое 3" descr="028_029.JPG=600.jpg"/>
          <p:cNvPicPr/>
          <p:nvPr/>
        </p:nvPicPr>
        <p:blipFill>
          <a:blip r:embed="rId1"/>
          <a:stretch/>
        </p:blipFill>
        <p:spPr>
          <a:xfrm>
            <a:off x="533520" y="17524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2135156_f260.jpg"/>
          <p:cNvPicPr/>
          <p:nvPr/>
        </p:nvPicPr>
        <p:blipFill>
          <a:blip r:embed="rId2"/>
          <a:stretch/>
        </p:blipFill>
        <p:spPr>
          <a:xfrm>
            <a:off x="4876920" y="1752480"/>
            <a:ext cx="2776320" cy="449604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ркурий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3" descr="1255510244_33329.300x300.jpg"/>
          <p:cNvPicPr/>
          <p:nvPr/>
        </p:nvPicPr>
        <p:blipFill>
          <a:blip r:embed="rId1"/>
          <a:stretch/>
        </p:blipFill>
        <p:spPr>
          <a:xfrm>
            <a:off x="380880" y="2895480"/>
            <a:ext cx="358164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0_5adc8_870658a1_XL.jpg"/>
          <p:cNvPicPr/>
          <p:nvPr/>
        </p:nvPicPr>
        <p:blipFill>
          <a:blip r:embed="rId2"/>
          <a:stretch/>
        </p:blipFill>
        <p:spPr>
          <a:xfrm>
            <a:off x="4419720" y="2895480"/>
            <a:ext cx="4491000" cy="3645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ркурии нет атмосферы и 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лнечной стороне – очень жарко, а на противоположной – ледяной х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cosmos_8.jpg"/>
          <p:cNvPicPr/>
          <p:nvPr/>
        </p:nvPicPr>
        <p:blipFill>
          <a:blip r:embed="rId1"/>
          <a:stretch/>
        </p:blipFill>
        <p:spPr>
          <a:xfrm>
            <a:off x="4572000" y="1676520"/>
            <a:ext cx="4465800" cy="3510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mercury-planet.jpg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римского бога торговли – Мерку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3" descr="mercurio.jpg"/>
          <p:cNvPicPr/>
          <p:nvPr/>
        </p:nvPicPr>
        <p:blipFill>
          <a:blip r:embed="rId1"/>
          <a:stretch/>
        </p:blipFill>
        <p:spPr>
          <a:xfrm>
            <a:off x="762120" y="1676520"/>
            <a:ext cx="229392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45563835_Poor_Mercury.jpg"/>
          <p:cNvPicPr/>
          <p:nvPr/>
        </p:nvPicPr>
        <p:blipFill>
          <a:blip r:embed="rId2"/>
          <a:stretch/>
        </p:blipFill>
        <p:spPr>
          <a:xfrm>
            <a:off x="3809880" y="1752480"/>
            <a:ext cx="3409920" cy="4546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нера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4980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одержимое 3" descr="I-31-PARADOX-ven-f01_640-600x632.jpg"/>
          <p:cNvPicPr/>
          <p:nvPr/>
        </p:nvPicPr>
        <p:blipFill>
          <a:blip r:embed="rId1"/>
          <a:stretch/>
        </p:blipFill>
        <p:spPr>
          <a:xfrm>
            <a:off x="2362320" y="2743200"/>
            <a:ext cx="3790800" cy="3790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I-31-PARADOX-ven-f19_640-600x466.jpg"/>
          <p:cNvPicPr/>
          <p:nvPr/>
        </p:nvPicPr>
        <p:blipFill>
          <a:blip r:embed="rId2"/>
          <a:stretch/>
        </p:blipFill>
        <p:spPr>
          <a:xfrm>
            <a:off x="609480" y="1117440"/>
            <a:ext cx="7391520" cy="57405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богини красоты – Вен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3" descr="mvs26.jpg"/>
          <p:cNvPicPr/>
          <p:nvPr/>
        </p:nvPicPr>
        <p:blipFill>
          <a:blip r:embed="rId1"/>
          <a:stretch/>
        </p:blipFill>
        <p:spPr>
          <a:xfrm>
            <a:off x="1447920" y="2133720"/>
            <a:ext cx="5295960" cy="40464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12379106_Venus_EUR.jpg"/>
          <p:cNvPicPr/>
          <p:nvPr/>
        </p:nvPicPr>
        <p:blipFill>
          <a:blip r:embed="rId2"/>
          <a:stretch/>
        </p:blipFill>
        <p:spPr>
          <a:xfrm>
            <a:off x="533520" y="142236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596-dunyanin_uzaydan_gorunumu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LEGION</cp:lastModifiedBy>
  <dcterms:modified xsi:type="dcterms:W3CDTF">2015-01-13T12:32:46Z</dcterms:modified>
  <cp:revision>33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1f0000000000010243100207f6000400038000</vt:lpwstr>
  </property>
  <property fmtid="{D5CDD505-2E9C-101B-9397-08002B2CF9AE}" pid="3" name="Version">
    <vt:r8>1</vt:r8>
  </property>
</Properties>
</file>