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CAA2-E324-4074-BC0A-3AB540C08C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неты солнеч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60F1-AA77-47E3-85D1-A95787523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состоит из камня и металлов и имеет сложное стро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3CEF-A2EC-4EDC-8800-89737A29E1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Земля исходит от первоначального корня, который несёт в себе смысл «низк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0817-FA45-4211-94B9-F10330CD3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1126-5C0C-41F7-9CFF-5BC2BD285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014B-BD6B-429C-8C6D-DB0C8E5CE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73F1-B444-44FF-A27C-D8AD20C97A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B618-9267-4ED1-89D6-D256ADCBB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питер имеет цветастую атмосферу. В атмосфере постоянно бушуют мощные ура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92C7-826E-4080-90E8-81717E4A9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имеет 16 спу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D5D3-97DE-4376-AF59-89290A96E2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а в честь самого главного римского бога – Юпи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9AF0-BF0D-4769-B9EB-DF82E6716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C618-3E9F-4F44-931E-267AD2A8A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турн назван в честь римского бога землед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65C8-B59F-4711-83A3-D1185F9B4E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маленького каменного ядра и замёрзши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661A-DF5E-42D7-81DE-1ECE6C1D16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азвана в честь греческого бога неба Ур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2C6A-B4D8-4F5D-AC7F-DF28C6AC17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ту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A719-6CDF-4D0C-A96A-09D866E80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Нептун носит имя римского бога мо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02B3-54A7-4AE5-A591-73CE41ED2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289A-B775-4DCC-AB3F-A42C015F6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утон назван в честь римского бога – повелителя царства мёрт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C1E2-D839-4F77-9C6A-B0DA7BBFC7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0008-560D-461C-A82C-4576A5C8F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кур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995-4C0D-48C6-82D4-1909592EF4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ркурии нет атмосферы и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лнечной стороне – очень жарко, а на противоположной – ледяной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2AB-60EB-4748-84C4-1F8B8DD61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римского бога торговли –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6674-8AF4-48C8-A776-25B2052C5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D403-5771-4329-ADAC-E7D23A827D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54C3-C362-4CA1-96B7-9655A598C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а получила своё название в честь богини красоты – Вен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C8C-B4B4-4975-A81E-9BB59EC30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A61C-553D-4071-AD94-747338E85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53E-B32D-4C2F-A2F5-329F9E94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459-1A5E-491E-9008-80B3970B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AA9-D53E-49A3-BE70-E602E741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905-39EE-4F77-BAED-CF5CC622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FB95-19C6-43D7-B028-3BDEE4FC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F883-4B0B-43B7-A494-D8521EA7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3AAE-4A43-4254-9414-659E529C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517C-73E3-4B07-A1C7-05170968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37FD-63DF-4C7F-8C73-3ABFBFE7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2AC1-054D-4D75-A04D-D67C1D34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9B08-1861-4370-9A61-290FCEEF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C9C-C35E-4360-BA11-1B34C052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62BD-17BB-4AE7-A614-9E0FA3C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0D2A-76FD-4CA1-9B7D-DEEC3D1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05CC-4C59-49A2-B252-D1373A8F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2EF4-F423-4888-95B5-87482960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7015-0B27-46AD-BF56-3AE53A03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E59-01FA-4747-A7F0-2D86BED3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318-18CA-4A41-9D00-0A672F95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AE2-1773-42E6-BA36-4C0B2379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D1E-E35E-44A8-9125-8C0EECD2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9A5-C905-4E6F-BF93-C1A3179D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1C8-AC92-4B6A-BF47-11C079AA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9A4-60B8-4251-AA47-CF57F4B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A29B-33A0-48B9-8B53-51F5AF9A03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B933-16D8-4D98-BE6F-843F5AC377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бога вой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447920" y="2057400"/>
            <a:ext cx="4554360" cy="45259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533520" y="609480"/>
            <a:ext cx="7991280" cy="60105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2895480"/>
            <a:ext cx="3676680" cy="3657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572000" y="28195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609480" y="1117440"/>
            <a:ext cx="7391520" cy="57405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EGION</cp:lastModifiedBy>
  <dcterms:modified xsi:type="dcterms:W3CDTF">2015-01-13T12:32:46Z</dcterms:modified>
  <cp:revision>33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