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8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7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46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1D01-4D16-4D7F-9CB8-5AD7C6CED2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ланеты солнеч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34D7-E1BB-4C3B-927F-D98D3CBAE6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состоит из камня и металлов и имеет сложное стро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0DD7-9B5A-416E-B981-9EE6035D51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Земля исходит от первоначального корня, который несёт в себе смысл «низк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0CC6-E5E6-4EEA-BA5B-B96CBF54B9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с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с  - четвёртая планета от солнца. Поверхность планеты содержит много железа, которое, окисляясь, даёт красный цвет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EFCC-6E4D-4161-ADA6-E3A4EF65C2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с меньше Земли, но у него есть два спутника – Фобос и Демос (что в переводе означает Страх и Ужас – так звали сыновей бога вой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2CDF-33DD-486B-B276-A2DB9F36FB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названа в честь римского бога войны – за свой красный цвет, напоминающий цвет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1ED0-7DCB-4C9A-AD08-428C3EA119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питер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ющая планета от Солнца – самая большая в Солнечной системе. Состоит главным образом из различны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6DDE-7879-43FB-AE92-87394E43FE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питер имеет цветастую атмосферу. В атмосфере постоянно бушуют мощные ураг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0BEE-DB57-4B27-9CFC-CC2ED0B306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имеет 16 спут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F28F-3F0C-4FFA-A63C-A4156DA074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а в честь самого главного римского бога – Юпи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CC54-CF18-4DC7-AF96-6BAE2B9AA8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тур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по величине планета Солнечной системы. Она окружена множеством ярких колец, состоящих из обломков льда и камн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2B2E-38A2-40DD-995F-D0AE5A10C0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турн назван в честь римского бога земледе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1518-5E0A-4E14-8963-B04C548107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маленького каменного ядра и замёрзши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89A2-7953-4615-B317-1843828138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названа в честь греческого бога неба Ур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20C6-53BA-4D63-AD45-662D710F5B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ту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мерцает голубоватым светом, напоминающим блеск воды. Температура на поверхности Нептуна – минус 200 градусов. На планете свирепствуют самые сильные бури во всей Солнечной сис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9829-06A6-4183-AE5F-302762702E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Нептун носит имя римского бога мор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3A39-2E3A-4A16-89EB-09F62CF89D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уто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маленькая планета Солнечной системы. Плутон так далёк от Солнца, что на его поверхности царит невероятный холод до минуса 230 граду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6E9A-27D3-4AAA-87E2-C6C953FC76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утон назван в честь римского бога – повелителя царства мёрт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9AA2-AC05-4D2C-9955-C2039DAABB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5AF6-866A-4CB9-8EB4-F0ED5D5439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кур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жайшей к солнцу планетой является Меркурий. Это самая быстрая планета. Она обращается вокруг Солнца за 88 дн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8FC7-EC45-4515-82CC-EE946DC2CB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ркурии нет атмосферы и во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лнечной стороне – очень жарко, а на противоположной – ледяной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9A35-3443-457A-BC2F-EB5936F1CF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получила своё название в честь римского бога торговли – Мерку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C6EE-8DB7-4198-8BCB-41B4DE1CB9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ер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от Солнца планета, выглядит как очень яркая звезда, её ещё называют «утренней звездо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24EC-EB22-4751-89E7-F3BA16E64A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ера похожа на Землю, почти такого же размера. Она окружена толстым слоем облаков, но её атмосфера состоит из углекислого газа и серной кислоты. Под облаками стоит сильная ж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4F67-8432-497C-AC44-FB4E7FF144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получила своё название в честь богини красоты – Вене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A753-3C03-4035-A366-B34D0299D7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я планета от Солнца – Земля. Её называют «Голубая планета» - потому, что на ней много воды и она имеет воздушную оболочку, атмосферу, она придаёт планете голубизн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C1C0-678E-43AF-8237-229B6BF557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B6B-B8C8-4882-9480-55AD6728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0EF5-2C3D-44BA-A026-5EFB3FE8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07C8-A623-481E-B0A6-BD011B9F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D08A-E59F-4401-A2FF-981CA685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6A12-1551-4CDA-96A8-B0FB4E4B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60AF-F8A5-410B-BCEE-F3B6580A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9FEA-3769-490F-92F7-187068B0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1940-EE6B-451F-8CF4-AD9A63FD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9B2E-3912-4B25-AAE3-5833CEF8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9805-FD22-4C92-ABF3-4B1DF8D2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E529-2244-4BC0-A25C-9B0C2E5E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9B8C-7F74-4755-8D94-1AE55DE0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8CF7-4DFC-48FA-A0B3-C74B8F31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57A7-D070-4744-90BA-F5EE2EEF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9241-172F-48DF-9E02-89445F62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FBFD-A120-4462-AF0E-BB534D77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DB17-24FF-4F33-B5DA-D181259DD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D79C-B3A5-4F07-A5C2-C5396A5B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407-8ED1-435D-9014-5D35EDD7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5399-F067-463A-93F6-BB8768A5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E67B-C0CF-4ACA-A68D-78D7992B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0236-F43D-4A97-99E1-6781DDC2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9C0A-1296-48DD-AD49-33C92824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5F1F-7BCC-44E1-9BBE-C7D2D231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234F-BAA3-4E04-B43F-2DE7E49B01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54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5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6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7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4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196B-BB3B-4679-97CC-574C66C6AE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Планеты солнечной систем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ля состоит из камня и металлов и имеет сложное стро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Содержимое 3" descr="earth_int.jpg"/>
          <p:cNvPicPr/>
          <p:nvPr/>
        </p:nvPicPr>
        <p:blipFill>
          <a:blip r:embed="rId1"/>
          <a:stretch/>
        </p:blipFill>
        <p:spPr>
          <a:xfrm>
            <a:off x="1523880" y="1371600"/>
            <a:ext cx="5597640" cy="547056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е Земля исходит от первоначального корня, который несёт в себе смысл «низк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Содержимое 5" descr="8855_3_1_2009_1_57_05_pm_-_jesusbluespaceearth.jpg"/>
          <p:cNvPicPr/>
          <p:nvPr/>
        </p:nvPicPr>
        <p:blipFill>
          <a:blip r:embed="rId1"/>
          <a:stretch/>
        </p:blipFill>
        <p:spPr>
          <a:xfrm>
            <a:off x="1219320" y="1725480"/>
            <a:ext cx="6476760" cy="48578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6" descr="61bb84e3cc9d.jpg"/>
          <p:cNvPicPr/>
          <p:nvPr/>
        </p:nvPicPr>
        <p:blipFill>
          <a:blip r:embed="rId2"/>
          <a:stretch/>
        </p:blipFill>
        <p:spPr>
          <a:xfrm>
            <a:off x="1143000" y="1452600"/>
            <a:ext cx="6705720" cy="54054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рс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с  - четвёртая планета от солнца. Поверхность планеты содержит много железа, которое, окисляясь, даёт красный цве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Содержимое 4" descr="0a06e6b46626243f5b89170fe8bad88a.jpg"/>
          <p:cNvPicPr/>
          <p:nvPr/>
        </p:nvPicPr>
        <p:blipFill>
          <a:blip r:embed="rId1"/>
          <a:stretch/>
        </p:blipFill>
        <p:spPr>
          <a:xfrm>
            <a:off x="152280" y="2438280"/>
            <a:ext cx="4267440" cy="42274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5" descr="0a061c1b72b6146ff67e751e0e700830.jpg"/>
          <p:cNvPicPr/>
          <p:nvPr/>
        </p:nvPicPr>
        <p:blipFill>
          <a:blip r:embed="rId2"/>
          <a:stretch/>
        </p:blipFill>
        <p:spPr>
          <a:xfrm>
            <a:off x="4572000" y="2438280"/>
            <a:ext cx="4430880" cy="42674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с меньше Земли, но у него есть два спутника – Фобос и Демос (что в переводе означает Страх и Ужас – так звали сыновей бога вой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одержимое 3" descr="27 fobos i demos.gif"/>
          <p:cNvPicPr/>
          <p:nvPr/>
        </p:nvPicPr>
        <p:blipFill>
          <a:blip r:embed="rId1"/>
          <a:stretch/>
        </p:blipFill>
        <p:spPr>
          <a:xfrm>
            <a:off x="1447920" y="2057400"/>
            <a:ext cx="4554360" cy="45259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4" descr="marteysussatelites_thumb.jpg"/>
          <p:cNvPicPr/>
          <p:nvPr/>
        </p:nvPicPr>
        <p:blipFill>
          <a:blip r:embed="rId2"/>
          <a:stretch/>
        </p:blipFill>
        <p:spPr>
          <a:xfrm>
            <a:off x="533520" y="609480"/>
            <a:ext cx="7991280" cy="60105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азвана в честь римского бога войны – за свой красный цвет, напоминающий цвет кр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4" descr="big_1681.jpg"/>
          <p:cNvPicPr/>
          <p:nvPr/>
        </p:nvPicPr>
        <p:blipFill>
          <a:blip r:embed="rId1"/>
          <a:stretch/>
        </p:blipFill>
        <p:spPr>
          <a:xfrm>
            <a:off x="0" y="2438280"/>
            <a:ext cx="6095880" cy="4419720"/>
          </a:xfrm>
          <a:prstGeom prst="rect">
            <a:avLst/>
          </a:prstGeom>
          <a:ln w="0">
            <a:noFill/>
          </a:ln>
        </p:spPr>
      </p:pic>
      <p:pic>
        <p:nvPicPr>
          <p:cNvPr id="173" name="Содержимое 6" descr="4098841010.jpg"/>
          <p:cNvPicPr/>
          <p:nvPr/>
        </p:nvPicPr>
        <p:blipFill>
          <a:blip r:embed="rId2"/>
          <a:stretch/>
        </p:blipFill>
        <p:spPr>
          <a:xfrm>
            <a:off x="5638680" y="1600200"/>
            <a:ext cx="3362400" cy="38577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питер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ая планета от Солнца – самая большая в Солнечной системе. Состоит главным образом из различных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Содержимое 3" descr="699px-Jupiter-Earth-Spot_comparison.jpg"/>
          <p:cNvPicPr/>
          <p:nvPr/>
        </p:nvPicPr>
        <p:blipFill>
          <a:blip r:embed="rId1"/>
          <a:stretch/>
        </p:blipFill>
        <p:spPr>
          <a:xfrm>
            <a:off x="1600200" y="1828800"/>
            <a:ext cx="5738760" cy="49179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питер имеет цветастую атмосферу. В атмосфере постоянно бушуют мощные ураг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Содержимое 3" descr="600px-Jupiter.jpg"/>
          <p:cNvPicPr/>
          <p:nvPr/>
        </p:nvPicPr>
        <p:blipFill>
          <a:blip r:embed="rId1"/>
          <a:stretch/>
        </p:blipFill>
        <p:spPr>
          <a:xfrm>
            <a:off x="1981080" y="1905120"/>
            <a:ext cx="4830840" cy="48304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4" descr="98.jpg"/>
          <p:cNvPicPr/>
          <p:nvPr/>
        </p:nvPicPr>
        <p:blipFill>
          <a:blip r:embed="rId2"/>
          <a:stretch/>
        </p:blipFill>
        <p:spPr>
          <a:xfrm>
            <a:off x="838080" y="457200"/>
            <a:ext cx="7810560" cy="624852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имеет 16 спут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Содержимое 3" descr="408.jpg"/>
          <p:cNvPicPr/>
          <p:nvPr/>
        </p:nvPicPr>
        <p:blipFill>
          <a:blip r:embed="rId1"/>
          <a:stretch/>
        </p:blipFill>
        <p:spPr>
          <a:xfrm>
            <a:off x="1752480" y="1143000"/>
            <a:ext cx="5562720" cy="556272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426708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а в честь самого главного римского бога – Юпи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Содержимое 3" descr="jupiter-zeus-2.jpg"/>
          <p:cNvPicPr/>
          <p:nvPr/>
        </p:nvPicPr>
        <p:blipFill>
          <a:blip r:embed="rId1"/>
          <a:stretch/>
        </p:blipFill>
        <p:spPr>
          <a:xfrm>
            <a:off x="762120" y="2133720"/>
            <a:ext cx="248904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4" descr="ypiter.jpg"/>
          <p:cNvPicPr/>
          <p:nvPr/>
        </p:nvPicPr>
        <p:blipFill>
          <a:blip r:embed="rId2"/>
          <a:stretch/>
        </p:blipFill>
        <p:spPr>
          <a:xfrm>
            <a:off x="4572000" y="276120"/>
            <a:ext cx="4343400" cy="633420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тур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по величине планета Солнечной системы. Она окружена множеством ярких колец, состоящих из обломков льда и камн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Содержимое 3" descr="satrings.gif"/>
          <p:cNvPicPr/>
          <p:nvPr/>
        </p:nvPicPr>
        <p:blipFill>
          <a:blip r:embed="rId1"/>
          <a:stretch/>
        </p:blipFill>
        <p:spPr>
          <a:xfrm>
            <a:off x="5079960" y="2286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4" descr="1002118_0586_008.jpg"/>
          <p:cNvPicPr/>
          <p:nvPr/>
        </p:nvPicPr>
        <p:blipFill>
          <a:blip r:embed="rId2"/>
          <a:stretch/>
        </p:blipFill>
        <p:spPr>
          <a:xfrm>
            <a:off x="152280" y="2590920"/>
            <a:ext cx="4848480" cy="400032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5" descr="planeta1.jpg"/>
          <p:cNvPicPr/>
          <p:nvPr/>
        </p:nvPicPr>
        <p:blipFill>
          <a:blip r:embed="rId1"/>
          <a:stretch/>
        </p:blipFill>
        <p:spPr>
          <a:xfrm>
            <a:off x="304920" y="228600"/>
            <a:ext cx="8596080" cy="64771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турн назван в честь римского бога земле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Содержимое 3" descr="1620e744452b.jpg"/>
          <p:cNvPicPr/>
          <p:nvPr/>
        </p:nvPicPr>
        <p:blipFill>
          <a:blip r:embed="rId1"/>
          <a:stretch/>
        </p:blipFill>
        <p:spPr>
          <a:xfrm>
            <a:off x="4724280" y="1523880"/>
            <a:ext cx="4071960" cy="51818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4" descr="s64722752.jpg"/>
          <p:cNvPicPr/>
          <p:nvPr/>
        </p:nvPicPr>
        <p:blipFill>
          <a:blip r:embed="rId2"/>
          <a:stretch/>
        </p:blipFill>
        <p:spPr>
          <a:xfrm>
            <a:off x="304920" y="1295280"/>
            <a:ext cx="3224160" cy="542772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а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ит из маленького каменного ядра и замёрзших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Содержимое 3" descr="uran.jpg"/>
          <p:cNvPicPr/>
          <p:nvPr/>
        </p:nvPicPr>
        <p:blipFill>
          <a:blip r:embed="rId1"/>
          <a:stretch/>
        </p:blipFill>
        <p:spPr>
          <a:xfrm>
            <a:off x="152280" y="2057400"/>
            <a:ext cx="6034320" cy="45259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4" descr="94949186.jpg"/>
          <p:cNvPicPr/>
          <p:nvPr/>
        </p:nvPicPr>
        <p:blipFill>
          <a:blip r:embed="rId2"/>
          <a:stretch/>
        </p:blipFill>
        <p:spPr>
          <a:xfrm>
            <a:off x="5867280" y="1676520"/>
            <a:ext cx="3143520" cy="25812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азвана в честь греческого бога неба Ур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Содержимое 3" descr="antiq105.jpg"/>
          <p:cNvPicPr/>
          <p:nvPr/>
        </p:nvPicPr>
        <p:blipFill>
          <a:blip r:embed="rId1"/>
          <a:stretch/>
        </p:blipFill>
        <p:spPr>
          <a:xfrm>
            <a:off x="152280" y="2133720"/>
            <a:ext cx="8829720" cy="32922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пту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мерцает голубоватым светом, напоминающим блеск воды. Температура на поверхности Нептуна – минус 200 градусов. На планете свирепствуют самые сильные бури во всей Солнечной сис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Содержимое 3" descr="Neptune,_Earth_size_comparison.jpg"/>
          <p:cNvPicPr/>
          <p:nvPr/>
        </p:nvPicPr>
        <p:blipFill>
          <a:blip r:embed="rId1"/>
          <a:stretch/>
        </p:blipFill>
        <p:spPr>
          <a:xfrm>
            <a:off x="380880" y="28195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4" descr="cb03be4f7715.jpg"/>
          <p:cNvPicPr/>
          <p:nvPr/>
        </p:nvPicPr>
        <p:blipFill>
          <a:blip r:embed="rId2"/>
          <a:stretch/>
        </p:blipFill>
        <p:spPr>
          <a:xfrm>
            <a:off x="4648320" y="2819520"/>
            <a:ext cx="4373280" cy="388620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ептун носит имя римского бога мо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Содержимое 3" descr="129615629747008576.jpg"/>
          <p:cNvPicPr/>
          <p:nvPr/>
        </p:nvPicPr>
        <p:blipFill>
          <a:blip r:embed="rId1"/>
          <a:stretch/>
        </p:blipFill>
        <p:spPr>
          <a:xfrm>
            <a:off x="457200" y="1600200"/>
            <a:ext cx="303696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4" descr="nng.jpg"/>
          <p:cNvPicPr/>
          <p:nvPr/>
        </p:nvPicPr>
        <p:blipFill>
          <a:blip r:embed="rId2"/>
          <a:stretch/>
        </p:blipFill>
        <p:spPr>
          <a:xfrm>
            <a:off x="4267080" y="1600200"/>
            <a:ext cx="4192560" cy="44956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уто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ая маленькая планета Солнечной системы. Плутон так далёк от Солнца, что на его поверхности царит невероятный холод до минуса 230 граду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Содержимое 3" descr="0_58bb6_55f2a7ee_XL.png"/>
          <p:cNvPicPr/>
          <p:nvPr/>
        </p:nvPicPr>
        <p:blipFill>
          <a:blip r:embed="rId1"/>
          <a:stretch/>
        </p:blipFill>
        <p:spPr>
          <a:xfrm>
            <a:off x="304920" y="2895480"/>
            <a:ext cx="3676680" cy="365760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4" descr="0_58bb3_de57970c_XL.jpg"/>
          <p:cNvPicPr/>
          <p:nvPr/>
        </p:nvPicPr>
        <p:blipFill>
          <a:blip r:embed="rId2"/>
          <a:stretch/>
        </p:blipFill>
        <p:spPr>
          <a:xfrm>
            <a:off x="4572000" y="28195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утон назван в честь римского бога – повелителя царства мёрт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Содержимое 3" descr="028_029.JPG=600.jpg"/>
          <p:cNvPicPr/>
          <p:nvPr/>
        </p:nvPicPr>
        <p:blipFill>
          <a:blip r:embed="rId1"/>
          <a:stretch/>
        </p:blipFill>
        <p:spPr>
          <a:xfrm>
            <a:off x="533520" y="17524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4" descr="2135156_f260.jpg"/>
          <p:cNvPicPr/>
          <p:nvPr/>
        </p:nvPicPr>
        <p:blipFill>
          <a:blip r:embed="rId2"/>
          <a:stretch/>
        </p:blipFill>
        <p:spPr>
          <a:xfrm>
            <a:off x="4876920" y="1752480"/>
            <a:ext cx="2776320" cy="449604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ркурий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ижайшей к солнцу планетой является Меркурий. Это самая быстрая планета. Она обращается вокруг Солнца за 88 дн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3" descr="1255510244_33329.300x300.jpg"/>
          <p:cNvPicPr/>
          <p:nvPr/>
        </p:nvPicPr>
        <p:blipFill>
          <a:blip r:embed="rId1"/>
          <a:stretch/>
        </p:blipFill>
        <p:spPr>
          <a:xfrm>
            <a:off x="380880" y="2895480"/>
            <a:ext cx="3581640" cy="35816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0_5adc8_870658a1_XL.jpg"/>
          <p:cNvPicPr/>
          <p:nvPr/>
        </p:nvPicPr>
        <p:blipFill>
          <a:blip r:embed="rId2"/>
          <a:stretch/>
        </p:blipFill>
        <p:spPr>
          <a:xfrm>
            <a:off x="4419720" y="2895480"/>
            <a:ext cx="4491000" cy="3645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Меркурии нет атмосферы и вод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олнечной стороне – очень жарко, а на противоположной – ледяной хол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3" descr="cosmos_8.jpg"/>
          <p:cNvPicPr/>
          <p:nvPr/>
        </p:nvPicPr>
        <p:blipFill>
          <a:blip r:embed="rId1"/>
          <a:stretch/>
        </p:blipFill>
        <p:spPr>
          <a:xfrm>
            <a:off x="4572000" y="1676520"/>
            <a:ext cx="4465800" cy="3510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mercury-planet.jpg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получила своё название в честь римского бога торговли – Мерку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Содержимое 3" descr="mercurio.jpg"/>
          <p:cNvPicPr/>
          <p:nvPr/>
        </p:nvPicPr>
        <p:blipFill>
          <a:blip r:embed="rId1"/>
          <a:stretch/>
        </p:blipFill>
        <p:spPr>
          <a:xfrm>
            <a:off x="762120" y="1676520"/>
            <a:ext cx="2293920" cy="45259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45563835_Poor_Mercury.jpg"/>
          <p:cNvPicPr/>
          <p:nvPr/>
        </p:nvPicPr>
        <p:blipFill>
          <a:blip r:embed="rId2"/>
          <a:stretch/>
        </p:blipFill>
        <p:spPr>
          <a:xfrm>
            <a:off x="3809880" y="1752480"/>
            <a:ext cx="3409920" cy="45468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нера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от Солнца планета, выглядит как очень яркая звезда, её ещё называют «утренней звезд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Содержимое 5" descr="f_9249719.jpg"/>
          <p:cNvPicPr/>
          <p:nvPr/>
        </p:nvPicPr>
        <p:blipFill>
          <a:blip r:embed="rId1"/>
          <a:stretch/>
        </p:blipFill>
        <p:spPr>
          <a:xfrm>
            <a:off x="1143000" y="2209680"/>
            <a:ext cx="6049800" cy="4525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ера похожа на Землю, почти такого же размера. Она окружена толстым слоем облаков, но её атмосфера состоит из углекислого газа и серной кислоты. Под облаками стоит сильная ж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Содержимое 3" descr="I-31-PARADOX-ven-f01_640-600x632.jpg"/>
          <p:cNvPicPr/>
          <p:nvPr/>
        </p:nvPicPr>
        <p:blipFill>
          <a:blip r:embed="rId1"/>
          <a:stretch/>
        </p:blipFill>
        <p:spPr>
          <a:xfrm>
            <a:off x="2362320" y="2743200"/>
            <a:ext cx="3790800" cy="37908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I-31-PARADOX-ven-f19_640-600x466.jpg"/>
          <p:cNvPicPr/>
          <p:nvPr/>
        </p:nvPicPr>
        <p:blipFill>
          <a:blip r:embed="rId2"/>
          <a:stretch/>
        </p:blipFill>
        <p:spPr>
          <a:xfrm>
            <a:off x="609480" y="1117440"/>
            <a:ext cx="7391520" cy="574056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получила своё название в честь богини красоты – Вене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Содержимое 3" descr="mvs26.jpg"/>
          <p:cNvPicPr/>
          <p:nvPr/>
        </p:nvPicPr>
        <p:blipFill>
          <a:blip r:embed="rId1"/>
          <a:stretch/>
        </p:blipFill>
        <p:spPr>
          <a:xfrm>
            <a:off x="1447920" y="2133720"/>
            <a:ext cx="5295960" cy="40464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4" descr="12379106_Venus_EUR.jpg"/>
          <p:cNvPicPr/>
          <p:nvPr/>
        </p:nvPicPr>
        <p:blipFill>
          <a:blip r:embed="rId2"/>
          <a:stretch/>
        </p:blipFill>
        <p:spPr>
          <a:xfrm>
            <a:off x="533520" y="1422360"/>
            <a:ext cx="8001000" cy="50292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емля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тья планета от Солнца – Земля. Её называют «Голубая планета» - потому, что на ней много воды и она имеет воздушную оболочку, атмосферу, она придаёт планете голубизн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Содержимое 3" descr="01113a861320.jpg"/>
          <p:cNvPicPr/>
          <p:nvPr/>
        </p:nvPicPr>
        <p:blipFill>
          <a:blip r:embed="rId1"/>
          <a:stretch/>
        </p:blipFill>
        <p:spPr>
          <a:xfrm>
            <a:off x="0" y="3276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4" descr="596-dunyanin_uzaydan_gorunumu.jpg"/>
          <p:cNvPicPr/>
          <p:nvPr/>
        </p:nvPicPr>
        <p:blipFill>
          <a:blip r:embed="rId2"/>
          <a:stretch/>
        </p:blipFill>
        <p:spPr>
          <a:xfrm>
            <a:off x="4572000" y="32767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LEGION</cp:lastModifiedBy>
  <dcterms:modified xsi:type="dcterms:W3CDTF">2015-01-13T12:32:46Z</dcterms:modified>
  <cp:revision>33</cp:revision>
  <dc:subject>естествознание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1f0000000000010243100207f6000400038000</vt:lpwstr>
  </property>
  <property fmtid="{D5CDD505-2E9C-101B-9397-08002B2CF9AE}" pid="3" name="Version">
    <vt:r8>1</vt:r8>
  </property>
</Properties>
</file>