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.png" ContentType="image/png"/>
  <Override PartName="/ppt/media/image7.png" ContentType="image/png"/>
  <Override PartName="/ppt/media/image34.jpeg" ContentType="image/jpeg"/>
  <Override PartName="/ppt/media/image36.jpeg" ContentType="image/jpeg"/>
  <Override PartName="/ppt/media/image40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C568-D0CA-45BD-A902-57B928B5DC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ые и планетарные туманности в процессе эволюции галакти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3313-6F7A-424E-9F32-0B875D37EE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ые тума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ые туманности – разновидность диффузных туманност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какого отношения не имеют к процессу звездообразования и рождения планетных дисков около звез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09A2-24F7-432A-9AC9-D92A4BDD2D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центре планетарных туманностей находится звезд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сный гигант, окруженный яркой, газовой оболочко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а относится к тип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ельца и планетарная туманность – это оболочка, которую звезда сбрасывает с себ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а теряет массу в виде солнечного ветра, имеющего скорость до 30 к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B389-0EA7-499C-AFF0-FC9FDA35B0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9F89-9E52-41EA-BF42-29A8E0D777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 27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Лисич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40D1-380D-4554-8AE1-4272947CEE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 «Кошачий глаз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2C20-2F14-4814-AB24-1DE3662485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ральная звезда тума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ральная звезда туманности погружена в светящееся в рентгеновском диапазоне облако газа с температурой в несколько миллионов граду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453B-A1C5-4D2C-B20D-475FB6476B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 «Эскимос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407B-D113-4C27-A524-59E46B78F5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 65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2F05-7D3F-4893-85FC-CD58EE6A0D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 67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107C-3A51-480F-B30E-304DA9B10A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ные тума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ще всего размещены в галактическом диске (видны в полосе Млечного Пут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вляются облаками космического газа и пыли, которая поглощает свет звезд, лежащих за не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B442-0BDF-4328-B0E3-56DB30736A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ранство между звез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ранство между звездами заполнено разреженным веществом, излучением и магнитным поле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ежзвездной среде открыты огромные холодные области -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молекулярные облак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 температурой 5 – 50 К и очень горячий газ с температурой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К –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коронарный га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35B4-1941-469D-92E0-108C2FF342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ная тума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нская Голов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2E0A-F12D-4EB5-8E9F-0EABFE02DA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урительная Труб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114B-79D8-45EB-955A-7101D1A400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жный Угольный Меш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30D3-E14D-451B-84BE-0B9290A01A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ждение звез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ы образуются в результате гравитационной неустойчивости в холодных и плот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ярных облаках, поэтому звёзды рождаются группами, скоплениями, комплекс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77B0-876B-4353-9D59-9FCF3E90E0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80BF-20A8-423D-81CA-5F61481635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ракрасное излуче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 нашей Галак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5E00-7834-49CE-887E-331B491A86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а активного звездообразования – холодные струи га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6866-5D7A-4ACD-8BF8-314DEF8945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опланетные д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3DE3-00DC-423E-8021-BA24546755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Орион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8FF6-29A1-42EA-9BEA-DAFD9C7DDE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мки космическим телескоп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F31F-74C5-4DD8-97DE-F006782CCE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иффузные туман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ожены около горячих звезд спектрального класса О и 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етятся за счет мощного ультрафиолетового излучения горячих звез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ют яркие эмиссионные линии в спектр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ют неправильную форм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т из межзвёздной пыли и га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F096-05DA-47B8-8264-FA179A3416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ая туманность Ориона (центральная част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58BB-9359-484B-93EC-E7B08166F4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Трехразде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CC5B-7C26-4159-A028-551ABA5F17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ая туманность «Омег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CAE3-9061-460B-804A-9BB7EF3F9C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ая туманность «Лагун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82AC-DBB6-4659-911D-1A6373A54F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бовидная туманность М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C444-51E7-44FD-8084-02AFCC942E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Розе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CAE2-4BEF-4712-B870-A5DD7D6F95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FA5-C00B-46DD-BFF9-6D2BEF4D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4B6B-4232-4256-9166-D7C617F5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6306-28F8-4645-A497-0F683AAC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140B-8683-443E-9BA6-6FC68FD7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E5F4-C4C8-4F61-97D1-DFDF94E0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4CF3-641E-4841-BA66-633525AB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E8A5-F71C-4008-8348-918F2811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1F17-0834-44CB-83B8-68670A80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9535-F2F4-441C-B9B2-ACF2B64E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9882-54D8-4E80-A81E-8A881952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275D-F396-45B6-97A8-E98526E1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6B93-5BEA-4C0C-B2ED-25637655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5BD9-922E-4AA6-8B01-2D70E777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5305-4B17-4DC5-9197-EC4E11E3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05E5-113B-47AC-B9FB-824E454D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84F2-A565-4BED-BA14-609602AF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8BB9-03E6-4842-BD85-A819AB77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597F7-54C5-49D9-BCCD-475C8817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767D9-3DD8-4FE0-A229-EC2D919B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6FA76-2607-4529-8836-5E1C93FF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21E85-7A6E-46C9-9EA9-3839E267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8B730-3C29-4015-8982-CFB59CEE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9978-0C08-4314-9ABD-7A75BDBB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80250-D1C7-42C6-89BB-19531434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A7FF9-768F-4AC2-8660-D6B1FEBF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CBBA2-544E-492B-9264-159E6DAA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25040-BDBA-4347-88E2-BE5B1407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CFBB4-8D03-496C-A2BF-2EF2A030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0FABD-0491-4AC4-9EC5-D61A6324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A7D61-AF1B-488E-88F7-E5AB8E2D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E608-20B0-4B08-9668-1093D515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83A8-B8BD-44D5-8144-EDAE8773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7FE8-468D-4668-9DF4-4943930A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C0C5-6DCF-453E-B22F-A1D74918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78F2-D1BB-4B0F-8849-F7AD7FA0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016D-F47E-43DB-9B8A-0AC986DA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3.xml"/><Relationship Id="rId21" Type="http://schemas.openxmlformats.org/officeDocument/2006/relationships/slideLayout" Target="../slideLayouts/slideLayout14.xml"/><Relationship Id="rId22" Type="http://schemas.openxmlformats.org/officeDocument/2006/relationships/slideLayout" Target="../slideLayouts/slideLayout15.xml"/><Relationship Id="rId23" Type="http://schemas.openxmlformats.org/officeDocument/2006/relationships/slideLayout" Target="../slideLayouts/slideLayout16.xml"/><Relationship Id="rId24" Type="http://schemas.openxmlformats.org/officeDocument/2006/relationships/slideLayout" Target="../slideLayouts/slideLayout17.xml"/><Relationship Id="rId25" Type="http://schemas.openxmlformats.org/officeDocument/2006/relationships/slideLayout" Target="../slideLayouts/slideLayout18.xml"/><Relationship Id="rId26" Type="http://schemas.openxmlformats.org/officeDocument/2006/relationships/slideLayout" Target="../slideLayouts/slideLayout19.xml"/><Relationship Id="rId27" Type="http://schemas.openxmlformats.org/officeDocument/2006/relationships/slideLayout" Target="../slideLayouts/slideLayout20.xml"/><Relationship Id="rId28" Type="http://schemas.openxmlformats.org/officeDocument/2006/relationships/slideLayout" Target="../slideLayouts/slideLayout21.xml"/><Relationship Id="rId29" Type="http://schemas.openxmlformats.org/officeDocument/2006/relationships/slideLayout" Target="../slideLayouts/slideLayout22.xml"/><Relationship Id="rId30" Type="http://schemas.openxmlformats.org/officeDocument/2006/relationships/slideLayout" Target="../slideLayouts/slideLayout23.xml"/><Relationship Id="rId3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25.xml"/><Relationship Id="rId21" Type="http://schemas.openxmlformats.org/officeDocument/2006/relationships/slideLayout" Target="../slideLayouts/slideLayout26.xml"/><Relationship Id="rId22" Type="http://schemas.openxmlformats.org/officeDocument/2006/relationships/slideLayout" Target="../slideLayouts/slideLayout27.xml"/><Relationship Id="rId23" Type="http://schemas.openxmlformats.org/officeDocument/2006/relationships/slideLayout" Target="../slideLayouts/slideLayout28.xml"/><Relationship Id="rId24" Type="http://schemas.openxmlformats.org/officeDocument/2006/relationships/slideLayout" Target="../slideLayouts/slideLayout29.xml"/><Relationship Id="rId25" Type="http://schemas.openxmlformats.org/officeDocument/2006/relationships/slideLayout" Target="../slideLayouts/slideLayout30.xml"/><Relationship Id="rId26" Type="http://schemas.openxmlformats.org/officeDocument/2006/relationships/slideLayout" Target="../slideLayouts/slideLayout31.xml"/><Relationship Id="rId27" Type="http://schemas.openxmlformats.org/officeDocument/2006/relationships/slideLayout" Target="../slideLayouts/slideLayout32.xml"/><Relationship Id="rId28" Type="http://schemas.openxmlformats.org/officeDocument/2006/relationships/slideLayout" Target="../slideLayouts/slideLayout33.xml"/><Relationship Id="rId29" Type="http://schemas.openxmlformats.org/officeDocument/2006/relationships/slideLayout" Target="../slideLayouts/slideLayout34.xml"/><Relationship Id="rId30" Type="http://schemas.openxmlformats.org/officeDocument/2006/relationships/slideLayout" Target="../slideLayouts/slideLayout35.xml"/><Relationship Id="rId3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Group 101" descr=""/>
          <p:cNvPicPr/>
          <p:nvPr/>
        </p:nvPicPr>
        <p:blipFill>
          <a:blip r:embed="rId7"/>
          <a:stretch/>
        </p:blipFill>
        <p:spPr>
          <a:xfrm>
            <a:off x="-60480" y="-103320"/>
            <a:ext cx="4102200" cy="42181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5181-5602-4A2B-9C11-25C9A15A1B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6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oup 101" descr=""/>
          <p:cNvPicPr/>
          <p:nvPr/>
        </p:nvPicPr>
        <p:blipFill>
          <a:blip r:embed="rId7"/>
          <a:stretch/>
        </p:blipFill>
        <p:spPr>
          <a:xfrm>
            <a:off x="-60480" y="-103320"/>
            <a:ext cx="41022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1"/>
          <p:cNvGrpSpPr/>
          <p:nvPr/>
        </p:nvGrpSpPr>
        <p:grpSpPr>
          <a:xfrm>
            <a:off x="3309480" y="1737360"/>
            <a:ext cx="6152760" cy="5139000"/>
            <a:chOff x="3309480" y="1737360"/>
            <a:chExt cx="6152760" cy="5139000"/>
          </a:xfrm>
        </p:grpSpPr>
        <p:grpSp>
          <p:nvGrpSpPr>
            <p:cNvPr id="70" name="Group 42"/>
            <p:cNvGrpSpPr/>
            <p:nvPr/>
          </p:nvGrpSpPr>
          <p:grpSpPr>
            <a:xfrm>
              <a:off x="3309480" y="1770480"/>
              <a:ext cx="6152760" cy="4770000"/>
              <a:chOff x="3309480" y="1770480"/>
              <a:chExt cx="6152760" cy="4770000"/>
            </a:xfrm>
          </p:grpSpPr>
          <p:grpSp>
            <p:nvGrpSpPr>
              <p:cNvPr id="71" name="Freeform 21"/>
              <p:cNvGrpSpPr/>
              <p:nvPr/>
            </p:nvGrpSpPr>
            <p:grpSpPr>
              <a:xfrm>
                <a:off x="3309480" y="1770480"/>
                <a:ext cx="6152760" cy="4770000"/>
                <a:chOff x="3309480" y="1770480"/>
                <a:chExt cx="6152760" cy="4770000"/>
              </a:xfrm>
            </p:grpSpPr>
            <p:pic>
              <p:nvPicPr>
                <p:cNvPr id="72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7640" y="2959920"/>
                  <a:ext cx="5304240" cy="306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 rot="19693200">
                  <a:off x="3440160" y="3101760"/>
                  <a:ext cx="565560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Freeform 22"/>
              <p:cNvGrpSpPr/>
              <p:nvPr/>
            </p:nvGrpSpPr>
            <p:grpSpPr>
              <a:xfrm>
                <a:off x="3320280" y="1780200"/>
                <a:ext cx="6108840" cy="4757400"/>
                <a:chOff x="3320280" y="1780200"/>
                <a:chExt cx="6108840" cy="4757400"/>
              </a:xfrm>
            </p:grpSpPr>
            <p:pic>
              <p:nvPicPr>
                <p:cNvPr id="75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87160" y="2974320"/>
                  <a:ext cx="5241600" cy="305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" name=""/>
                <p:cNvSpPr/>
                <p:nvPr/>
              </p:nvSpPr>
              <p:spPr>
                <a:xfrm rot="19693200">
                  <a:off x="3452760" y="3105000"/>
                  <a:ext cx="563184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77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45120" y="2541960"/>
              <a:ext cx="2651760" cy="416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38"/>
            <p:cNvGrpSpPr/>
            <p:nvPr/>
          </p:nvGrpSpPr>
          <p:grpSpPr>
            <a:xfrm>
              <a:off x="5133600" y="2425680"/>
              <a:ext cx="3531240" cy="4219560"/>
              <a:chOff x="5133600" y="2425680"/>
              <a:chExt cx="3531240" cy="4219560"/>
            </a:xfrm>
          </p:grpSpPr>
          <p:grpSp>
            <p:nvGrpSpPr>
              <p:cNvPr id="79" name="Freeform 19"/>
              <p:cNvGrpSpPr/>
              <p:nvPr/>
            </p:nvGrpSpPr>
            <p:grpSpPr>
              <a:xfrm>
                <a:off x="5568840" y="2619360"/>
                <a:ext cx="2884320" cy="3535560"/>
                <a:chOff x="5568840" y="2619360"/>
                <a:chExt cx="2884320" cy="3535560"/>
              </a:xfrm>
            </p:grpSpPr>
            <p:pic>
              <p:nvPicPr>
                <p:cNvPr id="80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65480" y="3396240"/>
                  <a:ext cx="2243160" cy="1954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 rot="19693200">
                  <a:off x="6348240" y="2717640"/>
                  <a:ext cx="1324800" cy="33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Freeform 20"/>
              <p:cNvGrpSpPr/>
              <p:nvPr/>
            </p:nvGrpSpPr>
            <p:grpSpPr>
              <a:xfrm>
                <a:off x="5133600" y="2425680"/>
                <a:ext cx="3531240" cy="4219560"/>
                <a:chOff x="5133600" y="2425680"/>
                <a:chExt cx="3531240" cy="4219560"/>
              </a:xfrm>
            </p:grpSpPr>
            <p:pic>
              <p:nvPicPr>
                <p:cNvPr id="83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91440" y="3255120"/>
                  <a:ext cx="2721240" cy="231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9693200">
                  <a:off x="6023880" y="2595600"/>
                  <a:ext cx="1750680" cy="38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" name="Group 39"/>
            <p:cNvGrpSpPr/>
            <p:nvPr/>
          </p:nvGrpSpPr>
          <p:grpSpPr>
            <a:xfrm>
              <a:off x="4102920" y="3019320"/>
              <a:ext cx="3830400" cy="3755160"/>
              <a:chOff x="4102920" y="3019320"/>
              <a:chExt cx="3830400" cy="3755160"/>
            </a:xfrm>
          </p:grpSpPr>
          <p:grpSp>
            <p:nvGrpSpPr>
              <p:cNvPr id="86" name="Freeform 17"/>
              <p:cNvGrpSpPr/>
              <p:nvPr/>
            </p:nvGrpSpPr>
            <p:grpSpPr>
              <a:xfrm>
                <a:off x="4148280" y="3695400"/>
                <a:ext cx="2715480" cy="2882520"/>
                <a:chOff x="4148280" y="3695400"/>
                <a:chExt cx="2715480" cy="2882520"/>
              </a:xfrm>
            </p:grpSpPr>
            <p:pic>
              <p:nvPicPr>
                <p:cNvPr id="87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82760" y="3695040"/>
                  <a:ext cx="672480" cy="283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"/>
                <p:cNvSpPr/>
                <p:nvPr/>
              </p:nvSpPr>
              <p:spPr>
                <a:xfrm rot="19693200">
                  <a:off x="4618080" y="3991320"/>
                  <a:ext cx="1775160" cy="22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Freeform 18"/>
              <p:cNvGrpSpPr/>
              <p:nvPr/>
            </p:nvGrpSpPr>
            <p:grpSpPr>
              <a:xfrm>
                <a:off x="4102920" y="3019320"/>
                <a:ext cx="3830400" cy="3755160"/>
                <a:chOff x="4102920" y="3019320"/>
                <a:chExt cx="3830400" cy="3755160"/>
              </a:xfrm>
            </p:grpSpPr>
            <p:pic>
              <p:nvPicPr>
                <p:cNvPr id="90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33160" y="3166560"/>
                  <a:ext cx="1331280" cy="337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"/>
                <p:cNvSpPr/>
                <p:nvPr/>
              </p:nvSpPr>
              <p:spPr>
                <a:xfrm rot="19693200">
                  <a:off x="4582440" y="3577680"/>
                  <a:ext cx="2871360" cy="26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" name="Group 37"/>
            <p:cNvGrpSpPr/>
            <p:nvPr/>
          </p:nvGrpSpPr>
          <p:grpSpPr>
            <a:xfrm>
              <a:off x="4126680" y="1737360"/>
              <a:ext cx="3408480" cy="3314880"/>
              <a:chOff x="4126680" y="1737360"/>
              <a:chExt cx="3408480" cy="3314880"/>
            </a:xfrm>
          </p:grpSpPr>
          <p:grpSp>
            <p:nvGrpSpPr>
              <p:cNvPr id="93" name="Freeform 15"/>
              <p:cNvGrpSpPr/>
              <p:nvPr/>
            </p:nvGrpSpPr>
            <p:grpSpPr>
              <a:xfrm>
                <a:off x="4789800" y="2191680"/>
                <a:ext cx="2673360" cy="2802240"/>
                <a:chOff x="4789800" y="2191680"/>
                <a:chExt cx="2673360" cy="2802240"/>
              </a:xfrm>
            </p:grpSpPr>
            <p:pic>
              <p:nvPicPr>
                <p:cNvPr id="94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89800" y="2690280"/>
                  <a:ext cx="2661120" cy="179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1786400">
                  <a:off x="5140440" y="2432160"/>
                  <a:ext cx="2035440" cy="23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Freeform 16"/>
              <p:cNvGrpSpPr/>
              <p:nvPr/>
            </p:nvGrpSpPr>
            <p:grpSpPr>
              <a:xfrm>
                <a:off x="4126680" y="1737360"/>
                <a:ext cx="3408480" cy="3314880"/>
                <a:chOff x="4126680" y="1737360"/>
                <a:chExt cx="3408480" cy="3314880"/>
              </a:xfrm>
            </p:grpSpPr>
            <p:pic>
              <p:nvPicPr>
                <p:cNvPr id="97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6680" y="2395080"/>
                  <a:ext cx="3326040" cy="205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1786400">
                  <a:off x="4523760" y="2063160"/>
                  <a:ext cx="2689560" cy="266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" name="Group 36"/>
            <p:cNvGrpSpPr/>
            <p:nvPr/>
          </p:nvGrpSpPr>
          <p:grpSpPr>
            <a:xfrm>
              <a:off x="4183920" y="2099160"/>
              <a:ext cx="4903920" cy="4777200"/>
              <a:chOff x="4183920" y="2099160"/>
              <a:chExt cx="4903920" cy="4777200"/>
            </a:xfrm>
          </p:grpSpPr>
          <p:grpSp>
            <p:nvGrpSpPr>
              <p:cNvPr id="100" name="Freeform 13"/>
              <p:cNvGrpSpPr/>
              <p:nvPr/>
            </p:nvGrpSpPr>
            <p:grpSpPr>
              <a:xfrm>
                <a:off x="5138280" y="2761560"/>
                <a:ext cx="3843000" cy="4023720"/>
                <a:chOff x="5138280" y="2761560"/>
                <a:chExt cx="3843000" cy="4023720"/>
              </a:xfrm>
            </p:grpSpPr>
            <p:pic>
              <p:nvPicPr>
                <p:cNvPr id="101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38280" y="3481920"/>
                  <a:ext cx="3809160" cy="256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 rot="11786400">
                  <a:off x="5641560" y="3107520"/>
                  <a:ext cx="2927880" cy="33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Freeform 14"/>
              <p:cNvGrpSpPr/>
              <p:nvPr/>
            </p:nvGrpSpPr>
            <p:grpSpPr>
              <a:xfrm>
                <a:off x="4183920" y="2099160"/>
                <a:ext cx="4903920" cy="4777200"/>
                <a:chOff x="4183920" y="2099160"/>
                <a:chExt cx="4903920" cy="4777200"/>
              </a:xfrm>
            </p:grpSpPr>
            <p:pic>
              <p:nvPicPr>
                <p:cNvPr id="104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920" y="3045600"/>
                  <a:ext cx="4781520" cy="29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1786400">
                  <a:off x="4754160" y="2568240"/>
                  <a:ext cx="3869280" cy="38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06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A80B-93D6-4A89-95D9-F6516D7ABE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0"/>
    <p:sldLayoutId id="2147483663" r:id="rId21"/>
    <p:sldLayoutId id="2147483664" r:id="rId22"/>
    <p:sldLayoutId id="2147483665" r:id="rId23"/>
    <p:sldLayoutId id="2147483666" r:id="rId24"/>
    <p:sldLayoutId id="2147483667" r:id="rId25"/>
    <p:sldLayoutId id="2147483668" r:id="rId26"/>
    <p:sldLayoutId id="2147483669" r:id="rId27"/>
    <p:sldLayoutId id="2147483670" r:id="rId28"/>
    <p:sldLayoutId id="2147483671" r:id="rId29"/>
    <p:sldLayoutId id="2147483672" r:id="rId30"/>
    <p:sldLayoutId id="2147483673" r:id="rId3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9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6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Group 101" descr=""/>
          <p:cNvPicPr/>
          <p:nvPr/>
        </p:nvPicPr>
        <p:blipFill>
          <a:blip r:embed="rId7"/>
          <a:stretch/>
        </p:blipFill>
        <p:spPr>
          <a:xfrm>
            <a:off x="-60480" y="-103320"/>
            <a:ext cx="41022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21"/>
          <p:cNvGrpSpPr/>
          <p:nvPr/>
        </p:nvGrpSpPr>
        <p:grpSpPr>
          <a:xfrm>
            <a:off x="3309480" y="1737360"/>
            <a:ext cx="6152760" cy="5139000"/>
            <a:chOff x="3309480" y="1737360"/>
            <a:chExt cx="6152760" cy="5139000"/>
          </a:xfrm>
        </p:grpSpPr>
        <p:grpSp>
          <p:nvGrpSpPr>
            <p:cNvPr id="163" name="Group 42"/>
            <p:cNvGrpSpPr/>
            <p:nvPr/>
          </p:nvGrpSpPr>
          <p:grpSpPr>
            <a:xfrm>
              <a:off x="3309480" y="1770480"/>
              <a:ext cx="6152760" cy="4770000"/>
              <a:chOff x="3309480" y="1770480"/>
              <a:chExt cx="6152760" cy="4770000"/>
            </a:xfrm>
          </p:grpSpPr>
          <p:grpSp>
            <p:nvGrpSpPr>
              <p:cNvPr id="164" name="Freeform 21"/>
              <p:cNvGrpSpPr/>
              <p:nvPr/>
            </p:nvGrpSpPr>
            <p:grpSpPr>
              <a:xfrm>
                <a:off x="3309480" y="1770480"/>
                <a:ext cx="6152760" cy="4770000"/>
                <a:chOff x="3309480" y="1770480"/>
                <a:chExt cx="6152760" cy="4770000"/>
              </a:xfrm>
            </p:grpSpPr>
            <p:pic>
              <p:nvPicPr>
                <p:cNvPr id="165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7640" y="2959920"/>
                  <a:ext cx="5304240" cy="306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9693200">
                  <a:off x="3440160" y="3101760"/>
                  <a:ext cx="565560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Freeform 22"/>
              <p:cNvGrpSpPr/>
              <p:nvPr/>
            </p:nvGrpSpPr>
            <p:grpSpPr>
              <a:xfrm>
                <a:off x="3320280" y="1780200"/>
                <a:ext cx="6108840" cy="4757400"/>
                <a:chOff x="3320280" y="1780200"/>
                <a:chExt cx="6108840" cy="4757400"/>
              </a:xfrm>
            </p:grpSpPr>
            <p:pic>
              <p:nvPicPr>
                <p:cNvPr id="168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87160" y="2974320"/>
                  <a:ext cx="5241600" cy="305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 rot="19693200">
                  <a:off x="3452760" y="3105000"/>
                  <a:ext cx="563184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70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45120" y="2541960"/>
              <a:ext cx="2651760" cy="416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38"/>
            <p:cNvGrpSpPr/>
            <p:nvPr/>
          </p:nvGrpSpPr>
          <p:grpSpPr>
            <a:xfrm>
              <a:off x="5133600" y="2425680"/>
              <a:ext cx="3531240" cy="4219560"/>
              <a:chOff x="5133600" y="2425680"/>
              <a:chExt cx="3531240" cy="4219560"/>
            </a:xfrm>
          </p:grpSpPr>
          <p:grpSp>
            <p:nvGrpSpPr>
              <p:cNvPr id="172" name="Freeform 19"/>
              <p:cNvGrpSpPr/>
              <p:nvPr/>
            </p:nvGrpSpPr>
            <p:grpSpPr>
              <a:xfrm>
                <a:off x="5568840" y="2619360"/>
                <a:ext cx="2884320" cy="3535560"/>
                <a:chOff x="5568840" y="2619360"/>
                <a:chExt cx="2884320" cy="3535560"/>
              </a:xfrm>
            </p:grpSpPr>
            <p:pic>
              <p:nvPicPr>
                <p:cNvPr id="173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65480" y="3396240"/>
                  <a:ext cx="2243160" cy="1954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" name=""/>
                <p:cNvSpPr/>
                <p:nvPr/>
              </p:nvSpPr>
              <p:spPr>
                <a:xfrm rot="19693200">
                  <a:off x="6348240" y="2717640"/>
                  <a:ext cx="1324800" cy="33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Freeform 20"/>
              <p:cNvGrpSpPr/>
              <p:nvPr/>
            </p:nvGrpSpPr>
            <p:grpSpPr>
              <a:xfrm>
                <a:off x="5133600" y="2425680"/>
                <a:ext cx="3531240" cy="4219560"/>
                <a:chOff x="5133600" y="2425680"/>
                <a:chExt cx="3531240" cy="4219560"/>
              </a:xfrm>
            </p:grpSpPr>
            <p:pic>
              <p:nvPicPr>
                <p:cNvPr id="176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91440" y="3255120"/>
                  <a:ext cx="2721240" cy="231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 rot="19693200">
                  <a:off x="6023880" y="2595600"/>
                  <a:ext cx="1750680" cy="38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8" name="Group 39"/>
            <p:cNvGrpSpPr/>
            <p:nvPr/>
          </p:nvGrpSpPr>
          <p:grpSpPr>
            <a:xfrm>
              <a:off x="4102920" y="3019320"/>
              <a:ext cx="3830400" cy="3755160"/>
              <a:chOff x="4102920" y="3019320"/>
              <a:chExt cx="3830400" cy="3755160"/>
            </a:xfrm>
          </p:grpSpPr>
          <p:grpSp>
            <p:nvGrpSpPr>
              <p:cNvPr id="179" name="Freeform 17"/>
              <p:cNvGrpSpPr/>
              <p:nvPr/>
            </p:nvGrpSpPr>
            <p:grpSpPr>
              <a:xfrm>
                <a:off x="4148280" y="3695400"/>
                <a:ext cx="2715480" cy="2882520"/>
                <a:chOff x="4148280" y="3695400"/>
                <a:chExt cx="2715480" cy="2882520"/>
              </a:xfrm>
            </p:grpSpPr>
            <p:pic>
              <p:nvPicPr>
                <p:cNvPr id="180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82760" y="3695040"/>
                  <a:ext cx="672480" cy="283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 rot="19693200">
                  <a:off x="4618080" y="3991320"/>
                  <a:ext cx="1775160" cy="22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Freeform 18"/>
              <p:cNvGrpSpPr/>
              <p:nvPr/>
            </p:nvGrpSpPr>
            <p:grpSpPr>
              <a:xfrm>
                <a:off x="4102920" y="3019320"/>
                <a:ext cx="3830400" cy="3755160"/>
                <a:chOff x="4102920" y="3019320"/>
                <a:chExt cx="3830400" cy="3755160"/>
              </a:xfrm>
            </p:grpSpPr>
            <p:pic>
              <p:nvPicPr>
                <p:cNvPr id="183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33160" y="3166560"/>
                  <a:ext cx="1331280" cy="337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 rot="19693200">
                  <a:off x="4582440" y="3577680"/>
                  <a:ext cx="2871360" cy="26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5" name="Group 37"/>
            <p:cNvGrpSpPr/>
            <p:nvPr/>
          </p:nvGrpSpPr>
          <p:grpSpPr>
            <a:xfrm>
              <a:off x="4126680" y="1737360"/>
              <a:ext cx="3408480" cy="3314880"/>
              <a:chOff x="4126680" y="1737360"/>
              <a:chExt cx="3408480" cy="3314880"/>
            </a:xfrm>
          </p:grpSpPr>
          <p:grpSp>
            <p:nvGrpSpPr>
              <p:cNvPr id="186" name="Freeform 15"/>
              <p:cNvGrpSpPr/>
              <p:nvPr/>
            </p:nvGrpSpPr>
            <p:grpSpPr>
              <a:xfrm>
                <a:off x="4789800" y="2191680"/>
                <a:ext cx="2673360" cy="2802240"/>
                <a:chOff x="4789800" y="2191680"/>
                <a:chExt cx="2673360" cy="2802240"/>
              </a:xfrm>
            </p:grpSpPr>
            <p:pic>
              <p:nvPicPr>
                <p:cNvPr id="187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89800" y="2690280"/>
                  <a:ext cx="2661120" cy="179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 rot="11786400">
                  <a:off x="5140440" y="2432160"/>
                  <a:ext cx="2035440" cy="23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Freeform 16"/>
              <p:cNvGrpSpPr/>
              <p:nvPr/>
            </p:nvGrpSpPr>
            <p:grpSpPr>
              <a:xfrm>
                <a:off x="4126680" y="1737360"/>
                <a:ext cx="3408480" cy="3314880"/>
                <a:chOff x="4126680" y="1737360"/>
                <a:chExt cx="3408480" cy="3314880"/>
              </a:xfrm>
            </p:grpSpPr>
            <p:pic>
              <p:nvPicPr>
                <p:cNvPr id="190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6680" y="2395080"/>
                  <a:ext cx="3326040" cy="205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 rot="11786400">
                  <a:off x="4523760" y="2063160"/>
                  <a:ext cx="2689560" cy="266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2" name="Group 36"/>
            <p:cNvGrpSpPr/>
            <p:nvPr/>
          </p:nvGrpSpPr>
          <p:grpSpPr>
            <a:xfrm>
              <a:off x="4183920" y="2099160"/>
              <a:ext cx="4903920" cy="4777200"/>
              <a:chOff x="4183920" y="2099160"/>
              <a:chExt cx="4903920" cy="4777200"/>
            </a:xfrm>
          </p:grpSpPr>
          <p:grpSp>
            <p:nvGrpSpPr>
              <p:cNvPr id="193" name="Freeform 13"/>
              <p:cNvGrpSpPr/>
              <p:nvPr/>
            </p:nvGrpSpPr>
            <p:grpSpPr>
              <a:xfrm>
                <a:off x="5138280" y="2761560"/>
                <a:ext cx="3843000" cy="4023720"/>
                <a:chOff x="5138280" y="2761560"/>
                <a:chExt cx="3843000" cy="4023720"/>
              </a:xfrm>
            </p:grpSpPr>
            <p:pic>
              <p:nvPicPr>
                <p:cNvPr id="194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38280" y="3481920"/>
                  <a:ext cx="3809160" cy="256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 rot="11786400">
                  <a:off x="5641560" y="3107520"/>
                  <a:ext cx="2927880" cy="33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Freeform 14"/>
              <p:cNvGrpSpPr/>
              <p:nvPr/>
            </p:nvGrpSpPr>
            <p:grpSpPr>
              <a:xfrm>
                <a:off x="4183920" y="2099160"/>
                <a:ext cx="4903920" cy="4777200"/>
                <a:chOff x="4183920" y="2099160"/>
                <a:chExt cx="4903920" cy="4777200"/>
              </a:xfrm>
            </p:grpSpPr>
            <p:pic>
              <p:nvPicPr>
                <p:cNvPr id="197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920" y="3045600"/>
                  <a:ext cx="4781520" cy="29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 rot="11786400">
                  <a:off x="4754160" y="2568240"/>
                  <a:ext cx="3869280" cy="38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99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562E-B34E-428D-91D9-E195A0EB4A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0"/>
    <p:sldLayoutId id="2147483676" r:id="rId21"/>
    <p:sldLayoutId id="2147483677" r:id="rId22"/>
    <p:sldLayoutId id="2147483678" r:id="rId23"/>
    <p:sldLayoutId id="2147483679" r:id="rId24"/>
    <p:sldLayoutId id="2147483680" r:id="rId25"/>
    <p:sldLayoutId id="2147483681" r:id="rId26"/>
    <p:sldLayoutId id="2147483682" r:id="rId27"/>
    <p:sldLayoutId id="2147483683" r:id="rId28"/>
    <p:sldLayoutId id="2147483684" r:id="rId29"/>
    <p:sldLayoutId id="2147483685" r:id="rId30"/>
    <p:sldLayoutId id="2147483686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643320"/>
            <a:ext cx="876312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Диффузные и планетарные туманности в процессе эволюции галактик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49" name="Picture 3" descr="Туманность Розетка"/>
          <p:cNvPicPr/>
          <p:nvPr/>
        </p:nvPicPr>
        <p:blipFill>
          <a:blip r:embed="rId1"/>
          <a:stretch/>
        </p:blipFill>
        <p:spPr>
          <a:xfrm>
            <a:off x="357120" y="2286000"/>
            <a:ext cx="4560840" cy="3357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Трехраздельная туманность"/>
          <p:cNvPicPr/>
          <p:nvPr/>
        </p:nvPicPr>
        <p:blipFill>
          <a:blip r:embed="rId2"/>
          <a:stretch/>
        </p:blipFill>
        <p:spPr>
          <a:xfrm>
            <a:off x="4214880" y="3714840"/>
            <a:ext cx="3689280" cy="2428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Диффузная Туманность Ориона 2"/>
          <p:cNvPicPr/>
          <p:nvPr/>
        </p:nvPicPr>
        <p:blipFill>
          <a:blip r:embed="rId3"/>
          <a:stretch/>
        </p:blipFill>
        <p:spPr>
          <a:xfrm>
            <a:off x="6143760" y="2071800"/>
            <a:ext cx="2455560" cy="201600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2743200" y="3841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ые туманност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Планетарные туманности – разновидность диффузных туманност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Никакого отношения не имеют к процессу звездообразования и рождения планетных дисков около звезд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В центре планетарных туманностей находится звезда: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4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красный гигант, окруженный яркой, газовой оболочкой;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звезда относится к типу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RV</a:t>
            </a: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 Тельца и планетарная туманность – это оболочка, которую звезда сбрасывает с себя;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звезда теряет массу в виде солнечного ветра, имеющего скорость до 30 км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с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ая туманность </a:t>
            </a: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NGC</a:t>
            </a: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2440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85" name="Picture 3" descr="Планетарная туманность NGC 2440"/>
          <p:cNvPicPr/>
          <p:nvPr/>
        </p:nvPicPr>
        <p:blipFill>
          <a:blip r:embed="rId1"/>
          <a:stretch/>
        </p:blipFill>
        <p:spPr>
          <a:xfrm>
            <a:off x="539640" y="1131840"/>
            <a:ext cx="7848720" cy="572616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Планетарная туманность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М 27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«Лисичка»</a:t>
            </a:r>
            <a:endParaRPr b="1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88" name="Picture 3" descr="2114"/>
          <p:cNvPicPr/>
          <p:nvPr/>
        </p:nvPicPr>
        <p:blipFill>
          <a:blip r:embed="rId1"/>
          <a:stretch/>
        </p:blipFill>
        <p:spPr>
          <a:xfrm>
            <a:off x="1908000" y="1989000"/>
            <a:ext cx="5837400" cy="4869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ая туманность «Кошачий глаз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1" name="Picture 3" descr="Планетарная туманность Кошачий Глаз"/>
          <p:cNvPicPr/>
          <p:nvPr/>
        </p:nvPicPr>
        <p:blipFill>
          <a:blip r:embed="rId1"/>
          <a:stretch/>
        </p:blipFill>
        <p:spPr>
          <a:xfrm>
            <a:off x="1332000" y="1523880"/>
            <a:ext cx="6553080" cy="533412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Ц</a:t>
            </a:r>
            <a:r>
              <a:rPr b="1" lang="ru-RU" sz="3600" spc="-1" strike="noStrike">
                <a:solidFill>
                  <a:srgbClr val="ffffff"/>
                </a:solidFill>
                <a:latin typeface="Corbel"/>
                <a:ea typeface="Times New Roman"/>
              </a:rPr>
              <a:t>ентральная звезда туманности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  <a:ea typeface="Times New Roman"/>
              </a:rPr>
              <a:t>ентральная звезда туманности погружена в светящееся в рентгеновском диапазоне облако газа с температурой в несколько миллионов градусов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ая туманность «Эскимос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7" name="Picture 3" descr="Планетарная туманность Эскимос"/>
          <p:cNvPicPr/>
          <p:nvPr/>
        </p:nvPicPr>
        <p:blipFill>
          <a:blip r:embed="rId1"/>
          <a:stretch/>
        </p:blipFill>
        <p:spPr>
          <a:xfrm>
            <a:off x="1332000" y="1219320"/>
            <a:ext cx="7056360" cy="537840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NGC 6543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0" name="Picture 3" descr="ngc6543"/>
          <p:cNvPicPr/>
          <p:nvPr/>
        </p:nvPicPr>
        <p:blipFill>
          <a:blip r:embed="rId1"/>
          <a:stretch/>
        </p:blipFill>
        <p:spPr>
          <a:xfrm>
            <a:off x="1371600" y="1111320"/>
            <a:ext cx="6513480" cy="574668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NGC 6751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3" name="Picture 3" descr="ngc6751"/>
          <p:cNvPicPr/>
          <p:nvPr/>
        </p:nvPicPr>
        <p:blipFill>
          <a:blip r:embed="rId1"/>
          <a:stretch/>
        </p:blipFill>
        <p:spPr>
          <a:xfrm>
            <a:off x="826920" y="1547640"/>
            <a:ext cx="7417080" cy="5310360"/>
          </a:xfrm>
          <a:prstGeom prst="rect">
            <a:avLst/>
          </a:prstGeom>
          <a:ln w="0">
            <a:noFill/>
          </a:ln>
        </p:spPr>
      </p:pic>
      <p:sp>
        <p:nvSpPr>
          <p:cNvPr id="304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Темные туманност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Чаще всего размещены в галактическом диске (видны в полосе Млечного Пути)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Являются облаками космического газа и пыли, которая поглощает свет звезд, лежащих за нею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ространство между звездам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Пространство между звездами заполнено разреженным веществом, излучением и магнитным поле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В межзвездной среде открыты огромные холодные области -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w Cen MT"/>
              </a:rPr>
              <a:t>молекулярные облака 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- с температурой 5 – 50 К и очень горячий газ с температурой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w Cen MT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 К –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w Cen MT"/>
              </a:rPr>
              <a:t>коронарный газ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емная туманность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«Конская Голова»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9" name="Picture 3" descr="Темная туманность Конская Голова"/>
          <p:cNvPicPr/>
          <p:nvPr/>
        </p:nvPicPr>
        <p:blipFill>
          <a:blip r:embed="rId1"/>
          <a:stretch/>
        </p:blipFill>
        <p:spPr>
          <a:xfrm>
            <a:off x="609480" y="1219320"/>
            <a:ext cx="7850160" cy="554976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уманность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«Курительная Трубка»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2" name="Picture 3" descr="Туманность Курительная Трубка"/>
          <p:cNvPicPr/>
          <p:nvPr/>
        </p:nvPicPr>
        <p:blipFill>
          <a:blip r:embed="rId1"/>
          <a:stretch/>
        </p:blipFill>
        <p:spPr>
          <a:xfrm>
            <a:off x="755640" y="1503360"/>
            <a:ext cx="7777080" cy="515448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уманность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Южный Угольный Мешок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5" name="Picture 3" descr="Южный Угольный Мешок"/>
          <p:cNvPicPr/>
          <p:nvPr/>
        </p:nvPicPr>
        <p:blipFill>
          <a:blip r:embed="rId1"/>
          <a:stretch/>
        </p:blipFill>
        <p:spPr>
          <a:xfrm>
            <a:off x="468360" y="1773360"/>
            <a:ext cx="8316720" cy="508464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Рождение звезд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Звезды образуются в результате гравитационной неустойчивости в холодных и плотны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молекулярных облаках, поэтому звёзды рождаются группами, скоплениями, комплексами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Звезды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1" name="Picture 3" descr="Плеяды"/>
          <p:cNvPicPr/>
          <p:nvPr/>
        </p:nvPicPr>
        <p:blipFill>
          <a:blip r:embed="rId1"/>
          <a:stretch/>
        </p:blipFill>
        <p:spPr>
          <a:xfrm>
            <a:off x="971640" y="2021040"/>
            <a:ext cx="7200720" cy="483696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Инфракрасное излучение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центра нашей Галактики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4" name="Picture 3" descr="Центр Галактики в инф лучах"/>
          <p:cNvPicPr/>
          <p:nvPr/>
        </p:nvPicPr>
        <p:blipFill>
          <a:blip r:embed="rId1"/>
          <a:stretch/>
        </p:blipFill>
        <p:spPr>
          <a:xfrm>
            <a:off x="468360" y="1628640"/>
            <a:ext cx="8244000" cy="5229360"/>
          </a:xfrm>
          <a:prstGeom prst="rect">
            <a:avLst/>
          </a:prstGeom>
          <a:ln w="0">
            <a:noFill/>
          </a:ln>
        </p:spPr>
      </p:pic>
      <p:sp>
        <p:nvSpPr>
          <p:cNvPr id="325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Места активного звездообразования – холодные струи газа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7" name="Picture 3" descr="Темные струи"/>
          <p:cNvPicPr/>
          <p:nvPr/>
        </p:nvPicPr>
        <p:blipFill>
          <a:blip r:embed="rId1"/>
          <a:stretch/>
        </p:blipFill>
        <p:spPr>
          <a:xfrm>
            <a:off x="1187280" y="1700280"/>
            <a:ext cx="6836040" cy="51577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4 диска в Орионе"/>
          <p:cNvPicPr/>
          <p:nvPr/>
        </p:nvPicPr>
        <p:blipFill>
          <a:blip r:embed="rId1"/>
          <a:stretch/>
        </p:blipFill>
        <p:spPr>
          <a:xfrm>
            <a:off x="324000" y="1052640"/>
            <a:ext cx="8496000" cy="5562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ротопланетные диск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1601"/>
          <p:cNvPicPr/>
          <p:nvPr/>
        </p:nvPicPr>
        <p:blipFill>
          <a:blip r:embed="rId1"/>
          <a:stretch/>
        </p:blipFill>
        <p:spPr>
          <a:xfrm>
            <a:off x="324000" y="836640"/>
            <a:ext cx="8604000" cy="584352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Туманность Ориона 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Протопланетный диск 1"/>
          <p:cNvPicPr/>
          <p:nvPr/>
        </p:nvPicPr>
        <p:blipFill>
          <a:blip r:embed="rId1"/>
          <a:stretch/>
        </p:blipFill>
        <p:spPr>
          <a:xfrm>
            <a:off x="324000" y="826920"/>
            <a:ext cx="8569080" cy="585972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40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Снимки космическим телескопом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Все диффузные туманности: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расположены около горячих звезд спектрального класса О и В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светятся за счет мощного ультрафиолетового излучения горячих звезд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имеют яркие эмиссионные линии в спектре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имеют неправильную форму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состоят из межзвёздной пыли и газов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Диффузная туманность Ориона (центральная часть)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1" name="Picture 3" descr="Диффузная Туманность Ориона 2"/>
          <p:cNvPicPr/>
          <p:nvPr/>
        </p:nvPicPr>
        <p:blipFill>
          <a:blip r:embed="rId1"/>
          <a:stretch/>
        </p:blipFill>
        <p:spPr>
          <a:xfrm>
            <a:off x="1187280" y="1290600"/>
            <a:ext cx="6782040" cy="556740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уманность Трехраздельная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4" name="Picture 3" descr="Трехраздельная туманность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Диффузная туманность «Омега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7" name="Picture 4" descr="2104"/>
          <p:cNvPicPr/>
          <p:nvPr/>
        </p:nvPicPr>
        <p:blipFill>
          <a:blip r:embed="rId1"/>
          <a:stretch/>
        </p:blipFill>
        <p:spPr>
          <a:xfrm>
            <a:off x="324000" y="727200"/>
            <a:ext cx="8534160" cy="61308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Диффузная туманность «Лагуна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0" name="Picture 4" descr="Туманность Лагуна"/>
          <p:cNvPicPr/>
          <p:nvPr/>
        </p:nvPicPr>
        <p:blipFill>
          <a:blip r:embed="rId1"/>
          <a:stretch/>
        </p:blipFill>
        <p:spPr>
          <a:xfrm>
            <a:off x="1187280" y="762120"/>
            <a:ext cx="6705720" cy="609588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Крабовидная туманность М1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3" name="Picture 3" descr="М1 Крабовидная туманность"/>
          <p:cNvPicPr/>
          <p:nvPr/>
        </p:nvPicPr>
        <p:blipFill>
          <a:blip r:embed="rId1"/>
          <a:stretch/>
        </p:blipFill>
        <p:spPr>
          <a:xfrm>
            <a:off x="539640" y="812880"/>
            <a:ext cx="8382240" cy="604512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Туманность Розетка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6" name="Picture 3" descr="Туманность Розетка"/>
          <p:cNvPicPr/>
          <p:nvPr/>
        </p:nvPicPr>
        <p:blipFill>
          <a:blip r:embed="rId1"/>
          <a:stretch/>
        </p:blipFill>
        <p:spPr>
          <a:xfrm>
            <a:off x="395280" y="687240"/>
            <a:ext cx="8381880" cy="617076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09:12:56Z</dcterms:created>
  <dc:creator>ELENA</dc:creator>
  <dc:description/>
  <dc:language>en-US</dc:language>
  <cp:lastModifiedBy>LEGION</cp:lastModifiedBy>
  <dcterms:modified xsi:type="dcterms:W3CDTF">2015-01-13T12:36:08Z</dcterms:modified>
  <cp:revision>80</cp:revision>
  <dc:subject/>
  <dc:title>Самостоятельное конструирование интерактивных экспериментов по физике с использованием телекоммуникационных средств обучения</dc:title>
</cp:coreProperties>
</file>