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24.jpeg" ContentType="image/jpeg"/>
  <Override PartName="/ppt/media/image14.png" ContentType="image/png"/>
  <Override PartName="/ppt/media/image1.png" ContentType="image/png"/>
  <Override PartName="/ppt/media/image7.png" ContentType="image/png"/>
  <Override PartName="/ppt/media/image34.jpeg" ContentType="image/jpeg"/>
  <Override PartName="/ppt/media/image36.jpeg" ContentType="image/jpeg"/>
  <Override PartName="/ppt/media/image40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22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5.png" ContentType="image/png"/>
  <Override PartName="/ppt/media/image29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85DF-545B-4595-BBFE-EC233DB862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узные и планетарные туманности в процессе эволюции галакти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8449-3C9F-4C45-996D-38A633383A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ые тума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ые туманности – разновидность диффузных туманност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какого отношения не имеют к процессу звездообразования и рождения планетных дисков около звез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3765-7F0C-4CB7-AF19-E78BF3E08C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центре планетарных туманностей находится звезд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сный гигант, окруженный яркой, газовой оболочко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а относится к тип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V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Тельца и планетарная туманность – это оболочка, которую звезда сбрасывает с себ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а теряет массу в виде солнечного ветра, имеющего скорость до 30 к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B22C-34D2-4ED7-B1A4-0486B6E97C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ая туман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G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9714-5A40-49D1-8712-E2BAD52C3F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ая туман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 27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Лисич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EBF9-B421-4B33-A297-85477620C9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ая туманность «Кошачий глаз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B78E-5C17-4E40-B31B-991DD9FA03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тральная звезда тума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тральная звезда туманности погружена в светящееся в рентгеновском диапазоне облако газа с температурой в несколько миллионов граду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7A64-03BD-4668-9605-3739DCCDBF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ая туманность «Эскимос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EA41-1229-43B4-AAC9-DA5A3A6404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GC 65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BC65-3D2E-41A8-9101-3DDF46372E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GC 67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B614-1E37-4DE3-8918-ECB9D88F0B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ные тума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ще всего размещены в галактическом диске (видны в полосе Млечного Пут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вляются облаками космического газа и пыли, которая поглощает свет звезд, лежащих за не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0845-4478-433C-BB90-006EEC0BFA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ранство между звезд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ранство между звездами заполнено разреженным веществом, излучением и магнитным полем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ежзвездной среде открыты огромные холодные области -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молекулярные облака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 температурой 5 – 50 К и очень горячий газ с температурой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К –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коронарный га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6C9C-2E44-468C-802D-2BC9075524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ная туман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онская Голов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B8E9-B969-4A01-A74E-4F77573158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ман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урительная Труб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CE84-87D0-4DA9-A744-B5EE96AEF3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ман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Южный Угольный Меш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F1E3-DD12-4E6C-93FE-1C8B0E260E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ждение звез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ы образуются в результате гравитационной неустойчивости в холодных и плотны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лекулярных облаках, поэтому звёзды рождаются группами, скоплениями, комплекс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4DF1-66DE-4376-9654-3BB8496044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2004-9549-482A-9CF3-C841CD45CB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ракрасное излуче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тра нашей Галак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A662-A855-4C78-A363-C73334598B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та активного звездообразования – холодные струи га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49CD-2049-45EB-B453-3576011CC0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опланетные д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9262-6511-41BE-BE62-CE18C8379B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манность Орион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EA4D-5481-49E2-ACA2-897621075B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мки космическим телескоп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F65B-ECE6-4F35-AAFC-568E629F1F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иффузные туман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ожены около горячих звезд спектрального класса О и 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етятся за счет мощного ультрафиолетового излучения горячих звезд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ют яркие эмиссионные линии в спектр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ют неправильную форм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т из межзвёздной пыли и газ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7017-5E7F-4824-B304-B9474F72BC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узная туманность Ориона (центральная часть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FDF5-5699-4DBB-95EA-AF79949BD3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манность Трехраздель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4DF8-EA33-4EE9-88F6-37EBEE4828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узная туманность «Омег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BDE7-C1FE-4197-ABDB-651FB1FAFB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узная туманность «Лагун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6A91-0A01-41B4-B45E-1B89504A88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бовидная туманность М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CD99-B3C4-4841-9BC6-4A1E3A8B3F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манность Розет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2596-A03A-4C6D-A074-2CA97D568C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65D2-5BB6-4FCB-856B-8DB08C806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1413-4523-4091-AA32-643C91E0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AFE7-F00C-4FA9-A1EB-B992B630A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DA2F-2181-477A-A7DF-1789D5B5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E084-4EF6-4260-8F5E-7AFA50B9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0FF1-9C19-419B-BA05-45811796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9734-559C-413C-9F2A-54945881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CB18-C677-4570-B2A2-9E653B83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B952-9EE1-4A9C-BCC9-454936C2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688E-5A64-4E83-9195-1EBDE984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F67B-2A39-434F-A06D-3ED7D6C8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CDEB-CCFA-4BBD-B50D-238DDEA8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43E5-1707-4D37-B69B-EF4EF2A4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C6ED-1A99-44D3-84DE-3D05DBB7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7E22-727F-46F8-81A8-1354D016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AAEF-FEF3-49FC-84F8-C81143B39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7BE0-664B-4A22-8D66-3B7AC4E3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ABAA3-2703-4E5A-B7BF-150766F93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6D557-4630-48BC-8103-FF809CAD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67E0C-089A-4675-81D8-BA5CB419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7F0F0-A64D-4F1A-9A1C-D9648AE9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C9F01-5D09-4DB5-A465-8144394D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FDC4-00F2-4612-A6FC-09DC81FD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34EB1-51C7-436B-9C1B-144B22C0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2633C-AB39-4CA0-BF45-C4572890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57EEE-A1B1-4513-9810-819915AD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7C1DE-15A1-406D-8607-0CD7081E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EC7DE-4A61-4C54-BFC6-22CF6A08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89918-D081-48B9-AF31-A9A0F1608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F0FD4-9255-48A7-9CE9-174E56389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D335-DC4B-4594-AD93-330E87D7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7899-3B05-4F8A-99F0-276FE9D9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37F5-43AB-4254-A8C3-4D992E94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485C-66C3-4B8B-A9C1-1401BF9F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E202-CA78-4522-9472-66CEBED1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F251-396D-4D90-A67C-46687F53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13.xml"/><Relationship Id="rId21" Type="http://schemas.openxmlformats.org/officeDocument/2006/relationships/slideLayout" Target="../slideLayouts/slideLayout14.xml"/><Relationship Id="rId22" Type="http://schemas.openxmlformats.org/officeDocument/2006/relationships/slideLayout" Target="../slideLayouts/slideLayout15.xml"/><Relationship Id="rId23" Type="http://schemas.openxmlformats.org/officeDocument/2006/relationships/slideLayout" Target="../slideLayouts/slideLayout16.xml"/><Relationship Id="rId24" Type="http://schemas.openxmlformats.org/officeDocument/2006/relationships/slideLayout" Target="../slideLayouts/slideLayout17.xml"/><Relationship Id="rId25" Type="http://schemas.openxmlformats.org/officeDocument/2006/relationships/slideLayout" Target="../slideLayouts/slideLayout18.xml"/><Relationship Id="rId26" Type="http://schemas.openxmlformats.org/officeDocument/2006/relationships/slideLayout" Target="../slideLayouts/slideLayout19.xml"/><Relationship Id="rId27" Type="http://schemas.openxmlformats.org/officeDocument/2006/relationships/slideLayout" Target="../slideLayouts/slideLayout20.xml"/><Relationship Id="rId28" Type="http://schemas.openxmlformats.org/officeDocument/2006/relationships/slideLayout" Target="../slideLayouts/slideLayout21.xml"/><Relationship Id="rId29" Type="http://schemas.openxmlformats.org/officeDocument/2006/relationships/slideLayout" Target="../slideLayouts/slideLayout22.xml"/><Relationship Id="rId30" Type="http://schemas.openxmlformats.org/officeDocument/2006/relationships/slideLayout" Target="../slideLayouts/slideLayout23.xml"/><Relationship Id="rId3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25.xml"/><Relationship Id="rId21" Type="http://schemas.openxmlformats.org/officeDocument/2006/relationships/slideLayout" Target="../slideLayouts/slideLayout26.xml"/><Relationship Id="rId22" Type="http://schemas.openxmlformats.org/officeDocument/2006/relationships/slideLayout" Target="../slideLayouts/slideLayout27.xml"/><Relationship Id="rId23" Type="http://schemas.openxmlformats.org/officeDocument/2006/relationships/slideLayout" Target="../slideLayouts/slideLayout28.xml"/><Relationship Id="rId24" Type="http://schemas.openxmlformats.org/officeDocument/2006/relationships/slideLayout" Target="../slideLayouts/slideLayout29.xml"/><Relationship Id="rId25" Type="http://schemas.openxmlformats.org/officeDocument/2006/relationships/slideLayout" Target="../slideLayouts/slideLayout30.xml"/><Relationship Id="rId26" Type="http://schemas.openxmlformats.org/officeDocument/2006/relationships/slideLayout" Target="../slideLayouts/slideLayout31.xml"/><Relationship Id="rId27" Type="http://schemas.openxmlformats.org/officeDocument/2006/relationships/slideLayout" Target="../slideLayouts/slideLayout32.xml"/><Relationship Id="rId28" Type="http://schemas.openxmlformats.org/officeDocument/2006/relationships/slideLayout" Target="../slideLayouts/slideLayout33.xml"/><Relationship Id="rId29" Type="http://schemas.openxmlformats.org/officeDocument/2006/relationships/slideLayout" Target="../slideLayouts/slideLayout34.xml"/><Relationship Id="rId30" Type="http://schemas.openxmlformats.org/officeDocument/2006/relationships/slideLayout" Target="../slideLayouts/slideLayout35.xml"/><Relationship Id="rId3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" name="Group 101" descr=""/>
          <p:cNvPicPr/>
          <p:nvPr/>
        </p:nvPicPr>
        <p:blipFill>
          <a:blip r:embed="rId7"/>
          <a:stretch/>
        </p:blipFill>
        <p:spPr>
          <a:xfrm>
            <a:off x="-60480" y="-103320"/>
            <a:ext cx="4102200" cy="42181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2F84-329F-4960-A942-453067550D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6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63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Group 101" descr=""/>
          <p:cNvPicPr/>
          <p:nvPr/>
        </p:nvPicPr>
        <p:blipFill>
          <a:blip r:embed="rId7"/>
          <a:stretch/>
        </p:blipFill>
        <p:spPr>
          <a:xfrm>
            <a:off x="-60480" y="-103320"/>
            <a:ext cx="4102200" cy="421812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21"/>
          <p:cNvGrpSpPr/>
          <p:nvPr/>
        </p:nvGrpSpPr>
        <p:grpSpPr>
          <a:xfrm>
            <a:off x="3309480" y="1737360"/>
            <a:ext cx="6152760" cy="5139000"/>
            <a:chOff x="3309480" y="1737360"/>
            <a:chExt cx="6152760" cy="5139000"/>
          </a:xfrm>
        </p:grpSpPr>
        <p:grpSp>
          <p:nvGrpSpPr>
            <p:cNvPr id="70" name="Group 42"/>
            <p:cNvGrpSpPr/>
            <p:nvPr/>
          </p:nvGrpSpPr>
          <p:grpSpPr>
            <a:xfrm>
              <a:off x="3309480" y="1770480"/>
              <a:ext cx="6152760" cy="4770000"/>
              <a:chOff x="3309480" y="1770480"/>
              <a:chExt cx="6152760" cy="4770000"/>
            </a:xfrm>
          </p:grpSpPr>
          <p:grpSp>
            <p:nvGrpSpPr>
              <p:cNvPr id="71" name="Freeform 21"/>
              <p:cNvGrpSpPr/>
              <p:nvPr/>
            </p:nvGrpSpPr>
            <p:grpSpPr>
              <a:xfrm>
                <a:off x="3309480" y="1770480"/>
                <a:ext cx="6152760" cy="4770000"/>
                <a:chOff x="3309480" y="1770480"/>
                <a:chExt cx="6152760" cy="4770000"/>
              </a:xfrm>
            </p:grpSpPr>
            <p:pic>
              <p:nvPicPr>
                <p:cNvPr id="72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7640" y="2959920"/>
                  <a:ext cx="5304240" cy="306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3" name=""/>
                <p:cNvSpPr/>
                <p:nvPr/>
              </p:nvSpPr>
              <p:spPr>
                <a:xfrm rot="19693200">
                  <a:off x="3440160" y="3101760"/>
                  <a:ext cx="565560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Freeform 22"/>
              <p:cNvGrpSpPr/>
              <p:nvPr/>
            </p:nvGrpSpPr>
            <p:grpSpPr>
              <a:xfrm>
                <a:off x="3320280" y="1780200"/>
                <a:ext cx="6108840" cy="4757400"/>
                <a:chOff x="3320280" y="1780200"/>
                <a:chExt cx="6108840" cy="4757400"/>
              </a:xfrm>
            </p:grpSpPr>
            <p:pic>
              <p:nvPicPr>
                <p:cNvPr id="75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87160" y="2974320"/>
                  <a:ext cx="5241600" cy="305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" name=""/>
                <p:cNvSpPr/>
                <p:nvPr/>
              </p:nvSpPr>
              <p:spPr>
                <a:xfrm rot="19693200">
                  <a:off x="3452760" y="3105000"/>
                  <a:ext cx="563184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77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45120" y="2541960"/>
              <a:ext cx="2651760" cy="4169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Group 38"/>
            <p:cNvGrpSpPr/>
            <p:nvPr/>
          </p:nvGrpSpPr>
          <p:grpSpPr>
            <a:xfrm>
              <a:off x="5133600" y="2425680"/>
              <a:ext cx="3531240" cy="4219560"/>
              <a:chOff x="5133600" y="2425680"/>
              <a:chExt cx="3531240" cy="4219560"/>
            </a:xfrm>
          </p:grpSpPr>
          <p:grpSp>
            <p:nvGrpSpPr>
              <p:cNvPr id="79" name="Freeform 19"/>
              <p:cNvGrpSpPr/>
              <p:nvPr/>
            </p:nvGrpSpPr>
            <p:grpSpPr>
              <a:xfrm>
                <a:off x="5568840" y="2619360"/>
                <a:ext cx="2884320" cy="3535560"/>
                <a:chOff x="5568840" y="2619360"/>
                <a:chExt cx="2884320" cy="3535560"/>
              </a:xfrm>
            </p:grpSpPr>
            <p:pic>
              <p:nvPicPr>
                <p:cNvPr id="80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65480" y="3396240"/>
                  <a:ext cx="2243160" cy="1954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" name=""/>
                <p:cNvSpPr/>
                <p:nvPr/>
              </p:nvSpPr>
              <p:spPr>
                <a:xfrm rot="19693200">
                  <a:off x="6348240" y="2717640"/>
                  <a:ext cx="1324800" cy="33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Freeform 20"/>
              <p:cNvGrpSpPr/>
              <p:nvPr/>
            </p:nvGrpSpPr>
            <p:grpSpPr>
              <a:xfrm>
                <a:off x="5133600" y="2425680"/>
                <a:ext cx="3531240" cy="4219560"/>
                <a:chOff x="5133600" y="2425680"/>
                <a:chExt cx="3531240" cy="4219560"/>
              </a:xfrm>
            </p:grpSpPr>
            <p:pic>
              <p:nvPicPr>
                <p:cNvPr id="83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91440" y="3255120"/>
                  <a:ext cx="2721240" cy="2316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" name=""/>
                <p:cNvSpPr/>
                <p:nvPr/>
              </p:nvSpPr>
              <p:spPr>
                <a:xfrm rot="19693200">
                  <a:off x="6023880" y="2595600"/>
                  <a:ext cx="1750680" cy="38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" name="Group 39"/>
            <p:cNvGrpSpPr/>
            <p:nvPr/>
          </p:nvGrpSpPr>
          <p:grpSpPr>
            <a:xfrm>
              <a:off x="4102920" y="3019320"/>
              <a:ext cx="3830400" cy="3755160"/>
              <a:chOff x="4102920" y="3019320"/>
              <a:chExt cx="3830400" cy="3755160"/>
            </a:xfrm>
          </p:grpSpPr>
          <p:grpSp>
            <p:nvGrpSpPr>
              <p:cNvPr id="86" name="Freeform 17"/>
              <p:cNvGrpSpPr/>
              <p:nvPr/>
            </p:nvGrpSpPr>
            <p:grpSpPr>
              <a:xfrm>
                <a:off x="4148280" y="3695400"/>
                <a:ext cx="2715480" cy="2882520"/>
                <a:chOff x="4148280" y="3695400"/>
                <a:chExt cx="2715480" cy="2882520"/>
              </a:xfrm>
            </p:grpSpPr>
            <p:pic>
              <p:nvPicPr>
                <p:cNvPr id="87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82760" y="3695040"/>
                  <a:ext cx="672480" cy="283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" name=""/>
                <p:cNvSpPr/>
                <p:nvPr/>
              </p:nvSpPr>
              <p:spPr>
                <a:xfrm rot="19693200">
                  <a:off x="4618080" y="3991320"/>
                  <a:ext cx="1775160" cy="22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Freeform 18"/>
              <p:cNvGrpSpPr/>
              <p:nvPr/>
            </p:nvGrpSpPr>
            <p:grpSpPr>
              <a:xfrm>
                <a:off x="4102920" y="3019320"/>
                <a:ext cx="3830400" cy="3755160"/>
                <a:chOff x="4102920" y="3019320"/>
                <a:chExt cx="3830400" cy="3755160"/>
              </a:xfrm>
            </p:grpSpPr>
            <p:pic>
              <p:nvPicPr>
                <p:cNvPr id="90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33160" y="3166560"/>
                  <a:ext cx="1331280" cy="337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" name=""/>
                <p:cNvSpPr/>
                <p:nvPr/>
              </p:nvSpPr>
              <p:spPr>
                <a:xfrm rot="19693200">
                  <a:off x="4582440" y="3577680"/>
                  <a:ext cx="2871360" cy="263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" name="Group 37"/>
            <p:cNvGrpSpPr/>
            <p:nvPr/>
          </p:nvGrpSpPr>
          <p:grpSpPr>
            <a:xfrm>
              <a:off x="4126680" y="1737360"/>
              <a:ext cx="3408480" cy="3314880"/>
              <a:chOff x="4126680" y="1737360"/>
              <a:chExt cx="3408480" cy="3314880"/>
            </a:xfrm>
          </p:grpSpPr>
          <p:grpSp>
            <p:nvGrpSpPr>
              <p:cNvPr id="93" name="Freeform 15"/>
              <p:cNvGrpSpPr/>
              <p:nvPr/>
            </p:nvGrpSpPr>
            <p:grpSpPr>
              <a:xfrm>
                <a:off x="4789800" y="2191680"/>
                <a:ext cx="2673360" cy="2802240"/>
                <a:chOff x="4789800" y="2191680"/>
                <a:chExt cx="2673360" cy="2802240"/>
              </a:xfrm>
            </p:grpSpPr>
            <p:pic>
              <p:nvPicPr>
                <p:cNvPr id="94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89800" y="2690280"/>
                  <a:ext cx="2661120" cy="179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 rot="11786400">
                  <a:off x="5140440" y="2432160"/>
                  <a:ext cx="2035440" cy="232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Freeform 16"/>
              <p:cNvGrpSpPr/>
              <p:nvPr/>
            </p:nvGrpSpPr>
            <p:grpSpPr>
              <a:xfrm>
                <a:off x="4126680" y="1737360"/>
                <a:ext cx="3408480" cy="3314880"/>
                <a:chOff x="4126680" y="1737360"/>
                <a:chExt cx="3408480" cy="3314880"/>
              </a:xfrm>
            </p:grpSpPr>
            <p:pic>
              <p:nvPicPr>
                <p:cNvPr id="97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6680" y="2395080"/>
                  <a:ext cx="3326040" cy="205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"/>
                <p:cNvSpPr/>
                <p:nvPr/>
              </p:nvSpPr>
              <p:spPr>
                <a:xfrm rot="11786400">
                  <a:off x="4523760" y="2063160"/>
                  <a:ext cx="2689560" cy="266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9" name="Group 36"/>
            <p:cNvGrpSpPr/>
            <p:nvPr/>
          </p:nvGrpSpPr>
          <p:grpSpPr>
            <a:xfrm>
              <a:off x="4183920" y="2099160"/>
              <a:ext cx="4903920" cy="4777200"/>
              <a:chOff x="4183920" y="2099160"/>
              <a:chExt cx="4903920" cy="4777200"/>
            </a:xfrm>
          </p:grpSpPr>
          <p:grpSp>
            <p:nvGrpSpPr>
              <p:cNvPr id="100" name="Freeform 13"/>
              <p:cNvGrpSpPr/>
              <p:nvPr/>
            </p:nvGrpSpPr>
            <p:grpSpPr>
              <a:xfrm>
                <a:off x="5138280" y="2761560"/>
                <a:ext cx="3843000" cy="4023720"/>
                <a:chOff x="5138280" y="2761560"/>
                <a:chExt cx="3843000" cy="4023720"/>
              </a:xfrm>
            </p:grpSpPr>
            <p:pic>
              <p:nvPicPr>
                <p:cNvPr id="101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38280" y="3481920"/>
                  <a:ext cx="3809160" cy="256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" name=""/>
                <p:cNvSpPr/>
                <p:nvPr/>
              </p:nvSpPr>
              <p:spPr>
                <a:xfrm rot="11786400">
                  <a:off x="5641560" y="3107520"/>
                  <a:ext cx="2927880" cy="33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Freeform 14"/>
              <p:cNvGrpSpPr/>
              <p:nvPr/>
            </p:nvGrpSpPr>
            <p:grpSpPr>
              <a:xfrm>
                <a:off x="4183920" y="2099160"/>
                <a:ext cx="4903920" cy="4777200"/>
                <a:chOff x="4183920" y="2099160"/>
                <a:chExt cx="4903920" cy="4777200"/>
              </a:xfrm>
            </p:grpSpPr>
            <p:pic>
              <p:nvPicPr>
                <p:cNvPr id="104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3920" y="3045600"/>
                  <a:ext cx="4781520" cy="29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"/>
                <p:cNvSpPr/>
                <p:nvPr/>
              </p:nvSpPr>
              <p:spPr>
                <a:xfrm rot="11786400">
                  <a:off x="4754160" y="2568240"/>
                  <a:ext cx="3869280" cy="383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06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C16D-3C5B-4BC1-87F9-33D1E0326C5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0"/>
    <p:sldLayoutId id="2147483663" r:id="rId21"/>
    <p:sldLayoutId id="2147483664" r:id="rId22"/>
    <p:sldLayoutId id="2147483665" r:id="rId23"/>
    <p:sldLayoutId id="2147483666" r:id="rId24"/>
    <p:sldLayoutId id="2147483667" r:id="rId25"/>
    <p:sldLayoutId id="2147483668" r:id="rId26"/>
    <p:sldLayoutId id="2147483669" r:id="rId27"/>
    <p:sldLayoutId id="2147483670" r:id="rId28"/>
    <p:sldLayoutId id="2147483671" r:id="rId29"/>
    <p:sldLayoutId id="2147483672" r:id="rId30"/>
    <p:sldLayoutId id="2147483673" r:id="rId3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9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56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Group 101" descr=""/>
          <p:cNvPicPr/>
          <p:nvPr/>
        </p:nvPicPr>
        <p:blipFill>
          <a:blip r:embed="rId7"/>
          <a:stretch/>
        </p:blipFill>
        <p:spPr>
          <a:xfrm>
            <a:off x="-60480" y="-103320"/>
            <a:ext cx="4102200" cy="421812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21"/>
          <p:cNvGrpSpPr/>
          <p:nvPr/>
        </p:nvGrpSpPr>
        <p:grpSpPr>
          <a:xfrm>
            <a:off x="3309480" y="1737360"/>
            <a:ext cx="6152760" cy="5139000"/>
            <a:chOff x="3309480" y="1737360"/>
            <a:chExt cx="6152760" cy="5139000"/>
          </a:xfrm>
        </p:grpSpPr>
        <p:grpSp>
          <p:nvGrpSpPr>
            <p:cNvPr id="163" name="Group 42"/>
            <p:cNvGrpSpPr/>
            <p:nvPr/>
          </p:nvGrpSpPr>
          <p:grpSpPr>
            <a:xfrm>
              <a:off x="3309480" y="1770480"/>
              <a:ext cx="6152760" cy="4770000"/>
              <a:chOff x="3309480" y="1770480"/>
              <a:chExt cx="6152760" cy="4770000"/>
            </a:xfrm>
          </p:grpSpPr>
          <p:grpSp>
            <p:nvGrpSpPr>
              <p:cNvPr id="164" name="Freeform 21"/>
              <p:cNvGrpSpPr/>
              <p:nvPr/>
            </p:nvGrpSpPr>
            <p:grpSpPr>
              <a:xfrm>
                <a:off x="3309480" y="1770480"/>
                <a:ext cx="6152760" cy="4770000"/>
                <a:chOff x="3309480" y="1770480"/>
                <a:chExt cx="6152760" cy="4770000"/>
              </a:xfrm>
            </p:grpSpPr>
            <p:pic>
              <p:nvPicPr>
                <p:cNvPr id="165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7640" y="2959920"/>
                  <a:ext cx="5304240" cy="306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6" name=""/>
                <p:cNvSpPr/>
                <p:nvPr/>
              </p:nvSpPr>
              <p:spPr>
                <a:xfrm rot="19693200">
                  <a:off x="3440160" y="3101760"/>
                  <a:ext cx="565560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Freeform 22"/>
              <p:cNvGrpSpPr/>
              <p:nvPr/>
            </p:nvGrpSpPr>
            <p:grpSpPr>
              <a:xfrm>
                <a:off x="3320280" y="1780200"/>
                <a:ext cx="6108840" cy="4757400"/>
                <a:chOff x="3320280" y="1780200"/>
                <a:chExt cx="6108840" cy="4757400"/>
              </a:xfrm>
            </p:grpSpPr>
            <p:pic>
              <p:nvPicPr>
                <p:cNvPr id="168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87160" y="2974320"/>
                  <a:ext cx="5241600" cy="305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9" name=""/>
                <p:cNvSpPr/>
                <p:nvPr/>
              </p:nvSpPr>
              <p:spPr>
                <a:xfrm rot="19693200">
                  <a:off x="3452760" y="3105000"/>
                  <a:ext cx="563184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70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45120" y="2541960"/>
              <a:ext cx="2651760" cy="4169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38"/>
            <p:cNvGrpSpPr/>
            <p:nvPr/>
          </p:nvGrpSpPr>
          <p:grpSpPr>
            <a:xfrm>
              <a:off x="5133600" y="2425680"/>
              <a:ext cx="3531240" cy="4219560"/>
              <a:chOff x="5133600" y="2425680"/>
              <a:chExt cx="3531240" cy="4219560"/>
            </a:xfrm>
          </p:grpSpPr>
          <p:grpSp>
            <p:nvGrpSpPr>
              <p:cNvPr id="172" name="Freeform 19"/>
              <p:cNvGrpSpPr/>
              <p:nvPr/>
            </p:nvGrpSpPr>
            <p:grpSpPr>
              <a:xfrm>
                <a:off x="5568840" y="2619360"/>
                <a:ext cx="2884320" cy="3535560"/>
                <a:chOff x="5568840" y="2619360"/>
                <a:chExt cx="2884320" cy="3535560"/>
              </a:xfrm>
            </p:grpSpPr>
            <p:pic>
              <p:nvPicPr>
                <p:cNvPr id="173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65480" y="3396240"/>
                  <a:ext cx="2243160" cy="1954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" name=""/>
                <p:cNvSpPr/>
                <p:nvPr/>
              </p:nvSpPr>
              <p:spPr>
                <a:xfrm rot="19693200">
                  <a:off x="6348240" y="2717640"/>
                  <a:ext cx="1324800" cy="33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Freeform 20"/>
              <p:cNvGrpSpPr/>
              <p:nvPr/>
            </p:nvGrpSpPr>
            <p:grpSpPr>
              <a:xfrm>
                <a:off x="5133600" y="2425680"/>
                <a:ext cx="3531240" cy="4219560"/>
                <a:chOff x="5133600" y="2425680"/>
                <a:chExt cx="3531240" cy="4219560"/>
              </a:xfrm>
            </p:grpSpPr>
            <p:pic>
              <p:nvPicPr>
                <p:cNvPr id="176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91440" y="3255120"/>
                  <a:ext cx="2721240" cy="2316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 rot="19693200">
                  <a:off x="6023880" y="2595600"/>
                  <a:ext cx="1750680" cy="38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8" name="Group 39"/>
            <p:cNvGrpSpPr/>
            <p:nvPr/>
          </p:nvGrpSpPr>
          <p:grpSpPr>
            <a:xfrm>
              <a:off x="4102920" y="3019320"/>
              <a:ext cx="3830400" cy="3755160"/>
              <a:chOff x="4102920" y="3019320"/>
              <a:chExt cx="3830400" cy="3755160"/>
            </a:xfrm>
          </p:grpSpPr>
          <p:grpSp>
            <p:nvGrpSpPr>
              <p:cNvPr id="179" name="Freeform 17"/>
              <p:cNvGrpSpPr/>
              <p:nvPr/>
            </p:nvGrpSpPr>
            <p:grpSpPr>
              <a:xfrm>
                <a:off x="4148280" y="3695400"/>
                <a:ext cx="2715480" cy="2882520"/>
                <a:chOff x="4148280" y="3695400"/>
                <a:chExt cx="2715480" cy="2882520"/>
              </a:xfrm>
            </p:grpSpPr>
            <p:pic>
              <p:nvPicPr>
                <p:cNvPr id="180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82760" y="3695040"/>
                  <a:ext cx="672480" cy="283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1" name=""/>
                <p:cNvSpPr/>
                <p:nvPr/>
              </p:nvSpPr>
              <p:spPr>
                <a:xfrm rot="19693200">
                  <a:off x="4618080" y="3991320"/>
                  <a:ext cx="1775160" cy="22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Freeform 18"/>
              <p:cNvGrpSpPr/>
              <p:nvPr/>
            </p:nvGrpSpPr>
            <p:grpSpPr>
              <a:xfrm>
                <a:off x="4102920" y="3019320"/>
                <a:ext cx="3830400" cy="3755160"/>
                <a:chOff x="4102920" y="3019320"/>
                <a:chExt cx="3830400" cy="3755160"/>
              </a:xfrm>
            </p:grpSpPr>
            <p:pic>
              <p:nvPicPr>
                <p:cNvPr id="183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33160" y="3166560"/>
                  <a:ext cx="1331280" cy="337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" name=""/>
                <p:cNvSpPr/>
                <p:nvPr/>
              </p:nvSpPr>
              <p:spPr>
                <a:xfrm rot="19693200">
                  <a:off x="4582440" y="3577680"/>
                  <a:ext cx="2871360" cy="263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5" name="Group 37"/>
            <p:cNvGrpSpPr/>
            <p:nvPr/>
          </p:nvGrpSpPr>
          <p:grpSpPr>
            <a:xfrm>
              <a:off x="4126680" y="1737360"/>
              <a:ext cx="3408480" cy="3314880"/>
              <a:chOff x="4126680" y="1737360"/>
              <a:chExt cx="3408480" cy="3314880"/>
            </a:xfrm>
          </p:grpSpPr>
          <p:grpSp>
            <p:nvGrpSpPr>
              <p:cNvPr id="186" name="Freeform 15"/>
              <p:cNvGrpSpPr/>
              <p:nvPr/>
            </p:nvGrpSpPr>
            <p:grpSpPr>
              <a:xfrm>
                <a:off x="4789800" y="2191680"/>
                <a:ext cx="2673360" cy="2802240"/>
                <a:chOff x="4789800" y="2191680"/>
                <a:chExt cx="2673360" cy="2802240"/>
              </a:xfrm>
            </p:grpSpPr>
            <p:pic>
              <p:nvPicPr>
                <p:cNvPr id="187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89800" y="2690280"/>
                  <a:ext cx="2661120" cy="179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8" name=""/>
                <p:cNvSpPr/>
                <p:nvPr/>
              </p:nvSpPr>
              <p:spPr>
                <a:xfrm rot="11786400">
                  <a:off x="5140440" y="2432160"/>
                  <a:ext cx="2035440" cy="232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Freeform 16"/>
              <p:cNvGrpSpPr/>
              <p:nvPr/>
            </p:nvGrpSpPr>
            <p:grpSpPr>
              <a:xfrm>
                <a:off x="4126680" y="1737360"/>
                <a:ext cx="3408480" cy="3314880"/>
                <a:chOff x="4126680" y="1737360"/>
                <a:chExt cx="3408480" cy="3314880"/>
              </a:xfrm>
            </p:grpSpPr>
            <p:pic>
              <p:nvPicPr>
                <p:cNvPr id="190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6680" y="2395080"/>
                  <a:ext cx="3326040" cy="205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1" name=""/>
                <p:cNvSpPr/>
                <p:nvPr/>
              </p:nvSpPr>
              <p:spPr>
                <a:xfrm rot="11786400">
                  <a:off x="4523760" y="2063160"/>
                  <a:ext cx="2689560" cy="266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2" name="Group 36"/>
            <p:cNvGrpSpPr/>
            <p:nvPr/>
          </p:nvGrpSpPr>
          <p:grpSpPr>
            <a:xfrm>
              <a:off x="4183920" y="2099160"/>
              <a:ext cx="4903920" cy="4777200"/>
              <a:chOff x="4183920" y="2099160"/>
              <a:chExt cx="4903920" cy="4777200"/>
            </a:xfrm>
          </p:grpSpPr>
          <p:grpSp>
            <p:nvGrpSpPr>
              <p:cNvPr id="193" name="Freeform 13"/>
              <p:cNvGrpSpPr/>
              <p:nvPr/>
            </p:nvGrpSpPr>
            <p:grpSpPr>
              <a:xfrm>
                <a:off x="5138280" y="2761560"/>
                <a:ext cx="3843000" cy="4023720"/>
                <a:chOff x="5138280" y="2761560"/>
                <a:chExt cx="3843000" cy="4023720"/>
              </a:xfrm>
            </p:grpSpPr>
            <p:pic>
              <p:nvPicPr>
                <p:cNvPr id="194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38280" y="3481920"/>
                  <a:ext cx="3809160" cy="256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 rot="11786400">
                  <a:off x="5641560" y="3107520"/>
                  <a:ext cx="2927880" cy="33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Freeform 14"/>
              <p:cNvGrpSpPr/>
              <p:nvPr/>
            </p:nvGrpSpPr>
            <p:grpSpPr>
              <a:xfrm>
                <a:off x="4183920" y="2099160"/>
                <a:ext cx="4903920" cy="4777200"/>
                <a:chOff x="4183920" y="2099160"/>
                <a:chExt cx="4903920" cy="4777200"/>
              </a:xfrm>
            </p:grpSpPr>
            <p:pic>
              <p:nvPicPr>
                <p:cNvPr id="197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3920" y="3045600"/>
                  <a:ext cx="4781520" cy="29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 rot="11786400">
                  <a:off x="4754160" y="2568240"/>
                  <a:ext cx="3869280" cy="383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99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7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8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9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3C29-ED86-449F-8903-DE8836EDAD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0"/>
    <p:sldLayoutId id="2147483676" r:id="rId21"/>
    <p:sldLayoutId id="2147483677" r:id="rId22"/>
    <p:sldLayoutId id="2147483678" r:id="rId23"/>
    <p:sldLayoutId id="2147483679" r:id="rId24"/>
    <p:sldLayoutId id="2147483680" r:id="rId25"/>
    <p:sldLayoutId id="2147483681" r:id="rId26"/>
    <p:sldLayoutId id="2147483682" r:id="rId27"/>
    <p:sldLayoutId id="2147483683" r:id="rId28"/>
    <p:sldLayoutId id="2147483684" r:id="rId29"/>
    <p:sldLayoutId id="2147483685" r:id="rId30"/>
    <p:sldLayoutId id="2147483686" r:id="rId3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643320"/>
            <a:ext cx="876312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Диффузные и планетарные туманности в процессе эволюции галактик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49" name="Picture 3" descr="Туманность Розетка"/>
          <p:cNvPicPr/>
          <p:nvPr/>
        </p:nvPicPr>
        <p:blipFill>
          <a:blip r:embed="rId1"/>
          <a:stretch/>
        </p:blipFill>
        <p:spPr>
          <a:xfrm>
            <a:off x="357120" y="2286000"/>
            <a:ext cx="4560840" cy="3357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Трехраздельная туманность"/>
          <p:cNvPicPr/>
          <p:nvPr/>
        </p:nvPicPr>
        <p:blipFill>
          <a:blip r:embed="rId2"/>
          <a:stretch/>
        </p:blipFill>
        <p:spPr>
          <a:xfrm>
            <a:off x="4214880" y="3714840"/>
            <a:ext cx="3689280" cy="2428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Диффузная Туманность Ориона 2"/>
          <p:cNvPicPr/>
          <p:nvPr/>
        </p:nvPicPr>
        <p:blipFill>
          <a:blip r:embed="rId3"/>
          <a:stretch/>
        </p:blipFill>
        <p:spPr>
          <a:xfrm>
            <a:off x="6143760" y="2071800"/>
            <a:ext cx="2455560" cy="201600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2743200" y="384120"/>
            <a:ext cx="594360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ланетарные туманности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Планетарные туманности – разновидность диффузных туманносте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Никакого отношения не имеют к процессу звездообразования и рождения планетных дисков около звезд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В центре планетарных туманностей находится звезда: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8544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красный гигант, окруженный яркой, газовой оболочкой;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звезда относится к типу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RV</a:t>
            </a: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 Тельца и планетарная туманность – это оболочка, которую звезда сбрасывает с себя;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звезда теряет массу в виде солнечного ветра, имеющего скорость до 30 км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с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ланетарная туманность </a:t>
            </a: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NGC</a:t>
            </a: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2440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85" name="Picture 3" descr="Планетарная туманность NGC 2440"/>
          <p:cNvPicPr/>
          <p:nvPr/>
        </p:nvPicPr>
        <p:blipFill>
          <a:blip r:embed="rId1"/>
          <a:stretch/>
        </p:blipFill>
        <p:spPr>
          <a:xfrm>
            <a:off x="539640" y="1131840"/>
            <a:ext cx="7848720" cy="5726160"/>
          </a:xfrm>
          <a:prstGeom prst="rect">
            <a:avLst/>
          </a:prstGeom>
          <a:ln w="0">
            <a:noFill/>
          </a:ln>
        </p:spPr>
      </p:pic>
      <p:sp>
        <p:nvSpPr>
          <p:cNvPr id="286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Планетарная туманность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М 27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«Лисичка»</a:t>
            </a:r>
            <a:endParaRPr b="1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88" name="Picture 3" descr="2114"/>
          <p:cNvPicPr/>
          <p:nvPr/>
        </p:nvPicPr>
        <p:blipFill>
          <a:blip r:embed="rId1"/>
          <a:stretch/>
        </p:blipFill>
        <p:spPr>
          <a:xfrm>
            <a:off x="1908000" y="1989000"/>
            <a:ext cx="5837400" cy="486900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ланетарная туманность «Кошачий глаз»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1" name="Picture 3" descr="Планетарная туманность Кошачий Глаз"/>
          <p:cNvPicPr/>
          <p:nvPr/>
        </p:nvPicPr>
        <p:blipFill>
          <a:blip r:embed="rId1"/>
          <a:stretch/>
        </p:blipFill>
        <p:spPr>
          <a:xfrm>
            <a:off x="1332000" y="1523880"/>
            <a:ext cx="6553080" cy="533412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Ц</a:t>
            </a:r>
            <a:r>
              <a:rPr b="1" lang="ru-RU" sz="3600" spc="-1" strike="noStrike">
                <a:solidFill>
                  <a:srgbClr val="ffffff"/>
                </a:solidFill>
                <a:latin typeface="Corbel"/>
                <a:ea typeface="Times New Roman"/>
              </a:rPr>
              <a:t>ентральная звезда туманности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Ц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  <a:ea typeface="Times New Roman"/>
              </a:rPr>
              <a:t>ентральная звезда туманности погружена в светящееся в рентгеновском диапазоне облако газа с температурой в несколько миллионов градусов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ланетарная туманность «Эскимос»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7" name="Picture 3" descr="Планетарная туманность Эскимос"/>
          <p:cNvPicPr/>
          <p:nvPr/>
        </p:nvPicPr>
        <p:blipFill>
          <a:blip r:embed="rId1"/>
          <a:stretch/>
        </p:blipFill>
        <p:spPr>
          <a:xfrm>
            <a:off x="1332000" y="1219320"/>
            <a:ext cx="7056360" cy="537840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NGC 6543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0" name="Picture 3" descr="ngc6543"/>
          <p:cNvPicPr/>
          <p:nvPr/>
        </p:nvPicPr>
        <p:blipFill>
          <a:blip r:embed="rId1"/>
          <a:stretch/>
        </p:blipFill>
        <p:spPr>
          <a:xfrm>
            <a:off x="1371600" y="1111320"/>
            <a:ext cx="6513480" cy="5746680"/>
          </a:xfrm>
          <a:prstGeom prst="rect">
            <a:avLst/>
          </a:prstGeom>
          <a:ln w="0">
            <a:noFill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NGC 6751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3" name="Picture 3" descr="ngc6751"/>
          <p:cNvPicPr/>
          <p:nvPr/>
        </p:nvPicPr>
        <p:blipFill>
          <a:blip r:embed="rId1"/>
          <a:stretch/>
        </p:blipFill>
        <p:spPr>
          <a:xfrm>
            <a:off x="826920" y="1547640"/>
            <a:ext cx="7417080" cy="5310360"/>
          </a:xfrm>
          <a:prstGeom prst="rect">
            <a:avLst/>
          </a:prstGeom>
          <a:ln w="0">
            <a:noFill/>
          </a:ln>
        </p:spPr>
      </p:pic>
      <p:sp>
        <p:nvSpPr>
          <p:cNvPr id="304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Темные туманности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Чаще всего размещены в галактическом диске (видны в полосе Млечного Пути)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Являются облаками космического газа и пыли, которая поглощает свет звезд, лежащих за нею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ространство между звездами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Пространство между звездами заполнено разреженным веществом, излучением и магнитным полем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В межзвездной среде открыты огромные холодные области -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w Cen MT"/>
              </a:rPr>
              <a:t>молекулярные облака 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- с температурой 5 – 50 К и очень горячий газ с температурой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w Cen MT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 К –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w Cen MT"/>
              </a:rPr>
              <a:t>коронарный газ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Темная туманность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«Конская Голова»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9" name="Picture 3" descr="Темная туманность Конская Голова"/>
          <p:cNvPicPr/>
          <p:nvPr/>
        </p:nvPicPr>
        <p:blipFill>
          <a:blip r:embed="rId1"/>
          <a:stretch/>
        </p:blipFill>
        <p:spPr>
          <a:xfrm>
            <a:off x="609480" y="1219320"/>
            <a:ext cx="7850160" cy="554976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Туманность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«Курительная Трубка»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2" name="Picture 3" descr="Туманность Курительная Трубка"/>
          <p:cNvPicPr/>
          <p:nvPr/>
        </p:nvPicPr>
        <p:blipFill>
          <a:blip r:embed="rId1"/>
          <a:stretch/>
        </p:blipFill>
        <p:spPr>
          <a:xfrm>
            <a:off x="755640" y="1503360"/>
            <a:ext cx="7777080" cy="5154480"/>
          </a:xfrm>
          <a:prstGeom prst="rect">
            <a:avLst/>
          </a:prstGeom>
          <a:ln w="0">
            <a:noFill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Туманность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Южный Угольный Мешок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5" name="Picture 3" descr="Южный Угольный Мешок"/>
          <p:cNvPicPr/>
          <p:nvPr/>
        </p:nvPicPr>
        <p:blipFill>
          <a:blip r:embed="rId1"/>
          <a:stretch/>
        </p:blipFill>
        <p:spPr>
          <a:xfrm>
            <a:off x="468360" y="1773360"/>
            <a:ext cx="8316720" cy="508464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Рождение звезд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Звезды образуются в результате гравитационной неустойчивости в холодных и плотных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молекулярных облаках, поэтому звёзды рождаются группами, скоплениями, комплексами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Звезды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1" name="Picture 3" descr="Плеяды"/>
          <p:cNvPicPr/>
          <p:nvPr/>
        </p:nvPicPr>
        <p:blipFill>
          <a:blip r:embed="rId1"/>
          <a:stretch/>
        </p:blipFill>
        <p:spPr>
          <a:xfrm>
            <a:off x="971640" y="2021040"/>
            <a:ext cx="7200720" cy="4836960"/>
          </a:xfrm>
          <a:prstGeom prst="rect">
            <a:avLst/>
          </a:prstGeom>
          <a:ln w="0">
            <a:noFill/>
          </a:ln>
        </p:spPr>
      </p:pic>
      <p:sp>
        <p:nvSpPr>
          <p:cNvPr id="322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Инфракрасное излучение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центра нашей Галактики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4" name="Picture 3" descr="Центр Галактики в инф лучах"/>
          <p:cNvPicPr/>
          <p:nvPr/>
        </p:nvPicPr>
        <p:blipFill>
          <a:blip r:embed="rId1"/>
          <a:stretch/>
        </p:blipFill>
        <p:spPr>
          <a:xfrm>
            <a:off x="468360" y="1628640"/>
            <a:ext cx="8244000" cy="5229360"/>
          </a:xfrm>
          <a:prstGeom prst="rect">
            <a:avLst/>
          </a:prstGeom>
          <a:ln w="0">
            <a:noFill/>
          </a:ln>
        </p:spPr>
      </p:pic>
      <p:sp>
        <p:nvSpPr>
          <p:cNvPr id="325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Места активного звездообразования – холодные струи газа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7" name="Picture 3" descr="Темные струи"/>
          <p:cNvPicPr/>
          <p:nvPr/>
        </p:nvPicPr>
        <p:blipFill>
          <a:blip r:embed="rId1"/>
          <a:stretch/>
        </p:blipFill>
        <p:spPr>
          <a:xfrm>
            <a:off x="1187280" y="1700280"/>
            <a:ext cx="6836040" cy="515772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4 диска в Орионе"/>
          <p:cNvPicPr/>
          <p:nvPr/>
        </p:nvPicPr>
        <p:blipFill>
          <a:blip r:embed="rId1"/>
          <a:stretch/>
        </p:blipFill>
        <p:spPr>
          <a:xfrm>
            <a:off x="324000" y="1052640"/>
            <a:ext cx="8496000" cy="5562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ротопланетные диски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1601"/>
          <p:cNvPicPr/>
          <p:nvPr/>
        </p:nvPicPr>
        <p:blipFill>
          <a:blip r:embed="rId1"/>
          <a:stretch/>
        </p:blipFill>
        <p:spPr>
          <a:xfrm>
            <a:off x="324000" y="836640"/>
            <a:ext cx="8604000" cy="584352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Туманность Ориона 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Протопланетный диск 1"/>
          <p:cNvPicPr/>
          <p:nvPr/>
        </p:nvPicPr>
        <p:blipFill>
          <a:blip r:embed="rId1"/>
          <a:stretch/>
        </p:blipFill>
        <p:spPr>
          <a:xfrm>
            <a:off x="324000" y="826920"/>
            <a:ext cx="8569080" cy="585972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407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Снимки космическим телескопом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Все диффузные туманности: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расположены около горячих звезд спектрального класса О и В;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светятся за счет мощного ультрафиолетового излучения горячих звезд;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имеют яркие эмиссионные линии в спектре;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имеют неправильную форму;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состоят из межзвёздной пыли и газов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Диффузная туманность Ориона (центральная часть)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1" name="Picture 3" descr="Диффузная Туманность Ориона 2"/>
          <p:cNvPicPr/>
          <p:nvPr/>
        </p:nvPicPr>
        <p:blipFill>
          <a:blip r:embed="rId1"/>
          <a:stretch/>
        </p:blipFill>
        <p:spPr>
          <a:xfrm>
            <a:off x="1187280" y="1290600"/>
            <a:ext cx="6782040" cy="5567400"/>
          </a:xfrm>
          <a:prstGeom prst="rect">
            <a:avLst/>
          </a:prstGeom>
          <a:ln w="0">
            <a:noFill/>
          </a:ln>
        </p:spPr>
      </p:pic>
      <p:sp>
        <p:nvSpPr>
          <p:cNvPr id="262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Туманность Трехраздельная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4" name="Picture 3" descr="Трехраздельная туманность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265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Диффузная туманность «Омега»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7" name="Picture 4" descr="2104"/>
          <p:cNvPicPr/>
          <p:nvPr/>
        </p:nvPicPr>
        <p:blipFill>
          <a:blip r:embed="rId1"/>
          <a:stretch/>
        </p:blipFill>
        <p:spPr>
          <a:xfrm>
            <a:off x="324000" y="727200"/>
            <a:ext cx="8534160" cy="613080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Диффузная туманность «Лагуна»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0" name="Picture 4" descr="Туманность Лагуна"/>
          <p:cNvPicPr/>
          <p:nvPr/>
        </p:nvPicPr>
        <p:blipFill>
          <a:blip r:embed="rId1"/>
          <a:stretch/>
        </p:blipFill>
        <p:spPr>
          <a:xfrm>
            <a:off x="1187280" y="762120"/>
            <a:ext cx="6705720" cy="609588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Крабовидная туманность М1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3" name="Picture 3" descr="М1 Крабовидная туманность"/>
          <p:cNvPicPr/>
          <p:nvPr/>
        </p:nvPicPr>
        <p:blipFill>
          <a:blip r:embed="rId1"/>
          <a:stretch/>
        </p:blipFill>
        <p:spPr>
          <a:xfrm>
            <a:off x="539640" y="812880"/>
            <a:ext cx="8382240" cy="604512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Туманность Розетка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6" name="Picture 3" descr="Туманность Розетка"/>
          <p:cNvPicPr/>
          <p:nvPr/>
        </p:nvPicPr>
        <p:blipFill>
          <a:blip r:embed="rId1"/>
          <a:stretch/>
        </p:blipFill>
        <p:spPr>
          <a:xfrm>
            <a:off x="395280" y="687240"/>
            <a:ext cx="8381880" cy="617076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09:12:56Z</dcterms:created>
  <dc:creator>ELENA</dc:creator>
  <dc:description/>
  <dc:language>en-US</dc:language>
  <cp:lastModifiedBy>LEGION</cp:lastModifiedBy>
  <dcterms:modified xsi:type="dcterms:W3CDTF">2015-01-13T12:36:08Z</dcterms:modified>
  <cp:revision>80</cp:revision>
  <dc:subject/>
  <dc:title>Самостоятельное конструирование интерактивных экспериментов по физике с использованием телекоммуникационных средств обучения</dc:title>
</cp:coreProperties>
</file>