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.png" ContentType="image/png"/>
  <Override PartName="/ppt/media/image7.png" ContentType="image/png"/>
  <Override PartName="/ppt/media/image34.jpeg" ContentType="image/jpeg"/>
  <Override PartName="/ppt/media/image36.jpeg" ContentType="image/jpeg"/>
  <Override PartName="/ppt/media/image40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F555-6A94-497F-B609-7C0A2D9BDF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ые и планетарные туманности в процессе эволюции галакт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3252-8510-44EE-9E5B-117C2C2F33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ые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ые туманности – разновидность диффузных туманност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5CA6-A753-46A2-9EE9-D6AF3AA2B0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нтре планетарных туманностей находится звезд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сный гигант, окруженный яркой, газовой оболочк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а относится к тип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ельца и планетарная туманность – это оболочка, которую звезда сбрасывает с себ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а теряет массу в виде солнечного ветра, имеющего скорость до 30 к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5778-C217-489A-96A5-C2D3CC8C77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F24B-7568-4061-9545-6D284EF42C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 27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Лисич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0960-0ACD-4722-95C0-7C2C499FB5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«Кошачий глаз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D264-8582-47C1-98EB-6095684547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ральная звезда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D239-6F4B-4CF5-8C34-145F78A032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«Эскимос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C5D3-552E-46A4-BB4B-2496E93B13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 65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7F54-B4FB-4B16-A450-3A7748E4C8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 6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DE7F-D0D2-4789-89E9-9D4513DFB1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ые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всего размещены в галактическом диске (видны в полосе Млечного Пут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726B-B003-44CD-9593-B06B6C3096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ранство между звез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ежзвездной среде открыты огромные холодные области -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ярные облак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 температурой 5 – 50 К и очень горячий газ с температурой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К –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коронарный га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F646-7B75-4374-A0B4-DA9AB4C69A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ая 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нская Голов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F49E-DC36-4A57-9C0E-FC3F4B345C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урительная Труб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4FD9-0BE1-4DF9-90FF-4B6C2A47FB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жный Угольный Меш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454B-F28F-49A7-88F3-2834752994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ждение звез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образуются в результате гравитационной неустойчивости в холодных и плот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ярных облаках, поэтому звёзды рождаются группами, скоплениями, комплекс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FA6E-D7DF-4309-86F8-B493521FC7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759A-799D-40EC-9283-D98339AE45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ракрасное излуче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 нашей Галак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79B6-03C3-420B-AFB0-E075C7AA0F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а активного звездообразования – холодные струи га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ABAB-6753-4268-AC0F-031F32FBA9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планетные д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1C03-1E3C-408C-A027-57ACCCB00F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Орио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1DE4-F35D-48E2-BDB3-C6F9817CDB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мки космическим телескоп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E86E-DFA6-4493-89A5-184B845BD0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иффузные туман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ожены около горячих звезд спектрального класса О и 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тятся за счет мощного ультрафиолетового излучения горячих звез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ют яркие эмиссионные линии в спектр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ют неправильную форм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т из межзвёздной пыли и га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B81D-7A14-4C08-91DC-8C1C4FED25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Ориона (центральная част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EBCD-4AF9-4BD6-BBFB-019237C605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Трехразд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5C53-4533-45A8-94D7-AF4D639CD8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«Омег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F46E-4EA2-400E-969F-50A0CD852C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«Лагун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2336-D51C-4FB9-8F7B-C60A843B9D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бовидная туманность М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ADF0-EF42-4C33-B4EE-2F8E06B58D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Розе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64BC-1493-4999-9843-48B75B72A4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DB3B-2E65-4F95-BBF6-9A106FC4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BB1B-6CD7-4F0D-8CDF-3B4A0143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366-D2AE-469E-AA30-FCD6DF2A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59E-A76B-448A-BC90-DCC11B1E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B4DC-437E-4D38-AB23-22B20A01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93BF-BF11-4CF0-B574-5D0516EC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5214-1FF6-4AF2-B1E2-18BED788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A398-17EE-4923-923B-42FAB58D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15DA-2C32-4015-B162-416ED0A9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5A7B-4BA1-46A5-804B-0BC5B2B5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A51D-E4F7-424D-882F-EFD618CB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B4A-8FD4-4A1B-94ED-A652AB3D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23BA-6F94-4844-A309-6F14D5E7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7927-03C8-4B5C-893B-8B56DE9E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DD53-67BD-4892-8EE2-93C76A0E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902C-A6E5-46CD-A1EE-7C122E59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9C09-3E34-4575-A3F2-A3B93B87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94BE3-A69C-42E5-B2B4-B30D36D2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83406-E2C4-4DC0-A389-1B00D315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2CB22-F3DD-4EAA-8B22-AE3A995B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53376-9EF2-4856-9EF3-6030045A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8620A-653F-4982-8E02-46F3F46B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CFF-ABEC-44D3-B0CF-06A46675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8E50-8440-48D4-8D0B-1B6FB2E7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88D57-1F50-47CE-8F39-BFFC9110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C03A8-6870-42E1-A37D-84101BE7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BFB91-0263-4904-AA49-4AAC8597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D467C-1A5F-4971-AA12-5C41665E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6DBBC-BBF5-41DB-9CFC-F5BD41D6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1A5F8-B776-4B13-A101-9F3ECE68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ACE-4FEF-40C0-A09E-79AD9275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558D-6EA0-4586-9E12-54932875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E443-B12A-4127-8E1C-F58B8887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CED-959C-4F1B-9C48-C75992F0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202-783B-40DE-AD85-DD81B529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27F-C9AD-4F61-B0E2-8219F7A2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BDB1-7CAC-4D4C-A563-79927666EA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7828-9283-4C2E-8E2E-B55D59B3A7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E7C3-F752-4C08-AAA5-CF6D0B2D75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64332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ые и планетарные туманности в процессе эволюции галактик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9" name="Picture 3" descr="Туманность Розетка"/>
          <p:cNvPicPr/>
          <p:nvPr/>
        </p:nvPicPr>
        <p:blipFill>
          <a:blip r:embed="rId1"/>
          <a:stretch/>
        </p:blipFill>
        <p:spPr>
          <a:xfrm>
            <a:off x="357120" y="2286000"/>
            <a:ext cx="4560840" cy="3357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Трехраздельная туманность"/>
          <p:cNvPicPr/>
          <p:nvPr/>
        </p:nvPicPr>
        <p:blipFill>
          <a:blip r:embed="rId2"/>
          <a:stretch/>
        </p:blipFill>
        <p:spPr>
          <a:xfrm>
            <a:off x="4214880" y="3714840"/>
            <a:ext cx="3689280" cy="2428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Диффузная Туманность Ориона 2"/>
          <p:cNvPicPr/>
          <p:nvPr/>
        </p:nvPicPr>
        <p:blipFill>
          <a:blip r:embed="rId3"/>
          <a:stretch/>
        </p:blipFill>
        <p:spPr>
          <a:xfrm>
            <a:off x="6143760" y="2071800"/>
            <a:ext cx="2455560" cy="201600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ые туманност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Планетарные туманности – разновидность диффузных туманност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В центре планетарных туманностей находится звезда: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красный гигант, окруженный яркой, газовой оболочкой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звезда относится к типу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RV</a:t>
            </a: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 Тельца и планетарная туманность – это оболочка, которую звезда сбрасывает с себя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звезда теряет массу в виде солнечного ветра, имеющего скорость до 30 км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с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</a:t>
            </a: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</a:t>
            </a: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2440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5" name="Picture 3" descr="Планетарная туманность NGC 2440"/>
          <p:cNvPicPr/>
          <p:nvPr/>
        </p:nvPicPr>
        <p:blipFill>
          <a:blip r:embed="rId1"/>
          <a:stretch/>
        </p:blipFill>
        <p:spPr>
          <a:xfrm>
            <a:off x="539640" y="1131840"/>
            <a:ext cx="7848720" cy="57261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Планетарная туманност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М 27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«Лисичка»</a:t>
            </a:r>
            <a:endParaRPr b="1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8" name="Picture 3" descr="2114"/>
          <p:cNvPicPr/>
          <p:nvPr/>
        </p:nvPicPr>
        <p:blipFill>
          <a:blip r:embed="rId1"/>
          <a:stretch/>
        </p:blipFill>
        <p:spPr>
          <a:xfrm>
            <a:off x="1908000" y="1989000"/>
            <a:ext cx="5837400" cy="4869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«Кошачий глаз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1" name="Picture 3" descr="Планетарная туманность Кошачий Глаз"/>
          <p:cNvPicPr/>
          <p:nvPr/>
        </p:nvPicPr>
        <p:blipFill>
          <a:blip r:embed="rId1"/>
          <a:stretch/>
        </p:blipFill>
        <p:spPr>
          <a:xfrm>
            <a:off x="1332000" y="1523880"/>
            <a:ext cx="6553080" cy="533412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Ц</a:t>
            </a:r>
            <a:r>
              <a:rPr b="1" lang="ru-RU" sz="3600" spc="-1" strike="noStrike">
                <a:solidFill>
                  <a:srgbClr val="ffffff"/>
                </a:solidFill>
                <a:latin typeface="Corbel"/>
                <a:ea typeface="Times New Roman"/>
              </a:rPr>
              <a:t>ентральная звезда туманности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«Эскимос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7" name="Picture 3" descr="Планетарная туманность Эскимос"/>
          <p:cNvPicPr/>
          <p:nvPr/>
        </p:nvPicPr>
        <p:blipFill>
          <a:blip r:embed="rId1"/>
          <a:stretch/>
        </p:blipFill>
        <p:spPr>
          <a:xfrm>
            <a:off x="1332000" y="1219320"/>
            <a:ext cx="7056360" cy="537840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 6543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0" name="Picture 3" descr="ngc6543"/>
          <p:cNvPicPr/>
          <p:nvPr/>
        </p:nvPicPr>
        <p:blipFill>
          <a:blip r:embed="rId1"/>
          <a:stretch/>
        </p:blipFill>
        <p:spPr>
          <a:xfrm>
            <a:off x="1371600" y="1111320"/>
            <a:ext cx="6513480" cy="574668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 6751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3" name="Picture 3" descr="ngc6751"/>
          <p:cNvPicPr/>
          <p:nvPr/>
        </p:nvPicPr>
        <p:blipFill>
          <a:blip r:embed="rId1"/>
          <a:stretch/>
        </p:blipFill>
        <p:spPr>
          <a:xfrm>
            <a:off x="826920" y="1547640"/>
            <a:ext cx="7417080" cy="531036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емные туманност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Чаще всего размещены в галактическом диске (видны в полосе Млечного Пути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ространство между звездам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В межзвездной среде открыты огромные холодные области -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w Cen MT"/>
              </a:rPr>
              <a:t>молекулярные облака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- с температурой 5 – 50 К и очень горячий газ с температурой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w Cen MT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 К –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w Cen MT"/>
              </a:rPr>
              <a:t>коронарный газ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емная 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«Конская Голова»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9" name="Picture 3" descr="Темная туманность Конская Голова"/>
          <p:cNvPicPr/>
          <p:nvPr/>
        </p:nvPicPr>
        <p:blipFill>
          <a:blip r:embed="rId1"/>
          <a:stretch/>
        </p:blipFill>
        <p:spPr>
          <a:xfrm>
            <a:off x="609480" y="1219320"/>
            <a:ext cx="7850160" cy="554976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«Курительная Трубка»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Picture 3" descr="Туманность Курительная Трубка"/>
          <p:cNvPicPr/>
          <p:nvPr/>
        </p:nvPicPr>
        <p:blipFill>
          <a:blip r:embed="rId1"/>
          <a:stretch/>
        </p:blipFill>
        <p:spPr>
          <a:xfrm>
            <a:off x="755640" y="1503360"/>
            <a:ext cx="7777080" cy="515448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Южный Угольный Мешок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5" name="Picture 3" descr="Южный Угольный Мешок"/>
          <p:cNvPicPr/>
          <p:nvPr/>
        </p:nvPicPr>
        <p:blipFill>
          <a:blip r:embed="rId1"/>
          <a:stretch/>
        </p:blipFill>
        <p:spPr>
          <a:xfrm>
            <a:off x="468360" y="1773360"/>
            <a:ext cx="8316720" cy="508464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Рождение звезд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Звезды образуются в результате гравитационной неустойчивости в холодных и плотны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молекулярных облаках, поэтому звёзды рождаются группами, скоплениями, комплексами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Звезды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1" name="Picture 3" descr="Плеяды"/>
          <p:cNvPicPr/>
          <p:nvPr/>
        </p:nvPicPr>
        <p:blipFill>
          <a:blip r:embed="rId1"/>
          <a:stretch/>
        </p:blipFill>
        <p:spPr>
          <a:xfrm>
            <a:off x="971640" y="2021040"/>
            <a:ext cx="7200720" cy="483696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Инфракрасное излучение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центра нашей Галактики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4" name="Picture 3" descr="Центр Галактики в инф лучах"/>
          <p:cNvPicPr/>
          <p:nvPr/>
        </p:nvPicPr>
        <p:blipFill>
          <a:blip r:embed="rId1"/>
          <a:stretch/>
        </p:blipFill>
        <p:spPr>
          <a:xfrm>
            <a:off x="468360" y="1628640"/>
            <a:ext cx="8244000" cy="522936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Места активного звездообразования – холодные струи газа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7" name="Picture 3" descr="Темные струи"/>
          <p:cNvPicPr/>
          <p:nvPr/>
        </p:nvPicPr>
        <p:blipFill>
          <a:blip r:embed="rId1"/>
          <a:stretch/>
        </p:blipFill>
        <p:spPr>
          <a:xfrm>
            <a:off x="1187280" y="1700280"/>
            <a:ext cx="6836040" cy="51577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4 диска в Орионе"/>
          <p:cNvPicPr/>
          <p:nvPr/>
        </p:nvPicPr>
        <p:blipFill>
          <a:blip r:embed="rId1"/>
          <a:stretch/>
        </p:blipFill>
        <p:spPr>
          <a:xfrm>
            <a:off x="324000" y="1052640"/>
            <a:ext cx="8496000" cy="5562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ротопланетные диск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1601"/>
          <p:cNvPicPr/>
          <p:nvPr/>
        </p:nvPicPr>
        <p:blipFill>
          <a:blip r:embed="rId1"/>
          <a:stretch/>
        </p:blipFill>
        <p:spPr>
          <a:xfrm>
            <a:off x="324000" y="836640"/>
            <a:ext cx="8604000" cy="58435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уманность Ориона 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Протопланетный диск 1"/>
          <p:cNvPicPr/>
          <p:nvPr/>
        </p:nvPicPr>
        <p:blipFill>
          <a:blip r:embed="rId1"/>
          <a:stretch/>
        </p:blipFill>
        <p:spPr>
          <a:xfrm>
            <a:off x="324000" y="826920"/>
            <a:ext cx="8569080" cy="58597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0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Снимки космическим телескопом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Все диффузные туманности: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расположены около горячих звезд спектрального класса О и В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светятся за счет мощного ультрафиолетового излучения горячих звезд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имеют яркие эмиссионные линии в спектре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имеют неправильную форму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состоят из межзвёздной пыли и газов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Диффузная туманность Ориона (центральная часть)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1" name="Picture 3" descr="Диффузная Туманность Ориона 2"/>
          <p:cNvPicPr/>
          <p:nvPr/>
        </p:nvPicPr>
        <p:blipFill>
          <a:blip r:embed="rId1"/>
          <a:stretch/>
        </p:blipFill>
        <p:spPr>
          <a:xfrm>
            <a:off x="1187280" y="1290600"/>
            <a:ext cx="6782040" cy="556740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Трехраздельная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4" name="Picture 3" descr="Трехраздельная туманность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ая туманность «Омега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7" name="Picture 4" descr="2104"/>
          <p:cNvPicPr/>
          <p:nvPr/>
        </p:nvPicPr>
        <p:blipFill>
          <a:blip r:embed="rId1"/>
          <a:stretch/>
        </p:blipFill>
        <p:spPr>
          <a:xfrm>
            <a:off x="324000" y="727200"/>
            <a:ext cx="8534160" cy="61308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ая туманность «Лагуна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0" name="Picture 4" descr="Туманность Лагуна"/>
          <p:cNvPicPr/>
          <p:nvPr/>
        </p:nvPicPr>
        <p:blipFill>
          <a:blip r:embed="rId1"/>
          <a:stretch/>
        </p:blipFill>
        <p:spPr>
          <a:xfrm>
            <a:off x="1187280" y="762120"/>
            <a:ext cx="6705720" cy="60958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Крабовидная туманность М1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3" name="Picture 3" descr="М1 Крабовидная туманность"/>
          <p:cNvPicPr/>
          <p:nvPr/>
        </p:nvPicPr>
        <p:blipFill>
          <a:blip r:embed="rId1"/>
          <a:stretch/>
        </p:blipFill>
        <p:spPr>
          <a:xfrm>
            <a:off x="539640" y="812880"/>
            <a:ext cx="8382240" cy="604512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уманность Розетка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6" name="Picture 3" descr="Туманность Розетка"/>
          <p:cNvPicPr/>
          <p:nvPr/>
        </p:nvPicPr>
        <p:blipFill>
          <a:blip r:embed="rId1"/>
          <a:stretch/>
        </p:blipFill>
        <p:spPr>
          <a:xfrm>
            <a:off x="395280" y="687240"/>
            <a:ext cx="8381880" cy="617076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9:12:56Z</dcterms:created>
  <dc:creator>ELENA</dc:creator>
  <dc:description/>
  <dc:language>en-US</dc:language>
  <cp:lastModifiedBy>LEGION</cp:lastModifiedBy>
  <dcterms:modified xsi:type="dcterms:W3CDTF">2015-01-13T12:36:08Z</dcterms:modified>
  <cp:revision>80</cp:revision>
  <dc:subject/>
  <dc:title>Самостоятельное конструирование интерактивных экспериментов по физике с использованием телекоммуникационных средств обучения</dc:title>
</cp:coreProperties>
</file>