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56DE9-90E0-42B9-AFDB-59135EBF9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4312D-9D34-427E-9856-66B8018A64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8D566-7623-4139-9D41-5AAC399EED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0A641-B91F-42ED-8A5E-63850E3AD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Ганимед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всего лиш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= 1,93 г/см3: на спутнике очень много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3D33D-E440-4C9F-B062-9887ECA3F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дяная Калли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ванный в честь превращенной в медведицу нимфы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ллист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565BE-9E0B-4475-972E-45FF4089F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алгалл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CA1E8-7669-4549-9267-BA251E464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E8511-BE2F-4FE0-87B9-5192B802AC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A1070-BAD6-49D9-9E62-38EA09B1E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о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– один из первых спутников Юпитера, открытых в 1610 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алилеем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BD1C7-2BD9-4C46-8E1A-9582A6132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54F96-5251-4F67-BAEF-0A5C8BC4A7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2A0E2-FF07-42B5-8AEC-5CC02B9EC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96E53-6EF4-4B4A-B9CC-DFA865464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диус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Европы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8B3BA-DD20-4842-A7DE-7BB3C419D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043-C204-4F42-8512-E4B389C0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9D5-0006-4A84-86B9-DDAFB9F4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D07-7629-4001-8EE4-9BC76CEE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1E8-1ED1-4957-B64B-CF66A77B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C65B-2A20-4083-9E29-0B3D7223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F177-839C-41F6-81F2-6BFD07AF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A4CD-2A16-4D1B-B08C-BC2F04ED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3E3E-A6A2-44CD-9C55-B499247C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81CF-60D9-48ED-9B9F-36072241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E781-D992-43D5-AAF3-0FDB635F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0A9B-9710-4568-83BF-2CDDC4ED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EBE-DC3B-409C-9A37-985BDEDD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B3F9-924F-4306-A58D-7FFD856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5667-6676-4D9F-B178-BD190E06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5060-F205-488A-BFB9-E47529DB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C2E4-99BF-400A-860E-45147513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F336-A2B6-4FD5-8EC2-83240E42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543-6829-47FE-BBB7-6053C4F2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F07-9601-4A1C-AC08-1B25C40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63B-2BBE-4B9D-B57C-062D038E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F10-8254-4678-8FF2-99B12455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018-27CB-43F2-9FC6-B06ECB2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908-66EE-46D3-8963-C992B540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190-2284-4C4B-ABC8-73E773D4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1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FBE53-F77A-4670-AAC9-1FC606AA070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0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872720"/>
            <a:ext cx="77691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A175A8-96F3-4B3A-81D8-7B889626E4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79280" y="0"/>
            <a:ext cx="8964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456080" y="3286080"/>
            <a:ext cx="25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анимед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его лиш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93 г/см3: на спутнике очень много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304812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Ледяная Каллист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ный в честь превращенной в медведицу нимфы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лли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лг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676520" y="297360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истема концентрических трещин Валгалла (в левой части фотографии) имеет диаметр более 3000 км. Как круги на воде разбежались трещины по поверхности спутника после удара гигантского метеор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Юпитер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33376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5264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13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– один из первых спутников Юпитера, открытых в 1610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Галилее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33840" cy="4533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00800" cy="4206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22860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514680" y="457200"/>
            <a:ext cx="5629320" cy="5867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2971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иу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вроп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76440" cy="59436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38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