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760" y="-36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2640" y="676440"/>
            <a:ext cx="4568760" cy="3443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81F433-9E3C-4B62-A7EE-E202F39A6AB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hyperlink" Target="http://www.college.ru/astronomy/course/content/chapteri/section/paragraph4/subparagraph8.html" TargetMode="External"/><Relationship Id="rId2" Type="http://schemas.openxmlformats.org/officeDocument/2006/relationships/slide" Target="../slides/slide4.xml"/><Relationship Id="rId3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F0DD2D-445E-4109-A48E-5A809A7C57A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b2b2b2"/>
                </a:solidFill>
                <a:latin typeface="Felix Titling"/>
              </a:rPr>
              <a:t>Галилеевы Спутники Юпитера</a:t>
            </a:r>
            <a:r>
              <a:rPr b="1" lang="ru-RU" sz="1200" spc="-1" strike="noStrike">
                <a:solidFill>
                  <a:srgbClr val="b2b2b2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F57067-D7B2-4906-B917-547B9F7ED5A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По-видимому, выявленные вариации магнитного поля у спутников объясняются наличием «подземного» океана с соленостью, близкой к солености океанов Земли (37,5 ‰). Возможное существование подземного водного океана на Европе дискутируется уже более двух десятилетий. Аккреционные, радиогенные и приливные источники тепла на спутнике достаточно мощны, чтобы стать причиной обезвоживания глубинных слоев и формирования приповерхностного слоя воды толщиной более 100 км. Гравитационные измерения, проведенные аппаратурой станции «Галилео», подтвердили дифференциацию тела Европы: твердое ядро и водно-ледяной покров толщиной около 100 км, хорошо отражающий солнечные лучи. Возможно, этот океан даже теплый: существуют предположения о существовании в нем примитивных форм жизни. Планируются международные экспедиции для исследования предполагаемых океанов Европ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5C1CC3-C2A5-4CAA-9F5A-25B7D4BBA6A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Самый большой спутник в системе Юпитера и вообще в Солнечной системе назвали в честь Ганимеда – сына троянского царя, похищенного Зевсом на Олимп, где он стал разносить богам нектар. Радиус спутника 2631 км. По своему диаметру он превосходит Меркурий. Однако, средняя плотность </a:t>
            </a:r>
            <a:r>
              <a:rPr b="1" i="1" lang="ru-RU" sz="1200" spc="-1" strike="noStrike">
                <a:solidFill>
                  <a:srgbClr val="ffffff"/>
                </a:solidFill>
                <a:latin typeface="Times New Roman"/>
              </a:rPr>
              <a:t>Ганимеда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 всего лишь </a:t>
            </a:r>
            <a:r>
              <a:rPr b="1" i="1" lang="ru-RU" sz="1200" spc="-1" strike="noStrike">
                <a:solidFill>
                  <a:srgbClr val="ffffff"/>
                </a:solidFill>
                <a:latin typeface="Times New Roman"/>
              </a:rPr>
              <a:t>ρ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 = 1,93 г/см3: на спутнике очень много льд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Внешне по фотографиям Ганимед напоминает Луну, но он значительно крупнее ее. 40 % поверхности Ганимеда представляют собой древнюю мощную ледяную кору, покрытую кратерами. 3,5 миллиарда лет назад на ней появились странные области, покрытые бороздами. Огромные ударные кратеры на поверхности Ганимеда образовались в эпоху образования спутников и планет. Молодые кратеры имеют светлое дно и обнажают ледяную поверхность. Кора Ганимеда состоит из смеси льда и темных горных пород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F90A54-54A8-41DA-8521-44AF429FFE5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Ледяная Каллист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азванный в честь превращенной в медведицу нимфы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Каллисто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спутник размером примерно с Меркурий – третий по величине после Ганимеда и Титана, его диаметр 4800 км, а средняя плотность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ρ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 = 1,83 г/см3. Водяной лед Каллисто составляет до 60 % массы спутника. У Каллисто найдено собственное магнитное поле напряженностью 750 мТл на поверхности. Поэтому предполагается наличие металлического ядра под силикатной корой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0E7CF8-EA99-45C1-9867-886411CC3BE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Так же, как и у Ганимеда, светлые кратеры – это более поздние образования на поверхности спутника. Их там огромное количество: особое внимание привлекает </a:t>
            </a:r>
            <a:r>
              <a:rPr b="1" i="1" lang="ru-RU" sz="1200" spc="-1" strike="noStrike">
                <a:solidFill>
                  <a:srgbClr val="ffffff"/>
                </a:solidFill>
                <a:latin typeface="Times New Roman"/>
              </a:rPr>
              <a:t>Валгалла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, напоминающая бассейн Калорис на Меркурии. Возраст поверхности Каллисто измеряется миллиардами лет; на ней практически отсутствуют следы вулканической деятельности. Если наличие океана на Европе можно считать достаточно правдоподобным, то для Каллисто более вероятно его отсутствие. Хотя мощность аккреционных и радиогенных источников тепла на спутнике близка к требуемой для возникновения жидкой фазы, то есть температура должна быть не менее 0° С, гравитационные измерения с борта «Галилео» показали, что этот спутник состоит только из металлической оболочки и льд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D76E98-42D6-42B2-A44B-EAAE2352E4E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ffcc66"/>
                </a:solidFill>
                <a:latin typeface="Times New Roman"/>
              </a:rPr>
              <a:t>Юпитер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тысячи лет назад названный в честь царя римских богов, господствует и среди девяти планет нашей Солнечной системы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 началу третьего тысячелетия у Юпитера известно 28 спутников. Четыре из них отличаются большими размерами и массой. Они движутся почти по круговым орбитам в плоскости экватора планеты. 20 внешних спутников настолько далеки от планеты, что невидимы с ее поверхности невооруженным глазом, а Юпитер в небе самого дальнего из них выглядит меньше Лун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5BCDCE-450C-4150-99D0-284B4E47862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91A5A3-D5B2-460C-9F6E-4D1EC8335BB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i="1" lang="ru-RU" sz="1200" spc="-1" strike="noStrike">
                <a:solidFill>
                  <a:srgbClr val="ffffff"/>
                </a:solidFill>
                <a:latin typeface="Times New Roman"/>
              </a:rPr>
              <a:t>Ио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  – один из первых спутников Юпитера, открытых в 1610 </a:t>
            </a:r>
            <a:r>
              <a:rPr b="0" lang="ru-RU" sz="1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Галилеем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. По массе и радиусу спутник похож на Луну и виден в небе Юпитера как яркий красноватый диск или полумесяц. Диаметр Ио равен 3630 км. Назван спутник в честь возлюбленной Зевса из древнегреческого мифа, которую ревнивая Гера превратила в коров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ACDF08-4079-4C5C-947C-21160CE0ECF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На Ио обнаружено 20 действующих вулканов, извергающих султаны высотой до 300 км. Основной выбрасываемый ими газ – диоксид серы, замерзающий потом на поверхности Ио в виде белого твердого вещества. Некоторое его количество улетает космос и образует кольцо, опоясывающее Юпитер. Оранжевый цвет поверхности Ио объясняется отложениями серы и сконденсировавшегося сернистого газа. На Ио зарегистрирована атмосфера в 10 миллионов раз разреженнее, чем на Земле. Но эта атмосфера плотнее, чем на Меркури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FA56FB-6B30-4330-8F62-5DC319F3634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Поверхность Ио молода (ей около миллиона лет) за счет постоянной сейсмической активности: на ней почти нет метеоритных кратеров; зато обнаружены лавовые потоки и озера черной серы. Расчеты показывают, что Ио разогревается за счет огромных приливных воздействий от Юпитера, Европы и Ганимеда. Спутники Юпитера лежат в области влияния магнитного поля, и это, возможно, также объясняет вулканическую деятельность И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Плотность Ио – 3,55 г/см3. Под расплавленной силикатной оболочкой находится железистое ядр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73A7F2-3ED1-44BE-B874-65C65A8C265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У царя олимпийцев было много женщин. Очередная из них – царевна Европа, сцену похищения которой Зевсом-быком вы не раз могли видеть в музеях. В честь нее Галилей и назвал очередной открытый им спутник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1F7952-F9EE-485E-964A-4A8305A35A3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Радиус </a:t>
            </a:r>
            <a:r>
              <a:rPr b="1" i="1" lang="ru-RU" sz="1200" spc="-1" strike="noStrike">
                <a:solidFill>
                  <a:srgbClr val="ffffff"/>
                </a:solidFill>
                <a:latin typeface="Times New Roman"/>
              </a:rPr>
              <a:t>Европы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 1569 км. Она покрыта водяным льдом. По-видимому, под ледяной коркой толщиной в 100 километров существует водный океан, который покрывает силикатное ядро. Плотность спутника достаточно высокая – 3,04 г/см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B079D3-8A28-4E16-B123-2F15FD93EE7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Те линии, которые видны на фотографиях, – это трещины в толстой водяной коре. Их толщина иногда превосходит сотню километров, а длина достигает нескольких тысяч километров. На поверхности Европы практически отсутствуют кратеры, что говорит о молодости поверхности спутника – сотни тысяч или миллионы лет. На ней нет возвышенностей более 100 м высото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7 декабря 1995 года космическая станция «Галилео» вышла на орбиту Юпитера, что позволило начать уникальные исследования его четырех спутников: Ио, Ганимеда, Европы и Каллисто. Магнитометрические измерения показали существенные возмущения магнитного поля Юпитера вблизи Европы и Каллисто. Объяснить значительную индукцию и наблюдаемые возмущения магнитного поля не позволяет гипотеза о существовании у этих спутников внутреннего ядра из ферромагнитного вещества, поскольку в таком случае магнитное поле, спадая обратно пропорционально кубу расстояния, было бы в восемь раз меньше наблюдаемого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AEF4-64F2-47FD-BED9-698AF5E5E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6840" y="3965040"/>
            <a:ext cx="8226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2F4F-41C9-4A4C-82A0-4148A970D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24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732C-4D05-4B22-96D7-3A4FD226A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6840" y="39650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8200" y="39650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19560" y="39650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3B69-13EE-4410-B747-1143717DD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D089A-F9A6-470B-AE8D-BFC49DEB0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0B217-042F-4C84-AC57-E7E2AEFD7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18283-1766-46CA-BC44-DA6C26E57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ADED2-7373-4889-84F7-4889D9643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E1A6A-D35F-4066-814E-CE6FB9211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6840" y="13032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411F5-42A6-4B73-91A4-BDCD7E4E5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C3A2B-6A75-453D-B6A0-33BDADF73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50ED-2441-4329-856B-FD5C3C7E4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24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91170-AA74-493C-90B8-5F7160BD4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8226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74371-06B1-432B-B10E-5FF2782A5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6840" y="3965040"/>
            <a:ext cx="8226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ABC9A-8783-4DFE-9932-282261476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24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AC69B-3A64-4DBC-9C6D-B78EC4BFC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6840" y="39650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8200" y="39650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19560" y="39650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90384-60CF-416A-924D-0FE65CCCC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7A4B-0B17-480E-8D43-C65212376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4A23-9918-466F-ABB4-C2A2EADFB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0E08-C2AD-4528-B1DE-BA37E9804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6840" y="13032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C9D7-E12E-4D2B-AA54-C915DF42D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A412-FD64-44C4-9DDD-4F0A76B1F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24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79DA-8964-473C-8819-AAB0228AA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8226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2DE4-2FE8-43CF-8726-9336131F5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0" y="3902040"/>
            <a:ext cx="3398760" cy="2948040"/>
            <a:chOff x="0" y="3902040"/>
            <a:chExt cx="3398760" cy="2948040"/>
          </a:xfrm>
        </p:grpSpPr>
        <p:sp>
          <p:nvSpPr>
            <p:cNvPr id="1" name="Freeform 2"/>
            <p:cNvSpPr/>
            <p:nvPr/>
          </p:nvSpPr>
          <p:spPr>
            <a:xfrm>
              <a:off x="0" y="3981240"/>
              <a:ext cx="3398760" cy="286236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3"/>
            <p:cNvSpPr/>
            <p:nvPr/>
          </p:nvSpPr>
          <p:spPr>
            <a:xfrm>
              <a:off x="0" y="3902040"/>
              <a:ext cx="2941560" cy="294804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4"/>
            <p:cNvSpPr/>
            <p:nvPr/>
          </p:nvSpPr>
          <p:spPr>
            <a:xfrm>
              <a:off x="0" y="4341600"/>
              <a:ext cx="2768400" cy="250200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5"/>
            <p:cNvSpPr/>
            <p:nvPr/>
          </p:nvSpPr>
          <p:spPr>
            <a:xfrm>
              <a:off x="0" y="4038120"/>
              <a:ext cx="2768400" cy="280548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6"/>
            <p:cNvSpPr/>
            <p:nvPr/>
          </p:nvSpPr>
          <p:spPr>
            <a:xfrm>
              <a:off x="331560" y="4419360"/>
              <a:ext cx="136080" cy="1360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7"/>
            <p:cNvSpPr/>
            <p:nvPr/>
          </p:nvSpPr>
          <p:spPr>
            <a:xfrm>
              <a:off x="2436840" y="6164280"/>
              <a:ext cx="145800" cy="1458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8"/>
            <p:cNvSpPr/>
            <p:nvPr/>
          </p:nvSpPr>
          <p:spPr>
            <a:xfrm>
              <a:off x="1254960" y="4322520"/>
              <a:ext cx="191880" cy="1915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7200" y="6248160"/>
            <a:ext cx="21304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21304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85AA45-BB7B-4AD7-87F7-9EBA56B60F29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1"/>
          <p:cNvGrpSpPr/>
          <p:nvPr/>
        </p:nvGrpSpPr>
        <p:grpSpPr>
          <a:xfrm>
            <a:off x="0" y="3902040"/>
            <a:ext cx="3398760" cy="2948040"/>
            <a:chOff x="0" y="3902040"/>
            <a:chExt cx="3398760" cy="2948040"/>
          </a:xfrm>
        </p:grpSpPr>
        <p:sp>
          <p:nvSpPr>
            <p:cNvPr id="50" name="Freeform 2"/>
            <p:cNvSpPr/>
            <p:nvPr/>
          </p:nvSpPr>
          <p:spPr>
            <a:xfrm>
              <a:off x="0" y="3981240"/>
              <a:ext cx="3398760" cy="286236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3"/>
            <p:cNvSpPr/>
            <p:nvPr/>
          </p:nvSpPr>
          <p:spPr>
            <a:xfrm>
              <a:off x="0" y="3902040"/>
              <a:ext cx="2941560" cy="294804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0" y="4341600"/>
              <a:ext cx="2768400" cy="250200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0" y="4038120"/>
              <a:ext cx="2768400" cy="280548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6"/>
            <p:cNvSpPr/>
            <p:nvPr/>
          </p:nvSpPr>
          <p:spPr>
            <a:xfrm>
              <a:off x="331560" y="4419360"/>
              <a:ext cx="136080" cy="1360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7"/>
            <p:cNvSpPr/>
            <p:nvPr/>
          </p:nvSpPr>
          <p:spPr>
            <a:xfrm>
              <a:off x="2436840" y="6164280"/>
              <a:ext cx="145800" cy="1458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8"/>
            <p:cNvSpPr/>
            <p:nvPr/>
          </p:nvSpPr>
          <p:spPr>
            <a:xfrm>
              <a:off x="1254960" y="4322520"/>
              <a:ext cx="191880" cy="1915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1872720"/>
            <a:ext cx="7769160" cy="15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7200" y="6248160"/>
            <a:ext cx="21304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21304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B4DF0A93-6D07-45DC-A422-58C0264BE690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college.ru/astronomy/course/content/chapteri/section/paragraph4/subparagraph8.html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2"/>
          <p:cNvSpPr/>
          <p:nvPr/>
        </p:nvSpPr>
        <p:spPr>
          <a:xfrm>
            <a:off x="179280" y="0"/>
            <a:ext cx="8964720" cy="19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b2b2b2"/>
                </a:solidFill>
                <a:latin typeface="Felix Titling"/>
              </a:rPr>
              <a:t>Галилеевы Спутники Юпитера</a:t>
            </a:r>
            <a:r>
              <a:rPr b="1" lang="ru-RU" sz="5400" spc="-1" strike="noStrike">
                <a:solidFill>
                  <a:srgbClr val="b2b2b2"/>
                </a:solidFill>
                <a:latin typeface="Arial"/>
              </a:rPr>
              <a:t>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4456080" y="3286080"/>
            <a:ext cx="2556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8520"/>
            <a:ext cx="28926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0" y="838080"/>
            <a:ext cx="87631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-видимому, выявленные вариации магнитного поля у спутников объясняются наличием «подземного» океана с соленостью, близкой к солености океанов Земли (37,5 ‰). Возможное существование подземного водного океана на Европе дискутируется уже более двух десятилетий. Аккреционные, радиогенные и приливные источники тепла на спутнике достаточно мощны, чтобы стать причиной обезвоживания глубинных слоев и формирования приповерхностного слоя воды толщиной более 100 км. Гравитационные измерения, проведенные аппаратурой станции «Галилео», подтвердили дифференциацию тела Европы: твердое ядро и водно-ледяной покров толщиной около 100 км, хорошо отражающий солнечные лучи. Возможно, этот океан даже теплый: существуют предположения о существовании в нем примитивных форм жизни. Планируются международные экспедиции для исследования предполагаемых океанов Европ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26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152280" y="228240"/>
            <a:ext cx="876312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амый большой спутник в системе Юпитера и вообще в Солнечной системе назвали в честь Ганимеда – сына троянского царя, похищенного Зевсом на Олимп, где он стал разносить богам нектар. Радиус спутника 2631 км. По своему диаметру он превосходит Меркурий. Однако, средняя плотность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анимеда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всего лишь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ρ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 = 1,93 г/см3: на спутнике очень много льд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нешне по фотографиям Ганимед напоминает Луну, но он значительно крупнее ее. 40 % поверхности Ганимеда представляют собой древнюю мощную ледяную кору, покрытую кратерами. 3,5 миллиарда лет назад на ней появились странные области, покрытые бороздами. Огромные ударные кратеры на поверхности Ганимеда образовались в эпоху образования спутников и планет. Молодые кратеры имеют светлое дно и обнажают ледяную поверхность. Кора Ганимеда состоит из смеси льда и темных горных пород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334120" y="3352680"/>
            <a:ext cx="3200400" cy="32004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" descr=""/>
          <p:cNvPicPr/>
          <p:nvPr/>
        </p:nvPicPr>
        <p:blipFill>
          <a:blip r:embed="rId2"/>
          <a:stretch/>
        </p:blipFill>
        <p:spPr>
          <a:xfrm>
            <a:off x="1066680" y="3809880"/>
            <a:ext cx="3048120" cy="266724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26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b2b2b2"/>
                </a:solidFill>
                <a:latin typeface="Arial"/>
              </a:rPr>
              <a:t>Ледяная Каллисто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званный в честь превращенной в медведицу нимфы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Каллисто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спутник размером примерно с Меркурий – третий по величине после Ганимеда и Титана, его диаметр 4800 км, а средняя плотность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ρ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 = 1,83 г/см3. Водяной лед Каллисто составляет до 60 % массы спутника. У Каллисто найдено собственное магнитное поле напряженностью 750 мТл на поверхности. Поэтому предполагается наличие металлического ядра под силикатной корой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Picture 3" descr=""/>
          <p:cNvPicPr/>
          <p:nvPr/>
        </p:nvPicPr>
        <p:blipFill>
          <a:blip r:embed="rId1"/>
          <a:stretch/>
        </p:blipFill>
        <p:spPr>
          <a:xfrm>
            <a:off x="3048120" y="3048120"/>
            <a:ext cx="3429000" cy="342900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26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0" y="228240"/>
            <a:ext cx="91440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ак же, как и у Ганимеда, светлые кратеры – это более поздние образования на поверхности спутника. Их там огромное количество: особое внимание привлекает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Валгалла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, напоминающая бассейн Калорис на Меркурии. Возраст поверхности Каллисто измеряется миллиардами лет; на ней практически отсутствуют следы вулканической деятельности. Если наличие океана на Европе можно считать достаточно правдоподобным, то для Каллисто более вероятно его отсутствие. Хотя мощность аккреционных и радиогенных источников тепла на спутнике близка к требуемой для возникновения жидкой фазы, то есть температура должна быть не менее 0° С, гравитационные измерения с борта «Галилео» показали, что этот спутник состоит только из металлической оболочки и льд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Picture 2" descr=""/>
          <p:cNvPicPr/>
          <p:nvPr/>
        </p:nvPicPr>
        <p:blipFill>
          <a:blip r:embed="rId1"/>
          <a:stretch/>
        </p:blipFill>
        <p:spPr>
          <a:xfrm>
            <a:off x="4952880" y="2895480"/>
            <a:ext cx="2857680" cy="381024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3"/>
          <p:cNvSpPr/>
          <p:nvPr/>
        </p:nvSpPr>
        <p:spPr>
          <a:xfrm>
            <a:off x="1676520" y="2973600"/>
            <a:ext cx="27432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cc66"/>
                </a:solidFill>
                <a:latin typeface="Arial"/>
              </a:rPr>
              <a:t>Система концентрических трещин Валгалла (в левой части фотографии) имеет диаметр более 3000 км. Как круги на воде разбежались трещины по поверхности спутника после удара гигантского метеорит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26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62000"/>
            <a:ext cx="822960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ffcc66"/>
                </a:solidFill>
                <a:latin typeface="Arial"/>
              </a:rPr>
              <a:t>Юпитер</a:t>
            </a:r>
            <a:r>
              <a:rPr b="0" lang="ru-RU" sz="2800" spc="-1" strike="noStrike">
                <a:solidFill>
                  <a:srgbClr val="b2b2b2"/>
                </a:solidFill>
                <a:latin typeface="Arial"/>
              </a:rPr>
              <a:t>, тысячи лет назад названный в честь царя римских богов, господствует и среди девяти планет нашей Солнечной системы, 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3505320" y="1523880"/>
            <a:ext cx="5333760" cy="533412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-152640" y="1752480"/>
            <a:ext cx="373356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 началу третьего тысячелетия у Юпитера известно 28 спутников. Четыре из них отличаются большими размерами и массой. Они движутся почти по круговым орбитам в плоскости экватора планеты. 20 внешних спутников настолько далеки от планеты, что невидимы с ее поверхности невооруженным глазом, а Юпитер в небе самого дальнего из них выглядит меньше Лу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26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2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1" descr=""/>
          <p:cNvPicPr/>
          <p:nvPr/>
        </p:nvPicPr>
        <p:blipFill>
          <a:blip r:embed="rId1"/>
          <a:stretch/>
        </p:blipFill>
        <p:spPr>
          <a:xfrm>
            <a:off x="533520" y="0"/>
            <a:ext cx="8076960" cy="691344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26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0" y="30456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Ио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– один из первых спутников Юпитера, открытых в 1610 </a:t>
            </a: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Галилеем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По массе и радиусу спутник похож на Луну и виден в небе Юпитера как яркий красноватый диск или полумесяц. Диаметр Ио равен 3630 км. Назван спутник в честь возлюбленной Зевса из древнегреческого мифа, которую ревнивая Гера превратила в коров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2" descr=""/>
          <p:cNvPicPr/>
          <p:nvPr/>
        </p:nvPicPr>
        <p:blipFill>
          <a:blip r:embed="rId2"/>
          <a:stretch/>
        </p:blipFill>
        <p:spPr>
          <a:xfrm>
            <a:off x="2514600" y="2057400"/>
            <a:ext cx="4533840" cy="4533840"/>
          </a:xfrm>
          <a:prstGeom prst="rect">
            <a:avLst/>
          </a:prstGeom>
          <a:ln w="0">
            <a:noFill/>
          </a:ln>
        </p:spPr>
      </p:pic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26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-360" y="152280"/>
            <a:ext cx="89154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 Ио обнаружено 20 действующих вулканов, извергающих султаны высотой до 300 км. Основной выбрасываемый ими газ – диоксид серы, замерзающий потом на поверхности Ио в виде белого твердого вещества. Некоторое его количество улетает космос и образует кольцо, опоясывающее Юпитер. Оранжевый цвет поверхности Ио объясняется отложениями серы и сконденсировавшегося сернистого газа. На Ио зарегистрирована атмосфера в 10 миллионов раз разреженнее, чем на Земле. Но эта атмосфера плотнее, чем на Меркури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1295280" y="2209680"/>
            <a:ext cx="6400800" cy="420696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26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-228600" y="228600"/>
            <a:ext cx="373392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верхность Ио молода (ей около миллиона лет) за счет постоянной сейсмической активности: на ней почти нет метеоритных кратеров; зато обнаружены лавовые потоки и озера черной серы. Расчеты показывают, что Ио разогревается за счет огромных приливных воздействий от Юпитера, Европы и Ганимеда. Спутники Юпитера лежат в области влияния магнитного поля, и это, возможно, также объясняет вулканическую деятельность И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лотность Ио – 3,55 г/см3. Под расплавленной силикатной оболочкой находится железистое ядр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3514680" y="457200"/>
            <a:ext cx="5629320" cy="5867280"/>
          </a:xfrm>
          <a:prstGeom prst="rect">
            <a:avLst/>
          </a:prstGeom>
          <a:ln w="0">
            <a:noFill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26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04560" y="304920"/>
            <a:ext cx="830556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 царя олимпийцев было много женщин. Очередная из них – царевна Европа, сцену похищения которой Зевсом-быком вы не раз могли видеть в музеях. В честь нее Галилей и назвал очередной открытый им спутник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905120" y="2057400"/>
            <a:ext cx="5790960" cy="434340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26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6840" y="761760"/>
            <a:ext cx="2971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диус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Европы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 1569 км. Она покрыта водяным льдом. По-видимому, под ледяной коркой толщиной в 100 километров существует водный океан, который покрывает силикатное ядро. Плотность спутника достаточно высокая – 3,04 г/см3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3733920" y="762120"/>
            <a:ext cx="5181480" cy="518148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26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2819160" y="533520"/>
            <a:ext cx="61722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 линии, которые видны на фотографиях, – это трещины в толстой водяной коре. Их толщина иногда превосходит сотню километров, а длина достигает нескольких тысяч километров. На поверхности Европы практически отсутствуют кратеры, что говорит о молодости поверхности спутника – сотни тысяч или миллионы лет. На ней нет возвышенностей более 100 м высото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7 декабря 1995 года космическая станция «Галилео» вышла на орбиту Юпитера, что позволило начать уникальные исследования его четырех спутников: Ио, Ганимеда, Европы и Каллисто. Магнитометрические измерения показали существенные возмущения магнитного поля Юпитера вблизи Европы и Каллисто. Объяснить значительную индукцию и наблюдаемые возмущения магнитного поля не позволяет гипотеза о существовании у этих спутников внутреннего ядра из ферромагнитного вещества, поскольку в таком случае магнитное поле, спадая обратно пропорционально кубу расстояния, было бы в восемь раз меньше наблюдаемого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476440" cy="594360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26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Николай</dc:creator>
  <dc:description/>
  <dc:language>en-US</dc:language>
  <cp:lastModifiedBy>LEGION</cp:lastModifiedBy>
  <dcterms:modified xsi:type="dcterms:W3CDTF">2015-01-13T12:38:00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