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AC441-E1C7-4DA2-87BD-6D2788FD2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7C7C2-501E-4C0B-BFBB-CF025F7B2D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44D0B-620D-44A4-9699-76A6D30326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3C509-CB0F-43C3-B613-EF4644E42F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Ганимед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всего лиш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= 1,93 г/см3: на спутнике очень много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E8E3F-6F3B-4574-8ACB-B17234ADBE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дяная Калли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ванный в честь превращенной в медведицу нимфы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ллист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4BCBB-4DF5-44E7-86AC-B7149B888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алгалл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AF7A2-D99D-44D4-BF05-7F9EF15653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948C1-6AED-41FA-A6FE-B3116D1DBB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FA97E-B74D-4CDE-A377-14E6E2BB7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о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– один из первых спутников Юпитера, открытых в 1610 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алилеем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DA8E91-0A30-4E67-A11F-8A847930B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5AAB3-48F1-4671-9AA1-F6B6617FE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97F07-176C-4A42-A804-CE473DDA2F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EBF9D-A361-4EE8-BEA8-D6C6D72CE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диус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Европы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0CDE1-5CD3-4A19-8E78-8E6726F8D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FB6A-439E-4CE7-BB0F-F31384F8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2C05-5879-4F44-B1E7-D7FDA0AC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FFF4-9AB9-41D4-B134-60A31AD90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39B7-F9EC-41F4-8F02-686862363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B962-EA8F-4DCA-9047-F99BB9812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220B-1AFF-4043-ACC1-E288B2FC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F27B-C0A4-404D-BB2E-76E6B3D7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BF2D1-9798-4264-BDE6-DB3633BA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9E43-B70E-4141-977E-A961A5A3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0F40-444D-4FB0-9755-6F7F43B7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DBC6-0691-4D09-AD0F-C5816B4F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7EAB-ED95-495C-81B0-9ECBBD83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001E-EFC8-4EC7-8AD3-43B1F094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9583-B734-4547-A337-08B5122A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9336-063E-41D6-8E87-DCE9302B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9E4F-B757-4FEC-B41E-0804B2C7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EED4-B199-4973-AFA2-93469331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0969-EBA5-4816-9125-5BAFB37A3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6265-0A55-41A6-AFAC-2E6D892F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77AD-6DFA-4841-AA9B-E5892B97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303-B0C9-40B7-9AAF-21CCEFC4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B68-1B08-4478-B9C2-D521707D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EF1B-B36B-421B-B692-7E93422B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BAEA-4A0D-4E8C-894E-DF9F49844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1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61E9A9-71A9-4742-B12D-F4F885EFA43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0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872720"/>
            <a:ext cx="77691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B799813-24A0-4960-9295-945D22FD48B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79280" y="0"/>
            <a:ext cx="8964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456080" y="3286080"/>
            <a:ext cx="25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анимед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его лиш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93 г/см3: на спутнике очень много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304812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Ледяная Каллист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ный в честь превращенной в медведицу нимфы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лли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лг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676520" y="297360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истема концентрических трещин Валгалла (в левой части фотографии) имеет диаметр более 3000 км. Как круги на воде разбежались трещины по поверхности спутника после удара гигантского метеор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Юпитер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33376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5264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13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– один из первых спутников Юпитера, открытых в 1610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Галилее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33840" cy="4533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00800" cy="4206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22860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514680" y="457200"/>
            <a:ext cx="5629320" cy="5867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2971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иу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вроп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76440" cy="59436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38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