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7068-67F9-4FDC-8944-8F36897F0D4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лияние солнечной активност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процессы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исходящие на Земле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037D-7587-424F-84FC-7B7F49B493C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ологический о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A47C-AB0D-4475-AB64-752C4AA9788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лияние солнечной активности на физическое и психическое состояние челове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человек обладает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ным «запасом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чности», который у разны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юдей далеко не одинаков: он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исит от пола, возраста, состоя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доровья, тренированности и друг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ов. Влияние солнеч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ности (магнитные  бури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увствует большинство люд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 обостряются хрон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инфекционные заболева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ще происходят нервные сры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D94A-4CD8-4941-92A2-556FC379C88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ологический опро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ми был проведен опрос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Влияет ли солнечная актив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магнитные бури) на Ваше здоровье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рганизм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или следующие результа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о 30 лет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 98 опрошенных 26 челове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тили «да», 72 человека - «не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сле 30 лет: 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 43 опрошенных 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к ответили «да», 7 человек - «не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им образом, солнечная активность и, к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ствие, магнитные бури  оказывают больш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ние на людей старше 30 лет и на людей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лабленной иммунной системо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7E66-960B-49E1-A24A-484896BA983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лияние солнечной активности на общественные процесс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 время наибольшей солнечной активности происходит увеличение числа несчастных случаев на транспорте и на производстве. Было установлено, что количество несчастных случаев среди рабочих угольных шахт в основном увеличивается в дни повышенной активности Солн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касается преступлений, то их числ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ивается в период повышен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нечной актив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ми был проверен этот факт. 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етили прокуратуру, где н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оставили информацию 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е преступле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ершенных несовершеннолетни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4925-FCAF-4814-8C0F-4C7D398BFBC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ступность по Моркинским образовательным учрежд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62E7-92FA-41DE-BCA3-CF82DB69446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лияние солнечной активност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климат и погод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ителей западных и центральных районов европейской части нашей страны озадачили волны интенсивного тепла в последние месяцы 2006 г., когда несколько раз устанавливался и сходил снежный покров, во многих местах на деревьях по-весеннему набухали почки и начинала распускаться листва, а в лесах появились подснежн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0A58-66E2-4EEC-90B3-DD3EB41E7C0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вод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связь солнечных и земных явлений устанавли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ычно на основании совпадения их ритмики. Этого, конечн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статочно для того, чтобы прогнозировать то или и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ытие на Земле по степени активности Солнца. Толь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ение всех процессов, образующих сложную цепоч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связей в системе Солнце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емля, поможет предсказ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ретное событ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им образом Солнц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онтролирует» все процесс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сходящие на Земл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2D9F-9F95-4D8C-B197-72AD2EDDFB9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коменд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Более подвержены влиянию солнечной активности люди старше 30 лет, имеющие ослабленную иммунную систему, поэтому людям, чувствительным к солнечной активности, нужно внимательнее относиться к своему здоровью, укреплять свой иммунит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Необходимо контролировать свои эмоции и чувства, особенно в дни магнитных бурь, которые можно узнать из прогноза пог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Так как человечество не может влиять на цикличность солнечной активности, то нам следует быть более бдительными и интересоваться годами наибольшей солнечной активности. Ведь как говорится в русской пословице: «Предупрежден, значит вооружён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0550-1F2D-433B-AAA6-6CB9CD69506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A5A4-D823-4415-9C05-E942B8CDF13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ктуальность проек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ктуальность изучения солнечной активности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лияния её 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емлю и человека сегодня не вызыва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мнений. 2007 год приходится на минимум активност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 даже сегодня на Солнце имеются довольно крупные 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тенциально опасные группы пятен. Поэтому даже сейча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ы подвергаемся опас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-первых, когда на Солнце возникают пятна, на нашей планете вспыхиваю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пидемии заболеваний, катастрофически быстро размножаются вредите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льского хозяйства, возникают неурожа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-вторых, это влияние солнечной активности на земную атмосферу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гнитное поле Земли: магнитные бури, полярные сияния, влияния солнечн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ктивности на качество радиосвязи, засухи, ледниковые периоды и д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F871-0CB2-4E1F-8657-690020BF889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явление и изучение особенностей влияния солнечной активности на процессы, происходящие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дач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Выяснить и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ить и обосновать влияние солнечной активности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иодичность геофизических процессов на Земл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изнедеятельность живых организм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ическое и физическое состояние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енные процес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мат и по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Дать рекомендации метеочувствительным люд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редложить использовать собранный материал на уроках географии, биологии, астрономии, медиц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C048-09B3-4076-8841-7480BBDB044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спользуемые метод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а с научной литератур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а с Интернет-ресурс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скур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4428-C652-49F6-ABC9-9D5E4890CDA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лендарный план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460E-1FA9-4A0D-8EF2-FE9E6295AF7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1-летние циклы солнечной активности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симумы и минимумы чередуются в среднем каждые 11 лет (от 7 до 17 лет), последний максимум солнечной активности был в 2000 году. Основной характеристикой солнечной активности является число Вольф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AF8E-30CE-4C63-A564-665D08628D9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нечные пятна, солнечные вспышки, факелы, протуберанцы и корональные лучи — эти явления влияют практически на все происходящие на Земле процессы, от атмосферных явлений до поведения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равило, их назыв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им общим термином —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нечная актив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7818-12C9-4B3F-8257-210273558E9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лияние солнечной активности на периодичность геофизических процесс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физические процессы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ссы, происходящие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тмосфере, гидросфере и лито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олярные сияния, озоновые дыр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ерчи, землетрясения, цуна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водн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 время повышенной солнеч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ности увеличи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иодичность геофизичес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с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179C-8495-43DE-8908-EF7166F7976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Жизнедеятельность живых организм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нечная актив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азывается на поведении все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ивых организмов. Как следств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астрофически падают урожа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льскохозяйственных культур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градируют луга, снижа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рост древесины, происход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деж скота и резко сокращается численность других животных организмов. А во времена глобальных катастроф происходили относительно внезапные исчезновения многих форм организ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5898-0465-4FF0-913F-16592726F48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6EAE-DAA1-4D8C-8982-484189F60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D6EE-CCD6-461E-B2F6-3E6D5CB8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056B-87FE-47FD-B1BE-5B80C6487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5B19-9B36-4E4F-BD88-97AC66496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00BF-3696-43F7-973E-4CA9E67FE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7921-BD81-4222-8DB2-9FB654FA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FFD3-B568-4F28-845B-6BD3D063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6738-A5D4-4287-AB61-EDAEDB9C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AC9E-0887-40BC-9C96-E114312B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0D67-6063-49B1-9EDE-4F0C3846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47C6-1FCF-45B0-B7D4-4E9318F0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8063-EFEF-4438-A31A-0A335881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F228-05C9-4701-907B-C35528A9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DB24-8B21-4977-8F08-68F7B23D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3FAA-8E5D-4AFD-A3DF-7A95AA7B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9CEC-B32B-46EE-B919-ACD811CB0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6917-3D2D-4195-9BE8-91CC9FF44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8A2A-C5F2-43E3-A386-1F873E06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718E-3746-44A9-832C-8A5610C0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49D6-C698-47B5-AF2B-4A42F91C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154D-49D1-4AC2-8E01-96CB30D1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FD8E-86E6-4039-8578-693E2BD2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379E-2736-46AA-9BDB-615405DD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DCF8-E378-42EA-8C14-BAEFF6F3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0404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FAD2-1DE5-4FF8-ADF2-8E612D62028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0404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D793-BBD1-4B9C-932A-CF527486C3A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00080" y="142560"/>
            <a:ext cx="7561440" cy="3313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Влияние солнечной активности </a:t>
            </a:r>
            <a:br>
              <a:rPr sz="3600"/>
            </a:b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на процессы, </a:t>
            </a:r>
            <a:br>
              <a:rPr sz="3600"/>
            </a:b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происходящие на Земле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Picture 0" descr="s01113"/>
          <p:cNvPicPr/>
          <p:nvPr/>
        </p:nvPicPr>
        <p:blipFill>
          <a:blip r:embed="rId1"/>
          <a:stretch/>
        </p:blipFill>
        <p:spPr>
          <a:xfrm>
            <a:off x="3286080" y="3071880"/>
            <a:ext cx="3000600" cy="298620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Социологический опрос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26" name="Object 4"/>
          <p:cNvGraphicFramePr/>
          <p:nvPr/>
        </p:nvGraphicFramePr>
        <p:xfrm>
          <a:off x="4859280" y="1700280"/>
          <a:ext cx="3559320" cy="43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1700280"/>
                    <a:ext cx="355932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Rectangle 6"/>
          <p:cNvSpPr/>
          <p:nvPr/>
        </p:nvSpPr>
        <p:spPr>
          <a:xfrm>
            <a:off x="250920" y="1126800"/>
            <a:ext cx="8424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ми был проведен опрос: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Замечаете ли Вы влияние солнечной активности на какие-либо процессы жизнедеятельности? Если да, то на какие?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з всех опрошенных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 замечают – 23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мечают на растениях – 8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мечают на здоровье – 27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мечают на раздражимости – 10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мечают на сонливости – 9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мечают на настроении – 21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ругой вариант ответа – 2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аким образом небольшой  процент людей (23%) не замечают влияние солнечной активности, а остальные же замечают на самых разных процессах жизнедеятельно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лияние солнечной активности на физическое и психическое состояние человек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5183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ждый человек обладает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енным «запасом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чности», который у разных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юдей далеко не одинаков: он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висит от пола, возраста, состоя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доровья, тренированности и други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акторов. Влияние солнеч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ктивности (магнитные  бури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увствует большинство люд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обенно обостряются хроническ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инфекционные заболевани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ще происходят нервные срыв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2" name="Picture 0" descr="MPj02277970000[1]"/>
          <p:cNvPicPr/>
          <p:nvPr/>
        </p:nvPicPr>
        <p:blipFill>
          <a:blip r:embed="rId1"/>
          <a:stretch/>
        </p:blipFill>
        <p:spPr>
          <a:xfrm>
            <a:off x="324000" y="1413000"/>
            <a:ext cx="2519280" cy="22176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" descr="MPj04101270000[1]"/>
          <p:cNvPicPr/>
          <p:nvPr/>
        </p:nvPicPr>
        <p:blipFill>
          <a:blip r:embed="rId2"/>
          <a:stretch/>
        </p:blipFill>
        <p:spPr>
          <a:xfrm>
            <a:off x="6227640" y="3933720"/>
            <a:ext cx="2301840" cy="2519640"/>
          </a:xfrm>
          <a:prstGeom prst="rect">
            <a:avLst/>
          </a:prstGeom>
          <a:ln w="0">
            <a:noFill/>
          </a:ln>
        </p:spPr>
      </p:pic>
      <p:sp>
        <p:nvSpPr>
          <p:cNvPr id="4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Социологический опрос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59990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ми был проведен опрос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Влияет ли солнечная активнос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магнитные бури) на Ваше здоровье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рганизм?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лучили следующие результат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о 30 лет: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 98 опрошенных 26 человек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ветили «да», 72 человека - «нет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сле 30 лет: 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 43 опрошенных 3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еловек ответили «да», 7 человек - «нет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аким образом, солнечная активность и, ка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ледствие, магнитные бури  оказывают больше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лияние на людей старше 30 лет и на людей 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лабленной иммунной системой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37" name="Object 4"/>
          <p:cNvGraphicFramePr/>
          <p:nvPr/>
        </p:nvGraphicFramePr>
        <p:xfrm>
          <a:off x="5076720" y="1125360"/>
          <a:ext cx="3743280" cy="293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125360"/>
                    <a:ext cx="3743280" cy="29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6"/>
          <p:cNvGraphicFramePr/>
          <p:nvPr/>
        </p:nvGraphicFramePr>
        <p:xfrm>
          <a:off x="5076720" y="3933720"/>
          <a:ext cx="3743280" cy="270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3933720"/>
                    <a:ext cx="374328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лияние солнечной активности на общественные процессы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 время наибольшей солнечной активности происходит увеличение числа несчастных случаев на транспорте и на производстве. Было установлено, что количество несчастных случаев среди рабочих угольных шахт в основном увеличивается в дни повышенной активности Солнц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 касается преступлений, то их числ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величивается в период повышен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лнечной актив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ми был проверен этот факт. М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етили прокуратуру, где на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оставили информацию 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ичестве преступлений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вершенных несовершеннолетни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4" name="Picture 5" descr="P1000999"/>
          <p:cNvPicPr/>
          <p:nvPr/>
        </p:nvPicPr>
        <p:blipFill>
          <a:blip r:embed="rId1"/>
          <a:stretch/>
        </p:blipFill>
        <p:spPr>
          <a:xfrm>
            <a:off x="5867280" y="3141720"/>
            <a:ext cx="3168720" cy="2771640"/>
          </a:xfrm>
          <a:prstGeom prst="rect">
            <a:avLst/>
          </a:prstGeom>
          <a:ln w="0">
            <a:noFill/>
          </a:ln>
        </p:spPr>
      </p:pic>
      <p:sp>
        <p:nvSpPr>
          <p:cNvPr id="4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реступность по Моркинским образовательным учреждениям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788000" y="1599840"/>
            <a:ext cx="40543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324000" y="1844640"/>
          <a:ext cx="4194000" cy="3844800"/>
        </p:xfrm>
        <a:graphic>
          <a:graphicData uri="http://schemas.openxmlformats.org/drawingml/2006/table">
            <a:tbl>
              <a:tblPr/>
              <a:tblGrid>
                <a:gridCol w="885600"/>
                <a:gridCol w="647640"/>
                <a:gridCol w="649440"/>
                <a:gridCol w="612720"/>
                <a:gridCol w="700200"/>
                <a:gridCol w="698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СШ №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СШ №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СШ №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7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У №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9" name="Rectangle 1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50" name="Object 114"/>
          <p:cNvGraphicFramePr/>
          <p:nvPr/>
        </p:nvGraphicFramePr>
        <p:xfrm>
          <a:off x="4572000" y="2205000"/>
          <a:ext cx="45720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1" name="Object 1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205000"/>
                    <a:ext cx="45720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1" descr="Scan10009"/>
          <p:cNvPicPr/>
          <p:nvPr/>
        </p:nvPicPr>
        <p:blipFill>
          <a:blip r:embed="rId1"/>
          <a:stretch/>
        </p:blipFill>
        <p:spPr>
          <a:xfrm>
            <a:off x="4140360" y="1989000"/>
            <a:ext cx="4752720" cy="331308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лияние солнечной активности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на климат и погоду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28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ителей западных и центральных районов европейской части нашей страны озадачили волны интенсивного тепла в последние месяцы 2006 г., когда несколько раз устанавливался и сходил снежный покров, во многих местах на деревьях по-весеннему набухали почки и начинала распускаться листва, а в лесах появились подснежник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ыводы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447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заимосвязь солнечных и земных явлений устанавливае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ычно на основании совпадения их ритмики. Этого, конечно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достаточно для того, чтобы прогнозировать то или ин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бытие на Земле по степени активности Солнца. Тольк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начение всех процессов, образующих сложную цепочк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заимосвязей в системе Солнце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емля, поможет предсказа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нкретное событ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им образом Солн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контролирует» все процессы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исходящие на Земл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9" name="Picture 0" descr=""/>
          <p:cNvPicPr/>
          <p:nvPr/>
        </p:nvPicPr>
        <p:blipFill>
          <a:blip r:embed="rId1"/>
          <a:stretch/>
        </p:blipFill>
        <p:spPr>
          <a:xfrm>
            <a:off x="5076720" y="3860640"/>
            <a:ext cx="3543480" cy="2648160"/>
          </a:xfrm>
          <a:prstGeom prst="rect">
            <a:avLst/>
          </a:prstGeom>
          <a:ln w="0">
            <a:noFill/>
          </a:ln>
        </p:spPr>
      </p:pic>
      <p:sp>
        <p:nvSpPr>
          <p:cNvPr id="4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Рекомендаци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24000" y="1170000"/>
            <a:ext cx="8496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Более подвержены влиянию солнечной активности люди старше 30 лет, имеющие ослабленную иммунную систему, поэтому людям, чувствительным к солнечной активности, нужно внимательнее относиться к своему здоровью, укреплять свой иммунит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Необходимо контролировать свои эмоции и чувства, особенно в дни магнитных бурь, которые можно узнать из прогноза пого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Так как человечество не может влиять на цикличность солнечной активности, то нам следует быть более бдительными и интересоваться годами наибольшей солнечной активности. Ведь как говорится в русской пословице: «Предупрежден, значит вооружён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6" descr="aurora1_wikipedia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65" name="WordArt 7"/>
          <p:cNvSpPr txBox="1"/>
          <p:nvPr/>
        </p:nvSpPr>
        <p:spPr>
          <a:xfrm>
            <a:off x="1692360" y="2349360"/>
            <a:ext cx="604980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ff"/>
                    </a:gs>
                    <a:gs pos="100000">
                      <a:srgbClr val="00808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00ff"/>
                  </a:gs>
                  <a:gs pos="100000">
                    <a:srgbClr val="00808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Актуальность проект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ктуальность изучения солнечной активности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лияния её н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емлю и человека сегодня не вызыва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мнений. 2007 год приходится на минимум активност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о даже сегодня на Солнце имеются довольно крупные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тенциально опасные группы пятен. Поэтому даже сейча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ы подвергаемся опас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-первых, когда на Солнце возникают пятна, на нашей планете вспыхиваю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пидемии заболеваний, катастрофически быстро размножаются вредител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ельского хозяйства, возникают неурожа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-вторых, это влияние солнечной активности на земную атмосферу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гнитное поле Земли: магнитные бури, полярные сияния, влияния солнеч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ктивности на качество радиосвязи, засухи, ледниковые периоды и др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Picture 0" descr="s01113"/>
          <p:cNvPicPr/>
          <p:nvPr/>
        </p:nvPicPr>
        <p:blipFill>
          <a:blip r:embed="rId1"/>
          <a:stretch/>
        </p:blipFill>
        <p:spPr>
          <a:xfrm>
            <a:off x="6732720" y="1268280"/>
            <a:ext cx="2238120" cy="222732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72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691920"/>
            <a:ext cx="8540640" cy="54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Цел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явление и изучение особенностей влияния солнечной активности на процессы, происходящие на Земл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дачи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Выяснить 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учить и обосновать влияние солнечной активности 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иодичность геофизических процессов на Земле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изнедеятельность живых организм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сихическое и физическое состояние челове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щественные процесс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лимат и погод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Дать рекомендации метеочувствительным людя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Предложить использовать собранный материал на уроках географии, биологии, астрономии, медици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Используемые метод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бота с научной литератур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бота с Интернет-ресурс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ос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кскурс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Picture 11" descr=""/>
          <p:cNvPicPr/>
          <p:nvPr/>
        </p:nvPicPr>
        <p:blipFill>
          <a:blip r:embed="rId1"/>
          <a:stretch/>
        </p:blipFill>
        <p:spPr>
          <a:xfrm>
            <a:off x="5292720" y="4149720"/>
            <a:ext cx="3097080" cy="22734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2" descr=""/>
          <p:cNvPicPr/>
          <p:nvPr/>
        </p:nvPicPr>
        <p:blipFill>
          <a:blip r:embed="rId2"/>
          <a:stretch/>
        </p:blipFill>
        <p:spPr>
          <a:xfrm>
            <a:off x="755640" y="4005360"/>
            <a:ext cx="2951280" cy="22399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3" descr=""/>
          <p:cNvPicPr/>
          <p:nvPr/>
        </p:nvPicPr>
        <p:blipFill>
          <a:blip r:embed="rId3"/>
          <a:stretch/>
        </p:blipFill>
        <p:spPr>
          <a:xfrm>
            <a:off x="5867280" y="1341360"/>
            <a:ext cx="2952720" cy="2151000"/>
          </a:xfrm>
          <a:prstGeom prst="rect">
            <a:avLst/>
          </a:prstGeom>
          <a:ln w="0">
            <a:noFill/>
          </a:ln>
        </p:spPr>
      </p:pic>
      <p:sp>
        <p:nvSpPr>
          <p:cNvPr id="4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Календарный план проект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301680" y="1600200"/>
          <a:ext cx="8540640" cy="4861080"/>
        </p:xfrm>
        <a:graphic>
          <a:graphicData uri="http://schemas.openxmlformats.org/drawingml/2006/table">
            <a:tbl>
              <a:tblPr/>
              <a:tblGrid>
                <a:gridCol w="4701960"/>
                <a:gridCol w="3838680"/>
              </a:tblGrid>
              <a:tr h="64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бор и изучение литератур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юнь-сентябрь 2007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иск информации в Интернет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ентябрь-октябрь 2007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ведение социологических опрос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ктябрь-ноябрь 2007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кскурс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ябрь-декабрь 2007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бота над реферато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кабрь 2007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здание презентации 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wer poi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нварь 2008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щита про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евраль 2008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11-летние циклы солнечной активности</a:t>
            </a:r>
            <a:br>
              <a:rPr sz="40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4723920"/>
            <a:ext cx="854064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ксимумы и минимумы чередуются в среднем каждые 11 лет (от 7 до 17 лет), последний максимум солнечной активности был в 2000 году. Основной характеристикой солнечной активности является число Вольф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Picture 7" descr="05030205"/>
          <p:cNvPicPr/>
          <p:nvPr/>
        </p:nvPicPr>
        <p:blipFill>
          <a:blip r:embed="rId1"/>
          <a:stretch/>
        </p:blipFill>
        <p:spPr>
          <a:xfrm>
            <a:off x="900000" y="851040"/>
            <a:ext cx="7559640" cy="3779640"/>
          </a:xfrm>
          <a:prstGeom prst="rect">
            <a:avLst/>
          </a:prstGeom>
          <a:ln w="0">
            <a:noFill/>
          </a:ln>
        </p:spPr>
      </p:pic>
      <p:sp>
        <p:nvSpPr>
          <p:cNvPr id="4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324000" y="836640"/>
            <a:ext cx="770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лнечные пятна, солнечные вспышки, факелы, протуберанцы и корональные лучи — эти явления влияют практически на все происходящие на Земле процессы, от атмосферных явлений до поведения челове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правило, их называю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им общим термином —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лнечная актив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5" name="Picture 1" descr="активное солнечное пятно, вид сбоку"/>
          <p:cNvPicPr/>
          <p:nvPr/>
        </p:nvPicPr>
        <p:blipFill>
          <a:blip r:embed="rId1"/>
          <a:stretch/>
        </p:blipFill>
        <p:spPr>
          <a:xfrm>
            <a:off x="5292720" y="3500280"/>
            <a:ext cx="3527280" cy="280044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лияние солнечной активности на периодичность геофизических процессов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78920" y="1915920"/>
            <a:ext cx="496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еофизические процессы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ы, происходящие 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тмосфере, гидросфере и литосфе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полярные сияния, озоновые дыры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мерчи, землетрясения, цунам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воднения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 время повышенной солнеч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ктивности увеличивае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иодичность геофизически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9" name="Picture 6" descr="aurora1_wikipedia"/>
          <p:cNvPicPr/>
          <p:nvPr/>
        </p:nvPicPr>
        <p:blipFill>
          <a:blip r:embed="rId1"/>
          <a:stretch/>
        </p:blipFill>
        <p:spPr>
          <a:xfrm>
            <a:off x="5219640" y="2205000"/>
            <a:ext cx="3529080" cy="345600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Жизнедеятельность живых организмов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лнечная активнос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азывается на поведении все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ивых организмов. Как следствие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тастрофически падают урожа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льскохозяйственных культур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градируют луга, снижает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рост древесины, происходи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деж скота и резко сокращается численность других животных организмов. А во времена глобальных катастроф происходили относительно внезапные исчезновения многих форм организм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3" name="Picture 0" descr="MPj04277550000[1]"/>
          <p:cNvPicPr/>
          <p:nvPr/>
        </p:nvPicPr>
        <p:blipFill>
          <a:blip r:embed="rId1"/>
          <a:stretch/>
        </p:blipFill>
        <p:spPr>
          <a:xfrm>
            <a:off x="5076720" y="1557360"/>
            <a:ext cx="3384720" cy="2502000"/>
          </a:xfrm>
          <a:prstGeom prst="rect">
            <a:avLst/>
          </a:prstGeom>
          <a:ln w="0">
            <a:noFill/>
          </a:ln>
        </p:spPr>
      </p:pic>
      <p:sp>
        <p:nvSpPr>
          <p:cNvPr id="4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18:39:58Z</dcterms:created>
  <dc:creator>Семёнова С А</dc:creator>
  <dc:description/>
  <dc:language>en-US</dc:language>
  <cp:lastModifiedBy>LEGION</cp:lastModifiedBy>
  <dcterms:modified xsi:type="dcterms:W3CDTF">2015-01-13T12:39:21Z</dcterms:modified>
  <cp:revision>20</cp:revision>
  <dc:subject/>
  <dc:title>Влияние солнечной активности  на процессы,  происходящие на Земле  Исследовательский проект  по физике и астрономии</dc:title>
</cp:coreProperties>
</file>