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E84F-0841-4B7B-925B-DF6E027325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процесс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исходящие на Земл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30BA-D8B7-4560-8F01-B0201980634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5BCD-E778-4870-9297-4CA915E38E3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физическое и психическое состояние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еловек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ным «запасо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ности», который у раз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дей далеко не одинаков: он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т от пола, возраста,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оровья, тренированности и друг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ов. Влияние солне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сти (магнитные  бур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вствует большинство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обостряются хрон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нфекционные заболе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происходят нервные сры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383D-3FB0-475D-99A0-7847A34895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и был проведен 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Влияет ли солнечн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магнитные бури) на Ваше здоровь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м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ли следующи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 30 лет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98 опрошенных 26 челов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или «да», 72 человека -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 30 лет: 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 43 опрошенных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ответили «да», 7 человек -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солнечная активность и,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ствие, магнитные бури  оказывают больш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на людей старше 30 лет и на людей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лабленной иммунной системо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3F37-14DE-41F4-B254-D299C9C7549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общественные процес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наибольшей солнечной активности происходит увеличение числа несчастных случаев на транспорте и на производстве. Было установлено, что количество несчастных случаев среди рабочих угольных шахт в основном увеличивается в дни повышенной активности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касается преступлений, то их числ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вается в период повыше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ой актив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и был проверен этот факт. 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етили прокуратуру, где н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или информацию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 преступл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ных несовершеннолетн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D772-6ED7-49FB-99E5-12CC14F19E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ступность по Моркинским образовательным учрежд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BF56-C78C-46FD-9D9E-D8E32C83CC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климат и по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телей западных и центральных районов европейской части нашей страны озадачили волны интенсивного тепла в последние месяцы 2006 г., когда несколько раз устанавливался и сходил снежный покров, во многих местах на деревьях по-весеннему набухали почки и начинала распускаться листва, а в лесах появились подснеж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FCB6-6A62-40EB-AF97-C1B66701E1A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ь солнечных и земных явлений устанавл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чно на основании совпадения их ритмики. Этого, конеч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очно для того, чтобы прогнозировать то и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ытие на Земле по степени активности Солнца.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всех процессов, образующих сложную цепоч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ей в системе Солн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я, поможет предсказ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ретное собы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нтролирует» все процесс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дящие на Зем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E7A3-3ABE-412C-9473-CC2B864037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оменд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Более подвержены влиянию солнечной активности люди старше 30 лет, имеющие ослабленную иммунную систему, поэтому людям, чувствительным к солнечной активности, нужно внимательнее относиться к своему здоровью, укреплять свой иммуни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обходимо контролировать свои эмоции и чувства, особенно в дни магнитных бурь, которые можно узнать из прогноза по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Так как человечество не может влиять на цикличность солнечной активности, то нам следует быть более бдительными и интересоваться годами наибольшей солнечной активности. Ведь как говорится в русской пословице: «Предупрежден, значит вооружё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BD1D-87EA-433E-BFEE-894FBD5B15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285A-E26D-4347-BA60-FD11E155F5F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ктуальность про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уальность изучения солнечной активности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я её 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емлю и человека сегодня не вызыв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мнений. 2007 год приходится на минимум активност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даже сегодня на Солнце имеются довольно крупные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енциально опасные группы пятен. Поэтому даже сейч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подвергаемся опас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когда на Солнце возникают пятна, на нашей планете вспыхив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пидемии заболеваний, катастрофически быстро размножаются вреди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льского хозяйства, возникают неурожа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вторых, это влияние солнечной активности на земную атмосферу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гнитное поле Земли: магнитные бури, полярные сияния, влияния солнеч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ости на качество радиосвязи, засухи, ледниковые периоды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41BF-6F30-43AA-8D53-FF61C077A4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и изучение особенностей влияния солнечной активности на процессы, происходящ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ыяснить 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ить и обосновать влияние солнечной активности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ь геофизических процессов на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знедеятельность живых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ическое и физическое состояни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 и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Дать рекомендации метеочувствительным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едложить использовать собранный материал на уроках географии, биологии, астрономии,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8123-B5B3-4136-8B52-844477035B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уемые мето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научной литер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Интернет-ресур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9D51-D3D4-48E6-927E-D92478B4192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лендарный план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203A-83C3-4187-A2BE-8B24939310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-летние циклы солнечной активности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симумы и минимумы чередуются в среднем каждые 11 лет (от 7 до 17 лет), последний максимум солнечной активности был в 2000 году. Основной характеристикой солнечной активности является число Воль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5C78-5CBC-4CDF-9AF1-508FBFFA2F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ые пятна, солнечные вспышки, факелы, протуберанцы и корональные лучи — эти явления влияют практически на все происходящие на Земле процессы, от атмосферных явлений до поведени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о, их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общим термином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ая ак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DA1F-84F0-4341-9FB7-53A6C3D058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периодичность геофизических процес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физические процесс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ы, происходящи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мосфере, гидросфере и лит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лярные сияния, озоновые ды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рчи, землетрясения, цу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водн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повышенной солне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сти 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ь геофизиче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75FD-ED8B-4EFC-B53F-336A71EE738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изнедеятельность живых организм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ывается на поведении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вых организмов. Как сл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астрофически падают урожа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льскохозяйственных культу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градируют луга, сниж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ст древесины, происход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деж скота и резко сокращается численность других животных организмов. А во времена глобальных катастроф происходили относительно внезапные исчезновения многих форм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5AE8-1A09-4B09-A096-26F3680815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AFF-729C-4C05-817C-A95B36CF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C5F-37E2-43CE-9599-B0950EE0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B6F-B8AB-4E7B-867A-A401012A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800-F603-4842-929A-379D9434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F5A5-7C31-431F-A667-16A61980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D9EB-CC42-4E69-9151-507E3D57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17FC-D3E3-4757-9315-97D60081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B404-711D-421D-87D9-3732832C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9B28-8687-4E82-8949-C3A5421D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1381-1A43-4C69-9494-C308EA0B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4CEE-5AF3-46D7-BD41-C3A31B8E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F77-1F47-4F5B-812E-36EC6907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D48A-7A20-4D32-A2A2-B231E43E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7829-DEA0-430C-89A3-A7ADE236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4C48-24D3-433E-820E-BC05839B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1893-EEE1-4B0F-96AA-1E8107D7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B93A-4F6D-431E-A84C-206598FB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8E6-C358-4AAA-8A3E-E09A54AA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609-164A-4702-B102-C0DF0FC8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803-8865-40C7-927A-4958D60B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D73-E4CD-45B6-8FE1-C211AA69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B8E-37B4-49D5-8579-FE998EB5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2E7-A1C6-49C0-B9BC-D96ABCC3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998-15A8-44FB-B3A9-B86A1B4C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040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7D6D-4F64-4FFD-AAA8-CEA92B9D8CA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040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1C51-6CDA-41B2-A8B3-DEA37F53409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на процессы,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роисходящие на Земле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0" descr="s01113"/>
          <p:cNvPicPr/>
          <p:nvPr/>
        </p:nvPicPr>
        <p:blipFill>
          <a:blip r:embed="rId1"/>
          <a:stretch/>
        </p:blipFill>
        <p:spPr>
          <a:xfrm>
            <a:off x="3286080" y="3071880"/>
            <a:ext cx="3000600" cy="29862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циологический опро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4859280" y="1700280"/>
          <a:ext cx="355932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00280"/>
                    <a:ext cx="35593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6"/>
          <p:cNvSpPr/>
          <p:nvPr/>
        </p:nvSpPr>
        <p:spPr>
          <a:xfrm>
            <a:off x="250920" y="1126800"/>
            <a:ext cx="842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и был проведен опрос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Замечаете ли Вы влияние солнечной активности на какие-либо процессы жизнедеятельности? Если да, то на каки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 всех опрошенных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замечают – 23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растениях – 8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здоровье – 27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раздражимости – 1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сонливости – 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настроении – 21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ругой вариант ответа – 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м образом небольшой  процент людей (23%) не замечают влияние солнечной активности, а остальные же замечают на самых разных процессах жизне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физическое и психическое состояние человек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5183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ждый человек обладает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енным «запасо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чности», который у разных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дей далеко не одинаков: он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висит от пола, возраста, состоя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я, тренированности и друг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кторов. Влияние солнеч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тивности (магнитные  бури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увствует большинство люд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 обостряются хроническ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инфекционные заболева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ще происходят нервные сры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Picture 0" descr="MPj02277970000[1]"/>
          <p:cNvPicPr/>
          <p:nvPr/>
        </p:nvPicPr>
        <p:blipFill>
          <a:blip r:embed="rId1"/>
          <a:stretch/>
        </p:blipFill>
        <p:spPr>
          <a:xfrm>
            <a:off x="324000" y="1413000"/>
            <a:ext cx="2519280" cy="22176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" descr="MPj04101270000[1]"/>
          <p:cNvPicPr/>
          <p:nvPr/>
        </p:nvPicPr>
        <p:blipFill>
          <a:blip r:embed="rId2"/>
          <a:stretch/>
        </p:blipFill>
        <p:spPr>
          <a:xfrm>
            <a:off x="6227640" y="3933720"/>
            <a:ext cx="2301840" cy="251964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циологический опро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5999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и был проведен опрос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Влияет ли солнечная активн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магнитные бури) на Ваше здоровье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м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учили следующие результа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 30 лет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98 опрошенных 26 челове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ветили «да», 72 человека - «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ле 30 лет: 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 43 опрошенных 3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ловек ответили «да», 7 человек - «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м образом, солнечная активность и, ка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дствие, магнитные бури  оказывают больш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ияние на людей старше 30 лет и на людей 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лабленной иммунной системо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7" name="Object 4"/>
          <p:cNvGraphicFramePr/>
          <p:nvPr/>
        </p:nvGraphicFramePr>
        <p:xfrm>
          <a:off x="5076720" y="1125360"/>
          <a:ext cx="3743280" cy="29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125360"/>
                    <a:ext cx="374328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5076720" y="3933720"/>
          <a:ext cx="374328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3933720"/>
                    <a:ext cx="37432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общественные процесс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наибольшей солнечной активности происходит увеличение числа несчастных случаев на транспорте и на производстве. Было установлено, что количество несчастных случаев среди рабочих угольных шахт в основном увеличивается в дни повышенной активности Солн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касается преступлений, то их числ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еличивается в период повышен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ой актив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ми был проверен этот факт. 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етили прокуратуру, где н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оставили информацию 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е преступлен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ершенных несовершеннолетн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5" descr="P1000999"/>
          <p:cNvPicPr/>
          <p:nvPr/>
        </p:nvPicPr>
        <p:blipFill>
          <a:blip r:embed="rId1"/>
          <a:stretch/>
        </p:blipFill>
        <p:spPr>
          <a:xfrm>
            <a:off x="5867280" y="3141720"/>
            <a:ext cx="3168720" cy="277164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еступность по Моркинским образовательным учреждениям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88000" y="1599840"/>
            <a:ext cx="40543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24000" y="1844640"/>
          <a:ext cx="4194000" cy="3844800"/>
        </p:xfrm>
        <a:graphic>
          <a:graphicData uri="http://schemas.openxmlformats.org/drawingml/2006/table">
            <a:tbl>
              <a:tblPr/>
              <a:tblGrid>
                <a:gridCol w="885600"/>
                <a:gridCol w="647640"/>
                <a:gridCol w="649440"/>
                <a:gridCol w="612720"/>
                <a:gridCol w="700200"/>
                <a:gridCol w="698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У №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Rectangle 1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0" name="Object 114"/>
          <p:cNvGraphicFramePr/>
          <p:nvPr/>
        </p:nvGraphicFramePr>
        <p:xfrm>
          <a:off x="4572000" y="2205000"/>
          <a:ext cx="4572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05000"/>
                    <a:ext cx="4572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Scan10009"/>
          <p:cNvPicPr/>
          <p:nvPr/>
        </p:nvPicPr>
        <p:blipFill>
          <a:blip r:embed="rId1"/>
          <a:stretch/>
        </p:blipFill>
        <p:spPr>
          <a:xfrm>
            <a:off x="4140360" y="1989000"/>
            <a:ext cx="4752720" cy="33130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 климат и погоду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28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телей западных и центральных районов европейской части нашей страны озадачили волны интенсивного тепла в последние месяцы 2006 г., когда несколько раз устанавливался и сходил снежный покров, во многих местах на деревьях по-весеннему набухали почки и начинала распускаться листва, а в лесах появились подснежн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447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аимосвязь солнечных и земных явлений устанавл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ычно на основании совпадения их ритмики. Этого, конечн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остаточно для того, чтобы прогнозировать то или и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бытие на Земле по степени активности Солнца. Толь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ение всех процессов, образующих сложную цепоч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аимосвязей в системе Солнце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, поможет предсказ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кретное событ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образом Солн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контролирует» все процесс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исходящие на Зем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Picture 0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543480" cy="2648160"/>
          </a:xfrm>
          <a:prstGeom prst="rect">
            <a:avLst/>
          </a:prstGeom>
          <a:ln w="0">
            <a:noFill/>
          </a:ln>
        </p:spPr>
      </p:pic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екомендац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117000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Более подвержены влиянию солнечной активности люди старше 30 лет, имеющие ослабленную иммунную систему, поэтому людям, чувствительным к солнечной активности, нужно внимательнее относиться к своему здоровью, укреплять свой иммунит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Необходимо контролировать свои эмоции и чувства, особенно в дни магнитных бурь, которые можно узнать из прогноза пог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Так как человечество не может влиять на цикличность солнечной активности, то нам следует быть более бдительными и интересоваться годами наибольшей солнечной активности. Ведь как говорится в русской пословице: «Предупрежден, значит вооружё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6" descr="aurora1_wikip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5" name="WordArt 7"/>
          <p:cNvSpPr txBox="1"/>
          <p:nvPr/>
        </p:nvSpPr>
        <p:spPr>
          <a:xfrm>
            <a:off x="1692360" y="2349360"/>
            <a:ext cx="6049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ff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ктуальность проект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уальность изучения солнечной активност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ияния её н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емлю и человека сегодня не вызы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мнений. 2007 год приходится на минимум актив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даже сегодня на Солнце имеются довольно крупные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тенциально опасные группы пятен. Поэтому даже сейча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подвергаемся опас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-первых, когда на Солнце возникают пятна, на нашей планете вспыхив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пидемии заболеваний, катастрофически быстро размножаются вредит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льского хозяйства, возникают неурожа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-вторых, это влияние солнечной активности на земную атмосферу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тное поле Земли: магнитные бури, полярные сияния, влияния солнеч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ивности на качество радиосвязи, засухи, ледниковые периоды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0" descr="s01113"/>
          <p:cNvPicPr/>
          <p:nvPr/>
        </p:nvPicPr>
        <p:blipFill>
          <a:blip r:embed="rId1"/>
          <a:stretch/>
        </p:blipFill>
        <p:spPr>
          <a:xfrm>
            <a:off x="6732720" y="1268280"/>
            <a:ext cx="2238120" cy="222732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7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явление и изучение особенностей влияния солнечной активности на процессы, происходящие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Выяснить 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и обосновать влияние солнечной активности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ичность геофизических процессов на Земл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знедеятельность живых организм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сихическое и физическое состояние чело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ственные процесс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мат и по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Дать рекомендации метеочувствительным люд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Предложить использовать собранный материал на уроках географии, биологии, астрономии, медиц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Используемые мет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научной литератур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Интернет-ресурс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скур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11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3097080" cy="2273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2" descr=""/>
          <p:cNvPicPr/>
          <p:nvPr/>
        </p:nvPicPr>
        <p:blipFill>
          <a:blip r:embed="rId2"/>
          <a:stretch/>
        </p:blipFill>
        <p:spPr>
          <a:xfrm>
            <a:off x="755640" y="4005360"/>
            <a:ext cx="2951280" cy="2239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3" descr=""/>
          <p:cNvPicPr/>
          <p:nvPr/>
        </p:nvPicPr>
        <p:blipFill>
          <a:blip r:embed="rId3"/>
          <a:stretch/>
        </p:blipFill>
        <p:spPr>
          <a:xfrm>
            <a:off x="5867280" y="1341360"/>
            <a:ext cx="2952720" cy="215100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Календарный план проект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301680" y="1600200"/>
          <a:ext cx="8540640" cy="4861080"/>
        </p:xfrm>
        <a:graphic>
          <a:graphicData uri="http://schemas.openxmlformats.org/drawingml/2006/table">
            <a:tbl>
              <a:tblPr/>
              <a:tblGrid>
                <a:gridCol w="4701960"/>
                <a:gridCol w="383868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бор и изучение литерату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юнь-сент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иск информации в Интерне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нтябрь-окт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едение социологических о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тябрь-но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курс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-дека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а над реферат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ка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здание презентации 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wer po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 2008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щита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враль 2008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11-летние циклы солнечной активности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4723920"/>
            <a:ext cx="85406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ксимумы и минимумы чередуются в среднем каждые 11 лет (от 7 до 17 лет), последний максимум солнечной активности был в 2000 году. Основной характеристикой солнечной активности является число Вольф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05030205"/>
          <p:cNvPicPr/>
          <p:nvPr/>
        </p:nvPicPr>
        <p:blipFill>
          <a:blip r:embed="rId1"/>
          <a:stretch/>
        </p:blipFill>
        <p:spPr>
          <a:xfrm>
            <a:off x="900000" y="851040"/>
            <a:ext cx="7559640" cy="377964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77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ые пятна, солнечные вспышки, факелы, протуберанцы и корональные лучи — эти явления влияют практически на все происходящие на Земле процессы, от атмосферных явлений до поведения челове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правило, их н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общим термином —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ая актив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Picture 1" descr="активное солнечное пятно, вид сбоку"/>
          <p:cNvPicPr/>
          <p:nvPr/>
        </p:nvPicPr>
        <p:blipFill>
          <a:blip r:embed="rId1"/>
          <a:stretch/>
        </p:blipFill>
        <p:spPr>
          <a:xfrm>
            <a:off x="5292720" y="3500280"/>
            <a:ext cx="3527280" cy="280044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периодичность геофизических процесс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49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офизические процессы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, происходящие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тмосфере, гидросфере и литосф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олярные сияния, озоновые дыр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мерчи, землетрясения, цунам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водне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повышенной солнеч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ктивности увелич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ичность геофизичес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Picture 6" descr="aurora1_wikipedia"/>
          <p:cNvPicPr/>
          <p:nvPr/>
        </p:nvPicPr>
        <p:blipFill>
          <a:blip r:embed="rId1"/>
          <a:stretch/>
        </p:blipFill>
        <p:spPr>
          <a:xfrm>
            <a:off x="5219640" y="220500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Жизнедеятельность живых организм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ая активн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азывается на поведении 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ых организмов. Как следстви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тастрофически падают урожа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льскохозяйственных культур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градируют луга, сниж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рост древесины, происходи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деж скота и резко сокращается численность других животных организмов. А во времена глобальных катастроф происходили относительно внезапные исчезновения многих форм организ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Picture 0" descr="MPj04277550000[1]"/>
          <p:cNvPicPr/>
          <p:nvPr/>
        </p:nvPicPr>
        <p:blipFill>
          <a:blip r:embed="rId1"/>
          <a:stretch/>
        </p:blipFill>
        <p:spPr>
          <a:xfrm>
            <a:off x="5076720" y="1557360"/>
            <a:ext cx="3384720" cy="25020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8:39:58Z</dcterms:created>
  <dc:creator>Семёнова С А</dc:creator>
  <dc:description/>
  <dc:language>en-US</dc:language>
  <cp:lastModifiedBy>LEGION</cp:lastModifiedBy>
  <dcterms:modified xsi:type="dcterms:W3CDTF">2015-01-13T12:39:21Z</dcterms:modified>
  <cp:revision>20</cp:revision>
  <dc:subject/>
  <dc:title>Влияние солнечной активности  на процессы,  происходящие на Земле  Исследовательский проект  по физике и астрономии</dc:title>
</cp:coreProperties>
</file>