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wmf" ContentType="image/x-wmf"/>
  <Override PartName="/ppt/media/image22.png" ContentType="image/png"/>
  <Override PartName="/ppt/media/image20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26.wmf" ContentType="image/x-wmf"/>
  <Override PartName="/ppt/media/image46.jpeg" ContentType="image/jpeg"/>
  <Override PartName="/ppt/media/image15.jpeg" ContentType="image/jpeg"/>
  <Override PartName="/ppt/media/image25.wmf" ContentType="image/x-wmf"/>
  <Override PartName="/ppt/media/image1.gif" ContentType="image/gif"/>
  <Override PartName="/ppt/media/image11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7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18.png" ContentType="image/png"/>
  <Override PartName="/ppt/media/image6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48.gif" ContentType="image/gif"/>
  <Override PartName="/ppt/media/image50.gif" ContentType="image/gif"/>
  <Override PartName="/ppt/media/image53.png" ContentType="image/png"/>
  <Override PartName="/ppt/media/image52.gif" ContentType="image/gif"/>
  <Override PartName="/ppt/media/image45.png" ContentType="image/png"/>
  <Override PartName="/ppt/media/image44.jpeg" ContentType="image/jpeg"/>
  <Override PartName="/ppt/media/image49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14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9.jpeg" ContentType="image/jpeg"/>
  <Override PartName="/ppt/media/image23.wmf" ContentType="image/x-wmf"/>
  <Override PartName="/ppt/media/image12.jpeg" ContentType="image/jpeg"/>
  <Override PartName="/ppt/media/image8.png" ContentType="image/png"/>
  <Override PartName="/ppt/media/image3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69C-72F9-4DD3-A065-AF24CE3EE81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скусственные спутник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815D-F915-4AA8-9A22-D3970EB3C5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Для полёта нужно знать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249A-B846-4E54-9EAF-F8B7587EBB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098E-2E73-4262-9116-633FC5DD0B2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3872-2B1A-4577-BD9C-E48CEFE4D87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D202-1DAB-4277-A21E-05C680AE48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 могут двигаться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AE1B-8B48-4803-9376-CA688880302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E92D-65EE-4155-B17B-B27C7FC839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1200"/>
            </a:b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688B-B31E-47B9-B7D8-DAD7D266E9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6E08-383A-4C62-AECC-5045972CAB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Мы гордимся своей страной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3EB-4032-49A8-A2DC-77139D5F1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62B-D773-4548-8592-DF7B49FCA0C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лияние на прир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- ИСЗ оказывают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31EA-9F12-49AE-ABCD-AE15CA2480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FC5F5-7002-45FC-B79B-2DE86A4D51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8A80-04F2-4813-9966-B374FA12FE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 что думают поэты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568B-5712-4B67-8B18-794E47318C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1200"/>
            </a:br>
            <a:r>
              <a:rPr b="1" i="1" lang="en-US" sz="12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1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2201-FCAA-4BCB-B512-6DB2EB5060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B918-2ADF-4019-8DA4-6785301E09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Какими могут быть спутник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9973-692C-4CA2-87DB-B8E2D6D8C1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CBFB-C639-47CD-B1E8-D4B2AD3D6E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Спутниковая сист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"Глонасс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 будущем буд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нас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около 30 спу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E77A-780D-4A9D-B41F-814A4578BC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Ракеты, ракеты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7860A-0FDC-4A28-AA10-2DCD76610D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71E2-2264-4819-940C-4D94182E35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5675-F837-4FF7-B4FF-D34EE969F8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7A92-1266-4B96-B6B7-2019B547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EE7-35CE-4DA2-B8E6-06AEAAC0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B03-0592-47F7-A1C6-0B7FB03D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37A-242B-4D1F-95D1-F9252C5F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C2B6-017D-480B-9269-6FD4DEC6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91A6-0EBE-4BCC-88CC-B07F4EFB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AC3E-A56E-4A12-8762-08EB516F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FBE-7D41-42DC-B413-E4F447D3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598C-6C78-42F7-BCD0-8216BB7A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86C-0837-4D33-B2B6-3DC8C74E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7AB-0B91-4B7F-AD18-EF387887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070-A403-4F5B-9E77-3927964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3803-1BBB-4886-B4A2-A8B811BEA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.jpe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95280" y="1052640"/>
            <a:ext cx="64962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скусственные спутники Земли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5" descr="i"/>
          <p:cNvPicPr/>
          <p:nvPr/>
        </p:nvPicPr>
        <p:blipFill>
          <a:blip r:embed="rId1"/>
          <a:stretch/>
        </p:blipFill>
        <p:spPr>
          <a:xfrm>
            <a:off x="179280" y="3357720"/>
            <a:ext cx="2016360" cy="1504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142501"/>
          <p:cNvPicPr/>
          <p:nvPr/>
        </p:nvPicPr>
        <p:blipFill>
          <a:blip r:embed="rId2"/>
          <a:stretch/>
        </p:blipFill>
        <p:spPr>
          <a:xfrm>
            <a:off x="0" y="0"/>
            <a:ext cx="2158920" cy="1585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isz1museumrkke"/>
          <p:cNvPicPr/>
          <p:nvPr/>
        </p:nvPicPr>
        <p:blipFill>
          <a:blip r:embed="rId3"/>
          <a:stretch/>
        </p:blipFill>
        <p:spPr>
          <a:xfrm>
            <a:off x="6877080" y="2637000"/>
            <a:ext cx="2060640" cy="2778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GLONASS_html_m363924f5"/>
          <p:cNvPicPr/>
          <p:nvPr/>
        </p:nvPicPr>
        <p:blipFill>
          <a:blip r:embed="rId4"/>
          <a:stretch/>
        </p:blipFill>
        <p:spPr>
          <a:xfrm>
            <a:off x="6948360" y="260280"/>
            <a:ext cx="1947960" cy="1947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3759120" y="4437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684360" y="1844640"/>
            <a:ext cx="5813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ля полёта нужно знать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Расчет первой космической скорости у поверхности Зем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3279600" y="2465280"/>
            <a:ext cx="2068560" cy="81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968400" y="4037040"/>
            <a:ext cx="7240680" cy="11574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тора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38360" y="3940200"/>
            <a:ext cx="108000" cy="195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484360" y="4005360"/>
            <a:ext cx="3468600" cy="11491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2195640" y="5445000"/>
            <a:ext cx="3565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II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= 11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,2 км/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116000" y="1341360"/>
            <a:ext cx="68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торая космическая скорость – минимальная скорость, которую надо сообщить телу у поверхности Земли (или небесного тела) для того, чтобы оно преодолело гравитационное притяжение Земли (или небесного тел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етья космическая скор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468360" y="1557360"/>
            <a:ext cx="770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инимальная скорость, которую надо сообщить телу у поверхности Земли для того, чтобы оно преодолело гравитационное притяжение Солнц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759120" y="460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1619280" y="3284640"/>
            <a:ext cx="4511520" cy="20095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1187280" y="2997360"/>
            <a:ext cx="683136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 могут двигаться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Line 2"/>
          <p:cNvSpPr/>
          <p:nvPr/>
        </p:nvSpPr>
        <p:spPr>
          <a:xfrm>
            <a:off x="971640" y="3357720"/>
            <a:ext cx="0" cy="792000"/>
          </a:xfrm>
          <a:prstGeom prst="line">
            <a:avLst/>
          </a:prstGeom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"/>
          <p:cNvSpPr/>
          <p:nvPr/>
        </p:nvSpPr>
        <p:spPr>
          <a:xfrm>
            <a:off x="826920" y="3213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Траектории движения тел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495200">
            <a:off x="1618920" y="112500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4572000" y="119700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20020800">
            <a:off x="7740720" y="1196640"/>
            <a:ext cx="287280" cy="1008000"/>
          </a:xfrm>
          <a:prstGeom prst="downArrow">
            <a:avLst>
              <a:gd name="adj1" fmla="val 50000"/>
              <a:gd name="adj2" fmla="val 87719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8"/>
          <p:cNvSpPr/>
          <p:nvPr/>
        </p:nvSpPr>
        <p:spPr>
          <a:xfrm rot="804600">
            <a:off x="2987640" y="1125360"/>
            <a:ext cx="287280" cy="1008360"/>
          </a:xfrm>
          <a:prstGeom prst="downArrow">
            <a:avLst>
              <a:gd name="adj1" fmla="val 50000"/>
              <a:gd name="adj2" fmla="val 8775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042920" y="2349360"/>
            <a:ext cx="93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0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2700360" y="2349360"/>
            <a:ext cx="1008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067280" y="2276640"/>
            <a:ext cx="1439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&lt; V &lt; 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012000" y="2276640"/>
            <a:ext cx="863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13"/>
          <p:cNvSpPr/>
          <p:nvPr/>
        </p:nvSpPr>
        <p:spPr>
          <a:xfrm rot="20587200">
            <a:off x="6084720" y="1125000"/>
            <a:ext cx="287640" cy="1008360"/>
          </a:xfrm>
          <a:prstGeom prst="downArrow">
            <a:avLst>
              <a:gd name="adj1" fmla="val 50000"/>
              <a:gd name="adj2" fmla="val 87641"/>
            </a:avLst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67640" y="2276640"/>
            <a:ext cx="93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=V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5" descr="earth[1]"/>
          <p:cNvPicPr/>
          <p:nvPr/>
        </p:nvPicPr>
        <p:blipFill>
          <a:blip r:embed="rId1"/>
          <a:stretch/>
        </p:blipFill>
        <p:spPr>
          <a:xfrm>
            <a:off x="250920" y="3933720"/>
            <a:ext cx="1360440" cy="13669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6"/>
          <p:cNvSpPr/>
          <p:nvPr/>
        </p:nvSpPr>
        <p:spPr>
          <a:xfrm>
            <a:off x="468360" y="6093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ямая ли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7" descr="earth[1]"/>
          <p:cNvPicPr/>
          <p:nvPr/>
        </p:nvPicPr>
        <p:blipFill>
          <a:blip r:embed="rId2"/>
          <a:stretch/>
        </p:blipFill>
        <p:spPr>
          <a:xfrm>
            <a:off x="1835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1" name="Oval 18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9" descr="earth[1]"/>
          <p:cNvPicPr/>
          <p:nvPr/>
        </p:nvPicPr>
        <p:blipFill>
          <a:blip r:embed="rId3"/>
          <a:stretch/>
        </p:blipFill>
        <p:spPr>
          <a:xfrm>
            <a:off x="3851280" y="386064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23" name="Oval 20"/>
          <p:cNvSpPr/>
          <p:nvPr/>
        </p:nvSpPr>
        <p:spPr>
          <a:xfrm>
            <a:off x="3564000" y="472428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21"/>
          <p:cNvSpPr/>
          <p:nvPr/>
        </p:nvSpPr>
        <p:spPr>
          <a:xfrm>
            <a:off x="6156360" y="3213000"/>
            <a:ext cx="288720" cy="2890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2"/>
          <p:cNvSpPr/>
          <p:nvPr/>
        </p:nvSpPr>
        <p:spPr>
          <a:xfrm>
            <a:off x="7308720" y="4076640"/>
            <a:ext cx="1274760" cy="1297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3"/>
          <p:cNvSpPr/>
          <p:nvPr/>
        </p:nvSpPr>
        <p:spPr>
          <a:xfrm>
            <a:off x="1835280" y="6237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круж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4"/>
          <p:cNvSpPr/>
          <p:nvPr/>
        </p:nvSpPr>
        <p:spPr>
          <a:xfrm>
            <a:off x="3635280" y="61657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элл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25"/>
          <p:cNvSpPr/>
          <p:nvPr/>
        </p:nvSpPr>
        <p:spPr>
          <a:xfrm>
            <a:off x="7740720" y="3213000"/>
            <a:ext cx="287280" cy="28728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6"/>
          <p:cNvSpPr/>
          <p:nvPr/>
        </p:nvSpPr>
        <p:spPr>
          <a:xfrm>
            <a:off x="7308720" y="616572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7"/>
          <p:cNvSpPr/>
          <p:nvPr/>
        </p:nvSpPr>
        <p:spPr>
          <a:xfrm>
            <a:off x="7236000" y="6237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гипер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28"/>
          <p:cNvSpPr/>
          <p:nvPr/>
        </p:nvSpPr>
        <p:spPr>
          <a:xfrm>
            <a:off x="1619280" y="3573360"/>
            <a:ext cx="1873080" cy="192240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780000" y="3429000"/>
            <a:ext cx="1584000" cy="2808360"/>
          </a:xfrm>
          <a:prstGeom prst="ellipse">
            <a:avLst/>
          </a:prstGeom>
          <a:noFill/>
          <a:ln w="28440">
            <a:solidFill>
              <a:srgbClr val="00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30"/>
          <p:cNvSpPr/>
          <p:nvPr/>
        </p:nvSpPr>
        <p:spPr>
          <a:xfrm>
            <a:off x="7956720" y="3357720"/>
            <a:ext cx="1152360" cy="136656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366560"/>
              <a:gd name="textAreaBottom" fmla="*/ 1366920 h 136656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1" descr="earth[1]"/>
          <p:cNvPicPr/>
          <p:nvPr/>
        </p:nvPicPr>
        <p:blipFill>
          <a:blip r:embed="rId4"/>
          <a:stretch/>
        </p:blipFill>
        <p:spPr>
          <a:xfrm>
            <a:off x="5580000" y="3933720"/>
            <a:ext cx="1433520" cy="1440000"/>
          </a:xfrm>
          <a:prstGeom prst="rect">
            <a:avLst/>
          </a:prstGeom>
          <a:ln w="0">
            <a:noFill/>
          </a:ln>
        </p:spPr>
      </p:pic>
      <p:sp>
        <p:nvSpPr>
          <p:cNvPr id="135" name="Freeform 32"/>
          <p:cNvSpPr/>
          <p:nvPr/>
        </p:nvSpPr>
        <p:spPr>
          <a:xfrm>
            <a:off x="6300720" y="3357720"/>
            <a:ext cx="935280" cy="1584000"/>
          </a:xfrm>
          <a:custGeom>
            <a:avLst/>
            <a:gdLst>
              <a:gd name="textAreaLeft" fmla="*/ 0 w 935280"/>
              <a:gd name="textAreaRight" fmla="*/ 935640 w 935280"/>
              <a:gd name="textAreaTop" fmla="*/ 0 h 1584000"/>
              <a:gd name="textAreaBottom" fmla="*/ 1584360 h 1584000"/>
            </a:gdLst>
            <a:ahLst/>
            <a:rect l="textAreaLeft" t="textAreaTop" r="textAreaRight" b="textAreaBottom"/>
            <a:pathLst>
              <a:path w="726" h="861">
                <a:moveTo>
                  <a:pt x="0" y="0"/>
                </a:moveTo>
                <a:cubicBezTo>
                  <a:pt x="234" y="132"/>
                  <a:pt x="469" y="264"/>
                  <a:pt x="590" y="408"/>
                </a:cubicBezTo>
                <a:cubicBezTo>
                  <a:pt x="711" y="552"/>
                  <a:pt x="703" y="786"/>
                  <a:pt x="726" y="861"/>
                </a:cubicBezTo>
              </a:path>
            </a:pathLst>
          </a:custGeom>
          <a:noFill/>
          <a:ln w="284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5580000" y="616572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 Unicode MS"/>
              </a:rPr>
              <a:t>Параб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4.81481E-006 L 1.38778E-017 0.1574 E">
                                      <p:cBhvr>
                                        <p:cTn id="9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C 0.05608 -1.48148E-006 0.10191 0.06343 0.10191 0.14167 C 0.10191 0.21968 0.05608 0.28333 -4.16667E-006 0.28333 C -0.05625 0.28333 -0.10191 0.21968 -0.10191 0.14167 C -0.10191 0.06343 -0.05625 -1.48148E-006 -4.16667E-006 -1.48148E-006 Z">
                                      <p:cBhvr>
                                        <p:cTn id="15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path" presetID="1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22222E-006 C 0.02239 -0.12245 0.05642 -0.19953 0.09409 -0.19953 C 0.13177 -0.19953 0.16579 -0.12245 0.18888 -2.22222E-006 C 0.16579 0.12222 0.13177 0.19954 0.09409 0.19954 C 0.05642 0.19954 0.02239 0.12222 4.44444E-006 -2.22222E-006 Z">
                                      <p:cBhvr>
                                        <p:cTn id="2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C 0.03403 0.01459 0.06806 0.0294 0.08698 0.1007 C 0.10591 0.17223 0.10903 0.35023 0.11354 0.42848 C 0.11806 0.50695 0.11354 0.5426 0.11354 0.57037 C 0.11354 0.59838 0.11354 0.59699 0.11354 0.59561 E">
                                      <p:cBhvr>
                                        <p:cTn id="3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33333E-006 C 0.06615 0.05162 0.13403 0.10602 0.16129 0.19051 C 0.18907 0.2757 0.16129 0.46181 0.16129 0.51042 E">
                                      <p:cBhvr>
                                        <p:cTn id="33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Траектория движения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ояджер-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h26[1]"/>
          <p:cNvPicPr/>
          <p:nvPr/>
        </p:nvPicPr>
        <p:blipFill>
          <a:blip r:embed="rId1"/>
          <a:stretch/>
        </p:blipFill>
        <p:spPr>
          <a:xfrm>
            <a:off x="395280" y="1484280"/>
            <a:ext cx="5299200" cy="50943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"/>
          <p:cNvSpPr/>
          <p:nvPr/>
        </p:nvSpPr>
        <p:spPr>
          <a:xfrm flipV="1">
            <a:off x="6156360" y="2781360"/>
            <a:ext cx="2468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5867280" y="2708280"/>
            <a:ext cx="29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апущен в 1977год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ошел мимо больших планет. В 1989г аппарат Вояджер вышел за пределы Солнечной сист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ание внеземным цивилизация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33316[1]"/>
          <p:cNvPicPr/>
          <p:nvPr/>
        </p:nvPicPr>
        <p:blipFill>
          <a:blip r:embed="rId1"/>
          <a:stretch/>
        </p:blipFill>
        <p:spPr>
          <a:xfrm>
            <a:off x="6516720" y="1800360"/>
            <a:ext cx="1038240" cy="3257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poslanie[1]"/>
          <p:cNvPicPr/>
          <p:nvPr/>
        </p:nvPicPr>
        <p:blipFill>
          <a:blip r:embed="rId2"/>
          <a:stretch/>
        </p:blipFill>
        <p:spPr>
          <a:xfrm>
            <a:off x="611280" y="1752480"/>
            <a:ext cx="4476600" cy="33530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468360" y="5300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На борту «Вояджер-2» диск с научной информаци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риветствие на 58 языках Земли. Звуки: голоса птиц и зверей, шум моря, дождя, ветра. Произведения Баха, Моцарта…  Виды Земли.  Изображение мужчины и женщ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5"/>
          <p:cNvSpPr txBox="1"/>
          <p:nvPr/>
        </p:nvSpPr>
        <p:spPr>
          <a:xfrm>
            <a:off x="971640" y="1628640"/>
            <a:ext cx="7416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ы гордимся своей страной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Королев"/>
          <p:cNvPicPr/>
          <p:nvPr/>
        </p:nvPicPr>
        <p:blipFill>
          <a:blip r:embed="rId1"/>
          <a:stretch/>
        </p:blipFill>
        <p:spPr>
          <a:xfrm>
            <a:off x="611280" y="333360"/>
            <a:ext cx="1523880" cy="2498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first_sputnik_3"/>
          <p:cNvPicPr/>
          <p:nvPr/>
        </p:nvPicPr>
        <p:blipFill>
          <a:blip r:embed="rId2"/>
          <a:stretch/>
        </p:blipFill>
        <p:spPr>
          <a:xfrm>
            <a:off x="5940360" y="3716280"/>
            <a:ext cx="2981520" cy="1954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первый спутник"/>
          <p:cNvPicPr/>
          <p:nvPr/>
        </p:nvPicPr>
        <p:blipFill>
          <a:blip r:embed="rId3"/>
          <a:stretch/>
        </p:blipFill>
        <p:spPr>
          <a:xfrm>
            <a:off x="6588000" y="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первый спутник 1"/>
          <p:cNvPicPr/>
          <p:nvPr/>
        </p:nvPicPr>
        <p:blipFill>
          <a:blip r:embed="rId4"/>
          <a:stretch/>
        </p:blipFill>
        <p:spPr>
          <a:xfrm>
            <a:off x="5508720" y="1844640"/>
            <a:ext cx="290808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200px-Правда_-_6_октября_1957"/>
          <p:cNvPicPr/>
          <p:nvPr/>
        </p:nvPicPr>
        <p:blipFill>
          <a:blip r:embed="rId5"/>
          <a:stretch/>
        </p:blipFill>
        <p:spPr>
          <a:xfrm>
            <a:off x="2700360" y="333360"/>
            <a:ext cx="2279520" cy="25192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0"/>
          <p:cNvSpPr/>
          <p:nvPr/>
        </p:nvSpPr>
        <p:spPr>
          <a:xfrm>
            <a:off x="3851280" y="515772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вый искусственный спутник Земли запущен 4 октября 1957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асса 83,60 к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Период обращения 96 мин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182520" y="2565360"/>
            <a:ext cx="296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С.П. Королё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лавный констру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первый спутник.avi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456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44802"/>
          <p:cNvPicPr/>
          <p:nvPr/>
        </p:nvPicPr>
        <p:blipFill>
          <a:blip r:embed="rId1"/>
          <a:stretch/>
        </p:blipFill>
        <p:spPr>
          <a:xfrm>
            <a:off x="6804000" y="1268280"/>
            <a:ext cx="1992240" cy="496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3d_space_019"/>
          <p:cNvPicPr/>
          <p:nvPr/>
        </p:nvPicPr>
        <p:blipFill>
          <a:blip r:embed="rId2"/>
          <a:stretch/>
        </p:blipFill>
        <p:spPr>
          <a:xfrm>
            <a:off x="-10800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4" descr="фото первого спутника в космосе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60" name="04-Pozyvnye Pervogo Sputnika Zemli.mp3" descr=""/>
          <p:cNvPicPr/>
          <p:nvPr/>
        </p:nvPicPr>
        <p:blipFill>
          <a:blip r:embed="rId2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3100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5"/>
          <p:cNvSpPr txBox="1"/>
          <p:nvPr/>
        </p:nvSpPr>
        <p:spPr>
          <a:xfrm>
            <a:off x="900000" y="2060640"/>
            <a:ext cx="7753320" cy="17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ияние на природу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 ИСЗ оказывают?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мусор в косм"/>
          <p:cNvPicPr/>
          <p:nvPr/>
        </p:nvPicPr>
        <p:blipFill>
          <a:blip r:embed="rId1"/>
          <a:stretch/>
        </p:blipFill>
        <p:spPr>
          <a:xfrm>
            <a:off x="0" y="260280"/>
            <a:ext cx="3809880" cy="29084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1547640" y="3141720"/>
            <a:ext cx="6794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а годы  освоения космоса в мире созданы и эксплуатируются более 20 космодромов и ракетных полигонов, сотни боевых ракетных шахт и пусковых установок, всего запущено свыше 6000 космических объектов, из них около 700 в настоящее время эксплуатируются на околоземных орбитах, ежегодно осуществляется около 100 запусков объектов в космос, в которых участвуют более 20 стран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180px-Debris-GEO1280"/>
          <p:cNvPicPr/>
          <p:nvPr/>
        </p:nvPicPr>
        <p:blipFill>
          <a:blip r:embed="rId1"/>
          <a:stretch/>
        </p:blipFill>
        <p:spPr>
          <a:xfrm>
            <a:off x="0" y="0"/>
            <a:ext cx="3024360" cy="24192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6"/>
          <p:cNvSpPr/>
          <p:nvPr/>
        </p:nvSpPr>
        <p:spPr>
          <a:xfrm>
            <a:off x="1692360" y="2205000"/>
            <a:ext cx="682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Исследования, проведенные в последние годы в Институте астрономии РАН и НАСА, привели к выводу, что более 40% космического мусора, находящегося на низких околоземных орбитах, - это осколки, образовавшиеся в результате взрывов вторых ступеней ракет и спутников на орбитах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1476360" y="3144960"/>
            <a:ext cx="6120000" cy="15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 что думают поэты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1229089022_cosmos_7"/>
          <p:cNvPicPr/>
          <p:nvPr/>
        </p:nvPicPr>
        <p:blipFill>
          <a:blip r:embed="rId1"/>
          <a:stretch/>
        </p:blipFill>
        <p:spPr>
          <a:xfrm>
            <a:off x="0" y="2503440"/>
            <a:ext cx="9144000" cy="43545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7"/>
          <p:cNvSpPr/>
          <p:nvPr/>
        </p:nvSpPr>
        <p:spPr>
          <a:xfrm>
            <a:off x="0" y="0"/>
            <a:ext cx="806616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Преодолев земное притяженье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акета от Земли оторвалась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не было счастливее мгновенья –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Здесь новая эпоха начала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упень… вторая… Третья отделилась,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горая в атмосфере без следа…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А над Землей внезапно появилась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Стремительно летящая звез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И Человечество застыло в изумленье: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Летящий в небе серебристый шар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Рук человеческих великое творенье -</a:t>
            </a:r>
            <a:br>
              <a:rPr sz="24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Был послан от Земли Вселенной в дар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4"/>
          <p:cNvSpPr/>
          <p:nvPr/>
        </p:nvSpPr>
        <p:spPr>
          <a:xfrm>
            <a:off x="8280360" y="5994360"/>
            <a:ext cx="863640" cy="86364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8" descr="r7"/>
          <p:cNvPicPr/>
          <p:nvPr/>
        </p:nvPicPr>
        <p:blipFill>
          <a:blip r:embed="rId1"/>
          <a:stretch/>
        </p:blipFill>
        <p:spPr>
          <a:xfrm>
            <a:off x="6659640" y="2060640"/>
            <a:ext cx="2077920" cy="138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112"/>
          <p:cNvPicPr/>
          <p:nvPr/>
        </p:nvPicPr>
        <p:blipFill>
          <a:blip r:embed="rId2"/>
          <a:stretch/>
        </p:blipFill>
        <p:spPr>
          <a:xfrm>
            <a:off x="539640" y="4292640"/>
            <a:ext cx="2159280" cy="2158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11280" y="1413000"/>
            <a:ext cx="640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5" descr="78a4fa568606"/>
          <p:cNvPicPr/>
          <p:nvPr/>
        </p:nvPicPr>
        <p:blipFill>
          <a:blip r:embed="rId3"/>
          <a:stretch/>
        </p:blipFill>
        <p:spPr>
          <a:xfrm>
            <a:off x="684360" y="2637000"/>
            <a:ext cx="5715000" cy="3876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File010"/>
          <p:cNvPicPr/>
          <p:nvPr/>
        </p:nvPicPr>
        <p:blipFill>
          <a:blip r:embed="rId4"/>
          <a:stretch/>
        </p:blipFill>
        <p:spPr>
          <a:xfrm>
            <a:off x="7236000" y="189000"/>
            <a:ext cx="1771560" cy="2219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backgrounds_00034"/>
          <p:cNvPicPr/>
          <p:nvPr/>
        </p:nvPicPr>
        <p:blipFill>
          <a:blip r:embed="rId5"/>
          <a:stretch/>
        </p:blipFill>
        <p:spPr>
          <a:xfrm>
            <a:off x="6518160" y="242100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183" name="Владимир Трошин_-_Четырнадцать минут до старта.mp3" descr=""/>
          <p:cNvPicPr/>
          <p:nvPr/>
        </p:nvPicPr>
        <p:blipFill>
          <a:blip r:embed="rId6"/>
          <a:stretch/>
        </p:blipFill>
        <p:spPr>
          <a:xfrm>
            <a:off x="8532720" y="6626160"/>
            <a:ext cx="231840" cy="2318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03647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1332000" y="2060640"/>
            <a:ext cx="684504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ми могут быть спутники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776px-Milstar"/>
          <p:cNvPicPr/>
          <p:nvPr/>
        </p:nvPicPr>
        <p:blipFill>
          <a:blip r:embed="rId1"/>
          <a:stretch/>
        </p:blipFill>
        <p:spPr>
          <a:xfrm>
            <a:off x="324000" y="189000"/>
            <a:ext cx="3547800" cy="2743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800px-GOES_8_Spac0255"/>
          <p:cNvPicPr/>
          <p:nvPr/>
        </p:nvPicPr>
        <p:blipFill>
          <a:blip r:embed="rId2"/>
          <a:stretch/>
        </p:blipFill>
        <p:spPr>
          <a:xfrm>
            <a:off x="6372360" y="404640"/>
            <a:ext cx="2125440" cy="137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290479407"/>
          <p:cNvPicPr/>
          <p:nvPr/>
        </p:nvPicPr>
        <p:blipFill>
          <a:blip r:embed="rId3"/>
          <a:stretch/>
        </p:blipFill>
        <p:spPr>
          <a:xfrm>
            <a:off x="5148360" y="2349360"/>
            <a:ext cx="3679560" cy="217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1229089022_cosmos_7"/>
          <p:cNvPicPr/>
          <p:nvPr/>
        </p:nvPicPr>
        <p:blipFill>
          <a:blip r:embed="rId4"/>
          <a:stretch/>
        </p:blipFill>
        <p:spPr>
          <a:xfrm>
            <a:off x="179280" y="3860640"/>
            <a:ext cx="2791080" cy="223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Скайлэб 1974"/>
          <p:cNvPicPr/>
          <p:nvPr/>
        </p:nvPicPr>
        <p:blipFill>
          <a:blip r:embed="rId5"/>
          <a:stretch/>
        </p:blipFill>
        <p:spPr>
          <a:xfrm>
            <a:off x="3635280" y="5084640"/>
            <a:ext cx="1571760" cy="16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сша - авангард-2"/>
          <p:cNvPicPr/>
          <p:nvPr/>
        </p:nvPicPr>
        <p:blipFill>
          <a:blip r:embed="rId6"/>
          <a:stretch/>
        </p:blipFill>
        <p:spPr>
          <a:xfrm>
            <a:off x="6084720" y="4724280"/>
            <a:ext cx="2476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Первый полет человека в космо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gagarin[1]"/>
          <p:cNvPicPr/>
          <p:nvPr/>
        </p:nvPicPr>
        <p:blipFill>
          <a:blip r:embed="rId1"/>
          <a:stretch/>
        </p:blipFill>
        <p:spPr>
          <a:xfrm>
            <a:off x="684360" y="1916280"/>
            <a:ext cx="288432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572000" y="155736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2 апреля 1961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Ю.А. Гагарин. СССР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7[2]"/>
          <p:cNvPicPr/>
          <p:nvPr/>
        </p:nvPicPr>
        <p:blipFill>
          <a:blip r:embed="rId2"/>
          <a:stretch/>
        </p:blipFill>
        <p:spPr>
          <a:xfrm>
            <a:off x="5940360" y="2997360"/>
            <a:ext cx="2063880" cy="3127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5219640" y="6021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GLONASS_html_m19644972"/>
          <p:cNvPicPr/>
          <p:nvPr/>
        </p:nvPicPr>
        <p:blipFill>
          <a:blip r:embed="rId1"/>
          <a:stretch/>
        </p:blipFill>
        <p:spPr>
          <a:xfrm>
            <a:off x="324000" y="1989000"/>
            <a:ext cx="2798640" cy="3489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GLONASS_html_m363924f5"/>
          <p:cNvPicPr/>
          <p:nvPr/>
        </p:nvPicPr>
        <p:blipFill>
          <a:blip r:embed="rId2"/>
          <a:stretch/>
        </p:blipFill>
        <p:spPr>
          <a:xfrm>
            <a:off x="5508720" y="1890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75" name="WordArt 6"/>
          <p:cNvSpPr txBox="1"/>
          <p:nvPr/>
        </p:nvSpPr>
        <p:spPr>
          <a:xfrm>
            <a:off x="4067280" y="3357720"/>
            <a:ext cx="39430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утниковая система </a:t>
            </a:r>
            <a:endParaRPr b="0" lang="en-US" sz="3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Глонасс" </a:t>
            </a:r>
            <a:endParaRPr b="0" lang="en-US" sz="3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будущем будет</a:t>
            </a:r>
            <a:endParaRPr b="0" lang="en-US" sz="32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читывать </a:t>
            </a:r>
            <a:endParaRPr b="0" lang="en-US" sz="32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коло 30 спутников</a:t>
            </a:r>
            <a:endParaRPr b="0" lang="en-US" sz="32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1187280" y="1125360"/>
            <a:ext cx="518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кеты, ракеты...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ples"/>
          <p:cNvPicPr/>
          <p:nvPr/>
        </p:nvPicPr>
        <p:blipFill>
          <a:blip r:embed="rId1"/>
          <a:stretch/>
        </p:blipFill>
        <p:spPr>
          <a:xfrm>
            <a:off x="324000" y="1197000"/>
            <a:ext cx="8051760" cy="4790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830160" y="620640"/>
            <a:ext cx="69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асположение объектов на космодроме Плесец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406160" y="60357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чало космической биографии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17 марта 1966 год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 13 часов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инут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Плесецк зимой"/>
          <p:cNvPicPr/>
          <p:nvPr/>
        </p:nvPicPr>
        <p:blipFill>
          <a:blip r:embed="rId1"/>
          <a:stretch/>
        </p:blipFill>
        <p:spPr>
          <a:xfrm>
            <a:off x="324000" y="69228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1262520" y="5734080"/>
            <a:ext cx="63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усковая установка на космодроме Плесец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41:25Z</dcterms:modified>
  <cp:revision>30</cp:revision>
  <dc:subject/>
  <dc:title>Искусственные спутники Зем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3000000000001024140</vt:lpwstr>
  </property>
</Properties>
</file>