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wmf" ContentType="image/x-wmf"/>
  <Override PartName="/ppt/media/image24.wmf" ContentType="image/x-wmf"/>
  <Override PartName="/ppt/media/image22.png" ContentType="image/png"/>
  <Override PartName="/ppt/media/image20.jpeg" ContentType="image/jpeg"/>
  <Override PartName="/ppt/media/image19.png" ContentType="image/png"/>
  <Override PartName="/ppt/media/image17.jpeg" ContentType="image/jpeg"/>
  <Override PartName="/ppt/media/image16.jpeg" ContentType="image/jpeg"/>
  <Override PartName="/ppt/media/image26.wmf" ContentType="image/x-wmf"/>
  <Override PartName="/ppt/media/image46.jpeg" ContentType="image/jpeg"/>
  <Override PartName="/ppt/media/image15.jpeg" ContentType="image/jpeg"/>
  <Override PartName="/ppt/media/image25.wmf" ContentType="image/x-wmf"/>
  <Override PartName="/ppt/media/image1.gif" ContentType="image/gif"/>
  <Override PartName="/ppt/media/image11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4.jpeg" ContentType="image/jpeg"/>
  <Override PartName="/ppt/media/image5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18.png" ContentType="image/png"/>
  <Override PartName="/ppt/media/image6.jpeg" ContentType="image/jpeg"/>
  <Override PartName="/ppt/media/image43.jpeg" ContentType="image/jpeg"/>
  <Override PartName="/ppt/media/image47.gif" ContentType="image/gif"/>
  <Override PartName="/ppt/media/image30.jpeg" ContentType="image/jpeg"/>
  <Override PartName="/ppt/media/image48.gif" ContentType="image/gif"/>
  <Override PartName="/ppt/media/image50.gif" ContentType="image/gif"/>
  <Override PartName="/ppt/media/image53.png" ContentType="image/png"/>
  <Override PartName="/ppt/media/image52.gif" ContentType="image/gif"/>
  <Override PartName="/ppt/media/image45.png" ContentType="image/png"/>
  <Override PartName="/ppt/media/image44.jpeg" ContentType="image/jpeg"/>
  <Override PartName="/ppt/media/image49.png" ContentType="image/png"/>
  <Override PartName="/ppt/media/image42.png" ContentType="image/png"/>
  <Override PartName="/ppt/media/image41.png" ContentType="image/png"/>
  <Override PartName="/ppt/media/image33.png" ContentType="image/png"/>
  <Override PartName="/ppt/media/image14.jpeg" ContentType="image/jpeg"/>
  <Override PartName="/ppt/media/image32.jpeg" ContentType="image/jpeg"/>
  <Override PartName="/ppt/media/image31.jpeg" ContentType="image/jpeg"/>
  <Override PartName="/ppt/media/image40.jpeg" ContentType="image/jpeg"/>
  <Override PartName="/ppt/media/image51.gif" ContentType="image/gif"/>
  <Override PartName="/ppt/media/image13.jpeg" ContentType="image/jpeg"/>
  <Override PartName="/ppt/media/image9.jpeg" ContentType="image/jpeg"/>
  <Override PartName="/ppt/media/image23.wmf" ContentType="image/x-wmf"/>
  <Override PartName="/ppt/media/image12.jpeg" ContentType="image/jpeg"/>
  <Override PartName="/ppt/media/image8.png" ContentType="image/png"/>
  <Override PartName="/ppt/media/image3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4BFE-847D-4DD7-B848-F7F2594484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скусственные спутники Зем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F321-9528-4F31-B3C2-8A6F75A642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Для полёта нужно знать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54BF-0462-4C48-B189-04F7A393A5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Расчет первой космической скорости у поверхности Зем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9817-8633-4540-995E-DEDA8C293D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Вторая космическая скор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торая космическая скорость – минимальная скорость, которую надо сообщить телу у поверхности Земли (или небесного тела) для того, чтобы оно преодолело гравитационное притяжение Земли (или небесного тел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DB88-1DEE-4BB4-99B3-F13FD9023E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Третья космическая скор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Минимальная скорость, которую надо сообщить телу у поверхности Земли для того, чтобы оно преодолело гравитационное притяжение Солнц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75EE-7623-41A3-8D02-0E365D4E1A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Как могут двигаться спутник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C3D6-C97D-41D1-8F48-D190D9F894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Траектории движения те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4961-4F86-49B5-B8E2-F644C34C1B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Траектория движения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Вояджер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Запущен в 1977год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Прошел мимо больших планет. В 1989г аппарат Вояджер вышел за пределы Солнечной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A63D-51A7-4965-A80C-25EF30D684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Послание внеземным цивилизаци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На борту «Вояджер-2» диск с научной информ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Приветствие на 58 языках Земли. Звуки: голоса птиц и зверей, шум моря, дождя, ветра. Произведения Баха, Моцарта…  Виды Земли.  Изображение мужчины и женщи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C971-C957-4CEE-A419-06186D2C0A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ы гордимся своей страной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7E51-4CB0-414F-A64B-889628D774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С.П. Королё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главный констру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Первый искусственный спутник Земли запущен 4 октября 1957 г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Масса 83,60 к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Период обращения 96 м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28E4-6547-4176-8FBB-7AC3A916E6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Влияние на приро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- ИСЗ оказывают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A11F-62A1-42CE-AF8B-C8FDD5D306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За годы  освоения космоса в мире созданы и эксплуатируются более 20 космодромов и ракетных полигонов, сотни боевых ракетных шахт и пусковых установок, всего запущено свыше 6000 космических объектов, из них около 700 в настоящее время эксплуатируются на околоземных орбитах, ежегодно осуществляется около 100 запусков объектов в космос, в которых участвуют более 20 стран.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148E-F626-4714-9DCE-6B8AC3094B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Исследования, проведенные в последние годы в Институте астрономии РАН и НАСА, привели к выводу, что более 40% космического мусора, находящегося на низких околоземных орбитах, - это осколки, образовавшиеся в результате взрывов вторых ступеней ракет и спутников на орбитах.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89A8-CB4F-4779-87A5-2A5BAB60DA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А что думают поэты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E355-9CD2-446F-83D2-DEA9DD8B4C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Преодолев земное притяженье,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Ракета от Земли оторвалась…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И не было счастливее мгновенья –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Здесь новая эпоха началас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Ступень… вторая… Третья отделилась,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Сгорая в атмосфере без следа…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А над Землей внезапно появилась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Стремительно летящая звез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И Человечество застыло в изумленье: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Летящий в небе серебристый шар -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Рук человеческих великое творенье -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Был послан от Земли Вселенной в дар</a:t>
            </a:r>
            <a:r>
              <a:rPr b="1" i="1" lang="ru-RU" sz="12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0904-3B5F-47A0-B721-DBBE640734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Спасибо за урок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084C-F050-41B2-8767-F4DF1124F3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Какими могут быть спутник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5969-06C1-4C99-9748-723FD68785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 Narrow"/>
              </a:rPr>
              <a:t>Первый полет человека в косм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3530-A543-453F-ADE5-42F98730CE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Спутниковая систем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"Глонасс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в будущем буд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насчитыва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около 30 спут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CE69-0C2B-4865-BDB6-24D6D85D97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Ракеты, ракеты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7B85-92E4-4200-8CC2-05554EF9BA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Расположение объектов на космодроме Плесец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начало космической биографии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17 марта 1966 года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 в 13 часов 28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минут 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92B9-6065-4066-B52B-22BE8659CE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усковая установка на космодроме Плесец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8FDA-3B8D-46CF-8C63-013F19A439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959D-AD6E-4FF2-9E3B-0092D4B3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2F3B-14A6-4FB5-AA0E-6D95553C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0CA5-9474-4B41-B786-E724D490B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1F95-E36E-4117-8629-222912B70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5114-FEF3-4CA7-9303-AC67B4E0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49F7-BC98-4E2A-B41B-64DD1E33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8567-BB2E-4B2E-A390-6218C8BF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705F-DF6B-4B1A-9011-4107E978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A450-4CE4-4696-B979-2A5D5FF3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63BC-FE2D-4531-971C-0CC6BF70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C24D-C26C-4717-9764-29338669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90B2-FB51-405A-B9EE-B675763F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4CF8-8D26-4743-A4C8-6306471E70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image" Target="../media/image50.gif"/><Relationship Id="rId4" Type="http://schemas.openxmlformats.org/officeDocument/2006/relationships/image" Target="../media/image51.gif"/><Relationship Id="rId5" Type="http://schemas.openxmlformats.org/officeDocument/2006/relationships/image" Target="../media/image52.gif"/><Relationship Id="rId6" Type="http://schemas.openxmlformats.org/officeDocument/2006/relationships/image" Target="../media/image5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jpe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95280" y="1052640"/>
            <a:ext cx="64962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кусственные спутники Земли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Picture 5" descr="i"/>
          <p:cNvPicPr/>
          <p:nvPr/>
        </p:nvPicPr>
        <p:blipFill>
          <a:blip r:embed="rId1"/>
          <a:stretch/>
        </p:blipFill>
        <p:spPr>
          <a:xfrm>
            <a:off x="179280" y="3357720"/>
            <a:ext cx="2016360" cy="1504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142501"/>
          <p:cNvPicPr/>
          <p:nvPr/>
        </p:nvPicPr>
        <p:blipFill>
          <a:blip r:embed="rId2"/>
          <a:stretch/>
        </p:blipFill>
        <p:spPr>
          <a:xfrm>
            <a:off x="0" y="0"/>
            <a:ext cx="2158920" cy="1585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isz1museumrkke"/>
          <p:cNvPicPr/>
          <p:nvPr/>
        </p:nvPicPr>
        <p:blipFill>
          <a:blip r:embed="rId3"/>
          <a:stretch/>
        </p:blipFill>
        <p:spPr>
          <a:xfrm>
            <a:off x="6877080" y="2637000"/>
            <a:ext cx="2060640" cy="2778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GLONASS_html_m363924f5"/>
          <p:cNvPicPr/>
          <p:nvPr/>
        </p:nvPicPr>
        <p:blipFill>
          <a:blip r:embed="rId4"/>
          <a:stretch/>
        </p:blipFill>
        <p:spPr>
          <a:xfrm>
            <a:off x="6948360" y="260280"/>
            <a:ext cx="1947960" cy="19479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3759120" y="44370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684360" y="1844640"/>
            <a:ext cx="581328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ля полёта нужно знать..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Расчет первой космической скорости у поверхности Земл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3279600" y="2465280"/>
            <a:ext cx="2068560" cy="812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968400" y="4037040"/>
            <a:ext cx="7240680" cy="115740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торая космическая скор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2538360" y="3940200"/>
            <a:ext cx="108000" cy="195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2484360" y="4005360"/>
            <a:ext cx="3468600" cy="11491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2195640" y="5445000"/>
            <a:ext cx="3565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II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= 11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,2 км/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116000" y="1341360"/>
            <a:ext cx="68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торая космическая скорость – минимальная скорость, которую надо сообщить телу у поверхности Земли (или небесного тела) для того, чтобы оно преодолело гравитационное притяжение Земли (или небесного тел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Третья космическая скор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468360" y="1557360"/>
            <a:ext cx="77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инимальная скорость, которую надо сообщить телу у поверхности Земли для того, чтобы оно преодолело гравитационное притяжение Солнц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759120" y="460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1619280" y="3284640"/>
            <a:ext cx="4511520" cy="20095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4"/>
          <p:cNvSpPr txBox="1"/>
          <p:nvPr/>
        </p:nvSpPr>
        <p:spPr>
          <a:xfrm>
            <a:off x="1187280" y="2997360"/>
            <a:ext cx="6831360" cy="11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 могут двигаться спутники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Line 2"/>
          <p:cNvSpPr/>
          <p:nvPr/>
        </p:nvSpPr>
        <p:spPr>
          <a:xfrm>
            <a:off x="971640" y="3357720"/>
            <a:ext cx="0" cy="792000"/>
          </a:xfrm>
          <a:prstGeom prst="line">
            <a:avLst/>
          </a:prstGeom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"/>
          <p:cNvSpPr/>
          <p:nvPr/>
        </p:nvSpPr>
        <p:spPr>
          <a:xfrm>
            <a:off x="826920" y="3213000"/>
            <a:ext cx="289080" cy="289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Траектории движения тел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5"/>
          <p:cNvSpPr/>
          <p:nvPr/>
        </p:nvSpPr>
        <p:spPr>
          <a:xfrm rot="1495200">
            <a:off x="1618920" y="1125000"/>
            <a:ext cx="287280" cy="1008360"/>
          </a:xfrm>
          <a:prstGeom prst="downArrow">
            <a:avLst>
              <a:gd name="adj1" fmla="val 50000"/>
              <a:gd name="adj2" fmla="val 87751"/>
            </a:avLst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4572000" y="1197000"/>
            <a:ext cx="287280" cy="1008000"/>
          </a:xfrm>
          <a:prstGeom prst="downArrow">
            <a:avLst>
              <a:gd name="adj1" fmla="val 50000"/>
              <a:gd name="adj2" fmla="val 87719"/>
            </a:avLst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7"/>
          <p:cNvSpPr/>
          <p:nvPr/>
        </p:nvSpPr>
        <p:spPr>
          <a:xfrm rot="20020800">
            <a:off x="7740720" y="1196640"/>
            <a:ext cx="287280" cy="1008000"/>
          </a:xfrm>
          <a:prstGeom prst="downArrow">
            <a:avLst>
              <a:gd name="adj1" fmla="val 50000"/>
              <a:gd name="adj2" fmla="val 87719"/>
            </a:avLst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8"/>
          <p:cNvSpPr/>
          <p:nvPr/>
        </p:nvSpPr>
        <p:spPr>
          <a:xfrm rot="804600">
            <a:off x="2987640" y="1125360"/>
            <a:ext cx="287280" cy="1008360"/>
          </a:xfrm>
          <a:prstGeom prst="downArrow">
            <a:avLst>
              <a:gd name="adj1" fmla="val 50000"/>
              <a:gd name="adj2" fmla="val 87751"/>
            </a:avLst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042920" y="2349360"/>
            <a:ext cx="93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0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2700360" y="2349360"/>
            <a:ext cx="100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=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4067280" y="2276640"/>
            <a:ext cx="143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&lt; V &lt; 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6012000" y="2276640"/>
            <a:ext cx="863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=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13"/>
          <p:cNvSpPr/>
          <p:nvPr/>
        </p:nvSpPr>
        <p:spPr>
          <a:xfrm rot="20587200">
            <a:off x="6084720" y="1125000"/>
            <a:ext cx="287640" cy="1008360"/>
          </a:xfrm>
          <a:prstGeom prst="downArrow">
            <a:avLst>
              <a:gd name="adj1" fmla="val 50000"/>
              <a:gd name="adj2" fmla="val 87641"/>
            </a:avLst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7667640" y="2276640"/>
            <a:ext cx="93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=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5" descr="earth[1]"/>
          <p:cNvPicPr/>
          <p:nvPr/>
        </p:nvPicPr>
        <p:blipFill>
          <a:blip r:embed="rId1"/>
          <a:stretch/>
        </p:blipFill>
        <p:spPr>
          <a:xfrm>
            <a:off x="250920" y="3933720"/>
            <a:ext cx="1360440" cy="13669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6"/>
          <p:cNvSpPr/>
          <p:nvPr/>
        </p:nvSpPr>
        <p:spPr>
          <a:xfrm>
            <a:off x="468360" y="6093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рямая ли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7" descr="earth[1]"/>
          <p:cNvPicPr/>
          <p:nvPr/>
        </p:nvPicPr>
        <p:blipFill>
          <a:blip r:embed="rId2"/>
          <a:stretch/>
        </p:blipFill>
        <p:spPr>
          <a:xfrm>
            <a:off x="1835280" y="3860640"/>
            <a:ext cx="1433520" cy="1440000"/>
          </a:xfrm>
          <a:prstGeom prst="rect">
            <a:avLst/>
          </a:prstGeom>
          <a:ln w="0">
            <a:noFill/>
          </a:ln>
        </p:spPr>
      </p:pic>
      <p:sp>
        <p:nvSpPr>
          <p:cNvPr id="121" name="Oval 18"/>
          <p:cNvSpPr/>
          <p:nvPr/>
        </p:nvSpPr>
        <p:spPr>
          <a:xfrm>
            <a:off x="2411280" y="3429000"/>
            <a:ext cx="289080" cy="289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9" descr="earth[1]"/>
          <p:cNvPicPr/>
          <p:nvPr/>
        </p:nvPicPr>
        <p:blipFill>
          <a:blip r:embed="rId3"/>
          <a:stretch/>
        </p:blipFill>
        <p:spPr>
          <a:xfrm>
            <a:off x="3851280" y="3860640"/>
            <a:ext cx="1433520" cy="1440000"/>
          </a:xfrm>
          <a:prstGeom prst="rect">
            <a:avLst/>
          </a:prstGeom>
          <a:ln w="0">
            <a:noFill/>
          </a:ln>
        </p:spPr>
      </p:pic>
      <p:sp>
        <p:nvSpPr>
          <p:cNvPr id="123" name="Oval 20"/>
          <p:cNvSpPr/>
          <p:nvPr/>
        </p:nvSpPr>
        <p:spPr>
          <a:xfrm>
            <a:off x="3564000" y="4724280"/>
            <a:ext cx="288720" cy="289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21"/>
          <p:cNvSpPr/>
          <p:nvPr/>
        </p:nvSpPr>
        <p:spPr>
          <a:xfrm>
            <a:off x="6156360" y="3213000"/>
            <a:ext cx="288720" cy="289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22"/>
          <p:cNvSpPr/>
          <p:nvPr/>
        </p:nvSpPr>
        <p:spPr>
          <a:xfrm>
            <a:off x="7308720" y="4076640"/>
            <a:ext cx="1274760" cy="1297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1835280" y="6237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круж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3635280" y="61657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эллип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25"/>
          <p:cNvSpPr/>
          <p:nvPr/>
        </p:nvSpPr>
        <p:spPr>
          <a:xfrm>
            <a:off x="7740720" y="3213000"/>
            <a:ext cx="287280" cy="2872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6"/>
          <p:cNvSpPr/>
          <p:nvPr/>
        </p:nvSpPr>
        <p:spPr>
          <a:xfrm>
            <a:off x="7308720" y="616572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7"/>
          <p:cNvSpPr/>
          <p:nvPr/>
        </p:nvSpPr>
        <p:spPr>
          <a:xfrm>
            <a:off x="7236000" y="623736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гипербо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28"/>
          <p:cNvSpPr/>
          <p:nvPr/>
        </p:nvSpPr>
        <p:spPr>
          <a:xfrm>
            <a:off x="1619280" y="3573360"/>
            <a:ext cx="1873080" cy="1922400"/>
          </a:xfrm>
          <a:prstGeom prst="ellipse">
            <a:avLst/>
          </a:prstGeom>
          <a:noFill/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29"/>
          <p:cNvSpPr/>
          <p:nvPr/>
        </p:nvSpPr>
        <p:spPr>
          <a:xfrm>
            <a:off x="3780000" y="3429000"/>
            <a:ext cx="1584000" cy="2808360"/>
          </a:xfrm>
          <a:prstGeom prst="ellipse">
            <a:avLst/>
          </a:prstGeom>
          <a:noFill/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30"/>
          <p:cNvSpPr/>
          <p:nvPr/>
        </p:nvSpPr>
        <p:spPr>
          <a:xfrm>
            <a:off x="7956720" y="3357720"/>
            <a:ext cx="1152360" cy="1366560"/>
          </a:xfrm>
          <a:custGeom>
            <a:avLst/>
            <a:gdLst>
              <a:gd name="textAreaLeft" fmla="*/ 0 w 1152360"/>
              <a:gd name="textAreaRight" fmla="*/ 1152720 w 1152360"/>
              <a:gd name="textAreaTop" fmla="*/ 0 h 1366560"/>
              <a:gd name="textAreaBottom" fmla="*/ 1366920 h 1366560"/>
            </a:gdLst>
            <a:ahLst/>
            <a:rect l="textAreaLeft" t="textAreaTop" r="textAreaRight" b="textAreaBottom"/>
            <a:pathLst>
              <a:path w="726" h="861">
                <a:moveTo>
                  <a:pt x="0" y="0"/>
                </a:moveTo>
                <a:cubicBezTo>
                  <a:pt x="234" y="132"/>
                  <a:pt x="469" y="264"/>
                  <a:pt x="590" y="408"/>
                </a:cubicBezTo>
                <a:cubicBezTo>
                  <a:pt x="711" y="552"/>
                  <a:pt x="703" y="786"/>
                  <a:pt x="726" y="861"/>
                </a:cubicBezTo>
              </a:path>
            </a:pathLst>
          </a:custGeom>
          <a:noFill/>
          <a:ln w="2844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1" descr="earth[1]"/>
          <p:cNvPicPr/>
          <p:nvPr/>
        </p:nvPicPr>
        <p:blipFill>
          <a:blip r:embed="rId4"/>
          <a:stretch/>
        </p:blipFill>
        <p:spPr>
          <a:xfrm>
            <a:off x="5580000" y="3933720"/>
            <a:ext cx="1433520" cy="1440000"/>
          </a:xfrm>
          <a:prstGeom prst="rect">
            <a:avLst/>
          </a:prstGeom>
          <a:ln w="0">
            <a:noFill/>
          </a:ln>
        </p:spPr>
      </p:pic>
      <p:sp>
        <p:nvSpPr>
          <p:cNvPr id="135" name="Freeform 32"/>
          <p:cNvSpPr/>
          <p:nvPr/>
        </p:nvSpPr>
        <p:spPr>
          <a:xfrm>
            <a:off x="6300720" y="3357720"/>
            <a:ext cx="935280" cy="1584000"/>
          </a:xfrm>
          <a:custGeom>
            <a:avLst/>
            <a:gdLst>
              <a:gd name="textAreaLeft" fmla="*/ 0 w 935280"/>
              <a:gd name="textAreaRight" fmla="*/ 935640 w 935280"/>
              <a:gd name="textAreaTop" fmla="*/ 0 h 1584000"/>
              <a:gd name="textAreaBottom" fmla="*/ 1584360 h 1584000"/>
            </a:gdLst>
            <a:ahLst/>
            <a:rect l="textAreaLeft" t="textAreaTop" r="textAreaRight" b="textAreaBottom"/>
            <a:pathLst>
              <a:path w="726" h="861">
                <a:moveTo>
                  <a:pt x="0" y="0"/>
                </a:moveTo>
                <a:cubicBezTo>
                  <a:pt x="234" y="132"/>
                  <a:pt x="469" y="264"/>
                  <a:pt x="590" y="408"/>
                </a:cubicBezTo>
                <a:cubicBezTo>
                  <a:pt x="711" y="552"/>
                  <a:pt x="703" y="786"/>
                  <a:pt x="726" y="861"/>
                </a:cubicBezTo>
              </a:path>
            </a:pathLst>
          </a:custGeom>
          <a:noFill/>
          <a:ln w="2844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3"/>
          <p:cNvSpPr/>
          <p:nvPr/>
        </p:nvSpPr>
        <p:spPr>
          <a:xfrm>
            <a:off x="5580000" y="6165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 Unicode MS"/>
              </a:rPr>
              <a:t>Парабо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4.81481E-006 L 1.38778E-017 0.1574 E">
                                      <p:cBhvr>
                                        <p:cTn id="9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48148E-006 C 0.05608 -1.48148E-006 0.10191 0.06343 0.10191 0.14167 C 0.10191 0.21968 0.05608 0.28333 -4.16667E-006 0.28333 C -0.05625 0.28333 -0.10191 0.21968 -0.10191 0.14167 C -0.10191 0.06343 -0.05625 -1.48148E-006 -4.16667E-006 -1.48148E-006 Z">
                                      <p:cBhvr>
                                        <p:cTn id="15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22222E-006 C 0.02239 -0.12245 0.05642 -0.19953 0.09409 -0.19953 C 0.13177 -0.19953 0.16579 -0.12245 0.18888 -2.22222E-006 C 0.16579 0.12222 0.13177 0.19954 0.09409 0.19954 C 0.05642 0.19954 0.02239 0.12222 4.44444E-006 -2.22222E-006 Z">
                                      <p:cBhvr>
                                        <p:cTn id="21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33333E-006 C 0.03403 0.01459 0.06806 0.0294 0.08698 0.1007 C 0.10591 0.17223 0.10903 0.35023 0.11354 0.42848 C 0.11806 0.50695 0.11354 0.5426 0.11354 0.57037 C 0.11354 0.59838 0.11354 0.59699 0.11354 0.59561 E">
                                      <p:cBhvr>
                                        <p:cTn id="30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33333E-006 C 0.06615 0.05162 0.13403 0.10602 0.16129 0.19051 C 0.18907 0.2757 0.16129 0.46181 0.16129 0.51042 E">
                                      <p:cBhvr>
                                        <p:cTn id="33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Траектория движения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Вояджер-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3" descr="h26[1]"/>
          <p:cNvPicPr/>
          <p:nvPr/>
        </p:nvPicPr>
        <p:blipFill>
          <a:blip r:embed="rId1"/>
          <a:stretch/>
        </p:blipFill>
        <p:spPr>
          <a:xfrm>
            <a:off x="395280" y="1484280"/>
            <a:ext cx="5299200" cy="50943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 flipV="1">
            <a:off x="6156360" y="2781360"/>
            <a:ext cx="2468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5867280" y="2708280"/>
            <a:ext cx="295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Запущен в 1977год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рошел мимо больших планет. В 1989г аппарат Вояджер вышел за пределы Солнечной систем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Послание внеземным цивилизация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3" descr="33316[1]"/>
          <p:cNvPicPr/>
          <p:nvPr/>
        </p:nvPicPr>
        <p:blipFill>
          <a:blip r:embed="rId1"/>
          <a:stretch/>
        </p:blipFill>
        <p:spPr>
          <a:xfrm>
            <a:off x="6516720" y="1800360"/>
            <a:ext cx="1038240" cy="3257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poslanie[1]"/>
          <p:cNvPicPr/>
          <p:nvPr/>
        </p:nvPicPr>
        <p:blipFill>
          <a:blip r:embed="rId2"/>
          <a:stretch/>
        </p:blipFill>
        <p:spPr>
          <a:xfrm>
            <a:off x="611280" y="1752480"/>
            <a:ext cx="4476600" cy="33530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468360" y="530064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На борту «Вояджер-2» диск с научной информаци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риветствие на 58 языках Земли. Звуки: голоса птиц и зверей, шум моря, дождя, ветра. Произведения Баха, Моцарта…  Виды Земли.  Изображение мужчины и женщин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5"/>
          <p:cNvSpPr txBox="1"/>
          <p:nvPr/>
        </p:nvSpPr>
        <p:spPr>
          <a:xfrm>
            <a:off x="971640" y="1628640"/>
            <a:ext cx="741672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ы гордимся своей страной!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Королев"/>
          <p:cNvPicPr/>
          <p:nvPr/>
        </p:nvPicPr>
        <p:blipFill>
          <a:blip r:embed="rId1"/>
          <a:stretch/>
        </p:blipFill>
        <p:spPr>
          <a:xfrm>
            <a:off x="611280" y="333360"/>
            <a:ext cx="1523880" cy="24987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first_sputnik_3"/>
          <p:cNvPicPr/>
          <p:nvPr/>
        </p:nvPicPr>
        <p:blipFill>
          <a:blip r:embed="rId2"/>
          <a:stretch/>
        </p:blipFill>
        <p:spPr>
          <a:xfrm>
            <a:off x="5940360" y="3716280"/>
            <a:ext cx="2981520" cy="1954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первый спутник"/>
          <p:cNvPicPr/>
          <p:nvPr/>
        </p:nvPicPr>
        <p:blipFill>
          <a:blip r:embed="rId3"/>
          <a:stretch/>
        </p:blipFill>
        <p:spPr>
          <a:xfrm>
            <a:off x="6588000" y="0"/>
            <a:ext cx="2376720" cy="178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первый спутник 1"/>
          <p:cNvPicPr/>
          <p:nvPr/>
        </p:nvPicPr>
        <p:blipFill>
          <a:blip r:embed="rId4"/>
          <a:stretch/>
        </p:blipFill>
        <p:spPr>
          <a:xfrm>
            <a:off x="5508720" y="1844640"/>
            <a:ext cx="2908080" cy="1549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200px-Правда_-_6_октября_1957"/>
          <p:cNvPicPr/>
          <p:nvPr/>
        </p:nvPicPr>
        <p:blipFill>
          <a:blip r:embed="rId5"/>
          <a:stretch/>
        </p:blipFill>
        <p:spPr>
          <a:xfrm>
            <a:off x="2700360" y="333360"/>
            <a:ext cx="2279520" cy="25192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0"/>
          <p:cNvSpPr/>
          <p:nvPr/>
        </p:nvSpPr>
        <p:spPr>
          <a:xfrm>
            <a:off x="3851280" y="515772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ервый искусственный спутник Земли запущен 4 октября 1957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Масса 83,60 к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ериод обращения 96 ми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182520" y="2565360"/>
            <a:ext cx="296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.П. Королё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главный конструк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первый спутник.avi" descr=""/>
          <p:cNvPicPr/>
          <p:nvPr/>
        </p:nvPicPr>
        <p:blipFill>
          <a:blip r:embed="rId6"/>
          <a:stretch/>
        </p:blipFill>
        <p:spPr>
          <a:xfrm>
            <a:off x="539640" y="400536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34560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44802"/>
          <p:cNvPicPr/>
          <p:nvPr/>
        </p:nvPicPr>
        <p:blipFill>
          <a:blip r:embed="rId1"/>
          <a:stretch/>
        </p:blipFill>
        <p:spPr>
          <a:xfrm>
            <a:off x="6804000" y="1268280"/>
            <a:ext cx="1992240" cy="4969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3d_space_019"/>
          <p:cNvPicPr/>
          <p:nvPr/>
        </p:nvPicPr>
        <p:blipFill>
          <a:blip r:embed="rId2"/>
          <a:stretch/>
        </p:blipFill>
        <p:spPr>
          <a:xfrm>
            <a:off x="-10800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фото первого спутника в космосе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160" name="04-Pozyvnye Pervogo Sputnika Zemli.mp3" descr=""/>
          <p:cNvPicPr/>
          <p:nvPr/>
        </p:nvPicPr>
        <p:blipFill>
          <a:blip r:embed="rId2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3100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5"/>
          <p:cNvSpPr txBox="1"/>
          <p:nvPr/>
        </p:nvSpPr>
        <p:spPr>
          <a:xfrm>
            <a:off x="900000" y="2060640"/>
            <a:ext cx="7753320" cy="17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лияние на природу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 ИСЗ оказывают?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мусор в косм"/>
          <p:cNvPicPr/>
          <p:nvPr/>
        </p:nvPicPr>
        <p:blipFill>
          <a:blip r:embed="rId1"/>
          <a:stretch/>
        </p:blipFill>
        <p:spPr>
          <a:xfrm>
            <a:off x="0" y="260280"/>
            <a:ext cx="3809880" cy="29084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7"/>
          <p:cNvSpPr/>
          <p:nvPr/>
        </p:nvSpPr>
        <p:spPr>
          <a:xfrm>
            <a:off x="1547640" y="3141720"/>
            <a:ext cx="6794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а годы  освоения космоса в мире созданы и эксплуатируются более 20 космодромов и ракетных полигонов, сотни боевых ракетных шахт и пусковых установок, всего запущено свыше 6000 космических объектов, из них около 700 в настоящее время эксплуатируются на околоземных орбитах, ежегодно осуществляется около 100 запусков объектов в космос, в которых участвуют более 20 стран.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180px-Debris-GEO1280"/>
          <p:cNvPicPr/>
          <p:nvPr/>
        </p:nvPicPr>
        <p:blipFill>
          <a:blip r:embed="rId1"/>
          <a:stretch/>
        </p:blipFill>
        <p:spPr>
          <a:xfrm>
            <a:off x="0" y="0"/>
            <a:ext cx="3024360" cy="24192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1692360" y="2205000"/>
            <a:ext cx="6827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Исследования, проведенные в последние годы в Институте астрономии РАН и НАСА, привели к выводу, что более 40% космического мусора, находящегося на низких околоземных орбитах, - это осколки, образовавшиеся в результате взрывов вторых ступеней ракет и спутников на орбитах.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4"/>
          <p:cNvSpPr txBox="1"/>
          <p:nvPr/>
        </p:nvSpPr>
        <p:spPr>
          <a:xfrm>
            <a:off x="1476360" y="3144960"/>
            <a:ext cx="6120000" cy="150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 что думают поэты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1229089022_cosmos_7"/>
          <p:cNvPicPr/>
          <p:nvPr/>
        </p:nvPicPr>
        <p:blipFill>
          <a:blip r:embed="rId1"/>
          <a:stretch/>
        </p:blipFill>
        <p:spPr>
          <a:xfrm>
            <a:off x="0" y="2503440"/>
            <a:ext cx="9144000" cy="43545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7"/>
          <p:cNvSpPr/>
          <p:nvPr/>
        </p:nvSpPr>
        <p:spPr>
          <a:xfrm>
            <a:off x="0" y="0"/>
            <a:ext cx="806616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Преодолев земное притяженье,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Ракета от Земли оторвалась…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И не было счастливее мгновенья –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Здесь новая эпоха начала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Ступень… вторая… Третья отделилась,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Сгорая в атмосфере без следа…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А над Землей внезапно появилась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Стремительно летящая звез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И Человечество застыло в изумленье: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Летящий в небе серебристый шар -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Рук человеческих великое творенье -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Был послан от Земли Вселенной в дар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4"/>
          <p:cNvSpPr/>
          <p:nvPr/>
        </p:nvSpPr>
        <p:spPr>
          <a:xfrm>
            <a:off x="8280360" y="5994360"/>
            <a:ext cx="863640" cy="863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8" descr="r7"/>
          <p:cNvPicPr/>
          <p:nvPr/>
        </p:nvPicPr>
        <p:blipFill>
          <a:blip r:embed="rId1"/>
          <a:stretch/>
        </p:blipFill>
        <p:spPr>
          <a:xfrm>
            <a:off x="6659640" y="2060640"/>
            <a:ext cx="2077920" cy="1386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112"/>
          <p:cNvPicPr/>
          <p:nvPr/>
        </p:nvPicPr>
        <p:blipFill>
          <a:blip r:embed="rId2"/>
          <a:stretch/>
        </p:blipFill>
        <p:spPr>
          <a:xfrm>
            <a:off x="539640" y="4292640"/>
            <a:ext cx="2159280" cy="21589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4"/>
          <p:cNvSpPr txBox="1"/>
          <p:nvPr/>
        </p:nvSpPr>
        <p:spPr>
          <a:xfrm>
            <a:off x="611280" y="1413000"/>
            <a:ext cx="6408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0" name="Picture 5" descr="78a4fa568606"/>
          <p:cNvPicPr/>
          <p:nvPr/>
        </p:nvPicPr>
        <p:blipFill>
          <a:blip r:embed="rId3"/>
          <a:stretch/>
        </p:blipFill>
        <p:spPr>
          <a:xfrm>
            <a:off x="684360" y="2637000"/>
            <a:ext cx="5715000" cy="3876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File010"/>
          <p:cNvPicPr/>
          <p:nvPr/>
        </p:nvPicPr>
        <p:blipFill>
          <a:blip r:embed="rId4"/>
          <a:stretch/>
        </p:blipFill>
        <p:spPr>
          <a:xfrm>
            <a:off x="7236000" y="189000"/>
            <a:ext cx="1771560" cy="2219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backgrounds_00034"/>
          <p:cNvPicPr/>
          <p:nvPr/>
        </p:nvPicPr>
        <p:blipFill>
          <a:blip r:embed="rId5"/>
          <a:stretch/>
        </p:blipFill>
        <p:spPr>
          <a:xfrm>
            <a:off x="6518160" y="2421000"/>
            <a:ext cx="2625840" cy="1969920"/>
          </a:xfrm>
          <a:prstGeom prst="rect">
            <a:avLst/>
          </a:prstGeom>
          <a:ln w="0">
            <a:noFill/>
          </a:ln>
        </p:spPr>
      </p:pic>
      <p:pic>
        <p:nvPicPr>
          <p:cNvPr id="183" name="Владимир Трошин_-_Четырнадцать минут до старта.mp3" descr=""/>
          <p:cNvPicPr/>
          <p:nvPr/>
        </p:nvPicPr>
        <p:blipFill>
          <a:blip r:embed="rId6"/>
          <a:stretch/>
        </p:blipFill>
        <p:spPr>
          <a:xfrm>
            <a:off x="8532720" y="6626160"/>
            <a:ext cx="231840" cy="23184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03647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>
            <a:off x="1332000" y="2060640"/>
            <a:ext cx="6845040" cy="12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ими могут быть спутники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776px-Milstar"/>
          <p:cNvPicPr/>
          <p:nvPr/>
        </p:nvPicPr>
        <p:blipFill>
          <a:blip r:embed="rId1"/>
          <a:stretch/>
        </p:blipFill>
        <p:spPr>
          <a:xfrm>
            <a:off x="324000" y="189000"/>
            <a:ext cx="3547800" cy="274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800px-GOES_8_Spac0255"/>
          <p:cNvPicPr/>
          <p:nvPr/>
        </p:nvPicPr>
        <p:blipFill>
          <a:blip r:embed="rId2"/>
          <a:stretch/>
        </p:blipFill>
        <p:spPr>
          <a:xfrm>
            <a:off x="6372360" y="404640"/>
            <a:ext cx="2125440" cy="1378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290479407"/>
          <p:cNvPicPr/>
          <p:nvPr/>
        </p:nvPicPr>
        <p:blipFill>
          <a:blip r:embed="rId3"/>
          <a:stretch/>
        </p:blipFill>
        <p:spPr>
          <a:xfrm>
            <a:off x="5148360" y="2349360"/>
            <a:ext cx="3679560" cy="2178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1229089022_cosmos_7"/>
          <p:cNvPicPr/>
          <p:nvPr/>
        </p:nvPicPr>
        <p:blipFill>
          <a:blip r:embed="rId4"/>
          <a:stretch/>
        </p:blipFill>
        <p:spPr>
          <a:xfrm>
            <a:off x="179280" y="3860640"/>
            <a:ext cx="2791080" cy="2232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Скайлэб 1974"/>
          <p:cNvPicPr/>
          <p:nvPr/>
        </p:nvPicPr>
        <p:blipFill>
          <a:blip r:embed="rId5"/>
          <a:stretch/>
        </p:blipFill>
        <p:spPr>
          <a:xfrm>
            <a:off x="3635280" y="5084640"/>
            <a:ext cx="1571760" cy="162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сша - авангард-2"/>
          <p:cNvPicPr/>
          <p:nvPr/>
        </p:nvPicPr>
        <p:blipFill>
          <a:blip r:embed="rId6"/>
          <a:stretch/>
        </p:blipFill>
        <p:spPr>
          <a:xfrm>
            <a:off x="6084720" y="4724280"/>
            <a:ext cx="24768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Первый полет человека в космо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gagarin[1]"/>
          <p:cNvPicPr/>
          <p:nvPr/>
        </p:nvPicPr>
        <p:blipFill>
          <a:blip r:embed="rId1"/>
          <a:stretch/>
        </p:blipFill>
        <p:spPr>
          <a:xfrm>
            <a:off x="684360" y="1916280"/>
            <a:ext cx="2884320" cy="40575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4572000" y="1557360"/>
            <a:ext cx="38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12 апреля 1961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Ю.А. Гагарин. СССР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7[2]"/>
          <p:cNvPicPr/>
          <p:nvPr/>
        </p:nvPicPr>
        <p:blipFill>
          <a:blip r:embed="rId2"/>
          <a:stretch/>
        </p:blipFill>
        <p:spPr>
          <a:xfrm>
            <a:off x="5940360" y="2997360"/>
            <a:ext cx="2063880" cy="3127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5219640" y="60213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т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GLONASS_html_m19644972"/>
          <p:cNvPicPr/>
          <p:nvPr/>
        </p:nvPicPr>
        <p:blipFill>
          <a:blip r:embed="rId1"/>
          <a:stretch/>
        </p:blipFill>
        <p:spPr>
          <a:xfrm>
            <a:off x="324000" y="1989000"/>
            <a:ext cx="2798640" cy="3489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GLONASS_html_m363924f5"/>
          <p:cNvPicPr/>
          <p:nvPr/>
        </p:nvPicPr>
        <p:blipFill>
          <a:blip r:embed="rId2"/>
          <a:stretch/>
        </p:blipFill>
        <p:spPr>
          <a:xfrm>
            <a:off x="5508720" y="18900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75" name="WordArt 6"/>
          <p:cNvSpPr txBox="1"/>
          <p:nvPr/>
        </p:nvSpPr>
        <p:spPr>
          <a:xfrm>
            <a:off x="4067280" y="3357720"/>
            <a:ext cx="3943080" cy="25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утниковая система </a:t>
            </a:r>
            <a:endParaRPr b="0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Глонасс" </a:t>
            </a:r>
            <a:endParaRPr b="0" lang="en-US" sz="3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будущем будет</a:t>
            </a:r>
            <a:endParaRPr b="0" lang="en-US" sz="32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считывать </a:t>
            </a:r>
            <a:endParaRPr b="0" lang="en-US" sz="32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оло 30 спутников</a:t>
            </a:r>
            <a:endParaRPr b="0" lang="en-US" sz="32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4"/>
          <p:cNvSpPr txBox="1"/>
          <p:nvPr/>
        </p:nvSpPr>
        <p:spPr>
          <a:xfrm>
            <a:off x="1187280" y="1125360"/>
            <a:ext cx="51850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кеты, ракеты..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ples"/>
          <p:cNvPicPr/>
          <p:nvPr/>
        </p:nvPicPr>
        <p:blipFill>
          <a:blip r:embed="rId1"/>
          <a:stretch/>
        </p:blipFill>
        <p:spPr>
          <a:xfrm>
            <a:off x="324000" y="1197000"/>
            <a:ext cx="8051760" cy="47908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830160" y="620640"/>
            <a:ext cx="69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асположение объектов на космодроме Плесец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1406160" y="6035760"/>
            <a:ext cx="557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начало космической биографии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17 марта 1966 года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в 13 часов 2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минут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Плесецк зимой"/>
          <p:cNvPicPr/>
          <p:nvPr/>
        </p:nvPicPr>
        <p:blipFill>
          <a:blip r:embed="rId1"/>
          <a:stretch/>
        </p:blipFill>
        <p:spPr>
          <a:xfrm>
            <a:off x="324000" y="69228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1262520" y="5734080"/>
            <a:ext cx="636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усковая установка на космодроме Плесец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13T12:41:25Z</dcterms:modified>
  <cp:revision>30</cp:revision>
  <dc:subject/>
  <dc:title>Искусственные спутники Земл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13000000000001024140</vt:lpwstr>
  </property>
</Properties>
</file>