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gif" ContentType="image/gif"/>
  <Override PartName="/ppt/media/image1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18.png" ContentType="image/png"/>
  <Override PartName="/ppt/media/image6.jpeg" ContentType="image/jpeg"/>
  <Override PartName="/ppt/media/image43.jpeg" ContentType="image/jpeg"/>
  <Override PartName="/ppt/media/image47.gif" ContentType="image/gif"/>
  <Override PartName="/ppt/media/image30.jpeg" ContentType="image/jpeg"/>
  <Override PartName="/ppt/media/image48.gif" ContentType="image/gif"/>
  <Override PartName="/ppt/media/image50.gif" ContentType="image/gif"/>
  <Override PartName="/ppt/media/image53.png" ContentType="image/png"/>
  <Override PartName="/ppt/media/image52.gif" ContentType="image/gif"/>
  <Override PartName="/ppt/media/image45.png" ContentType="image/png"/>
  <Override PartName="/ppt/media/image44.jpeg" ContentType="image/jpeg"/>
  <Override PartName="/ppt/media/image49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14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E190-6055-4EC5-9C85-9D51CCA519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кусственные спутник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B86F-CBD3-4DD5-BD92-A8E9C25425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полёта нужно знать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D769-F791-44D8-8D8F-E784BB90DF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6AF7-CB4F-4DD7-BEEF-0E53846B07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BEC1-7D34-40B0-86C1-6A5E650FE0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AFA-17C8-4BF5-BF45-E2066A3E8F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 могут двигаться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85B3-1DF0-49B5-AA43-85BC9E1DB7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2206-FB26-4459-BE43-F652612B5F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13E3-23F7-40C2-AC9C-D7431F6D2E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E889-0BD0-431C-9046-A5DC5802F2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ы гордимся своей страно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FC2-2C87-41A0-82C2-2AF76FB974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38C-C647-417D-9F2D-6D5BF2E0E3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лияние на прир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- ИСЗ оказываю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F46E-E33A-4DF8-9248-C3C2AF72CE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514A-EFAB-4422-8DAC-53FB1B5DC6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4C49-BA9F-413B-941B-3708718CD1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 что думают поэ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4BE8-9543-4461-AB26-796BAAB7F9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EDA-9AFE-4871-AD97-59898F5779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CA8E-5E9F-4DF2-9E1E-647DD6D860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ими могут быть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7FDF-FFC4-4FAC-BD7A-2EF837EC44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7A75-98CB-4E63-ABE8-D347734CA3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путниковая систе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"Глонасс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 будущем буд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насчиты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коло 30 спу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7376-03A3-4DDC-BB13-E192DACDF8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акеты, ракеты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C49C-1882-41CC-A197-D3C8D4772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75F6-5B2E-4989-A4BC-067384F2A4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D859-813B-4BDF-9D96-A5EFBB8D55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88C-1D9D-4215-8977-0A1CEF0D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630-A1DB-438B-93DE-3D413AC2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706-CBE8-4935-9AAA-6200F3B6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386-8590-4E0C-A540-7D524144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8DB-CC8E-4CEB-90A4-E26A36CF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AAF-CB1A-4682-8934-A7766853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47D-BB49-4447-BC48-F4C4166C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C7B-27D0-4B64-AA32-8135D75F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CD7-FC83-4C60-B980-885DDDB7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A13-91E3-4019-8892-1D2503E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539-007D-497F-8CDD-19C3281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1EB-DF19-4A22-8726-C134F85F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E4DC-5C52-4DFE-92F1-29EBC07953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052640"/>
            <a:ext cx="64962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усственные спутники Зем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i"/>
          <p:cNvPicPr/>
          <p:nvPr/>
        </p:nvPicPr>
        <p:blipFill>
          <a:blip r:embed="rId1"/>
          <a:stretch/>
        </p:blipFill>
        <p:spPr>
          <a:xfrm>
            <a:off x="179280" y="3357720"/>
            <a:ext cx="2016360" cy="150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42501"/>
          <p:cNvPicPr/>
          <p:nvPr/>
        </p:nvPicPr>
        <p:blipFill>
          <a:blip r:embed="rId2"/>
          <a:stretch/>
        </p:blipFill>
        <p:spPr>
          <a:xfrm>
            <a:off x="0" y="0"/>
            <a:ext cx="2158920" cy="15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sz1museumrkke"/>
          <p:cNvPicPr/>
          <p:nvPr/>
        </p:nvPicPr>
        <p:blipFill>
          <a:blip r:embed="rId3"/>
          <a:stretch/>
        </p:blipFill>
        <p:spPr>
          <a:xfrm>
            <a:off x="6877080" y="2637000"/>
            <a:ext cx="2060640" cy="27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LONASS_html_m363924f5"/>
          <p:cNvPicPr/>
          <p:nvPr/>
        </p:nvPicPr>
        <p:blipFill>
          <a:blip r:embed="rId4"/>
          <a:stretch/>
        </p:blipFill>
        <p:spPr>
          <a:xfrm>
            <a:off x="6948360" y="260280"/>
            <a:ext cx="1947960" cy="194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59120" y="44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684360" y="1844640"/>
            <a:ext cx="581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полёта нужно знать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279600" y="2465280"/>
            <a:ext cx="206856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968400" y="4037040"/>
            <a:ext cx="7240680" cy="11574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38360" y="3940200"/>
            <a:ext cx="108000" cy="19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468600" cy="1149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195640" y="5445000"/>
            <a:ext cx="356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1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,2 км/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1600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55736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59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511520" cy="20095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187280" y="2997360"/>
            <a:ext cx="68313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огут двигаться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971640" y="3357720"/>
            <a:ext cx="0" cy="792000"/>
          </a:xfrm>
          <a:prstGeom prst="line">
            <a:avLst/>
          </a:prstGeom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826920" y="3213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495200">
            <a:off x="1618920" y="112500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572000" y="1197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20020800">
            <a:off x="7740720" y="119664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804600">
            <a:off x="2987640" y="112536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042920" y="2349360"/>
            <a:ext cx="9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700360" y="234936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67280" y="2276640"/>
            <a:ext cx="14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V &lt;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12000" y="2276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 rot="20587200">
            <a:off x="6084720" y="1125000"/>
            <a:ext cx="287640" cy="1008360"/>
          </a:xfrm>
          <a:prstGeom prst="downArrow">
            <a:avLst>
              <a:gd name="adj1" fmla="val 50000"/>
              <a:gd name="adj2" fmla="val 8764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66764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earth[1]"/>
          <p:cNvPicPr/>
          <p:nvPr/>
        </p:nvPicPr>
        <p:blipFill>
          <a:blip r:embed="rId1"/>
          <a:stretch/>
        </p:blipFill>
        <p:spPr>
          <a:xfrm>
            <a:off x="250920" y="3933720"/>
            <a:ext cx="13604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468360" y="609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7" descr="earth[1]"/>
          <p:cNvPicPr/>
          <p:nvPr/>
        </p:nvPicPr>
        <p:blipFill>
          <a:blip r:embed="rId2"/>
          <a:stretch/>
        </p:blipFill>
        <p:spPr>
          <a:xfrm>
            <a:off x="1835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1" name="Oval 18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9" descr="earth[1]"/>
          <p:cNvPicPr/>
          <p:nvPr/>
        </p:nvPicPr>
        <p:blipFill>
          <a:blip r:embed="rId3"/>
          <a:stretch/>
        </p:blipFill>
        <p:spPr>
          <a:xfrm>
            <a:off x="3851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Oval 20"/>
          <p:cNvSpPr/>
          <p:nvPr/>
        </p:nvSpPr>
        <p:spPr>
          <a:xfrm>
            <a:off x="3564000" y="472428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156360" y="321300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08720" y="4076640"/>
            <a:ext cx="127476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835280" y="623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3528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40720" y="3213000"/>
            <a:ext cx="2872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308720" y="6165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236000" y="6237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1619280" y="3573360"/>
            <a:ext cx="1873080" cy="192240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780000" y="3429000"/>
            <a:ext cx="1584000" cy="280836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7956720" y="3357720"/>
            <a:ext cx="1152360" cy="13665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366560"/>
              <a:gd name="textAreaBottom" fmla="*/ 1366920 h 136656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earth[1]"/>
          <p:cNvPicPr/>
          <p:nvPr/>
        </p:nvPicPr>
        <p:blipFill>
          <a:blip r:embed="rId4"/>
          <a:stretch/>
        </p:blipFill>
        <p:spPr>
          <a:xfrm>
            <a:off x="5580000" y="393372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35" name="Freeform 32"/>
          <p:cNvSpPr/>
          <p:nvPr/>
        </p:nvSpPr>
        <p:spPr>
          <a:xfrm>
            <a:off x="6300720" y="3357720"/>
            <a:ext cx="935280" cy="1584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81481E-006 L 1.38778E-017 0.1574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C 0.05608 -1.48148E-006 0.10191 0.06343 0.10191 0.14167 C 0.10191 0.21968 0.05608 0.28333 -4.16667E-006 0.28333 C -0.05625 0.28333 -0.10191 0.21968 -0.10191 0.14167 C -0.10191 0.06343 -0.05625 -1.48148E-006 -4.16667E-006 -1.48148E-006 Z">
                                      <p:cBhvr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C 0.02239 -0.12245 0.05642 -0.19953 0.09409 -0.19953 C 0.13177 -0.19953 0.16579 -0.12245 0.18888 -2.22222E-006 C 0.16579 0.12222 0.13177 0.19954 0.09409 0.19954 C 0.05642 0.19954 0.02239 0.12222 4.44444E-006 -2.22222E-006 Z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0.03403 0.01459 0.06806 0.0294 0.08698 0.1007 C 0.10591 0.17223 0.10903 0.35023 0.11354 0.42848 C 0.11806 0.50695 0.11354 0.5426 0.11354 0.57037 C 0.11354 0.59838 0.11354 0.59699 0.11354 0.59561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C 0.06615 0.05162 0.13403 0.10602 0.16129 0.19051 C 0.18907 0.2757 0.16129 0.46181 0.16129 0.51042 E">
                                      <p:cBhvr>
                                        <p:cTn id="3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h26[1]"/>
          <p:cNvPicPr/>
          <p:nvPr/>
        </p:nvPicPr>
        <p:blipFill>
          <a:blip r:embed="rId1"/>
          <a:stretch/>
        </p:blipFill>
        <p:spPr>
          <a:xfrm>
            <a:off x="395280" y="1484280"/>
            <a:ext cx="5299200" cy="5094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 flipV="1">
            <a:off x="6156360" y="27813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867280" y="2708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33316[1]"/>
          <p:cNvPicPr/>
          <p:nvPr/>
        </p:nvPicPr>
        <p:blipFill>
          <a:blip r:embed="rId1"/>
          <a:stretch/>
        </p:blipFill>
        <p:spPr>
          <a:xfrm>
            <a:off x="6516720" y="1800360"/>
            <a:ext cx="1038240" cy="32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poslanie[1]"/>
          <p:cNvPicPr/>
          <p:nvPr/>
        </p:nvPicPr>
        <p:blipFill>
          <a:blip r:embed="rId2"/>
          <a:stretch/>
        </p:blipFill>
        <p:spPr>
          <a:xfrm>
            <a:off x="611280" y="1752480"/>
            <a:ext cx="4476600" cy="3353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68360" y="5300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971640" y="1628640"/>
            <a:ext cx="741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гордимся своей страной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оролев"/>
          <p:cNvPicPr/>
          <p:nvPr/>
        </p:nvPicPr>
        <p:blipFill>
          <a:blip r:embed="rId1"/>
          <a:stretch/>
        </p:blipFill>
        <p:spPr>
          <a:xfrm>
            <a:off x="611280" y="333360"/>
            <a:ext cx="1523880" cy="249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first_sputnik_3"/>
          <p:cNvPicPr/>
          <p:nvPr/>
        </p:nvPicPr>
        <p:blipFill>
          <a:blip r:embed="rId2"/>
          <a:stretch/>
        </p:blipFill>
        <p:spPr>
          <a:xfrm>
            <a:off x="5940360" y="3716280"/>
            <a:ext cx="2981520" cy="195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первый спутник"/>
          <p:cNvPicPr/>
          <p:nvPr/>
        </p:nvPicPr>
        <p:blipFill>
          <a:blip r:embed="rId3"/>
          <a:stretch/>
        </p:blipFill>
        <p:spPr>
          <a:xfrm>
            <a:off x="658800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первый спутник 1"/>
          <p:cNvPicPr/>
          <p:nvPr/>
        </p:nvPicPr>
        <p:blipFill>
          <a:blip r:embed="rId4"/>
          <a:stretch/>
        </p:blipFill>
        <p:spPr>
          <a:xfrm>
            <a:off x="5508720" y="1844640"/>
            <a:ext cx="290808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00px-Правда_-_6_октября_1957"/>
          <p:cNvPicPr/>
          <p:nvPr/>
        </p:nvPicPr>
        <p:blipFill>
          <a:blip r:embed="rId5"/>
          <a:stretch/>
        </p:blipFill>
        <p:spPr>
          <a:xfrm>
            <a:off x="2700360" y="333360"/>
            <a:ext cx="227952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3851280" y="5157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82520" y="256536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первый спутник.avi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456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44802"/>
          <p:cNvPicPr/>
          <p:nvPr/>
        </p:nvPicPr>
        <p:blipFill>
          <a:blip r:embed="rId1"/>
          <a:stretch/>
        </p:blipFill>
        <p:spPr>
          <a:xfrm>
            <a:off x="6804000" y="1268280"/>
            <a:ext cx="1992240" cy="496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d_space_019"/>
          <p:cNvPicPr/>
          <p:nvPr/>
        </p:nvPicPr>
        <p:blipFill>
          <a:blip r:embed="rId2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фото первого спутника в косм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60" name="04-Pozyvnye Pervogo Sputnika Zemli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1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00000" y="2060640"/>
            <a:ext cx="77533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на природ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ИСЗ оказывают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мусор в косм"/>
          <p:cNvPicPr/>
          <p:nvPr/>
        </p:nvPicPr>
        <p:blipFill>
          <a:blip r:embed="rId1"/>
          <a:stretch/>
        </p:blipFill>
        <p:spPr>
          <a:xfrm>
            <a:off x="0" y="260280"/>
            <a:ext cx="3809880" cy="2908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547640" y="3141720"/>
            <a:ext cx="67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180px-Debris-GEO1280"/>
          <p:cNvPicPr/>
          <p:nvPr/>
        </p:nvPicPr>
        <p:blipFill>
          <a:blip r:embed="rId1"/>
          <a:stretch/>
        </p:blipFill>
        <p:spPr>
          <a:xfrm>
            <a:off x="0" y="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692360" y="2205000"/>
            <a:ext cx="682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476360" y="3144960"/>
            <a:ext cx="612000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что думают поэты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1229089022_cosmos_7"/>
          <p:cNvPicPr/>
          <p:nvPr/>
        </p:nvPicPr>
        <p:blipFill>
          <a:blip r:embed="rId1"/>
          <a:stretch/>
        </p:blipFill>
        <p:spPr>
          <a:xfrm>
            <a:off x="0" y="2503440"/>
            <a:ext cx="9144000" cy="4354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0"/>
            <a:ext cx="8066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280360" y="5994360"/>
            <a:ext cx="86364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r7"/>
          <p:cNvPicPr/>
          <p:nvPr/>
        </p:nvPicPr>
        <p:blipFill>
          <a:blip r:embed="rId1"/>
          <a:stretch/>
        </p:blipFill>
        <p:spPr>
          <a:xfrm>
            <a:off x="6659640" y="2060640"/>
            <a:ext cx="2077920" cy="13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112"/>
          <p:cNvPicPr/>
          <p:nvPr/>
        </p:nvPicPr>
        <p:blipFill>
          <a:blip r:embed="rId2"/>
          <a:stretch/>
        </p:blipFill>
        <p:spPr>
          <a:xfrm>
            <a:off x="539640" y="429264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11280" y="141300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78a4fa568606"/>
          <p:cNvPicPr/>
          <p:nvPr/>
        </p:nvPicPr>
        <p:blipFill>
          <a:blip r:embed="rId3"/>
          <a:stretch/>
        </p:blipFill>
        <p:spPr>
          <a:xfrm>
            <a:off x="684360" y="2637000"/>
            <a:ext cx="5715000" cy="38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ile010"/>
          <p:cNvPicPr/>
          <p:nvPr/>
        </p:nvPicPr>
        <p:blipFill>
          <a:blip r:embed="rId4"/>
          <a:stretch/>
        </p:blipFill>
        <p:spPr>
          <a:xfrm>
            <a:off x="7236000" y="189000"/>
            <a:ext cx="1771560" cy="221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ackgrounds_00034"/>
          <p:cNvPicPr/>
          <p:nvPr/>
        </p:nvPicPr>
        <p:blipFill>
          <a:blip r:embed="rId5"/>
          <a:stretch/>
        </p:blipFill>
        <p:spPr>
          <a:xfrm>
            <a:off x="6518160" y="242100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83" name="Владимир Трошин_-_Четырнадцать минут до старта.mp3" descr=""/>
          <p:cNvPicPr/>
          <p:nvPr/>
        </p:nvPicPr>
        <p:blipFill>
          <a:blip r:embed="rId6"/>
          <a:stretch/>
        </p:blipFill>
        <p:spPr>
          <a:xfrm>
            <a:off x="8532720" y="66261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64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2060640"/>
            <a:ext cx="68450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ми могут быть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76px-Milstar"/>
          <p:cNvPicPr/>
          <p:nvPr/>
        </p:nvPicPr>
        <p:blipFill>
          <a:blip r:embed="rId1"/>
          <a:stretch/>
        </p:blipFill>
        <p:spPr>
          <a:xfrm>
            <a:off x="324000" y="189000"/>
            <a:ext cx="3547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00px-GOES_8_Spac0255"/>
          <p:cNvPicPr/>
          <p:nvPr/>
        </p:nvPicPr>
        <p:blipFill>
          <a:blip r:embed="rId2"/>
          <a:stretch/>
        </p:blipFill>
        <p:spPr>
          <a:xfrm>
            <a:off x="6372360" y="404640"/>
            <a:ext cx="2125440" cy="13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90479407"/>
          <p:cNvPicPr/>
          <p:nvPr/>
        </p:nvPicPr>
        <p:blipFill>
          <a:blip r:embed="rId3"/>
          <a:stretch/>
        </p:blipFill>
        <p:spPr>
          <a:xfrm>
            <a:off x="5148360" y="2349360"/>
            <a:ext cx="3679560" cy="21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29089022_cosmos_7"/>
          <p:cNvPicPr/>
          <p:nvPr/>
        </p:nvPicPr>
        <p:blipFill>
          <a:blip r:embed="rId4"/>
          <a:stretch/>
        </p:blipFill>
        <p:spPr>
          <a:xfrm>
            <a:off x="179280" y="3860640"/>
            <a:ext cx="2791080" cy="22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Скайлэб 1974"/>
          <p:cNvPicPr/>
          <p:nvPr/>
        </p:nvPicPr>
        <p:blipFill>
          <a:blip r:embed="rId5"/>
          <a:stretch/>
        </p:blipFill>
        <p:spPr>
          <a:xfrm>
            <a:off x="3635280" y="5084640"/>
            <a:ext cx="157176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сша - авангард-2"/>
          <p:cNvPicPr/>
          <p:nvPr/>
        </p:nvPicPr>
        <p:blipFill>
          <a:blip r:embed="rId6"/>
          <a:stretch/>
        </p:blipFill>
        <p:spPr>
          <a:xfrm>
            <a:off x="6084720" y="4724280"/>
            <a:ext cx="2476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gagarin[1]"/>
          <p:cNvPicPr/>
          <p:nvPr/>
        </p:nvPicPr>
        <p:blipFill>
          <a:blip r:embed="rId1"/>
          <a:stretch/>
        </p:blipFill>
        <p:spPr>
          <a:xfrm>
            <a:off x="684360" y="1916280"/>
            <a:ext cx="288432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572000" y="1557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2 апреля 196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.А. Гагарин. СССР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7[2]"/>
          <p:cNvPicPr/>
          <p:nvPr/>
        </p:nvPicPr>
        <p:blipFill>
          <a:blip r:embed="rId2"/>
          <a:stretch/>
        </p:blipFill>
        <p:spPr>
          <a:xfrm>
            <a:off x="5940360" y="2997360"/>
            <a:ext cx="2063880" cy="312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219640" y="6021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LONASS_html_m19644972"/>
          <p:cNvPicPr/>
          <p:nvPr/>
        </p:nvPicPr>
        <p:blipFill>
          <a:blip r:embed="rId1"/>
          <a:stretch/>
        </p:blipFill>
        <p:spPr>
          <a:xfrm>
            <a:off x="324000" y="1989000"/>
            <a:ext cx="2798640" cy="348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LONASS_html_m363924f5"/>
          <p:cNvPicPr/>
          <p:nvPr/>
        </p:nvPicPr>
        <p:blipFill>
          <a:blip r:embed="rId2"/>
          <a:stretch/>
        </p:blipFill>
        <p:spPr>
          <a:xfrm>
            <a:off x="5508720" y="18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4067280" y="3357720"/>
            <a:ext cx="39430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утниковая система 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лонасс" 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будущем будет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читывать </a:t>
            </a:r>
            <a:endParaRPr b="0" lang="en-US" sz="32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оло 30 спутников</a:t>
            </a:r>
            <a:endParaRPr b="0" lang="en-US" sz="32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187280" y="1125360"/>
            <a:ext cx="51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кеты, ракеты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les"/>
          <p:cNvPicPr/>
          <p:nvPr/>
        </p:nvPicPr>
        <p:blipFill>
          <a:blip r:embed="rId1"/>
          <a:stretch/>
        </p:blipFill>
        <p:spPr>
          <a:xfrm>
            <a:off x="324000" y="1197000"/>
            <a:ext cx="8051760" cy="4790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30160" y="62064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6160" y="60357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Плесецк зимой"/>
          <p:cNvPicPr/>
          <p:nvPr/>
        </p:nvPicPr>
        <p:blipFill>
          <a:blip r:embed="rId1"/>
          <a:stretch/>
        </p:blipFill>
        <p:spPr>
          <a:xfrm>
            <a:off x="324000" y="692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262520" y="5734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1:25Z</dcterms:modified>
  <cp:revision>30</cp:revision>
  <dc:subject/>
  <dc:title>Искусственные спутники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3000000000001024140</vt:lpwstr>
  </property>
</Properties>
</file>