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DB85-6E8E-48E7-8F36-F361CBB8A4E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BD3A-F7A5-491E-A028-952B57326B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ические особ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тивные эмоции, повышенная внушаем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дность воображ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ожательная и автоматическая деяте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одних повышенное настроение, суетлив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других - двигательная заторможе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злич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ы выполнять простые виды раб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ьше могут, чем знают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6A62-7B57-4CFC-B4D5-5E6C2D5240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врологические 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истагм, парез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изорефлексия, шаткость походки, атаксии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численные нейроэндокринные и сомат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ские аномал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задержка роста, микроцеф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мышечная гипотония, кератит, волч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ть, врожденные пороки сердца и дистроф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тчатки, гипотиреоз, гипогенитализм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ые органы неразвиты, вторичные полов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выражены слабо. Менструации у девоч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яются поздно, нерегулярные, рано наступ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опауза. Половая активность снижена, поэт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мства больные, как правило, не име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B5AA-1B04-4BD3-AFCC-8E5A311417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Клайнфелт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бор половых хромосом X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писан в 1942 году Х. В. Клайнфельте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индром мужскогo гипогонади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зникают чаще в результате оплодотво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еррантной ХХ яйцеклетк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рмием, имеющим Y-хромос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2-2,5 случая на 1000 новорожденных мальч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является синдромом полового недо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е X-Y полисомии у лиц мужского по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7 - XXY;        47 - XYY;        48 - XXXY;      48 - XYYY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8 - XXYY;      49 - XXXXY;   49 - XXXY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8240-CABE-4045-86AD-6CC1B4AAE7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ая выявляется в пубертатном период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рост, астеническая конституция (уз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ечи, широкий таз, слаборазвитая мускулатур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генитализм (скудная растительность на лиц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некомастия). Хотя наружные половые орг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ого типа и половая функция у молод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ей сохраняется, продолжение рода чащ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невозможно вследствие атрофии семе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льцев и аспермии. Около 20% муж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лодия имеют в основе синдром Клайнфел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4832-AC4A-48C6-A40E-D7919E5337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имеется некоторая задерж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ственного развития, вялость, инерт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ность, отсутствие должного интере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кружающему, склонность к аффек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яются и небольшие орган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- частичный птоз, нистагмои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изорефлексия, миопия, астигматизм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4282-C558-4F16-8FAC-FD7735FDA3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7D32-6771-4B4D-AF81-4AB46CABCF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8381-8D6E-472B-AC8E-1EE39AE388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омосомные болезни - 1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уна, Клайнфелтер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ерешевского-Тернера и д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омные болезни - 3-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ессивная мышечная дистроф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ейные атаксии, дрожа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лич, миотония, хорея Гентингтон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пато-церебральная дистроф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астическая параплегия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-2% всех заболеваний нервной сист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5D19-2319-496E-8891-564FAA20B2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ота клинических проявлен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рослость - 98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авильное телосложение - 92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чкообразная грудная клетка - 75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орочение шеи - 63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й рост волос на шее - 57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е «готическое» нёбо - 5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ыловидные складки кожи в области шеи - 4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ормация ушных раковин - 4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орочение костей и аплазия фаланг - 4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ормация локтевых суставов - 3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жественные пигментные родинки - 35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остаз - 24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ки сердца и крупных сосудов - 22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ое артериальное давление - 17 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E8FF-1A7C-432C-A562-EE470EFC48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ече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мосомных болезней начинают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ком возрасте: общеукрепляющие (аминало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ребролизин, ноотропил), анаболические стер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етаболил), в пубертатном возрасте – половые горм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индроме Клайнфелтера - тестостерона пропиона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1 мл 1% раствора 1 - 3 раза в неделю или тетрастер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устанон) по 1 мл в/м 1 раз в месяц. При синдро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решевского-Тернера - этинилэстрадиол, микрофолл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0,00015 г и прегнин по 0,03 r в день, циклами 16 и 7 д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уменьшает нервно-психические и вегетатив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мональные расстр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гноз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о благоприятен. Высока дет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. Рано наступает стар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жизни в целом сниже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отдельные больные и доживают до пожилого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е старческого возра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AD10-8526-471F-8845-2D7E81BEA7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Дауна – трисомия 21 хромосомы (ХХ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Клайнфелтер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рисомия половых хромосом – (ХХ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оносомия половой хромосомы (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Эдвардса - трисомия 18 хромосомы (ХХ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Патау - трисомия 13 хромосомы (ХХ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2C88-9421-49A6-B04A-02F6F91C06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 хромосом - 44 аутосомы и 2 половых хр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омы: мужчины - ХУ, женщины - Х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групп хромосом - А, В, С, D, F, 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группы - более круп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ующие - более мелкие хромосо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ромосомах разное количество ген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Y-хромосоме несколько ген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ых хромосомах А и В – тысячи ге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 пара хромосом наиболее насыщ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ыми ге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в хромосомах человека насчитыв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100 000 генов. (По данным разных ав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25 000 до 140 000 генов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52BA-1ED3-48BD-B328-7D08EF1518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рушения структуры хромос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нслок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бменные перестройки меж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омологичными хромосо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ле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отери участка хромосо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верс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овороты участка хромосомы на 180 граду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уплик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удвоения участка хромосо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охромосом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хромосомы с повторяющими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тическим материалом в обоих плеч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никновение кольцевых хромо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оеди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 концевых делеций в обоих плечах хромосо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человека известно более 700 заболев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званных изменением числа или структуры хромос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25% приходится на аутосомные трисом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% – на патологию половых хромос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ые перестройки составляют 10,4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хромосомных перестроек наиболее часто встречаю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локации и деле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5524-F7D4-4B36-9B47-A36A999E22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вития хромосомны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значима патология яйцеклет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е значима патология сперматозои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 роженицы старше 33-4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вокупный возраст родителей более 80-88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лизкородственные браки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B200-B51E-4342-9894-3A526874BF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езнь Даун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рисомия 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рожденное слабоуми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66 году Джон Даун описал этот синдром,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9 году Джер Лежен - генетическую прир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 матери старше 33-40 лет (90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частота - до 25 лет - 1/1400, до 30 - 1/100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35 - 1/350, 42 - 1/60, 49 - до 1/1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% даунов рождены матерями до 30 л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 отца (10%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лизкородственные бр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возраст матери рожениц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к уменьшению - 1/700            1/1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6AFE-CD83-47D4-BBE7-99BBE4FCD0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E253-558B-4EBA-82A4-1C27F12F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8C8E-8164-4AC2-9C9C-398A97DD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14F1-9270-46B9-9B6C-7446EBEC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31F-673A-4CFB-A22B-477DF3BE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F40A-8E3C-4838-A5F7-A764548E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6079-24F6-413C-9A7E-66E31B23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318D-B7D7-4698-AFFF-FCC29867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5549-484E-41B8-AD63-2670D248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5F40-B3F1-4F37-AC14-904D16BC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EF7B-3238-47D4-B50A-21E3DD76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39F0-ECBD-479E-8483-9ADDF129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E5EE-DDB0-4D0C-8141-8548FA2D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FFC0-18D1-4112-B0C5-10A53DBC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092A-B0C4-4B3E-AE17-41B32B71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FA45-5150-468A-86D9-FB2CC425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27D8-B685-4F68-B608-F00C7234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D4AC-A2D2-420A-9129-C6DCA2E1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0CD77-B139-4E03-B883-C901F276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91776-5205-4D24-9D78-422FD8B4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0D797-A42F-4898-A931-3C9DF76B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134D9-1212-42A9-87BF-03CF42E4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6D3C2-940D-4C42-8969-14E36EB4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6097-7E7C-4CA4-9DDB-CEC4B22A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D6C82-B25E-41C8-8420-6D21A930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122C2-7C60-48F1-AA65-35491CBC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F68BA-5E16-4805-BA3C-90BB676C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B9463-209B-41A1-90B3-A9AA6EBB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EC003-5AF7-4A78-9601-05200455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69BA6-D3C1-4ED1-8266-F66BB912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CCED3-7DFF-49E0-821D-325809E6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0903C-BDCD-479C-8A5F-9BAF10A8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B1210-73B5-4D70-8CB0-1D67B25A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32ECA-E698-42D0-808E-F6D52AF4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C446-20A2-4CA8-A638-CC4A689B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F6A92-BEE0-471A-A4C4-DAF9B6B9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2C825-8E23-48D7-B9DA-357DB083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0EC3E-0056-46D3-959F-1226BAA4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EEFE0-9671-4FEE-9E91-8F3555A6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75958-56D7-46ED-A06B-4080A74A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129EA-C549-4A1E-ABE7-4F3B10E2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2B8FA-420B-422D-B525-6AAD0E98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0CD81-271F-41EE-B614-83C61359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E71D3-DE24-43E9-916A-120185DF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0D3D3-6540-437B-956C-7CE8CFB0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5A2-205B-4AE3-9356-08D4F181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853C6-404F-4055-8B75-3EA60B76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3A67C-978F-48E9-8DC9-EB7A1C8B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1D838-954D-4BD2-9FA2-C567D1D9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0CF4A-9987-480D-B104-66CBFE87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D0ED6-C1C1-4570-B210-F49CD3CC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52927-6F43-40A0-85F2-AB8650BE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0C056-797A-43E5-A2EB-7BE63FF3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7E5FE-20D6-4ED2-A3A6-A7FF47DD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294C4-3D39-4274-A89F-1D7FBA62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2CB2F-2558-4635-8005-7A8E97F1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149B-0A8B-44DD-A4B1-44799FE5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6F81F-D874-4FEA-B565-8DF2FA2A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5222-D818-4806-9D63-6EAF8A60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98A6-2788-421F-9F43-CDFBB59E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0FF7-7490-4F79-9942-5DA7D9A9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AE7D-FCE4-477A-B4A4-3C02C9C7A1C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C6CF-CBD3-4120-9DFF-55B697C8A25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FA01-E433-4526-A202-89EEA71E95E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602B-76CD-4FCC-901F-7E2683649CB0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4029-DB36-4895-B8EF-2072664B63A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95280" y="18900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У ВПО «РОССИЙСКИЙ УНИВЕРСИТЕТ ДРУЖБЫ НАРОДОВ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ФЕДРА НЕРВНЫХ БОЛЕЗНЕЙ И НЕЙРОХИРУ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2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1-3"/>
          <p:cNvPicPr/>
          <p:nvPr/>
        </p:nvPicPr>
        <p:blipFill>
          <a:blip r:embed="rId1"/>
          <a:stretch/>
        </p:blipFill>
        <p:spPr>
          <a:xfrm>
            <a:off x="214200" y="1428840"/>
            <a:ext cx="3029040" cy="342900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3" descr="http://www.iks.ru/~soroka/r-22.jpg"/>
          <p:cNvPicPr/>
          <p:nvPr/>
        </p:nvPicPr>
        <p:blipFill>
          <a:blip r:embed="rId2"/>
          <a:stretch/>
        </p:blipFill>
        <p:spPr>
          <a:xfrm>
            <a:off x="3747960" y="857160"/>
            <a:ext cx="2538720" cy="27147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2" descr="http://www.iks.ru/~soroka/mlad.jpg"/>
          <p:cNvPicPr/>
          <p:nvPr/>
        </p:nvPicPr>
        <p:blipFill>
          <a:blip r:embed="rId3"/>
          <a:stretch/>
        </p:blipFill>
        <p:spPr>
          <a:xfrm>
            <a:off x="6429240" y="857160"/>
            <a:ext cx="2571840" cy="27021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4"/>
          <p:cNvSpPr/>
          <p:nvPr/>
        </p:nvSpPr>
        <p:spPr>
          <a:xfrm>
            <a:off x="158040" y="785880"/>
            <a:ext cx="32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льная ладо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4867200" y="285840"/>
            <a:ext cx="23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донь Да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854-1"/>
          <p:cNvPicPr/>
          <p:nvPr/>
        </p:nvPicPr>
        <p:blipFill>
          <a:blip r:embed="rId4"/>
          <a:stretch/>
        </p:blipFill>
        <p:spPr>
          <a:xfrm>
            <a:off x="4429080" y="3643200"/>
            <a:ext cx="3606840" cy="307188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569440" cy="115236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1100"/>
                </a:solidFill>
                <a:latin typeface="Franklin Gothic Book"/>
                <a:ea typeface="Tunga"/>
              </a:rPr>
              <a:t>ДЕТИ, СТРАДАЮЩИЕ БОЛЕЗНЬЮ ДАУНА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924360" cy="4572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3735360" cy="457200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289080" y="284040"/>
            <a:ext cx="792108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сихические особ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итивные эмоции, повышенная внушаем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дность воображ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рожательная и автоматическая деятель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одних повышенное настроение, суетлив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других - двигательная заторможен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зразлич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ны выполнять простые виды р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Больше могут, чем знают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216360" y="260280"/>
            <a:ext cx="812988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врологические симптом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нистагм, парез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изорефлексия, шаткость походки, атаксиии т. 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ногочисленные нейроэндокринные и сомат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еские аномал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задержка роста, микроцефал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ая мышечная гипотония, кератит, волч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сть, врожденные пороки сердца и дистро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тчатки, гипотиреоз, гипогенитализм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овые органы неразвиты, вторичные поло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знаки выражены слабо. Менструации у девоч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являются поздно, нерегулярные, рано наступ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нопауза. Половая активность снижена, поэт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омства больные, как правило, не име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838080" y="87480"/>
            <a:ext cx="782964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индром Клайнфелте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абор половых хромосом X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писан в 1942 году Х. В. Клайнфельт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индром мужскогo гипогонадиз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озникают чаще в результате оплодотво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беррантной ХХ яйцеклетк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рмием, имеющим Y-хромос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2-2,5 случая на 1000 новорожденных маль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оявляется синдромом полового недо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гие X-Y полисомии у лиц мужского пол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7 - XXY;        47 - XYY;        48 - XXXY;      48 - XYY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8 - XXYY;      49 - XXXXY;   49 - XXXY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683280" y="260280"/>
            <a:ext cx="80629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иническая выявляется в пубертатном период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окий рост, астеническая конституция (уз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ечи, широкий таз, слаборазвитая мускулатура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погенитализм (скудная растительность на лиц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некомастия). Хотя наружные половые орг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ужского типа и половая функция у молод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дей сохраняется, продолжение рода ча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го невозможно вследствие атрофии сем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нальцев и аспермии. Около 20% муж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плодия имеют в основе синдром Клайнфел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Рисунок 1" descr="http://jeffline.tju.edu/Education/dl/PA570/cases/images/CASE3B-10.JPG"/>
          <p:cNvPicPr/>
          <p:nvPr/>
        </p:nvPicPr>
        <p:blipFill>
          <a:blip r:embed="rId1"/>
          <a:stretch/>
        </p:blipFill>
        <p:spPr>
          <a:xfrm>
            <a:off x="5143680" y="214200"/>
            <a:ext cx="2500200" cy="6413760"/>
          </a:xfrm>
          <a:prstGeom prst="rect">
            <a:avLst/>
          </a:prstGeom>
          <a:ln w="0">
            <a:noFill/>
          </a:ln>
        </p:spPr>
      </p:pic>
      <p:sp>
        <p:nvSpPr>
          <p:cNvPr id="273" name="TextBox 2"/>
          <p:cNvSpPr/>
          <p:nvPr/>
        </p:nvSpPr>
        <p:spPr>
          <a:xfrm>
            <a:off x="214920" y="214200"/>
            <a:ext cx="387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йнфельт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ГИНЕКОМАСТИЯ у пациента с синдромом Клайнфельтера"/>
          <p:cNvPicPr/>
          <p:nvPr/>
        </p:nvPicPr>
        <p:blipFill>
          <a:blip r:embed="rId2"/>
          <a:stretch/>
        </p:blipFill>
        <p:spPr>
          <a:xfrm>
            <a:off x="928800" y="2071800"/>
            <a:ext cx="2643120" cy="429264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735840" y="324000"/>
            <a:ext cx="69274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ычно имеется некоторая задерж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ственного развития, вялость, инерт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ссивность, отсутствие должного интере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окружающему, склонность к аффект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вляются и небольшие орган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я - частичный птоз, нистагмои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изорефлексия, миопия, астигматизм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573120" y="214200"/>
            <a:ext cx="8265600" cy="60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164520" y="142920"/>
            <a:ext cx="11728080" cy="89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182520" y="260280"/>
            <a:ext cx="75340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омосомные болезни -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уна, Клайнфелте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ерешевского-Тернера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омные болезни - 3-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ессивная мышечная дистроф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ейные атаксии, дрожа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лич, миотония, хорея Гентингто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пато-церебральная дистроф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астическая параплеги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-2% всех заболеваний нервн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2"/>
          <p:cNvSpPr/>
          <p:nvPr/>
        </p:nvSpPr>
        <p:spPr>
          <a:xfrm>
            <a:off x="281160" y="142920"/>
            <a:ext cx="357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ндр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ерешевског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рн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" descr="Девочка с синдромом Тёрнера"/>
          <p:cNvPicPr/>
          <p:nvPr/>
        </p:nvPicPr>
        <p:blipFill>
          <a:blip r:embed="rId1"/>
          <a:stretch/>
        </p:blipFill>
        <p:spPr>
          <a:xfrm>
            <a:off x="2333520" y="1619280"/>
            <a:ext cx="2238480" cy="5238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Новый рисунок (37)"/>
          <p:cNvPicPr/>
          <p:nvPr/>
        </p:nvPicPr>
        <p:blipFill>
          <a:blip r:embed="rId2"/>
          <a:stretch/>
        </p:blipFill>
        <p:spPr>
          <a:xfrm>
            <a:off x="5562720" y="533520"/>
            <a:ext cx="3057480" cy="453384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662040" y="271440"/>
            <a:ext cx="77565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ота клинических проявл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орослость - 98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авильное телосложение - 92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чкообразная грудная клетка - 75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орочение шеи - 63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ий рост волос на шее - 57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ое «готическое» нёбо - 5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овидные складки кожи в области шеи - 4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ормация ушных раковин - 4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орочение костей и аплазия фаланг - 4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ормация локтевых суставов - 3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енные пигментные родинки - 35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мфостаз - 24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оки сердца и крупных сосудов - 22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ное артериальное давление - 17 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271440" y="179280"/>
            <a:ext cx="81756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е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ромосомных болезней начинают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ском возрасте: общеукрепляющие (аминал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ребролизин, ноотропил), анаболические стеро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ретаболил), в пубертатном возрасте – половые горм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синдроме Клайнфелтера - тестостерона пропион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1 мл 1% раствора 1 - 3 раза в неделю или тетрастер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устанон) по 1 мл в/м 1 раз в месяц. При синдро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ерешевского-Тернера - этинилэстрадиол, микрофолл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0,00015 г и прегнин по 0,03 r в день, циклами 16 и 7 д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уменьшает нервно-психические и вегетатив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рмональные расстро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гноз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ло благоприятен. Высока де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мертность. Рано наступает стар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олжительность жизни в целом сниже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тя отдельные больные и доживают до пожилог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же старческ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6"/>
          <p:cNvSpPr/>
          <p:nvPr/>
        </p:nvSpPr>
        <p:spPr>
          <a:xfrm>
            <a:off x="245880" y="214200"/>
            <a:ext cx="79516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Дауна – трисомия 21 хромосомы (ХХ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Клайнфелтер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рисомия половых хромосом – (ХХ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моносомия половой хромосомы (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Эдвардса - трисомия 18 хромосомы (ХХ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Патау - трисомия 13 хромосомы (ХХ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73880" y="214200"/>
            <a:ext cx="7713720" cy="65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6 хромосом - 44 аутосомы и 2 половых хр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сомы: мужчины - ХУ, женщины - Х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 групп хромосом - А, В, С, D, F, 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ые группы - более крупны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дующие - более мелкие хромосо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ромосомах разное количество ген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Y-хромосоме несколько ген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ервых хромосомах А и В – тысячи ге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 пара хромосом наиболее насыщ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ивными ге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го в хромосомах человека насчиты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оло 100 000 генов. (По данным разных ав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000 до 140 000 генов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171720" y="214200"/>
            <a:ext cx="9111240" cy="70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рушения структуры хромо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нсло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бменные перестройки меж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гомологичными хромосом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е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тери участка хромос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верс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вороты участка хромосомы на 180 граду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упл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двоения участка хромос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охромосом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ромосомы с повторяющими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етическим материалом в обоих плеч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новение кольцевых хромос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оеди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х концевых делеций в обоих плечах хромос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человека известно более 700 заболева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ванных изменением числа или структуры хромос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оло 25% приходится на аутосомные трисом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6% – на патологию половых хромос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ные перестройки составляют 10,4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 хромосомных перестроек наиболее часто встреч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локации и деле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407520" y="515880"/>
            <a:ext cx="8044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развития хромосомных заболе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ее значима патология яйцеклет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нее значима патология сперматозои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 роженицы старше 33-4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совокупный возраст родителей более 80-88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близкородственные браки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40480" y="285840"/>
            <a:ext cx="7833960" cy="63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олезнь Даун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исомия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рожденное слабоуми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866 году Джон Даун описал этот синдром,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59 году Джер Леже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етическую прир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 матери старше 33-40 лет (9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частота - до 25 лет - 1/1400, до 30 - 1/100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35 - 1/350, 42 - 1/60, 49 - до 1/1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0% даунов рождены матерями до 30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 отца (10%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Близкородственные бр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шой возраст матери роженицы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намика к уменьшению - 1/700            1/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Прямая со стрелкой 6"/>
          <p:cNvCxnSpPr/>
          <p:nvPr/>
        </p:nvCxnSpPr>
        <p:spPr>
          <a:xfrm>
            <a:off x="5572080" y="6428880"/>
            <a:ext cx="572400" cy="2520"/>
          </a:xfrm>
          <a:prstGeom prst="straightConnector1">
            <a:avLst/>
          </a:prstGeom>
          <a:ln w="507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3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431280" y="7858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Графическое представление нормального человеческого кариотипа."/>
          <p:cNvPicPr/>
          <p:nvPr/>
        </p:nvPicPr>
        <p:blipFill>
          <a:blip r:embed="rId1"/>
          <a:stretch/>
        </p:blipFill>
        <p:spPr>
          <a:xfrm>
            <a:off x="214200" y="1357200"/>
            <a:ext cx="3929040" cy="4235400"/>
          </a:xfrm>
          <a:prstGeom prst="rect">
            <a:avLst/>
          </a:prstGeom>
          <a:ln w="0">
            <a:noFill/>
          </a:ln>
        </p:spPr>
      </p:pic>
      <p:sp>
        <p:nvSpPr>
          <p:cNvPr id="240" name="TextBox 3"/>
          <p:cNvSpPr/>
          <p:nvPr/>
        </p:nvSpPr>
        <p:spPr>
          <a:xfrm>
            <a:off x="4289040" y="16430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" descr="Изображение:Down Syndrome Karyotype.png"/>
          <p:cNvPicPr/>
          <p:nvPr/>
        </p:nvPicPr>
        <p:blipFill>
          <a:blip r:embed="rId2"/>
          <a:stretch/>
        </p:blipFill>
        <p:spPr>
          <a:xfrm>
            <a:off x="4572000" y="1357200"/>
            <a:ext cx="3968640" cy="42609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"/>
          <p:cNvSpPr/>
          <p:nvPr/>
        </p:nvSpPr>
        <p:spPr>
          <a:xfrm>
            <a:off x="228240" y="142920"/>
            <a:ext cx="280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ль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хромос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4592160" y="142920"/>
            <a:ext cx="347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хромосом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езни Да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трелка вверх 11"/>
          <p:cNvSpPr/>
          <p:nvPr/>
        </p:nvSpPr>
        <p:spPr>
          <a:xfrm>
            <a:off x="5929200" y="5715000"/>
            <a:ext cx="484200" cy="97776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360000" y="178596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Рисунок 1" descr="Сегодня в мире каждый шестисотый ребенок рождается с синдромом Дауна (фото с сайта www.einstein-syndrome.com)"/>
          <p:cNvPicPr/>
          <p:nvPr/>
        </p:nvPicPr>
        <p:blipFill>
          <a:blip r:embed="rId1"/>
          <a:stretch/>
        </p:blipFill>
        <p:spPr>
          <a:xfrm>
            <a:off x="138240" y="1019160"/>
            <a:ext cx="2970000" cy="35193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3"/>
          <p:cNvSpPr/>
          <p:nvPr/>
        </p:nvSpPr>
        <p:spPr>
          <a:xfrm>
            <a:off x="155160" y="142920"/>
            <a:ext cx="393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ндром Дау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http://www.hram-st.obninsk.ru/arxiv/2006/sda.jpg"/>
          <p:cNvPicPr/>
          <p:nvPr/>
        </p:nvPicPr>
        <p:blipFill>
          <a:blip r:embed="rId2"/>
          <a:stretch/>
        </p:blipFill>
        <p:spPr>
          <a:xfrm>
            <a:off x="5442120" y="2514600"/>
            <a:ext cx="2786040" cy="37321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Новый рисунок (34)"/>
          <p:cNvPicPr/>
          <p:nvPr/>
        </p:nvPicPr>
        <p:blipFill>
          <a:blip r:embed="rId3"/>
          <a:stretch/>
        </p:blipFill>
        <p:spPr>
          <a:xfrm>
            <a:off x="4738680" y="142920"/>
            <a:ext cx="4191120" cy="2162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Новый рисунок (35)"/>
          <p:cNvPicPr/>
          <p:nvPr/>
        </p:nvPicPr>
        <p:blipFill>
          <a:blip r:embed="rId4"/>
          <a:stretch/>
        </p:blipFill>
        <p:spPr>
          <a:xfrm>
            <a:off x="138240" y="4559400"/>
            <a:ext cx="4038480" cy="208584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07T12:57:4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