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A8BE-DF44-4429-A3B3-3239691A288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ЛЕДСТВЕННО-ДЕГЕНЕРАТИВНЫ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БОЛЕВАНИЯ НЕРВНОЙ СИСТЕМ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66A4-7EE2-4B2B-98BB-C109997216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езнь Дау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ические особ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тивные эмоции, повышенная внушаем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дность воображ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ожательная и автоматическая деятель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одних повышенное настроение, суетлив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других - двигательная заторможе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злич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ы выполнять простые виды раб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ьше могут, чем знают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D8B1-C7BE-4548-8B59-7FE9FE7509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езнь Дау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врологические симпто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истагм, парез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изорефлексия, шаткость походки, атаксии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численные нейроэндокринные и сомат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ские аномал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задержка роста, микроцефал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мышечная гипотония, кератит, волч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ть, врожденные пороки сердца и дистроф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тчатки, гипотиреоз, гипогенитализм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вые органы неразвиты, вторичные полов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выражены слабо. Менструации у девоч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яются поздно, нерегулярные, рано наступ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опауза. Половая активность снижена, поэт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омства больные, как правило, не име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23B2-7032-4199-81B6-BF10E4514A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дром Клайнфелт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бор половых хромосом X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писан в 1942 году Х. В. Клайнфельте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индром мужскогo гипогонади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зникают чаще в результате оплодотвор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еррантной ХХ яйцеклетк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рмием, имеющим Y-хромосо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2-2,5 случая на 1000 новорожденных мальч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является синдромом полового недо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е X-Y полисомии у лиц мужского по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7 - XXY;        47 - XYY;        48 - XXXY;      48 - XYYY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8 - XXYY;      49 - XXXXY;   49 - XXXY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C72B-3DDC-4C50-B3EB-9BC66EE936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индром Клайнфелт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ая выявляется в пубертатном период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рост, астеническая конституция (уз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ечи, широкий таз, слаборазвитая мускулатур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генитализм (скудная растительность на лиц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некомастия). Хотя наружные половые орг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ого типа и половая функция у молод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ей сохраняется, продолжение рода чащ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невозможно вследствие атрофии семе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альцев и аспермии. Около 20% муж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плодия имеют в основе синдром Клайнфел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0C60-F2CB-415A-BEA6-78F16D0EEB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индром Клайнфелте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имеется некоторая задерж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ственного развития, вялость, инерт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ность, отсутствие должного интере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кружающему, склонность к аффек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яются и небольшие орган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- частичный птоз, нистагмоид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изорефлексия, миопия, астигматизм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2552-6957-4A0A-AFB4-DDD13B9665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условлен отсутствием или дефектом пол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-хромосомы, всего в наборе 45 хромо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(синдром женского гипогонадиз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писали Н.А.Шерешевский в 1925г., Turner в 1938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астота - 1:3000 живорожденных девоч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оносомия по Х-хромосоме возникает чаще вс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плодотворения аберрант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йцеклетки, лишенной Х-хромосом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рмием с Х-хромосо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ткой связи возникновения синдрома Терн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озрастом и какими-либо заболеван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ей не выявл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C7C9-697E-4EAE-AB30-0C3DEA681C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условлен отсутствием или дефектом пол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-хромосомы, всего в наборе 45 хромо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(синдром женского гипогонадиз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писали Н.А.Шерешевский в 1925г., Turner в 1938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астота - 1:3000 живорожденных девоч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оносомия по Х-хромосоме возникает чаще вс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плодотворения аберрант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йцеклетки, лишенной Х-хромосом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рмием с Х-хромосо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ткой связи возникновения синдрома Терн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озрастом и какими-либо заболеван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ей не выявл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0BAC-BE3B-4F93-A997-337CEA61B4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СЛЕДСТВЕННО-ДЕГЕНЕРАТИВ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БОЛЕВАНИЯ НЕРВНОЙ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омосомные болезни - 1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уна, Клайнфелтер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ерешевского-Тернера и д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номные болезни - 3-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ессивная мышечная дистроф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ейные атаксии, дрожате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лич, миотония, хорея Гентингтон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пато-церебральная дистроф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астическая параплегия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-2% всех заболеваний нервной сист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5B23-D673-4E22-B3CE-6875446863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тота клинических проявлени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рослость - 98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авильное телосложение - 92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чкообразная грудная клетка - 75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орочение шеи - 63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й рост волос на шее - 57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е «готическое» нёбо - 5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ыловидные складки кожи в области шеи - 4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ормация ушных раковин - 4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орочение костей и аплазия фаланг - 4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ормация локтевых суставов - 3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жественные пигментные родинки - 35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остаз - 24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оки сердца и крупных сосудов - 22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ное артериальное давление - 17 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0B4E-6194-4779-AFA8-CC4B291B7A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ече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мосомных болезней начинают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ком возрасте: общеукрепляющие (аминало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ребролизин, ноотропил), анаболические стер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етаболил), в пубертатном возрасте – половые горм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индроме Клайнфелтера - тестостерона пропиона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1 мл 1% раствора 1 - 3 раза в неделю или тетрастер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устанон) по 1 мл в/м 1 раз в месяц. При синдро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решевского-Тернера - этинилэстрадиол, микрофолли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0,00015 г и прегнин по 0,03 r в день, циклами 16 и 7 д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уменьшает нервно-психические и вегетатив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мональные расстр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гноз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о благоприятен. Высока дет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. Рано наступает стар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жизни в целом сниже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отдельные больные и доживают до пожилого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е старческого возра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29D5-05C7-4F37-9BEC-29BEC59E05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ромосомные болез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Дауна – трисомия 21 хромосомы (ХХ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Клайнфелтер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рисомия половых хромосом – (ХХ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оносомия половой хромосомы (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Эдвардса - трисомия 18 хромосомы (ХХ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Патау - трисомия 13 хромосомы (ХХ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CEFA-2CD5-4FA6-91A5-71C65AC787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ромосомные болез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6 хромосом - 44 аутосомы и 2 половых хр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омы: мужчины - ХУ, женщины - Х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групп хромосом - А, В, С, D, F, 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группы - более круп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ующие - более мелкие хромосо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ромосомах разное количество ген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Y-хромосоме несколько ген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ых хромосомах А и В – тысячи ге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 пара хромосом наиболее насыщ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ыми ге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в хромосомах человека насчитыва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100 000 генов. (По данным разных ав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25 000 до 140 000 генов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056D-F539-48F6-BB7A-5744BE7EE3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рушения структуры хромос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анслок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бменные перестройки меж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омологичными хромосо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ле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отери участка хромосо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верс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овороты участка хромосомы на 180 граду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уплик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удвоения участка хромосо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охромосом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хромосомы с повторяющими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тическим материалом в обоих плеч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никновение кольцевых хромо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оеди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 концевых делеций в обоих плечах хромосо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человека известно более 700 заболев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званных изменением числа или структуры хромос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25% приходится на аутосомные трисом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6% – на патологию половых хромос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ые перестройки составляют 10,4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хромосомных перестроек наиболее часто встречаю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локации и деле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E2C7-5B0D-4725-BF44-981F0D8059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вития хромосомны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значима патология яйцеклет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е значима патология сперматозоид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 роженицы старше 33-4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вокупный возраст родителей более 80-88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лизкородственные браки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5440-B428-4095-888F-B1F2B050F2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езнь Даун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рисомия 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рожденное слабоуми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66 году Джон Даун описал этот синдром,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59 году Джер Лежен - генетическую прир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 матери старше 33-40 лет (90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частота - до 25 лет - 1/1400, до 30 - 1/1000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35 - 1/350, 42 - 1/60, 49 - до 1/1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% даунов рождены матерями до 30 л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 отца (10%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лизкородственные бр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возраст матери рожениц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к уменьшению - 1/700            1/1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1FD1-12F2-44C7-8453-42A4F2DE30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D9A6-CCD0-42B2-8B7E-D1400563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35DE-9454-4EC6-A60E-FCF5EC44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EC17-638D-4BFF-87FC-FDABAE66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C9E2-C019-41AF-9CD2-155B1116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4344-115F-413D-83A0-5DCB7203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0393-BACE-432E-B01D-1E12641D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FB12-2232-49D5-B85C-17F41E5C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6C8B-E1AB-4B9A-8C9E-6010EB4F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1A72-6EB1-46DA-92D5-C26C5319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AB6A-1A17-4BCD-876C-79D0C77C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6020-C319-4F2A-B095-31A1972C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C694-CEDD-45B5-A304-A465FF97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0C6B-8725-42D7-AA1C-A7E2DC1B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C2F8-3033-4B99-B115-83D9891C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C105-AE17-497B-AF06-B7DF7A22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E682-D8FF-4E4D-9AD6-140E7009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C773-3E27-4E9B-B97C-DEF9BE84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0537A-3EB9-4F99-B162-7F9F3029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1049E-6568-42F7-BE77-42941C8E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9C7AC-7940-4816-B753-B61EB05D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AC6DC-6EBB-4569-B9D9-0C44DC52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EA3F2-6D18-4111-B548-2098BB60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0A99-D569-471C-9755-FDE5576D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5A74A-577F-4F4D-8987-DDF203FB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9A32E-99E1-4A54-97C2-815B06BC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762E1-673F-4102-9F7C-EC8C3892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F3E13-B31D-44AE-B1AA-E36730E2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FC582-90B1-4F09-A056-248EA898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3B6A3-09D0-49AE-94C5-3134BC90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D6E6F-CA4A-4585-A001-C870BA9B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F9C9F-54A5-4E05-9368-E2852AA7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F725F-8EEB-4403-8B12-2EE3883E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7879C-7C60-4136-AD01-FB61AF44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0B49-5AA7-4BFB-840B-CCE84A77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D92E3-B86B-4F53-8826-7F69A3E6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6BA49-E69C-48B6-89AC-04F7BA5D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81056-B14F-4268-83AC-B6167682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A7436-0F4F-45FF-986C-BE1B3E13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A6139-D7FE-4C39-BE5C-F479041C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C8181-808B-4AEB-B1BE-9C75D84B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977D8-677B-4061-B576-8934E830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50736-B95B-4D97-8D5B-31C3D28B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23FA4-DAAC-4C7E-AA7B-34E7E6BA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D11F0-5B3C-4F10-985E-DE6ADB76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0BE9-32F8-40DB-8FC8-3350605F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8BFB9-B856-467E-98EF-648D6E77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E897A-0EE2-4C37-B624-AA3D1F08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CE261-B3C2-4B9A-BA8C-7C1664C4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67B6F-7A3A-45EE-8C11-B562C722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C2BFA-6503-4455-AF4D-0170D56F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50625-6A08-487A-A00E-B2CD459E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70190-95BC-4B85-BE0E-3071FC9B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31076-0F74-499F-A602-7D2162E8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A080F-3DF1-4AF0-BC15-9F51336F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E5E73-27EB-470F-8D13-152DE3C1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B2F5-6483-48D5-8A81-353A2922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F5609-4FA8-4030-91A8-64B04AA0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3AF-B265-4071-8A26-4BF77109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90F8-4282-4417-964A-F64771D8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9FA9-FFC7-497B-BAF2-ED73E911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ABD0-969D-4436-B409-38D58EAD83E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9FC3-D90B-4E8A-A564-F7AD44EF823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9666-50F4-4FCD-9599-B7685752419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72C5-77E2-458B-9421-9B076F9D2597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68ED-5B36-48CD-9D2C-0E041288322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СЛЕДСТВЕННО-ДЕГЕНЕРАТИВ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БОЛЕВАНИЯ НЕРВНОЙ СИСТЕМ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95280" y="189000"/>
            <a:ext cx="8353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У ВПО «РОССИЙСКИЙ УНИВЕРСИТЕТ ДРУЖБЫ НАРОДОВ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ФЕДРА НЕРВНЫХ БОЛЕЗНЕЙ И НЕЙРОХИРУР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2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1-3"/>
          <p:cNvPicPr/>
          <p:nvPr/>
        </p:nvPicPr>
        <p:blipFill>
          <a:blip r:embed="rId1"/>
          <a:stretch/>
        </p:blipFill>
        <p:spPr>
          <a:xfrm>
            <a:off x="214200" y="1428840"/>
            <a:ext cx="3029040" cy="342900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3" descr="http://www.iks.ru/~soroka/r-22.jpg"/>
          <p:cNvPicPr/>
          <p:nvPr/>
        </p:nvPicPr>
        <p:blipFill>
          <a:blip r:embed="rId2"/>
          <a:stretch/>
        </p:blipFill>
        <p:spPr>
          <a:xfrm>
            <a:off x="3747960" y="857160"/>
            <a:ext cx="2538720" cy="271476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2" descr="http://www.iks.ru/~soroka/mlad.jpg"/>
          <p:cNvPicPr/>
          <p:nvPr/>
        </p:nvPicPr>
        <p:blipFill>
          <a:blip r:embed="rId3"/>
          <a:stretch/>
        </p:blipFill>
        <p:spPr>
          <a:xfrm>
            <a:off x="6429240" y="857160"/>
            <a:ext cx="2571840" cy="27021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4"/>
          <p:cNvSpPr/>
          <p:nvPr/>
        </p:nvSpPr>
        <p:spPr>
          <a:xfrm>
            <a:off x="158040" y="785880"/>
            <a:ext cx="32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льная ладо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4867200" y="285840"/>
            <a:ext cx="231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адонь Дау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854-1"/>
          <p:cNvPicPr/>
          <p:nvPr/>
        </p:nvPicPr>
        <p:blipFill>
          <a:blip r:embed="rId4"/>
          <a:stretch/>
        </p:blipFill>
        <p:spPr>
          <a:xfrm>
            <a:off x="4429080" y="3643200"/>
            <a:ext cx="3606840" cy="307188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569440" cy="115236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marL="136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1100"/>
                </a:solidFill>
                <a:latin typeface="Franklin Gothic Book"/>
                <a:ea typeface="Tunga"/>
              </a:rPr>
              <a:t>ДЕТИ, СТРАДАЮЩИЕ БОЛЕЗНЬЮ ДАУНА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3924360" cy="4572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3735360" cy="457200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289080" y="284040"/>
            <a:ext cx="7921080" cy="54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олезнь Дау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сихические особ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итивные эмоции, повышенная внушаем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дность воображ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рожательная и автоматическая деятель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одних повышенное настроение, суетлив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других - двигательная заторможен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зразлич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ны выполнять простые виды раб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Больше могут, чем знают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216360" y="260280"/>
            <a:ext cx="812988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олезнь Дау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врологические симптом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нистагм, парез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изорефлексия, шаткость походки, атаксиии т. 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ногочисленные нейроэндокринные и сомат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еские аномал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задержка роста, микроцефал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ая мышечная гипотония, кератит, волч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сть, врожденные пороки сердца и дистро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тчатки, гипотиреоз, гипогенитализм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овые органы неразвиты, вторичные полов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знаки выражены слабо. Менструации у девоч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являются поздно, нерегулярные, рано наступ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нопауза. Половая активность снижена, поэт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омства больные, как правило, не име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838080" y="87480"/>
            <a:ext cx="782964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индром Клайнфелте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абор половых хромосом X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писан в 1942 году Х. В. Клайнфельт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индром мужскогo гипогонадиз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Возникают чаще в результате оплодотво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беррантной ХХ яйцеклетк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рмием, имеющим Y-хромосо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2-2,5 случая на 1000 новорожденных маль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оявляется синдромом полового недо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угие X-Y полисомии у лиц мужского пол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7 - XXY;        47 - XYY;        48 - XXXY;      48 - XYY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8 - XXYY;      49 - XXXXY;   49 - XXXY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683280" y="260280"/>
            <a:ext cx="80629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ндром Клайнфел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иническая выявляется в пубертатном период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окий рост, астеническая конституция (уз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ечи, широкий таз, слаборазвитая мускулатура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ипогенитализм (скудная растительность на лиц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инекомастия). Хотя наружные половые орг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ужского типа и половая функция у молод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дей сохраняется, продолжение рода ча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го невозможно вследствие атрофии семе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нальцев и аспермии. Около 20% мужс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сплодия имеют в основе синдром Клайнфел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Рисунок 1" descr="http://jeffline.tju.edu/Education/dl/PA570/cases/images/CASE3B-10.JPG"/>
          <p:cNvPicPr/>
          <p:nvPr/>
        </p:nvPicPr>
        <p:blipFill>
          <a:blip r:embed="rId1"/>
          <a:stretch/>
        </p:blipFill>
        <p:spPr>
          <a:xfrm>
            <a:off x="5143680" y="214200"/>
            <a:ext cx="2500200" cy="6413760"/>
          </a:xfrm>
          <a:prstGeom prst="rect">
            <a:avLst/>
          </a:prstGeom>
          <a:ln w="0">
            <a:noFill/>
          </a:ln>
        </p:spPr>
      </p:pic>
      <p:sp>
        <p:nvSpPr>
          <p:cNvPr id="273" name="TextBox 2"/>
          <p:cNvSpPr/>
          <p:nvPr/>
        </p:nvSpPr>
        <p:spPr>
          <a:xfrm>
            <a:off x="214920" y="214200"/>
            <a:ext cx="387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нд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айнфельт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ГИНЕКОМАСТИЯ у пациента с синдромом Клайнфельтера"/>
          <p:cNvPicPr/>
          <p:nvPr/>
        </p:nvPicPr>
        <p:blipFill>
          <a:blip r:embed="rId2"/>
          <a:stretch/>
        </p:blipFill>
        <p:spPr>
          <a:xfrm>
            <a:off x="928800" y="2071800"/>
            <a:ext cx="2643120" cy="429264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735840" y="324000"/>
            <a:ext cx="692748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индром Клайнфелт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ычно имеется некоторая задерж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мственного развития, вялость, инерт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ссивность, отсутствие должного интере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окружающему, склонность к аффект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являются и небольшие орган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ения - частичный птоз, нистагмои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изорефлексия, миопия, астигматизм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573120" y="214200"/>
            <a:ext cx="8265600" cy="60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бусловлен отсутствием или дефектом полов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-хромосомы, всего в наборе 45 хромо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(синдром женского гипогонадиз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писали Н.А.Шерешевский в 1925г., Turner в 1938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Частота - 1:3000 живорожденных девоч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Моносомия по Х-хромосоме возникает чаще 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езультате оплодотворения аберрант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йцеклетки, лишенной Х-хромосом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рмием с Х-хромосом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Четкой связи возникновения синдрома Терн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возрастом и какими-либо заболевани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ителей не выявл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164520" y="142920"/>
            <a:ext cx="11728080" cy="89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Обусловлен отсутствием или дефектом полов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-хромосомы, всего в наборе 45 хромос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(синдром женского гипогонадизм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Описали Н.А.Шерешевский в 1925г., Turner в 1938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Частота - 1:3000 живорожденных девоче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Моносомия по Х-хромосоме возникает чаще все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результате оплодотворения аберрантн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яйцеклетки, лишенной Х-хромосом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ермием с Х-хромосомо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Четкой связи возникновения синдрома Терн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возрастом и какими-либо заболевания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одителей не выявле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182520" y="260280"/>
            <a:ext cx="75340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СЛЕДСТВЕННО-ДЕГЕНЕРАТИ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БОЛЕВАНИЯ НЕРВН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омосомные болезни - 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уна, Клайнфелте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ерешевского-Тернера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номные болезни - 3-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ессивная мышечная дистроф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ейные атаксии, дрожа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лич, миотония, хорея Гентингто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пато-церебральная дистроф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астическая параплеги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-2% всех заболеваний нервн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2"/>
          <p:cNvSpPr/>
          <p:nvPr/>
        </p:nvSpPr>
        <p:spPr>
          <a:xfrm>
            <a:off x="281160" y="142920"/>
            <a:ext cx="357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ндр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ерешевского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рн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3" descr="Девочка с синдромом Тёрнера"/>
          <p:cNvPicPr/>
          <p:nvPr/>
        </p:nvPicPr>
        <p:blipFill>
          <a:blip r:embed="rId1"/>
          <a:stretch/>
        </p:blipFill>
        <p:spPr>
          <a:xfrm>
            <a:off x="2333520" y="1619280"/>
            <a:ext cx="2238480" cy="5238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Новый рисунок (37)"/>
          <p:cNvPicPr/>
          <p:nvPr/>
        </p:nvPicPr>
        <p:blipFill>
          <a:blip r:embed="rId2"/>
          <a:stretch/>
        </p:blipFill>
        <p:spPr>
          <a:xfrm>
            <a:off x="5562720" y="533520"/>
            <a:ext cx="3057480" cy="453384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662040" y="271440"/>
            <a:ext cx="77565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ота клинических проявл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орослость - 98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равильное телосложение - 92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чкообразная грудная клетка - 75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орочение шеи - 63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ий рост волос на шее - 57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ое «готическое» нёбо - 5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ловидные складки кожи в области шеи - 4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формация ушных раковин - 4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орочение костей и аплазия фаланг - 4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формация локтевых суставов - 3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енные пигментные родинки - 35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мфостаз - 24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оки сердца и крупных сосудов - 22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ное артериальное давление - 17 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271440" y="179280"/>
            <a:ext cx="81756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еч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ромосомных болезней начинают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ском возрасте: общеукрепляющие (аминало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ребролизин, ноотропил), анаболические стерои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ретаболил), в пубертатном возрасте – половые горм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синдроме Клайнфелтера - тестостерона пропион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1 мл 1% раствора 1 - 3 раза в неделю или тетрастер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устанон) по 1 мл в/м 1 раз в месяц. При синдро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ерешевского-Тернера - этинилэстрадиол, микрофолл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0,00015 г и прегнин по 0,03 r в день, циклами 16 и 7 д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уменьшает нервно-психические и вегетатив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рмональные расстро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гноз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ло благоприятен. Высока де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мертность. Рано наступает стар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должительность жизни в целом сниже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тя отдельные больные и доживают до пожилог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же старческого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6"/>
          <p:cNvSpPr/>
          <p:nvPr/>
        </p:nvSpPr>
        <p:spPr>
          <a:xfrm>
            <a:off x="245880" y="214200"/>
            <a:ext cx="79516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ромосомные боле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Дауна – трисомия 21 хромосомы (ХХ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Клайнфелтер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рисомия половых хромосом – (ХХ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моносомия половой хромосомы (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Эдвардса - трисомия 18 хромосомы (ХХ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Патау - трисомия 13 хромосомы (ХХ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173880" y="214200"/>
            <a:ext cx="7713720" cy="65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ромосомные боле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6 хромосом - 44 аутосомы и 2 половых хр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сомы: мужчины - ХУ, женщины - Х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 групп хромосом - А, В, С, D, F, 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ые группы - более крупны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дующие - более мелкие хромосо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хромосомах разное количество ген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Y-хромосоме несколько ген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ервых хромосомах А и В – тысячи ге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9 пара хромосом наиболее насыщ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ивными ге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го в хромосомах человека насчитыв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оло 100 000 генов. (По данным разных ав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000 до 140 000 генов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171720" y="214200"/>
            <a:ext cx="9111240" cy="70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рушения структуры хромо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нсло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бменные перестройки меж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гомологичными хромосом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е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тери участка хромосо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верс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вороты участка хромосомы на 180 градус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упл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двоения участка хромосо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охромосом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хромосомы с повторяющими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етическим материалом в обоих плеч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никновение кольцевых хромос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оеди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ух концевых делеций в обоих плечах хромосо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человека известно более 700 заболева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ванных изменением числа или структуры хромос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оло 25% приходится на аутосомные трисом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6% – на патологию половых хромос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ные перестройки составляют 10,4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и хромосомных перестроек наиболее часто встреч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локации и деле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407520" y="515880"/>
            <a:ext cx="8044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развития хромосомных заболе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ее значима патология яйцеклет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нее значима патология сперматозоид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акторы рис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раст роженицы старше 33-4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совокупный возраст родителей более 80-88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близкородственные браки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40480" y="285840"/>
            <a:ext cx="7833960" cy="63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олезнь Даун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исомия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врожденное слабоуми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866 году Джон Даун описал этот синдром,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959 году Джер Леже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нетическую прир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акторы рис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раст матери старше 33-40 лет (9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частота - до 25 лет - 1/1400, до 30 - 1/1000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35 - 1/350, 42 - 1/60, 49 - до 1/1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0% даунов рождены матерями до 30 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раст отца (10%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Близкородственные бр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ьшой возраст матери роженицы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намика к уменьшению - 1/700            1/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Прямая со стрелкой 6"/>
          <p:cNvCxnSpPr/>
          <p:nvPr/>
        </p:nvCxnSpPr>
        <p:spPr>
          <a:xfrm>
            <a:off x="5572080" y="6428880"/>
            <a:ext cx="572400" cy="2520"/>
          </a:xfrm>
          <a:prstGeom prst="straightConnector1">
            <a:avLst/>
          </a:prstGeom>
          <a:ln w="507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37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431280" y="7858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Графическое представление нормального человеческого кариотипа."/>
          <p:cNvPicPr/>
          <p:nvPr/>
        </p:nvPicPr>
        <p:blipFill>
          <a:blip r:embed="rId1"/>
          <a:stretch/>
        </p:blipFill>
        <p:spPr>
          <a:xfrm>
            <a:off x="214200" y="1357200"/>
            <a:ext cx="3929040" cy="4235400"/>
          </a:xfrm>
          <a:prstGeom prst="rect">
            <a:avLst/>
          </a:prstGeom>
          <a:ln w="0">
            <a:noFill/>
          </a:ln>
        </p:spPr>
      </p:pic>
      <p:sp>
        <p:nvSpPr>
          <p:cNvPr id="240" name="TextBox 3"/>
          <p:cNvSpPr/>
          <p:nvPr/>
        </p:nvSpPr>
        <p:spPr>
          <a:xfrm>
            <a:off x="4289040" y="16430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" descr="Изображение:Down Syndrome Karyotype.png"/>
          <p:cNvPicPr/>
          <p:nvPr/>
        </p:nvPicPr>
        <p:blipFill>
          <a:blip r:embed="rId2"/>
          <a:stretch/>
        </p:blipFill>
        <p:spPr>
          <a:xfrm>
            <a:off x="4572000" y="1357200"/>
            <a:ext cx="3968640" cy="42609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"/>
          <p:cNvSpPr/>
          <p:nvPr/>
        </p:nvSpPr>
        <p:spPr>
          <a:xfrm>
            <a:off x="228240" y="142920"/>
            <a:ext cx="280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ль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хромос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4592160" y="142920"/>
            <a:ext cx="347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хромосом 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езни Дау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трелка вверх 11"/>
          <p:cNvSpPr/>
          <p:nvPr/>
        </p:nvSpPr>
        <p:spPr>
          <a:xfrm>
            <a:off x="5929200" y="5715000"/>
            <a:ext cx="484200" cy="977760"/>
          </a:xfrm>
          <a:prstGeom prst="upArrow">
            <a:avLst>
              <a:gd name="adj1" fmla="val 50000"/>
              <a:gd name="adj2" fmla="val 49988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360000" y="178596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Рисунок 1" descr="Сегодня в мире каждый шестисотый ребенок рождается с синдромом Дауна (фото с сайта www.einstein-syndrome.com)"/>
          <p:cNvPicPr/>
          <p:nvPr/>
        </p:nvPicPr>
        <p:blipFill>
          <a:blip r:embed="rId1"/>
          <a:stretch/>
        </p:blipFill>
        <p:spPr>
          <a:xfrm>
            <a:off x="138240" y="1019160"/>
            <a:ext cx="2970000" cy="35193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3"/>
          <p:cNvSpPr/>
          <p:nvPr/>
        </p:nvSpPr>
        <p:spPr>
          <a:xfrm>
            <a:off x="155160" y="142920"/>
            <a:ext cx="393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ндром Дау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http://www.hram-st.obninsk.ru/arxiv/2006/sda.jpg"/>
          <p:cNvPicPr/>
          <p:nvPr/>
        </p:nvPicPr>
        <p:blipFill>
          <a:blip r:embed="rId2"/>
          <a:stretch/>
        </p:blipFill>
        <p:spPr>
          <a:xfrm>
            <a:off x="5442120" y="2514600"/>
            <a:ext cx="2786040" cy="37321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Новый рисунок (34)"/>
          <p:cNvPicPr/>
          <p:nvPr/>
        </p:nvPicPr>
        <p:blipFill>
          <a:blip r:embed="rId3"/>
          <a:stretch/>
        </p:blipFill>
        <p:spPr>
          <a:xfrm>
            <a:off x="4738680" y="142920"/>
            <a:ext cx="4191120" cy="21621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Новый рисунок (35)"/>
          <p:cNvPicPr/>
          <p:nvPr/>
        </p:nvPicPr>
        <p:blipFill>
          <a:blip r:embed="rId4"/>
          <a:stretch/>
        </p:blipFill>
        <p:spPr>
          <a:xfrm>
            <a:off x="138240" y="4559400"/>
            <a:ext cx="4038480" cy="208584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07T12:57:4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