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1248-654F-4C78-843D-D34D14CD3D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AA70-E1E3-4F34-9C13-235C9A5135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ические особ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е эмоции, повышенная внушаем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воображ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жательная и автоматическая дея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одних повышенное настроение, суетлив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других - двигательная затормож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ы выполнять простые виды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е могут, чем знают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2C4D-B66F-4E89-9A87-1640A635EA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рологические 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истагм, парез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зорефлексия, шаткость походки, атаксии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нейроэндокринные и сома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ские аномал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задержка роста, микроцеф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мышечная гипотония, кератит, волч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ь, врожденные пороки сердца и дистро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чатки, гипотиреоз, гипогенитализм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ые органы неразвиты, вторичные пол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выражены слабо. Менструации у девоч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ются поздно, нерегулярные, рано наступ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опауза. Половая активность снижена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мства больные, как правило, не име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FEE2-811C-4225-866D-DDEB4F55AE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Клайнфелт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бор половых хромосом X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н в 1942 году Х. В. Клайнфельте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ндром мужскогo гипогонад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никают чаще в результате оплодотво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еррантной ХХ яйцеклетк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, имеющим Y-хромос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2-2,5 случая на 1000 новорожденных мальч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является синдромом полового недо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X-Y полисомии у лиц мужского по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 - XXY;        47 - XYY;        48 - XXXY;      48 - XYYY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 - XXYY;      49 - XXXXY;   49 - XXXY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66E5-2B6C-4008-A7BE-5BBC867D0E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ая выявляется в пубертатном перио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рост, астеническая конституция (уз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чи, широкий таз, слаборазвитая мускулатур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генитализм (скудная растительность на ли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некомастия). Хотя наружные половые орг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ого типа и половая функция у молод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сохраняется, продолжение рода чащ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невозможно вследствие атрофии сем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льцев и аспермии. Около 20% муж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одия имеют в основе синдром Клайнфел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C11F-7AF5-4C04-A903-2F270D1282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еется некоторая задерж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развития, вялость, инерт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сть, отсутствие должного интер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кружающему, склонность к аффе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яются и небольшие орган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- частичный птоз, нистагмо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зорефлексия, миопия, астигматизм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7710-A614-4158-BE53-10C319A50C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F462-F222-4568-A08F-74820FE224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2CC8-C141-4AB5-B772-6FD904E2B9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сомные болезни - 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уна, Клайнфелте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решевского-Тернера и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омные болезни - 3-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ессивная мышечная дистроф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ые атаксии, дрож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ич, миотония, хорея Гентингто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о-церебральная дистроф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тическая параплегия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2% всех заболеваний нервной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B4A8-D78E-4F39-B6FF-4C78563BA8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ота клинических проявл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рослость - 98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авильное телосложение - 92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чкообразная грудная клетка - 75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орочение шеи - 63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рост волос на шее - 57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«готическое» нёбо - 5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овидные складки кожи в области шеи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ормация ушных раковин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орочение костей и аплазия фаланг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ормация локтевых суставов - 3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жественные пигментные родинки - 35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стаз - 24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ки сердца и крупных сосудов - 22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ртериальное давление - 17 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6058-5F21-4CE5-B21C-178DC69237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осомных болезней начинаю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ом возрасте: общеукрепляющие (аминало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ебролизин, ноотропил), анаболические стер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таболил), в пубертатном возрасте – половые горм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индроме Клайнфелтера - тестостерона пропион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1 мл 1% раствора 1 - 3 раза в неделю или тетрастер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устанон) по 1 мл в/м 1 раз в месяц. При синдро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решевского-Тернера - этинилэстрадиол, микрофолл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0,00015 г и прегнин по 0,03 r в день, циклами 16 и 7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уменьшает нервно-психические и вегетатив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мональные рас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 благоприятен. Высока дет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. Рано наступает стар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жизни в целом сниже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отдельные больные и доживают до пожилого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старческого возр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8CDC-1254-4A0E-B5C8-DC666B8257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Дауна – трисомия 21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Клайнфелтер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рисомия половых хромосом – (ХХ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носомия половой хромосомы (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Эдвардса - трисомия 18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Патау - трисомия 13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634B-F3A9-4430-AD21-316E37842B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 хромосом - 44 аутосомы и 2 половых х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омы: мужчины - ХУ, женщины - Х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групп хромосом - А, В, С, D, F, 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группы - более круп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е - более мелкие хромос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ромосомах разное количество ген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Y-хромосоме несколько ге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ых хромосомах А и В – тысячи г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 пара хромосом наиболее насыщ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ми ге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в хромосомах человека насчитыв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100 000 генов. (По данным разных ав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25 000 до 140 000 генов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0EE1-125E-4A86-8876-12D073FF84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ушения структуры хромо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нсло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менные перестройк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мологичными хромосо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е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отери участка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р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овороты участка хромосомы на 180 граду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пли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двоения участка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хромосо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хромосомы с повторяющими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ческим материалом в обоих плеч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никновение кольцевых хром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еди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 концевых делеций в обоих плечах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человека известно более 700 заболе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ванных изменением числа или структуры хромо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25% приходится на аутосомные трисом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% – на патологию половых хромо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е перестройки составляют 10,4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хромосомных перестроек наиболее часто встречаю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локации и дел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D053-AAA4-41D5-86D3-9FE41C77D3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хромосомн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значима патология яйцеклет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значима патология сперматозои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роженицы старше 33-4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вокупный возраст родителей более 80-8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лизкородственные брак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3CB5-6A93-48E6-9EE9-55E51B3980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исомия 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рожденное слабоуми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66 году Джон Даун описал этот синдром,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9 году Джер Лежен - генетическ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матери старше 33-40 лет (90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астота - до 25 лет - 1/1400, до 30 - 1/100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35 - 1/350, 42 - 1/60, 49 - до 1/1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% даунов рождены матерями до 30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отца (10%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лизкородственные бр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озраст матери рожениц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к уменьшению - 1/700            1/1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B236-3DF8-4161-B5E8-2EB4A58B65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3AE-CA0F-49D3-A91F-7D6AAE79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A62-77D6-480E-AF96-1379F606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1CD-6E3C-4973-AE32-74F0B872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881-68FD-4F4F-8317-5D6ACD2D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840D-E252-446C-8C94-9B7AA51C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6152-AE98-445C-9621-3265E152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B5C3-BDE2-4C22-A1F2-C7FEAA77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E6FE-31BC-48DE-9466-FA4AA4EA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6164-DF05-4E1C-80BC-DD061071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4336-8928-4221-B418-C5316F82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A0B4-BA16-4AA8-B5E5-72061D57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44D-833E-4069-9197-980AB6C6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B002-2D9D-4DD9-B645-AF68AB31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0DAB-2B4C-4F29-80E8-AC3024A2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DC31-7A4A-4DAC-AC15-6D995A77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4E52-8EB0-4BD1-8CF1-87475A99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F290-B382-437C-8342-B04F6842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3C97F-0E06-4987-ABC8-03220281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F9FB-D049-4DFC-B575-A2B33996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68AD-9A66-450B-A65B-02A0DA68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C2A6A-1FEC-4D4C-ADED-A918AE26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C659-57DB-4E76-9496-B0CC9711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59D-6937-4F6C-B863-79AA8CCF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589E-B1D8-4C07-8160-38DC7FB9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83996-2750-4804-BF3E-68162672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FCAC-9F56-4399-ADEC-6AB5BF3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A7CC1-8EF9-45E0-9327-C7CCD53F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3C6C8-0619-4262-9394-BA8FFCCC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1AB4F-FAC2-4A91-BA61-7BA7F049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B85BD-5FE1-417D-853A-DDABF32D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95D19-88ED-4BDA-B945-4222DDFA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7EDF0-DD7D-40BC-88BB-09FB9F52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17FF6-9CB8-4499-83CB-AA726124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C30-1B5F-40C8-AEC7-F4B8A66E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3F0C3-7B0A-4458-AF75-66BC3D6C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E071B-7731-4B5B-AD3C-E2463022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D3FE5-42A8-4AD0-A520-9C724B88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A0A4A-742D-4638-8AF8-FE0166EB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CA35E-6C20-4F6E-A4F9-CEA9B810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E4976-621E-4233-8A1F-7B262C41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EEFCD-3009-42C2-9784-92A47117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140AF-9D8F-40BE-A28B-A11BD934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B338-9028-44B8-B7D5-609E0CF5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806C0-5C28-4710-ADC4-2C6572CB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4155-1CFF-4794-9ED8-62DF9FFE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91A2D-5C0F-4595-A9AB-CFD84A33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03783-1E41-41BB-87DB-809D98F5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0ADE0-6D01-4C45-A632-FC52029C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51E33-3626-4EC2-BDE3-91DBCCE9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94431-E9F1-4FFF-A0E6-E0AAC738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9442D-4D41-442E-9852-D22A3798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D30D8-7D61-4A45-820F-6E513E4E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A1BF1-DD5E-46F7-8920-85E49BB3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AB82D-A462-4AEB-B0AA-9BE11CE7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0ABC5-9A01-4690-8FA1-C0454573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421-A713-4BCB-BCFD-D6DE91CD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9D246-B73A-42A5-9266-8ACF021D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BC2-47B2-4F03-8C16-D2496778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79F-C1CD-4A1B-99C4-E2E8811A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A2E-370E-4022-A124-096913C5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5784-2879-4E5B-AE22-EBE1C8AFFFA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75EB-BB6F-412E-979D-091659CBCDD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BB84-BD88-44F6-9863-06C13F018F7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201F-95C8-44D7-8AE2-7D86770B56D1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1AEC-0C72-4D7E-939C-A730A880C4D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95280" y="18900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У ВПО «РОССИЙСКИЙ УНИВЕРСИТЕТ ДРУЖБЫ НАРОДОВ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ФЕДРА НЕРВНЫХ БОЛЕЗНЕЙ И НЕЙРОХИРУ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1-3"/>
          <p:cNvPicPr/>
          <p:nvPr/>
        </p:nvPicPr>
        <p:blipFill>
          <a:blip r:embed="rId1"/>
          <a:stretch/>
        </p:blipFill>
        <p:spPr>
          <a:xfrm>
            <a:off x="214200" y="1428840"/>
            <a:ext cx="302904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http://www.iks.ru/~soroka/r-22.jpg"/>
          <p:cNvPicPr/>
          <p:nvPr/>
        </p:nvPicPr>
        <p:blipFill>
          <a:blip r:embed="rId2"/>
          <a:stretch/>
        </p:blipFill>
        <p:spPr>
          <a:xfrm>
            <a:off x="3747960" y="857160"/>
            <a:ext cx="2538720" cy="27147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" descr="http://www.iks.ru/~soroka/mlad.jpg"/>
          <p:cNvPicPr/>
          <p:nvPr/>
        </p:nvPicPr>
        <p:blipFill>
          <a:blip r:embed="rId3"/>
          <a:stretch/>
        </p:blipFill>
        <p:spPr>
          <a:xfrm>
            <a:off x="6429240" y="857160"/>
            <a:ext cx="2571840" cy="27021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4"/>
          <p:cNvSpPr/>
          <p:nvPr/>
        </p:nvSpPr>
        <p:spPr>
          <a:xfrm>
            <a:off x="158040" y="78588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ая лад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4867200" y="28584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донь Да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854-1"/>
          <p:cNvPicPr/>
          <p:nvPr/>
        </p:nvPicPr>
        <p:blipFill>
          <a:blip r:embed="rId4"/>
          <a:stretch/>
        </p:blipFill>
        <p:spPr>
          <a:xfrm>
            <a:off x="4429080" y="3643200"/>
            <a:ext cx="3606840" cy="307188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569440" cy="115236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1100"/>
                </a:solidFill>
                <a:latin typeface="Franklin Gothic Book"/>
                <a:ea typeface="Tunga"/>
              </a:rPr>
              <a:t>ДЕТИ, СТРАДАЮЩИЕ БОЛЕЗНЬЮ ДАУНА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924360" cy="4572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735360" cy="457200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289080" y="284040"/>
            <a:ext cx="792108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сихические 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итивные эмоции, повышенная внушаем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дность вообра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рожательная и автоматическая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одних повышенное настроение, суетлив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других - двигательная затормож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зразли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ы выполнять простые виды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ьше могут, чем знают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16360" y="260280"/>
            <a:ext cx="812988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врологические симптом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нистагм, парез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изорефлексия, шаткость походки, атаксиии т. 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ногочисленные нейроэндокринные и сомат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ские аномал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задержка роста, микроцефал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ая мышечная гипотония, кератит, волч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ть, врожденные пороки сердца и дистро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тчатки, гипотиреоз, гипогенитализм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вые органы неразвиты, вторичные поло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выражены слабо. Менструации у девоч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являются поздно, нерегулярные, рано наступ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опауза. Половая активность снижена, поэт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омства больные, как правило, не име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838080" y="87480"/>
            <a:ext cx="782964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дром Клайнфелте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бор половых хромосом X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исан в 1942 году Х. В. Клайнфельт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индром мужскогo гипогонадиз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озникают чаще в результате оплод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беррантной ХХ яйцеклет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рмием, имеющим Y-хромос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2-2,5 случая на 1000 новорожденных маль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оявляется синдромом полового недо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е X-Y полисомии у лиц мужского по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7 - XXY;        47 - XYY;        48 - XXXY;      48 - XYY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8 - XXYY;      49 - XXXXY;   49 - XXXY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683280" y="260280"/>
            <a:ext cx="80629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иническая выявляется в пубертатном период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ий рост, астеническая конституция (уз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ечи, широкий таз, слаборазвитая мускулатур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погенитализм (скудная растительность на лиц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некомастия). Хотя наружные половые орг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жского типа и половая функция у молод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дей сохраняется, продолжение рода ча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невозможно вследствие атрофии с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нальцев и аспермии. Около 20% муж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плодия имеют в основе синдром Клайнфел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1" descr="http://jeffline.tju.edu/Education/dl/PA570/cases/images/CASE3B-10.JPG"/>
          <p:cNvPicPr/>
          <p:nvPr/>
        </p:nvPicPr>
        <p:blipFill>
          <a:blip r:embed="rId1"/>
          <a:stretch/>
        </p:blipFill>
        <p:spPr>
          <a:xfrm>
            <a:off x="5143680" y="214200"/>
            <a:ext cx="2500200" cy="64137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"/>
          <p:cNvSpPr/>
          <p:nvPr/>
        </p:nvSpPr>
        <p:spPr>
          <a:xfrm>
            <a:off x="214920" y="214200"/>
            <a:ext cx="387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йнфельт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ГИНЕКОМАСТИЯ у пациента с синдромом Клайнфельтера"/>
          <p:cNvPicPr/>
          <p:nvPr/>
        </p:nvPicPr>
        <p:blipFill>
          <a:blip r:embed="rId2"/>
          <a:stretch/>
        </p:blipFill>
        <p:spPr>
          <a:xfrm>
            <a:off x="928800" y="2071800"/>
            <a:ext cx="2643120" cy="42926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735840" y="324000"/>
            <a:ext cx="69274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но имеется некоторая задерж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ственного развития, вялость, инерт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сивность, отсутствие должного интер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окружающему, склонность к аффек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яются и небольшие орга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я - частичный птоз, нистагмо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изорефлексия, миопия, астигматизм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573120" y="214200"/>
            <a:ext cx="826560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164520" y="142920"/>
            <a:ext cx="11728080" cy="89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82520" y="260280"/>
            <a:ext cx="7534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сомные болезни -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уна, Клайнфелте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решевского-Тернера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омные болезни - 3-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ессивная мышечная дистроф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ые атаксии, дрож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ич, миотония, хорея Гентингто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о-церебральная дистроф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тическая параплег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2% всех заболеваний нерв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"/>
          <p:cNvSpPr/>
          <p:nvPr/>
        </p:nvSpPr>
        <p:spPr>
          <a:xfrm>
            <a:off x="281160" y="142920"/>
            <a:ext cx="357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др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ерешевског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Девочка с синдромом Тёрнера"/>
          <p:cNvPicPr/>
          <p:nvPr/>
        </p:nvPicPr>
        <p:blipFill>
          <a:blip r:embed="rId1"/>
          <a:stretch/>
        </p:blipFill>
        <p:spPr>
          <a:xfrm>
            <a:off x="2333520" y="1619280"/>
            <a:ext cx="2238480" cy="5238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Новый рисунок (37)"/>
          <p:cNvPicPr/>
          <p:nvPr/>
        </p:nvPicPr>
        <p:blipFill>
          <a:blip r:embed="rId2"/>
          <a:stretch/>
        </p:blipFill>
        <p:spPr>
          <a:xfrm>
            <a:off x="5562720" y="533520"/>
            <a:ext cx="3057480" cy="45338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662040" y="271440"/>
            <a:ext cx="77565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та клинических проявл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орослость - 98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авильное телосложение - 92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чкообразная грудная клетка - 75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очение шеи - 63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 рост волос на шее - 57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е «готическое» нёбо - 5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овидные складки кожи в области шеи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рмация ушных раковин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очение костей и аплазия фаланг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рмация локтевых суставов - 3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енные пигментные родинки - 35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мфостаз - 24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ки сердца и крупных сосудов - 22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ное артериальное давление - 17 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271440" y="179280"/>
            <a:ext cx="81756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мосомных болезней начинаю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ском возрасте: общеукрепляющие (аминал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ребролизин, ноотропил), анаболические стер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етаболил), в пубертатном возрасте – половые горм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синдроме Клайнфелтера - тестостерона пропион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1 мл 1% раствора 1 - 3 раза в неделю или тетрастер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устанон) по 1 мл в/м 1 раз в месяц. При синдро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ерешевского-Тернера - этинилэстрадиол, микрофолл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0,00015 г и прегнин по 0,03 r в день, циклами 16 и 7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уменьшает нервно-психические и вегетатив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мональные расстр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о благоприятен. Высока де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ертность. Рано наступает стар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олжительность жизни в целом сниж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тя отдельные больные и доживают до пожилог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же старческ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6"/>
          <p:cNvSpPr/>
          <p:nvPr/>
        </p:nvSpPr>
        <p:spPr>
          <a:xfrm>
            <a:off x="245880" y="214200"/>
            <a:ext cx="79516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Дауна – трисомия 21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Клайнфелтер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рисомия половых хромосом – (ХХ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моносомия половой хромосомы (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Эдвардса - трисомия 18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Патау - трисомия 13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73880" y="214200"/>
            <a:ext cx="771372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6 хромосом - 44 аутосомы и 2 половых хр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сомы: мужчины - ХУ, женщины - Х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 групп хромосом - А, В, С, D, F, 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е группы - более круп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ующие - более мелкие хромосо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ромосомах разное количество ген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Y-хромосоме несколько ген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вых хромосомах А и В – тысячи ге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 пара хромосом наиболее насыщ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ивными г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в хромосомах человека насчит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оло 100 000 генов. (По данным разных ав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00 до 140 000 генов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171720" y="214200"/>
            <a:ext cx="911124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рушения структуры хромо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ло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менные перестройки 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омологичными хромосом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тери участка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вер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вороты участка хромосомы на 180 граду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пл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двоения участка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хромосом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ромосомы с повторяющим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тическим материалом в обоих плеч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новение кольцевых хромо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еди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 концевых делеций в обоих плечах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человека известно более 700 заболева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ванных изменением числа или структуры хромо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 25% приходится на аутосомные трисом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6% – на патологию половых хромо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ые перестройки составляют 10,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хромосомных перестроек наиболее часто встреч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локации и дел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407520" y="515880"/>
            <a:ext cx="8044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развития хромосомных заболе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е значима патология яйцекле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ее значима патология сперматозои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роженицы старше 33-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овокупный возраст родителей более 80-8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лизкородственные брак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40480" y="285840"/>
            <a:ext cx="783396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исомия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рожденное слабоум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66 году Джон Даун описал этот синдром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59 году Джер Леже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етическую прир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матери старше 33-40 лет (9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частота - до 25 лет - 1/1400, до 30 - 1/100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35 - 1/350, 42 - 1/60, 49 - до 1/1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0% даунов рождены матерями до 30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отца (10%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лизкородственные бр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ой возраст матери роженицы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амика к уменьшению - 1/700            1/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Прямая со стрелкой 6"/>
          <p:cNvCxnSpPr/>
          <p:nvPr/>
        </p:nvCxnSpPr>
        <p:spPr>
          <a:xfrm>
            <a:off x="5572080" y="6428880"/>
            <a:ext cx="572400" cy="2520"/>
          </a:xfrm>
          <a:prstGeom prst="straightConnector1">
            <a:avLst/>
          </a:prstGeom>
          <a:ln w="507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3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431280" y="7858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Графическое представление нормального человеческого кариотипа."/>
          <p:cNvPicPr/>
          <p:nvPr/>
        </p:nvPicPr>
        <p:blipFill>
          <a:blip r:embed="rId1"/>
          <a:stretch/>
        </p:blipFill>
        <p:spPr>
          <a:xfrm>
            <a:off x="214200" y="1357200"/>
            <a:ext cx="3929040" cy="42354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>
            <a:off x="4289040" y="16430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Изображение:Down Syndrome Karyotype.png"/>
          <p:cNvPicPr/>
          <p:nvPr/>
        </p:nvPicPr>
        <p:blipFill>
          <a:blip r:embed="rId2"/>
          <a:stretch/>
        </p:blipFill>
        <p:spPr>
          <a:xfrm>
            <a:off x="4572000" y="1357200"/>
            <a:ext cx="3968640" cy="42609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228240" y="142920"/>
            <a:ext cx="28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хромос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592160" y="142920"/>
            <a:ext cx="34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хромосом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зни Да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верх 11"/>
          <p:cNvSpPr/>
          <p:nvPr/>
        </p:nvSpPr>
        <p:spPr>
          <a:xfrm>
            <a:off x="5929200" y="571500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360000" y="17859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1" descr="Сегодня в мире каждый шестисотый ребенок рождается с синдромом Дауна (фото с сайта www.einstein-syndrome.com)"/>
          <p:cNvPicPr/>
          <p:nvPr/>
        </p:nvPicPr>
        <p:blipFill>
          <a:blip r:embed="rId1"/>
          <a:stretch/>
        </p:blipFill>
        <p:spPr>
          <a:xfrm>
            <a:off x="138240" y="1019160"/>
            <a:ext cx="2970000" cy="35193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3"/>
          <p:cNvSpPr/>
          <p:nvPr/>
        </p:nvSpPr>
        <p:spPr>
          <a:xfrm>
            <a:off x="155160" y="142920"/>
            <a:ext cx="393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дром Да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http://www.hram-st.obninsk.ru/arxiv/2006/sda.jpg"/>
          <p:cNvPicPr/>
          <p:nvPr/>
        </p:nvPicPr>
        <p:blipFill>
          <a:blip r:embed="rId2"/>
          <a:stretch/>
        </p:blipFill>
        <p:spPr>
          <a:xfrm>
            <a:off x="5442120" y="2514600"/>
            <a:ext cx="2786040" cy="3732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Новый рисунок (34)"/>
          <p:cNvPicPr/>
          <p:nvPr/>
        </p:nvPicPr>
        <p:blipFill>
          <a:blip r:embed="rId3"/>
          <a:stretch/>
        </p:blipFill>
        <p:spPr>
          <a:xfrm>
            <a:off x="4738680" y="142920"/>
            <a:ext cx="4191120" cy="2162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Новый рисунок (35)"/>
          <p:cNvPicPr/>
          <p:nvPr/>
        </p:nvPicPr>
        <p:blipFill>
          <a:blip r:embed="rId4"/>
          <a:stretch/>
        </p:blipFill>
        <p:spPr>
          <a:xfrm>
            <a:off x="138240" y="4559400"/>
            <a:ext cx="4038480" cy="20858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07T12:57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