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8C00-180B-4F3D-A68D-A3AF71F211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F9A0-346F-41DC-9FC2-1F3D6F175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E789-75D0-4ADD-BCDD-B6BCD174B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6B2C-004B-4702-BB67-EB8235ED8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D6A-FABE-42E5-A8BF-E5507F401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FF32-D054-459B-AEFB-862F34A418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F40C-97C0-4893-9C1F-02D83E2EE8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F3B9-F544-4E5E-BD94-4C69470376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CA2F-F67B-42AA-A411-2155C41479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D005-802C-4B5C-B4EE-B9239BE55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ота клинических проявл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рослость - 98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авильное телосложение - 9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чкообразная грудная клетка - 7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шеи - 63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рост волос на шее - 57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«готическое» нёбо - 5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овидные складки кожи в области шеи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ушных раковин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костей и аплазия фаланг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локтевых суставов - 3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енные пигментные родинки - 3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стаз - 24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ки сердца и крупных сосудов - 2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ртериальное давление - 17 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C232-BA11-408F-89E6-01C5D1F448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D72C-FD73-4D2D-9213-DFF4B8668F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6FF7-00CA-486D-B20A-26E524FE55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25 000 до 140 000 генов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F88F-F58A-4D8F-A1AF-16D4D83AD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структуры хром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ло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менные перестройк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мологичными хромос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е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тери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вороты участка хромосомы на 180 граду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пл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двоения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хромосо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хромосомы с повторяю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им материалом в обоих плеч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новение кольцевых хром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 концевых делеций в обоих плечах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человека известно более 700 заболе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ванных изменением числа или структуры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25% приходится на аутосомные трисом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% – на патологию половых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е перестройки составляют 10,4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ромосомных перестроек наиболее часто встреч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локации и дел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EC37-9F3A-4C19-86F5-108E3658F6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1336-4C54-4298-A79D-CD180184F6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9 году Джер Лежен - генетическ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C7E-1AAD-4302-A732-B780B5616A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782-E096-43B7-881B-DACCD3A1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04B-40FC-4A0D-BD66-5AB3E37F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B5A-EAFA-4A10-865E-3C5349AB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62E-DBB9-49D5-B530-DA0BDFF7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43F1-65FB-48CF-8AE2-16E0F085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AEF1-7026-47B7-A6F3-02CD26DA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BDAD-885B-4EB8-8BF3-B4611042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5F38-3599-4340-B56C-EA196998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33C5-9627-4932-A948-68266245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890F-4C65-42D8-B64A-671B1D37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9DC1-05D1-405B-AC7A-332B60D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E81-30B1-461B-B38E-07566FC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11A7-F4FB-498C-835C-D13D102A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5455-9474-4D8B-B7BB-F718CE5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26F5-4154-4C00-8A8E-57894561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1309-AD58-4850-88BF-095460D8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CEC6-B0DE-433B-9C18-71EB0A41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D5EA-4A28-47AC-AC74-64120D22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ACF7E-1942-4AFA-84A6-535F3AB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4744-0C92-4AA9-AE8F-79314A9D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4A62-2323-4D5B-B8C8-E1406C3D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0AD9-37B8-49A9-BF88-3F8DE632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2F0-90B2-4B62-AEF6-A7FFCDB3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4890-BEA8-4AF1-BDC7-A8470DB4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C60C-18CB-45AA-8653-8D6E3B0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DADC-127C-4D58-B8FE-E433B83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C0DA-3C65-4232-AFE0-D3722D97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6EE5-1D9F-4177-A8AC-842B676A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93E6-FC8E-4392-B22F-E641C692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BA4F-8986-4C17-B208-BE528EF3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C122-90D4-41A6-92F8-003FE546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450E-CB5B-43EB-9E53-F2FD53C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AA9EA-C555-41E6-8E44-4CC2E628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EA9-5D32-4E92-81F9-F87965EF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EF33-F1AA-48F5-A039-C11F2ACF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3C84-8662-4EBB-877C-58FF3D2E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A759-1465-47AF-BDCB-4FE921F6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C1B3D-C401-4347-B949-5FB40AA3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AB2E-F7C5-487E-B8AD-2B6C197B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7FC07-2616-4F82-A390-D56AF28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C7B6-3DC6-4B95-9D24-E7BB4D8D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E2472-22BA-4A44-A01E-C9257354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68D67-60DB-4392-A637-28BDAEB9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6289-6BC5-4D5E-8C5F-092C4815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18F-132E-482D-8AF9-DF628C73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2F9D-E27C-4478-AC2C-41B690BE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D9947-C4CA-48C6-8964-484EE3DA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9BEE-118E-44B6-BA45-6DA75498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0D1E-4623-4EE3-8D60-4DF4B490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DE09-BCE2-4600-9303-E49BA360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6048-878F-4E73-93C7-B4969068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62FDE-FF73-441F-8FF5-A0D51CD5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6159-55D3-487F-8F1A-39B5355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6A062-8A18-406E-BBE3-E9CBA3C0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0C345-607E-49DD-B8C6-7A7F428A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BAC-370B-434E-BEB7-A7A4E041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799E0-4936-4692-BB31-12EAE844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054-D3DE-4E9C-A710-3F6F0118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E59-75FE-4539-9F33-095880A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60B-90F5-4055-AD3A-58807B59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513A-CAEB-4775-B16D-C83D24C7770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1A2-6902-4821-874F-D9A008AB9CC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522-8334-4C07-ABB6-4A96429ABAC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E7AF-E71F-47B8-84BD-DC0A11468FD2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8ABB-9DB0-417F-A59D-9EC298C7601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95280" y="18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У ВПО «РОССИЙСКИЙ УНИВЕРСИТЕТ ДРУЖБЫ НАРОД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ФЕДРА НЕРВНЫХ БОЛЕЗНЕЙ И НЕЙРОХИРУ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-3"/>
          <p:cNvPicPr/>
          <p:nvPr/>
        </p:nvPicPr>
        <p:blipFill>
          <a:blip r:embed="rId1"/>
          <a:stretch/>
        </p:blipFill>
        <p:spPr>
          <a:xfrm>
            <a:off x="214200" y="1428840"/>
            <a:ext cx="302904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www.iks.ru/~soroka/r-22.jpg"/>
          <p:cNvPicPr/>
          <p:nvPr/>
        </p:nvPicPr>
        <p:blipFill>
          <a:blip r:embed="rId2"/>
          <a:stretch/>
        </p:blipFill>
        <p:spPr>
          <a:xfrm>
            <a:off x="3747960" y="857160"/>
            <a:ext cx="2538720" cy="2714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http://www.iks.ru/~soroka/mlad.jpg"/>
          <p:cNvPicPr/>
          <p:nvPr/>
        </p:nvPicPr>
        <p:blipFill>
          <a:blip r:embed="rId3"/>
          <a:stretch/>
        </p:blipFill>
        <p:spPr>
          <a:xfrm>
            <a:off x="6429240" y="857160"/>
            <a:ext cx="2571840" cy="2702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58040" y="7858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ая лад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867200" y="285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донь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854-1"/>
          <p:cNvPicPr/>
          <p:nvPr/>
        </p:nvPicPr>
        <p:blipFill>
          <a:blip r:embed="rId4"/>
          <a:stretch/>
        </p:blipFill>
        <p:spPr>
          <a:xfrm>
            <a:off x="4429080" y="3643200"/>
            <a:ext cx="3606840" cy="30718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100"/>
                </a:solidFill>
                <a:latin typeface="Franklin Gothic Book"/>
                <a:ea typeface="Tunga"/>
              </a:rPr>
              <a:t>ДЕТИ, СТРАДАЮЩИЕ БОЛЕЗНЬЮ ДАУНА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2436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73536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89080" y="284040"/>
            <a:ext cx="792108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16360" y="260280"/>
            <a:ext cx="8129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38080" y="87480"/>
            <a:ext cx="78296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3280" y="260280"/>
            <a:ext cx="8062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http://jeffline.tju.edu/Education/dl/PA570/cases/images/CASE3B-10.JPG"/>
          <p:cNvPicPr/>
          <p:nvPr/>
        </p:nvPicPr>
        <p:blipFill>
          <a:blip r:embed="rId1"/>
          <a:stretch/>
        </p:blipFill>
        <p:spPr>
          <a:xfrm>
            <a:off x="5143680" y="214200"/>
            <a:ext cx="2500200" cy="641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214920" y="21420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йнфель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ГИНЕКОМАСТИЯ у пациента с синдромом Клайнфельтера"/>
          <p:cNvPicPr/>
          <p:nvPr/>
        </p:nvPicPr>
        <p:blipFill>
          <a:blip r:embed="rId2"/>
          <a:stretch/>
        </p:blipFill>
        <p:spPr>
          <a:xfrm>
            <a:off x="928800" y="2071800"/>
            <a:ext cx="2643120" cy="4292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35840" y="324000"/>
            <a:ext cx="6927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73120" y="214200"/>
            <a:ext cx="82656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4520" y="142920"/>
            <a:ext cx="1172808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82520" y="260280"/>
            <a:ext cx="7534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81160" y="142920"/>
            <a:ext cx="357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ешевског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Девочка с синдромом Тёрнера"/>
          <p:cNvPicPr/>
          <p:nvPr/>
        </p:nvPicPr>
        <p:blipFill>
          <a:blip r:embed="rId1"/>
          <a:stretch/>
        </p:blipFill>
        <p:spPr>
          <a:xfrm>
            <a:off x="2333520" y="1619280"/>
            <a:ext cx="2238480" cy="523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Новый рисунок (37)"/>
          <p:cNvPicPr/>
          <p:nvPr/>
        </p:nvPicPr>
        <p:blipFill>
          <a:blip r:embed="rId2"/>
          <a:stretch/>
        </p:blipFill>
        <p:spPr>
          <a:xfrm>
            <a:off x="5562720" y="533520"/>
            <a:ext cx="3057480" cy="45338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62040" y="271440"/>
            <a:ext cx="7756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та клинических про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рослость - 98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телосложение - 9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ообразная грудная клетка - 7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шеи - 63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рост волос на шее - 57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«готическое» нёбо - 5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идные складки кожи в области шеи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ушных раковин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костей и аплазия фаланг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локтевых суставов - 3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ые пигментные родинки - 3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мфостаз - 24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ки сердца и крупных сосудов - 2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е артериальное давление - 17 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71440" y="179280"/>
            <a:ext cx="817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245880" y="214200"/>
            <a:ext cx="79516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3880" y="214200"/>
            <a:ext cx="77137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00 до 140 000 генов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71720" y="214200"/>
            <a:ext cx="911124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ушения структуры хром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о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менные перестройки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омологичными хромос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тери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ороты участка хромосомы на 18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пл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двоения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хромосо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ромосомы с повторя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м материалом в обоих пл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кольцевых хромо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концевых делеций в обоих плечах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известно более 700 заболе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нных изменением числа или структуры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5% приходится на аутосомные трисом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% – на патологию половых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перестройки составляют 10,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хромосомных перестроек наиболее часто встреч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локации и дел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7520" y="515880"/>
            <a:ext cx="8044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0480" y="285840"/>
            <a:ext cx="783396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59 году Джер Леж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тическую 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6"/>
          <p:cNvCxnSpPr/>
          <p:nvPr/>
        </p:nvCxnSpPr>
        <p:spPr>
          <a:xfrm>
            <a:off x="5572080" y="6428880"/>
            <a:ext cx="572400" cy="2520"/>
          </a:xfrm>
          <a:prstGeom prst="straightConnector1">
            <a:avLst/>
          </a:prstGeom>
          <a:ln w="507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3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31280" y="785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Графическое представление нормального человеческого кариотипа.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4235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4289040" y="16430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Изображение:Down Syndrome Karyotype.png"/>
          <p:cNvPicPr/>
          <p:nvPr/>
        </p:nvPicPr>
        <p:blipFill>
          <a:blip r:embed="rId2"/>
          <a:stretch/>
        </p:blipFill>
        <p:spPr>
          <a:xfrm>
            <a:off x="4572000" y="1357200"/>
            <a:ext cx="3968640" cy="4260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228240" y="14292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92160" y="14292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верх 11"/>
          <p:cNvSpPr/>
          <p:nvPr/>
        </p:nvSpPr>
        <p:spPr>
          <a:xfrm>
            <a:off x="5929200" y="571500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60000" y="1785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Сегодня в мире каждый шестисотый ребенок рождается с синдромом Дауна (фото с сайта www.einstein-syndrome.com)"/>
          <p:cNvPicPr/>
          <p:nvPr/>
        </p:nvPicPr>
        <p:blipFill>
          <a:blip r:embed="rId1"/>
          <a:stretch/>
        </p:blipFill>
        <p:spPr>
          <a:xfrm>
            <a:off x="138240" y="1019160"/>
            <a:ext cx="2970000" cy="3519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55160" y="142920"/>
            <a:ext cx="39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www.hram-st.obninsk.ru/arxiv/2006/sda.jpg"/>
          <p:cNvPicPr/>
          <p:nvPr/>
        </p:nvPicPr>
        <p:blipFill>
          <a:blip r:embed="rId2"/>
          <a:stretch/>
        </p:blipFill>
        <p:spPr>
          <a:xfrm>
            <a:off x="5442120" y="2514600"/>
            <a:ext cx="2786040" cy="3732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Новый рисунок (34)"/>
          <p:cNvPicPr/>
          <p:nvPr/>
        </p:nvPicPr>
        <p:blipFill>
          <a:blip r:embed="rId3"/>
          <a:stretch/>
        </p:blipFill>
        <p:spPr>
          <a:xfrm>
            <a:off x="4738680" y="14292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Новый рисунок (35)"/>
          <p:cNvPicPr/>
          <p:nvPr/>
        </p:nvPicPr>
        <p:blipFill>
          <a:blip r:embed="rId4"/>
          <a:stretch/>
        </p:blipFill>
        <p:spPr>
          <a:xfrm>
            <a:off x="138240" y="4559400"/>
            <a:ext cx="4038480" cy="20858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7T12:57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