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8B19-1E72-429C-A78D-275549B968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F670-C189-4CED-B5DD-A0460A3B76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4B83-E4DD-42FB-B0D4-ED11A20AAE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2BEE-8959-4DF7-BF7C-DA40BB5E6F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02FF-F2DA-44E6-8B80-81ACA4ED56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340E-72ED-4677-8D88-39763AE7B6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C770-34FF-4934-B9A5-14154FFCC8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F327-101B-4EC7-900D-3190A36950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FD33-548A-4E87-A57E-0AEBB72CF5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05EE-5C24-47C3-84AA-0BCAC90366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ота клинических проявл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рослость - 98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авильное телосложение - 9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чкообразная грудная клетка - 7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шеи - 63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рост волос на шее - 57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«готическое» нёбо - 5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овидные складки кожи в области шеи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ушных раковин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костей и аплазия фаланг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локтевых суставов - 3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енные пигментные родинки - 3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стаз - 24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ки сердца и крупных сосудов - 2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ртериальное давление - 17 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1C57-6D54-4D3B-BF2E-37E7AC8AB0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3AE3-EA05-4CC3-875C-C740F0D04D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EB1-2BC4-4B76-A233-28626D0D23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25 000 до 140 000 генов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6852-5AC8-4B1F-BDA7-7B29CB14C7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я структуры хромо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ло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менные перестройк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мологичными хромос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е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тери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р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вороты участка хромосомы на 180 граду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пл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двоения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хромосо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хромосомы с повторяю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им материалом в обоих плеч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новение кольцевых хром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 концевых делеций в обоих плечах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человека известно более 700 заболе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ванных изменением числа или структуры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25% приходится на аутосомные трисом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% – на патологию половых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е перестройки составляют 10,4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ромосомных перестроек наиболее часто встреч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локации и дел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8577-09B2-4E56-BECD-1779572345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B40A-78D3-4D40-A6E2-C868EBFA9A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9 году Джер Лежен - генетическ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8A9B-16F6-421A-9A54-D09FE835A1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BF2-CB34-450C-A034-F6293F60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8E8-8CCF-432D-B037-DD35D324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E4D-C533-4814-ABA2-6B32BD9D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606-EE7F-4177-AD4B-EEBED814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1D3F-F8CD-40F8-B90B-008E8A64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9E42-0913-48AB-8399-AB1CEB9C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833D-3F88-460E-A1AF-58483D2A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8DB8-0AD9-4833-8563-10579028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1959-114F-49CA-8CE1-E5CD5548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C214-1494-4298-9245-BC485669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0095-1565-40A6-82D4-9489A22F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7F1-FB0C-41E4-A072-9FD56514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3DD8-8DCF-4CC2-9882-EDB440D9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2769-1130-4A4E-BB13-F563054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3AEC-A86A-4F58-B94A-80C9121E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B4EE-C8B9-425B-804A-DC44997B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A841-7A66-4542-8D4A-9626F381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0CC5-B6B1-45A6-B82C-C821815C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342E-6B13-441C-97A6-9C9E5769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75B96-F996-4396-9A91-AEF7B9D4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7D1A4-F971-44E6-9C8B-4532D73C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70C4-8EB9-4F1E-ACD8-B623356D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7D5-297D-4A11-9EA0-BCB84B6F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5262-2917-4A02-936E-8C0E50C5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B928-9346-464A-AC20-BDC6FE8C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FC5EA-F10E-4DF0-8DF0-2E0C4FE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AA0E-16E8-40E2-9F26-5016E171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CF27-49F2-460A-BCBE-0203E9EA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4568-49C3-44B6-82E9-E91BC992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555B-F000-4265-AA48-94AEEA77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0717-A3B2-441C-9BB0-B6FFA1CD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C4F61-B961-4921-947C-3666299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8068-7190-48E4-8BAB-66466226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5B7-788A-43C7-9B77-5E3E46F3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6CE8-1AEF-4C12-88F2-CF5D3188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D36E9-02A4-46DF-84CC-3B090907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1EF3-6796-4665-9FD9-C49D7445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7A36E-0769-4D4E-833E-B7AC2C05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A83F2-24BB-40EA-9DB5-1672E2AC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1C84A-5663-4561-8384-3F9D18D3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988D2-48F7-4CDB-8139-3BC7A97C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7A39-35FB-4349-9299-D02F3928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ED01B-D761-4239-97F4-8285C5D6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D4A36-929E-4ADB-94F5-44DCC4B6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F02-4F35-484A-8AF7-49518217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B8DDA-1316-4E15-88B8-C3E7B305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C0A11-916A-408D-965E-0EED83C5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F92CE-B085-4DC1-B3DA-3F96C027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F293C-2BF2-413C-82BA-96035D63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0C62-CB17-4F91-97DD-F9C64C52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331B2-E5D2-43B5-9D8C-44610209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9B88F-F01D-4198-AAE4-EA75CC6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7DA3A-180C-4427-8699-266B715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4F36F-ECA7-474C-99EF-759496B1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4745B-D4A9-4701-9E59-8A0923E9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0C3-A331-4A18-8469-1D6C6C8C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A224F-2238-4BA1-82B7-6AD26A7F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05C-B6ED-4BF6-B348-6FA90ADC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4AB-7171-46CA-B4BB-D564E77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9A7-D475-45A8-902C-9AF1D8C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7A5F-82C8-4579-B241-9F02A4AF199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AA8A-4508-4BD5-A1C0-C4291D1D542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FDED-0A1B-48E8-B151-9E64840427A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87BF-5C72-48F3-8262-FCC73AF313BA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907C-5FB6-4A77-B5BB-9AB3899CB11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95280" y="18900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У ВПО «РОССИЙСКИЙ УНИВЕРСИТЕТ ДРУЖБЫ НАРОД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ФЕДРА НЕРВНЫХ БОЛЕЗНЕЙ И НЕЙРОХИРУ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1-3"/>
          <p:cNvPicPr/>
          <p:nvPr/>
        </p:nvPicPr>
        <p:blipFill>
          <a:blip r:embed="rId1"/>
          <a:stretch/>
        </p:blipFill>
        <p:spPr>
          <a:xfrm>
            <a:off x="214200" y="1428840"/>
            <a:ext cx="302904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www.iks.ru/~soroka/r-22.jpg"/>
          <p:cNvPicPr/>
          <p:nvPr/>
        </p:nvPicPr>
        <p:blipFill>
          <a:blip r:embed="rId2"/>
          <a:stretch/>
        </p:blipFill>
        <p:spPr>
          <a:xfrm>
            <a:off x="3747960" y="857160"/>
            <a:ext cx="2538720" cy="27147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http://www.iks.ru/~soroka/mlad.jpg"/>
          <p:cNvPicPr/>
          <p:nvPr/>
        </p:nvPicPr>
        <p:blipFill>
          <a:blip r:embed="rId3"/>
          <a:stretch/>
        </p:blipFill>
        <p:spPr>
          <a:xfrm>
            <a:off x="6429240" y="857160"/>
            <a:ext cx="2571840" cy="27021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158040" y="78588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ая лад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4867200" y="28584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донь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854-1"/>
          <p:cNvPicPr/>
          <p:nvPr/>
        </p:nvPicPr>
        <p:blipFill>
          <a:blip r:embed="rId4"/>
          <a:stretch/>
        </p:blipFill>
        <p:spPr>
          <a:xfrm>
            <a:off x="4429080" y="3643200"/>
            <a:ext cx="3606840" cy="30718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569440" cy="1152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1100"/>
                </a:solidFill>
                <a:latin typeface="Franklin Gothic Book"/>
                <a:ea typeface="Tunga"/>
              </a:rPr>
              <a:t>ДЕТИ, СТРАДАЮЩИЕ БОЛЕЗНЬЮ ДАУНА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924360" cy="457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73536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89080" y="284040"/>
            <a:ext cx="792108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16360" y="260280"/>
            <a:ext cx="81298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38080" y="87480"/>
            <a:ext cx="78296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683280" y="260280"/>
            <a:ext cx="80629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" descr="http://jeffline.tju.edu/Education/dl/PA570/cases/images/CASE3B-10.JPG"/>
          <p:cNvPicPr/>
          <p:nvPr/>
        </p:nvPicPr>
        <p:blipFill>
          <a:blip r:embed="rId1"/>
          <a:stretch/>
        </p:blipFill>
        <p:spPr>
          <a:xfrm>
            <a:off x="5143680" y="214200"/>
            <a:ext cx="2500200" cy="6413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214920" y="214200"/>
            <a:ext cx="38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йнфель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ГИНЕКОМАСТИЯ у пациента с синдромом Клайнфельтера"/>
          <p:cNvPicPr/>
          <p:nvPr/>
        </p:nvPicPr>
        <p:blipFill>
          <a:blip r:embed="rId2"/>
          <a:stretch/>
        </p:blipFill>
        <p:spPr>
          <a:xfrm>
            <a:off x="928800" y="2071800"/>
            <a:ext cx="2643120" cy="4292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735840" y="324000"/>
            <a:ext cx="6927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73120" y="214200"/>
            <a:ext cx="826560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64520" y="142920"/>
            <a:ext cx="11728080" cy="89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82520" y="260280"/>
            <a:ext cx="7534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281160" y="142920"/>
            <a:ext cx="357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д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решевског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Девочка с синдромом Тёрнера"/>
          <p:cNvPicPr/>
          <p:nvPr/>
        </p:nvPicPr>
        <p:blipFill>
          <a:blip r:embed="rId1"/>
          <a:stretch/>
        </p:blipFill>
        <p:spPr>
          <a:xfrm>
            <a:off x="2333520" y="1619280"/>
            <a:ext cx="2238480" cy="523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Новый рисунок (37)"/>
          <p:cNvPicPr/>
          <p:nvPr/>
        </p:nvPicPr>
        <p:blipFill>
          <a:blip r:embed="rId2"/>
          <a:stretch/>
        </p:blipFill>
        <p:spPr>
          <a:xfrm>
            <a:off x="5562720" y="533520"/>
            <a:ext cx="3057480" cy="45338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62040" y="271440"/>
            <a:ext cx="77565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та клинических проявл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рослость - 98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телосложение - 9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чкообразная грудная клетка - 7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шеи - 63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рост волос на шее - 57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е «готическое» нёбо - 5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идные складки кожи в области шеи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ушных раковин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костей и аплазия фаланг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локтевых суставов - 3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енные пигментные родинки - 3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мфостаз - 24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ки сердца и крупных сосудов - 2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ое артериальное давление - 17 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71440" y="179280"/>
            <a:ext cx="817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245880" y="214200"/>
            <a:ext cx="79516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73880" y="214200"/>
            <a:ext cx="77137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00 до 140 000 генов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71720" y="214200"/>
            <a:ext cx="911124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ушения структуры хромо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ло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менные перестройки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омологичными хромосо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тери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ороты участка хромосомы на 180 граду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пл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двоения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хромосо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ромосомы с повторяю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тическим материалом в обоих плеч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кольцевых хромо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концевых делеций в обоих плечах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человека известно более 700 заболев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нных изменением числа или структуры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25% приходится на аутосомные трисом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% – на патологию половых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е перестройки составляют 10,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хромосомных перестроек наиболее часто встреч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локации и дел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407520" y="515880"/>
            <a:ext cx="8044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40480" y="285840"/>
            <a:ext cx="783396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59 году Джер Леж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тическую при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6"/>
          <p:cNvCxnSpPr/>
          <p:nvPr/>
        </p:nvCxnSpPr>
        <p:spPr>
          <a:xfrm>
            <a:off x="5572080" y="6428880"/>
            <a:ext cx="572400" cy="2520"/>
          </a:xfrm>
          <a:prstGeom prst="straightConnector1">
            <a:avLst/>
          </a:prstGeom>
          <a:ln w="507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3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431280" y="7858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Графическое представление нормального человеческого кариотипа."/>
          <p:cNvPicPr/>
          <p:nvPr/>
        </p:nvPicPr>
        <p:blipFill>
          <a:blip r:embed="rId1"/>
          <a:stretch/>
        </p:blipFill>
        <p:spPr>
          <a:xfrm>
            <a:off x="214200" y="1357200"/>
            <a:ext cx="3929040" cy="42354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4289040" y="16430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Изображение:Down Syndrome Karyotype.png"/>
          <p:cNvPicPr/>
          <p:nvPr/>
        </p:nvPicPr>
        <p:blipFill>
          <a:blip r:embed="rId2"/>
          <a:stretch/>
        </p:blipFill>
        <p:spPr>
          <a:xfrm>
            <a:off x="4572000" y="1357200"/>
            <a:ext cx="3968640" cy="42609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228240" y="142920"/>
            <a:ext cx="28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592160" y="142920"/>
            <a:ext cx="34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зни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верх 11"/>
          <p:cNvSpPr/>
          <p:nvPr/>
        </p:nvSpPr>
        <p:spPr>
          <a:xfrm>
            <a:off x="5929200" y="571500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360000" y="17859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1" descr="Сегодня в мире каждый шестисотый ребенок рождается с синдромом Дауна (фото с сайта www.einstein-syndrome.com)"/>
          <p:cNvPicPr/>
          <p:nvPr/>
        </p:nvPicPr>
        <p:blipFill>
          <a:blip r:embed="rId1"/>
          <a:stretch/>
        </p:blipFill>
        <p:spPr>
          <a:xfrm>
            <a:off x="138240" y="1019160"/>
            <a:ext cx="2970000" cy="3519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"/>
          <p:cNvSpPr/>
          <p:nvPr/>
        </p:nvSpPr>
        <p:spPr>
          <a:xfrm>
            <a:off x="155160" y="142920"/>
            <a:ext cx="393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 Да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http://www.hram-st.obninsk.ru/arxiv/2006/sda.jpg"/>
          <p:cNvPicPr/>
          <p:nvPr/>
        </p:nvPicPr>
        <p:blipFill>
          <a:blip r:embed="rId2"/>
          <a:stretch/>
        </p:blipFill>
        <p:spPr>
          <a:xfrm>
            <a:off x="5442120" y="2514600"/>
            <a:ext cx="2786040" cy="3732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Новый рисунок (34)"/>
          <p:cNvPicPr/>
          <p:nvPr/>
        </p:nvPicPr>
        <p:blipFill>
          <a:blip r:embed="rId3"/>
          <a:stretch/>
        </p:blipFill>
        <p:spPr>
          <a:xfrm>
            <a:off x="4738680" y="142920"/>
            <a:ext cx="4191120" cy="2162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Новый рисунок (35)"/>
          <p:cNvPicPr/>
          <p:nvPr/>
        </p:nvPicPr>
        <p:blipFill>
          <a:blip r:embed="rId4"/>
          <a:stretch/>
        </p:blipFill>
        <p:spPr>
          <a:xfrm>
            <a:off x="138240" y="4559400"/>
            <a:ext cx="4038480" cy="20858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7T12:57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