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6619-1666-4507-8776-F4FA59B718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7658-484F-4A22-A3EF-FA6148B8C0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АЯ 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лнечной системе существует много планет и звё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наете  ли  вы  ,что сам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шая звезда -это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каком месте наша земля от солнца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BD22-4030-4EA4-986C-5995EB44ED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3C4A-3E76-40A1-A293-B681943B64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7873-1B70-4370-882C-4220D71AFD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 АЛЕКСА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FD3E-BDB7-4229-B099-E9BBC0E4B8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328-16FE-4E75-9D31-A69F9461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56F-C828-405B-A065-871AD340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C94-FCB8-420E-ADF1-9616B3DF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735-16F8-4026-9880-02BD8DD8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CD11-2D38-4CD5-80E0-EAF0B5AB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B22B-6FEC-48CA-B317-6BBC8222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517E-128A-4441-A56C-9D7E582F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0749-BA69-4FF1-AF3D-3E12ED99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3F17-53F7-49B8-A4BE-C0A1749A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1941-68AE-439D-A62F-3CB85C5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A500-69E4-43D8-804C-04AD7DDA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FC2-D868-4D2B-B30B-78BFA74C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295C-414E-4ED5-BB49-7F3B23C2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60C5-0E67-4F8B-8C69-2E99B905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283B-25BB-4370-BD2E-1689484A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60CB-59C3-4577-817D-7E719AF2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1680-1FCC-428E-94E0-EFFA599D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C14-0B1B-4843-8202-914BA212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F41-1D9B-48F8-915C-6E2E2B1C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E24-2AB9-4C48-8654-7E4D38D2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350-585A-4232-838F-FCFE14AC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731-0202-4BCC-A1CD-CED8950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220-876B-4B19-9CBA-298131D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F4C-FA90-40AF-8187-80968EB6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71AA-8DA1-43B5-9F8C-4FEC7520DB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BB06-6B2A-4825-9036-BAF1CC7C70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Созвездия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448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"/>
          <p:cNvPicPr/>
          <p:nvPr/>
        </p:nvPicPr>
        <p:blipFill>
          <a:blip r:embed="rId1"/>
          <a:stretch/>
        </p:blipFill>
        <p:spPr>
          <a:xfrm>
            <a:off x="5257800" y="3733920"/>
            <a:ext cx="2287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332364"/>
          <p:cNvPicPr/>
          <p:nvPr/>
        </p:nvPicPr>
        <p:blipFill>
          <a:blip r:embed="rId2"/>
          <a:stretch/>
        </p:blipFill>
        <p:spPr>
          <a:xfrm>
            <a:off x="457200" y="3048120"/>
            <a:ext cx="400212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ЛНЕЧНАЯ  СИСТЕ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лнечной системе существует много планет и звёз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ете  ли  вы  ,что сам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олшая звезда -это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а каком месте наша земля от солнца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р"/>
          <p:cNvPicPr/>
          <p:nvPr/>
        </p:nvPicPr>
        <p:blipFill>
          <a:blip r:embed="rId1"/>
          <a:stretch/>
        </p:blipFill>
        <p:spPr>
          <a:xfrm>
            <a:off x="3152880" y="2057400"/>
            <a:ext cx="316692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23524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7" descr="РАВПЛГОФЯ"/>
          <p:cNvPicPr/>
          <p:nvPr/>
        </p:nvPicPr>
        <p:blipFill>
          <a:blip r:embed="rId1"/>
          <a:stretch/>
        </p:blipFill>
        <p:spPr>
          <a:xfrm>
            <a:off x="5257800" y="2209680"/>
            <a:ext cx="326700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ФЦВАПРКВП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2896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9" descr="ЦфФЦВВВВВВВВВВВВВВВВВВВВВ"/>
          <p:cNvPicPr/>
          <p:nvPr/>
        </p:nvPicPr>
        <p:blipFill>
          <a:blip r:embed="rId1"/>
          <a:stretch/>
        </p:blipFill>
        <p:spPr>
          <a:xfrm>
            <a:off x="2362320" y="1752480"/>
            <a:ext cx="415296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ФЫВ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2b2b2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