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9DF8-4509-45A7-B91E-69699FF45F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0EED-BE4A-4DB5-A843-E62D063AC0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АЯ 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лнечной системе существует много планет и звёз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наете  ли  вы  ,что сам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шая звезда -это солнц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а каком месте наша земля от солнца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B563-DE4C-4852-B692-18218156AE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95B1-EF0F-49FA-85FA-E062029D7D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A90C-B3DE-47DD-B0DA-70A9DAFDBD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 АЛЕКСА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16E1-057E-4CF7-A8C0-D862CC659E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3CC-BA8D-4C2E-839E-8F43B8C7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7E5A-6D5A-4C15-8D70-74A24C0C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801-837C-4D86-A53F-9EEDCC89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F5E-8B0A-4DFB-9B8D-1E58237F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43F4-27C1-484B-8D89-750C1760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5376-D187-4E89-B58A-4BC5414D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798B-D1CD-431A-8227-0005D03A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47FD-027A-4E66-91CF-07AE1CFF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5760-6B38-46D0-BFFE-1390D5AD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5B1B-E59B-4ED7-B913-0B5C8F4E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FC1C-A942-43EF-8850-D12C13CC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B580-18C9-4210-85EE-EC6E120B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2DC6-773E-42EF-B5E1-80ABA18E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AEB3-A1E7-4F0C-A60E-4E42CE04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384A-E6E8-4EBD-9386-DEF3F740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BAFC-4C20-494E-B36F-B19DF138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B34E-AEEA-4F86-A68C-593BB9DF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A9C-0E6C-4471-AF81-54A61F1F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352-BEA0-4F77-A176-283A3670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3845-01C7-4A4E-AC35-8C9A7C98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193-A9FF-403A-86E7-7131B4E0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6388-3A50-47B4-911D-652D6F68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6C6D-3D10-48C2-B145-B3182E77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700D-4CDA-4BF2-B476-E8FA1AB0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E51E-6F08-4E51-BF4B-F5C985C5F0D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CABC-1085-4D23-8086-7922DFDFCA0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Созвездия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ВКППППППППППППППППП"/>
          <p:cNvPicPr/>
          <p:nvPr/>
        </p:nvPicPr>
        <p:blipFill>
          <a:blip r:embed="rId1"/>
          <a:stretch/>
        </p:blipFill>
        <p:spPr>
          <a:xfrm>
            <a:off x="2819520" y="2819520"/>
            <a:ext cx="3809880" cy="30193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94488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8" descr="i"/>
          <p:cNvPicPr/>
          <p:nvPr/>
        </p:nvPicPr>
        <p:blipFill>
          <a:blip r:embed="rId1"/>
          <a:stretch/>
        </p:blipFill>
        <p:spPr>
          <a:xfrm>
            <a:off x="5257800" y="3733920"/>
            <a:ext cx="2287440" cy="1295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j0332364"/>
          <p:cNvPicPr/>
          <p:nvPr/>
        </p:nvPicPr>
        <p:blipFill>
          <a:blip r:embed="rId2"/>
          <a:stretch/>
        </p:blipFill>
        <p:spPr>
          <a:xfrm>
            <a:off x="457200" y="3048120"/>
            <a:ext cx="4002120" cy="32241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ОЛНЕЧНАЯ  СИСТЕМ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лнечной системе существует много планет и звёз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ете  ли  вы  ,что сам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болшая звезда -это солнц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на каком месте наша земля от солнца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ЗЕМЛ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р"/>
          <p:cNvPicPr/>
          <p:nvPr/>
        </p:nvPicPr>
        <p:blipFill>
          <a:blip r:embed="rId1"/>
          <a:stretch/>
        </p:blipFill>
        <p:spPr>
          <a:xfrm>
            <a:off x="3152880" y="2057400"/>
            <a:ext cx="316692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ВКППППППППППППППППП"/>
          <p:cNvPicPr/>
          <p:nvPr/>
        </p:nvPicPr>
        <p:blipFill>
          <a:blip r:embed="rId1"/>
          <a:stretch/>
        </p:blipFill>
        <p:spPr>
          <a:xfrm>
            <a:off x="2819520" y="2235240"/>
            <a:ext cx="3809880" cy="30193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Picture 7" descr="РАВПЛГОФЯ"/>
          <p:cNvPicPr/>
          <p:nvPr/>
        </p:nvPicPr>
        <p:blipFill>
          <a:blip r:embed="rId1"/>
          <a:stretch/>
        </p:blipFill>
        <p:spPr>
          <a:xfrm>
            <a:off x="5257800" y="2209680"/>
            <a:ext cx="326700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ФЦВАПРКВП"/>
          <p:cNvPicPr/>
          <p:nvPr/>
        </p:nvPicPr>
        <p:blipFill>
          <a:blip r:embed="rId2"/>
          <a:stretch/>
        </p:blipFill>
        <p:spPr>
          <a:xfrm>
            <a:off x="838080" y="1676520"/>
            <a:ext cx="3733920" cy="2896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9" descr="ЦфФЦВВВВВВВВВВВВВВВВВВВВВ"/>
          <p:cNvPicPr/>
          <p:nvPr/>
        </p:nvPicPr>
        <p:blipFill>
          <a:blip r:embed="rId1"/>
          <a:stretch/>
        </p:blipFill>
        <p:spPr>
          <a:xfrm>
            <a:off x="2362320" y="1752480"/>
            <a:ext cx="4152960" cy="4229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ЛАК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ФЫВ"/>
          <p:cNvPicPr/>
          <p:nvPr/>
        </p:nvPicPr>
        <p:blipFill>
          <a:blip r:embed="rId1"/>
          <a:stretch/>
        </p:blipFill>
        <p:spPr>
          <a:xfrm>
            <a:off x="4572000" y="2209680"/>
            <a:ext cx="4419720" cy="3108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2b2b2"/>
                </a:solidFill>
                <a:latin typeface="Arial"/>
              </a:rPr>
              <a:t>КОНЕЦ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УР АЛЕКСАН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42:2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