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1991-E72C-4945-84A8-823002F1BEA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везд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12A3-E6BA-4DEE-94D0-425215C47B0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ЕЧНАЯ 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лнечной системе существует много планет и звёз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наете  ли  вы  ,что сам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олшая звезда -это солнц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на каком месте наша земля от солнца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831E-C795-4CD2-9EA3-D8E45683F2D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DA55-C197-4C41-A38F-4D58A33F7D9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4044-E944-4F41-AD8F-EA7EC2563FA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 АЛЕКСАНД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A664-6AA9-4797-A0B1-3E930DC4966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E65C-83AF-45FC-ADFD-70197E2CA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3521-3961-4A23-950D-042B6005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3C49-E488-46CE-9C10-B61DD84A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73F5-F2F6-4247-B11D-F66D641E3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EFBD-5E41-41FA-97D8-FA01AAA51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1710-2BA5-48EF-98A7-04BDF9CF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A053-8735-47C2-992A-D2AA516D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07E6-4BD8-4B3B-A219-0355D740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D253-15E5-470B-94D9-219E450D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33B1-D645-4E59-A6E8-D683B265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9742-37C2-4B10-A52D-062E0FC0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1E0C-789D-498C-AAEA-5A542B52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1668-07F7-466D-A6CE-3BA31743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F965-3D35-4925-B701-D4B95FDB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4532-71E9-427A-9355-A644FF68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886C-A7F2-4277-94D9-7FA6B723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D66B-A1EA-4ABE-A97F-DFE1B95B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5C31-DDAF-48FC-8650-6E3ACE5B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D4F3-B232-4839-A87A-B7FC05DF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FDD0-4AEB-47FC-8D13-2D01954C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8FDF-D5E1-41A2-925E-441E1B66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3CF0-3725-4234-BF5B-4AF412E7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629D-D01B-4F95-9E5A-D717FE33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388B-E382-427A-A156-E4C71EF0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F239-A46C-4C7A-B02A-3E3CD6771DC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4F9B-FDC8-4955-84F5-62DE57F40AF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Созвездия</a:t>
            </a:r>
            <a:br>
              <a:rPr sz="4800"/>
            </a:b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7" descr="ВКППППППППППППППППП"/>
          <p:cNvPicPr/>
          <p:nvPr/>
        </p:nvPicPr>
        <p:blipFill>
          <a:blip r:embed="rId1"/>
          <a:stretch/>
        </p:blipFill>
        <p:spPr>
          <a:xfrm>
            <a:off x="2819520" y="2819520"/>
            <a:ext cx="3809880" cy="30193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394488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8" descr="i"/>
          <p:cNvPicPr/>
          <p:nvPr/>
        </p:nvPicPr>
        <p:blipFill>
          <a:blip r:embed="rId1"/>
          <a:stretch/>
        </p:blipFill>
        <p:spPr>
          <a:xfrm>
            <a:off x="5257800" y="3733920"/>
            <a:ext cx="2287440" cy="1295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j0332364"/>
          <p:cNvPicPr/>
          <p:nvPr/>
        </p:nvPicPr>
        <p:blipFill>
          <a:blip r:embed="rId2"/>
          <a:stretch/>
        </p:blipFill>
        <p:spPr>
          <a:xfrm>
            <a:off x="457200" y="3048120"/>
            <a:ext cx="4002120" cy="32241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ОЛНЕЧНАЯ  СИСТЕМ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олнечной системе существует много планет и звёз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наете  ли  вы  ,что сама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болшая звезда -это солнц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на каком месте наша земля от солнца?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ЗЕМЛ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8" name="Picture 6" descr="р"/>
          <p:cNvPicPr/>
          <p:nvPr/>
        </p:nvPicPr>
        <p:blipFill>
          <a:blip r:embed="rId1"/>
          <a:stretch/>
        </p:blipFill>
        <p:spPr>
          <a:xfrm>
            <a:off x="3152880" y="2057400"/>
            <a:ext cx="316692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7" descr="ВКППППППППППППППППП"/>
          <p:cNvPicPr/>
          <p:nvPr/>
        </p:nvPicPr>
        <p:blipFill>
          <a:blip r:embed="rId1"/>
          <a:stretch/>
        </p:blipFill>
        <p:spPr>
          <a:xfrm>
            <a:off x="2819520" y="2235240"/>
            <a:ext cx="3809880" cy="30193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5" name="Picture 7" descr="РАВПЛГОФЯ"/>
          <p:cNvPicPr/>
          <p:nvPr/>
        </p:nvPicPr>
        <p:blipFill>
          <a:blip r:embed="rId1"/>
          <a:stretch/>
        </p:blipFill>
        <p:spPr>
          <a:xfrm>
            <a:off x="5257800" y="2209680"/>
            <a:ext cx="3267000" cy="36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ФЦВАПРКВП"/>
          <p:cNvPicPr/>
          <p:nvPr/>
        </p:nvPicPr>
        <p:blipFill>
          <a:blip r:embed="rId2"/>
          <a:stretch/>
        </p:blipFill>
        <p:spPr>
          <a:xfrm>
            <a:off x="838080" y="1676520"/>
            <a:ext cx="3733920" cy="28969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Picture 9" descr="ЦфФЦВВВВВВВВВВВВВВВВВВВВВ"/>
          <p:cNvPicPr/>
          <p:nvPr/>
        </p:nvPicPr>
        <p:blipFill>
          <a:blip r:embed="rId1"/>
          <a:stretch/>
        </p:blipFill>
        <p:spPr>
          <a:xfrm>
            <a:off x="2362320" y="1752480"/>
            <a:ext cx="4152960" cy="42292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ЛАКТ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7" descr="ФЫВ"/>
          <p:cNvPicPr/>
          <p:nvPr/>
        </p:nvPicPr>
        <p:blipFill>
          <a:blip r:embed="rId1"/>
          <a:stretch/>
        </p:blipFill>
        <p:spPr>
          <a:xfrm>
            <a:off x="4572000" y="2209680"/>
            <a:ext cx="4419720" cy="31086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b2b2b2"/>
                </a:solidFill>
                <a:latin typeface="Arial"/>
              </a:rPr>
              <a:t>КОНЕЦ</a:t>
            </a:r>
            <a:endParaRPr b="0" lang="en-US" sz="8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УР АЛЕКСАН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13T12:42:2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