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jpeg" ContentType="image/jpeg"/>
  <Override PartName="/ppt/media/image19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gif" ContentType="image/gif"/>
  <Override PartName="/ppt/media/image16.jpeg" ContentType="image/jpe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EB2C-2391-4B03-8E59-C40FEDD64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B305-A747-4A21-AABA-EA31F0E57BD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B059-EC2F-4703-906E-86668FE061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0947-FB5C-4B2D-AA72-7F7F358C38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.04.196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1501-CB01-4FE2-9773-0096A322A73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Леонов в космос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5990-032C-4FAF-AF9D-D98AF6E113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901E-48E9-4E60-A58A-BC932D3C58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AED-1261-49AF-B93C-2B6D80A8157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9AFB-13AD-403A-9DCD-6135A4CE14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 — </a:t>
            </a:r>
            <a:r>
              <a:rPr b="1" lang="ru-RU" sz="1200" spc="-1" strike="noStrike">
                <a:solidFill>
                  <a:srgbClr val="808080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503D-829B-41AC-9E53-F507219C3C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E9F8-3BCB-471C-9C47-DDBC6109E6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1200"/>
            </a:br>
            <a:r>
              <a:rPr b="0" lang="ru-RU" sz="1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DA49-32EE-4284-8048-88F15461BB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Марс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9230-287B-4382-ABDE-1EB2723E0A5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78C3-5B64-4EE0-BFDE-E957723273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92A1-0217-493B-B3CA-822E99B17C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7f96a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A10E-1EA8-442B-82A9-24D7AE8043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ff33"/>
                </a:solidFill>
                <a:latin typeface="Arial"/>
              </a:rPr>
              <a:t>Ракеты носит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FF5D-33F2-4C21-A25D-730469B6B1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Космические агент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надское космическое агентство — 198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E666-3953-4694-8219-838B85227D7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66ff33"/>
                </a:solidFill>
                <a:latin typeface="Arial"/>
              </a:rPr>
              <a:t>Ссыл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полнительную информацию вы можете найти по этим интеренет-адрес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3ED9-5F0C-4DD3-8A1E-048294D82D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ЖНЕЙШИЕ ЭТА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2C59-E543-4865-A31B-A9B3EA4AE1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43C0-B564-4CE7-B431-7BA24921B7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,005 и 40,00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гагерц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1860-C7DC-450B-9061-1F57215AC5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9C31-4B46-4109-9628-18912C0652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E337-B114-40A5-B3FC-B96CE61366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пуском первого в мире спут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 октябр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957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8438-E672-4105-82CB-8D71338BAB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D6A7-3892-462C-A10D-AFBB29D6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F02A-7569-479F-9C09-374EF437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8259A-18C0-41FF-9138-1CE7E40F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B341-926D-4769-B290-2C2650C3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A5E0-C035-48C3-8DCD-2B78FC67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1121-A18E-4041-B58A-E57A3757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268F-B9E7-4D40-9273-A2D1304E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6881-97C9-4C9C-B7E5-10DDD5B0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9EE8-12EF-49C1-A3AA-E9975798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AAC9-14A6-48DF-A604-7F341866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B4E5-9180-4A89-B688-49F45AE6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48487-FF7D-430E-95CB-4A8ADA0E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44B54-D31E-4171-A0D1-5726B39F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F26A-30C6-4ADF-A51E-97673632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2400-8AB3-4262-B02D-BD88366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612A-A039-4E8B-98D0-1029A2ED1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3D02-58A4-4547-8A99-CD3DA8C4F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E5E96-E6C5-49AD-AD2F-5E8FA8DB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7E76-D677-400B-A1F0-96B10263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4111-00EA-4210-B1CB-A903FFF0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B1476-E895-41BA-9EA5-4888B0B1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6EEA-D0EC-48A1-98AF-EF8B4681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D4AED-15AA-47F2-B40B-14412AB8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22E57-34ED-4F8C-90F8-2C436BBB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38E-DB93-4312-AA13-CEB778818C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97E9-5698-48B6-BB14-7A70E7069B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15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115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1155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292720" y="188640"/>
            <a:ext cx="38512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чалом пилотируемой космонавтики стал полёт советского космонавта Юрия Гагарина 12 апреля 1961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Picture 7" descr="308b8760c13f5e6bfdc45222479"/>
          <p:cNvPicPr/>
          <p:nvPr/>
        </p:nvPicPr>
        <p:blipFill>
          <a:blip r:embed="rId1"/>
          <a:stretch/>
        </p:blipFill>
        <p:spPr>
          <a:xfrm>
            <a:off x="395280" y="333360"/>
            <a:ext cx="5138640" cy="619128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00720" y="189000"/>
            <a:ext cx="464328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2.04.1961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:07 с космодрома Байконур стартовала ракета-носитель 8К72, впоследствии названная РН "Восток",  которая вывела на околоземную орбиту советский космический корабль "Восток" 3КА №3. Впервые в мире космический корабль с человеком на борту ворвался в просторы Вселенной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6" descr="163711312"/>
          <p:cNvPicPr/>
          <p:nvPr/>
        </p:nvPicPr>
        <p:blipFill>
          <a:blip r:embed="rId1"/>
          <a:stretch/>
        </p:blipFill>
        <p:spPr>
          <a:xfrm>
            <a:off x="250920" y="189000"/>
            <a:ext cx="4681440" cy="525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gagarin"/>
          <p:cNvPicPr/>
          <p:nvPr/>
        </p:nvPicPr>
        <p:blipFill>
          <a:blip r:embed="rId2"/>
          <a:stretch/>
        </p:blipFill>
        <p:spPr>
          <a:xfrm>
            <a:off x="900000" y="3789360"/>
            <a:ext cx="3414960" cy="30686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492360" y="0"/>
            <a:ext cx="565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рабль пилотировал советский космонавт Юрий Алексеевич Гагарин. (1936-1968)-летчик-космонавт СССР, полковник, Герой Советского Союза. Окончил Военно-воздушную инженерную академию им. Н.Е.Жуковског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г. впервые в истории человечества совершил полет в космос на космическом корабле "Восток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аствовал в обучении и тренировке экипажей космонавтов. Почетный член Международной академии астронавтики. Погиб во время тренировочного полета на самолете. Именем Гагарина назван кратер на обратной стороне Лун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7" descr="40792648_1236628510_gagarin_skaf"/>
          <p:cNvPicPr/>
          <p:nvPr/>
        </p:nvPicPr>
        <p:blipFill>
          <a:blip r:embed="rId1"/>
          <a:stretch/>
        </p:blipFill>
        <p:spPr>
          <a:xfrm>
            <a:off x="0" y="0"/>
            <a:ext cx="3809880" cy="308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2"/>
          <p:cNvPicPr/>
          <p:nvPr/>
        </p:nvPicPr>
        <p:blipFill>
          <a:blip r:embed="rId2"/>
          <a:stretch/>
        </p:blipFill>
        <p:spPr>
          <a:xfrm>
            <a:off x="468360" y="2924280"/>
            <a:ext cx="3116160" cy="393372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gagarin.avi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569080" cy="60501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67268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1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07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ля длительной работы в космосе используют станции «Салют» и «Мир». Размеры их таковы, что внутри могут длительное время жить и работать несколько космонавтов. Они ведут научные исследования не только внутри космического корабля, но и в открытом космосе. Связь станций с Землей осуществляется космическими кораблями типа «Союз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755640" y="189000"/>
            <a:ext cx="75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aramond"/>
              </a:rPr>
              <a:t>«Леонов в космосе»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paceman.avi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183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4" dur="3113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6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37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0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T001395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597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481280"/>
            <a:ext cx="9144000" cy="2376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Tahoma"/>
              </a:rPr>
              <a:t>Космические аппараты исследуют не только Землю, но и её естественный спутник – Луну. Много интересного рассказали о ней запущенные в СССР луноходы, управляемые с Земл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5" descr="moon4"/>
          <p:cNvPicPr/>
          <p:nvPr/>
        </p:nvPicPr>
        <p:blipFill>
          <a:blip r:embed="rId2"/>
          <a:stretch/>
        </p:blipFill>
        <p:spPr>
          <a:xfrm>
            <a:off x="0" y="0"/>
            <a:ext cx="4356000" cy="4525920"/>
          </a:xfrm>
          <a:prstGeom prst="rect">
            <a:avLst/>
          </a:prstGeom>
          <a:ln w="0">
            <a:noFill/>
          </a:ln>
        </p:spPr>
      </p:pic>
      <p:pic>
        <p:nvPicPr>
          <p:cNvPr id="177" name="ДиДюЛ-Каметы хвост.mp3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4869000"/>
            <a:ext cx="9144000" cy="1923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Одно из самых выдающихся свершений в области космонавтики — высадка человека на Луну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514"/>
                </a:solidFill>
                <a:latin typeface="Times New Roman"/>
              </a:rPr>
              <a:t>21 июля 1969 года. Американский астронавт Нил Армстронг сделал первый шаг по поверхности естественного спутника Земли со словами: — "Это маленький шаг для одного человека, но огромный скачок для всего человечества"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901960" cy="3429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Нил Олден Армстронг (англ. Neil Alden Armstrong; родился  5 августа 1930 в городке Уапаконета (шт. Огайо). Был участником корейской войны — начиная с 1950 г. совершил 78 боевых вылетов на истребителе Grumman F9F Panther. Получил Авиационную медаль и две Золотые звезды («Дубовые листья»).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 — </a:t>
            </a:r>
            <a:r>
              <a:rPr b="1" lang="ru-RU" sz="1800" spc="-1" strike="noStrike">
                <a:solidFill>
                  <a:srgbClr val="000514"/>
                </a:solidFill>
                <a:latin typeface="Times New Roman"/>
              </a:rPr>
              <a:t>американский астронавт, первый землянин, ступивший на Луну в рамках лунной экспедиции корабля «Аполлон-11».</a:t>
            </a:r>
            <a:r>
              <a:rPr b="1" lang="ru-RU" sz="1800" spc="-1" strike="noStrike">
                <a:solidFill>
                  <a:srgbClr val="0005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Тем не менее, первые годы развития космонавтики характеризовались не сотрудничеством, а острой конкуренцией в космической области (так называемая Космическая гонка). Международное сотрудничество стало интенсивно развиваться только в последние десятилетия, в первую очередь, благодаря совместному строительству и исследованиям на борту Международной космической стан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0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147621m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Мирова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история освоения </a:t>
            </a:r>
            <a:br>
              <a:rPr sz="7200"/>
            </a:br>
            <a:r>
              <a:rPr b="0" lang="ru-RU" sz="7200" spc="-1" strike="noStrike">
                <a:solidFill>
                  <a:srgbClr val="66ff33"/>
                </a:solidFill>
                <a:latin typeface="Times New Roman"/>
              </a:rPr>
              <a:t>космоса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82692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План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1 Введение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2 Важнейшие этапы освоения космоса</a:t>
            </a:r>
            <a:br>
              <a:rPr sz="4000"/>
            </a:b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3 Космические агентства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4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Ракеты-носители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5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Вывод</a:t>
            </a:r>
            <a:br>
              <a:rPr sz="4000"/>
            </a:b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6</a:t>
            </a:r>
            <a:r>
              <a:rPr b="1" i="1" lang="ru-RU" sz="4000" spc="-1" strike="noStrike">
                <a:solidFill>
                  <a:srgbClr val="66ff33"/>
                </a:solidFill>
                <a:latin typeface="Arial"/>
              </a:rPr>
              <a:t> Ссылк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ДиДюЛ-Каметы хвост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evt="end">
                                        <p:tn val="47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15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1155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1155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900"/>
                            </p:stCondLst>
                            <p:childTnLst>
                              <p:par>
                                <p:cTn id="73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3744720"/>
            <a:ext cx="9144000" cy="31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егодняшний день характеризуется новыми проектами и планами освоения космического пространства. Активно развивается космический туризм. Пилотируемая космонавтика вновь собирается вернуться на Луну и обратила свой взор к далёкому Мар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859280" y="274320"/>
            <a:ext cx="38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ff33"/>
                </a:solidFill>
                <a:latin typeface="Garamond"/>
              </a:rPr>
              <a:t>Марсох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0"/>
            <a:ext cx="428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грамма исследований Марса объединенными усилиями стран Земли предполагает запуск нескольких автоматических межпланетных станций и доставку экипажа из нескольких человек на Марс и обратно. До того, как на Марс ступит нога человека, он должен быть как следует изучен роботами. Недавно Марс исследовал первый марсоход - PathFinder(Следопыт)!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о своему назначению Следопыт похож на Луноход, однако ручное управление экипажем, движущимся по Марсу, совершенно невозмож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6" name="Picture 4" descr="marsohods"/>
          <p:cNvPicPr/>
          <p:nvPr/>
        </p:nvPicPr>
        <p:blipFill>
          <a:blip r:embed="rId1"/>
          <a:stretch/>
        </p:blipFill>
        <p:spPr>
          <a:xfrm>
            <a:off x="4284720" y="1557360"/>
            <a:ext cx="4859280" cy="423072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42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уноход вел человек (между прочим, танкист): изображения телекамер передавались на Землю, водитель принимал решения и нажимал рычаги. Задержка составляла около трех секунд, к чему вполне можно было привыкнуть, тем более что Луноход двигался не очень быстро. Совсем другое дело - Марс, сигнал от которого идет к нам от трех до двадцати минут! Здесь многое приходится автоматизировать, доверять бортовым компьютерам, и тщательно планировать путь робота, чтобы он не упал в яму и не перевернулся от наезда на булыжни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67f96a"/>
                </a:solidFill>
                <a:latin typeface="Garamond"/>
              </a:rPr>
              <a:t>Вывод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следования и освоение космоса приносят прежде всего практическую пользу. Например, теперь в нашем распоряжении надежная спутниковая теле- радиосвязь, точные прогнозы погоды и многое другое. Но, к сожалению, в результате активизации исследований, резкого увеличения числа запусков ракет-носителей и других аппаратов, а также связанных с этим последствий все чаще происходит загрязнение земной и околоземной среды, что пагубно влияет на экологию Земли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859280" y="188640"/>
            <a:ext cx="428472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́та-носи́тель — аппарат, действующий по принципу реактивного движения и предназначенный для выведения полезной нагрузки в космическое пространство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подразделяют на одноразовые и многоразовые. Их также классифицируют по количеству ступеней (одноступенчатые, двухступенчатые и т. д.). Наибольшее распространение получили одноразовые многоступенчатые ракеты. Одноразовые ракеты отличаются высокой надёжностью благодаря максимальному упрощению всех элементов. Наличие нескольких ступеней позволяет увеличить отношение массы полезной нагрузки к начальной массе ракеты. В то же время многоступенчатые ракеты требуют наличия территорий для падения промежуточных ступеней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олностью многоразовых ракет-носителей пока не существует. Частично многоразовой системой является «Спейс Шаттл». Вопреки ожиданиям, «Спейс Шаттл» не смог обеспечить снижение стоимости доставки грузов на орбиту; кроме того, многоразовость привела к проблемам с надёжностью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4788000" y="0"/>
            <a:ext cx="435600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Ракеты-носители также подразделяют на предназначенные для пилотируемых и для беспилотных полётов. Ракеты для пилотируемых полётов должны обладать бо́льшей надёжностью (также на них устанавливается система аварийного спасения); допустимое ускорение для них ограничено перегрузками, которые выдерживает человек. По этим причинам ракеты для пилотируемых полётов менее эффективны; тем не менее, из соображений унификации их нередко используют и для запуска беспилотных аппаратов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вой ракетой-носителем, доставившей груз на орбиту, была советская Р-7 (1957 г.). В настоящее время самая мощная ракета в мире — американский «Спейс Шаттл». Самая мощная российская ракета-носитель на данный момент это «Протон-М», позволяющая выводить на низкую околоземную орбиту до 22 тонн полезного груза. В прошлом стартовали и более мощные ракеты, такие как советские «Н-1» и «Энергия» или американская «Сатурн V». Однако ни одна из этих ракет в настоящее время не производится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66ff33"/>
                </a:solidFill>
                <a:latin typeface="Garamond"/>
              </a:rPr>
              <a:t>Ракеты носи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8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443" nodeType="afterEffect" fill="hold" presetClass="exit" presetID="2" presetSubtype="4">
                                  <p:stCondLst>
                                    <p:cond delay="20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630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3500"/>
                            </p:stCondLst>
                            <p:childTnLst>
                              <p:par>
                                <p:cTn id="452" nodeType="afterEffect" fill="hold" presetClass="exit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Космические агент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разильское космическое агентство — основано в 1994 году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вропейское космическое агентство (ЕКА) — 1964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Европейское космическое  аге́нтство (сокращённо ЕКА) (European Space Agency) — международная организация, созданная в 1975 году с целью объединения усилий по освоению космоса на благо европейце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КА состоит из 17 постоянных членов: Австрия Бельгия Дания Финляндия Франция Германия Ирландия Италия Нидерланды Норвегия Португалия Испания Швеция Швейцария Великобритания Греция (с 22 марта 2005) Люксембург (с 5 августа 2005) В некоторых проектах также принимают участие Канада, Венгрия и Чешская Республика.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ндийское управление космических исследований — 196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анадское космическое агентство — 1989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итайское национальное космическое управление — 199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ое управление США по аэронавтике и использованию космоса (НАСА) — 1958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едеральное космическое агентство России (ФКА РФ) — (1990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Японское агентство аэрокосмических исследований (JAXA) — 2003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100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100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100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1000"/>
                                        <p:tgtEl>
                                          <p:spTgt spid="2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ru-RU" sz="4400" spc="-1" strike="noStrike">
                <a:solidFill>
                  <a:srgbClr val="66ff33"/>
                </a:solidFill>
                <a:latin typeface="Garamond"/>
              </a:rPr>
              <a:t>Ссыл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Дополнительную информацию вы можете найти по этим интеренет-адресам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ВАЖНЕЙШИЕ ЭТАПЫ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1104840" cy="1590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1547640" y="0"/>
            <a:ext cx="2232360" cy="154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3"/>
          <a:stretch/>
        </p:blipFill>
        <p:spPr>
          <a:xfrm>
            <a:off x="4206960" y="0"/>
            <a:ext cx="1463760" cy="1557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4"/>
          <a:stretch/>
        </p:blipFill>
        <p:spPr>
          <a:xfrm>
            <a:off x="6145200" y="0"/>
            <a:ext cx="1317600" cy="1557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Безымянный2"/>
          <p:cNvPicPr/>
          <p:nvPr/>
        </p:nvPicPr>
        <p:blipFill>
          <a:blip r:embed="rId5"/>
          <a:stretch/>
        </p:blipFill>
        <p:spPr>
          <a:xfrm>
            <a:off x="7961400" y="0"/>
            <a:ext cx="1182600" cy="162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6"/>
          <a:stretch/>
        </p:blipFill>
        <p:spPr>
          <a:xfrm>
            <a:off x="395280" y="3902040"/>
            <a:ext cx="4105440" cy="2955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2"/>
          <p:cNvSpPr/>
          <p:nvPr/>
        </p:nvSpPr>
        <p:spPr>
          <a:xfrm>
            <a:off x="0" y="234936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4 октября 1957 — первый ИСЗ (СССР)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0" y="2421000"/>
            <a:ext cx="88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61 — первый полёт человека в космос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Ю. Гагарин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50920" y="28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8 марта 1965 — первый выход человека в открытый космос (А. Леонов, СССР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2421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1 июля 1969 — высадка человека на Луну (Н. Армстронг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50920" y="2276640"/>
            <a:ext cx="86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9 апреля 1971 — первая орбитальная станция (СССР), позднее — совместно с США, создание международной станци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0" y="256536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 марта 1972 — запуск первого аппарата, покинувшего пределы Солнечной системы (Пионер-10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Rectangle 18"/>
          <p:cNvSpPr/>
          <p:nvPr/>
        </p:nvSpPr>
        <p:spPr>
          <a:xfrm>
            <a:off x="0" y="234936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2 апреля 1981 — вывод на орбиту первого корабля многоразового использования («Колумбия», США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19" descr="125922ma"/>
          <p:cNvPicPr/>
          <p:nvPr/>
        </p:nvPicPr>
        <p:blipFill>
          <a:blip r:embed="rId7"/>
          <a:stretch/>
        </p:blipFill>
        <p:spPr>
          <a:xfrm>
            <a:off x="5724360" y="3870360"/>
            <a:ext cx="2988000" cy="298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76720" y="0"/>
            <a:ext cx="586728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04.10.1957. В 19:28 (22 ч 28 мин по московскому времени) с космодрома Байконур был осуществлен пуск ракеты-носителя "Спутник 8К71ПС" №М1-ПС, которая вывела на околоземную орбиту Первый в мире искусственный спутник Земли. Спутник отделился от второй ступени ракеты-носителя на 315-й секунде после старта и был выведен на орбит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6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06" dur="5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имел форму шара диаметром 58 см и весом 83,6 кг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нем были установлены два радиопередатчика, непрерывно излучающие сигналы с частотой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20,005 и 40,002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гагерц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27" dur="5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092480" y="0"/>
            <a:ext cx="50515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путник находился на орбите до 4 января 1958 года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вершив 1440 оборотов; центральный блок ракеты совершил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882 оборота вокруг Земли и вошел в плотные слои атмосферы 2 декабря 1957 года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44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43280" y="-360"/>
            <a:ext cx="4500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бытие 4 октября 1957 года имело громадное значение для познания свойств космического пространства и изучения Земли как планеты нашей Солнечной системы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5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earth wallpaper"/>
          <p:cNvPicPr/>
          <p:nvPr/>
        </p:nvPicPr>
        <p:blipFill>
          <a:blip r:embed="rId1"/>
          <a:stretch/>
        </p:blipFill>
        <p:spPr>
          <a:xfrm>
            <a:off x="-304920" y="-243000"/>
            <a:ext cx="9753840" cy="73296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219280" y="0"/>
            <a:ext cx="39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пуском первого в мире спутник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 октябр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957 года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ыла открыта космическая эра в истории человечества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4" descr="Безымянный"/>
          <p:cNvPicPr/>
          <p:nvPr/>
        </p:nvPicPr>
        <p:blipFill>
          <a:blip r:embed="rId2"/>
          <a:stretch/>
        </p:blipFill>
        <p:spPr>
          <a:xfrm>
            <a:off x="4859280" y="7029360"/>
            <a:ext cx="1104840" cy="159084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3000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2622 0.24509 C 0.02569 0.1711 0.02552 0.09896 0.01892 0.0037 C 0.01233 -0.09086 0.00174 -0.20601 -0.01458 -0.32323 C -0.0309 -0.44 -0.05121 -0.57826 -0.07934 -0.69711 C -0.10746 -0.81595 -0.14479 -0.95029 -0.18385 -1.03607 C -0.22292 -1.12185 -0.28316 -1.17503 -0.31406 -1.21156 C -0.34496 -1.24809 -0.35799 -1.2467 -0.36962 -1.25595 E">
                                      <p:cBhvr>
                                        <p:cTn id="274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24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агадочный мир звезд и планет с давних времен притягивал к себе внимание людей. Но ближе и доступнее он стал только с проникновением человека в космическое пространство. Современные спутники широко используются в народном хозяйстве. Они позволяют уточнить прогноз погоды, помогают морским штурманам определять местонахождение кораблей в океане, обеспечивают космическую радио- и телевизионную связь и многое друг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4" descr="0064"/>
          <p:cNvPicPr/>
          <p:nvPr/>
        </p:nvPicPr>
        <p:blipFill>
          <a:blip r:embed="rId1"/>
          <a:stretch/>
        </p:blipFill>
        <p:spPr>
          <a:xfrm>
            <a:off x="5580000" y="1484280"/>
            <a:ext cx="3319560" cy="24894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54:13Z</dcterms:created>
  <dc:creator>Alexey</dc:creator>
  <dc:description/>
  <dc:language>en-US</dc:language>
  <cp:lastModifiedBy>LEGION</cp:lastModifiedBy>
  <dcterms:modified xsi:type="dcterms:W3CDTF">2015-01-13T12:43:48Z</dcterms:modified>
  <cp:revision>43</cp:revision>
  <dc:subject/>
  <dc:title>Мировая  история освоения  космоса</dc:title>
</cp:coreProperties>
</file>