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AA56-1882-4F42-8F2B-5B9EE289AD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A2A2-4CE4-43D5-B811-30C2D8E260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9778-660B-4F31-961A-BBB8DC8478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27EB-431C-4F12-821A-A640AF80F3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04.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DEB5-ACC8-47AD-ACFA-817F177A09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Леонов в космос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534C-6C6D-4B10-B4E0-165215DF2D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6D76-6730-4A98-B0DA-71353CB622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6C46-8591-48DF-A381-53A0FE6861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415-F8B5-44A1-A480-A1CBBF5752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 —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F3D6-EA51-41FB-9225-DD2D9C68B9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2D29-2BB9-436D-91AD-6E3413B26E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81F8-2F4A-4ACD-A756-1B979BD0E4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Марс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94CB-6A74-42C5-A98F-C13954A108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3800-FECE-43A1-AE87-8D3706A38C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4D49-947A-4F5D-ABB7-2EC6F76309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D408-ECFD-40DE-B5F7-A7603E8B16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кеты нос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3CA6-DB15-48E7-B93E-BA7F24774C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Космические аген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дское космическое агентство —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166D-87DC-4CB9-9C09-C8D85D169E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ую информацию вы можете найти по этим интеренет-адрес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3091-32B3-4B4C-A730-FF33C7A8B8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ЖНЕЙШИЕ ЭТА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826C-3FAB-4DB5-B01E-7742FDBBC9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74E7-80C4-49FC-BAC8-CDDFC35A42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,005 и 40,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гагер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F890-AAA4-4A48-BA9A-5E13812C7E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2E00-2B31-4998-A713-B69F5F4D36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58D-43CE-4529-9AE6-07378F0F46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пуском первого в мире спу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октябр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57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5577-A1E7-4BC4-AA63-419AF49FC8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B15E-B746-4DA9-8FD2-27C095C5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0236-E8E8-4739-B2AD-0F17D6FF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0BB3-2971-49CF-90B9-83589ED0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0CA5-43C5-4FB9-8768-F1E0FA1A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0F8D-D3A4-4B5D-A44E-7ADAF250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69FB-7FA1-4690-8FC6-C28BBD3C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2030-D0B6-478A-A070-6DB6030D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A57E-7E7A-4C6C-BA7B-5A7FFF3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0C1C-57C2-4EB1-9E96-E509A661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BDFB-4BF8-487A-8E2E-660E6909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40A0-87FD-4873-BE02-6D916A68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496D-F254-4132-9991-A10BBE2E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AAF-221B-45CA-84E8-535CD3A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73E4-B200-484F-BCAC-2165BDA0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1131-D380-4D87-BAC8-8B3CC8E7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28FB-C1F7-41B8-9B97-EE3B4D52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00EC-FFDB-4A6E-B834-76852B6E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A06A-B62C-40F4-BF45-0972C002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B9B2A-214D-4B5F-9B1F-D6AFDD86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D569-9B15-42AC-9521-46FDB2E4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1119-D9F6-4CFA-A7B2-ABB2F26E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FCF6-91E1-418B-80DA-201459A9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99670-98A5-4C26-A3AD-09709116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367B-A63C-4546-842C-44971716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2C00-3177-46BF-95CE-EACF14E118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4DA1-727F-4CEC-B5CF-6B089FB6FC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6726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311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Космические агентства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Ракеты-носители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Вывод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8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4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52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Космические агент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адское космическое агентство — 198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44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7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LEGION</cp:lastModifiedBy>
  <dcterms:modified xsi:type="dcterms:W3CDTF">2015-01-13T12:43:48Z</dcterms:modified>
  <cp:revision>43</cp:revision>
  <dc:subject/>
  <dc:title>Мировая  история освоения  космоса</dc:title>
</cp:coreProperties>
</file>