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16E2-EEC9-4F9F-BE6F-FECAB5A7EA3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D333-034E-4FE5-9CFD-43E12B5B63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д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3CE0-B970-4D45-AB0F-5F08969DA1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DC2B-E965-47FE-825F-0184FD056DE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25F4-915E-4C8A-A9E8-09603D6269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особых комнатах курили, играли в карты, шахматы и ша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DC8A-C3B7-424B-870B-0EA775CDBF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6DAE-1979-4AE7-A666-3A075C4548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2FD-C64D-41E2-A59D-96BCE96CEF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0201-4288-499B-A80F-2589CC0D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CC37-E707-4351-B129-FDD5F7F7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73F5-6A6A-4B9E-B1D5-402E3C0E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1826-9224-4506-863E-63076AF4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0716-9E1F-4CA7-9700-F34E5431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110C-C273-4365-8CDA-7240C0F7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63F1-4A6C-4405-A6A3-CBBD0D40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EC97-7C34-452B-914D-47AE1A47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F76D-216B-48A5-A038-78A92BBD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B67D-CCFB-48AB-8489-B2D20529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6A29-B351-4B01-959C-BD1E2BD8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E5A5-E1A2-46F8-A0B1-6CEF4FA0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81B1-298D-40F5-8EA5-B3458D2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DE2D-49EA-48DF-9164-7D635124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89D9-7958-4E27-A2AA-D422F9C8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DA23-5431-4269-9407-06EFB968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5DA2-1513-4B7B-9DA2-C8509A7F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3268-3522-4A12-841A-B4816DE7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A29A-4364-44CD-A1D8-D8FEEE02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3904-2F6C-4179-80B4-D1ADF5C1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B2D5-B007-4B27-B742-EFF15ACB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5332-028A-42BF-B875-F09FE4A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761D-1CFB-42DE-9793-BF239FF8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CFA4-6029-4A8B-9815-A4E71EE0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5558-DD08-42C2-A8DF-1638BC9EA81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E750-770E-4CED-8DBA-242D1C27D7D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635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4648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695680" cy="438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4640" cy="609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Свадь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805040" y="304920"/>
            <a:ext cx="553392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83892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782040" cy="57913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848560" cy="6019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48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aa68"/>
                </a:solidFill>
                <a:latin typeface="Tahoma"/>
              </a:rPr>
              <a:t>В особых комнатах курили, играли в карты, шахматы и шаш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bf25a"/>
                </a:solidFill>
                <a:latin typeface="Tahoma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46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10000000000010250300207f7000400038000</vt:lpwstr>
  </property>
  <property fmtid="{D5CDD505-2E9C-101B-9397-08002B2CF9AE}" pid="3" name="Version">
    <vt:r8>1</vt:r8>
  </property>
</Properties>
</file>