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F1B0-D4CB-498E-AA47-6472A904AF3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ал - это торжественное мероприятие, которое, подобно обряду, имеет свой церемониал и правила поведения, что делает его таким величественным и роскошным. Поэтому, чтобы сохранить изысканность и восхитительность, необходимо соблюдать правила бального этикет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DADB-6102-4FEE-AFE9-28E1B49205C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адь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1483-C31E-45CA-BD11-209DB1B2991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На балах звучала духовая музыка, танцевали менуэт, контрдансы, русские потешные пляски, польские и английские танцы. В залах горели тысячи свечей. Лестницы были устланы дорогими коврами, теснились тропические растения в кадках, а из специально устроенных фонтанов струилась душистая вод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0FE2-5E14-4BD1-BFC3-D91EEC7152F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жину подавали ананасы, экзотические персики, виноград, свежую клубнику, огромных рыб и дорогие вина со всего свет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D0D7-33AE-4486-BCB6-2C3B7F44D64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 особых комнатах курили, играли в карты, шахматы и ша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210C-FA5D-4DB8-BB53-2D762F8EB9C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На подобных же торжествах чаще всего проходили светские дебюты молодых людей и девушек, которых только начинали выводить в све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EF17-9D14-499F-A191-A24ED2CB178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XIX веке бал превратился в образ жизни, сочетая в себе клуб, салон мод, брачную контору и игру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F720-5896-4662-9DEA-4029514AC94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EE7D5-D2AF-4684-B977-85FBB815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94DA7-8576-4537-A9BF-11C6CEE1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980A7-93C6-4698-BE52-1670340D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6C2C1-355D-48B9-A625-106B2E7A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B2DB-5803-4D9E-81B2-24E73C73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2F6B-B254-4E80-89FE-8A22551B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AB17-2AFD-42D1-96F9-3A6E4001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3ACB-9C48-4704-8BBE-DA4292FE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F745-3228-4F92-A58A-0DD71B1D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2A65-C25E-4138-8D74-430EDD0E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47AD-C105-4AB8-B51E-5B758269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F3D2B-FE82-448F-8D08-5DC28525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E9DB-2AB4-4BD0-A586-63976B93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B88B-A996-4569-86FF-C9158D1D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E645-9733-4DD5-A2F8-A0036CB6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94C6-93EB-401D-B3D6-A4CB7BB1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F4ED-7D8C-45A7-ACF9-782E1F5B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B0213-BD33-419D-80C6-ACA9BD3F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91177-8185-46BA-8025-DA64803B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9E1DF-A155-4CA7-8270-9286EA1F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570F7-0922-446E-9648-C053E36D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0ECF3-2980-4C39-9D16-994FB109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BA8AF-4659-4A5B-BBB1-C21F1CD0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07C00-0748-47FB-A5BA-0DD0C53E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EBE3-31AE-44CD-B1ED-A193D1A41B8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0CF7-1C88-4B97-8030-0FB80E83B12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839080" cy="6351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f25a"/>
                </a:solidFill>
                <a:latin typeface="Tahoma"/>
              </a:rPr>
              <a:t>Бал - это торжественное мероприятие, которое, подобно обряду, имеет свой церемониал и правила поведения, что делает его таким величественным и роскошным. Поэтому, чтобы сохранить изысканность и восхитительность, необходимо соблюдать правила бального этикета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229600" cy="51051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086600" cy="6400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657600" cy="4648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800600" y="838080"/>
            <a:ext cx="3657600" cy="5029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2695680" cy="4381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724640" cy="60962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Tahoma"/>
              </a:rPr>
              <a:t>Свадьб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6858000" cy="52578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805040" y="304920"/>
            <a:ext cx="5533920" cy="63244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7619760" cy="521964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6838920" cy="61722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782040" cy="57913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5848560" cy="6019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400800" cy="51051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391160" cy="56386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62485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9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На балах звучала духовая музыка, танцевали менуэт, контрдансы, русские потешные пляски, польские и английские танцы. В залах горели тысячи свечей. Лестницы были устланы дорогими коврами, теснились тропические растения в кадках, а из специально устроенных фонтанов струилась душистая вода.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К ужину подавали ананасы, экзотические персики, виноград, свежую клубнику, огромных рыб и дорогие вина со всего света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836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2aa68"/>
                </a:solidFill>
                <a:latin typeface="Tahoma"/>
              </a:rPr>
              <a:t>В особых комнатах курили, играли в карты, шахматы и шашки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bf25a"/>
                </a:solidFill>
                <a:latin typeface="Tahoma"/>
              </a:rPr>
              <a:t>На подобных же торжествах чаще всего проходили светские дебюты молодых людей и девушек, которых только начинали выводить в свет.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ahoma"/>
              </a:rPr>
              <a:t>В XIX веке бал превратился в образ жизни, сочетая в себе клуб, салон мод, брачную контору и игру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09:46:3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10000000000010250300207f7000400038000</vt:lpwstr>
  </property>
  <property fmtid="{D5CDD505-2E9C-101B-9397-08002B2CF9AE}" pid="3" name="Version">
    <vt:r8>1</vt:r8>
  </property>
</Properties>
</file>