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1003-748C-4AF2-8BD5-DD8B91572CC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ал - это торжественное мероприятие, которое, подобно обряду, имеет свой церемониал и правила поведения, что делает его таким величественным и роскошным. Поэтому, чтобы сохранить изысканность и восхитительность, необходимо соблюдать правила бального этикет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6DAD-8AA2-4094-94D4-A59B32BCD17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адь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17CA-7477-4EC6-877D-BB8A24B46A2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На балах звучала духовая музыка, танцевали менуэт, контрдансы, русские потешные пляски, польские и английские танцы. В залах горели тысячи свечей. Лестницы были устланы дорогими коврами, теснились тропические растения в кадках, а из специально устроенных фонтанов струилась душистая вод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568B-476E-4A19-8BC4-D884AFEBA3C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жину подавали ананасы, экзотические персики, виноград, свежую клубнику, огромных рыб и дорогие вина со всего свет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F2C0-2F8A-447D-AD44-A3D9EE5959F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 особых комнатах курили, играли в карты, шахматы и ша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4C81-64A0-473C-B8A5-CC335B0A94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На подобных же торжествах чаще всего проходили светские дебюты молодых людей и девушек, которых только начинали выводить в све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3CCC-C6B7-4998-A91A-7CF82C6B5ED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 XIX веке бал превратился в образ жизни, сочетая в себе клуб, салон мод, брачную контору и игру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2284-83CA-4FA2-914E-30771D7DE75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D7368-F6C9-42EB-BF0D-FFC08A69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7DB71-42EF-485D-9FF3-A8B90A0C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D91C7-F9CB-4ED7-B93F-075FB1DF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E1438-0FEB-4EE0-B1C9-D9C4B98B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E9F0-2B77-4457-95C9-9E27DB40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661F-555E-46AA-A7F3-053F0636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32BB-2447-462C-AF94-D8451467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DD9D-31DC-4BC3-95CC-23ACD93C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53FE-E096-43AC-AD7C-5DE9E82F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5A6B-FC77-4A4F-8800-06D03870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242D-7490-441B-8848-6C460BD6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A6892-4641-47D3-9D8E-5810A70B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0165-42B3-4D78-B62F-5F22DED6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47BE-1905-475C-927E-7408EE33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3756-508B-403C-93AA-2FC10A0B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B073-943C-4CCA-877D-6F2A9847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A1D3-1791-4B20-97A3-DFD4455C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79096-3824-4181-B11C-E6FDFF92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A013D-45BE-4AE1-A0A3-7FEFADB9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60C3E-E4BD-4615-B48A-19C705AC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DFBBE-1927-4BA9-9AAD-BA312709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466B4-C616-4873-AC0F-929A1630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525F0-82A5-416E-8EF1-ABCB8A0F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97C18-7AB4-44C4-8582-FC2DB01F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8240-0613-4239-91BB-34F8AFC76A2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033F-4B69-4F73-B3A2-CBDBAB98E47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839080" cy="6351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f25a"/>
                </a:solidFill>
                <a:latin typeface="Tahoma"/>
              </a:rPr>
              <a:t>Бал - это торжественное мероприятие, которое, подобно обряду, имеет свой церемониал и правила поведения, что делает его таким величественным и роскошным. Поэтому, чтобы сохранить изысканность и восхитительность, необходимо соблюдать правила бального этикета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229600" cy="51051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086600" cy="6400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657600" cy="4648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800600" y="838080"/>
            <a:ext cx="3657600" cy="5029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2695680" cy="4381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724640" cy="60962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Tahoma"/>
              </a:rPr>
              <a:t>Свадьб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6858000" cy="52578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805040" y="304920"/>
            <a:ext cx="5533920" cy="63244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7619760" cy="521964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6838920" cy="61722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782040" cy="57913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5848560" cy="6019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400800" cy="51051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391160" cy="56386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62485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9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На балах звучала духовая музыка, танцевали менуэт, контрдансы, русские потешные пляски, польские и английские танцы. В залах горели тысячи свечей. Лестницы были устланы дорогими коврами, теснились тропические растения в кадках, а из специально устроенных фонтанов струилась душистая вода.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К ужину подавали ананасы, экзотические персики, виноград, свежую клубнику, огромных рыб и дорогие вина со всего света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836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2aa68"/>
                </a:solidFill>
                <a:latin typeface="Tahoma"/>
              </a:rPr>
              <a:t>В особых комнатах курили, играли в карты, шахматы и шашки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bf25a"/>
                </a:solidFill>
                <a:latin typeface="Tahoma"/>
              </a:rPr>
              <a:t>На подобных же торжествах чаще всего проходили светские дебюты молодых людей и девушек, которых только начинали выводить в свет.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ahoma"/>
              </a:rPr>
              <a:t>В XIX веке бал превратился в образ жизни, сочетая в себе клуб, салон мод, брачную контору и игру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09:46:3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10000000000010250300207f7000400038000</vt:lpwstr>
  </property>
  <property fmtid="{D5CDD505-2E9C-101B-9397-08002B2CF9AE}" pid="3" name="Version">
    <vt:r8>1</vt:r8>
  </property>
</Properties>
</file>