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BA59-353E-44B0-A3B9-F213A71B40F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ал - это торжественное мероприятие, которое, подобно обряду, имеет свой церемониал и правила поведения, что делает его таким величественным и роскошным. Поэтому, чтобы сохранить изысканность и восхитительность, необходимо соблюдать правила бального этикет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5281-C61E-4E67-88C5-4D49AC7C1A2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адь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BCD1-877C-480A-81A6-EB0367832EA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На балах звучала духовая музыка, танцевали менуэт, контрдансы, русские потешные пляски, польские и английские танцы. В залах горели тысячи свечей. Лестницы были устланы дорогими коврами, теснились тропические растения в кадках, а из специально устроенных фонтанов струилась душистая вод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0B40-4832-4FB2-90C8-1A2623E966C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жину подавали ананасы, экзотические персики, виноград, свежую клубнику, огромных рыб и дорогие вина со всего свет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9740-07B0-48E9-96D9-1136A7471B2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 особых комнатах курили, играли в карты, шахматы и ша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F6C9-8CDC-4A1D-8D17-F5FAA2C2100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На подобных же торжествах чаще всего проходили светские дебюты молодых людей и девушек, которых только начинали выводить в све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D899-FA56-4819-80C8-FAF79A8BFEC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 XIX веке бал превратился в образ жизни, сочетая в себе клуб, салон мод, брачную контору и игру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A961-9A80-49EF-A6D0-75972AA9E0F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B8C81-E6BD-46C8-8501-47C9519B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5C29C-50DC-46D1-810D-116ACE3B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94A15-C8D4-44D4-933F-4DF2D135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F29BF-674F-45EC-BC8C-7AA4D64B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EB8C-0854-45C0-80D9-DCC7C748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259A-6161-4D0D-AE82-AE177A0F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6474-C4C8-41AD-88F0-E20779DF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2D0B-EA2F-43C6-9435-41A617CA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5922-77A9-4C48-8189-4169AF80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0EE3-2759-4AF2-9787-357F81E2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EC12-0191-4B5F-B5B5-3F4E7409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D51AF-DEB0-4C4E-A2AB-D999F9B0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FA45-9E13-4DAD-AFA6-4516E2B9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C304-0472-4CCC-A676-8B80175A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8A95-704B-4800-BA47-DA166AD8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EE59-207E-48DF-9B36-03418B09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CAA4-CF43-477D-B54D-1F063E53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27266-1803-462E-81BF-B55D8586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F9422-95A1-4B23-BED2-ADD8ED54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7B757-C8C9-43D0-B080-6FE51579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9730D-5F10-4518-BC83-8BEDCEDE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3EA00-3569-45FA-B42A-FE61E001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2FBD8-F883-4442-844F-E92EE349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10FBC-7ED7-45D4-9C3A-A6AA3833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DA6C-C040-416A-A567-CD5A04B9893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071A-3425-4C54-8C42-829058DEC75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839080" cy="6351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f25a"/>
                </a:solidFill>
                <a:latin typeface="Tahoma"/>
              </a:rPr>
              <a:t>Бал - это торжественное мероприятие, которое, подобно обряду, имеет свой церемониал и правила поведения, что делает его таким величественным и роскошным. Поэтому, чтобы сохранить изысканность и восхитительность, необходимо соблюдать правила бального этикета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229600" cy="51051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7086600" cy="64008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657600" cy="4648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800600" y="838080"/>
            <a:ext cx="3657600" cy="50292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2695680" cy="4381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724640" cy="60962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Tahoma"/>
              </a:rPr>
              <a:t>Свадьб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6858000" cy="52578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1805040" y="304920"/>
            <a:ext cx="5533920" cy="63244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7619760" cy="521964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6838920" cy="617220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782040" cy="57913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848720" cy="54864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5848560" cy="60199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400800" cy="51051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391160" cy="56386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62485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9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На балах звучала духовая музыка, танцевали менуэт, контрдансы, русские потешные пляски, польские и английские танцы. В залах горели тысячи свечей. Лестницы были устланы дорогими коврами, теснились тропические растения в кадках, а из специально устроенных фонтанов струилась душистая вода.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К ужину подавали ананасы, экзотические персики, виноград, свежую клубнику, огромных рыб и дорогие вина со всего света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836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2aa68"/>
                </a:solidFill>
                <a:latin typeface="Tahoma"/>
              </a:rPr>
              <a:t>В особых комнатах курили, играли в карты, шахматы и шашки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bf25a"/>
                </a:solidFill>
                <a:latin typeface="Tahoma"/>
              </a:rPr>
              <a:t>На подобных же торжествах чаще всего проходили светские дебюты молодых людей и девушек, которых только начинали выводить в свет.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ahoma"/>
              </a:rPr>
              <a:t>В XIX веке бал превратился в образ жизни, сочетая в себе клуб, салон мод, брачную контору и игру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09:46:3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10000000000010250300207f7000400038000</vt:lpwstr>
  </property>
  <property fmtid="{D5CDD505-2E9C-101B-9397-08002B2CF9AE}" pid="3" name="Version">
    <vt:r8>1</vt:r8>
  </property>
</Properties>
</file>