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2F0E8-497E-4C54-83BB-B340EA2C7D42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Бал - это торжественное мероприятие, которое, подобно обряду, имеет свой церемониал и правила поведения, что делает его таким величественным и роскошным. Поэтому, чтобы сохранить изысканность и восхитительность, необходимо соблюдать правила бального этикет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84E79-480B-4289-A95B-7FFE0D81A9D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вадь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6C014-49E5-41EA-A3B2-80EB13E2A29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На балах звучала духовая музыка, танцевали менуэт, контрдансы, русские потешные пляски, польские и английские танцы. В залах горели тысячи свечей. Лестницы были устланы дорогими коврами, теснились тропические растения в кадках, а из специально устроенных фонтанов струилась душистая вода.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16DF3-7E73-4485-BEE8-D4C2B577321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ужину подавали ананасы, экзотические персики, виноград, свежую клубнику, огромных рыб и дорогие вина со всего света.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B74D1-3506-420B-B895-3CBA2A3773E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В особых комнатах курили, играли в карты, шахматы и шаш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DC709-DE83-4841-A56A-ED491926A68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На подобных же торжествах чаще всего проходили светские дебюты молодых людей и девушек, которых только начинали выводить в свет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837B1-B544-49E9-B464-CC74D024DC2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В XIX веке бал превратился в образ жизни, сочетая в себе клуб, салон мод, брачную контору и игру.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4CEF9-5EF5-406F-A109-BBBFF26EFC3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68CD8-5DC0-42DF-A388-55A00D549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8DA95-2176-4E81-BACA-3D5C1657C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EE5E1-7C6F-4C51-A8FD-0F86354B5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B91EE-EF0E-4D13-AE4A-D5A98F1FB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6AB3E-2E75-47A4-A8F1-DAE5ADE5D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F54E1-B6E0-48F8-AFA7-4835E9065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C4ADD-FB26-437B-B9CE-21C5481A1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70FD1-3677-49D9-803D-C4406394C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B1DF9-FF22-4908-A298-8DCB616BA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FC811-5096-42A3-91EB-371F15A38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4A3E3-100E-463E-B309-F27C45F3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36159-9890-4A1E-8754-C9B006347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412CA-C1BB-415D-A885-DE95B326B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AB6C9-3061-4461-B840-F53D3B89B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CA73C-1A6E-4864-B3AB-E3E50D82A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4A69B-FCFF-47C5-9770-D3D58703D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BC5E8-CD09-49F9-B720-9991FA9F7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54FB4-EAAA-4E09-901A-69E92F9C8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6DE96-F4A7-43CD-924D-9FF651BA1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B2607-9EA6-4030-9AE4-64019FB87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56E97-7FFF-4620-B3A9-5B7A2268C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E42FF-A5C2-4485-A828-A23999C6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38F3F-03EC-4F92-B43F-2A94D34F8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3DDD9-4FB9-4268-B033-E029D203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A837C-5CE5-420A-B963-8D0A3A89AFC3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1AD36-51F4-40F5-AF84-13A56D9C492B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560" y="277560"/>
            <a:ext cx="8839080" cy="6351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f25a"/>
                </a:solidFill>
                <a:latin typeface="Tahoma"/>
              </a:rPr>
              <a:t>Бал - это торжественное мероприятие, которое, подобно обряду, имеет свой церемониал и правила поведения, что делает его таким величественным и роскошным. Поэтому, чтобы сохранить изысканность и восхитительность, необходимо соблюдать правила бального этикета.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8229600" cy="510516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1143000" y="152280"/>
            <a:ext cx="7086600" cy="640080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3657600" cy="46483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2"/>
          <a:stretch/>
        </p:blipFill>
        <p:spPr>
          <a:xfrm>
            <a:off x="4800600" y="838080"/>
            <a:ext cx="3657600" cy="502920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2695680" cy="43815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"/>
          <p:cNvPicPr/>
          <p:nvPr/>
        </p:nvPicPr>
        <p:blipFill>
          <a:blip r:embed="rId2"/>
          <a:stretch/>
        </p:blipFill>
        <p:spPr>
          <a:xfrm>
            <a:off x="4800600" y="685800"/>
            <a:ext cx="3657600" cy="480060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2209680" y="380880"/>
            <a:ext cx="4724640" cy="609624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Tahoma"/>
              </a:rPr>
              <a:t>Свадьб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6858000" cy="525780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1805040" y="304920"/>
            <a:ext cx="5533920" cy="632448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7619760" cy="521964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6838920" cy="617220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6782040" cy="579132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7848720" cy="548640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"/>
          <p:cNvPicPr/>
          <p:nvPr/>
        </p:nvPicPr>
        <p:blipFill>
          <a:blip r:embed="rId1"/>
          <a:stretch/>
        </p:blipFill>
        <p:spPr>
          <a:xfrm>
            <a:off x="1295280" y="380880"/>
            <a:ext cx="5848560" cy="601992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1219320" y="762120"/>
            <a:ext cx="6400800" cy="510516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391160" cy="563868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8077320" cy="624852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199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ahoma"/>
              </a:rPr>
              <a:t>На балах звучала духовая музыка, танцевали менуэт, контрдансы, русские потешные пляски, польские и английские танцы. В залах горели тысячи свечей. Лестницы были устланы дорогими коврами, теснились тропические растения в кадках, а из специально устроенных фонтанов струилась душистая вода.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К ужину подавали ананасы, экзотические персики, виноград, свежую клубнику, огромных рыб и дорогие вина со всего света.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3836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2aa68"/>
                </a:solidFill>
                <a:latin typeface="Tahoma"/>
              </a:rPr>
              <a:t>В особых комнатах курили, играли в карты, шахматы и шашки.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513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ebf25a"/>
                </a:solidFill>
                <a:latin typeface="Tahoma"/>
              </a:rPr>
              <a:t>На подобных же торжествах чаще всего проходили светские дебюты молодых людей и девушек, которых только начинали выводить в свет.</a:t>
            </a:r>
            <a:br>
              <a:rPr sz="4800"/>
            </a:b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056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3300"/>
                </a:solidFill>
                <a:latin typeface="Tahoma"/>
              </a:rPr>
              <a:t>В XIX веке бал превратился в образ жизни, сочетая в себе клуб, салон мод, брачную контору и игру.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1-14T09:46:35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110000000000010250300207f7000400038000</vt:lpwstr>
  </property>
  <property fmtid="{D5CDD505-2E9C-101B-9397-08002B2CF9AE}" pid="3" name="Version">
    <vt:r8>1</vt:r8>
  </property>
</Properties>
</file>