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E6A0-05B1-4A88-BCD4-9B326F70673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Борьба Руси с западными завоевател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9542-E8BE-4991-AEDF-8DBE821B9AFB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когда полчища Батыя начали громить русские земли, Тевтонский орден объединился с Ливонск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9B4F-D505-4320-99D6-DA5A8268AF4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Александр Ярославич (Новгородский княз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178C-7134-4EA1-8FE8-F3D0311FED9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 июля 1240 г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ская би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EF1A-00A4-473C-89DD-81AE66FEAADE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ое войско, во главе с Александром (прозванным Невским), одержало на Неве блестящую побед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7214-D487-4F77-9278-04989FDE5167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том 1240г. датские и немецкие завоеватели возобновили поход на Новгородскую зем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227E-AE7B-47D1-969F-2A4BD5845C18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довое побоище (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5 апреля 1242 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0776-2AE2-4AED-8EB8-6EF14FE81579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лександро-Невская Лавра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в г. Санкт-Петербурге. 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Здесь похоронен князь Александр Невск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FDFE-0865-4339-A6D1-11E38660CDD7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даря полководческому таланту Александра Невского Русь отстояла свою территорию и в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E6B0-E25B-47E5-98D7-ECA4C1FDF1C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к нам с мечем придет, от меча и погибнет.</a:t>
            </a:r>
            <a:br>
              <a:rPr sz="1200"/>
            </a:br>
            <a:br>
              <a:rPr sz="12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лександр Невски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C4B6-4A07-4A4A-9BB6-BEFB7C5F13A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временно с монгольским нашествием русскому народу пришлось выдержать борьбу с западными завоевател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8812-29EA-4C8D-BBDF-9183815915BA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1164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шведские отряды вторглись в пределы Новгородской земли, но были разбиты новгородским ополч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1524-5E38-4B66-BC9D-E157ADAE40E8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нав о нашествии монголов на Северо-Восточную Русь, шведы решили воспользоваться ослаблением Ру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3FC4-F431-48CF-B3D3-F5B3A87A56F5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кон. 12 века римский папа объявил крестовый поход против «язычников» -жителей прибалтийских земель. На обращение откликнулись немецкие феодалы. Отряды рыцарей-крестоносцев весной 1200 г высадились в устье Западной Двины и заложили крепость Рига. Крестоносцы объединились в Орден меченосцев (Ливонский орден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D7B7-1E7B-41D0-B54B-A798B7A0C90E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же немецкие рыцари захватили земли племени пруссов и основали на них Тевтонский орден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19г на земле эстов высадились датские рыцари, которые построили крепость Рев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B7D6-095E-4C30-9EE8-1B468B056B9E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оеватели силой заставляли местное население принимать католичество, отбирали у него земли, строили свои зам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2837-677F-4394-9C39-1D0F53841CED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A29C0-AF84-4A04-AFFD-992CDB05E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3D687-B168-49D9-844A-B0371AC2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CC0EB-D53D-4822-B894-C1E327B0D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01BE6-E484-4E39-8B78-F5C282A62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80D2-1542-4527-9DE5-606C81007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5617B-E916-412D-AE3D-E2C7FAA6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EAF5-15B8-4AC6-ABB9-80FEDF57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98C7-4062-460B-ABA0-B2470306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85189-256B-459F-8B87-F8E7414C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B047-41ED-49D1-AE75-420FEE44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4427-E486-4031-B7F7-E6909B1A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DBF1E-4E12-4082-BCA6-0E7D4E52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9F67-536E-4439-84BA-03535D05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1A0D-91D8-4D0C-8051-17685B25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4F5D-6009-46CD-BB2D-0AA1CA47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BB05-7A0B-4EBC-B4A5-CF51612B8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B8138-0878-4AA8-95D8-DB509DA19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E4F54-A961-4754-B44D-2370F39F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783FE-DAE6-4ED3-BEE0-8D2DFE09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56E6C-1CAE-4713-A22A-E90C2564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3DBB4-10A8-4B23-A166-03D2E6FC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7DA9A-4671-4CBA-822B-1909DD58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1EFCF-6CA1-45E2-A6DD-5E0F638E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F1889-49D2-4605-A655-F86F102D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C595-03BF-4585-9535-104439FACA2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02A2-05FF-4380-9A26-0920C029437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91856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cc00"/>
                </a:solidFill>
                <a:latin typeface="Garamond"/>
              </a:rPr>
              <a:t>Борьба Руси с западными завоевателями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Но когда полчища Батыя начали громить русские земли, Тевтонский орден объединился с Ливонским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1332000" y="2924280"/>
            <a:ext cx="6551640" cy="360036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038480" cy="53182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Garamond"/>
              </a:rPr>
              <a:t>Александр Ярославич (Новгородский князь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5435640" y="5950080"/>
            <a:ext cx="26654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очитать на стр.108-109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15 июля 1240 г.</a:t>
            </a:r>
            <a:br>
              <a:rPr sz="4800"/>
            </a:b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Невская битва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833400" y="1600200"/>
            <a:ext cx="3286080" cy="4525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0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64087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Русское войско, во главе с Александром (прозванным Невским), одержало на Неве блестящую победу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8147160" cy="429264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Летом 1240г. датские и немецкие завоеватели возобновили поход на Новгородскую землю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697800" cy="42098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Ледовое побоище (</a:t>
            </a: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5 апреля 1242 г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4038840" cy="4525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битва на Чудском озере"/>
          <p:cNvPicPr/>
          <p:nvPr/>
        </p:nvPicPr>
        <p:blipFill>
          <a:blip r:embed="rId1"/>
          <a:stretch/>
        </p:blipFill>
        <p:spPr>
          <a:xfrm>
            <a:off x="1332000" y="0"/>
            <a:ext cx="684036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435280" y="274680"/>
            <a:ext cx="325116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Александро-Невская Лавра</a:t>
            </a:r>
            <a:br>
              <a:rPr sz="3200"/>
            </a:b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 в г. Санкт-Петербурге. </a:t>
            </a:r>
            <a:br>
              <a:rPr sz="3200"/>
            </a:b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Здесь похоронен князь Александр Невский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659120" cy="63356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Благодаря полководческому таланту Александра Невского Русь отстояла свою территорию и веру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8075520" cy="452628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0" y="274680"/>
            <a:ext cx="411480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5e5ff"/>
                </a:solidFill>
                <a:latin typeface="Garamond"/>
              </a:rPr>
              <a:t>Кто к нам с мечем придет, от меча и погибнет.</a:t>
            </a:r>
            <a:br>
              <a:rPr sz="4800"/>
            </a:br>
            <a:br>
              <a:rPr sz="48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Александр Невский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3827520" cy="62643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Одновременно с монгольским нашествием русскому народу пришлось выдержать борьбу с западными завоевателям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1258920" y="2708280"/>
            <a:ext cx="6480000" cy="396072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00720" y="274680"/>
            <a:ext cx="418608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1164г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шведские отряды вторглись в пределы Новгородской земли, но были разбиты новгородским ополчением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248000" cy="604836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Узнав о нашествии монголов на Северо-Восточную Русь, шведы решили воспользоваться ослаблением Руси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6994440" cy="42480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В кон. 12 века римский папа объявил крестовый поход против «язычников» -жителей прибалтийских земель. На обращение откликнулись немецкие феодалы. Отряды рыцарей-крестоносцев весной 1200 г высадились в устье Западной Двины и заложили крепость Рига. Крестоносцы объединились в Орден меченосцев (Ливонский орден). 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Picture 7" descr="nevsk05"/>
          <p:cNvPicPr/>
          <p:nvPr/>
        </p:nvPicPr>
        <p:blipFill>
          <a:blip r:embed="rId1"/>
          <a:stretch/>
        </p:blipFill>
        <p:spPr>
          <a:xfrm>
            <a:off x="324000" y="3613320"/>
            <a:ext cx="3600360" cy="2925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nevsk04"/>
          <p:cNvPicPr/>
          <p:nvPr/>
        </p:nvPicPr>
        <p:blipFill>
          <a:blip r:embed="rId2"/>
          <a:stretch/>
        </p:blipFill>
        <p:spPr>
          <a:xfrm>
            <a:off x="5219640" y="3603600"/>
            <a:ext cx="3613320" cy="293544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8229600" cy="61912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озже немецкие рыцари захватили земли племени пруссов и основали на них Тевтонский орден. </a:t>
            </a: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 1219г на земле эстов высадились датские рыцари, которые построили крепость Ревель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AutoShape 5">
            <a:hlinkClick r:id="" action="ppaction://hlinkshowjump?jump=previousslide"/>
          </p:cNvPr>
          <p:cNvSpPr/>
          <p:nvPr/>
        </p:nvSpPr>
        <p:spPr>
          <a:xfrm>
            <a:off x="8388360" y="6308640"/>
            <a:ext cx="755640" cy="549360"/>
          </a:xfrm>
          <a:custGeom>
            <a:avLst/>
            <a:gdLst>
              <a:gd name="textAreaLeft" fmla="*/ 35280 w 755640"/>
              <a:gd name="textAreaRight" fmla="*/ 720360 w 755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9705" h="21600">
                <a:moveTo>
                  <a:pt x="0" y="0"/>
                </a:moveTo>
                <a:lnTo>
                  <a:pt x="29705" y="0"/>
                </a:lnTo>
                <a:lnTo>
                  <a:pt x="29705" y="21600"/>
                </a:lnTo>
                <a:lnTo>
                  <a:pt x="0" y="21600"/>
                </a:lnTo>
                <a:close/>
              </a:path>
              <a:path fill="lightenLess" w="29705" h="21600">
                <a:moveTo>
                  <a:pt x="0" y="0"/>
                </a:moveTo>
                <a:lnTo>
                  <a:pt x="29705" y="0"/>
                </a:lnTo>
                <a:lnTo>
                  <a:pt x="28305" y="1400"/>
                </a:lnTo>
                <a:lnTo>
                  <a:pt x="1400" y="1400"/>
                </a:lnTo>
                <a:close/>
              </a:path>
              <a:path fill="darken" w="29705" h="21600">
                <a:moveTo>
                  <a:pt x="29705" y="0"/>
                </a:moveTo>
                <a:lnTo>
                  <a:pt x="29705" y="21600"/>
                </a:lnTo>
                <a:lnTo>
                  <a:pt x="28305" y="20200"/>
                </a:lnTo>
                <a:lnTo>
                  <a:pt x="28305" y="1400"/>
                </a:lnTo>
                <a:close/>
              </a:path>
              <a:path fill="darkenLess" w="29705" h="21600">
                <a:moveTo>
                  <a:pt x="29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5" y="20200"/>
                </a:lnTo>
                <a:close/>
              </a:path>
              <a:path fill="lighten" w="29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5" h="21600">
                <a:moveTo>
                  <a:pt x="7846" y="10800"/>
                </a:moveTo>
                <a:lnTo>
                  <a:pt x="21859" y="3794"/>
                </a:lnTo>
                <a:lnTo>
                  <a:pt x="21859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Завоеватели силой заставляли местное население принимать католичество, отбирали у него земли, строили свои замки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0" y="2565360"/>
            <a:ext cx="5651640" cy="42926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6012000" y="2997360"/>
            <a:ext cx="2663640" cy="825480"/>
          </a:xfrm>
          <a:prstGeom prst="rect">
            <a:avLst/>
          </a:prstGeom>
          <a:solidFill>
            <a:srgbClr val="e5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514"/>
                </a:solidFill>
                <a:latin typeface="Garamond"/>
              </a:rPr>
              <a:t>На помощь пришла Русь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6T10:35:59Z</dcterms:created>
  <dc:creator>Галкина</dc:creator>
  <dc:description/>
  <dc:language>en-US</dc:language>
  <cp:lastModifiedBy>LEGION</cp:lastModifiedBy>
  <dcterms:modified xsi:type="dcterms:W3CDTF">2015-01-14T09:47:23Z</dcterms:modified>
  <cp:revision>6</cp:revision>
  <dc:subject/>
  <dc:title>Борьба Руси с западными завоевателя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40f0000000000010250300207f7000400038000</vt:lpwstr>
  </property>
</Properties>
</file>