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0789-87CC-4D7A-B510-F6AAFB8F340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орьба Руси с западными завоева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3426-6E67-4858-ABA7-CEFBD97DD57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когда полчища Батыя начали громить русские земли, Тевтонский орден объединился с Ливонс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65E0-EB9D-46DA-B259-70052728BBE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Александр Ярославич (Новгородский княз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0AD8-C06E-4287-A37F-34CA3164CEE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 июля 1240 г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ская би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AA45-D756-4BFD-A02B-37C38B1BC67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ое войско, во главе с Александром (прозванным Невским), одержало на Неве блестящую побе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F573-BE27-464B-AE2F-4F443DEC857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ом 1240г. датские и немецкие завоеватели возобновили поход на Новгородскую зем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BC2E-6E9F-4D28-BBD5-7D931D64844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довое побоище (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5 апреля 1242 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3EDF-F594-4A76-B133-6EC21987E02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лександро-Невская Лавра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в г. Санкт-Петербурге.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десь похоронен князь Александр Нев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4EA4-9ADB-41AD-8197-22821125970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я полководческому таланту Александра Невского Русь отстояла свою территорию и в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5E78-DAAA-4431-8232-EEE7F925F44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к нам с мечем придет, от меча и погибнет.</a:t>
            </a:r>
            <a:br>
              <a:rPr sz="1200"/>
            </a:br>
            <a:br>
              <a:rPr sz="12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лександр Невски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0173-FE07-4D24-B651-90FB67F18BA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временно с монгольским нашествием русскому народу пришлось выдержать борьбу с западными завоева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3E38-407C-4CCF-80E8-685C06EC9EB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1164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шведские отряды вторглись в пределы Новгородской земли, но были разбиты новгородским ополч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7282-21BB-4A05-BDE0-380422BBD1B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в о нашествии монголов на Северо-Восточную Русь, шведы решили воспользоваться ослаблением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948E-0C55-453C-9602-1E0F6FB2E86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он. 12 века римский папа объявил крестовый поход против «язычников» -жителей прибалтийских земель. На обращение откликнулись немецкие феодалы. Отряды рыцарей-крестоносцев весной 1200 г высадились в устье Западной Двины и заложили крепость Рига. Крестоносцы объединились в Орден меченосцев (Ливонский орден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79C9-9E5E-49EC-848C-D273E9522A6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же немецкие рыцари захватили земли племени пруссов и основали на них Тевтонский орден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19г на земле эстов высадились датские рыцари, которые построили крепость Рев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9843-75C8-485F-9DFC-80A87CC224D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оеватели силой заставляли местное население принимать католичество, отбирали у него земли, строили свои зам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2AC1-E1A1-4C3A-BC24-41844992ECA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D66A9-B822-4A18-81ED-9631AFC8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9FAAD-FFC5-4F0A-8847-73717F3D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E45BA-6A92-4618-BED1-71291CA1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5DF67-D6E3-4222-A1EA-CA07770C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907E-F43D-4667-B6B1-F4A4A6F26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3282-5DF5-43D4-A614-CE043284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2225-EF1B-46BF-8ED3-7B6A8590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92FD-11CD-4390-8BE8-A26D5253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A5E2-B622-4B06-9DC5-47CA4ABA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A3F9-0A28-4378-8C6B-CB6138D7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631A-BB6D-43A9-BC89-E0074C56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04395-6F0C-4A3C-84DC-CB8C882C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BFFA-22DA-4BCA-A795-ECA576D6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4637-49CE-4867-934A-329D8E52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F453-B040-486B-B443-E975A103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4052-B510-4AF4-A107-9A7522BF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22E0-A848-4BE1-9409-4D1ACF38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C7362-42BD-474B-83E1-3538655F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68638-C6A0-41C3-AD3D-73BC90B7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2A9FC-1BAC-4485-BBA7-2376A214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1ADCA-4AAC-4F45-B51A-C974BDF8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2B7B2-225A-4F50-A296-B0C2E602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ED879-124C-47BA-BC88-633B0546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7C94F-1F9B-4274-805A-0BFA46D6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8D9D-4E7F-4E50-94A9-B1D45B241C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727C-75ED-41D4-8FC7-19AB4407E7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1856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c00"/>
                </a:solidFill>
                <a:latin typeface="Garamond"/>
              </a:rPr>
              <a:t>Борьба Руси с западными завоевателями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Но когда полчища Батыя начали громить русские земли, Тевтонский орден объединился с Ливонским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1332000" y="2924280"/>
            <a:ext cx="6551640" cy="36003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038480" cy="53182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Garamond"/>
              </a:rPr>
              <a:t>Александр Ярославич (Новгородский князь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435640" y="5950080"/>
            <a:ext cx="26654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очитать на стр.108-109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15 июля 1240 г.</a:t>
            </a:r>
            <a:br>
              <a:rPr sz="4800"/>
            </a:b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Невская битв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833400" y="1600200"/>
            <a:ext cx="3286080" cy="4525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0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087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усское войско, во главе с Александром (прозванным Невским), одержало на Неве блестящую победу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8147160" cy="42926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Летом 1240г. датские и немецкие завоеватели возобновили поход на Новгородскую землю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697800" cy="42098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Ледовое побоище (</a:t>
            </a: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5 апреля 1242 г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битва на Чудском озере"/>
          <p:cNvPicPr/>
          <p:nvPr/>
        </p:nvPicPr>
        <p:blipFill>
          <a:blip r:embed="rId1"/>
          <a:stretch/>
        </p:blipFill>
        <p:spPr>
          <a:xfrm>
            <a:off x="133200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435280" y="274680"/>
            <a:ext cx="325116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Александро-Невская Лавра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в г. Санкт-Петербурге. 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Здесь похоронен князь Александр Невский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659120" cy="63356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Благодаря полководческому таланту Александра Невского Русь отстояла свою территорию и веру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075520" cy="45262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e5ff"/>
                </a:solidFill>
                <a:latin typeface="Garamond"/>
              </a:rPr>
              <a:t>Кто к нам с мечем придет, от меча и погибнет.</a:t>
            </a:r>
            <a:br>
              <a:rPr sz="4800"/>
            </a:br>
            <a:br>
              <a:rPr sz="48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Александр Невский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3827520" cy="6264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дновременно с монгольским нашествием русскому народу пришлось выдержать борьбу с западными завоевателя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6480000" cy="39607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00720" y="274680"/>
            <a:ext cx="418608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1164г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шведские отряды вторглись в пределы Новгородской земли, но были разбиты новгородским ополчением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48000" cy="60483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Узнав о нашествии монголов на Северо-Восточную Русь, шведы решили воспользоваться ослаблением Рус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6994440" cy="424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В кон. 12 века римский папа объявил крестовый поход против «язычников» -жителей прибалтийских земель. На обращение откликнулись немецкие феодалы. Отряды рыцарей-крестоносцев весной 1200 г высадились в устье Западной Двины и заложили крепость Рига. Крестоносцы объединились в Орден меченосцев (Ливонский орден).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7" descr="nevsk05"/>
          <p:cNvPicPr/>
          <p:nvPr/>
        </p:nvPicPr>
        <p:blipFill>
          <a:blip r:embed="rId1"/>
          <a:stretch/>
        </p:blipFill>
        <p:spPr>
          <a:xfrm>
            <a:off x="324000" y="3613320"/>
            <a:ext cx="3600360" cy="2925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nevsk04"/>
          <p:cNvPicPr/>
          <p:nvPr/>
        </p:nvPicPr>
        <p:blipFill>
          <a:blip r:embed="rId2"/>
          <a:stretch/>
        </p:blipFill>
        <p:spPr>
          <a:xfrm>
            <a:off x="5219640" y="3603600"/>
            <a:ext cx="3613320" cy="29354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6191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зже немецкие рыцари захватили земли племени пруссов и основали на них Тевтонский орден.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 1219г на земле эстов высадились датские рыцари, которые построили крепость Ревель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AutoShape 5">
            <a:hlinkClick r:id="" action="ppaction://hlinkshowjump?jump=previous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10800"/>
                </a:moveTo>
                <a:lnTo>
                  <a:pt x="21859" y="3794"/>
                </a:lnTo>
                <a:lnTo>
                  <a:pt x="2185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воеватели силой заставляли местное население принимать католичество, отбирали у него земли, строили свои замк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5651640" cy="4292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6012000" y="2997360"/>
            <a:ext cx="2663640" cy="82548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514"/>
                </a:solidFill>
                <a:latin typeface="Garamond"/>
              </a:rPr>
              <a:t>На помощь пришла Русь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0:35:59Z</dcterms:created>
  <dc:creator>Галкина</dc:creator>
  <dc:description/>
  <dc:language>en-US</dc:language>
  <cp:lastModifiedBy>LEGION</cp:lastModifiedBy>
  <dcterms:modified xsi:type="dcterms:W3CDTF">2015-01-14T09:47:23Z</dcterms:modified>
  <cp:revision>6</cp:revision>
  <dc:subject/>
  <dc:title>Борьба Руси с западными завоевателя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0f0000000000010250300207f7000400038000</vt:lpwstr>
  </property>
</Properties>
</file>