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FA70-2972-483C-A89F-78C9FAF5A7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рьба Руси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726B-98A3-4DBB-923F-FAAF9737E2B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когда полчища Батыя начали громить русские земли, Тевтонский орден объединился с Ливон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85BF-B256-4BC9-83F6-FDF2C1F3EE8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лександр Ярославич (Новгородский княз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C186-0E48-475B-A70A-5178D444893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июля 1240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ская би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ADC2-8C55-46B9-B182-8DA189E15C7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е войско, во главе с Александром (прозванным Невским), одержало на Неве блестящую поб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2FE9-80FE-4D39-85BC-A1018753993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м 1240г. датские и немецкие завоеватели возобновили поход на Новгородскую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ED21-97C7-4301-A462-60DC5507E35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овое побоище (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 апреля 1242 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7DCE-F0BE-47BC-8C69-65AA0BA6ADF6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ександро-Невская Лав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г. Санкт-Петербурге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десь похоронен князь Александр Н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FF11-CBFE-4623-A8DC-4DF6E7A2228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полководческому таланту Александра Невского Русь отстояла свою территорию и в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7848-BCB7-45CC-8835-3DB41ACCA961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к нам с мечем придет, от меча и погибнет.</a:t>
            </a:r>
            <a:br>
              <a:rPr sz="1200"/>
            </a:br>
            <a:br>
              <a:rPr sz="12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лександр Невски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2F04-6C80-4A77-8B42-41F75DD4490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9889-881F-4FAE-AD34-03E47652ED5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164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2AAC-16DA-43AA-9317-43DAB8B8774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A356-C9C9-4491-ACE6-3DFE633E38F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1B55-5EA1-4087-8511-19CE7936F14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19г на земле эстов высадились датские рыцари, которые построили крепость Рев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DB82-FBBD-4E2C-A1EC-11BAAB4AA0C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3577-0900-4893-8A02-882C1E39CE0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7914-8FF6-45C0-8FB5-752090D1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04F5-47A5-47E8-B4EF-9881077E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8510-673C-410E-83D4-0AE94CCA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AB86-1A81-4A12-ABB3-36D7CE34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BE90-961E-4AB0-AEA4-ABED9187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FDEB-7C6E-40E6-84AF-56F92EAA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961-AE4E-4E3A-8BB8-10428102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FE87-A298-417E-9DC6-EA89A3E9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6172-BBEC-417E-A7C0-DDF03300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BEEF-DAE4-4F62-A17F-3888627D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E036-EECE-43A0-A374-49AE029A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EBB4-4982-4BAB-866C-F5981CB4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A74E-2BD1-4320-B9EF-7CC6077D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99E6-ACC2-4FDB-81BC-B0AACBE1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C0EF-73D9-4972-996B-B82ADB28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C254-E77D-4CCA-B681-FD3C9AE6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E75D-F4F1-4C42-A160-EEDA2171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9D25-76ED-4C91-BA96-D6417ECB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872A-9864-4573-A6A6-B4677C4E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35BB-3E8D-4E96-8443-3B105C98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46F4-2877-44C7-8183-D857278D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C3482-1470-4432-8B9B-067399D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227E-0208-40C1-96B1-F8845582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6D82-5C4C-4FDE-86FD-DFD06655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2799-CACB-4511-A957-BCFF46A9E64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AC7F-E45E-4077-9953-33DC69D19F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0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битва на Чудском озере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7" descr="nevsk05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nevsk04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LEGION</cp:lastModifiedBy>
  <dcterms:modified xsi:type="dcterms:W3CDTF">2015-01-14T09:47:23Z</dcterms:modified>
  <cp:revision>6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