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25.png" ContentType="image/pn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CE82-2268-4D6D-AA48-33409BC62A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3300"/>
                </a:solidFill>
                <a:uFillTx/>
                <a:latin typeface="Tahoma"/>
              </a:rPr>
              <a:t>Сму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ECD6-2A6D-42A1-B043-1780D141CC7E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ff0000"/>
                </a:solidFill>
                <a:latin typeface="Arial Black"/>
              </a:rPr>
              <a:t>ВАСИЛИЙ  ШУЙСКИЙ</a:t>
            </a:r>
            <a:br>
              <a:rPr sz="14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ГЛАВА  ЗАГОВОРА  ПРОТИВ  ЛЖЕДМИТРИЯ </a:t>
            </a:r>
            <a:r>
              <a:rPr b="0" lang="en-US" sz="12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D246-290D-49C6-B1FD-98E6CFC2A937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очь на 17мая 1606г был убит Лжедмит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7286-39ED-426D-8A96-3DE594F0FDC5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силий IV Шуйский (1552-1612), русский царь в 1606-1610. Сын княз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. А. Шуйск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ьшинство были недовольны приходом к власти «боярского» цар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алось движение против нового цар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3EAE-CF18-46B2-8136-02B37F65C970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возглавил  Иван Болот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87D1-B0FF-4E1D-9405-002338728BB1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силий Шуйский жестоко расправился с руководителями движения. Болотникова сослали в монастырь, ослепили и утопили. Остальных повеша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5D2A-BBC9-4BCA-B799-CF454EC8F9ED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580000"/>
                </a:solidFill>
                <a:latin typeface="Arial"/>
              </a:rPr>
              <a:t>Лжедмитрий </a:t>
            </a:r>
            <a:r>
              <a:rPr b="0" lang="en-US" sz="1200" spc="-1" strike="noStrike">
                <a:solidFill>
                  <a:srgbClr val="580000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самозванец, выдававший себя за спасшегося 17 мая 1606 г. Лжедмитрия I. Настоящее имя и происхождение не установлено, хотя существует множество верс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C1AC-9CC1-41F2-A931-1CA5B04A00D3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ом 1608г войска самозванца обосновались в подмосковном с.Туши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коре Тушино стало второй столицей  со своим царём, прозванным в народе «тушинским вором», боярской думой, патриархом(Филар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Тушинское войско постоянно пополнялось за счёт московских  бояр, крестьян. Численность достигла 100тыс.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Но вскоре в настроении крестьян и посадских людей произошёл резкий пер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575E-BA20-4ED4-AD36-BFD000AD8A1D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Смута, Смутное время, лихолетье – так называют начало 17века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5E8B-16C9-4171-BE43-54F87A59AAEF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Тушинские поляки вели себя как завоеватели. Не отставали и русские тушин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53F7-2636-4C11-8A33-E368A9A93483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ли создаваться народные ополчения (объединение патриотических сил России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380B-08BB-4891-9E5B-19283D427BF2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феврале 1609г Шуйский заключил договор со Швецией об отправке в Россию наёмного войска в обмен на уступку Швеции крепости Коре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955B-69CD-482D-954F-73F13057C078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одержание наёмного войска необходимы средства и В.Шуйский обложил население тяжёлыми налогам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пин-Шуйский стал опираться на силы народного опол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0346-58C6-4B08-8462-E81AFFCF3B74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609 г Речь Посполитая объявила России вой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E3CB-E1CB-4577-B554-81CC58ED82A7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по карте стр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64CB-1028-4D79-BA89-16DA2BB4961B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дственным положением воспользовались и шведы. И в 1611г шведские отряды захватили Новгород и всё русское побережье Финского зали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5BF7-B6A1-4C17-ACE9-1C0EE0669C86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лабление центральной власти в России привело к Сму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16A3-7CCD-4253-80FC-0186545D0C75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80000"/>
                </a:solidFill>
                <a:latin typeface="Comic Sans MS"/>
              </a:rPr>
              <a:t>Что такое «смута»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580000"/>
                </a:solidFill>
                <a:uFillTx/>
                <a:latin typeface="Arial"/>
              </a:rPr>
              <a:t>Смута –</a:t>
            </a:r>
            <a:r>
              <a:rPr b="0" lang="ru-RU" sz="1200" spc="-1" strike="noStrike">
                <a:solidFill>
                  <a:srgbClr val="58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80000"/>
                </a:solidFill>
                <a:latin typeface="Arial"/>
              </a:rPr>
              <a:t>период борьбы за власть,       сопровождающийся сменой династий, интервенцией и другими потряс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35A4-375C-40DD-99DD-C5925584DD3E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580000"/>
                </a:solidFill>
                <a:latin typeface="Comic Sans MS"/>
              </a:rPr>
              <a:t>Причины Сму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BC90-F4C9-491B-AC40-94EAF37143EA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9f9f9"/>
                </a:solidFill>
                <a:latin typeface="Arial"/>
              </a:rPr>
              <a:t>Периоды Смутного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8F12-060F-4F04-BCD7-2E5F90364DD0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Black"/>
              </a:rPr>
              <a:t>ЛЖЕДМИТРИЙ </a:t>
            </a:r>
            <a:r>
              <a:rPr b="0" lang="en-US" sz="1200" spc="-1" strike="noStrike">
                <a:solidFill>
                  <a:srgbClr val="ffff00"/>
                </a:solidFill>
                <a:latin typeface="Arial Black"/>
              </a:rPr>
              <a:t>I</a:t>
            </a:r>
            <a:r>
              <a:rPr b="0" lang="ru-RU" sz="1200" spc="-1" strike="noStrike">
                <a:solidFill>
                  <a:srgbClr val="ffff00"/>
                </a:solidFill>
                <a:latin typeface="Arial Black"/>
              </a:rPr>
              <a:t> 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(ГРИГОРИЙ  ОТРЕПЬЕВ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ЦАРЬ  С  1605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11AB-3D16-4FA4-90A9-61A4A20E835E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80000"/>
                </a:solidFill>
                <a:latin typeface="Arial"/>
              </a:rPr>
              <a:t>В июне 1605 г войско самозванца беспрепятственно вступило в Моск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EB13-4949-439B-8003-7ABBC716B681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скве произошла встреча «сына» и матер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CB91-FD93-4C1C-93F8-F724825508D3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авление Лжедмитрия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й царь раздал должности полякам, остальные обещания не выполнил. В мае состоялась его свадьба с Мариной Мнишек(дочерью польского воевод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дение царя породило слухи,что он-«ненастоящ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DD8C-F051-4F78-B2A4-3F0B7DEAB673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139E-112F-4ED6-993B-7DAB6A0F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42F7-2B2E-4EE8-917C-8CB34077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E916-C5F2-4CCD-AC5D-D44DCEC1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FA2E-C5A6-4242-A188-38C263D9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2B64-6C89-41FF-B65E-5053D1AA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BC33-E8B6-4D7B-835E-288FAB00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9A2D-D284-4070-97C5-555F5CAF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F4EF-D2A2-4968-8FEB-D715B34C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C34F-4D78-429E-93CF-E333AEBC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D314-B069-438F-864A-DF8403E4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7625-8AAE-43FF-9728-C3EE2A11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D6F9-5C8B-40D3-A6EA-672492C4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9CFD-87C8-45E3-8B34-75613681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0F56-D760-4C60-BB32-B07F1A80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0839-1D72-41AE-9830-37DE74DD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F626-6E23-47F4-BDF8-99EB9D474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7911-3B7D-49BD-8818-609F79CB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A45F-EB02-4A11-92EC-36C90628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5922-C3A1-4497-A700-AA23F1FB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60EF-ABBA-4775-B700-9DFA0C90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7231-A3AF-4753-B80E-0E727006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2D1E-7BC3-4E88-A45D-3437E928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FC15-5C4C-4679-A29F-76082B9F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AD47-5FF9-4DF2-9985-66D81E38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8CE2-6D5E-49AF-B814-A10DF9DB8D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E73D-07F7-423D-8817-B183839BCBBF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492000" y="836640"/>
            <a:ext cx="4138920" cy="23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 u="sng">
                <a:solidFill>
                  <a:srgbClr val="993300"/>
                </a:solidFill>
                <a:uFillTx/>
                <a:latin typeface="Tahoma"/>
              </a:rPr>
              <a:t>Смут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7280" y="404640"/>
            <a:ext cx="4751280" cy="115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ВАСИЛИЙ  ШУЙСКИЙ</a:t>
            </a: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63640" y="2349360"/>
            <a:ext cx="3970440" cy="450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ГЛАВА  ЗАГОВОРА  ПРОТИВ  ЛЖЕДМИТРИЯ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ночь на 17мая 1606г был убит Лжедмитр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1500120" y="1523880"/>
            <a:ext cx="6600960" cy="50738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2" descr=""/>
          <p:cNvPicPr/>
          <p:nvPr/>
        </p:nvPicPr>
        <p:blipFill>
          <a:blip r:embed="rId1"/>
          <a:stretch/>
        </p:blipFill>
        <p:spPr>
          <a:xfrm>
            <a:off x="-85680" y="146160"/>
            <a:ext cx="8937720" cy="123192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4"/>
          <p:cNvSpPr/>
          <p:nvPr/>
        </p:nvSpPr>
        <p:spPr>
          <a:xfrm>
            <a:off x="4500720" y="1785960"/>
            <a:ext cx="4071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Василий IV Шуйский (1552-1612), русский царь в 1606-1610. Сын князя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И. А. Шуйского.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Большинство были недовольны приходом к власти «боярского» царя.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Началось движение против нового царя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8" name="Picture 5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3333960" cy="519120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вижение возглавил  Иван Болот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7491240" cy="47149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/>
          <p:cNvSpPr/>
          <p:nvPr/>
        </p:nvSpPr>
        <p:spPr>
          <a:xfrm>
            <a:off x="1547640" y="638172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ойско Болотниково под Москвой.Художник Э.Лисснер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cxnSp>
        <p:nvCxnSpPr>
          <p:cNvPr id="225" name="Прямая со стрелкой 26"/>
          <p:cNvCxnSpPr/>
          <p:nvPr/>
        </p:nvCxnSpPr>
        <p:spPr>
          <a:xfrm flipV="1">
            <a:off x="-1080" y="6571800"/>
            <a:ext cx="214920" cy="286560"/>
          </a:xfrm>
          <a:prstGeom prst="straightConnector1">
            <a:avLst/>
          </a:prstGeom>
          <a:ln w="5724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2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1919 C -0.00416 0.02104 -0.00278 0.02035 0.00382 0.01711 C 0.00747 0.01249 0.01077 0.00994 0.01372 0.00416 C 0.01667 -0.00786 0.01615 -0.00809 0.02361 -0.01457 C 0.02674 -0.02775 0.03472 -0.03538 0.04202 -0.04463 C 0.04566 -0.05967 0.0441 -0.07401 0.05747 -0.0784 C 0.07136 -0.09112 0.08177 -0.09019 0.09965 -0.09158 C 0.10504 -0.09621 0.11094 -0.09736 0.1165 -0.10106 C 0.12222 -0.105 0.12743 -0.10962 0.13351 -0.11217 C 0.14601 -0.11101 0.15434 -0.10962 0.16563 -0.10661 C 0.17031 -0.09806 0.17031 -0.08788 0.1757 -0.08025 C 0.18368 -0.08233 0.18542 -0.08303 0.18281 -0.09343 C 0.18334 -0.10338 0.18351 -0.11355 0.1842 -0.1235 C 0.18438 -0.12535 0.18455 -0.12766 0.18559 -0.12905 C 0.18802 -0.13229 0.19132 -0.13414 0.1941 -0.13668 C 0.19636 -0.13853 0.1974 -0.14223 0.19965 -0.14408 C 0.204 -0.14778 0.21285 -0.14963 0.21806 -0.15171 C 0.22448 -0.15749 0.22275 -0.16027 0.23073 -0.16281 C 0.23837 -0.17322 0.24184 -0.18525 0.25035 -0.19288 C 0.25365 -0.19935 0.25799 -0.2019 0.26163 -0.20791 C 0.26372 -0.21161 0.26736 -0.21924 0.26736 -0.21901 C 0.27031 -0.23127 0.27014 -0.23612 0.27709 -0.24538 C 0.27865 -0.25555 0.28125 -0.25786 0.28281 -0.26804 C 0.28368 -0.30458 0.28247 -0.31938 0.28976 -0.34852 C 0.29028 -0.35615 0.29184 -0.36378 0.29115 -0.37118 C 0.29097 -0.37373 0.2882 -0.37465 0.28698 -0.37673 C 0.28663 -0.3772 0.28698 -0.37789 0.28698 -0.37859 E">
                                      <p:cBhvr>
                                        <p:cTn id="77" dur="3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0" y="1484280"/>
          <a:ext cx="9144000" cy="5518080"/>
        </p:xfrm>
        <a:graphic>
          <a:graphicData uri="http://schemas.openxmlformats.org/drawingml/2006/table">
            <a:tbl>
              <a:tblPr/>
              <a:tblGrid>
                <a:gridCol w="2362320"/>
                <a:gridCol w="678168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водитель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solidFill>
                      <a:srgbClr val="e5d5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solidFill>
                      <a:srgbClr val="e5d58a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ритория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атники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ый состав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д военных действий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поражения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sp>
        <p:nvSpPr>
          <p:cNvPr id="228" name="Прямоугольник 18"/>
          <p:cNvSpPr/>
          <p:nvPr/>
        </p:nvSpPr>
        <p:spPr>
          <a:xfrm>
            <a:off x="1187280" y="189000"/>
            <a:ext cx="7358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Century Gothic"/>
              </a:rPr>
              <a:t>Работа с учебником: составьте таблицу «Крестьянская война под предводительством  И.Болотникова»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3" descr=""/>
          <p:cNvPicPr/>
          <p:nvPr/>
        </p:nvPicPr>
        <p:blipFill>
          <a:blip r:embed="rId1"/>
          <a:stretch/>
        </p:blipFill>
        <p:spPr>
          <a:xfrm>
            <a:off x="357120" y="142920"/>
            <a:ext cx="8358120" cy="15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0" y="0"/>
          <a:ext cx="9144000" cy="7226280"/>
        </p:xfrm>
        <a:graphic>
          <a:graphicData uri="http://schemas.openxmlformats.org/drawingml/2006/table">
            <a:tbl>
              <a:tblPr/>
              <a:tblGrid>
                <a:gridCol w="2362320"/>
                <a:gridCol w="6781680"/>
              </a:tblGrid>
              <a:tr h="860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водитель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solidFill>
                      <a:srgbClr val="e5d5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ван Исаевич Болотников, холоп князя Телятевского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solidFill>
                      <a:srgbClr val="e5d58a"/>
                    </a:solidFill>
                  </a:tcPr>
                </a:tc>
              </a:tr>
              <a:tr h="860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ритория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го-западная Русь, Среднее и Нижнее Поволжье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9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атники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. Ляпунов, Г. Сумбулов, И. Пашков, Г. Шаховский,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 Горчаков, «Илейка Муромец»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05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ый состав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стьяне,  казаки,  дворяне, служилые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ди, бояре – противники Шуйского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60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ргнуть власть бояр и посадить на престол настоящего царя Дмитрия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4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д военных действий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о 1606 г.- Елец – Калуга – Серпухов.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ябрь 1606 г. – осада Москвы.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ец 1606 -1607 гг. – отступление к Калуге , Туле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5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поражения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ательство дворянских отрядов при осаде Москвы, наивный монархизм.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pic>
        <p:nvPicPr>
          <p:cNvPr id="232" name="Picture 4" descr=""/>
          <p:cNvPicPr/>
          <p:nvPr/>
        </p:nvPicPr>
        <p:blipFill>
          <a:blip r:embed="rId2"/>
          <a:stretch/>
        </p:blipFill>
        <p:spPr>
          <a:xfrm>
            <a:off x="7497720" y="2073240"/>
            <a:ext cx="1646280" cy="16765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5753160" cy="40669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1476360" y="5084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асилий Шуйский жестоко расправился с руководителями движения. Болотникова сослали в монастырь, ослепили и утопили. Остальных повешали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Текст 7" descr=""/>
          <p:cNvPicPr/>
          <p:nvPr/>
        </p:nvPicPr>
        <p:blipFill>
          <a:blip r:embed="rId1"/>
          <a:stretch/>
        </p:blipFill>
        <p:spPr>
          <a:xfrm>
            <a:off x="249120" y="103320"/>
            <a:ext cx="3969000" cy="950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284720" y="856800"/>
            <a:ext cx="43322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580000"/>
                </a:solidFill>
                <a:latin typeface="Arial"/>
              </a:rPr>
              <a:t>Лжедмитрий </a:t>
            </a:r>
            <a:r>
              <a:rPr b="1" lang="en-US" sz="2800" spc="-1" strike="noStrike">
                <a:solidFill>
                  <a:srgbClr val="580000"/>
                </a:solidFill>
                <a:latin typeface="Arial"/>
              </a:rPr>
              <a:t>II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-  самозванец, выдававший себя за спасшегося 17 мая 1606 г. Лжедмитрия I. Настоящее имя и происхождение не установлено, хотя существует множество версий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2"/>
          <a:stretch/>
        </p:blipFill>
        <p:spPr>
          <a:xfrm>
            <a:off x="826920" y="981000"/>
            <a:ext cx="3576960" cy="571500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5715000" cy="40100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6084720" y="177840"/>
            <a:ext cx="2808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Лагерь Лжедмитрия 2 в Тушино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6084720" y="1413000"/>
            <a:ext cx="30592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Летом 1608г войска самозванца обосновались в подмосковном с.Тушино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Вскоре Тушино стало второй столицей  со своим царём, прозванным в народе «тушинским вором», боярской думой, патриархом(Филарет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395280" y="4437000"/>
            <a:ext cx="4897440" cy="100872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Тушинское войско постоянно пополнялось за счёт московских  бояр, крестьян. Численность достигла 100тыс.ч.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1835280" y="566100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Но вскоре в настроении крестьян и посадских людей произошёл резкий перелом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76360" y="228240"/>
            <a:ext cx="7515360" cy="154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Смута, Смутное время, лихолетье – так называют начало 17века в Росси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6167520" cy="47149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80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Times New Roman"/>
              </a:rPr>
              <a:t>Тушинские поляки вели себя как завоеватели. Не отставали и русские тушинц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ли создаваться народные ополчения (объединение патриотических сил России)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7056360" cy="3959280"/>
          </a:xfrm>
          <a:prstGeom prst="rect">
            <a:avLst/>
          </a:prstGeom>
          <a:ln w="0">
            <a:noFill/>
          </a:ln>
        </p:spPr>
      </p:pic>
      <p:grpSp>
        <p:nvGrpSpPr>
          <p:cNvPr id="254" name="Прямоугольник 17"/>
          <p:cNvGrpSpPr/>
          <p:nvPr/>
        </p:nvGrpSpPr>
        <p:grpSpPr>
          <a:xfrm>
            <a:off x="1274760" y="255600"/>
            <a:ext cx="5265720" cy="2292480"/>
            <a:chOff x="1274760" y="255600"/>
            <a:chExt cx="5265720" cy="2292480"/>
          </a:xfrm>
        </p:grpSpPr>
        <p:pic>
          <p:nvPicPr>
            <p:cNvPr id="255" name="Прямоугольник 17" descr=""/>
            <p:cNvPicPr/>
            <p:nvPr/>
          </p:nvPicPr>
          <p:blipFill>
            <a:blip r:embed="rId2"/>
            <a:stretch/>
          </p:blipFill>
          <p:spPr>
            <a:xfrm>
              <a:off x="1274760" y="255600"/>
              <a:ext cx="5265720" cy="22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332000" y="284040"/>
              <a:ext cx="5113080" cy="21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entury Gothic"/>
                </a:rPr>
                <a:t>16 месяцев  защищали Троице-Сергиев  монастырь от 15-тысячной армии Лжедмитрия II.  2400 стрельцов, дворян их слуг и монахов. Все приступы были отбиты.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257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6888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феврале 1609г Шуйский заключил договор со Швецией об отправке в Россию наёмного войска в обмен на уступку Швеции крепости Коре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1500120" y="1523880"/>
            <a:ext cx="3503520" cy="4714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105000" cy="38098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5292720" y="537372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Шведские и русские войска под командованием М. Скопина-Шуйского освободили северо-восточную часть России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31640" y="24206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 содержание наёмного войска необходимы средства и В.Шуйский обложил население тяжёлыми налогами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копин-Шуйский стал опираться на силы народного ополчен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1609 г Речь Посполитая объявила России войн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7491240" cy="47149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4"/>
          <p:cNvSpPr/>
          <p:nvPr/>
        </p:nvSpPr>
        <p:spPr>
          <a:xfrm>
            <a:off x="2700360" y="59500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йско под предводительством Сигизмунда 3 осадило Смоленск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096240" cy="1143000"/>
          </a:xfrm>
          <a:prstGeom prst="rect">
            <a:avLst/>
          </a:prstGeom>
          <a:noFill/>
          <a:ln w="9360">
            <a:solidFill>
              <a:srgbClr val="6666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бота по карте стр.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7200720" cy="482436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58560" y="184428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Бедственным положением воспользовались и шведы. И в 1611г шведские отряды захватили Новгород и всё русское побережье Финского залив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43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слабление центральной власти в России привело к Смуте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"/>
          <p:cNvGrpSpPr/>
          <p:nvPr/>
        </p:nvGrpSpPr>
        <p:grpSpPr>
          <a:xfrm>
            <a:off x="-36360" y="0"/>
            <a:ext cx="9180360" cy="6858000"/>
            <a:chOff x="-36360" y="0"/>
            <a:chExt cx="9180360" cy="6858000"/>
          </a:xfrm>
        </p:grpSpPr>
        <p:pic>
          <p:nvPicPr>
            <p:cNvPr id="175" name="Picture 5" descr="Рисунок1"/>
            <p:cNvPicPr/>
            <p:nvPr/>
          </p:nvPicPr>
          <p:blipFill>
            <a:blip r:embed="rId1"/>
            <a:srcRect l="0" t="0" r="-15" b="0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6" descr="gh"/>
            <p:cNvPicPr/>
            <p:nvPr/>
          </p:nvPicPr>
          <p:blipFill>
            <a:blip r:embed="rId2"/>
            <a:srcRect l="0" t="0" r="398" b="0"/>
            <a:stretch/>
          </p:blipFill>
          <p:spPr>
            <a:xfrm>
              <a:off x="-36360" y="0"/>
              <a:ext cx="1655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63640" y="620640"/>
            <a:ext cx="7129440" cy="5032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38160">
            <a:solidFill>
              <a:srgbClr val="9933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80000"/>
                </a:solidFill>
                <a:latin typeface="Comic Sans MS"/>
              </a:rPr>
              <a:t>Что такое «смута»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44640" y="1341000"/>
            <a:ext cx="7299360" cy="32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580000"/>
                </a:solidFill>
                <a:uFillTx/>
                <a:latin typeface="Arial"/>
              </a:rPr>
              <a:t>Смута –</a:t>
            </a:r>
            <a:r>
              <a:rPr b="1" lang="ru-RU" sz="4000" spc="-1" strike="noStrike">
                <a:solidFill>
                  <a:srgbClr val="58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80000"/>
                </a:solidFill>
                <a:latin typeface="Arial"/>
              </a:rPr>
              <a:t>период борьбы за власть,       сопровождающийся сменой династий, интервенцией и другими потрясениями.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5"/>
          <p:cNvGrpSpPr/>
          <p:nvPr/>
        </p:nvGrpSpPr>
        <p:grpSpPr>
          <a:xfrm>
            <a:off x="0" y="0"/>
            <a:ext cx="9180360" cy="6884640"/>
            <a:chOff x="0" y="0"/>
            <a:chExt cx="9180360" cy="6884640"/>
          </a:xfrm>
        </p:grpSpPr>
        <p:pic>
          <p:nvPicPr>
            <p:cNvPr id="181" name="Picture 26" descr="Рисунок1"/>
            <p:cNvPicPr/>
            <p:nvPr/>
          </p:nvPicPr>
          <p:blipFill>
            <a:blip r:embed="rId1"/>
            <a:srcRect l="0" t="0" r="-15" b="0"/>
            <a:stretch/>
          </p:blipFill>
          <p:spPr>
            <a:xfrm>
              <a:off x="36360" y="0"/>
              <a:ext cx="9144000" cy="688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27" descr="gh"/>
            <p:cNvPicPr/>
            <p:nvPr/>
          </p:nvPicPr>
          <p:blipFill>
            <a:blip r:embed="rId2"/>
            <a:srcRect l="0" t="0" r="398" b="0"/>
            <a:stretch/>
          </p:blipFill>
          <p:spPr>
            <a:xfrm>
              <a:off x="0" y="0"/>
              <a:ext cx="1655640" cy="68846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83" name=""/>
          <p:cNvGraphicFramePr/>
          <p:nvPr/>
        </p:nvGraphicFramePr>
        <p:xfrm>
          <a:off x="1835280" y="907920"/>
          <a:ext cx="7129440" cy="4608720"/>
        </p:xfrm>
        <a:graphic>
          <a:graphicData uri="http://schemas.openxmlformats.org/drawingml/2006/table">
            <a:tbl>
              <a:tblPr/>
              <a:tblGrid>
                <a:gridCol w="2376360"/>
                <a:gridCol w="2376360"/>
                <a:gridCol w="237672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Экономические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Политические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оциальные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35280" y="115920"/>
            <a:ext cx="7129440" cy="5032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38160">
            <a:solidFill>
              <a:srgbClr val="9933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580000"/>
                </a:solidFill>
                <a:latin typeface="Comic Sans MS"/>
              </a:rPr>
              <a:t>Причины Сму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4"/>
          <p:cNvSpPr/>
          <p:nvPr/>
        </p:nvSpPr>
        <p:spPr>
          <a:xfrm>
            <a:off x="1908000" y="5013360"/>
            <a:ext cx="22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Text Box 46"/>
          <p:cNvSpPr/>
          <p:nvPr/>
        </p:nvSpPr>
        <p:spPr>
          <a:xfrm>
            <a:off x="1908000" y="1844640"/>
            <a:ext cx="215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Comic Sans MS"/>
              </a:rPr>
              <a:t>Хозяйственное разорение страны в результате Ливонской войны и опричнины.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Comic Sans MS"/>
              </a:rPr>
              <a:t>- Голод 1601-1603 гг. (только в Москве от голода погибло 127 тыс. чел.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Text Box 47"/>
          <p:cNvSpPr/>
          <p:nvPr/>
        </p:nvSpPr>
        <p:spPr>
          <a:xfrm>
            <a:off x="4284720" y="1844640"/>
            <a:ext cx="223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Comic Sans MS"/>
              </a:rPr>
              <a:t>Династический кризис в связи с пресечением династии Рюриковичей и избранием Земским собором 1598 г. царем Бориса Годунова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Text Box 48"/>
          <p:cNvSpPr/>
          <p:nvPr/>
        </p:nvSpPr>
        <p:spPr>
          <a:xfrm>
            <a:off x="6659640" y="1844640"/>
            <a:ext cx="223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Comic Sans MS"/>
              </a:rPr>
              <a:t>Ухудшение положения крестьян: увеличение повинностей, отмена «заповедных лет» и введение «урочных лет»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Содержимое 3" descr=""/>
          <p:cNvPicPr/>
          <p:nvPr/>
        </p:nvPicPr>
        <p:blipFill>
          <a:blip r:embed="rId1"/>
          <a:stretch/>
        </p:blipFill>
        <p:spPr>
          <a:xfrm>
            <a:off x="1127160" y="1133640"/>
            <a:ext cx="7785000" cy="5286240"/>
          </a:xfrm>
          <a:prstGeom prst="rect">
            <a:avLst/>
          </a:prstGeom>
          <a:ln w="0">
            <a:noFill/>
          </a:ln>
        </p:spPr>
      </p:pic>
      <p:pic>
        <p:nvPicPr>
          <p:cNvPr id="191" name="Заголовок 1" descr=""/>
          <p:cNvPicPr/>
          <p:nvPr/>
        </p:nvPicPr>
        <p:blipFill>
          <a:blip r:embed="rId2"/>
          <a:stretch/>
        </p:blipFill>
        <p:spPr>
          <a:xfrm>
            <a:off x="212760" y="0"/>
            <a:ext cx="8474040" cy="137160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2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80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468360" y="3284640"/>
            <a:ext cx="7991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5157360"/>
            <a:ext cx="360036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ЛЖЕДМИТРИЙ </a:t>
            </a: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I</a:t>
            </a: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(ГРИГОРИЙ  ОТРЕПЬЕВ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ЦАРЬ  С  1605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86920" y="228600"/>
            <a:ext cx="7804440" cy="16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80000"/>
                </a:solidFill>
                <a:latin typeface="Times New Roman"/>
              </a:rPr>
              <a:t>В июне 1605 г войско самозванца беспрепятственно вступило в Москв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7659720" cy="48243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92360" y="228240"/>
            <a:ext cx="3699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оскве произошла встреча «сына» и матер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4367520" cy="550692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427640" y="476280"/>
            <a:ext cx="4559040" cy="63374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9696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овый царь раздал должности полякам, остальные обещания не выполнил. В мае состоялась его свадьба с Мариной Мнишек(дочерью польского воеводы)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оведение царя породило слухи,что он-«ненастоящий»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04920" y="9360"/>
            <a:ext cx="8686800" cy="5400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авление Лжедмитри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227240" y="566100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69696"/>
                </a:solidFill>
                <a:uFillTx/>
                <a:latin typeface="Times New Roman"/>
              </a:rPr>
              <a:t>Марина Мнишек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962160" cy="57150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07" name="Text Box 7"/>
          <p:cNvSpPr/>
          <p:nvPr/>
        </p:nvSpPr>
        <p:spPr>
          <a:xfrm>
            <a:off x="468360" y="630864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0000"/>
                </a:solidFill>
                <a:latin typeface="Times New Roman"/>
              </a:rPr>
              <a:t>Лжедмитрий I и </a:t>
            </a:r>
            <a:r>
              <a:rPr b="1" lang="ru-RU" sz="1800" spc="-1" strike="noStrike">
                <a:solidFill>
                  <a:srgbClr val="580000"/>
                </a:solidFill>
                <a:latin typeface="Times New Roman"/>
              </a:rPr>
              <a:t>Марина</a:t>
            </a:r>
            <a:r>
              <a:rPr b="0" lang="ru-RU" sz="1800" spc="-1" strike="noStrike">
                <a:solidFill>
                  <a:srgbClr val="58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580000"/>
                </a:solidFill>
                <a:latin typeface="Times New Roman"/>
              </a:rPr>
              <a:t>Мнишек</a:t>
            </a:r>
            <a:r>
              <a:rPr b="0" lang="ru-RU" sz="1800" spc="-1" strike="noStrike">
                <a:solidFill>
                  <a:srgbClr val="58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18:46:43Z</dcterms:created>
  <dc:creator>Галкина</dc:creator>
  <dc:description/>
  <dc:language>en-US</dc:language>
  <cp:lastModifiedBy>LEGION</cp:lastModifiedBy>
  <dcterms:modified xsi:type="dcterms:W3CDTF">2015-01-14T09:48:49Z</dcterms:modified>
  <cp:revision>84</cp:revision>
  <dc:subject/>
  <dc:title>Начало Сму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370000000000010250300207f7000400038000</vt:lpwstr>
  </property>
</Properties>
</file>