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5.png" ContentType="image/pn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F53D-A5C9-4027-AE15-B1B614EE33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Tahoma"/>
              </a:rPr>
              <a:t>Сму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22D4-FD09-4E16-A608-674A96D5905C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ff0000"/>
                </a:solidFill>
                <a:latin typeface="Arial Black"/>
              </a:rPr>
              <a:t>ВАСИЛИЙ  ШУЙСКИЙ</a:t>
            </a:r>
            <a:br>
              <a:rPr sz="14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ГЛАВА  ЗАГОВОРА  ПРОТИВ  ЛЖЕДМИТРИЯ 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424A-A8EB-42A6-BD80-1FA3BC7A1CAE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очь на 17мая 1606г был убит Лжедмит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3483-5B4A-4F58-94BE-5FB24CFE497E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силий IV Шуйский (1552-1612), русский царь в 1606-1610. Сын княз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. А. Шуй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инство были недовольны приходом к власти «боярского» цар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сь движение против нового цар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DD08-5316-4A90-A0A9-BE9E920843B2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возглавил  Иван Боло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058A-A929-47C7-8F0A-597F1CA05F09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силий Шуйский жестоко расправился с руководителями движения. Болотникова сослали в монастырь, ослепили и утопили. Остальных повеш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AFF0-3991-4F62-9355-A0819C9C6DF2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Лжедмитрий </a:t>
            </a:r>
            <a:r>
              <a:rPr b="0" lang="en-US" sz="1200" spc="-1" strike="noStrike">
                <a:solidFill>
                  <a:srgbClr val="58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самозванец, выдававший себя за спасшегося 17 мая 1606 г. Лжедмитрия I. Настоящее имя и происхождение не установлено, хотя существует множество верс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0F05-3E02-4471-AA5A-3F3DFD668F2D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1608г войска самозванца обосновались в подмосковном с.Туши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коре Тушино стало второй столицей  со своим царём, прозванным в народе «тушинским вором», боярской думой, патриархом(Филар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Тушинское войско постоянно пополнялось за счёт московских  бояр, крестьян. Численность достигла 100тыс.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Но вскоре в настроении крестьян и посадских людей произошёл резкий пер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E7FA-4A89-4FA1-AFAC-D7AE2BC28BAC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Смута, Смутное время, лихолетье – так называют начало 17век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FD4D-6CF1-4CDD-A157-C48D95913A72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Тушинские поляки вели себя как завоеватели. Не отставали и русские тушин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A4CB-606C-4EF1-A109-1B78BB786C16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и создаваться народные ополчения (объединение патриотических сил России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D5A7-7B47-4ECF-8798-FB8CDF341A6F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еврале 1609г Шуйский заключил договор со Швецией об отправке в Россию наёмного войска в обмен на уступку Швеции крепости Коре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D45A-310E-4A6C-AB33-3F284E586920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держание наёмного войска необходимы средства и В.Шуйский обложил население тяжёлыми налогам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пин-Шуйский стал опираться на силы народного опол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48A3-E994-41B5-990A-A453C72D4A08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609 г Речь Посполитая объявила России вой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1514-8555-4784-945C-B9A60EE3FA3D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по карте стр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D198-BCA8-4F5C-A067-6FC37DD15F3E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дственным положением воспользовались и шведы. И в 1611г шведские отряды захватили Новгород и всё русское побережье Финского зали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E246-6721-4B00-877D-4A9EE4624B2A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лабление центральной власти в России привело к Сму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6870-EF30-4CF0-A7AD-901FFEEF0F94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80000"/>
                </a:solidFill>
                <a:latin typeface="Comic Sans MS"/>
              </a:rPr>
              <a:t>Что такое «смута»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580000"/>
                </a:solidFill>
                <a:uFillTx/>
                <a:latin typeface="Arial"/>
              </a:rPr>
              <a:t>Смута –</a:t>
            </a: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период борьбы за власть,       сопровождающийся сменой династий, интервенцией и другими потряс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A1C3-677C-4AD4-8D64-96B7139D3F90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580000"/>
                </a:solidFill>
                <a:latin typeface="Comic Sans MS"/>
              </a:rPr>
              <a:t>Причины См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420F-E0B2-479D-90DA-2F75A6DBAD2A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9f9f9"/>
                </a:solidFill>
                <a:latin typeface="Arial"/>
              </a:rPr>
              <a:t>Периоды Смутног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6194-3D81-4C21-A2C7-31744B5FF888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ЛЖЕДМИТРИЙ </a:t>
            </a:r>
            <a:r>
              <a:rPr b="0" lang="en-US" sz="12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(ГРИГОРИЙ  ОТРЕПЬЕВ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ЦАРЬ  С  1605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873C-91B6-4EB4-B8FA-B49C0E020096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В июне 1605 г войско самозванца беспрепятственно вступило в Моск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67DB-9F68-427F-84C2-F274BB5D00B2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скве произошла встреча «сына» и мате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C0A3-E8DD-498F-B86C-B56D45A8E1A1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авление Лжедмитрия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царь раздал должности полякам, остальные обещания не выполнил. В мае состоялась его свадьба с Мариной Мнишек(дочерью польского воево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царя породило слухи,что он-«ненастоящ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1E07-F604-4D3C-9387-4532F8ABEDD4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2B1-7976-4E6B-B47A-E617D4DE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48C-3559-492A-997C-842D1FDA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56F-0126-402B-B2EC-3BA9529B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6824-DC11-491D-81B9-7E8A93E1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B418-5849-4029-A978-EB7C4B0B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7F00-63E3-44CE-98BF-62C3C2DF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1921-063D-46AA-8517-2231F0AD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F3E0-2707-4A68-A2D7-4957CD2C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167C-B908-44F3-83F5-930205D6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54DE-F2B5-454D-A90C-45369147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CEEC-514A-4B56-A2A1-79CE262D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3835-D55A-4D12-AE4D-30E0C048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BCD4-D530-494C-8A72-F2BFBDE1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F9E9-DDA2-4AC1-9F91-08B2A297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3468-A42E-4E2D-9A0A-D9DC3423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15A2-5870-4649-8736-3ABD92F5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7DA6-1A40-4962-8769-B5E397D0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7F5-FACE-4605-9971-C9691E33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7CF-110D-41C4-A210-D18A1FD7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601-8C4E-459C-8F3B-5D900EC2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42E6-BA20-4ABB-B2FA-BD51AD0E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76E-0BBC-4C62-9882-5B3269FE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7A5-BD3F-47D4-85A4-2DEA6331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F861-EC6C-4F42-A1F5-F5DA6F93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1C4B-CE29-4E71-B890-0164351CE0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B900-1A4B-462B-AAED-A7D0371CF50D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92000" y="836640"/>
            <a:ext cx="413892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 u="sng">
                <a:solidFill>
                  <a:srgbClr val="993300"/>
                </a:solidFill>
                <a:uFillTx/>
                <a:latin typeface="Tahoma"/>
              </a:rPr>
              <a:t>Смут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7280" y="404640"/>
            <a:ext cx="4751280" cy="11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АСИЛИЙ  ШУЙСКИЙ</a:t>
            </a: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63640" y="2349360"/>
            <a:ext cx="3970440" cy="45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ГЛАВА  ЗАГОВОРА  ПРОТИВ  ЛЖЕДМИТРИЯ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ночь на 17мая 1606г был убит Лжедмитр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6600960" cy="50738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2" descr=""/>
          <p:cNvPicPr/>
          <p:nvPr/>
        </p:nvPicPr>
        <p:blipFill>
          <a:blip r:embed="rId1"/>
          <a:stretch/>
        </p:blipFill>
        <p:spPr>
          <a:xfrm>
            <a:off x="-85680" y="146160"/>
            <a:ext cx="8937720" cy="123192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4"/>
          <p:cNvSpPr/>
          <p:nvPr/>
        </p:nvSpPr>
        <p:spPr>
          <a:xfrm>
            <a:off x="4500720" y="1785960"/>
            <a:ext cx="4071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асилий IV Шуйский (1552-1612), русский царь в 1606-1610. Сын князя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. А. Шуйского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Большинство были недовольны приходом к власти «боярского» царя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чалось движение против нового царя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3333960" cy="51912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вижение возглавил  Иван Болот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7491240" cy="47149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1547640" y="638172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ойско Болотниково под Москвой.Художник Э.Лисснер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225" name="Прямая со стрелкой 26"/>
          <p:cNvCxnSpPr/>
          <p:nvPr/>
        </p:nvCxnSpPr>
        <p:spPr>
          <a:xfrm flipV="1">
            <a:off x="-1080" y="6571800"/>
            <a:ext cx="214920" cy="28656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2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1919 C -0.00416 0.02104 -0.00278 0.02035 0.00382 0.01711 C 0.00747 0.01249 0.01077 0.00994 0.01372 0.00416 C 0.01667 -0.00786 0.01615 -0.00809 0.02361 -0.01457 C 0.02674 -0.02775 0.03472 -0.03538 0.04202 -0.04463 C 0.04566 -0.05967 0.0441 -0.07401 0.05747 -0.0784 C 0.07136 -0.09112 0.08177 -0.09019 0.09965 -0.09158 C 0.10504 -0.09621 0.11094 -0.09736 0.1165 -0.10106 C 0.12222 -0.105 0.12743 -0.10962 0.13351 -0.11217 C 0.14601 -0.11101 0.15434 -0.10962 0.16563 -0.10661 C 0.17031 -0.09806 0.17031 -0.08788 0.1757 -0.08025 C 0.18368 -0.08233 0.18542 -0.08303 0.18281 -0.09343 C 0.18334 -0.10338 0.18351 -0.11355 0.1842 -0.1235 C 0.18438 -0.12535 0.18455 -0.12766 0.18559 -0.12905 C 0.18802 -0.13229 0.19132 -0.13414 0.1941 -0.13668 C 0.19636 -0.13853 0.1974 -0.14223 0.19965 -0.14408 C 0.204 -0.14778 0.21285 -0.14963 0.21806 -0.15171 C 0.22448 -0.15749 0.22275 -0.16027 0.23073 -0.16281 C 0.23837 -0.17322 0.24184 -0.18525 0.25035 -0.19288 C 0.25365 -0.19935 0.25799 -0.2019 0.26163 -0.20791 C 0.26372 -0.21161 0.26736 -0.21924 0.26736 -0.21901 C 0.27031 -0.23127 0.27014 -0.23612 0.27709 -0.24538 C 0.27865 -0.25555 0.28125 -0.25786 0.28281 -0.26804 C 0.28368 -0.30458 0.28247 -0.31938 0.28976 -0.34852 C 0.29028 -0.35615 0.29184 -0.36378 0.29115 -0.37118 C 0.29097 -0.37373 0.2882 -0.37465 0.28698 -0.37673 C 0.28663 -0.3772 0.28698 -0.37789 0.28698 -0.37859 E">
                                      <p:cBhvr>
                                        <p:cTn id="77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0" y="1484280"/>
          <a:ext cx="9144000" cy="551808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водитель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я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атник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состав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военных действий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поражения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228" name="Прямоугольник 18"/>
          <p:cNvSpPr/>
          <p:nvPr/>
        </p:nvSpPr>
        <p:spPr>
          <a:xfrm>
            <a:off x="1187280" y="189000"/>
            <a:ext cx="735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Century Gothic"/>
              </a:rPr>
              <a:t>Работа с учебником: составьте таблицу «Крестьянская война под предводительством  И.Болотникова»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3" descr=""/>
          <p:cNvPicPr/>
          <p:nvPr/>
        </p:nvPicPr>
        <p:blipFill>
          <a:blip r:embed="rId1"/>
          <a:stretch/>
        </p:blipFill>
        <p:spPr>
          <a:xfrm>
            <a:off x="357120" y="142920"/>
            <a:ext cx="835812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0" y="0"/>
          <a:ext cx="9144000" cy="722628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водитель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ван Исаевич Болотников, холоп князя Телятевского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</a:tr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я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го-западная Русь, Среднее и Нижнее Поволжье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9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атник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 Ляпунов, Г. Сумбулов, И. Пашков, Г. Шаховский,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Горчаков, «Илейка Муромец»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05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состав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стьяне,  казаки,  дворяне, служилые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и, бояре – противники Шуйского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гнуть власть бояр и посадить на престол настоящего царя Дмитрия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4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военных действий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 1606 г.- Елец – Калуга – Серпухов.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 1606 г. – осада Москвы.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ец 1606 -1607 гг. – отступление к Калуге , Туле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5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поражения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ательство дворянских отрядов при осаде Москвы, наивный монархизм.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7497720" y="2073240"/>
            <a:ext cx="1646280" cy="16765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5753160" cy="4066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1476360" y="5084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асилий Шуйский жестоко расправился с руководителями движения. Болотникова сослали в монастырь, ослепили и утопили. Остальных повешали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Текст 7" descr=""/>
          <p:cNvPicPr/>
          <p:nvPr/>
        </p:nvPicPr>
        <p:blipFill>
          <a:blip r:embed="rId1"/>
          <a:stretch/>
        </p:blipFill>
        <p:spPr>
          <a:xfrm>
            <a:off x="249120" y="103320"/>
            <a:ext cx="3969000" cy="950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284720" y="856800"/>
            <a:ext cx="43322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580000"/>
                </a:solidFill>
                <a:latin typeface="Arial"/>
              </a:rPr>
              <a:t>Лжедмитрий </a:t>
            </a:r>
            <a:r>
              <a:rPr b="1" lang="en-US" sz="2800" spc="-1" strike="noStrike">
                <a:solidFill>
                  <a:srgbClr val="580000"/>
                </a:solidFill>
                <a:latin typeface="Arial"/>
              </a:rPr>
              <a:t>II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-  самозванец, выдававший себя за спасшегося 17 мая 1606 г. Лжедмитрия I. Настоящее имя и происхождение не установлено, хотя существует множество версий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3576960" cy="57150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5715000" cy="4010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6084720" y="177840"/>
            <a:ext cx="2808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Лагерь Лжедмитрия 2 в Тушино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6084720" y="1413000"/>
            <a:ext cx="30592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Летом 1608г войска самозванца обосновались в подмосковном с.Тушино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Вскоре Тушино стало второй столицей  со своим царём, прозванным в народе «тушинским вором», боярской думой, патриархом(Филарет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395280" y="4437000"/>
            <a:ext cx="4897440" cy="1008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Тушинское войско постоянно пополнялось за счёт московских  бояр, крестьян. Численность достигла 100тыс.ч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835280" y="566100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Но вскоре в настроении крестьян и посадских людей произошёл резкий перелом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360" y="228240"/>
            <a:ext cx="7515360" cy="154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Смута, Смутное время, лихолетье – так называют начало 17века в Росс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6167520" cy="47149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80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imes New Roman"/>
              </a:rPr>
              <a:t>Тушинские поляки вели себя как завоеватели. Не отставали и русские тушинц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ли создаваться народные ополчения (объединение патриотических сил России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7056360" cy="3959280"/>
          </a:xfrm>
          <a:prstGeom prst="rect">
            <a:avLst/>
          </a:prstGeom>
          <a:ln w="0">
            <a:noFill/>
          </a:ln>
        </p:spPr>
      </p:pic>
      <p:grpSp>
        <p:nvGrpSpPr>
          <p:cNvPr id="254" name="Прямоугольник 17"/>
          <p:cNvGrpSpPr/>
          <p:nvPr/>
        </p:nvGrpSpPr>
        <p:grpSpPr>
          <a:xfrm>
            <a:off x="1274760" y="255600"/>
            <a:ext cx="5265720" cy="2292480"/>
            <a:chOff x="1274760" y="255600"/>
            <a:chExt cx="5265720" cy="2292480"/>
          </a:xfrm>
        </p:grpSpPr>
        <p:pic>
          <p:nvPicPr>
            <p:cNvPr id="255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1274760" y="255600"/>
              <a:ext cx="5265720" cy="22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332000" y="284040"/>
              <a:ext cx="511308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entury Gothic"/>
                </a:rPr>
                <a:t>16 месяцев  защищали Троице-Сергиев  монастырь от 15-тысячной армии Лжедмитрия II.  2400 стрельцов, дворян их слуг и монахов. Все приступы были отбиты.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6888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феврале 1609г Шуйский заключил договор со Швецией об отправке в Россию наёмного войска в обмен на уступку Швеции крепости Коре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3503520" cy="4714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105000" cy="38098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5292720" y="5373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Шведские и русские войска под командованием М. Скопина-Шуйского освободили северо-восточную часть России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31640" y="24206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 содержание наёмного войска необходимы средства и В.Шуйский обложил население тяжёлыми налогами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копин-Шуйский стал опираться на силы народного ополчен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1609 г Речь Посполитая объявила России войн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491240" cy="47149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"/>
          <p:cNvSpPr/>
          <p:nvPr/>
        </p:nvSpPr>
        <p:spPr>
          <a:xfrm>
            <a:off x="2700360" y="59500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йско под предводительством Сигизмунда 3 осадило Смоленск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096240" cy="1143000"/>
          </a:xfrm>
          <a:prstGeom prst="rect">
            <a:avLst/>
          </a:prstGeom>
          <a:noFill/>
          <a:ln w="9360">
            <a:solidFill>
              <a:srgbClr val="6666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бота по карте стр.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7200720" cy="482436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8560" y="184428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едственным положением воспользовались и шведы. И в 1611г шведские отряды захватили Новгород и всё русское побережье Финского зали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43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лабление центральной власти в России привело к Смуте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"/>
          <p:cNvGrpSpPr/>
          <p:nvPr/>
        </p:nvGrpSpPr>
        <p:grpSpPr>
          <a:xfrm>
            <a:off x="-36360" y="0"/>
            <a:ext cx="9180360" cy="6858000"/>
            <a:chOff x="-36360" y="0"/>
            <a:chExt cx="9180360" cy="6858000"/>
          </a:xfrm>
        </p:grpSpPr>
        <p:pic>
          <p:nvPicPr>
            <p:cNvPr id="175" name="Picture 5" descr="Рисунок1"/>
            <p:cNvPicPr/>
            <p:nvPr/>
          </p:nvPicPr>
          <p:blipFill>
            <a:blip r:embed="rId1"/>
            <a:srcRect l="0" t="0" r="-15" b="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6" descr="gh"/>
            <p:cNvPicPr/>
            <p:nvPr/>
          </p:nvPicPr>
          <p:blipFill>
            <a:blip r:embed="rId2"/>
            <a:srcRect l="0" t="0" r="398" b="0"/>
            <a:stretch/>
          </p:blipFill>
          <p:spPr>
            <a:xfrm>
              <a:off x="-36360" y="0"/>
              <a:ext cx="1655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63640" y="620640"/>
            <a:ext cx="7129440" cy="503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0000"/>
                </a:solidFill>
                <a:latin typeface="Comic Sans MS"/>
              </a:rPr>
              <a:t>Что такое «смута»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44640" y="1341000"/>
            <a:ext cx="7299360" cy="32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580000"/>
                </a:solidFill>
                <a:uFillTx/>
                <a:latin typeface="Arial"/>
              </a:rPr>
              <a:t>Смута –</a:t>
            </a:r>
            <a:r>
              <a:rPr b="1" lang="ru-RU" sz="4000" spc="-1" strike="noStrike">
                <a:solidFill>
                  <a:srgbClr val="58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80000"/>
                </a:solidFill>
                <a:latin typeface="Arial"/>
              </a:rPr>
              <a:t>период борьбы за власть,       сопровождающийся сменой династий, интервенцией и другими потрясениями.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5"/>
          <p:cNvGrpSpPr/>
          <p:nvPr/>
        </p:nvGrpSpPr>
        <p:grpSpPr>
          <a:xfrm>
            <a:off x="0" y="0"/>
            <a:ext cx="9180360" cy="6884640"/>
            <a:chOff x="0" y="0"/>
            <a:chExt cx="9180360" cy="6884640"/>
          </a:xfrm>
        </p:grpSpPr>
        <p:pic>
          <p:nvPicPr>
            <p:cNvPr id="181" name="Picture 26" descr="Рисунок1"/>
            <p:cNvPicPr/>
            <p:nvPr/>
          </p:nvPicPr>
          <p:blipFill>
            <a:blip r:embed="rId1"/>
            <a:srcRect l="0" t="0" r="-15" b="0"/>
            <a:stretch/>
          </p:blipFill>
          <p:spPr>
            <a:xfrm>
              <a:off x="36360" y="0"/>
              <a:ext cx="9144000" cy="68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27" descr="gh"/>
            <p:cNvPicPr/>
            <p:nvPr/>
          </p:nvPicPr>
          <p:blipFill>
            <a:blip r:embed="rId2"/>
            <a:srcRect l="0" t="0" r="398" b="0"/>
            <a:stretch/>
          </p:blipFill>
          <p:spPr>
            <a:xfrm>
              <a:off x="0" y="0"/>
              <a:ext cx="1655640" cy="6884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3" name=""/>
          <p:cNvGraphicFramePr/>
          <p:nvPr/>
        </p:nvGraphicFramePr>
        <p:xfrm>
          <a:off x="1835280" y="907920"/>
          <a:ext cx="7129440" cy="4608720"/>
        </p:xfrm>
        <a:graphic>
          <a:graphicData uri="http://schemas.openxmlformats.org/drawingml/2006/table">
            <a:tbl>
              <a:tblPr/>
              <a:tblGrid>
                <a:gridCol w="2376360"/>
                <a:gridCol w="2376360"/>
                <a:gridCol w="23767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Экономически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литически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оциальны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35280" y="115920"/>
            <a:ext cx="7129440" cy="503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580000"/>
                </a:solidFill>
                <a:latin typeface="Comic Sans MS"/>
              </a:rPr>
              <a:t>Причины Сму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1908000" y="5013360"/>
            <a:ext cx="22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46"/>
          <p:cNvSpPr/>
          <p:nvPr/>
        </p:nvSpPr>
        <p:spPr>
          <a:xfrm>
            <a:off x="1908000" y="1844640"/>
            <a:ext cx="21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Хозяйственное разорение страны в результате Ливонской войны и опричнины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- Голод 1601-1603 гг. (только в Москве от голода погибло 127 тыс. чел.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Text Box 47"/>
          <p:cNvSpPr/>
          <p:nvPr/>
        </p:nvSpPr>
        <p:spPr>
          <a:xfrm>
            <a:off x="4284720" y="1844640"/>
            <a:ext cx="223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Династический кризис в связи с пресечением династии Рюриковичей и избранием Земским собором 1598 г. царем Бориса Годунова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Text Box 48"/>
          <p:cNvSpPr/>
          <p:nvPr/>
        </p:nvSpPr>
        <p:spPr>
          <a:xfrm>
            <a:off x="6659640" y="1844640"/>
            <a:ext cx="223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Ухудшение положения крестьян: увеличение повинностей, отмена «заповедных лет» и введение «урочных лет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Содержимое 3" descr=""/>
          <p:cNvPicPr/>
          <p:nvPr/>
        </p:nvPicPr>
        <p:blipFill>
          <a:blip r:embed="rId1"/>
          <a:stretch/>
        </p:blipFill>
        <p:spPr>
          <a:xfrm>
            <a:off x="1127160" y="1133640"/>
            <a:ext cx="7785000" cy="5286240"/>
          </a:xfrm>
          <a:prstGeom prst="rect">
            <a:avLst/>
          </a:prstGeom>
          <a:ln w="0">
            <a:noFill/>
          </a:ln>
        </p:spPr>
      </p:pic>
      <p:pic>
        <p:nvPicPr>
          <p:cNvPr id="191" name="Заголовок 1" descr=""/>
          <p:cNvPicPr/>
          <p:nvPr/>
        </p:nvPicPr>
        <p:blipFill>
          <a:blip r:embed="rId2"/>
          <a:stretch/>
        </p:blipFill>
        <p:spPr>
          <a:xfrm>
            <a:off x="212760" y="0"/>
            <a:ext cx="8474040" cy="137160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80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468360" y="3284640"/>
            <a:ext cx="799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5157360"/>
            <a:ext cx="360036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ЛЖЕДМИТРИЙ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(ГРИГОРИЙ  ОТРЕПЬЕВ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ЦАРЬ  С  1605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6920" y="228600"/>
            <a:ext cx="7804440" cy="16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80000"/>
                </a:solidFill>
                <a:latin typeface="Times New Roman"/>
              </a:rPr>
              <a:t>В июне 1605 г войско самозванца беспрепятственно вступило в Москв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659720" cy="4824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92360" y="228240"/>
            <a:ext cx="3699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оскве произошла встреча «сына» и матер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4367520" cy="55069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427640" y="476280"/>
            <a:ext cx="4559040" cy="63374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овый царь раздал должности полякам, остальные обещания не выполнил. В мае состоялась его свадьба с Мариной Мнишек(дочерью польского воеводы)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ведение царя породило слухи,что он-«ненастоящий»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04920" y="9360"/>
            <a:ext cx="8686800" cy="540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авление Лжедмитр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227240" y="566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69696"/>
                </a:solidFill>
                <a:uFillTx/>
                <a:latin typeface="Times New Roman"/>
              </a:rPr>
              <a:t>Марина Мнишек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962160" cy="5715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07" name="Text Box 7"/>
          <p:cNvSpPr/>
          <p:nvPr/>
        </p:nvSpPr>
        <p:spPr>
          <a:xfrm>
            <a:off x="468360" y="6308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00"/>
                </a:solidFill>
                <a:latin typeface="Times New Roman"/>
              </a:rPr>
              <a:t>Лжедмитрий I и </a:t>
            </a:r>
            <a:r>
              <a:rPr b="1" lang="ru-RU" sz="1800" spc="-1" strike="noStrike">
                <a:solidFill>
                  <a:srgbClr val="580000"/>
                </a:solidFill>
                <a:latin typeface="Times New Roman"/>
              </a:rPr>
              <a:t>Марина</a:t>
            </a:r>
            <a:r>
              <a:rPr b="0" lang="ru-RU" sz="1800" spc="-1" strike="noStrike">
                <a:solidFill>
                  <a:srgbClr val="58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580000"/>
                </a:solidFill>
                <a:latin typeface="Times New Roman"/>
              </a:rPr>
              <a:t>Мнишек</a:t>
            </a:r>
            <a:r>
              <a:rPr b="0" lang="ru-RU" sz="1800" spc="-1" strike="noStrike">
                <a:solidFill>
                  <a:srgbClr val="58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8:46:43Z</dcterms:created>
  <dc:creator>Галкина</dc:creator>
  <dc:description/>
  <dc:language>en-US</dc:language>
  <cp:lastModifiedBy>LEGION</cp:lastModifiedBy>
  <dcterms:modified xsi:type="dcterms:W3CDTF">2015-01-14T09:48:49Z</dcterms:modified>
  <cp:revision>84</cp:revision>
  <dc:subject/>
  <dc:title>Начало Сму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370000000000010250300207f7000400038000</vt:lpwstr>
  </property>
</Properties>
</file>