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BCA-6BF5-4FE1-AD1F-31D6129CB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D44-A748-43C9-A9C7-8B2C210B605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CADE-B0AF-4164-BA83-011D72B9BB5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чь на 17мая 1606г был убит Лже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C32-CBEB-4945-9DA1-D1D9B1ADF22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. А. Шу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сь движение против нового ц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5FC-C170-41CF-B3FE-E0EB461FFE5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возглавил  Иван Бол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BDC-7F4E-4554-B151-CF40E40F5756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2ED0-D39C-437D-912C-051CF5D0A9C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12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B59-5548-458A-9410-B1AFFEB8B15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F5F-7643-4B51-B68A-A196E0AA4A6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Смута, Смутное время, лихолетье – так называют начало 17век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786-8394-48BD-A683-611C8B844F9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Тушинские поляки вели себя как завоеватели. Не отставали и русские тушин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6CF-6A76-48F9-90C4-84627470263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 создаваться народные ополчения (объединение патриотических сил Росси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A1E-0BE9-4D38-A3AD-CA589FF48B1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3F4D-7FBC-4518-AC5F-C81DAE18CD41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пин-Шуйский стал опираться на силы народного опол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F54-A6C1-4580-B267-E712AAFC81E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609 г Речь Посполитая объявила России вой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4F4-718F-4A91-887E-4B2AEC09DABB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карте стр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868-453D-4BCE-B558-42495BD4487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3D44-FF3A-47B1-BFF3-F75BBF4A7F7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в России привело к Сму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CD82-C43C-4E45-B3B7-C877E1B7262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A35-2C53-4A9D-9518-6D5697C763D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477F-8574-447D-B8E0-0D5649A4028D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9f9f9"/>
                </a:solidFill>
                <a:latin typeface="Arial"/>
              </a:rPr>
              <a:t>Периоды Смутног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899-3C8C-451D-AB6A-E49CC4D8C19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9A5C-F1BA-484B-B6A5-E93EC08DA6C4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82B-4B40-405F-B5B4-AA566C22AF93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скве произошла встреча «сына» и мат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9D00-E4D6-44A4-911B-0EB3C157308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3ACE-E853-42AC-95D6-2DDD7A8F0B5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0BB-AFF5-4177-971B-499733EB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FA1-0A80-40CB-83B0-F8056EC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943-3964-4EB3-A771-BBA5364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2F2-0234-41A2-BB3A-EC47019E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EA7B-1C82-44A2-8F40-C57437CB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A6CB-99F1-43BF-AFE8-92CF3A1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5810-4463-45D3-B613-5A7E74A6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70AE-DD60-4FA3-B762-5726385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700-D4C4-4CF4-8270-7F4F58B4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708-661B-4725-AA4C-BF387F30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5DE-EDA0-4E7F-A9B3-8B99771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D2D-EE42-44A8-9296-B119D6C0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5D0-8F5F-44C1-9C4E-46F9B9E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9012-9F12-43AA-95FF-41C574E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0AB-58C8-4CF4-97F4-C2268AA6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34C-2347-4C9C-8106-71DA797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981C-A077-4426-ACF4-AF39E5B6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029-F6E6-46BF-9846-581FBC1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A25-E6B4-4438-9A74-7F55F57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E18-5CAE-4CEE-8ED2-D60213C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1C7-E5B0-4BD4-BFF6-E5829A3A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31B-AAF1-4ABA-8A23-15C8391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294-059A-4ACA-975A-DE0F5AE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1C4-82ED-458F-9C66-BD2F712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F6D4-ADD7-4DF9-A1B4-27ED274752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2A5F-9985-40FC-9E7F-6B01D08D6A3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92000" y="836640"/>
            <a:ext cx="413892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993300"/>
                </a:solidFill>
                <a:uFillTx/>
                <a:latin typeface="Tahoma"/>
              </a:rPr>
              <a:t>Смут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6"/>
          <p:cNvCxnSpPr/>
          <p:nvPr/>
        </p:nvCxnSpPr>
        <p:spPr>
          <a:xfrm flipV="1">
            <a:off x="-1080" y="6571800"/>
            <a:ext cx="214920" cy="286560"/>
          </a:xfrm>
          <a:prstGeom prst="straightConnector1">
            <a:avLst/>
          </a:prstGeom>
          <a:ln w="572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2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1919 C -0.00416 0.02104 -0.00278 0.02035 0.00382 0.01711 C 0.00747 0.01249 0.01077 0.00994 0.01372 0.00416 C 0.01667 -0.00786 0.01615 -0.00809 0.02361 -0.01457 C 0.02674 -0.02775 0.03472 -0.03538 0.04202 -0.04463 C 0.04566 -0.05967 0.0441 -0.07401 0.05747 -0.0784 C 0.07136 -0.09112 0.08177 -0.09019 0.09965 -0.09158 C 0.10504 -0.09621 0.11094 -0.09736 0.1165 -0.10106 C 0.12222 -0.105 0.12743 -0.10962 0.13351 -0.11217 C 0.14601 -0.11101 0.15434 -0.10962 0.16563 -0.10661 C 0.17031 -0.09806 0.17031 -0.08788 0.1757 -0.08025 C 0.18368 -0.08233 0.18542 -0.08303 0.18281 -0.09343 C 0.18334 -0.10338 0.18351 -0.11355 0.1842 -0.1235 C 0.18438 -0.12535 0.18455 -0.12766 0.18559 -0.12905 C 0.18802 -0.13229 0.19132 -0.13414 0.1941 -0.13668 C 0.19636 -0.13853 0.1974 -0.14223 0.19965 -0.14408 C 0.204 -0.14778 0.21285 -0.14963 0.21806 -0.15171 C 0.22448 -0.15749 0.22275 -0.16027 0.23073 -0.16281 C 0.23837 -0.17322 0.24184 -0.18525 0.25035 -0.19288 C 0.25365 -0.19935 0.25799 -0.2019 0.26163 -0.20791 C 0.26372 -0.21161 0.26736 -0.21924 0.26736 -0.21901 C 0.27031 -0.23127 0.27014 -0.23612 0.27709 -0.24538 C 0.27865 -0.25555 0.28125 -0.25786 0.28281 -0.26804 C 0.28368 -0.30458 0.28247 -0.31938 0.28976 -0.34852 C 0.29028 -0.35615 0.29184 -0.36378 0.29115 -0.37118 C 0.29097 -0.37373 0.2882 -0.37465 0.28698 -0.37673 C 0.28663 -0.3772 0.28698 -0.37789 0.28698 -0.37859 E">
                                      <p:cBhvr>
                                        <p:cTn id="77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1484280"/>
          <a:ext cx="9144000" cy="55180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18"/>
          <p:cNvSpPr/>
          <p:nvPr/>
        </p:nvSpPr>
        <p:spPr>
          <a:xfrm>
            <a:off x="1187280" y="189000"/>
            <a:ext cx="73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Century Gothic"/>
              </a:rPr>
              <a:t>Работа с учебником: составьте таблицу «Крестьянская война под предводительством  И.Болотникова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35812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0"/>
          <a:ext cx="9144000" cy="722628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водитель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Исаевич Болотников, холоп князя Телятев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я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адная Русь, Среднее и Нижнее Поволжь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тник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 Ляпунов, Г. Сумбулов, И. Пашков, Г. Шаховский,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рчаков, «Илейка Муромец»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остав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,  казаки,  дворяне, служилы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бояре – противники Шуйского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гнуть власть бояр и посадить на престол настоящего царя Дмитр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военных действий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606 г.- Елец – Калуга – Серпухов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 1606 г. – осада Москвы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 1606 -1607 гг. – отступление к Калуге , Туле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ражения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ельство дворянских отрядов при осаде Москвы, наивный монархизм.</a:t>
                      </a:r>
                      <a:endParaRPr b="0" lang="en-US" sz="2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497720" y="2073240"/>
            <a:ext cx="1646280" cy="16765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753160" cy="40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476360" y="50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Василий Шуйский жестоко расправился с руководителями движения. Болотникова сослали в монастырь, ослепили и утопили. Остальных повешали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1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Лагерь Лжедмитрия 2 в Тушино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084720" y="1413000"/>
            <a:ext cx="3059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4437000"/>
            <a:ext cx="4897440" cy="1008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751536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Смута, Смутное время, лихолетье – так называют начало 17века в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67520" cy="47149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ушинские поляки вели себя как завоеватели. Не отставали и русские тушин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ли создаваться народные ополчения (объединение патриотических сил России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056360" cy="3959280"/>
          </a:xfrm>
          <a:prstGeom prst="rect">
            <a:avLst/>
          </a:prstGeom>
          <a:ln w="0">
            <a:noFill/>
          </a:ln>
        </p:spPr>
      </p:pic>
      <p:grpSp>
        <p:nvGrpSpPr>
          <p:cNvPr id="254" name="Прямоугольник 17"/>
          <p:cNvGrpSpPr/>
          <p:nvPr/>
        </p:nvGrpSpPr>
        <p:grpSpPr>
          <a:xfrm>
            <a:off x="1274760" y="255600"/>
            <a:ext cx="5265720" cy="2292480"/>
            <a:chOff x="1274760" y="255600"/>
            <a:chExt cx="5265720" cy="2292480"/>
          </a:xfrm>
        </p:grpSpPr>
        <p:pic>
          <p:nvPicPr>
            <p:cNvPr id="25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74760" y="255600"/>
              <a:ext cx="526572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332000" y="284040"/>
              <a:ext cx="51130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16 месяцев  защищали Троице-Сергиев  монастырь от 15-тысячной армии Лжедмитрия II.  2400 стрельцов, дворян их слуг и монахов. Все приступы были отбиты.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одержание наёмного войска необходимы средства и В.Шуйский обложил население тяжёлыми налогам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опин-Шуйский стал опираться на силы народного ополч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96240" cy="1143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по карте стр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200720" cy="48243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едственным положением воспользовались и шведы. И в 1611г шведские отряды захватили Новгород и всё русское побережье Финского зал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лабление центральной власти в России привело к Сму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75" name="Picture 5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5"/>
          <p:cNvGrpSpPr/>
          <p:nvPr/>
        </p:nvGrpSpPr>
        <p:grpSpPr>
          <a:xfrm>
            <a:off x="0" y="0"/>
            <a:ext cx="9180360" cy="6884640"/>
            <a:chOff x="0" y="0"/>
            <a:chExt cx="9180360" cy="6884640"/>
          </a:xfrm>
        </p:grpSpPr>
        <p:pic>
          <p:nvPicPr>
            <p:cNvPr id="181" name="Picture 26" descr="Рисунок1"/>
            <p:cNvPicPr/>
            <p:nvPr/>
          </p:nvPicPr>
          <p:blipFill>
            <a:blip r:embed="rId1"/>
            <a:srcRect l="0" t="0" r="-15" b="0"/>
            <a:stretch/>
          </p:blipFill>
          <p:spPr>
            <a:xfrm>
              <a:off x="3636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7" descr="gh"/>
            <p:cNvPicPr/>
            <p:nvPr/>
          </p:nvPicPr>
          <p:blipFill>
            <a:blip r:embed="rId2"/>
            <a:srcRect l="0" t="0" r="398" b="0"/>
            <a:stretch/>
          </p:blipFill>
          <p:spPr>
            <a:xfrm>
              <a:off x="0" y="0"/>
              <a:ext cx="1655640" cy="6884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3" name=""/>
          <p:cNvGraphicFramePr/>
          <p:nvPr/>
        </p:nvGraphicFramePr>
        <p:xfrm>
          <a:off x="1835280" y="907920"/>
          <a:ext cx="7129440" cy="460872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80000"/>
                </a:solidFill>
                <a:latin typeface="Comic Sans MS"/>
              </a:rPr>
              <a:t>Причины Сму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1908000" y="5013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1908000" y="184464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Хозяйственное разорение страны в результате Ливонской войны и опричнины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- Голод 1601-1603 гг. (только в Москве от голода погибло 127 тыс. чел.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4284720" y="1844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Династический кризис в связи с пресечением династии Рюриковичей и избранием Земским собором 1598 г. царем Бориса Годунова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Text Box 48"/>
          <p:cNvSpPr/>
          <p:nvPr/>
        </p:nvSpPr>
        <p:spPr>
          <a:xfrm>
            <a:off x="6659640" y="1844640"/>
            <a:ext cx="223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Comic Sans MS"/>
              </a:rPr>
              <a:t>Ухудшение положения крестьян: увеличение повинностей, отмена «заповедных лет» и введение «урочных лет»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"/>
          <p:cNvPicPr/>
          <p:nvPr/>
        </p:nvPicPr>
        <p:blipFill>
          <a:blip r:embed="rId1"/>
          <a:stretch/>
        </p:blipFill>
        <p:spPr>
          <a:xfrm>
            <a:off x="1127160" y="1133640"/>
            <a:ext cx="7785000" cy="52862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212760" y="0"/>
            <a:ext cx="8474040" cy="13716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Ь  С  1605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Times New Roman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92360" y="228240"/>
            <a:ext cx="369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скве произошла встреча «сына» и мате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367520" cy="55069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царя породило слухи,что он-«ненастоящий»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27240" y="566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69696"/>
                </a:solidFill>
                <a:uFillTx/>
                <a:latin typeface="Times New Roman"/>
              </a:rPr>
              <a:t>Марина Мнишек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07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Times New Roman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46:43Z</dcterms:created>
  <dc:creator>Галкина</dc:creator>
  <dc:description/>
  <dc:language>en-US</dc:language>
  <cp:lastModifiedBy>LEGION</cp:lastModifiedBy>
  <dcterms:modified xsi:type="dcterms:W3CDTF">2015-01-14T09:48:49Z</dcterms:modified>
  <cp:revision>84</cp:revision>
  <dc:subject/>
  <dc:title>Начало Сму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370000000000010250300207f7000400038000</vt:lpwstr>
  </property>
</Properties>
</file>