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47B5-8B48-410D-9F1C-F5384D10F1A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СЬ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ОЛОТАЯ ОР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2F5E-EBB9-4B52-A01D-30AEDAA35D1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B024-A873-489B-8B72-C08A6CBDE2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нность поставлять воинов в монголо-татарское войс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8F3A-EBC3-4F70-8F6D-D08F9A3C379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ьба русского народа против ордынского влады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B426-DCB0-4322-9CC1-1B103DE6678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рушены гор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ошла утрата многих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кратилась численность насел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усская культура пришла в упадок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из-за пожаров погибло множ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изведений искусст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25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исьменных источник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106A-9E6E-4EF6-B7C5-B28768BDB4E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А с другой сторо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,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есть и положитель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EBE2-5729-48D7-BCDD-4D5C86E7DE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голо-татарское иго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42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D5F7-C813-494D-9B5A-FA04C57748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3A486-78EE-466A-86C1-DDAFD2F3115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разование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859F-4E8A-4FD6-A584-14DC77C19C0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лица Сарай –Бат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переводе дворец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E8F6-A872-41D7-91C9-2074D8700FB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усские земли не вошли в состав, но они попали в вассальную зависимость от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C7D8-5A6B-4A9D-89C6-A2154984DDE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Ярлык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анская грамота, дававшая право русским князьям властвовать в своих зем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EEE3-DB9D-46F3-B351-82A8A114B3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7CBE-DB4E-4932-9F17-92787CA640B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аскак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EAFA-F1CA-4BB7-8E07-E4082BFC247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«Ордынский выход»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– ежегодная дань, которую собирали на Руси для хана Золотой Ор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9A2F9-AD55-4833-980D-2C88826051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257-1259 годах монгольские чиновники –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числен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провели на Руси перепись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Численник</a:t>
            </a:r>
            <a:r>
              <a:rPr b="0" lang="ru-RU" sz="1400" spc="-1" strike="noStrike">
                <a:solidFill>
                  <a:srgbClr val="1f497d"/>
                </a:solidFill>
                <a:latin typeface="Calibri"/>
              </a:rPr>
              <a:t> – монгольский чиновник, проводивший перепись насел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жители были переписаны и обязаны были ежегодно платить большую да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05DE7-920F-41D3-A52C-666E3C2469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12EA-7FC3-46F2-BF82-A965A03E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FD4A-C267-4B46-A91A-B0E08B49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226B-0A20-4EEF-8C33-AA1441E28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0897-3FE2-44EF-A1E3-AA3210EB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C44D-E715-4E9B-8C0B-DEA9D7FB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7C5F3-6E16-4318-B887-6DF3026C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41D8-DA7C-4630-96FE-AD361B55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13CC-8746-49B1-926E-4831C616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EF91-6026-4838-84CB-41DED873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330B-7CDC-4617-BA14-8DD4E00A9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5E6F-4B01-4024-8C45-ED261D91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20DB-0317-4A5D-9EDD-C480BFA1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1223-23FB-40E0-808C-F568EC41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3F66-4D8A-4FAC-BC85-101162D0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08D2-C570-44BC-B8B9-E362FFDF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85D5-2B84-4002-8C29-DE5624C1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D6668-49E8-410B-8CC0-8566E41C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E54-260C-4DBB-97C3-C87C0C97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711-5E5F-46BC-A433-5B4130DC6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936-019F-4F95-B8C1-03E226CC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AA0-A69D-4205-8251-9AFDE30A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ABF-5FC4-4BB8-A596-AA4611B3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C413-330F-43E1-B375-492AF451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629-9CDF-465A-896D-7DE822CC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4e3b25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9226-8E58-4999-8ABF-D6833573BC5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33f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463521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674e2f"/>
                </a:gs>
                <a:gs pos="100000">
                  <a:srgbClr val="533f2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8b27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463FD-2909-499E-9DF6-1CF2CA0455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47628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РУСЬ И </a:t>
            </a:r>
            <a:br>
              <a:rPr sz="6000"/>
            </a:br>
            <a:r>
              <a:rPr b="1" lang="ru-RU" sz="6000" spc="-1" strike="noStrike">
                <a:solidFill>
                  <a:srgbClr val="d8b274"/>
                </a:solidFill>
                <a:latin typeface="Tahoma"/>
              </a:rPr>
              <a:t>ЗОЛОТАЯ ОРДА</a:t>
            </a:r>
            <a:endParaRPr b="0" lang="en-US" sz="6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5796000" y="2781360"/>
            <a:ext cx="3066840" cy="380988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16000" y="1700280"/>
            <a:ext cx="6985080" cy="454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95280" y="476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бор дани всегда сопровождался насилием и грабежом, тех кто не платил обращали в раб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Обязанность поставлять воинов в монголо-татарское войско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Борьба русского народа против ордынского владычества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8229600" cy="44960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2268360" y="630864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итать в учеб стр.118, в р/т №1стр.4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Последствия ордынского владычества</a:t>
            </a:r>
            <a:endParaRPr b="0" lang="en-US" sz="32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181080" y="1125000"/>
            <a:ext cx="68407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рушены го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лено каменное строитель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ошла утрата многих ремесе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остановился процесс развития феодального землевлад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кратилась численность насел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усская культура пришла в упадок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(из-за пожаров погибло множест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зведений искусств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2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исьменных источников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5867280" y="1125360"/>
            <a:ext cx="3276720" cy="42498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826920" y="1073160"/>
            <a:ext cx="7705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А с другой стороны</a:t>
            </a:r>
            <a:r>
              <a:rPr b="0" lang="ru-RU" sz="2800" spc="-1" strike="noStrike">
                <a:solidFill>
                  <a:srgbClr val="d8b274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d8b274"/>
                </a:solidFill>
                <a:latin typeface="Tahoma"/>
              </a:rPr>
              <a:t>есть и положительно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за долгие годы ордынское владычество привело к взаимному влиянию друг на друга в хозяйстве, быту, языке, власти.(в учеб.стр.119 найт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Монголо-татарское иго: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1242-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971640" y="1738800"/>
            <a:ext cx="71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d8b274"/>
                </a:solidFill>
                <a:latin typeface="Tahoma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араграф 14 (п.1,2,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76320" indent="1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33f27"/>
                </a:solidFill>
                <a:latin typeface="Tahoma"/>
              </a:rPr>
              <a:t>Образование Золотой Орды.</a:t>
            </a:r>
            <a:endParaRPr b="0" lang="en-US" sz="4400" spc="-1" strike="noStrike">
              <a:solidFill>
                <a:srgbClr val="d8b274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тый образовал собственное государство: земли Волжской Булгарии, Половецкая степь, Крым, Приуралье, Западная Сибирь, часть Средней Аз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4"/>
          <p:cNvSpPr/>
          <p:nvPr/>
        </p:nvSpPr>
        <p:spPr>
          <a:xfrm>
            <a:off x="611280" y="3284640"/>
            <a:ext cx="8281800" cy="792000"/>
          </a:xfrm>
          <a:custGeom>
            <a:avLst/>
            <a:gdLst>
              <a:gd name="textAreaLeft" fmla="*/ 1449360 w 8281800"/>
              <a:gd name="textAreaRight" fmla="*/ 6004440 w 8281800"/>
              <a:gd name="textAreaTop" fmla="*/ 105840 h 792000"/>
              <a:gd name="textAreaBottom" fmla="*/ 6861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835280" y="485928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ahoma"/>
              </a:rPr>
              <a:t>Золотая Ор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Столица Сарай –Бату </a:t>
            </a:r>
            <a:br>
              <a:rPr sz="4000"/>
            </a:br>
            <a:r>
              <a:rPr b="0" lang="ru-RU" sz="4000" spc="-1" strike="noStrike">
                <a:solidFill>
                  <a:srgbClr val="d8b274"/>
                </a:solidFill>
                <a:latin typeface="Tahoma"/>
              </a:rPr>
              <a:t>(в переводе дворец)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4956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ahoma"/>
              </a:rPr>
              <a:t>Русские земли не вошли в состав, но они попали в вассальную зависимость от Орды.</a:t>
            </a:r>
            <a:endParaRPr b="0" lang="en-US" sz="4000" spc="-1" strike="noStrike">
              <a:solidFill>
                <a:srgbClr val="d8b274"/>
              </a:solidFill>
              <a:latin typeface="Tahoma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3744720" cy="43225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4859280" y="2554200"/>
            <a:ext cx="316872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1242 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cc"/>
                </a:solidFill>
                <a:latin typeface="Tahoma"/>
              </a:rPr>
              <a:t>в северо-восточные княжества были отправлены послы, с требованием явиться к Баты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284652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611280" y="620640"/>
            <a:ext cx="7632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Ярлык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ru-RU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ханская грамота, дававшая право русским князьям властвовать в своих земл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0" y="2349360"/>
            <a:ext cx="403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Самым привлекательным был ярлык на владимирское княжество, т.к. теперь не киевский князь, а владимирский имел право на старш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019240" y="1530360"/>
            <a:ext cx="5216760" cy="4994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24000" y="449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ездки русских князей в Орду сопровождались унижениями и часто заканчивались их смертью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395280" y="18900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8b274"/>
                </a:solidFill>
                <a:latin typeface="Tahoma"/>
              </a:rPr>
              <a:t>Баскак</a:t>
            </a:r>
            <a:r>
              <a:rPr b="0" lang="ru-RU" sz="2400" spc="-1" strike="noStrike">
                <a:solidFill>
                  <a:srgbClr val="d8b274"/>
                </a:solidFill>
                <a:latin typeface="Tahoma"/>
              </a:rPr>
              <a:t> – представитель ордынского хана на Руси, который осуществлял контроль за действиями князей, ведал сборами да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5749920" cy="439272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697800" cy="4733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324000" y="26028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«Ордынский выход»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ежегодная дань, которую собирали на Руси для хана Золотой Ор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5"/>
          <p:cNvSpPr/>
          <p:nvPr/>
        </p:nvSpPr>
        <p:spPr>
          <a:xfrm>
            <a:off x="395280" y="25560"/>
            <a:ext cx="8199360" cy="65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1257-1259 годах монгольские чиновники –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численник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провели на Руси перепись населе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8b274"/>
                </a:solidFill>
                <a:latin typeface="Tahoma"/>
              </a:rPr>
              <a:t>Численник</a:t>
            </a:r>
            <a:r>
              <a:rPr b="0" lang="ru-RU" sz="3200" spc="-1" strike="noStrike">
                <a:solidFill>
                  <a:srgbClr val="d8b274"/>
                </a:solidFill>
                <a:latin typeface="Tahoma"/>
              </a:rPr>
              <a:t> – монгольский чиновник, проводивший перепись насе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 жители были переписаны и обязаны были ежегодно платить большую дан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ань не платило только духовенство, которое завоеватели стремились использовать для укрепления своей вла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1:17:04Z</dcterms:created>
  <dc:creator>Галкина</dc:creator>
  <dc:description/>
  <dc:language>en-US</dc:language>
  <cp:lastModifiedBy>LEGION</cp:lastModifiedBy>
  <dcterms:modified xsi:type="dcterms:W3CDTF">2015-01-14T09:50:16Z</dcterms:modified>
  <cp:revision>1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e090000000000010250300207f7000400038000</vt:lpwstr>
  </property>
</Properties>
</file>