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12CD-A57B-45AA-B7BC-FD1D8A5DBB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ОЛОТАЯ О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B68E-4EFC-405E-896B-DA2FAA65E5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8687-9FC7-443B-9F09-66881444B46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поставлять воинов в монголо-татарское войс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DFEE-C56F-47FB-9A2D-EFE8E77AF65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русского народа против ордынского влады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0EE5-9EAC-4223-9230-0F65A16561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ушены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ошла утрата многи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ась численность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культура пришла в упад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з-за пожаров погибло множ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едений искус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енных источни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183A-F295-4463-B3A9-9F1CC02E0E6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 с другой сторо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есть и полож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B14B-A9D4-4AA9-BD6F-7FCAAECE65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голо-татарское иг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4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A344-59FA-4EEE-9976-DEBA12F6B8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09FA-EB16-4551-9EA3-FD0B919A8CF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ование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2001-306E-45AF-ACED-4929FA55DF7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Сарай –Бат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де двор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68DB-8E5B-4BAA-891A-E67734DEE2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усские земли не вошли в состав, но они попали в вассальную зависимость от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BB94-8D78-49D3-97A1-90BE934F55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Ярлык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анская грамота, дававшая право русским князьям властвовать в своих зем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9884-6390-4DBE-814B-8950523B7C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DC19-E765-46AF-8D15-B3F54FFF11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аск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7B86-3064-4A97-BE2A-2DBCA50463E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Ордынский выход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ежегодная дань, которую собирали на Руси для хана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BEA3-4FF2-487F-973E-953F41EEA5B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7-1259 годах монгольские чиновники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исл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вели на Руси перепись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Численник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– монгольский чиновник, проводивший перепись насе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жители были переписаны и обязаны были ежегодно платить большую д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7A7F-9C2E-4897-B46B-7BB07DFB5CC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252-B7DE-4B5D-BC14-85BABBC4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26E-7451-4455-80B4-F92D5BC3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6930-67B0-4352-A243-56DF4B87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B98-5CEA-4571-B24B-FF866DC9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FC8C-61B8-494A-A28F-3F76FB70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8771-33C5-47C6-A9E2-326E201F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A20D-BBD7-4D89-BA05-F728AB34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F98A-A928-4548-84BE-88EAFA14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E97C-4F86-4C5B-826B-7F69F5F8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F642-BBC5-47DB-856C-5227C0F2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4328-F28C-4B98-80CB-3B14422D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434-84D0-4F66-9496-CD93CAE2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114C-10D4-4342-90C9-C01F11B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E307-AC76-40D9-9CBB-89E9B246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E414-9396-41CD-A38D-3F8098C4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9195-F30F-4508-B8C4-D5EFB8E7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4569-393E-4B35-9FDA-71446B3D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6F9-177B-4511-8506-DB3315D4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033-C239-4D69-A787-C3F124F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81C-9572-4E99-8CCF-ED9BCB65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D8A9-A8BB-45D4-8BCA-B66A0EB4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5CC-9666-4D4A-9F40-53ECBC2F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DB9-DC2D-4DC0-A3EC-BD5D248F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B1F-3197-446C-8B4F-BC2D4572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9D6E-0D7D-41A9-91DC-BDAC2749AB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409F-5C71-4B8B-ACB4-E09DEF9EDE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РУСЬ И </a:t>
            </a:r>
            <a:br>
              <a:rPr sz="6000"/>
            </a:b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ЗОЛОТАЯ ОРДА</a:t>
            </a:r>
            <a:endParaRPr b="0" lang="en-US" sz="6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306684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54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Обязанность поставлять воинов в монголо-татарское войско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Борьба русского народа против ордынского владычества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68360" y="630864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тать в учеб стр.118, в р/т №1стр.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684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ы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ошла утрата многих реме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лась 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ая культура пришла в упад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из-за пожаров погибло множ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скус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ьменных источник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3276720" cy="4249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826920" y="107316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А с другой стороны</a:t>
            </a:r>
            <a:r>
              <a:rPr b="0" lang="ru-RU" sz="2800" spc="-1" strike="noStrike">
                <a:solidFill>
                  <a:srgbClr val="d8b274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есть и полож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Монголо-татарское иго: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1242-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71640" y="173880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4 (п.1,2,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f27"/>
                </a:solidFill>
                <a:latin typeface="Tahoma"/>
              </a:rPr>
              <a:t>Образование Золотой Орды.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3284640"/>
            <a:ext cx="8281800" cy="792000"/>
          </a:xfrm>
          <a:custGeom>
            <a:avLst/>
            <a:gdLst>
              <a:gd name="textAreaLeft" fmla="*/ 1449360 w 8281800"/>
              <a:gd name="textAreaRight" fmla="*/ 6004440 w 82818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835280" y="4859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Золотая Ор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Столица Сарай –Бату 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(в переводе дворец)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усские земли не вошли в состав, но они попали в вассальную зависимость от Орды.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744720" cy="4322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859280" y="2554200"/>
            <a:ext cx="3168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1242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северо-восточные княжества были отправлены послы, с требованием явиться к Баты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84652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11280" y="620640"/>
            <a:ext cx="763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Ярлык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ханская грамота, дававшая право русским князьям властвовать в своих зем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0" y="2349360"/>
            <a:ext cx="40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019240" y="1530360"/>
            <a:ext cx="5216760" cy="4994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449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b274"/>
                </a:solidFill>
                <a:latin typeface="Tahoma"/>
              </a:rPr>
              <a:t>Баскак</a:t>
            </a:r>
            <a:r>
              <a:rPr b="0" lang="ru-RU" sz="2400" spc="-1" strike="noStrike">
                <a:solidFill>
                  <a:srgbClr val="d8b274"/>
                </a:solidFill>
                <a:latin typeface="Tahoma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74992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733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24000" y="260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«Ордынский выход»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ежегодная дань, которую собирали на Руси для хана Золотой Ор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5280" y="25560"/>
            <a:ext cx="819936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257-1259 годах монгольские чиновники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числен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ровели на Руси перепись насе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Численник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монгольский чиновник, проводивший перепись на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жители были переписаны и обязаны были ежегодно платить большую да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17:04Z</dcterms:created>
  <dc:creator>Галкина</dc:creator>
  <dc:description/>
  <dc:language>en-US</dc:language>
  <cp:lastModifiedBy>LEGION</cp:lastModifiedBy>
  <dcterms:modified xsi:type="dcterms:W3CDTF">2015-01-14T09:50:1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90000000000010250300207f7000400038000</vt:lpwstr>
  </property>
</Properties>
</file>