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62D-350F-4E2B-82A3-9A90D0C03F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ОЛОТАЯ О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6A94-B2B6-4AA2-A0D7-3AB7C1239F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BC39-1096-4F09-BDDF-AB4E26BBA4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поставлять воинов в монголо-татарское войс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7E43-9CB1-44FD-95AA-F53EE75860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русского народа против ордынского влады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3A0C-C22D-49F2-91A8-41E226CDA3C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ушены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шла утрата многи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ась численность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культура пришла в упад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з-за пожаров погибл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едений искус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ен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6117-B602-412E-9F3B-14865BFCDF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 с другой сторо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есть и полож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F9CE-DFA2-48E7-ABC2-217E87E8FA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голо-татарское иг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4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73A5-FC56-482D-8641-07778A89E5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E75-0EAE-48D8-B127-71B80634AD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ование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349D-699C-4CC0-AB59-2D8567DBC8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Сарай –Бат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де двор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547-9C3C-4C57-844F-2F60F3B2C6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усские земли не вошли в состав, но они попали в вассальную зависимость от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AF45-520D-46AD-B6A0-DE30BA9ED4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Ярлык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анская грамота, дававшая право русским князьям властвовать в своих зем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63D2-05D1-40C2-9A17-DCDC3B9FFE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D278-3352-44E7-A2E0-B29FD891F6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аск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3AD0-2477-4BF8-97AE-0A12542AF9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Ордынский выход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ежегодная дань, которую собирали на Руси для хана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43D-1BA0-42F6-902F-DB39EFBC07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7-1259 годах монгольские чиновники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исл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вели на Руси перепись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Численник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– монгольский чиновник, проводивший перепись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жители были переписаны и обязаны были ежегодно платить большую д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98E1-437B-4AC6-8D52-A384E3134E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3C9-1B7E-4315-820F-09E59794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E1D-F3DF-472A-A2C6-C0CFCF0E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A89-6659-4274-8EB7-C75874D5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C03-353A-4C4E-A0F8-0F98A14E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00A7-E346-49C7-84C2-0DBFFFA7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7746-D2AA-4D4D-A2FD-0B9100F6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04B6-34FE-4245-8911-C22903A1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1B4A-B409-42DF-B0A2-09175AD9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304A-74A2-4A87-81EA-97A9CDAD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0766-956B-4C76-A011-AC1D4F9E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255-6208-4894-BED1-E8039820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DD6-B967-42F0-AB9A-F5B26E8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569D-1BB5-4EFC-ADE9-A3E724CE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1C93-DEEF-464C-961D-64B3156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CFDE-318A-4BAF-89DA-C3BAD3B3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7457-656C-44B6-AA3F-7CEF539C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5825-43D9-491F-9B25-6B4D4DB0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F61-45B4-46A2-B942-7E3B054C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2F4-3940-482D-85D2-CB8B82A3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99A-D8BF-42FF-AC79-A8C40EC7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222-A1DA-4A3B-BE28-6170D105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FE4-23F6-4D5D-8C50-6E9BD53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85D-3FA6-428F-893D-20153756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A67-EEF8-4DB8-80E0-9F347986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56D-EC11-4FDC-8DBF-D5FFF3A1A2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4EAA-F979-435F-97EA-C8368608EB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РУСЬ И </a:t>
            </a:r>
            <a:br>
              <a:rPr sz="6000"/>
            </a:b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ЗОЛОТАЯ ОРДА</a:t>
            </a:r>
            <a:endParaRPr b="0" lang="en-US" sz="6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306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4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Обязанность поставлять воинов в монголо-татарское войско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Борьба русского народа против ордынского владычества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68360" y="630864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ть в учеб стр.118, в р/т №1стр.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68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ы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ошла утрата многих реме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лась 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ая культура пришла в упад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з-за пожаров погибло множ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скус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енных источник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327672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6920" y="107316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А с другой стороны</a:t>
            </a:r>
            <a:r>
              <a:rPr b="0" lang="ru-RU" sz="2800" spc="-1" strike="noStrike">
                <a:solidFill>
                  <a:srgbClr val="d8b274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есть и полож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Монголо-татарское иго: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1242-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71640" y="173880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4 (п.1,2,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f27"/>
                </a:solidFill>
                <a:latin typeface="Tahoma"/>
              </a:rPr>
              <a:t>Образование Золотой Орды.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3284640"/>
            <a:ext cx="8281800" cy="792000"/>
          </a:xfrm>
          <a:custGeom>
            <a:avLst/>
            <a:gdLst>
              <a:gd name="textAreaLeft" fmla="*/ 1449360 w 8281800"/>
              <a:gd name="textAreaRight" fmla="*/ 6004440 w 82818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5280" y="4859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Золотая Ор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Столица Сарай –Бату 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(в переводе дворец)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усские земли не вошли в состав, но они попали в вассальную зависимость от Орды.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4322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859280" y="2554200"/>
            <a:ext cx="316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1242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северо-восточные княжества были отправлены послы, с требованием явиться к Баты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4652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11280" y="620640"/>
            <a:ext cx="763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рлык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анская грамота, дававшая право русским князьям властвовать в своих зем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0" y="2349360"/>
            <a:ext cx="40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019240" y="1530360"/>
            <a:ext cx="5216760" cy="4994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449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b274"/>
                </a:solidFill>
                <a:latin typeface="Tahoma"/>
              </a:rPr>
              <a:t>Баскак</a:t>
            </a:r>
            <a:r>
              <a:rPr b="0" lang="ru-RU" sz="2400" spc="-1" strike="noStrike">
                <a:solidFill>
                  <a:srgbClr val="d8b274"/>
                </a:solidFill>
                <a:latin typeface="Tahoma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74992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73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2400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«Ордынский выход»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ежегодная дань, которую собирали на Руси для хана Золотой Ор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5280" y="25560"/>
            <a:ext cx="819936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257-1259 годах монгольские чиновники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числен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овели на Руси перепись насе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Численник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монгольский чиновник, проводивший перепись на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жители были переписаны и обязаны были ежегодно платить большую да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17:04Z</dcterms:created>
  <dc:creator>Галкина</dc:creator>
  <dc:description/>
  <dc:language>en-US</dc:language>
  <cp:lastModifiedBy>LEGION</cp:lastModifiedBy>
  <dcterms:modified xsi:type="dcterms:W3CDTF">2015-01-14T09:50:1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90000000000010250300207f7000400038000</vt:lpwstr>
  </property>
</Properties>
</file>